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1D2E-A495-47BB-B65E-D6B7468DDD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ет д.п.н., заведующий кафед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гиональная экономик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исецкий Евгений Леони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тает д.п.н., заведующий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егиональная эконом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исецкий Евгений Леонид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е вопросы к лекции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научные дисциплины осуществляют комплексное изучение регионов стра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 период существования плановой экономики осуществлялся учет региональных особенностей размещения производительных си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лись предмет и объекты изучения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бой представляет ТПК? Почему такая форма организации хозяйства признавалась эффектив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современное определение предмета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адывают в содержание понятия «регион»? Что собой представляют регионы-квазигосударства и регионы-квазикорпор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научные и практические задачи решает региональная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научные методы используются в региональных исследован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вопросы к лекции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научные дисциплины осуществляют комплексное изучение регионов стра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 период существования плановой экономики осуществлялся учет региональных особенностей размещения производительных си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лись предмет и объекты изучения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обой представляет ТПК? Почему такая форма организации хозяйства признавалась эффективн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современное определение предмета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адывают в содержание понятия «регион»? Что собой представляют регионы-квазигосударства и регионы-квазикорпорац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научные и практические задачи решает региональная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научные методы используются в региональных исследовани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2. Закономерности, принципы и факторы, основные теории размещения производства 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экономические категории региональной науки и их соотно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пространственной организа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гиональных исследований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2. Закономерности, принципы и факторы, основные теории размещения производства 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экономические категории региональной науки и их соотнош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и размещения производства и пространственной организации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региональных исследований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змещения и территориальной организации хозяй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зрывная связь между размещением производительных сил и развитием регионов (экономических районов, субъектов РФ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, наиболее эффективное размещение производства, оптимизация территориальной структуры хозяйства по экономическим районам и субъектам РФ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ое и пропорциональное развитие хозяйства экономических районов в сочетании с их рациональной рыночной специализац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территориальное разделение труда между регионами и в пределах их территор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внивание уровней экономического и социального развития реги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размещения и территориальной организации хозяй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зрывная связь между размещением производительных сил и развитием регионов (экономических районов, субъектов РФ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ьное, наиболее эффективное размещение производства, оптимизация территориальной структуры хозяйства по экономическим районам и субъектам РФ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ое и пропорциональное развитие хозяйства экономических районов в сочетании с их рациональной рыночной специализаци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ьное территориальное разделение труда между регионами и в пределах их территор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внивание уровней экономического и социального развития реги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размещения производительных си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лижение производства к источникам сырья, топлива, энергии и районам потребления готовой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очередное освоение и комплексное использование наиболее эффективных видов природных ресур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е размещение производительных сил по территории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доровление экологической обстановки, принятие эффективных мер по охране природы и рациональному природопользован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кономических выгод межрегионального и международного разделения труда, восстановление и развитие экономических связей со станами ближнего и дальнего зарубежь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ая государственная поддержка регионов и отраслей, расположенных в зоне Крайнего Севера и приравненных к нему местност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со стороны государства малому и среднему предпринимательству, способному вывести регионы из кризисного состо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размещения производительных си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лижение производства к источникам сырья, топлива, энергии и районам потребления готовой продук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очередное освоение и комплексное использование наиболее эффективных видов природных ресур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е размещение производительных сил по территории стра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доровление экологической обстановки, принятие эффективных мер по охране природы и рациональному природопользованию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экономических выгод межрегионального и международного разделения труда, восстановление и развитие экономических связей со станами ближнего и дальнего зарубежь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ая государственная поддержка регионов и отраслей, расположенных в зоне Крайнего Севера и приравненных к нему местност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йствие со стороны государства малому и среднему предпринимательству, способному вывести регионы из кризисного состоя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азмещения производств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азмещения – это совокупность пространственно неравнозначных условий и ресурсов, их свойств (оцениваемых отраслевыми технико-экономическими показателями), правильное использование которых обеспечивает наилучшие результаты при размещении производственных объектов, развитии хозяйства регионов и расселени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факторам размещения относят: экономико-географическое положение, сырьевой, топливный, электроэнергетический, водный, трудовой, транспортный, природных условий, потребительский, возможностей использования прогрессивных форм организации производства (специализация, кооперирование, комбинирование и другие), научный, военно-стратегический, экологическ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размещения производств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размещения – это совокупность пространственно неравнозначных условий и ресурсов, их свойств (оцениваемых отраслевыми технико-экономическими показателями), правильное использование которых обеспечивает наилучшие результаты при размещении производственных объектов, развитии хозяйства регионов и расселении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факторам размещения относят: экономико-географическое положение, сырьевой, топливный, электроэнергетический, водный, трудовой, транспортный, природных условий, потребительский, возможностей использования прогрессивных форм организации производства (специализация, кооперирование, комбинирование и другие), научный, военно-стратегический, экологическ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экономического райо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ая географическая школа – разработка теорий штанд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 Тюнен (1783-185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Вебер (1868-195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Леш (1906-194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Кристаллер (1893-196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район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И. Арсеньев (1789-186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П. Огарев (1813-187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П. Семенов-Тян-Шанский (1827-19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 (1834-190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и размещения производства и экономического район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ая географическая школа – разработка теорий штанд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 Тюнен (1783-18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Вебер (1868-19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Леш (1906-19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Кристаллер (1893-196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ая районн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И. Арсеньев (1789-18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П. Огарев (1813-187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.П. Семенов-Тян-Шанский (1827-19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И. Менделеев (1834-19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ы («кольца») сельскохозяйственной специализации И. Тюн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ны («кольца») сельскохозяйственной специализации И. Тюн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ы размещения металлургического завод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«Локационный треугольник» В. Лаунхард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ы размещения металлургического завод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«Локационный треугольник» В. Лаунхард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тическое изобр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ой зоны по модели А. Лё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строение «конуса спрос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гмент теорет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ы эконом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ндшафта А. Лё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тическое из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й зоны по модели А. Лё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троение «конуса спроса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теоретиче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ы экономиче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ндшафта А. Лё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гмент схемы размещения центральных мест по модели В. Кристалл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схемы размещения центральных мест по модели В. Кристалл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мая литература по дисциплине «Региональная эконом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экономическую географию и региональную экономику России: Учеб. пособие / Под общ. ред. Е.Л. Плисецкого. – М.: Гуманитар. изд. центр ВЛАДОС, 2008. - 550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берг А.Г. Основы региональной экономики: Учебник. – М.: ГУ ВШЭ, 2006. – 493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танов В.В., Копылов Н.В. Региональная экономика России: Учебник. – М.: Финансы и статистика, 2009. – 58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исецкий Е.Л. Коммерческая география России: Территориальная организация производства и рынка: Учеб. пособие. – М.: КНОРУС, 2007. – 21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округа России. Региональная экономика: Учеб. пособие / Под ред. В.Г. Глушковой и Ю.А. Симагина. – М.: КНОРУС, 2009. – 35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нышев В.В., Глушкова В.Г. Региональная экономика. Основы теории и методы исследования: Учеб. пособие. – М.: КНОРУС, 2010. –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я: Учеб. пособие / Под ред. В.Г. Глушковой. – М.: КНОРУС, 2010. – 304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исецкий Е.Л. Социально-экономическая география России: Справочное пособие. – М.: Дрофа; Изд-во ДИК, 2010. – 7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: Учебник / Под ред. В.И. Видяпина, М.В. Степанова. – М.: ИНФРА-М, 2009.– 68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: Учебник / Под ред. Т.Г. Морозовой. – М.: ЮНИТИ, 2008. – 51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ы России: Социально-экономические показатели. 2009: Стат. 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статистический ежегодник. 2009: Стат.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пкин И.Н., Блинов А.О., Кестер Я.М. Управление региональным хозяйством.– М.: КНОРУС,2009. – 40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о-экономические проблемы России и ее регионов: Учеб. пособие / Под общей ред. В.Г. Глушковой. – М.: Московский Лицей, 2004. – 30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 по дисциплине «Региональная экономи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экономическую географию и региональную экономику России: Учеб. пособие / Под общ. ред. Е.Л. Плисецкого. – М.: Гуманитар. изд. центр ВЛАДОС, 2008. - 550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берг А.Г. Основы региональной экономики: Учебник. – М.: ГУ ВШЭ, 2006. – 493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станов В.В., Копылов Н.В. Региональная экономика России: Учебник. – М.: Финансы и статистика, 2009. – 58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исецкий Е.Л. Коммерческая география России: Территориальная организация производства и рынка: Учеб. пособие. – М.: КНОРУС, 2007. – 21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округа России. Региональная экономика: Учеб. пособие / Под ред. В.Г. Глушковой и Ю.А. Симагина. – М.: КНОРУС, 2009. – 35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нышев В.В., Глушкова В.Г. Региональная экономика. Основы теории и методы исследования: Учеб. пособие. – М.: КНОРУС, 2010. – 25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я: Учеб. пособие / Под ред. В.Г. Глушковой. – М.: КНОРУС, 2010. – 304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исецкий Е.Л. Социально-экономическая география России: Справочное пособие. – М.: Дрофа; Изд-во ДИК, 2010. – 7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 / Под ред. В.И. Видяпина, М.В. Степанова. – М.: ИНФРА-М, 2009.– 68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 / Под ред. Т.Г. Морозовой. – М.: ЮНИТИ, 2008. – 51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ы России: Социально-экономические показатели. 2009: Стат. 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статистический ежегодник. 2009: Стат.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пкин И.Н., Блинов А.О., Кестер Я.М. Управление региональным хозяйством.– М.: КНОРУС,2009. – 40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о-экономические проблемы России и ее регионов: Учеб. пособие / Под общей ред. В.Г. Глушковой. – М.: Московский Лицей, 2004. – 30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рыночных з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м, что существуют два центра (город 1 и город 2), обладающие каждый обособленными рыночными зонами (М1 и М2 ) и отделённые друг от друга на расстояние Д12 (то есть на 12 км). Тогда можно определить «точку перелома» (В2), или место где товарный поток сходит на нет, в единицах расстояния от второго города по форму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стом случае, когда два города отстоят один от другого на 12 км и обладают одинаковыми по размеру рыночными зонами (М1 = М2 = 10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линия границы расположится на полпути между двумя центрами одинакового размера. В случае с двумя городами неравных размеров (например, М1= 20 и М2 =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ца во втором случае переместится в сторону меньшего центра (рис. 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границ рыночных з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ложим, что существуют два центра (город 1 и город 2), обладающие каждый обособленными рыночными зонами (М1 и М2 ) и отделённые друг от друга на расстояние Д12 (то есть на 12 км). Тогда можно определить «точку перелома» (В2), или место где товарный поток сходит на нет, в единицах расстояния от второго города по форму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стом случае, когда два города отстоят один от другого на 12 км и обладают одинаковыми по размеру рыночными зонами (М1 = М2 = 10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овательно, линия границы расположится на полпути между двумя центрами одинакового размера. В случае с двумя городами неравных размеров (например, М1= 20 и М2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ица во втором случае переместится в сторону меньшего центра (рис. 7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между рыночными зонами центральных мест: с одинаковой (а) и с различной (б) «массой»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Величину рыночной зоны или ее «массу» можно выразить, например, через показатель численности населения рыночного цен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границ между рыночными зонами центральных мест: с одинаковой (а) и с различной (б) «массой»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Величину рыночной зоны или ее «массу» можно выразить, например, через показатель численности населения рыночного цент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е вопро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бой представляют закономерности, принципы и факторы размещения производительных сил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значение штандортных теорий в исследовании проблем размещения производства и территориальной организации ры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е, как и почему меняется характер сельскохозяйственного производства в зависимости от его положения по отношению к рынку сбыта сельскохозяйственной продукции по модели И. Тюне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ть подходов к построению моделей рыночных зон, предложенных В. Лаунхардтом, А. Вебером, А. Лешем, В. Кристаллером, У. Айзардом? В чем заслуга этих уче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акому пути пошла отечественная географическая наука в исследовании рыночного хозяйства во второй половине Х1Х – начале ХХ в.? Какие российские ученые, внесли заметный вклад в развитие теории экономического районирования до революции и в советский период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что была нацелена концепция экономического районирования в период плановой экономи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ледует понимать под энергопроизводственным циклом? Каково их значение для экономического район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вопрос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обой представляют закономерности, принципы и факторы размещения производительных сил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значение штандортных теорий в исследовании проблем размещения производства и территориальной организации рын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е, как и почему меняется характер сельскохозяйственного производства в зависимости от его положения по отношению к рынку сбыта сельскохозяйственной продукции по модели И. Тюне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ть подходов к построению моделей рыночных зон, предложенных В. Лаунхардтом, А. Вебером, А. Лешем, В. Кристаллером, У. Айзардом? В чем заслуга этих учены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акому пути пошла отечественная географическая наука в исследовании рыночного хозяйства во второй половине Х1Х – начале ХХ в.? Какие российские ученые, внесли заметный вклад в развитие теории экономического районирования до революции и в советский период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что была нацелена концепция экономического районирования в период плановой экономик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ледует понимать под энергопроизводственным циклом? Каково их значение для экономического райониров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1. Предмет, задачи и методы региональной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и место региональных исследований в Советски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определение предмета науки, ее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предметные связи и 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1. Предмет, задачи и методы региональной нау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и место региональных исследований в Советски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ое определение предмета науки, ее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предметные связи и 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районы Госплана ССС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начало 1980-х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районы Госплана ССС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 начало 1980-х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 – это область научных знаний о размещении производительных сил, экономическом районировании территории страны, социально-экономическом развитии отдельных регионов и экономических связях между н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– это область научных знаний о размещении производительных сил, экономическом районировании территории страны, социально-экономическом развитии отдельных регионов и экономических связях между н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рег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ые хозяйстве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региональные экономические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реги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ые хозяйствен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региональные эконом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закономерностей, принципов и факторов размещения производства и территориальной организации хозяйства, разработка методов их анализа и 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путей оптимизации социально-экономического развития регионов страны и управления региональным хозяй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экономического районирования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особенностей и тенденций формирования и функционирования региональных ры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экономического механизма региональн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наиболее эффективных форм территориальной организации хозяй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и анализ хозяйственных связей между регион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содержания и форм внешнеэкономической деятельности регионо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закономерностей, принципов и факторов размещения производства и территориальной организации хозяйства, разработка методов их анализа и оцен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путей оптимизации социально-экономического развития регионов страны и управления региональным хозяйств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еского районирования стра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особенностей и тенденций формирования и функционирования региональных рын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еского механизма региональной полит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наиболее эффективных форм территориальной организации хозя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и анализ хозяйственных связей между регион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одержания и форм внешнеэкономической деятельности регионов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жпредметные связи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жпредметные связи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о-геогра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о-статис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я (группировка, классификация, типолог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йо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гра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о-географ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о-статист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(группировка, классификация, типоло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й оц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ограф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79E-E82A-4CD3-A101-B77F8A83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6DE-9237-4131-9815-B20CA858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805-4BCA-430A-8398-8A406FC1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6BAB-57A5-403D-A1C5-E6EAACAD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7FE-3F85-4A67-B345-76A9D07A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916-8761-4041-97E0-50864F5F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4B2-9B67-4C84-B8D3-85E0AA58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E9D-023D-4DD7-85E2-0A5F2BF9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5DAC-EB6A-4739-84FE-9E9290DF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6564-7F62-4610-8305-C3FD73CA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A48-53F0-4609-8B1D-89782D5D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3CE-4FCB-48CB-9280-D122F704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A3D4-A72F-4B13-81CB-5C2A9E86FF9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8567-420C-46E0-B3FB-0C14F779B8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82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гиональная эконом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214200" y="3071880"/>
            <a:ext cx="8715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тает д.п.н., заведующий кафед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Региональная экономи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исецкий Евгений Леонид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85840" y="28548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онтрольные вопросы к лекции 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научные дисциплины осуществляют комплексное изучение регионов стран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 период существования плановой экономики осуществлялся учет региональных особенностей размещения производительных си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ялись предмет и объекты изучения региональной экономи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собой представляет ТПК? Почему такая форма организации хозяйства признавалась эффективн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во современное определение предмета региональной экономи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вкладывают в содержание понятия «регион»? Что собой представляют регионы-квазигосударства и регионы-квазикорпорац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научные и практические задачи решает региональная экономи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научные методы используются в региональных исследования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ция 2. Закономерности, принципы и факторы, основные теории размещения производства и регионального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71680" y="2500200"/>
            <a:ext cx="8229600" cy="35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ейшие экономические категории региональной науки и их соотнош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пространственной организации ры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региональных исследований в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кономерности размещения и территориальной организации хозяйст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428840"/>
            <a:ext cx="91440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разрывная связь между размещением производительных сил и развитием регионов (экономических районов, субъектов РФ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циональное, наиболее эффективное размещение производства, оптимизация территориальной структуры хозяйства по экономическим районам и субъектам РФ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сное и пропорциональное развитие хозяйства экономических районов в сочетании с их рациональной рыночной специализацие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циональное территориальное разделение труда между регионами и в пределах их территор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внивание уровней экономического и социального развития регио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нципы размещения производительных си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214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ближение производства к источникам сырья, топлива, энергии и районам потребления готовой продукц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оочередное освоение и комплексное использование наиболее эффективных видов природных ресурс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ффективное размещение производительных сил по территории стра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здоровление экологической обстановки, принятие эффективных мер по охране природы и рациональному природопользованию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экономических выгод межрегионального и международного разделения труда, восстановление и развитие экономических связей со станами ближнего и дальнего зарубежь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евая государственная поддержка регионов и отраслей, расположенных в зоне Крайнего Севера и приравненных к нему местностя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йствие со стороны государства малому и среднему предпринимательству, способному вывести регионы из кризисного состоя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акторы размещения производств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регионального развит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500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акторы размеще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это совокупность пространственно неравнозначных условий и ресурсов, их свойств (оцениваемых отраслевыми технико-экономическими показателями), правильное использование которых обеспечивает наилучшие результаты при размещении производственных объектов, развитии хозяйства регионов и расселении насе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факторам размещения относят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экономико-географическое положение, сырьевой, топливный, электроэнергетический, водный, трудовой, транспортный, природных условий, потребительский, возможностей использования прогрессивных форм организации производства (специализация, кооперирование, комбинирование и другие), научный, военно-стратегический, экологическ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экономического район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267920"/>
            <a:ext cx="853416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мецкая географическая школа – разработка теорий штанд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. Тюнен (1783-18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. Вебер (1868-195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. Леш (1906-194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. Кристаллер (1893-196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ая районная шк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.И. Арсеньев (1789-186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.П. Огарев (1813-187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.П. Семенов-Тян-Шанский (1827-191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.И. Менделеев (1834-190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172360" cy="42861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468360" y="33300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оны («кольца») сельскохозяйственной специализации И. Тюн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50920" y="2736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ы размещения металлургического завода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«Локационный треугольник» В. Лаунхард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75640" cy="26478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587840" cy="3502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829320" cy="34909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179280" y="18900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хематическое изоб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ыночной зоны по модели А. Лё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остроение «конуса спрос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284720" y="544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рагмент теоретиче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хемы эконом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андшафта А. Лё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456440" y="74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848360" cy="39625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611280" y="40464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рагмент схемы размещения центральных мест по модели В. Кристал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0" y="-162360"/>
            <a:ext cx="9144000" cy="37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ая литература по дисциплине «Региональная эконом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ие в экономическую географию и региональную экономику России: Учеб. пособие / Под общ. ред. Е.Л. Плисецкого. – М.: Гуманитар. изд. центр ВЛАДОС, 2008. - 550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нберг А.Г. Основы региональной экономики: Учебник. – М.: ГУ ВШЭ, 2006. – 493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истанов В.В., Копылов Н.В. Региональная экономика России: Учебник. – М.: Финансы и статистика, 2009. – 584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лисецкий Е.Л. Коммерческая география России: Территориальная организация производства и рынка: Учеб. пособие. – М.: КНОРУС, 2007. – 21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едеральные округа России. Региональная экономика: Учеб. пособие / Под ред. В.Г. Глушковой и Ю.А. Симагина. – М.: КНОРУС, 2009. – 35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урнышев В.В., Глушкова В.Г. Региональная экономика. Основы теории и методы исследования: Учеб. пособие. – М.: КНОРУС, 2010. – 25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3064680"/>
            <a:ext cx="9144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algn="ctr">
              <a:tabLst>
                <a:tab algn="l" pos="0"/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олните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ctr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мография: Учеб. пособие / Под ред. В.Г. Глушковой. – М.: КНОРУС, 2010. – 304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лисецкий Е.Л. Социально-экономическая география России: Справочное пособие. – М.: Дрофа; Изд-во ДИК, 2010. – 7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ональная экономика: Учебник / Под ред. В.И. Видяпина, М.В. Степанова. – М.: ИНФРА-М, 2009.– 68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ональная экономика: Учебник / Под ред. Т.Г. Морозовой. – М.: ЮНИТИ, 2008. – 51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оны России: Социально-экономические показатели. 2009: Стат. сб. / Росстат. – М.,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сийский статистический ежегодник. 2009: Стат.сб. / Росстат. – М.,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Шапкин И.Н., Блинов А.О., Кестер Я.М. Управление региональным хозяйством.– М.: КНОРУС,2009. – 400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колого-экономические проблемы России и ее регионов: Учеб. пособие / Под общей ред. В.Г. Глушковой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.: Московский Лицей, 2004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304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7" descr=""/>
          <p:cNvPicPr/>
          <p:nvPr/>
        </p:nvPicPr>
        <p:blipFill>
          <a:blip r:embed="rId1"/>
          <a:stretch/>
        </p:blipFill>
        <p:spPr>
          <a:xfrm>
            <a:off x="6929280" y="1071720"/>
            <a:ext cx="1785960" cy="11397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"/>
          <p:cNvPicPr/>
          <p:nvPr/>
        </p:nvPicPr>
        <p:blipFill>
          <a:blip r:embed="rId2"/>
          <a:stretch/>
        </p:blipFill>
        <p:spPr>
          <a:xfrm>
            <a:off x="6715080" y="3143160"/>
            <a:ext cx="2090880" cy="9795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"/>
          <p:cNvPicPr/>
          <p:nvPr/>
        </p:nvPicPr>
        <p:blipFill>
          <a:blip r:embed="rId3"/>
          <a:stretch/>
        </p:blipFill>
        <p:spPr>
          <a:xfrm>
            <a:off x="6786720" y="4643280"/>
            <a:ext cx="2147760" cy="9288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285840" y="509760"/>
            <a:ext cx="64292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ие границ рыночных 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положим, что существуют два центра (город 1 и город 2), обладающие каждый обособленными рыночными зонами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и отделённые друг от друга на расстоя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то есть на 12 км). Тогда можно определить «точку перелома»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или место где товарный поток сходит на нет, в единицах расстояния от второго города по форму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28760" y="3266280"/>
            <a:ext cx="62308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стом случае, когда два города отстоят один от другого на 12 км и обладают одинаковыми по размеру рыночными зонами (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10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0040" y="4554000"/>
            <a:ext cx="61596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овательно, линия границы расположится на полпути между двумя центрами одинакового размера. В случае с двумя городами неравных размеров (например, 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20 и 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5936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ница во втором случае переместится в сторону меньшего центра (рис. 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0" descr=""/>
          <p:cNvPicPr/>
          <p:nvPr/>
        </p:nvPicPr>
        <p:blipFill>
          <a:blip r:embed="rId1"/>
          <a:srcRect l="1582" t="2233" r="1582" b="3350"/>
          <a:stretch/>
        </p:blipFill>
        <p:spPr>
          <a:xfrm>
            <a:off x="1714680" y="500040"/>
            <a:ext cx="5715000" cy="39736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285840" y="4864680"/>
            <a:ext cx="8572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ие границ между рыночными зонами центральных мест: с одинаковой (а) и с различной (б) «массой»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чину рыночной зоны или ее «массу» можно выразить, например, через показатель численности населения рыночного цен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214200" y="243720"/>
            <a:ext cx="86439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ольные вопро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собой представляют закономерности, принципы и факторы размещения производительных си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во значение штандортных теорий в исследовании проблем размещения производства и территориальной организации рын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ите, как и почему меняется характер сельскохозяйственного производства в зависимости от его положения по отношению к рынку сбыта сельскохозяйственной продукции по модели И. Тюн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м суть подходов к построению моделей рыночных зон, предложенных В. Лаунхардтом, А. Вебером, А. Лешем, В. Кристаллером, У. Айзардом? В чем заслуга этих учен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какому пути пошла отечественная географическая наука в исследовании рыночного хозяйства во второй половине Х1Х – начале ХХ в.? Какие российские ученые, внесли заметный вклад в развитие теории экономического районирования до революции и в советский период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что была нацелена концепция экономического районирования в период плановой экономик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следует понимать под энергопроизводственным циклом? Каково их значение для экономического районир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99680" y="1142640"/>
            <a:ext cx="82486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ция 1. Предмет, задачи и методы региональной науки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начение и место региональных исследований в Советский пери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временное определение предмета науки, ее задач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жпредметные связи и методы региональных исследова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744880"/>
            <a:ext cx="91440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кономические районы Госплана СССР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на начало 1980-х г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96080" cy="57168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гиональная экономи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область научных знаний о размещении производительных сил, экономическом районировании территории страны, социально-экономическом развитии отдельных регионов и экономических связях между ни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ъекты изучени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ономические регио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гиональные ры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 регионального 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расли хозяй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риториальные хозяйственные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региональные экономические связ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чи рег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учение закономерностей, принципов и факторов размещения производства и территориальной организации хозяйства, разработка методов их анализа и оцен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иск путей оптимизации социально-экономического развития регионов страны и управления региональным хозяйство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снование экономического районирования стран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особенностей и тенденций формирования и функционирования региональных рынк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снование экономического механизма региональной полити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снование наиболее эффективных форм территориальной организации хозяйства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и анализ хозяйственных связей между регионами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следование содержания и форм внешнеэкономической деятельности регионов и д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жпредметные связ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гиональной эконом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49"/>
          <p:cNvGrpSpPr/>
          <p:nvPr/>
        </p:nvGrpSpPr>
        <p:grpSpPr>
          <a:xfrm>
            <a:off x="250920" y="1341360"/>
            <a:ext cx="8585280" cy="5184720"/>
            <a:chOff x="250920" y="1341360"/>
            <a:chExt cx="8585280" cy="5184720"/>
          </a:xfrm>
        </p:grpSpPr>
        <p:sp>
          <p:nvSpPr>
            <p:cNvPr id="70" name="AutoShape 26"/>
            <p:cNvSpPr/>
            <p:nvPr/>
          </p:nvSpPr>
          <p:spPr>
            <a:xfrm>
              <a:off x="250920" y="1341360"/>
              <a:ext cx="858528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7"/>
            <p:cNvSpPr/>
            <p:nvPr/>
          </p:nvSpPr>
          <p:spPr>
            <a:xfrm>
              <a:off x="3290760" y="3487680"/>
              <a:ext cx="22831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егиональная экономи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8"/>
            <p:cNvSpPr/>
            <p:nvPr/>
          </p:nvSpPr>
          <p:spPr>
            <a:xfrm>
              <a:off x="965160" y="1341360"/>
              <a:ext cx="2146320" cy="10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оциально-экономическая  географ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9"/>
            <p:cNvSpPr/>
            <p:nvPr/>
          </p:nvSpPr>
          <p:spPr>
            <a:xfrm>
              <a:off x="6510240" y="1341360"/>
              <a:ext cx="2325960" cy="1430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Экономическая  теор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микро- и макроэкономика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0"/>
            <p:cNvSpPr/>
            <p:nvPr/>
          </p:nvSpPr>
          <p:spPr>
            <a:xfrm>
              <a:off x="6510240" y="3129120"/>
              <a:ext cx="2324160" cy="96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траслевая  эконом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1"/>
            <p:cNvSpPr/>
            <p:nvPr/>
          </p:nvSpPr>
          <p:spPr>
            <a:xfrm>
              <a:off x="250920" y="3665520"/>
              <a:ext cx="2146320" cy="54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оциолог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2"/>
            <p:cNvSpPr/>
            <p:nvPr/>
          </p:nvSpPr>
          <p:spPr>
            <a:xfrm>
              <a:off x="250920" y="4559400"/>
              <a:ext cx="2146320" cy="54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артограф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3"/>
            <p:cNvSpPr/>
            <p:nvPr/>
          </p:nvSpPr>
          <p:spPr>
            <a:xfrm>
              <a:off x="3827520" y="1341360"/>
              <a:ext cx="2232000" cy="714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Экономическая статисти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4"/>
            <p:cNvSpPr/>
            <p:nvPr/>
          </p:nvSpPr>
          <p:spPr>
            <a:xfrm>
              <a:off x="1860480" y="5632560"/>
              <a:ext cx="2862360" cy="714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Экономика природопольз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5"/>
            <p:cNvSpPr/>
            <p:nvPr/>
          </p:nvSpPr>
          <p:spPr>
            <a:xfrm>
              <a:off x="3290760" y="2771640"/>
              <a:ext cx="2324160" cy="2219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6"/>
            <p:cNvSpPr/>
            <p:nvPr/>
          </p:nvSpPr>
          <p:spPr>
            <a:xfrm>
              <a:off x="250920" y="2771640"/>
              <a:ext cx="2146320" cy="54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емограф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7"/>
            <p:cNvSpPr/>
            <p:nvPr/>
          </p:nvSpPr>
          <p:spPr>
            <a:xfrm>
              <a:off x="6510240" y="4379760"/>
              <a:ext cx="2324160" cy="10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правление экономик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менеджмен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8"/>
            <p:cNvSpPr/>
            <p:nvPr/>
          </p:nvSpPr>
          <p:spPr>
            <a:xfrm>
              <a:off x="5437080" y="5811840"/>
              <a:ext cx="2325960" cy="54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Финанс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9"/>
            <p:cNvSpPr/>
            <p:nvPr/>
          </p:nvSpPr>
          <p:spPr>
            <a:xfrm flipV="1">
              <a:off x="2576520" y="4559400"/>
              <a:ext cx="714240" cy="24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40"/>
            <p:cNvSpPr/>
            <p:nvPr/>
          </p:nvSpPr>
          <p:spPr>
            <a:xfrm flipV="1">
              <a:off x="2576520" y="3844800"/>
              <a:ext cx="534960" cy="6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41"/>
            <p:cNvSpPr/>
            <p:nvPr/>
          </p:nvSpPr>
          <p:spPr>
            <a:xfrm>
              <a:off x="2576520" y="3013200"/>
              <a:ext cx="714240" cy="29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2"/>
            <p:cNvSpPr/>
            <p:nvPr/>
          </p:nvSpPr>
          <p:spPr>
            <a:xfrm flipV="1">
              <a:off x="3290760" y="4916520"/>
              <a:ext cx="35748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3"/>
            <p:cNvSpPr/>
            <p:nvPr/>
          </p:nvSpPr>
          <p:spPr>
            <a:xfrm flipH="1" flipV="1">
              <a:off x="5437080" y="4916160"/>
              <a:ext cx="357120" cy="71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4"/>
            <p:cNvSpPr/>
            <p:nvPr/>
          </p:nvSpPr>
          <p:spPr>
            <a:xfrm flipH="1" flipV="1">
              <a:off x="5793840" y="4379400"/>
              <a:ext cx="53676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5"/>
            <p:cNvSpPr/>
            <p:nvPr/>
          </p:nvSpPr>
          <p:spPr>
            <a:xfrm flipH="1">
              <a:off x="5793840" y="3487680"/>
              <a:ext cx="5367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6"/>
            <p:cNvSpPr/>
            <p:nvPr/>
          </p:nvSpPr>
          <p:spPr>
            <a:xfrm flipH="1">
              <a:off x="5616720" y="2592360"/>
              <a:ext cx="536400" cy="53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7"/>
            <p:cNvSpPr/>
            <p:nvPr/>
          </p:nvSpPr>
          <p:spPr>
            <a:xfrm flipH="1">
              <a:off x="5079960" y="2235240"/>
              <a:ext cx="35712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8"/>
            <p:cNvSpPr/>
            <p:nvPr/>
          </p:nvSpPr>
          <p:spPr>
            <a:xfrm>
              <a:off x="3290760" y="2235240"/>
              <a:ext cx="53676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ы региональных исследова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авнительно-географи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номико-статисти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атизация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уппировка, классификация, типолог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алансо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номической оцен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йон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ртографи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9:10:57Z</dcterms:created>
  <dc:creator>User</dc:creator>
  <dc:description/>
  <dc:language>en-US</dc:language>
  <cp:lastModifiedBy>LEGION</cp:lastModifiedBy>
  <dcterms:modified xsi:type="dcterms:W3CDTF">2016-01-04T14:04:04Z</dcterms:modified>
  <cp:revision>67</cp:revision>
  <dc:subject/>
  <dc:title>Региональная экономика</dc:title>
</cp:coreProperties>
</file>