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AE0-2DCD-482F-B9B6-8AC913D104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341-4793-487D-8FF2-3BCB3A0C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B0F-766D-4704-B585-BC1540B8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D01-150A-4C87-A18C-22F5F036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9CA-D25F-48A8-8280-6BFB47C2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FA6F-A727-4ED3-856C-9A38AD04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C543-5F5F-49C5-ABF2-915B555E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17B5-2172-4834-8D4C-ACF293CC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F775-2F2D-4730-9D21-E4968596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5820-CCD6-4CA4-B46F-59F1995C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01AE-D067-4C10-A6DC-87120CA2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5654-B169-4B14-AEAC-D7914050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2AA-4F51-4D2D-B1C1-81576568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F51A-BB75-44D3-8BF5-0C51311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D50-34A4-4F24-8C9B-9E1CCA76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8CD0-B3DD-47F9-8878-F5FBD0B0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64E1-BF49-40C5-BC1E-FD960C99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D694-8C89-408E-BFA9-04A32C85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609-371F-4774-8B51-3B10D95F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4BB-F520-4F8C-941C-9709353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A4C-00C6-469C-A4D2-885E19E1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A57-7FDB-4612-8815-0AB17BDB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415-CB25-4FEC-876A-C134475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17D-A634-46CC-A106-65D1F4F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7BC-F872-4EB1-8A1A-FB5696FD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5607-B081-4FFD-B0CF-BDCCA837FA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E5E3-9073-4D0B-B8FE-43ADF9EEF0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280" y="1828800"/>
            <a:ext cx="7417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Совокупное предложение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Макроэкономическое равновес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предложения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4" name="Picture 7" descr="Картинка 28 из 302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2102040"/>
          </a:xfrm>
          <a:prstGeom prst="rect">
            <a:avLst/>
          </a:prstGeom>
          <a:ln w="0">
            <a:noFill/>
          </a:ln>
        </p:spPr>
      </p:pic>
      <p:sp>
        <p:nvSpPr>
          <p:cNvPr id="385" name="Line 9"/>
          <p:cNvSpPr/>
          <p:nvPr/>
        </p:nvSpPr>
        <p:spPr>
          <a:xfrm flipH="1">
            <a:off x="3634920" y="836640"/>
            <a:ext cx="79236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4427640" y="836640"/>
            <a:ext cx="86508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Блок-схема: альтернативный процесс 4"/>
          <p:cNvSpPr/>
          <p:nvPr/>
        </p:nvSpPr>
        <p:spPr>
          <a:xfrm>
            <a:off x="395280" y="1341360"/>
            <a:ext cx="3745080" cy="30243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Блок-схема: альтернативный процесс 4"/>
          <p:cNvSpPr/>
          <p:nvPr/>
        </p:nvSpPr>
        <p:spPr>
          <a:xfrm>
            <a:off x="4716360" y="1413000"/>
            <a:ext cx="4032360" cy="29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Совокупное предложение</a:t>
            </a:r>
            <a:r>
              <a:rPr b="0" i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0920" y="1125360"/>
            <a:ext cx="79880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Содержимое 6"/>
          <p:cNvSpPr/>
          <p:nvPr/>
        </p:nvSpPr>
        <p:spPr>
          <a:xfrm>
            <a:off x="826920" y="4724280"/>
            <a:ext cx="7772400" cy="12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Совокупное предложение зависит от: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Блок-схема: альтернативный процесс 5"/>
          <p:cNvSpPr/>
          <p:nvPr/>
        </p:nvSpPr>
        <p:spPr>
          <a:xfrm>
            <a:off x="468360" y="2133720"/>
            <a:ext cx="8353440" cy="1224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Блок-схема: альтернативный процесс 6"/>
          <p:cNvSpPr/>
          <p:nvPr/>
        </p:nvSpPr>
        <p:spPr>
          <a:xfrm>
            <a:off x="468360" y="3860640"/>
            <a:ext cx="8280360" cy="11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Picture 5" descr="E:\marina\картинки\человек\Рисунок1.gif"/>
          <p:cNvPicPr/>
          <p:nvPr/>
        </p:nvPicPr>
        <p:blipFill>
          <a:blip r:embed="rId1"/>
          <a:stretch/>
        </p:blipFill>
        <p:spPr>
          <a:xfrm>
            <a:off x="7740720" y="486900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E:\marina\картинки\разное\Vopros[1].jpg"/>
          <p:cNvPicPr/>
          <p:nvPr/>
        </p:nvPicPr>
        <p:blipFill>
          <a:blip r:embed="rId2"/>
          <a:srcRect l="5414" t="1721" r="4873" b="4016"/>
          <a:stretch/>
        </p:blipFill>
        <p:spPr>
          <a:xfrm>
            <a:off x="8101080" y="260280"/>
            <a:ext cx="595080" cy="593640"/>
          </a:xfrm>
          <a:prstGeom prst="rect">
            <a:avLst/>
          </a:prstGeom>
          <a:ln w="0">
            <a:noFill/>
          </a:ln>
        </p:spPr>
      </p:pic>
      <p:sp>
        <p:nvSpPr>
          <p:cNvPr id="347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ем различаются между собой индивидуальное, рыночное и совокупное предлож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Блок-схема: альтернативный процесс 5"/>
          <p:cNvSpPr/>
          <p:nvPr/>
        </p:nvSpPr>
        <p:spPr>
          <a:xfrm>
            <a:off x="539640" y="2924280"/>
            <a:ext cx="8353440" cy="5745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Блок-схема: альтернативный процесс 6"/>
          <p:cNvSpPr/>
          <p:nvPr/>
        </p:nvSpPr>
        <p:spPr>
          <a:xfrm>
            <a:off x="468360" y="4724280"/>
            <a:ext cx="8280360" cy="648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Picture 6" descr="macroecon-003"/>
          <p:cNvPicPr/>
          <p:nvPr/>
        </p:nvPicPr>
        <p:blipFill>
          <a:blip r:embed="rId1"/>
          <a:srcRect l="10635" t="4082" r="8181" b="12245"/>
          <a:stretch/>
        </p:blipFill>
        <p:spPr>
          <a:xfrm>
            <a:off x="468360" y="1125360"/>
            <a:ext cx="5095800" cy="5266080"/>
          </a:xfrm>
          <a:prstGeom prst="rect">
            <a:avLst/>
          </a:prstGeom>
          <a:ln w="0">
            <a:noFill/>
          </a:ln>
        </p:spPr>
      </p:pic>
      <p:sp>
        <p:nvSpPr>
          <p:cNvPr id="357" name="Line 9"/>
          <p:cNvSpPr/>
          <p:nvPr/>
        </p:nvSpPr>
        <p:spPr>
          <a:xfrm>
            <a:off x="1116000" y="472428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1989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rc 11"/>
          <p:cNvSpPr/>
          <p:nvPr/>
        </p:nvSpPr>
        <p:spPr>
          <a:xfrm flipV="1">
            <a:off x="3419640" y="3141720"/>
            <a:ext cx="1152360" cy="158256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582560"/>
              <a:gd name="textAreaBottom" fmla="*/ 1583280 h 1582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116000" y="5445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5148360" y="206064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rc 14"/>
          <p:cNvSpPr/>
          <p:nvPr/>
        </p:nvSpPr>
        <p:spPr>
          <a:xfrm flipV="1">
            <a:off x="3419640" y="3181320"/>
            <a:ext cx="1730160" cy="2263680"/>
          </a:xfrm>
          <a:custGeom>
            <a:avLst/>
            <a:gdLst>
              <a:gd name="textAreaLeft" fmla="*/ 0 w 1730160"/>
              <a:gd name="textAreaRight" fmla="*/ 1730520 w 1730160"/>
              <a:gd name="textAreaTop" fmla="*/ 360 h 2263680"/>
              <a:gd name="textAreaBottom" fmla="*/ 2264400 h 2263680"/>
            </a:gdLst>
            <a:ahLst/>
            <a:rect l="textAreaLeft" t="textAreaTop" r="textAreaRight" b="textAreaBottom"/>
            <a:pathLst>
              <a:path fill="none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</a:path>
              <a:path stroke="0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5"/>
          <p:cNvSpPr/>
          <p:nvPr/>
        </p:nvSpPr>
        <p:spPr>
          <a:xfrm flipV="1">
            <a:off x="2843280" y="472392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 flipV="1">
            <a:off x="4500360" y="3141720"/>
            <a:ext cx="43164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 flipH="1" flipV="1">
            <a:off x="4067280" y="4508280"/>
            <a:ext cx="288720" cy="144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987640" y="5084640"/>
            <a:ext cx="0" cy="2890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4211640" y="4797360"/>
            <a:ext cx="2890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788000" y="3500280"/>
            <a:ext cx="3603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Содержимое 6"/>
          <p:cNvSpPr/>
          <p:nvPr/>
        </p:nvSpPr>
        <p:spPr>
          <a:xfrm>
            <a:off x="5940360" y="1268280"/>
            <a:ext cx="287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Times New Roman"/>
              </a:rPr>
              <a:t>Макроэкономические модел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Содержимое 6"/>
          <p:cNvSpPr/>
          <p:nvPr/>
        </p:nvSpPr>
        <p:spPr>
          <a:xfrm>
            <a:off x="3635280" y="981000"/>
            <a:ext cx="532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ейнсиан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8" descr="Картинка 1 из 1552"/>
          <p:cNvPicPr/>
          <p:nvPr/>
        </p:nvPicPr>
        <p:blipFill>
          <a:blip r:embed="rId1"/>
          <a:stretch/>
        </p:blipFill>
        <p:spPr>
          <a:xfrm>
            <a:off x="539640" y="1052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374" name="Блок-схема: альтернативный процесс 5"/>
          <p:cNvSpPr/>
          <p:nvPr/>
        </p:nvSpPr>
        <p:spPr>
          <a:xfrm>
            <a:off x="539640" y="4365720"/>
            <a:ext cx="2952720" cy="576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акроэкономическое равновесие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7" name="Picture 7" descr="Картинка 28 из 67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53392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спроса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Picture 7" descr="Картинка 21 из 1231"/>
          <p:cNvPicPr/>
          <p:nvPr/>
        </p:nvPicPr>
        <p:blipFill>
          <a:blip r:embed="rId1"/>
          <a:srcRect l="0" t="5039" r="10798" b="0"/>
          <a:stretch/>
        </p:blipFill>
        <p:spPr>
          <a:xfrm>
            <a:off x="1692360" y="1052640"/>
            <a:ext cx="5905440" cy="3671640"/>
          </a:xfrm>
          <a:prstGeom prst="rect">
            <a:avLst/>
          </a:prstGeom>
          <a:ln w="0">
            <a:noFill/>
          </a:ln>
        </p:spPr>
      </p:pic>
      <p:sp>
        <p:nvSpPr>
          <p:cNvPr id="381" name="Содержимое 6"/>
          <p:cNvSpPr/>
          <p:nvPr/>
        </p:nvSpPr>
        <p:spPr>
          <a:xfrm>
            <a:off x="1332000" y="4724280"/>
            <a:ext cx="66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ок спро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14:04:30Z</dcterms:modified>
  <cp:revision>50</cp:revision>
  <dc:subject/>
  <dc:title>Спрос. Закон спроса. Эластичность спроса</dc:title>
</cp:coreProperties>
</file>