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ма 5. Системный характер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5. Системный характер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мировой экономике крайне мало закрытых стран (С. Корея, Куба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стальные активно интегрированы в мировые хозяйственные процесс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хастичность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го хозяйства - э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го хозяйства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сновным макроэкономическим пропорциям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отраслевые, отраслевые и внутри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экономические и други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измеряются при помощ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измеряются при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раслевые, внутриотраслевые, межотраслев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рриториальн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оимостные (воспроизводственные)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иды пропор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слевые, внутриотраслевые, меж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ные (воспроизводственные)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опор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ережающий рост сферу услуг в ВВ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доли внешнеэкономической деятельности в силу глобал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нденции изменения пропор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ий рост сферу услуг в ВВП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доли внешнеэкономической деятельности в силу глобал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нции изменения пропор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Функционально-производствен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иболее значимыми из них явля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значимыми из них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е функционально-видовой структуры НЭ выде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ого производ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е хозяйство, охота и лесное хозяйств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боловство, рыбовод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ча полезных ископае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ие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и распределение электроэнергии, газа и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иницы и рестора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 и связ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ая деятель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и с недвижимым имуществом, аренда и предоставление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 прочих коммунальных, социальных и персональных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соц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равоохранение и предоставление социальных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экстерриториальных организ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спроизводственные пропорции национальног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П = C+G+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ая национальная экономика – это общество массового потреб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I=17-22%,  G=12-20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личные потребительские расходы, совокупная величина которых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первичных доходов и социальных трансфе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ельной склонности к потреблению (MPC). Она представляет собой отношение величины потребительских расходов к общему объему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основного психологического зак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G-расходы на потребление государственных организаций и учрежд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– 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рентабельности определяет величину доходности инвестиц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сравнение позволяет сделать вывод об экономической эффективности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прав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процентные ставки довольно сильно отличаю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ой экономике присущ ряд как общесистемных, так и особенных свой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й экономике присущ ряд как общесистемных, так и особенных свой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ецифические свойств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1A4-4394-4CA2-8376-FCE47194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7DE-10D7-48BE-A9B9-301F0918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152-3081-4592-A416-B1829D15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EAB-FB62-48B6-A1F0-D0C52AFB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B35F-B3C0-48C9-88E8-B75AFB4B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AD11-2666-4696-B930-867820A3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3592-976E-48BF-9AB8-2CDCDA12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A678-9D85-4D9C-A7D9-EDED805B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EEA6-51BC-4BC1-A0B1-CB1A644B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17C3-C834-48AE-AC2D-7832B494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6506-EEB1-45E9-819B-6D95B38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C9B-0B87-4ED6-A467-6D067E0C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F90F-43E5-4AF6-8A38-A6EA0900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5DD6-08CD-4288-AAA2-1AEE351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C80B-2E68-4D17-A1C9-7BA95176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9752-01E1-4B2A-B92E-4FAF9CA8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9DE4-D934-4E3D-980B-9EC50622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BF7-8ABF-4D0D-8F07-DB3DA1D9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6AA-9F10-48B9-B37B-40512F87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CDF-D170-4C04-918F-7B412168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FCE-B905-4E01-AA08-1E81D399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327-3E25-4CA7-838E-9E1C638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D87-4C1E-4FD0-94E9-42B44AC4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C4B-2DED-4857-94F5-E7BEBC8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9EF18-4F1D-4984-ADD0-58253935383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FB89CC-2393-4042-90F4-399310AF2C1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ма 5. Системный характер национальной эконом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5640" y="2708280"/>
            <a:ext cx="7010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84360" y="2709720"/>
            <a:ext cx="784836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временной мировой экономике крайне мало закрытых стран (С. Корея, Куб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остальные активно интегрированы в мировые хозяйственные процесс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684360" y="2637000"/>
            <a:ext cx="77040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хастичность национальной эконо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900000" y="312264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порции национальной эконом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го хозяйства - э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684360" y="2708280"/>
            <a:ext cx="784836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698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сновным макроэкономическим пропорциям относя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820800" y="2708280"/>
            <a:ext cx="799308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отраслевые, отраслевые и внутриотраслев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риториальн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экономические и други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измеряются при помощ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720720" y="2665440"/>
            <a:ext cx="75596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80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54200" y="1844640"/>
            <a:ext cx="7129440" cy="22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слевые, внутриотраслевые, межотраслев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риториальн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имостные (воспроизводственные)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42960" y="714240"/>
            <a:ext cx="7715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пропор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71320" y="1999800"/>
            <a:ext cx="80010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ежающий рост сферу услуг в ВВП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ие доли внешнеэкономической деятельности в силу глобализ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нденции изменения пропорций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611280" y="19242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нкционально-производственные пропор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77060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84360" y="2149560"/>
            <a:ext cx="784836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649520"/>
            <a:ext cx="8435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иболее значимыми из них яв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611280" y="1989000"/>
            <a:ext cx="770580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684360" y="1927080"/>
            <a:ext cx="7848360" cy="20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1915920"/>
            <a:ext cx="799632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26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составе функционально-видовой структуры НЭ выде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ого производства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льское хозяйство, охота и лесное хозяйство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ыболовство, рыбовод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быча полезных ископаемы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батывающие производств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итель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11280" y="177300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8320" indent="-4183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ство и распределение электроэнергии, газа и во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стиницы и рестора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 и связ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ансовая деятель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с недвижимым имуществом, аренда и предоставление услу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ение прочих коммунальных, социальных и персональных услу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1080" indent="-45108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соц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ова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равоохранение и предоставление социальных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ятельность экстерриториальных организа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66640" y="1988640"/>
            <a:ext cx="799632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производственные пропорции национального проду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П =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+G+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временная национальная экономика – это общество массового потребл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=17-22%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=12-20%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2492280"/>
            <a:ext cx="822780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69992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– личные потребительские расходы, совокупная величина которых зависит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мера первичных доходов и социальных трансфер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ельной склонности к потреблению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PC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Она представляет собой отношение величины потребительских расходов к общему объему дох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уть основного психологического зако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752480"/>
            <a:ext cx="84247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ходы на потребление государственных организаций и учрежд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640" y="191592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640" y="213336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77336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9640" y="1844280"/>
            <a:ext cx="79963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704880" y="2565360"/>
            <a:ext cx="80182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66640" y="1844640"/>
            <a:ext cx="799632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рентабельности определяет величину доходности инвести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х сравнение позволяет сделать вывод об экономической эффективности инвести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6640" y="1752480"/>
            <a:ext cx="82533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справк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днако процентные ставки довольно сильно отличаютс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ой экономике присущ ряд как общесистемных, так и особенных свойст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4000" y="2997360"/>
            <a:ext cx="82278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77677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755640" y="2708280"/>
            <a:ext cx="770400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826920" y="2708280"/>
            <a:ext cx="74901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611280" y="1565280"/>
            <a:ext cx="7632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826920" y="2852640"/>
            <a:ext cx="72010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755640" y="1577880"/>
            <a:ext cx="734364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785880" y="2708280"/>
            <a:ext cx="76737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4:37Z</dcterms:modified>
  <cp:revision>257</cp:revision>
  <dc:subject/>
  <dc:title>Тема 5. Системный характер национальной экономики</dc:title>
</cp:coreProperties>
</file>