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ма 5. Системный характер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5. Системный характер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мировой экономике крайне мало закрытых стран (С. Корея, Куб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стальные активно интегрированы в мировые хозяйственные процесс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хастичность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го хозяйства - э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го хозяйства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сновным макроэкономическим пропорциям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отраслевые, отраслевые и внутри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экономические и други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измеряются при помощ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измеряются при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раслевые, внутриотраслевые, межотраслев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риториальн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оимостные (воспроизводственные)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иды пропор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слевые, внутриотраслевые, меж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ные (воспроизводственные)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опор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ежающий рост сферу услуг в ВВ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доли внешнеэкономической деятельности в силу глобал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нденции изменения пропор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ий рост сферу услуг в ВВ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доли внешнеэкономической деятельности в силу глоб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нции изменения пропор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Функционально-производствен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иболее значимыми из них явля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значимыми из них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е функционально-видовой структуры НЭ выде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ого производ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е хозяйство, охота и лесное хозяйств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боловство, рыбо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ча полезных ископае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ие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и распределение электроэнергии, газа и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иницы и рестора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 и связ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ая деятель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и с недвижимым имуществом, аренда и предоставление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 прочих коммунальных, социальных и персональных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соц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равоохранение и предоставление социальных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экстерриториальных организ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спроизводственные пропорции национальног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П = C+G+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национальная экономика – это общество массового потреб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I=17-22%,  G=12-20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личные потребительские расходы, совокупная величина которых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первичных доходов и социальных трансфе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ельной склонности к потреблению (MPC). Она представляет собой отношение величины потребительских расходов к общему объему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основного психологического зак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G-расходы на потребление государственных организаций и учрежд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– 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рентабельности определяет величину доходности инвестиц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сравнение позволяет сделать вывод об экономической эффективности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прав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процентные ставки довольно сильно отличаю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ой экономике присущ ряд как общесистемных, так и особенных свой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й экономике присущ ряд как общесистемных, так и особенных свой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ецифические свойств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7D7-23E8-4DB6-A322-6BAD3989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FA6-1B48-41BB-B6C6-72FD01F1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11B-1070-420D-AD84-45E4B145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F9B-BB00-4CD6-BCF7-FE5E6E7F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7827-FA2C-4256-B513-2C217C7F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873B-B3B1-465D-9FE4-F5AC5B03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3B38-2AFE-4ACB-A638-205C0DD9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9019-9D53-48C6-B43D-06EF7F8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2E54-E26B-4A59-9C23-7F259AA1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E1B4-1695-4D84-B081-8A0CBD73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1F20-092E-41F1-AD11-9EEE2489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F37-36CD-4EED-B6EB-C752E440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772D-825F-47C9-AAF7-37D8CE7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8C6E-2BF8-406A-9275-702FA1E0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BC82-3B97-40AC-A4EB-2C588A5A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B292-A9BD-427E-A90A-01112D0A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DAD5-EA9F-4BEA-867C-AE7FC92F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807-44F7-4FCC-90B0-E0FAB203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55F-516B-46CD-8AAB-B27DFEFE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FD9-2A4F-42F8-817A-1CB6A9C7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D48-9F0C-403F-84D0-1D854821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2B9-F27F-4E5D-8B9B-5F7FBEC7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CBB-CA03-4BF5-B5E7-CD6666C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3C4-090E-4C1F-B9EB-9D64FA39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92912-3BCF-40D6-B1B5-B743E7F1EDA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DD22D5D-018B-468E-BA80-C5964CFFBD2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 5. Системный характер национальной эконом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010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84360" y="2709720"/>
            <a:ext cx="78483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временной мировой экономике крайне мало закрытых стран (С. Корея, Куб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остальные активно интегрированы в мировые хозяйственные процес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684360" y="2637000"/>
            <a:ext cx="77040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хастичность национальной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900000" y="312264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порции национальной эконом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го хозяйства - э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684360" y="2708280"/>
            <a:ext cx="784836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698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сновным макроэкономическим пропорциям относя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820800" y="2708280"/>
            <a:ext cx="79930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отраслевые, отраслевые и внутриотраслев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альн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экономические и други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измеряются при помощ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20720" y="2665440"/>
            <a:ext cx="75596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80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4200" y="1844640"/>
            <a:ext cx="7129440" cy="22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слевые, внутриотраслевые, межотраслев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риториальн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имостные (воспроизводственные)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42960" y="714240"/>
            <a:ext cx="7715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пропор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71320" y="199980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ежающий рост сферу услуг в ВВП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ие доли внешнеэкономической деятельности в силу глобализ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нденции изменения пропорци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611280" y="19242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онально-производственные пропор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77060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84360" y="2149560"/>
            <a:ext cx="784836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649520"/>
            <a:ext cx="8435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иболее значимыми из них яв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611280" y="1989000"/>
            <a:ext cx="770580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684360" y="1927080"/>
            <a:ext cx="7848360" cy="20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1915920"/>
            <a:ext cx="799632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6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составе функционально-видовой структуры НЭ выде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ого производства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льское хозяйство, охота и лесное хозяйство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ыболовство, рыбовод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ыча полезных ископаемы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батывающие производ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итель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1280" y="177300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8320" indent="-4183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о и распределение электроэнергии, газа и во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стиницы и рестора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 и связ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ансовая дея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с недвижимым имуществом, аренда и предоставление услу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ение прочих коммунальных, социальных и персональных услу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1080" indent="-45108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соц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ова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равоохранение и предоставление социальных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ятельность экстерриториальных организ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66640" y="1988640"/>
            <a:ext cx="79963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производственные пропорции национального проду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П =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+G+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временная национальная экономика – это общество массового потреб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=17-22%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=12-20%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2492280"/>
            <a:ext cx="82278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69992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– личные потребительские расходы, совокупная величина которых зависит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мера первичных доходов и социальных трансфер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ельной склонности к потреблению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PC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Она представляет собой отношение величины потребительских расходов к общему объему дох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уть основного психологического зако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752480"/>
            <a:ext cx="84247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ходы на потребление государственных организаций и учреж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191592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640" y="213336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77336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640" y="1844280"/>
            <a:ext cx="79963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704880" y="2565360"/>
            <a:ext cx="80182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6640" y="1844640"/>
            <a:ext cx="79963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рентабельности определяет величину доходности инвести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х сравнение позволяет сделать вывод об экономической эффективности инвести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6640" y="1752480"/>
            <a:ext cx="82533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правк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нако процентные ставки довольно сильно отличаютс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ой экономике присущ ряд как общесистемных, так и особенных свойст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000" y="2997360"/>
            <a:ext cx="82278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77677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755640" y="2708280"/>
            <a:ext cx="77040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826920" y="2708280"/>
            <a:ext cx="74901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11280" y="1565280"/>
            <a:ext cx="7632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826920" y="2852640"/>
            <a:ext cx="72010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755640" y="1577880"/>
            <a:ext cx="734364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785880" y="2708280"/>
            <a:ext cx="76737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4:37Z</dcterms:modified>
  <cp:revision>257</cp:revision>
  <dc:subject/>
  <dc:title>Тема 5. Системный характер национальной экономики</dc:title>
</cp:coreProperties>
</file>