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4.jpeg" ContentType="image/jpeg"/>
  <Override PartName="/ppt/media/image30.gif" ContentType="image/gif"/>
  <Override PartName="/ppt/media/image8.png" ContentType="image/png"/>
  <Override PartName="/ppt/media/image38.png" ContentType="image/png"/>
  <Override PartName="/ppt/media/image36.jpeg" ContentType="image/jpeg"/>
  <Override PartName="/ppt/media/image33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13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BEF6-2F56-4D5E-8F45-7CF04309D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CF7B-FDE6-4E7F-9403-CAF7CAAA1D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ая философия социального и истор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C6BA-629B-427C-8639-1C1E6E732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34DD-05A1-484B-9A06-7878AA2970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8AF6-59AC-4EEF-B696-99B70FF8D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6094-2AF7-496F-B3DC-A40B105590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ABC8-B626-4688-9E5C-9D6A94FB69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EAEE-C0C8-4A94-AC1A-2A8D9D6597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Я. Данилев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F8CB-1A76-4E90-BE82-B7C12C3A7E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0FCA-3518-47A5-8799-7AB8AC4EEF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0D3C-9FC5-4487-86A5-F7DC0A632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984E-3CA7-47C2-9A8A-860076CE53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A6E2-2DD9-41E4-AA29-674E2630E8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 Н. Я. Данил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тология и историософия В. С. Соловь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цепция всеединства в русской социальной философи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. Л. Франк: соборность как основа со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. П. Карсавин: концепция «симфонической лич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E6F6-155B-4032-AA25-63964514BF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AB82-A64B-4E05-9243-8ABC4B4DF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59FD-2807-457D-91D2-BBB08D012C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A68F-F2D9-4362-8F25-18B0D14D1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4B21-0918-4D38-A80B-0A2D303689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41FC-9535-4345-92F8-441FB7850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FF3E-507A-4556-AFF7-E8A6DCB118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D330-B7D2-4399-BE0F-EC32B9E85B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F0D0-B715-4A8E-9FA8-ABEC309139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B339-5BC5-4EEF-9C66-90C3FB8592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деальном космосе, воплощающем полноту совершенства, нет мес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цессу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ю, переходу от менее совершенного к более совершенному – всей исторической дра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Загадкой для разум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является отнюдь не идеальный, ясный космос, а наш мир, непонятный, нестройный и преход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этот мир предполагает мир идеальный как свою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ор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итерий оце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не находили бы его полным заблуждений, если бы не имели представления о суще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стин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читали бы его злым, если бы не носили в себе идею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обр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чувствовали его безобразия, если бы были слепы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расо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кольку он носит в себе идеалы истины, добра и красоты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к оказывается посредствующим звеном между миром идеальным и земны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44CF-E168-42CB-9DAF-630A0CF6D3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82A4-B74D-4709-8189-20109D1AA9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1F0A-6700-471B-BFA9-99B53D4B0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смысл истории заключается в свободном вхождении человечества в церковь и 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ом оцерковлен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этот положительный смысл бы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ен разделением церкв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церковь может быть лишь вселенской), что привело к духовному оскудению отдельных церквей и отделению культуры светской от культуры духовной: культура стала безбожной, а церковь стала чуждаться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ствиям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ыва светской культуры от духов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интеллектуального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просвеще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абсолютных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снований бы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свобод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истин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её положительной ц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н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осток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апад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«бесчеловечный Восток» и «безбожный Запад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национальны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селенс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классовы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словным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бщечеловече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зультате весь социальный прогресс последних веков обязан своим существованием почти исключительно неверующим;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орическая же церковь взяла сторону реак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тормозила этот прогресс, как только могл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E699-480C-4DA4-8E72-123DAB09A0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могут быть соединены лиш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етьей силой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й от их крайностей. Такой силой должна ста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сс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обязана своим величием «сил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усского народа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кие племена не побоялись приз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ла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– варя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я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е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византийское правосла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знать собственную отсталость и приобщитьс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ой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ультуре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перь от России требу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етвёртый акт 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знание главенства римского пап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 имя восстановления единства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юз римского папы и русского цар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лжен стать институциональной гарантией «богочеловеческого проце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4317-F3BA-4BC1-81DB-D0A33E69E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нцепция всеединства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русской социальной философии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4A6B-8C32-4A0C-88D5-1D5ED18406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2D08-A2EA-4430-9303-1358F5A58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BF4E-932F-4A0C-BC60-4D90A7F56B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2031-CBA4-45F6-A446-3810F17B7A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7461-03AE-4C19-BDDD-2133A1D06F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етические предпосылки социальной нау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16E9-4234-4A05-8DF2-E124A0E939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AC64-7F0A-4EB2-8DBB-4643554308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мет истории и её действующ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всего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ности (определяемые по вероисповедани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вая парадигма исторической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ные верования как исторические источ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этический инстинкт» как метод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троспективный метод («возвратный ход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ая схема исторического проце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ранство» и «кушитство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на и друж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ущее человечества и мисс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ение человечества на органически-духовны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механических (империалистических) нача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8433-EDD8-4136-ABE1-10A7344918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6157-C4A0-4F81-A5A2-49CD2CB76F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4C07-62A2-485F-AD2A-DB51A8FEEA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DAD-920D-4E7F-B812-1DB997D0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D3F-B1C4-4B08-8D6B-85DBC3E8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78E-1337-4789-A30C-451262B5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0BF-BED4-4404-8865-271E22A9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2EC6-4FCD-43F6-AA25-470ACFFE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DEE-5662-4F94-A126-91B5C007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88B-E55E-4C36-86AF-C026BB93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5C1-1C08-44EE-9D13-C7E7576A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5A1-D51D-4C27-ACDD-86E1CF6A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2E0-89C4-4F89-95F0-DF196B5D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714-9933-46C3-A334-05E2E77D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833-4C83-4221-9EA6-37E1FE5D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140E-F8EC-447B-982A-2C22C8E778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1928520"/>
            <a:ext cx="827424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ая философия социального и исторического 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 rot="10800000">
            <a:off x="2877840" y="1726920"/>
            <a:ext cx="618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естантств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обода для цел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ины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постоян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еб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обода, всегда гото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ять назад приговоры, ею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несённые накануне... Д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ого же лица… свобода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сомн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являющая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, кто, зная себя, сознаёт сво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мощь,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нелепой вер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я, проявляющаяся в том, кто твор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е кумир из своей гордости. В то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м виде это, пожалуй, тоже своб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…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в смысле политическ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не в смысле христиа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 rot="10800000">
            <a:off x="2806560" y="1726920"/>
            <a:ext cx="629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истинное, внутренне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л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роявление свободы, 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му основанием служит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ый рационализм и не произво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ность учреждения, а нравств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взаимной любви и молитв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о, в котором, при всём различ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тепени иерархических полномоч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овершение таинств, ник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рабощается, но все ра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ываются быть участниками в общ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е, слов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по благода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жией, а не по человеческ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овлению, – таково единство Церкв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ак не можем понять 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ого процесса,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го из германского нача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ленного самому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й идеи лич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нуть иное общество, кром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кусственной условной ассоциации?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начало разобщаю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тится в противоположное нач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ирения и единения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tropinin_portrait_of_samarin_in_the_hunting_dress"/>
          <p:cNvPicPr/>
          <p:nvPr/>
        </p:nvPicPr>
        <p:blipFill>
          <a:blip r:embed="rId1"/>
          <a:stretch/>
        </p:blipFill>
        <p:spPr>
          <a:xfrm>
            <a:off x="6729480" y="1798560"/>
            <a:ext cx="1990800" cy="2590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504840" y="4678200"/>
            <a:ext cx="213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. Ф. Самар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мнениях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ременни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чески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ны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6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7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. Я. Данил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957480" y="4857840"/>
            <a:ext cx="521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. «Философические пись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489480" y="5468760"/>
            <a:ext cx="55782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Данилевского – первый значительный вклад России в мировую филосо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 rot="10800000">
            <a:off x="3957480" y="1618920"/>
            <a:ext cx="4857840" cy="305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окие в мире, мы ми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дали, ничего у ми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зяли, мы не внесли в масс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и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дной мыс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 в чём не содействова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ю вперё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азума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Данилевский (1-3)"/>
          <p:cNvPicPr/>
          <p:nvPr/>
        </p:nvPicPr>
        <p:blipFill>
          <a:blip r:embed="rId1"/>
          <a:stretch/>
        </p:blipFill>
        <p:spPr>
          <a:xfrm>
            <a:off x="611280" y="1798560"/>
            <a:ext cx="2763720" cy="431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бы поступательное движ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не прекратилось в жиз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о человечества, необход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, дойдя в одном напр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известной степени соверше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сь оно с новой точки исход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ло по другому пути, т. е. надо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тупили на поприще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ие психические особен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склад ума, чувств и во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и обладают только на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го культурно-исторического тип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гресс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ит не в том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ти все в одном направлении (в та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учае он скоро бы прекратился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 том, что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ходить все по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авляющее поприще историческ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ятельности человечества, во все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иях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этому ни од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я не может гордиться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 она представляла высш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ку развития, в сравнении с е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енницами или современниц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оронах развит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70920"/>
            <a:ext cx="8302680" cy="676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 Н. Я. Данил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тология и историософия В. С. Соловь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цепция всеединства в русской социальной философи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. Л. Франк: соборность как основа со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. П. Карсавин: концепция «симфонической лич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Egypt"/>
          <p:cNvPicPr/>
          <p:nvPr/>
        </p:nvPicPr>
        <p:blipFill>
          <a:blip r:embed="rId1"/>
          <a:stretch/>
        </p:blipFill>
        <p:spPr>
          <a:xfrm>
            <a:off x="3778200" y="1619280"/>
            <a:ext cx="1800360" cy="13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3" name="Picture 3" descr="China"/>
          <p:cNvPicPr/>
          <p:nvPr/>
        </p:nvPicPr>
        <p:blipFill>
          <a:blip r:embed="rId2"/>
          <a:stretch/>
        </p:blipFill>
        <p:spPr>
          <a:xfrm>
            <a:off x="5397480" y="1798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4" name="Picture 4" descr="ishtar_gate19"/>
          <p:cNvPicPr/>
          <p:nvPr/>
        </p:nvPicPr>
        <p:blipFill>
          <a:blip r:embed="rId3"/>
          <a:stretch/>
        </p:blipFill>
        <p:spPr>
          <a:xfrm>
            <a:off x="7197840" y="1978200"/>
            <a:ext cx="156816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5" name="Picture 5" descr="India (2)"/>
          <p:cNvPicPr/>
          <p:nvPr/>
        </p:nvPicPr>
        <p:blipFill>
          <a:blip r:embed="rId4"/>
          <a:stretch/>
        </p:blipFill>
        <p:spPr>
          <a:xfrm>
            <a:off x="3849840" y="277020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6" name="Picture 6" descr="Persia"/>
          <p:cNvPicPr/>
          <p:nvPr/>
        </p:nvPicPr>
        <p:blipFill>
          <a:blip r:embed="rId5"/>
          <a:stretch/>
        </p:blipFill>
        <p:spPr>
          <a:xfrm>
            <a:off x="5468760" y="3022560"/>
            <a:ext cx="1800360" cy="12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7" name="Picture 7" descr="Dome of the Rock, Jerusalem_sm"/>
          <p:cNvPicPr/>
          <p:nvPr/>
        </p:nvPicPr>
        <p:blipFill>
          <a:blip r:embed="rId6"/>
          <a:stretch/>
        </p:blipFill>
        <p:spPr>
          <a:xfrm>
            <a:off x="7088040" y="3273480"/>
            <a:ext cx="1800360" cy="143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" descr="Greece"/>
          <p:cNvPicPr/>
          <p:nvPr/>
        </p:nvPicPr>
        <p:blipFill>
          <a:blip r:embed="rId7"/>
          <a:stretch/>
        </p:blipFill>
        <p:spPr>
          <a:xfrm>
            <a:off x="3922560" y="3922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1" name="Picture 11" descr="Rome"/>
          <p:cNvPicPr/>
          <p:nvPr/>
        </p:nvPicPr>
        <p:blipFill>
          <a:blip r:embed="rId8"/>
          <a:stretch/>
        </p:blipFill>
        <p:spPr>
          <a:xfrm>
            <a:off x="5576760" y="410220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2" name="Picture 12" descr="Aravia"/>
          <p:cNvPicPr/>
          <p:nvPr/>
        </p:nvPicPr>
        <p:blipFill>
          <a:blip r:embed="rId9"/>
          <a:stretch/>
        </p:blipFill>
        <p:spPr>
          <a:xfrm>
            <a:off x="7197840" y="4281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13" descr="Europe (3)"/>
          <p:cNvPicPr/>
          <p:nvPr/>
        </p:nvPicPr>
        <p:blipFill>
          <a:blip r:embed="rId10"/>
          <a:stretch/>
        </p:blipFill>
        <p:spPr>
          <a:xfrm>
            <a:off x="3994200" y="5073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14" descr="Mexico (2)"/>
          <p:cNvPicPr/>
          <p:nvPr/>
        </p:nvPicPr>
        <p:blipFill>
          <a:blip r:embed="rId11"/>
          <a:stretch/>
        </p:blipFill>
        <p:spPr>
          <a:xfrm>
            <a:off x="5649840" y="525312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15" descr="Peru"/>
          <p:cNvPicPr/>
          <p:nvPr/>
        </p:nvPicPr>
        <p:blipFill>
          <a:blip r:embed="rId12"/>
          <a:stretch/>
        </p:blipFill>
        <p:spPr>
          <a:xfrm>
            <a:off x="7269120" y="543384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6" name="Picture 16" descr="Russia"/>
          <p:cNvPicPr/>
          <p:nvPr/>
        </p:nvPicPr>
        <p:blipFill>
          <a:blip r:embed="rId13"/>
          <a:stretch/>
        </p:blipFill>
        <p:spPr>
          <a:xfrm>
            <a:off x="4786200" y="2878200"/>
            <a:ext cx="3598920" cy="253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Delaroche, Hemicycle_of_the_Ecole_des_Beaux-Arts_sm"/>
          <p:cNvPicPr/>
          <p:nvPr/>
        </p:nvPicPr>
        <p:blipFill>
          <a:blip r:embed="rId1"/>
          <a:stretch/>
        </p:blipFill>
        <p:spPr>
          <a:xfrm>
            <a:off x="4317840" y="1619280"/>
            <a:ext cx="3059280" cy="20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Глазунов, Битва - Временный перевес татар"/>
          <p:cNvPicPr/>
          <p:nvPr/>
        </p:nvPicPr>
        <p:blipFill>
          <a:blip r:embed="rId2"/>
          <a:stretch/>
        </p:blipFill>
        <p:spPr>
          <a:xfrm>
            <a:off x="4929120" y="3057480"/>
            <a:ext cx="3238560" cy="160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2" name="Picture 6" descr="Parched Village Huts, Niger, Africa_sm"/>
          <p:cNvPicPr/>
          <p:nvPr/>
        </p:nvPicPr>
        <p:blipFill>
          <a:blip r:embed="rId3"/>
          <a:stretch/>
        </p:blipFill>
        <p:spPr>
          <a:xfrm>
            <a:off x="5757840" y="4030560"/>
            <a:ext cx="3059280" cy="244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3739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Aligny_Claude_Felix_Theodore_Homer_And_The_Sheperds_sm"/>
          <p:cNvPicPr/>
          <p:nvPr/>
        </p:nvPicPr>
        <p:blipFill>
          <a:blip r:embed="rId1"/>
          <a:stretch/>
        </p:blipFill>
        <p:spPr>
          <a:xfrm>
            <a:off x="4497480" y="1619280"/>
            <a:ext cx="2501640" cy="28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Brown_Ford_Madox_Work_sm"/>
          <p:cNvPicPr/>
          <p:nvPr/>
        </p:nvPicPr>
        <p:blipFill>
          <a:blip r:embed="rId2"/>
          <a:stretch/>
        </p:blipFill>
        <p:spPr>
          <a:xfrm>
            <a:off x="5289480" y="2878200"/>
            <a:ext cx="2879640" cy="20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4" name="Picture 6" descr="Axentowics_Theodor_The_Omnibus_sm"/>
          <p:cNvPicPr/>
          <p:nvPr/>
        </p:nvPicPr>
        <p:blipFill>
          <a:blip r:embed="rId3"/>
          <a:stretch/>
        </p:blipFill>
        <p:spPr>
          <a:xfrm>
            <a:off x="6008760" y="4317840"/>
            <a:ext cx="2879640" cy="221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 rot="10800000">
            <a:off x="358920" y="1798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ойно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 б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бует  одинакового просто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целого и для част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н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от особен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ольк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от их исключитель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та этой свободы требует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частные элементы наход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я друг в друге и в целом, кажд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агало себя в другом и другое в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ало в своей частности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ого и в целом свою частность,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дарность всего существую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– всё во вс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840000" y="5397480"/>
            <a:ext cx="19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бщий смыс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razy-mirrors"/>
          <p:cNvPicPr/>
          <p:nvPr/>
        </p:nvPicPr>
        <p:blipFill>
          <a:blip r:embed="rId1"/>
          <a:stretch/>
        </p:blipFill>
        <p:spPr>
          <a:xfrm>
            <a:off x="2133720" y="1619280"/>
            <a:ext cx="487656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971640" y="1798560"/>
            <a:ext cx="7197480" cy="4030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еединств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ь категория онтологии, обозначающая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нцип внутренней формы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вершенного единства множеств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которому все элементы такого множества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енны между собой и тождественны целом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в то же врем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сливаются в неразличимое и сплошное единств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образуют особый полифонический строй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ансрациональное единств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ьности и взаимопроникнутости»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сформулировал С. Л. Фран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515640" y="6118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 С. Хоруж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Pyramyd"/>
          <p:cNvPicPr/>
          <p:nvPr/>
        </p:nvPicPr>
        <p:blipFill>
          <a:blip r:embed="rId1"/>
          <a:stretch/>
        </p:blipFill>
        <p:spPr>
          <a:xfrm>
            <a:off x="4095720" y="29494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pyr_big_red12"/>
          <p:cNvPicPr/>
          <p:nvPr/>
        </p:nvPicPr>
        <p:blipFill>
          <a:blip r:embed="rId2"/>
          <a:stretch/>
        </p:blipFill>
        <p:spPr>
          <a:xfrm>
            <a:off x="1644480" y="1619280"/>
            <a:ext cx="585504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31" name="Picture 8" descr="koch_snowflake_red"/>
          <p:cNvPicPr/>
          <p:nvPr/>
        </p:nvPicPr>
        <p:blipFill>
          <a:blip r:embed="rId3"/>
          <a:stretch/>
        </p:blipFill>
        <p:spPr>
          <a:xfrm>
            <a:off x="1322280" y="1619280"/>
            <a:ext cx="650088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деальном космосе, воплощающем полноту совершенства, нет мес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цессу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ю, переходу от менее совершенного к более совершенному – всей исторической дра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Загадкой для разум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является отнюдь не идеальный, ясный космос, а наш мир, непонятный, нестройный и преход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этот мир предполагает мир идеальный как свою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ор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итерий оце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не находили бы его полным заблуждений, если бы не имели представления о суще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стин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читали бы его злым, если бы не носили в себе идею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обр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чувствовали его безобразия, если бы были слепы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расо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кольку он носит в себе идеалы истины, добра и красоты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к оказывается посредствующим звеном между миром идеальным и земны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2949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2122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295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46656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1042920" y="2446200"/>
            <a:ext cx="4749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де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ется внутренне противоречив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история имеет сво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м челове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2698920" y="4605480"/>
            <a:ext cx="4749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человеческ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чиняется законам, историче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не может приня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 наук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ваясь просто набором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525840" y="568476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 свободы воли (фатализм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сть истории не спасает, так как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ением человеческой специф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яется и сам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мет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216000" y="136692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здаёт затруднений: объек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ющие волей и сознанием,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ь подчинёнными зак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1870200" y="352584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деятельность, направ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яем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ей и сознани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регу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и, по опреде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ими от воли и созн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ъективная, существенн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ая, устойчива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ь между явлениям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учное положени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ображающее такую св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08000" y="5037120"/>
            <a:ext cx="194292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ективное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ествующе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зависимо о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ли и созна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бъект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ндиви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6294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зем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5720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ая нау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5146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ое творч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4572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териальная степ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66294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государство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5720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лечённ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25146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ящное худож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4572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аль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66294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овн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церковь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25146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4572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бсолют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66294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45720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25146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4572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1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25146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>
            <a:off x="6629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39760" y="1492200"/>
            <a:ext cx="866304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смысл истории заключается в свободном вхождении человечества в церковь и 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ом оцерковлен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этот положительный смысл бы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ен разделением церкв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церковь может быть лишь вселенской), что привело к духовному оскудению отдельных церквей и отделению культуры светской от культуры духовной: культура стала безбожной, а церковь стала чуждаться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ствиям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ыва светской культуры от духов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интеллектуального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просвеще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абсолютных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снований бы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свобод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истин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её положительной ц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н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осток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апад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«бесчеловечный Восток» и «безбожный Запад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национальны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селенс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классовы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словным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бщечеловече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зультате весь социальный прогресс последних веков обязан своим существованием почти исключительно неверующим;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орическая же церковь взяла сторону реак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тормозила этот прогресс, как только могл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4819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могут быть соединены лиш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етьей силой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й от их крайностей. Такой силой должна ста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сс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обязана своим величием «сил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усского народа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кие племена не побоялись приз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ла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– варя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я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е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византийское правосла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знать собственную отсталость и приобщитьс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ой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ультуре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перь от России требу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етвёртый акт 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знание главенства римского пап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 имя восстановления единства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юз римского папы и русского цар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лжен стать институциональной гарантией «богочеловеческого проце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онцепция всеединств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русской социальной философии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Трубецкой С (1)"/>
          <p:cNvPicPr/>
          <p:nvPr/>
        </p:nvPicPr>
        <p:blipFill>
          <a:blip r:embed="rId1"/>
          <a:stretch/>
        </p:blipFill>
        <p:spPr>
          <a:xfrm>
            <a:off x="358920" y="1798560"/>
            <a:ext cx="166212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2" name="Text Box 6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Франк СЛ (3bw)"/>
          <p:cNvPicPr/>
          <p:nvPr/>
        </p:nvPicPr>
        <p:blipFill>
          <a:blip r:embed="rId2"/>
          <a:stretch/>
        </p:blipFill>
        <p:spPr>
          <a:xfrm>
            <a:off x="539640" y="4317840"/>
            <a:ext cx="132084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4" name="Text Box 9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 Фран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Карсавин (1-1)"/>
          <p:cNvPicPr/>
          <p:nvPr/>
        </p:nvPicPr>
        <p:blipFill>
          <a:blip r:embed="rId3"/>
          <a:stretch/>
        </p:blipFill>
        <p:spPr>
          <a:xfrm>
            <a:off x="7377120" y="4317840"/>
            <a:ext cx="131760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6" name="Text Box 11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Лосский (1-3)"/>
          <p:cNvPicPr/>
          <p:nvPr/>
        </p:nvPicPr>
        <p:blipFill>
          <a:blip r:embed="rId4"/>
          <a:stretch/>
        </p:blipFill>
        <p:spPr>
          <a:xfrm>
            <a:off x="7269120" y="1798560"/>
            <a:ext cx="149688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8" name="Text Box 13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 Карсави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2-19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имфон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сона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осн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бор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2193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133020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3164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21600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ешняя сфера социальности («общественности»)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ывае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оборности»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первич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лидарной слитности индивидуальных “я”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 всеобъемлющем “мы”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107964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е ес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сто множественное число о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в своём основном и первичном смысле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обще не может иметь множественного числа) –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единств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197820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, следовательно, не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ич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социального быт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(столь ж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ви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ак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), в которой преодолевае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тивопоставленность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284148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бор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“мы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епосредствен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раже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в соци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 С. Л. Фран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1440" y="564984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ы» – не имя класса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ми котор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ются многие «я»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конкретная об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3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"/>
          <p:cNvSpPr/>
          <p:nvPr/>
        </p:nvSpPr>
        <p:spPr>
          <a:xfrm>
            <a:off x="3957480" y="1906560"/>
            <a:ext cx="4318200" cy="4318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417348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554040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4856040" y="1943280"/>
            <a:ext cx="251964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5000760" y="2770200"/>
            <a:ext cx="1439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6"/>
          <p:cNvSpPr/>
          <p:nvPr/>
        </p:nvSpPr>
        <p:spPr>
          <a:xfrm>
            <a:off x="5792760" y="27702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0"/>
          <p:cNvSpPr/>
          <p:nvPr/>
        </p:nvSpPr>
        <p:spPr>
          <a:xfrm>
            <a:off x="5397480" y="197820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547056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8"/>
          <p:cNvSpPr/>
          <p:nvPr/>
        </p:nvSpPr>
        <p:spPr>
          <a:xfrm>
            <a:off x="590220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3"/>
          <p:cNvSpPr/>
          <p:nvPr/>
        </p:nvSpPr>
        <p:spPr>
          <a:xfrm>
            <a:off x="5686560" y="201456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4"/>
          <p:cNvSpPr/>
          <p:nvPr/>
        </p:nvSpPr>
        <p:spPr>
          <a:xfrm>
            <a:off x="575640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5"/>
          <p:cNvSpPr/>
          <p:nvPr/>
        </p:nvSpPr>
        <p:spPr>
          <a:xfrm>
            <a:off x="600876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6"/>
          <p:cNvSpPr/>
          <p:nvPr/>
        </p:nvSpPr>
        <p:spPr>
          <a:xfrm>
            <a:off x="5865840" y="205092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590220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8"/>
          <p:cNvSpPr/>
          <p:nvPr/>
        </p:nvSpPr>
        <p:spPr>
          <a:xfrm>
            <a:off x="604368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9"/>
          <p:cNvSpPr/>
          <p:nvPr/>
        </p:nvSpPr>
        <p:spPr>
          <a:xfrm>
            <a:off x="5973840" y="206856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59640" y="1978200"/>
            <a:ext cx="30610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509040" y="478620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эфем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одическ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оян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507600" y="586584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ющ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он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2"/>
          <p:cNvSpPr/>
          <p:nvPr/>
        </p:nvSpPr>
        <p:spPr>
          <a:xfrm>
            <a:off x="2139840" y="4551480"/>
            <a:ext cx="925560" cy="1531800"/>
          </a:xfrm>
          <a:custGeom>
            <a:avLst/>
            <a:gdLst>
              <a:gd name="textAreaLeft" fmla="*/ 123840 w 925560"/>
              <a:gd name="textAreaRight" fmla="*/ 801720 w 925560"/>
              <a:gd name="textAreaTop" fmla="*/ 267840 h 1531800"/>
              <a:gd name="textAreaBottom" fmla="*/ 11106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880920" y="2824200"/>
            <a:ext cx="925560" cy="1531800"/>
          </a:xfrm>
          <a:custGeom>
            <a:avLst/>
            <a:gdLst>
              <a:gd name="textAreaLeft" fmla="*/ 123840 w 925560"/>
              <a:gd name="textAreaRight" fmla="*/ 801720 w 925560"/>
              <a:gd name="textAreaTop" fmla="*/ 267840 h 1531800"/>
              <a:gd name="textAreaBottom" fmla="*/ 11106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539640" y="1511280"/>
            <a:ext cx="550728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бочий класс сам по себе способен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ыработа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д-юнионистское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е;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т.е. он способен вести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лассовую борьбу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рамках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питализм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за улучшени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словий труд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1798560" y="3238560"/>
            <a:ext cx="550728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ыйти за эти рамки, начать борьбу за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ничтожение самого капиталистического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троя, т.е. выполнить сво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у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сию «могильщика капитализма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бочий класс может лишь при условии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то он станет действовать как еди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ованное цел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3057480" y="4965840"/>
            <a:ext cx="550692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овать и повести его на борьбу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ожет лишь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еволюционный авангард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у которого составляет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еволюцио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игенция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ладе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й теорией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сторического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звития и классовой бор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7124760" y="15112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Кла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еб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358920" y="496584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Кла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nodeType="clickEffect" fill="hold">
                      <p:stCondLst>
                        <p:cond delay="0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2949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2122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295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46656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1042920" y="2446200"/>
            <a:ext cx="4749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дение коллектив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в принципе рассматривать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ктивно обусловленное без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отрицать при этом свободу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2698920" y="4605480"/>
            <a:ext cx="4749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рами таких общностей являю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класс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груп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, занимающих одинаковое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истеме обще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етические предпосылки социальной наук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3525840" y="568476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характерист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ов не зависят от воли и с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ленов общества, а обусловл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уктурой и характером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216000" y="136692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же историческая законом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ма, поскольку субъе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мерной деятельности не обяз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ьно должны вы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1870200" y="352584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закономерности пове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х общностей про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значимых характеристи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индивидуальных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ственные класс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ьшие группы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личающиеся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месту в систе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ственн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16000" y="1978200"/>
            <a:ext cx="4282920" cy="133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бстрактная социальная об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ласс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о индивид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одинаковыми свой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678200" y="1978200"/>
            <a:ext cx="4283280" cy="133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кретная социальная об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оллектив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окуп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ующ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87280" y="3778200"/>
            <a:ext cx="4138560" cy="21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динаковость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дения индивид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адлежащих к одному классу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ждественностью свойст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характеристик или услов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749840" y="3778200"/>
            <a:ext cx="4138560" cy="21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симфоничность»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дения индивид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адлежащих к одно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лективу, обеспеч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редством особ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онных механ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мет истории и её действующ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всего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ности (определяемые по вероисповедани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вая парадигма исторической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ные верования как исторические источ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этический инстинкт» как метод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троспективный метод («возвратный ход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ая схема исторического проце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ранство» и «кушитство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на и друж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ущее человечества и мисс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ение человечества на органически-духовны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механических (империалистических) нача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906560" y="2367000"/>
            <a:ext cx="539928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108000" bIns="108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бор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единство свободное и органическое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вое начало которого е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ая благода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аимной любв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4572000" y="472284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еди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" y="472284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еленская церковь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 (правосла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572000" y="331956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57200" y="331956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Протестан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572000" y="191628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57200" y="191628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атолиц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457200" y="3319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457200" y="47228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572000" y="1916280"/>
            <a:ext cx="0" cy="42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457200" y="191628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57200" y="1916280"/>
            <a:ext cx="0" cy="42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8686800" y="1916280"/>
            <a:ext cx="0" cy="42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 rot="10800000">
            <a:off x="2877840" y="1726920"/>
            <a:ext cx="611820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манизм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рно понятом,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христиан ес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ушания центральной вла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 порабощение христиан доктрин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й они не содействуют и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а навсегда оставаться для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-то внешним (так как она всеце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иет в едином главе иерархи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конец, это узаконенное равноду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вере, которая окончательно св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дчинение вере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, очевид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в смыс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ном, а не в смысле христиа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21:52:40Z</dcterms:created>
  <dc:creator>Николай Бирюков / Nikolai Biryukov</dc:creator>
  <dc:description>редакция апреля 2008 г.</dc:description>
  <dc:language>en-US</dc:language>
  <cp:lastModifiedBy>LEGION</cp:lastModifiedBy>
  <dcterms:modified xsi:type="dcterms:W3CDTF">2014-11-11T12:43:56Z</dcterms:modified>
  <cp:revision>47</cp:revision>
  <dc:subject>История и философия науки - Тема 1</dc:subject>
  <dc:title>Русская философия социального и исторического знания</dc:title>
</cp:coreProperties>
</file>