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jpeg" ContentType="image/jpeg"/>
  <Override PartName="/ppt/media/image26.jpeg" ContentType="image/jpeg"/>
  <Override PartName="/ppt/media/image24.jpeg" ContentType="image/jpeg"/>
  <Override PartName="/ppt/media/image23.jpeg" ContentType="image/jpeg"/>
  <Override PartName="/ppt/media/image22.jpeg" ContentType="image/jpeg"/>
  <Override PartName="/ppt/media/image21.jpeg" ContentType="image/jpeg"/>
  <Override PartName="/ppt/media/image29.png" ContentType="image/png"/>
  <Override PartName="/ppt/media/image20.jpeg" ContentType="image/jpeg"/>
  <Override PartName="/ppt/media/image18.jpeg" ContentType="image/jpeg"/>
  <Override PartName="/ppt/media/image10.jpeg" ContentType="image/jpeg"/>
  <Override PartName="/ppt/media/image5.png" ContentType="image/png"/>
  <Override PartName="/ppt/media/image35.jpeg" ContentType="image/jpeg"/>
  <Override PartName="/ppt/media/image14.jpeg" ContentType="image/jpeg"/>
  <Override PartName="/ppt/media/image30.gif" ContentType="image/gif"/>
  <Override PartName="/ppt/media/image8.png" ContentType="image/png"/>
  <Override PartName="/ppt/media/image38.png" ContentType="image/png"/>
  <Override PartName="/ppt/media/image36.jpeg" ContentType="image/jpeg"/>
  <Override PartName="/ppt/media/image33.jpeg" ContentType="image/jpeg"/>
  <Override PartName="/ppt/media/image19.jpeg" ContentType="image/jpeg"/>
  <Override PartName="/ppt/media/image9.jpeg" ContentType="image/jpeg"/>
  <Override PartName="/ppt/media/image11.png" ContentType="image/png"/>
  <Override PartName="/ppt/media/image13.png" ContentType="image/png"/>
  <Override PartName="/ppt/media/image37.png" ContentType="image/png"/>
  <Override PartName="/ppt/media/image28.png" ContentType="image/png"/>
  <Override PartName="/ppt/media/image7.jpeg" ContentType="image/jpeg"/>
  <Override PartName="/ppt/media/image6.png" ContentType="image/png"/>
  <Override PartName="/ppt/media/image12.jpeg" ContentType="image/jpeg"/>
  <Override PartName="/ppt/media/image34.png" ContentType="image/png"/>
  <Override PartName="/ppt/media/image4.png" ContentType="image/png"/>
  <Override PartName="/ppt/media/image3.png" ContentType="image/png"/>
  <Override PartName="/ppt/media/image17.jpeg" ContentType="image/jpeg"/>
  <Override PartName="/ppt/media/image32.png" ContentType="image/png"/>
  <Override PartName="/ppt/media/image2.png" ContentType="image/png"/>
  <Override PartName="/ppt/media/image25.jpeg" ContentType="image/jpeg"/>
  <Override PartName="/ppt/media/image31.png" ContentType="image/png"/>
  <Override PartName="/ppt/media/image1.png" ContentType="image/png"/>
  <Override PartName="/ppt/media/image15.jpeg" ContentType="image/jpeg"/>
  <Override PartName="/ppt/media/image1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87D59-1969-47F7-A2E6-3FBA9E52EF1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DD33F-D551-4906-A8B2-D52E03D7F19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br>
              <a:rPr sz="9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Русская философия социального и исторического зн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4BE76-0DB5-4D32-858B-7AAA3BF2516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Философия истории славянофилов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Доктрина соборности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B6F69-C0F4-48EB-A252-D60AF085252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Философия истории славянофилов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Доктрина соборности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14638-2156-4BDA-AB3A-B716539B2E2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Философия истории славянофилов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оциальная и политическая онтолог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8A90D-D4C2-42C3-9B9A-6253B8DF6E7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Философия истории славянофилов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оциальная и политическая онтолог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10255-B1D1-47AF-8510-221B0217968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Философия истории славянофилов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оциальная и политическая онтолог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D73A1-F381-453E-86FC-2812BADC2F6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Теория культурно-исторических типов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. Я. Данилевског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C8AFA-3358-4888-8D4C-050F4527857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еория культурно-исторических типов 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тепени развития и типы развит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 основе универсалистской парадигмы лежит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логически не корректное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деление истории на периоды: древность, средневековье, новое врем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Рубежи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, отделяющие один период от другого, не имели общечеловеческого знач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 истории каждой цивилизации выделяются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свои фазисы развития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: свои «древность», «средневековье» и «новое время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ежду последними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больше общего,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чем между ними и соответствующими периодами других цивилизац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еление истории по степеням развития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не исчерпывает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всего богатства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её содерж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833F6-E8B0-4733-A1A8-1AD8E38CC8B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Теория культурно-исторических типов </a:t>
            </a:r>
            <a:br>
              <a:rPr sz="1600"/>
            </a:b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Многообразие культу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Культура не универсальна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(западная – в том числе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овокупное человечество не есть реальный субъект истории, но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лишь абстрактная иде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Разнообразие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, а не единообразие – закон и условие прогресс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C1A7B-F01D-4D3C-BDA8-8FDA7F094E0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еория культурно-исторических типов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Многообразие культур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49967-3201-426F-A0CA-B6352A792FD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еория культурно-исторических типов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Многообразие культур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0694E-85A0-4E6D-9CCD-664D10DCAEE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675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Теоретические предпосылки социальной нау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роблема исторической закономер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Классы как субъекты закономерной деятель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Абстрактные и конкретные социальные общ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675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Философия истории славянофил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Культурно-исторические общности (А. С. Хомяков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Доктрина собор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оциальная и политическая онтолог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675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Теория культурно-исторических типов Н. Я. Данилевск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тепени развития и типы развит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Многообразие культу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Десять культурно-исторических тип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оложительные и отрицательные деятели истор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Законы культурно-исторического движ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«Одноосновные» и «многоосновные» цивилиза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675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Философия культуры К. Н. Леонтье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Фазы развития культу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675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Онтология и историософия В. С. Соловьё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онятие всеединст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Богочеловеческий процес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сновные формы общечеловеческого организм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Разделение церквей и его последств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Теократическая утоп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675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Концепция всеединства в русской социальной философии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XX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ве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. Л. Франк: соборность как основа социаль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Л. П. Карсавин: концепция «симфонической личности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675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Политическая философия русского марксиз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т «класса в себе» к «классу для себя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B3D75-924B-49CF-B89F-6D7B6858AB5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Теория культурно-исторических типов </a:t>
            </a:r>
            <a:br>
              <a:rPr sz="1600"/>
            </a:b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Десять культурно-исторических тип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Египетск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Китайск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Древнесемитск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Индийск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Ирански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Еврейск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Греческ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Римск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Аравийск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Романо-германски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Мексиканский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еруанск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Славяно-русск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5BCC5-71DD-4035-A56F-016494B47C5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Теория культурно-исторических типов </a:t>
            </a:r>
            <a:br>
              <a:rPr sz="1600"/>
            </a:b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Положительные и отрицательные деятели истор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Положительные </a:t>
            </a:r>
            <a:br>
              <a:rPr sz="1200"/>
            </a:b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деятели истории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(самобытные цивилизаци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Отрицательные </a:t>
            </a:r>
            <a:br>
              <a:rPr sz="1200"/>
            </a:b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деятели истории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(народы-разрушител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ароды, не достигшие исторической индивидуа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E58DE-566C-478F-88B3-B3F8C623E3C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Теория культурно-исторических типов </a:t>
            </a:r>
            <a:br>
              <a:rPr sz="1600"/>
            </a:b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Законы культурно-исторического движ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Языковое родство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как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критерий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основа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самобытного культурно-исторического тип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Политическая независимость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как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условие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развития самобытного культурно-исторического типа.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Начала цивилизации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одного культурно-исторического типа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не передаются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народам другого тип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Цивилизация достигает полноты развития,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когда составляющие её этнографические элементы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не поглощены одним политическим целым,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а составляют политическую систему государст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Развитие цивилизаций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подобно жизни многолетних одноплодных растений, у которых 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продолжительный период роста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сменяется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коротким (и никогда не повторяющимся) периодом расцве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DAAA1-2576-40E7-AA73-84E637922EC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еория культурно-исторических типов 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«Одноосновные» и «многоосновные» цивилиз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Цилизации не бывают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«лучше»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или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«хуже»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– они просто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разны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Цивилизации различаются преимущественным развитием какой-то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одной стороны культуры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еврейская цивилизация – преимущественно религиозная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реческая – преимущественно эстетическая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имская – преимущественно политико-правова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Европейцы расширили область культурного творчества, создав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«двуосновную»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цивилизацию – научно-промышленну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рядущая славяно-русская цивилизация будет – впервые в истории – полной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«четырёхосновной»: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Россия призвана решить и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социально-экономический вопрос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, который в Европе остался неразрешённы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6A1A3-9001-44D3-AE27-54020AB600A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Философия культуры К. Н. Леонтьева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Фазы развития культу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се культуры подчинены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общему закону циклического развития,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согласно которому всё развивающееся проходит через три периода: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первичной простоты»,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цветущей сложности»,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вторичного смесительного упрощения»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152B8-9712-4A45-A996-94FEC2E5F89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нтология В. С. Соловьёва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Понятие всеединств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664A7-40C9-4938-A252-C36FC4C5419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нтология В. С. Соловьёва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Понятие всеединств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9106D-93D7-4E04-8421-CDF43D54ED0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нтология В. С. Соловьёва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Понятие всеединств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386D8-8C78-4D52-A6F7-4B1B6A7C61F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нтология В. С. Соловьёва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Понятие всеединств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AA187-74EE-4BE3-9D68-F012E14655C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сториософия В. С. Соловьёва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Богочеловеческий проце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 идеальном космосе, воплощающем полноту совершенства, нет места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процессу,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развитию, переходу от менее совершенного к более совершенному – всей исторической драм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«Загадкой для разума»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является отнюдь не идеальный, ясный космос, а наш мир, непонятный, нестройный и преходящ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днако этот мир предполагает мир идеальный как свою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норму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и критерий оценки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ы не находили бы его полным заблуждений, если бы не имели представления о сущей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истине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е считали бы его злым, если бы не носили в себе идею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добра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е чувствовали его безобразия, если бы были слепы к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красоте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скольку он носит в себе идеалы истины, добра и красоты,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человек оказывается посредствующим звеном между миром идеальным и земным.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4049F-794A-4AC8-84CE-B7081D7AEF0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Теоретические предпосылки социальной науки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Проблема исторической закономерности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18F4B-E8FA-47FF-B562-DC41425E584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Историософия В. С. Соловьёва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сновные формы общечеловеческого организ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06E0F-B1BA-4932-BE01-FEF3C4C3C3E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сториософия В. С. Соловьёва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азделение церквей и его последств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ложительный смысл истории заключается в свободном вхождении человечества в церковь и в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свободном оцерковлении человечест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о этот положительный смысл был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нарушен разделением церквей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(церковь может быть лишь вселенской), что привело к духовному оскудению отдельных церквей и отделению культуры светской от культуры духовной: культура стала безбожной, а церковь стала чуждаться культур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ледствиями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отрыва светской культуры от духовной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стал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трыв интеллектуального </a:t>
            </a:r>
            <a:r>
              <a:rPr b="1" lang="ru-RU" sz="1600" spc="-1" strike="noStrike">
                <a:solidFill>
                  <a:srgbClr val="00ffff"/>
                </a:solidFill>
                <a:latin typeface="Arial"/>
              </a:rPr>
              <a:t>просвещения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от абсолютных </a:t>
            </a:r>
            <a:r>
              <a:rPr b="1" lang="ru-RU" sz="1600" spc="-1" strike="noStrike">
                <a:solidFill>
                  <a:srgbClr val="00ffff"/>
                </a:solidFill>
                <a:latin typeface="Arial"/>
              </a:rPr>
              <a:t>оснований быти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трыв </a:t>
            </a:r>
            <a:r>
              <a:rPr b="1" lang="ru-RU" sz="1600" spc="-1" strike="noStrike">
                <a:solidFill>
                  <a:srgbClr val="00ffff"/>
                </a:solidFill>
                <a:latin typeface="Arial"/>
              </a:rPr>
              <a:t>свободы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от </a:t>
            </a:r>
            <a:r>
              <a:rPr b="1" lang="ru-RU" sz="1600" spc="-1" strike="noStrike">
                <a:solidFill>
                  <a:srgbClr val="00ffff"/>
                </a:solidFill>
                <a:latin typeface="Arial"/>
              </a:rPr>
              <a:t>истины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как её положительной цел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трыв </a:t>
            </a:r>
            <a:r>
              <a:rPr b="1" lang="ru-RU" sz="1600" spc="-1" strike="noStrike">
                <a:solidFill>
                  <a:srgbClr val="00ffff"/>
                </a:solidFill>
                <a:latin typeface="Arial"/>
              </a:rPr>
              <a:t>знания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от </a:t>
            </a:r>
            <a:r>
              <a:rPr b="1" lang="ru-RU" sz="1600" spc="-1" strike="noStrike">
                <a:solidFill>
                  <a:srgbClr val="00ffff"/>
                </a:solidFill>
                <a:latin typeface="Arial"/>
              </a:rPr>
              <a:t>жизн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разрыв между </a:t>
            </a:r>
            <a:r>
              <a:rPr b="1" lang="ru-RU" sz="1600" spc="-1" strike="noStrike">
                <a:solidFill>
                  <a:srgbClr val="00ffff"/>
                </a:solidFill>
                <a:latin typeface="Arial"/>
              </a:rPr>
              <a:t>Востоком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1" lang="ru-RU" sz="1600" spc="-1" strike="noStrike">
                <a:solidFill>
                  <a:srgbClr val="00ffff"/>
                </a:solidFill>
                <a:latin typeface="Arial"/>
              </a:rPr>
              <a:t>Западом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(«бесчеловечный Восток» и «безбожный Запад»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разрыв между </a:t>
            </a:r>
            <a:r>
              <a:rPr b="1" lang="ru-RU" sz="1600" spc="-1" strike="noStrike">
                <a:solidFill>
                  <a:srgbClr val="00ffff"/>
                </a:solidFill>
                <a:latin typeface="Arial"/>
              </a:rPr>
              <a:t>национальным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1" lang="ru-RU" sz="1600" spc="-1" strike="noStrike">
                <a:solidFill>
                  <a:srgbClr val="00ffff"/>
                </a:solidFill>
                <a:latin typeface="Arial"/>
              </a:rPr>
              <a:t>вселенским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разрыв между </a:t>
            </a:r>
            <a:r>
              <a:rPr b="1" lang="ru-RU" sz="1600" spc="-1" strike="noStrike">
                <a:solidFill>
                  <a:srgbClr val="00ffff"/>
                </a:solidFill>
                <a:latin typeface="Arial"/>
              </a:rPr>
              <a:t>классовым,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сословным и </a:t>
            </a:r>
            <a:r>
              <a:rPr b="1" lang="ru-RU" sz="1600" spc="-1" strike="noStrike">
                <a:solidFill>
                  <a:srgbClr val="00ffff"/>
                </a:solidFill>
                <a:latin typeface="Arial"/>
              </a:rPr>
              <a:t>общечеловечески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результате весь социальный прогресс последних веков обязан своим существованием почти исключительно неверующим;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историческая же церковь взяла сторону реакции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и тормозила этот прогресс, как только могла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6B83D-3668-45CE-AA83-C9B1275A43F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сториософия В. С. Соловьёва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еократическая утоп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апад и Восток могут быть соединены лишь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третьей силой,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вободной от их крайностей. Такой силой должна стать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Россия.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оссия обязана своим величием «силе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самоотречения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русского народа»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5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лавянские племена не побоялись призвать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чужую власть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 – варягов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5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инять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чужую веру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– византийское православие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5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сознать собственную отсталость и приобщиться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чужой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западной –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культуре.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еперь от России требуется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четвёртый акт самоотречения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признание главенства римского папы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во имя восстановления единства церкв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Союз римского папы и русского царя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должен стать институциональной гарантией «богочеловеческого процесса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FC1EF-16C8-4A5D-B0A6-08ACCC37E2F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Концепция всеединства</a:t>
            </a:r>
            <a:br>
              <a:rPr sz="1200"/>
            </a:b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в русской социальной философии </a:t>
            </a: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XX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ве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4C612-64CB-465A-A9D5-9B1064FE93F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Философия истории Л. П. Карсавина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онцепция «симфонической личности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46D50-1150-4B10-A2E7-247A3A6F774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59920-D3C8-4091-9E5B-45D5E82BD4C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Политическая философия русского марксизма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От «класса в себе» к «классу для себя»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AA0A9-A046-46A8-9BCD-FACC1F50358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EB19E-D7A9-4629-9747-1776FCA1908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Теоретические предпосылки социальной науки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лассы как субъекты закономерной деяте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90D71-217A-45FD-BC61-E0319672173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Абстрактные и конкретные социальные общ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6EF29-2849-4B1D-81FB-1FE4231CB7A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Философия истории славянофилов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ультурно-исторические общности (А. С. Хомяков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Предмет истории и её действующие ли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Жизнь всего человече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бщности (определяемые по вероисповеданиям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Новая парадигма исторической нау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ародные верования как исторические источники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Поэтический инстинкт» как метод исследова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етроспективный метод («возвратный ход»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Общая схема исторического процесса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Иранство» и «кушитство»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бщина и дружи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оссия и Европ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Будущее человечества и миссия Росс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Единение человечества на органически-духовных,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 не механических (империалистических) начал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4B25D-C7BF-49A8-973D-0BC64FCCCA0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Философия истории славянофилов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Доктрина соборности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50F74-4531-4239-9F95-9E409876C9C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Философия истории славянофилов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Доктрина соборности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1C351-AE3B-424C-AA0C-6363BAB8878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Философия истории славянофилов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Доктрина соборности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75C38-96D0-4167-873E-A5C226ADE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25481-8BF4-4E8C-93F8-17598511B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3CC7B-F33C-4036-AA30-0EC5587AC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E0AD4-9227-485D-92FD-5B8BDAC8D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62CD9-EA47-4F3B-B2BB-0860F7854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FAFB0-EB82-41DB-9649-0B3D9097E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1CE10-3876-4CB3-910D-349617D7E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9E1E2-3E7A-4DA6-B016-226FA6963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7A430-076A-403A-9C3F-2B07E58DD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98780-9877-4F61-823C-402884A43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A47E3-0905-4E87-AD22-646C81E16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872E2-4C9E-46E1-A43C-B55603442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8FEA6-537F-482A-8548-16A74B15EE8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image" Target="../media/image12.jpe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5.jpeg"/><Relationship Id="rId8" Type="http://schemas.openxmlformats.org/officeDocument/2006/relationships/image" Target="../media/image16.jpeg"/><Relationship Id="rId9" Type="http://schemas.openxmlformats.org/officeDocument/2006/relationships/image" Target="../media/image17.jpeg"/><Relationship Id="rId10" Type="http://schemas.openxmlformats.org/officeDocument/2006/relationships/image" Target="../media/image18.jpeg"/><Relationship Id="rId11" Type="http://schemas.openxmlformats.org/officeDocument/2006/relationships/image" Target="../media/image19.jpeg"/><Relationship Id="rId12" Type="http://schemas.openxmlformats.org/officeDocument/2006/relationships/image" Target="../media/image20.jpeg"/><Relationship Id="rId13" Type="http://schemas.openxmlformats.org/officeDocument/2006/relationships/image" Target="../media/image21.jpe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0.gif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pn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214200" y="1928520"/>
            <a:ext cx="8274240" cy="182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000"/>
            </a:b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Русская философия социального и исторического зн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logo2"/>
          <p:cNvPicPr/>
          <p:nvPr/>
        </p:nvPicPr>
        <p:blipFill>
          <a:blip r:embed="rId1"/>
          <a:stretch/>
        </p:blipFill>
        <p:spPr>
          <a:xfrm>
            <a:off x="250920" y="617400"/>
            <a:ext cx="1127160" cy="75564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5"/>
          <p:cNvSpPr/>
          <p:nvPr/>
        </p:nvSpPr>
        <p:spPr>
          <a:xfrm>
            <a:off x="1442880" y="539640"/>
            <a:ext cx="6400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ОСКОВСКИЙ ГОСУДАРСТВЕННЫЙ ИНСТИТУТ МЕЖДУНАРОДНЫХ ОТНОШЕНИЙ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афедра философ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chouet1"/>
          <p:cNvPicPr/>
          <p:nvPr/>
        </p:nvPicPr>
        <p:blipFill>
          <a:blip r:embed="rId2"/>
          <a:stretch/>
        </p:blipFill>
        <p:spPr>
          <a:xfrm>
            <a:off x="7848720" y="620640"/>
            <a:ext cx="826920" cy="1133640"/>
          </a:xfrm>
          <a:prstGeom prst="rect">
            <a:avLst/>
          </a:prstGeom>
          <a:ln w="0">
            <a:noFill/>
          </a:ln>
        </p:spPr>
      </p:pic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Философия истории славянофилов 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октрина собор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3"/>
          <p:cNvSpPr/>
          <p:nvPr/>
        </p:nvSpPr>
        <p:spPr>
          <a:xfrm rot="10800000">
            <a:off x="2877840" y="1726920"/>
            <a:ext cx="6189480" cy="48578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отестантстве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свобода для цело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бщины ест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вобода постоянног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олебания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свобода, всегда готова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зять назад приговоры, ею ж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оизнесённые накануне... Дл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тдельного же лица… свобода ес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ли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вобода сомнения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проявляющая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том, кто, зная себя, сознаёт свою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мощь, или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вобода нелепой веры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в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ебя, проявляющаяся в том, кто твори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ебе кумир из своей гордости. В том 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ругом виде это, пожалуй, тоже свобода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…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вобода в смысле политическом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о не в смысле христианском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4" descr="Хомяков Алексей Степанович (sm10-3)"/>
          <p:cNvPicPr/>
          <p:nvPr/>
        </p:nvPicPr>
        <p:blipFill>
          <a:blip r:embed="rId1"/>
          <a:stretch/>
        </p:blipFill>
        <p:spPr>
          <a:xfrm>
            <a:off x="539640" y="1727280"/>
            <a:ext cx="2381400" cy="298116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5"/>
          <p:cNvSpPr/>
          <p:nvPr/>
        </p:nvSpPr>
        <p:spPr>
          <a:xfrm>
            <a:off x="74880" y="4786200"/>
            <a:ext cx="3015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. С. Хомяков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Ещё несколько слов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авославног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христианина о западных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ероисповеданиях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nodeType="clickEffect" fill="hold">
                      <p:stCondLst>
                        <p:cond delay="0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4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Философия истории славянофилов 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октрина собор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3"/>
          <p:cNvSpPr/>
          <p:nvPr/>
        </p:nvSpPr>
        <p:spPr>
          <a:xfrm rot="10800000">
            <a:off x="2806560" y="1726920"/>
            <a:ext cx="6297840" cy="48578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Единство истинное, внутреннее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плод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проявление свободы, единство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оторому основанием служит н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учный рационализм и не произвольна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условность учреждения, а нравственны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закон взаимной любви и молитвы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динство, в котором, при всём различи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степени иерархических полномочи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 совершение таинств, никт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порабощается, но все равн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изываются быть участниками в обще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еле, словом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единство по благодати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ожией, а не по человеческому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установлению, – таково единство Церкви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4" descr="Хомяков Алексей Степанович (sm10-3)"/>
          <p:cNvPicPr/>
          <p:nvPr/>
        </p:nvPicPr>
        <p:blipFill>
          <a:blip r:embed="rId1"/>
          <a:stretch/>
        </p:blipFill>
        <p:spPr>
          <a:xfrm>
            <a:off x="539640" y="1727280"/>
            <a:ext cx="2381400" cy="298116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5"/>
          <p:cNvSpPr/>
          <p:nvPr/>
        </p:nvSpPr>
        <p:spPr>
          <a:xfrm>
            <a:off x="74880" y="4786200"/>
            <a:ext cx="3015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. С. Хомяков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Ещё несколько слов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авославног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христианина о западных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ероисповеданиях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nodeType="clickEffect" fill="hold">
                      <p:stCondLst>
                        <p:cond delay="0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Философия истории славянофилов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оциальная и политическая онтолог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3"/>
          <p:cNvSpPr/>
          <p:nvPr/>
        </p:nvSpPr>
        <p:spPr>
          <a:xfrm rot="10800000">
            <a:off x="2806200" y="1797840"/>
            <a:ext cx="6118200" cy="431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... Когда мы говорим, что народ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ействует, мыслит, чувствует, мы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ыражаемся отвлечённо: собственн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ействуют, чувствуют, мысля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диницы, лица, его составляющие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аким образом,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личность,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знающа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ама по себе своё бесконечное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езусловное достоинство, – ес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обходимое условие всяког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уховного развития народа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361800" y="5002200"/>
            <a:ext cx="223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. Д. Кавелин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Взгляд на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юридический быт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ревней России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5" descr="Кавелин, Константин Дмитриевич (sm10)"/>
          <p:cNvPicPr/>
          <p:nvPr/>
        </p:nvPicPr>
        <p:blipFill>
          <a:blip r:embed="rId1"/>
          <a:stretch/>
        </p:blipFill>
        <p:spPr>
          <a:xfrm>
            <a:off x="324000" y="1727280"/>
            <a:ext cx="2504880" cy="3105000"/>
          </a:xfrm>
          <a:prstGeom prst="rect">
            <a:avLst/>
          </a:prstGeom>
          <a:ln w="0">
            <a:noFill/>
          </a:ln>
        </p:spPr>
      </p:pic>
      <p:sp>
        <p:nvSpPr>
          <p:cNvPr id="1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58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3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Философия истории славянофилов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оциальная и политическая онтолог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3"/>
          <p:cNvSpPr/>
          <p:nvPr/>
        </p:nvSpPr>
        <p:spPr>
          <a:xfrm rot="10800000">
            <a:off x="286920" y="1797840"/>
            <a:ext cx="6118200" cy="431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…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ы никак не можем понять тог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логического процесса, посредство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оторого из германского начала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едоставленного самому себе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з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дной идеи личности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може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озникнуть иное общество, кроме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скусственной условной ассоциации?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аким образом начало разобщающе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братится в противоположное начал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имирения и единения?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4" descr="tropinin_portrait_of_samarin_in_the_hunting_dress"/>
          <p:cNvPicPr/>
          <p:nvPr/>
        </p:nvPicPr>
        <p:blipFill>
          <a:blip r:embed="rId1"/>
          <a:stretch/>
        </p:blipFill>
        <p:spPr>
          <a:xfrm>
            <a:off x="6729480" y="1798560"/>
            <a:ext cx="1990800" cy="259092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5"/>
          <p:cNvSpPr/>
          <p:nvPr/>
        </p:nvSpPr>
        <p:spPr>
          <a:xfrm>
            <a:off x="6504840" y="4678200"/>
            <a:ext cx="2139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Ю. Ф. Самарин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О мнениях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временника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сторических и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литературных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75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0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Философия истории славянофилов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оциальная и политическая онтолог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3"/>
          <p:cNvSpPr/>
          <p:nvPr/>
        </p:nvSpPr>
        <p:spPr>
          <a:xfrm>
            <a:off x="5943600" y="5275440"/>
            <a:ext cx="2743200" cy="9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Самобытность (национализм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4"/>
          <p:cNvSpPr/>
          <p:nvPr/>
        </p:nvSpPr>
        <p:spPr>
          <a:xfrm>
            <a:off x="3200400" y="5275440"/>
            <a:ext cx="2743200" cy="9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Универсализм (космополитизм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5"/>
          <p:cNvSpPr/>
          <p:nvPr/>
        </p:nvSpPr>
        <p:spPr>
          <a:xfrm>
            <a:off x="457200" y="5275440"/>
            <a:ext cx="2743200" cy="9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Социокультурная ориента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6"/>
          <p:cNvSpPr/>
          <p:nvPr/>
        </p:nvSpPr>
        <p:spPr>
          <a:xfrm>
            <a:off x="5943600" y="4370400"/>
            <a:ext cx="2743200" cy="9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Вера и религия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200400" y="4370400"/>
            <a:ext cx="2743200" cy="9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Разум и наука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8"/>
          <p:cNvSpPr/>
          <p:nvPr/>
        </p:nvSpPr>
        <p:spPr>
          <a:xfrm>
            <a:off x="457200" y="4370400"/>
            <a:ext cx="2743200" cy="9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Духовная ориента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9"/>
          <p:cNvSpPr/>
          <p:nvPr/>
        </p:nvSpPr>
        <p:spPr>
          <a:xfrm>
            <a:off x="5943600" y="3463920"/>
            <a:ext cx="2743200" cy="9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Органическое развитие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10"/>
          <p:cNvSpPr/>
          <p:nvPr/>
        </p:nvSpPr>
        <p:spPr>
          <a:xfrm>
            <a:off x="3200400" y="3463920"/>
            <a:ext cx="2743200" cy="9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Общественный договор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11"/>
          <p:cNvSpPr/>
          <p:nvPr/>
        </p:nvSpPr>
        <p:spPr>
          <a:xfrm>
            <a:off x="457200" y="3463920"/>
            <a:ext cx="2743200" cy="9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Политическая онтолог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12"/>
          <p:cNvSpPr/>
          <p:nvPr/>
        </p:nvSpPr>
        <p:spPr>
          <a:xfrm>
            <a:off x="5943600" y="2505240"/>
            <a:ext cx="2743200" cy="95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Культура как продукт стихийного развития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3"/>
          <p:cNvSpPr/>
          <p:nvPr/>
        </p:nvSpPr>
        <p:spPr>
          <a:xfrm>
            <a:off x="3200400" y="2505240"/>
            <a:ext cx="2743200" cy="95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Культура как сознательное творчество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14"/>
          <p:cNvSpPr/>
          <p:nvPr/>
        </p:nvSpPr>
        <p:spPr>
          <a:xfrm>
            <a:off x="457200" y="2505240"/>
            <a:ext cx="2743200" cy="95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Социальная онтолог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15"/>
          <p:cNvSpPr/>
          <p:nvPr/>
        </p:nvSpPr>
        <p:spPr>
          <a:xfrm>
            <a:off x="5943600" y="1600200"/>
            <a:ext cx="2743200" cy="9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ff"/>
                </a:solidFill>
                <a:latin typeface="Arial"/>
              </a:rPr>
              <a:t>Славянофил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16"/>
          <p:cNvSpPr/>
          <p:nvPr/>
        </p:nvSpPr>
        <p:spPr>
          <a:xfrm>
            <a:off x="3200400" y="1600200"/>
            <a:ext cx="2743200" cy="9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ff"/>
                </a:solidFill>
                <a:latin typeface="Arial"/>
              </a:rPr>
              <a:t>Западн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17"/>
          <p:cNvSpPr/>
          <p:nvPr/>
        </p:nvSpPr>
        <p:spPr>
          <a:xfrm>
            <a:off x="457200" y="1600200"/>
            <a:ext cx="2743200" cy="9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18"/>
          <p:cNvSpPr/>
          <p:nvPr/>
        </p:nvSpPr>
        <p:spPr>
          <a:xfrm>
            <a:off x="457200" y="1600200"/>
            <a:ext cx="82296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19"/>
          <p:cNvSpPr/>
          <p:nvPr/>
        </p:nvSpPr>
        <p:spPr>
          <a:xfrm>
            <a:off x="457200" y="2505240"/>
            <a:ext cx="822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20"/>
          <p:cNvSpPr/>
          <p:nvPr/>
        </p:nvSpPr>
        <p:spPr>
          <a:xfrm>
            <a:off x="457200" y="3463920"/>
            <a:ext cx="822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21"/>
          <p:cNvSpPr/>
          <p:nvPr/>
        </p:nvSpPr>
        <p:spPr>
          <a:xfrm>
            <a:off x="457200" y="4370400"/>
            <a:ext cx="822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22"/>
          <p:cNvSpPr/>
          <p:nvPr/>
        </p:nvSpPr>
        <p:spPr>
          <a:xfrm>
            <a:off x="457200" y="5275440"/>
            <a:ext cx="822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23"/>
          <p:cNvSpPr/>
          <p:nvPr/>
        </p:nvSpPr>
        <p:spPr>
          <a:xfrm>
            <a:off x="457200" y="6180120"/>
            <a:ext cx="82296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24"/>
          <p:cNvSpPr/>
          <p:nvPr/>
        </p:nvSpPr>
        <p:spPr>
          <a:xfrm>
            <a:off x="457200" y="1600200"/>
            <a:ext cx="0" cy="45799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25"/>
          <p:cNvSpPr/>
          <p:nvPr/>
        </p:nvSpPr>
        <p:spPr>
          <a:xfrm>
            <a:off x="3200400" y="1600200"/>
            <a:ext cx="0" cy="4579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26"/>
          <p:cNvSpPr/>
          <p:nvPr/>
        </p:nvSpPr>
        <p:spPr>
          <a:xfrm>
            <a:off x="5943600" y="1600200"/>
            <a:ext cx="0" cy="4579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27"/>
          <p:cNvSpPr/>
          <p:nvPr/>
        </p:nvSpPr>
        <p:spPr>
          <a:xfrm>
            <a:off x="8686800" y="1600200"/>
            <a:ext cx="0" cy="45799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7" dur="8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8" dur="8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9" dur="8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4" dur="8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5" dur="8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6" dur="8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7" dur="8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8" dur="8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9" dur="8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4" dur="8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5" dur="8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6" dur="8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7" dur="8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8" dur="8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9" dur="8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4" dur="8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5" dur="8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6" dur="8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7" dur="8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8" dur="8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9" dur="8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4" dur="8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5" dur="8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6" dur="8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Теория культурно-исторических типов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. Я. Данилевско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3957480" y="4857840"/>
            <a:ext cx="52182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. Я. Чаадаев. «Философические письма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5"/>
          <p:cNvSpPr/>
          <p:nvPr/>
        </p:nvSpPr>
        <p:spPr>
          <a:xfrm>
            <a:off x="3489480" y="5468760"/>
            <a:ext cx="5578200" cy="12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еория культурно-исторических типов Данилевского – первый значительный вклад России в мировую философи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6"/>
          <p:cNvSpPr/>
          <p:nvPr/>
        </p:nvSpPr>
        <p:spPr>
          <a:xfrm rot="10800000">
            <a:off x="3957480" y="1618920"/>
            <a:ext cx="4857840" cy="305892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динокие в мире, мы миру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ичего не дали, ничего у мир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взяли, мы не внесли в массу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еловеческих иде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и одной мысли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ы ни в чём не содействовал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вижению вперёд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еловеческого разума..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7" descr="Данилевский (1-3)"/>
          <p:cNvPicPr/>
          <p:nvPr/>
        </p:nvPicPr>
        <p:blipFill>
          <a:blip r:embed="rId1"/>
          <a:stretch/>
        </p:blipFill>
        <p:spPr>
          <a:xfrm>
            <a:off x="611280" y="1798560"/>
            <a:ext cx="2763720" cy="431496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3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37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еория культурно-исторических типов 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тепени развития и типы развит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 основе универсалистской парадигмы лежит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логически не корректное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деление истории на периоды: древность, средневековье, новое врем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Рубежи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, отделяющие один период от другого, не имели общечеловеческого знач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 истории каждой цивилизации выделяются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свои фазисы развития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: свои «древность», «средневековье» и «новое время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ежду последними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больше общего,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чем между ними и соответствующими периодами других цивилизац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еление истории по степеням развития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не исчерпывает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всего богатства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её содерж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8" dur="indefinite" restart="never" nodeType="tmRoot">
          <p:childTnLst>
            <p:seq>
              <p:cTn id="639" dur="indefinite" nodeType="mainSeq">
                <p:childTnLst>
                  <p:par>
                    <p:cTn id="640" nodeType="clickEffect" fill="hold">
                      <p:stCondLst>
                        <p:cond delay="indefinite"/>
                      </p:stCondLst>
                      <p:childTnLst>
                        <p:par>
                          <p:cTn id="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nodeType="clickEffect" fill="hold">
                      <p:stCondLst>
                        <p:cond delay="indefinite"/>
                      </p:stCondLst>
                      <p:childTnLst>
                        <p:par>
                          <p:cTn id="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nodeType="clickEffect" fill="hold">
                      <p:stCondLst>
                        <p:cond delay="indefinite"/>
                      </p:stCondLst>
                      <p:childTnLst>
                        <p:par>
                          <p:cTn id="6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nodeType="clickEffect" fill="hold">
                      <p:stCondLst>
                        <p:cond delay="indefinite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nodeType="clickEffect" fill="hold">
                      <p:stCondLst>
                        <p:cond delay="indefinite"/>
                      </p:stCondLst>
                      <p:childTnLst>
                        <p:par>
                          <p:cTn id="6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еория культурно-исторических типов 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ногообразие культу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79820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Культура не универсальна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(западная – в том числе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овокупное человечество не есть реальный субъект истории, но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лишь абстрактная иде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Разнообразие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, а не единообразие – закон и условие прогресс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0" dur="indefinite" restart="never" nodeType="tmRoot">
          <p:childTnLst>
            <p:seq>
              <p:cTn id="671" dur="indefinite" nodeType="mainSeq">
                <p:childTnLst>
                  <p:par>
                    <p:cTn id="672" nodeType="clickEffect" fill="hold">
                      <p:stCondLst>
                        <p:cond delay="indefinite"/>
                      </p:stCondLst>
                      <p:childTnLst>
                        <p:par>
                          <p:cTn id="6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nodeType="clickEffect" fill="hold">
                      <p:stCondLst>
                        <p:cond delay="indefinite"/>
                      </p:stCondLst>
                      <p:childTnLst>
                        <p:par>
                          <p:cTn id="6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nodeType="clickEffect" fill="hold">
                      <p:stCondLst>
                        <p:cond delay="indefinite"/>
                      </p:stCondLst>
                      <p:childTnLst>
                        <p:par>
                          <p:cTn id="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еория культурно-исторических типов 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ногообразие культу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3"/>
          <p:cNvSpPr/>
          <p:nvPr/>
        </p:nvSpPr>
        <p:spPr>
          <a:xfrm rot="10800000">
            <a:off x="250560" y="1977840"/>
            <a:ext cx="6297480" cy="43178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абы поступательное движени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ообще не прекратилось в жизн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сего человечества, необходимо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тобы, дойдя в одном направлени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о известной степени совершенства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чалось оно с новой точки исхода 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шло по другому пути, т. е. надо чтобы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ступили на поприще деятельности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ругие психические особенности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ругой склад ума, чувств и воли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оторыми обладают только народы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ругого культурно-исторического типа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4" descr="Данилевский (1-1)"/>
          <p:cNvPicPr/>
          <p:nvPr/>
        </p:nvPicPr>
        <p:blipFill>
          <a:blip r:embed="rId1"/>
          <a:stretch/>
        </p:blipFill>
        <p:spPr>
          <a:xfrm>
            <a:off x="6788160" y="2050920"/>
            <a:ext cx="1600200" cy="218124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5"/>
          <p:cNvSpPr/>
          <p:nvPr/>
        </p:nvSpPr>
        <p:spPr>
          <a:xfrm>
            <a:off x="6442920" y="4965840"/>
            <a:ext cx="24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. Я. Данилевский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Россия и Европа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0" dur="indefinite" restart="never" nodeType="tmRoot">
          <p:childTnLst>
            <p:seq>
              <p:cTn id="691" dur="indefinite" nodeType="mainSeq">
                <p:childTnLst>
                  <p:par>
                    <p:cTn id="692" nodeType="clickEffect" fill="hold">
                      <p:stCondLst>
                        <p:cond delay="indefinite"/>
                      </p:stCondLst>
                      <p:childTnLst>
                        <p:par>
                          <p:cTn id="6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6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9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00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0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еория культурно-исторических типов 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ногообразие культу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3"/>
          <p:cNvSpPr/>
          <p:nvPr/>
        </p:nvSpPr>
        <p:spPr>
          <a:xfrm rot="10800000">
            <a:off x="250560" y="1977840"/>
            <a:ext cx="6297480" cy="43178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огресс </a:t>
            </a:r>
            <a:r>
              <a:rPr b="1" lang="en-US" sz="1800" spc="-1" strike="noStrike">
                <a:solidFill>
                  <a:srgbClr val="3399ff"/>
                </a:solidFill>
                <a:latin typeface="Arial"/>
              </a:rPr>
              <a:t>&lt;…&gt;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состоит не в том, чтобы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дти все в одном направлении (в тако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лучае он скоро бы прекратился)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 в том, чтобы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сходить все поле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оставляющее поприще исторической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еятельности человечества, во всех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аправлениях.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Поэтому ни одн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цивилизация не может гордиться тем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тоб она представляла высшую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очку развития, в сравнении с её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едшественницами или современницами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о всех сторонах развития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4" descr="Данилевский (1-1)"/>
          <p:cNvPicPr/>
          <p:nvPr/>
        </p:nvPicPr>
        <p:blipFill>
          <a:blip r:embed="rId1"/>
          <a:stretch/>
        </p:blipFill>
        <p:spPr>
          <a:xfrm>
            <a:off x="6788160" y="2050920"/>
            <a:ext cx="1600200" cy="218124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6442920" y="4965840"/>
            <a:ext cx="24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. Я. Данилевский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Россия и Европа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6" dur="indefinite" restart="never" nodeType="tmRoot">
          <p:childTnLst>
            <p:seq>
              <p:cTn id="707" dur="indefinite" nodeType="mainSeq">
                <p:childTnLst>
                  <p:par>
                    <p:cTn id="708" nodeType="clickEffect" fill="hold">
                      <p:stCondLst>
                        <p:cond delay="0"/>
                      </p:stCondLst>
                      <p:childTnLst>
                        <p:par>
                          <p:cTn id="7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2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6840" y="70920"/>
            <a:ext cx="8302680" cy="676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Теоретические предпосылки социальной нау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роблема исторической закономер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Классы как субъекты закономерной деятель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Абстрактные и конкретные социальные общ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Философия истории славянофил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Культурно-исторические общности (А. С. Хомяков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Доктрина собор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оциальная и политическая онтолог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Теория культурно-исторических типов Н. Я. Данилевск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тепени развития и типы развит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Многообразие культу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Десять культурно-исторических тип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оложительные и отрицательные деятели истор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Законы культурно-исторического движ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«Одноосновные» и «многоосновные» цивилиза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Философия культуры К. Н. Леонтье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Фазы развития культу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Онтология и историософия В. С. Соловьё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онятие всеединст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Богочеловеческий процес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сновные формы общечеловеческого организм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Разделение церквей и его последств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Теократическая утоп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Концепция всеединства в русской социальной философии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XX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ве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. Л. Франк: соборность как основа социаль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Л. П. Карсавин: концепция «симфонической личности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Политическая философия русского марксиз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т «класса в себе» к «классу для себя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3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3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3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3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3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3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3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53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53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53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5" end="2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53">
                                            <p:txEl>
                                              <p:pRg st="25" end="2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53">
                                            <p:txEl>
                                              <p:pRg st="25" end="2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6" end="2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53">
                                            <p:txEl>
                                              <p:pRg st="26" end="2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53">
                                            <p:txEl>
                                              <p:pRg st="26" end="2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7" end="2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53">
                                            <p:txEl>
                                              <p:pRg st="27" end="2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53">
                                            <p:txEl>
                                              <p:pRg st="27" end="2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2" descr="Egypt"/>
          <p:cNvPicPr/>
          <p:nvPr/>
        </p:nvPicPr>
        <p:blipFill>
          <a:blip r:embed="rId1"/>
          <a:stretch/>
        </p:blipFill>
        <p:spPr>
          <a:xfrm>
            <a:off x="3778200" y="1619280"/>
            <a:ext cx="1800360" cy="13525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83" name="Picture 3" descr="China"/>
          <p:cNvPicPr/>
          <p:nvPr/>
        </p:nvPicPr>
        <p:blipFill>
          <a:blip r:embed="rId2"/>
          <a:stretch/>
        </p:blipFill>
        <p:spPr>
          <a:xfrm>
            <a:off x="5397480" y="1798560"/>
            <a:ext cx="1800360" cy="13510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84" name="Picture 4" descr="ishtar_gate19"/>
          <p:cNvPicPr/>
          <p:nvPr/>
        </p:nvPicPr>
        <p:blipFill>
          <a:blip r:embed="rId3"/>
          <a:stretch/>
        </p:blipFill>
        <p:spPr>
          <a:xfrm>
            <a:off x="7197840" y="1978200"/>
            <a:ext cx="1568160" cy="18000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85" name="Picture 5" descr="India (2)"/>
          <p:cNvPicPr/>
          <p:nvPr/>
        </p:nvPicPr>
        <p:blipFill>
          <a:blip r:embed="rId4"/>
          <a:stretch/>
        </p:blipFill>
        <p:spPr>
          <a:xfrm>
            <a:off x="3849840" y="2770200"/>
            <a:ext cx="1800000" cy="13510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86" name="Picture 6" descr="Persia"/>
          <p:cNvPicPr/>
          <p:nvPr/>
        </p:nvPicPr>
        <p:blipFill>
          <a:blip r:embed="rId5"/>
          <a:stretch/>
        </p:blipFill>
        <p:spPr>
          <a:xfrm>
            <a:off x="5468760" y="3022560"/>
            <a:ext cx="1800360" cy="12067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87" name="Picture 7" descr="Dome of the Rock, Jerusalem_sm"/>
          <p:cNvPicPr/>
          <p:nvPr/>
        </p:nvPicPr>
        <p:blipFill>
          <a:blip r:embed="rId6"/>
          <a:stretch/>
        </p:blipFill>
        <p:spPr>
          <a:xfrm>
            <a:off x="7088040" y="3273480"/>
            <a:ext cx="1800360" cy="14396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еория культурно-исторических типов 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есять культурно-исторических тип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50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Египетск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Китайск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Древнесемитск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Индийск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Ирански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Еврейск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Греческ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Римск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Аравийск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Романо-германски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ексиканский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еруанск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Славяно-русск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10" descr="Greece"/>
          <p:cNvPicPr/>
          <p:nvPr/>
        </p:nvPicPr>
        <p:blipFill>
          <a:blip r:embed="rId7"/>
          <a:stretch/>
        </p:blipFill>
        <p:spPr>
          <a:xfrm>
            <a:off x="3922560" y="3922560"/>
            <a:ext cx="1800360" cy="13510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91" name="Picture 11" descr="Rome"/>
          <p:cNvPicPr/>
          <p:nvPr/>
        </p:nvPicPr>
        <p:blipFill>
          <a:blip r:embed="rId8"/>
          <a:stretch/>
        </p:blipFill>
        <p:spPr>
          <a:xfrm>
            <a:off x="5576760" y="4102200"/>
            <a:ext cx="1800360" cy="13507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92" name="Picture 12" descr="Aravia"/>
          <p:cNvPicPr/>
          <p:nvPr/>
        </p:nvPicPr>
        <p:blipFill>
          <a:blip r:embed="rId9"/>
          <a:stretch/>
        </p:blipFill>
        <p:spPr>
          <a:xfrm>
            <a:off x="7197840" y="4281480"/>
            <a:ext cx="1800000" cy="13510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93" name="Picture 13" descr="Europe (3)"/>
          <p:cNvPicPr/>
          <p:nvPr/>
        </p:nvPicPr>
        <p:blipFill>
          <a:blip r:embed="rId10"/>
          <a:stretch/>
        </p:blipFill>
        <p:spPr>
          <a:xfrm>
            <a:off x="3994200" y="5073480"/>
            <a:ext cx="1800000" cy="13510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94" name="Picture 14" descr="Mexico (2)"/>
          <p:cNvPicPr/>
          <p:nvPr/>
        </p:nvPicPr>
        <p:blipFill>
          <a:blip r:embed="rId11"/>
          <a:stretch/>
        </p:blipFill>
        <p:spPr>
          <a:xfrm>
            <a:off x="5649840" y="5253120"/>
            <a:ext cx="1800360" cy="13507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95" name="Picture 15" descr="Peru"/>
          <p:cNvPicPr/>
          <p:nvPr/>
        </p:nvPicPr>
        <p:blipFill>
          <a:blip r:embed="rId12"/>
          <a:stretch/>
        </p:blipFill>
        <p:spPr>
          <a:xfrm>
            <a:off x="7269120" y="5433840"/>
            <a:ext cx="1800360" cy="13510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96" name="Picture 16" descr="Russia"/>
          <p:cNvPicPr/>
          <p:nvPr/>
        </p:nvPicPr>
        <p:blipFill>
          <a:blip r:embed="rId13"/>
          <a:stretch/>
        </p:blipFill>
        <p:spPr>
          <a:xfrm>
            <a:off x="4786200" y="2878200"/>
            <a:ext cx="3598920" cy="25351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3" dur="indefinite" restart="never" nodeType="tmRoot">
          <p:childTnLst>
            <p:seq>
              <p:cTn id="714" dur="indefinite" nodeType="mainSeq">
                <p:childTnLst>
                  <p:par>
                    <p:cTn id="715" nodeType="clickEffect" fill="hold">
                      <p:stCondLst>
                        <p:cond delay="indefinite"/>
                      </p:stCondLst>
                      <p:childTnLst>
                        <p:par>
                          <p:cTn id="7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2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24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nodeType="clickEffect" fill="hold">
                      <p:stCondLst>
                        <p:cond delay="indefinite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3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34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nodeType="clickEffect" fill="hold">
                      <p:stCondLst>
                        <p:cond delay="indefinite"/>
                      </p:stCondLst>
                      <p:childTnLst>
                        <p:par>
                          <p:cTn id="7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44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nodeType="clickEffect" fill="hold">
                      <p:stCondLst>
                        <p:cond delay="indefinite"/>
                      </p:stCondLst>
                      <p:childTnLst>
                        <p:par>
                          <p:cTn id="7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5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54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nodeType="clickEffect" fill="hold">
                      <p:stCondLst>
                        <p:cond delay="indefinite"/>
                      </p:stCondLst>
                      <p:childTnLst>
                        <p:par>
                          <p:cTn id="7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6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64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nodeType="clickEffect" fill="hold">
                      <p:stCondLst>
                        <p:cond delay="indefinite"/>
                      </p:stCondLst>
                      <p:childTnLst>
                        <p:par>
                          <p:cTn id="7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9" dur="500" fill="hold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7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74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nodeType="clickEffect" fill="hold">
                      <p:stCondLst>
                        <p:cond delay="indefinite"/>
                      </p:stCondLst>
                      <p:childTnLst>
                        <p:par>
                          <p:cTn id="7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8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84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nodeType="clickEffect" fill="hold">
                      <p:stCondLst>
                        <p:cond delay="indefinite"/>
                      </p:stCondLst>
                      <p:childTnLst>
                        <p:par>
                          <p:cTn id="7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0" dur="500" fill="hold"/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9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94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nodeType="clickEffect" fill="hold">
                      <p:stCondLst>
                        <p:cond delay="indefinite"/>
                      </p:stCondLst>
                      <p:childTnLst>
                        <p:par>
                          <p:cTn id="7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1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1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0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04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nodeType="clickEffect" fill="hold">
                      <p:stCondLst>
                        <p:cond delay="indefinite"/>
                      </p:stCondLst>
                      <p:childTnLst>
                        <p:par>
                          <p:cTn id="8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1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1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1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14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nodeType="clickEffect" fill="hold">
                      <p:stCondLst>
                        <p:cond delay="indefinite"/>
                      </p:stCondLst>
                      <p:childTnLst>
                        <p:par>
                          <p:cTn id="8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1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1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2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24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nodeType="clickEffect" fill="hold">
                      <p:stCondLst>
                        <p:cond delay="indefinite"/>
                      </p:stCondLst>
                      <p:childTnLst>
                        <p:par>
                          <p:cTn id="8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18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18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3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34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nodeType="clickEffect" fill="hold">
                      <p:stCondLst>
                        <p:cond delay="indefinite"/>
                      </p:stCondLst>
                      <p:childTnLst>
                        <p:par>
                          <p:cTn id="8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9" dur="500" fill="hold"/>
                                        <p:tgtEl>
                                          <p:spTgt spid="18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0" dur="500" fill="hold"/>
                                        <p:tgtEl>
                                          <p:spTgt spid="18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4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44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2" descr="Delaroche, Hemicycle_of_the_Ecole_des_Beaux-Arts_sm"/>
          <p:cNvPicPr/>
          <p:nvPr/>
        </p:nvPicPr>
        <p:blipFill>
          <a:blip r:embed="rId1"/>
          <a:stretch/>
        </p:blipFill>
        <p:spPr>
          <a:xfrm>
            <a:off x="4317840" y="1619280"/>
            <a:ext cx="3059280" cy="2084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еория культурно-исторических типов 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ложительные и отрицательные деятели истор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Положительные </a:t>
            </a:r>
            <a:br>
              <a:rPr sz="2000"/>
            </a:b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деятели истории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(самобытные цивилизации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Отрицательные </a:t>
            </a:r>
            <a:br>
              <a:rPr sz="2000"/>
            </a:b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деятели истории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(народы-разрушители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ароды, не достигшие исторической индивидуаль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5" descr="Глазунов, Битва - Временный перевес татар"/>
          <p:cNvPicPr/>
          <p:nvPr/>
        </p:nvPicPr>
        <p:blipFill>
          <a:blip r:embed="rId2"/>
          <a:stretch/>
        </p:blipFill>
        <p:spPr>
          <a:xfrm>
            <a:off x="4929120" y="3057480"/>
            <a:ext cx="3238560" cy="16048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202" name="Picture 6" descr="Parched Village Huts, Niger, Africa_sm"/>
          <p:cNvPicPr/>
          <p:nvPr/>
        </p:nvPicPr>
        <p:blipFill>
          <a:blip r:embed="rId3"/>
          <a:stretch/>
        </p:blipFill>
        <p:spPr>
          <a:xfrm>
            <a:off x="5757840" y="4030560"/>
            <a:ext cx="3059280" cy="24465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2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5" dur="indefinite" restart="never" nodeType="tmRoot">
          <p:childTnLst>
            <p:seq>
              <p:cTn id="846" dur="indefinite" nodeType="mainSeq">
                <p:childTnLst>
                  <p:par>
                    <p:cTn id="847" nodeType="clickEffect" fill="hold">
                      <p:stCondLst>
                        <p:cond delay="indefinite"/>
                      </p:stCondLst>
                      <p:childTnLst>
                        <p:par>
                          <p:cTn id="8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5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56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nodeType="clickEffect" fill="hold">
                      <p:stCondLst>
                        <p:cond delay="indefinite"/>
                      </p:stCondLst>
                      <p:childTnLst>
                        <p:par>
                          <p:cTn id="8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6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66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nodeType="clickEffect" fill="hold">
                      <p:stCondLst>
                        <p:cond delay="indefinite"/>
                      </p:stCondLst>
                      <p:childTnLst>
                        <p:par>
                          <p:cTn id="8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1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2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7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76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еория культурно-исторических типов 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Законы культурно-исторического движ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Языковое родство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как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критерий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основа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самобытного культурно-исторического тип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Политическая независимость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как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условие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развития самобытного культурно-исторического типа.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Начала цивилизации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одного культурно-исторического типа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не передаются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народам другого тип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Цивилизация достигает полноты развития,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когда составляющие её этнографические элементы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не поглощены одним политическим целым,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а составляют политическую систему государст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Развитие цивилизаций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подобно жизни многолетних одноплодных растений, у которых 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продолжительный период роста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сменяется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коротким (и никогда не повторяющимся) периодом расцве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7" dur="indefinite" restart="never" nodeType="tmRoot">
          <p:childTnLst>
            <p:seq>
              <p:cTn id="878" dur="indefinite" nodeType="mainSeq">
                <p:childTnLst>
                  <p:par>
                    <p:cTn id="879" nodeType="clickEffect" fill="hold">
                      <p:stCondLst>
                        <p:cond delay="indefinite"/>
                      </p:stCondLst>
                      <p:childTnLst>
                        <p:par>
                          <p:cTn id="8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3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4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nodeType="clickEffect" fill="hold">
                      <p:stCondLst>
                        <p:cond delay="indefinite"/>
                      </p:stCondLst>
                      <p:childTnLst>
                        <p:par>
                          <p:cTn id="8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9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0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nodeType="clickEffect" fill="hold">
                      <p:stCondLst>
                        <p:cond delay="indefinite"/>
                      </p:stCondLst>
                      <p:childTnLst>
                        <p:par>
                          <p:cTn id="8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nodeType="clickEffect" fill="hold">
                      <p:stCondLst>
                        <p:cond delay="indefinite"/>
                      </p:stCondLst>
                      <p:childTnLst>
                        <p:par>
                          <p:cTn id="8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1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nodeType="clickEffect" fill="hold">
                      <p:stCondLst>
                        <p:cond delay="indefinite"/>
                      </p:stCondLst>
                      <p:childTnLst>
                        <p:par>
                          <p:cTn id="9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8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96840" y="274320"/>
            <a:ext cx="8950320" cy="114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еория культурно-исторических типов 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«Одноосновные» и «многоосновные» цивилиз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83760" y="1600200"/>
            <a:ext cx="8373960" cy="47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Цилизации не бывают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«лучше»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или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«хуже»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– они просто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разны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Цивилизации различаются преимущественным развитием какой-то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одной стороны культуры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еврейская цивилизация – преимущественно религиозная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реческая – преимущественно эстетическая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имская – преимущественно политико-правова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Европейцы расширили область культурного творчества, создав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«двуосновную»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цивилизацию – научно-промышленну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рядущая славяно-русская цивилизация будет – впервые в истории – полной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«четырёхосновной»: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Россия призвана решить и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социально-экономический вопрос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, который в Европе остался неразрешённы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9" dur="indefinite" restart="never" nodeType="tmRoot">
          <p:childTnLst>
            <p:seq>
              <p:cTn id="910" dur="indefinite" nodeType="mainSeq">
                <p:childTnLst>
                  <p:par>
                    <p:cTn id="911" nodeType="clickEffect" fill="hold">
                      <p:stCondLst>
                        <p:cond delay="indefinite"/>
                      </p:stCondLst>
                      <p:childTnLst>
                        <p:par>
                          <p:cTn id="9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nodeType="clickEffect" fill="hold">
                      <p:stCondLst>
                        <p:cond delay="indefinite"/>
                      </p:stCondLst>
                      <p:childTnLst>
                        <p:par>
                          <p:cTn id="9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nodeType="clickEffect" fill="hold">
                      <p:stCondLst>
                        <p:cond delay="indefinite"/>
                      </p:stCondLst>
                      <p:childTnLst>
                        <p:par>
                          <p:cTn id="9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nodeType="clickEffect" fill="hold">
                      <p:stCondLst>
                        <p:cond delay="indefinite"/>
                      </p:stCondLst>
                      <p:childTnLst>
                        <p:par>
                          <p:cTn id="9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nodeType="clickEffect" fill="hold">
                      <p:stCondLst>
                        <p:cond delay="indefinite"/>
                      </p:stCondLst>
                      <p:childTnLst>
                        <p:par>
                          <p:cTn id="9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nodeType="clickEffect" fill="hold">
                      <p:stCondLst>
                        <p:cond delay="indefinite"/>
                      </p:stCondLst>
                      <p:childTnLst>
                        <p:par>
                          <p:cTn id="9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5" dur="500" fill="hold"/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6" dur="500" fill="hold"/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nodeType="clickEffect" fill="hold">
                      <p:stCondLst>
                        <p:cond delay="indefinite"/>
                      </p:stCondLst>
                      <p:childTnLst>
                        <p:par>
                          <p:cTn id="9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1" dur="500" fill="hold"/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2" dur="500" fill="hold"/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2" descr="Aligny_Claude_Felix_Theodore_Homer_And_The_Sheperds_sm"/>
          <p:cNvPicPr/>
          <p:nvPr/>
        </p:nvPicPr>
        <p:blipFill>
          <a:blip r:embed="rId1"/>
          <a:stretch/>
        </p:blipFill>
        <p:spPr>
          <a:xfrm>
            <a:off x="4497480" y="1619280"/>
            <a:ext cx="2501640" cy="28814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Философия культуры К. Н. Леонтьева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Фазы развития культу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275760" y="160020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се культуры подчинены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общему закону циклического развития,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согласно которому всё развивающееся проходит через три периода: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первичной простоты»,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цветущей сложности»,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вторичного смесительного упрощения»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5" descr="Brown_Ford_Madox_Work_sm"/>
          <p:cNvPicPr/>
          <p:nvPr/>
        </p:nvPicPr>
        <p:blipFill>
          <a:blip r:embed="rId2"/>
          <a:stretch/>
        </p:blipFill>
        <p:spPr>
          <a:xfrm>
            <a:off x="5289480" y="2878200"/>
            <a:ext cx="2879640" cy="20286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214" name="Picture 6" descr="Axentowics_Theodor_The_Omnibus_sm"/>
          <p:cNvPicPr/>
          <p:nvPr/>
        </p:nvPicPr>
        <p:blipFill>
          <a:blip r:embed="rId3"/>
          <a:stretch/>
        </p:blipFill>
        <p:spPr>
          <a:xfrm>
            <a:off x="6008760" y="4317840"/>
            <a:ext cx="2879640" cy="2219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2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3" dur="indefinite" restart="never" nodeType="tmRoot">
          <p:childTnLst>
            <p:seq>
              <p:cTn id="954" dur="indefinite" nodeType="mainSeq">
                <p:childTnLst>
                  <p:par>
                    <p:cTn id="955" nodeType="clickEffect" fill="hold">
                      <p:stCondLst>
                        <p:cond delay="indefinite"/>
                      </p:stCondLst>
                      <p:childTnLst>
                        <p:par>
                          <p:cTn id="9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9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0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nodeType="clickEffect" fill="hold">
                      <p:stCondLst>
                        <p:cond delay="indefinite"/>
                      </p:stCondLst>
                      <p:childTnLst>
                        <p:par>
                          <p:cTn id="9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5" dur="5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6" dur="5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6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70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nodeType="clickEffect" fill="hold">
                      <p:stCondLst>
                        <p:cond delay="indefinite"/>
                      </p:stCondLst>
                      <p:childTnLst>
                        <p:par>
                          <p:cTn id="9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5" dur="5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6" dur="5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7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80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nodeType="clickEffect" fill="hold">
                      <p:stCondLst>
                        <p:cond delay="indefinite"/>
                      </p:stCondLst>
                      <p:childTnLst>
                        <p:par>
                          <p:cTn id="9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5" dur="500" fill="hold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6" dur="500" fill="hold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8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90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нтология В. С. Соловьёва 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нятие всеедин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utoShape 3"/>
          <p:cNvSpPr/>
          <p:nvPr/>
        </p:nvSpPr>
        <p:spPr>
          <a:xfrm rot="10800000">
            <a:off x="358920" y="1798200"/>
            <a:ext cx="6478560" cy="467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остойное,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деальное бытие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требует  одинакового простора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ля целого и для частей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следовательно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это не ест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вобода от особенностей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 только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от их исключительности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лнота этой свободы требует, чтобы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се частные элементы находил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ебя друг в друге и в целом, каждо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лагало себя в другом и другое в себе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щущало в своей частности единств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целого и в целом свою частность, –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дним словом,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абсолютная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олидарность всего существующего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ог – всё во все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4"/>
          <p:cNvSpPr/>
          <p:nvPr/>
        </p:nvSpPr>
        <p:spPr>
          <a:xfrm>
            <a:off x="6840000" y="5397480"/>
            <a:ext cx="1966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. С. Соловьёв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Общий смысл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скусства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5" descr="Соловьев (2-3 - sel)"/>
          <p:cNvPicPr/>
          <p:nvPr/>
        </p:nvPicPr>
        <p:blipFill>
          <a:blip r:embed="rId1"/>
          <a:stretch/>
        </p:blipFill>
        <p:spPr>
          <a:xfrm>
            <a:off x="7197840" y="1798560"/>
            <a:ext cx="1485720" cy="2516400"/>
          </a:xfrm>
          <a:prstGeom prst="rect">
            <a:avLst/>
          </a:prstGeom>
          <a:ln w="0">
            <a:noFill/>
          </a:ln>
        </p:spPr>
      </p:pic>
      <p:sp>
        <p:nvSpPr>
          <p:cNvPr id="22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1" dur="indefinite" restart="never" nodeType="tmRoot">
          <p:childTnLst>
            <p:seq>
              <p:cTn id="992" dur="indefinite" nodeType="mainSeq">
                <p:childTnLst>
                  <p:par>
                    <p:cTn id="993" nodeType="clickEffect" fill="hold">
                      <p:stCondLst>
                        <p:cond delay="indefinite"/>
                      </p:stCondLst>
                      <p:childTnLst>
                        <p:par>
                          <p:cTn id="9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7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9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01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0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2" descr="crazy-mirrors"/>
          <p:cNvPicPr/>
          <p:nvPr/>
        </p:nvPicPr>
        <p:blipFill>
          <a:blip r:embed="rId1"/>
          <a:stretch/>
        </p:blipFill>
        <p:spPr>
          <a:xfrm>
            <a:off x="2133720" y="1619280"/>
            <a:ext cx="4876560" cy="48769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нтология В. С. Соловьёва 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нятие всеедин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7" dur="indefinite" restart="never" nodeType="tmRoot">
          <p:childTnLst>
            <p:seq>
              <p:cTn id="1008" dur="indefinite" nodeType="mainSeq">
                <p:childTnLst>
                  <p:par>
                    <p:cTn id="1009" nodeType="clickEffect" fill="hold">
                      <p:stCondLst>
                        <p:cond delay="indefinite"/>
                      </p:stCondLst>
                      <p:childTnLst>
                        <p:par>
                          <p:cTn id="10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1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нтология В. С. Соловьёва 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нятие всеедин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3"/>
          <p:cNvSpPr/>
          <p:nvPr/>
        </p:nvSpPr>
        <p:spPr>
          <a:xfrm>
            <a:off x="971640" y="1798560"/>
            <a:ext cx="7197480" cy="40309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Всеединство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есть категория онтологии, обозначающая</a:t>
            </a:r>
            <a:br>
              <a:rPr sz="2000"/>
            </a:b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принцип внутренней формы</a:t>
            </a:r>
            <a:br>
              <a:rPr sz="2000"/>
            </a:b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совершенного единства множества,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огласно которому все элементы такого множества</a:t>
            </a:r>
            <a:br>
              <a:rPr sz="2000"/>
            </a:b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тождественны между собой и тождественны целому,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о в то же время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е сливаются в неразличимое и сплошное единство,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 образуют особый полифонический строй,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трансрациональное единство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аздельности и взаимопроникнутости»,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ак сформулировал С. Л. Фран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4"/>
          <p:cNvSpPr/>
          <p:nvPr/>
        </p:nvSpPr>
        <p:spPr>
          <a:xfrm>
            <a:off x="6515640" y="6118200"/>
            <a:ext cx="17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. С. Хоруж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nodeType="clickEffect" fill="hold">
                      <p:stCondLst>
                        <p:cond delay="indefinite"/>
                      </p:stCondLst>
                      <p:childTnLst>
                        <p:par>
                          <p:cTn id="10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0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1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4" dur="10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5" dur="10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9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0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нтология В. С. Соловьёва 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нятие всеедин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4" descr="Pyramyd"/>
          <p:cNvPicPr/>
          <p:nvPr/>
        </p:nvPicPr>
        <p:blipFill>
          <a:blip r:embed="rId1"/>
          <a:stretch/>
        </p:blipFill>
        <p:spPr>
          <a:xfrm>
            <a:off x="4095720" y="294948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6" descr="pyr_big_red12"/>
          <p:cNvPicPr/>
          <p:nvPr/>
        </p:nvPicPr>
        <p:blipFill>
          <a:blip r:embed="rId2"/>
          <a:stretch/>
        </p:blipFill>
        <p:spPr>
          <a:xfrm>
            <a:off x="1644480" y="1619280"/>
            <a:ext cx="5855040" cy="48769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231" name="Picture 8" descr="koch_snowflake_red"/>
          <p:cNvPicPr/>
          <p:nvPr/>
        </p:nvPicPr>
        <p:blipFill>
          <a:blip r:embed="rId3"/>
          <a:stretch/>
        </p:blipFill>
        <p:spPr>
          <a:xfrm>
            <a:off x="1322280" y="1619280"/>
            <a:ext cx="6500880" cy="48769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23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1" dur="indefinite" restart="never" nodeType="tmRoot">
          <p:childTnLst>
            <p:seq>
              <p:cTn id="1032" dur="indefinite" nodeType="mainSeq">
                <p:childTnLst>
                  <p:par>
                    <p:cTn id="1033" nodeType="clickEffect" fill="hold">
                      <p:stCondLst>
                        <p:cond delay="indefinite"/>
                      </p:stCondLst>
                      <p:childTnLst>
                        <p:par>
                          <p:cTn id="10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4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nodeType="clickEffect" fill="hold">
                      <p:stCondLst>
                        <p:cond delay="indefinite"/>
                      </p:stCondLst>
                      <p:childTnLst>
                        <p:par>
                          <p:cTn id="10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48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 идеальном космосе, воплощающем полноту совершенства, нет места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процессу,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развитию, переходу от менее совершенного к более совершенному – всей исторической драм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«Загадкой для разума»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является отнюдь не идеальный, ясный космос, а наш мир, непонятный, нестройный и преходящ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днако этот мир предполагает мир идеальный как свою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норму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и критерий оценки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ы не находили бы его полным заблуждений, если бы не имели представления о сущей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истине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е считали бы его злым, если бы не носили в себе идею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добра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е чувствовали его безобразия, если бы были слепы к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красоте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скольку он носит в себе идеалы истины, добра и красоты,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человек оказывается посредствующим звеном между миром идеальным и земным.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сториософия В. С. Соловьёва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Богочеловеческий проце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9" dur="indefinite" restart="never" nodeType="tmRoot">
          <p:childTnLst>
            <p:seq>
              <p:cTn id="1050" dur="indefinite" nodeType="mainSeq">
                <p:childTnLst>
                  <p:par>
                    <p:cTn id="1051" nodeType="clickEffect" fill="hold">
                      <p:stCondLst>
                        <p:cond delay="indefinite"/>
                      </p:stCondLst>
                      <p:childTnLst>
                        <p:par>
                          <p:cTn id="10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5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6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7" nodeType="clickEffect" fill="hold">
                      <p:stCondLst>
                        <p:cond delay="indefinite"/>
                      </p:stCondLst>
                      <p:childTnLst>
                        <p:par>
                          <p:cTn id="10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1" dur="5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2" dur="5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nodeType="clickEffect" fill="hold">
                      <p:stCondLst>
                        <p:cond delay="indefinite"/>
                      </p:stCondLst>
                      <p:childTnLst>
                        <p:par>
                          <p:cTn id="10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7" dur="5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8" dur="5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nodeType="clickEffect" fill="hold">
                      <p:stCondLst>
                        <p:cond delay="indefinite"/>
                      </p:stCondLst>
                      <p:childTnLst>
                        <p:par>
                          <p:cTn id="10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3" dur="500" fill="hold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4" dur="500" fill="hold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nodeType="clickEffect" fill="hold">
                      <p:stCondLst>
                        <p:cond delay="indefinite"/>
                      </p:stCondLst>
                      <p:childTnLst>
                        <p:par>
                          <p:cTn id="10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9" dur="500" fill="hold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0" dur="500" fill="hold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" nodeType="clickEffect" fill="hold">
                      <p:stCondLst>
                        <p:cond delay="indefinite"/>
                      </p:stCondLst>
                      <p:childTnLst>
                        <p:par>
                          <p:cTn id="10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5" dur="500" fill="hold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6" dur="500" fill="hold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nodeType="clickEffect" fill="hold">
                      <p:stCondLst>
                        <p:cond delay="indefinite"/>
                      </p:stCondLst>
                      <p:childTnLst>
                        <p:par>
                          <p:cTn id="10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1" dur="500" fill="hold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2" dur="500" fill="hold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AutoShape 2"/>
          <p:cNvSpPr/>
          <p:nvPr/>
        </p:nvSpPr>
        <p:spPr>
          <a:xfrm>
            <a:off x="2949480" y="5425920"/>
            <a:ext cx="576360" cy="954360"/>
          </a:xfrm>
          <a:custGeom>
            <a:avLst/>
            <a:gdLst>
              <a:gd name="textAreaLeft" fmla="*/ 77040 w 576360"/>
              <a:gd name="textAreaRight" fmla="*/ 499320 w 576360"/>
              <a:gd name="textAreaTop" fmla="*/ 167040 h 954360"/>
              <a:gd name="textAreaBottom" fmla="*/ 691920 h 95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3"/>
          <p:cNvSpPr/>
          <p:nvPr/>
        </p:nvSpPr>
        <p:spPr>
          <a:xfrm>
            <a:off x="2122560" y="434664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4"/>
          <p:cNvSpPr/>
          <p:nvPr/>
        </p:nvSpPr>
        <p:spPr>
          <a:xfrm>
            <a:off x="1295280" y="326700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5"/>
          <p:cNvSpPr/>
          <p:nvPr/>
        </p:nvSpPr>
        <p:spPr>
          <a:xfrm>
            <a:off x="466560" y="218772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6"/>
          <p:cNvSpPr/>
          <p:nvPr/>
        </p:nvSpPr>
        <p:spPr>
          <a:xfrm>
            <a:off x="1042920" y="2446200"/>
            <a:ext cx="4749840" cy="1008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 идея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сторической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закономерност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ажется внутренне противоречивой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скольку история имеет свои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едметом человеческую деятельн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7"/>
          <p:cNvSpPr/>
          <p:nvPr/>
        </p:nvSpPr>
        <p:spPr>
          <a:xfrm>
            <a:off x="2698920" y="4605480"/>
            <a:ext cx="474948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 если человеческая деятельнос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подчиняется законам, историческо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знание не может принят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форму науки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ставаясь просто набором сведе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6840" y="274680"/>
            <a:ext cx="895032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Теоретические предпосылки социальной науки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облема исторической закономер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9"/>
          <p:cNvSpPr/>
          <p:nvPr/>
        </p:nvSpPr>
        <p:spPr>
          <a:xfrm>
            <a:off x="3525840" y="5684760"/>
            <a:ext cx="474984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трицание свободы воли (фатализм)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учность истории не спасает, так как с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устранением человеческой специфик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устраняется и самый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едмет истор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10"/>
          <p:cNvSpPr/>
          <p:nvPr/>
        </p:nvSpPr>
        <p:spPr>
          <a:xfrm>
            <a:off x="216000" y="1366920"/>
            <a:ext cx="474984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изнание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закономерности в природ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создаёт затруднений: объекты,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бладающие волей и сознанием, легк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ыслить подчинёнными закона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11"/>
          <p:cNvSpPr/>
          <p:nvPr/>
        </p:nvSpPr>
        <p:spPr>
          <a:xfrm>
            <a:off x="1870200" y="3525840"/>
            <a:ext cx="474984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аким образом деятельность, направ-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ляемая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олей и сознанием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может регу-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лироваться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законами, по определению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зависящими от воли и сознания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3"/>
          <p:cNvSpPr/>
          <p:nvPr/>
        </p:nvSpPr>
        <p:spPr>
          <a:xfrm>
            <a:off x="5937120" y="1366920"/>
            <a:ext cx="3059280" cy="17272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Закон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–</a:t>
            </a:r>
            <a:br>
              <a:rPr sz="18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бъективная, существенная,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необходимая, устойчивая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вязь между явлениями;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научное положение,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тображающее такую связ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4"/>
          <p:cNvSpPr/>
          <p:nvPr/>
        </p:nvSpPr>
        <p:spPr>
          <a:xfrm>
            <a:off x="108000" y="5037120"/>
            <a:ext cx="1942920" cy="17272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Объективное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–</a:t>
            </a:r>
            <a:br>
              <a:rPr sz="18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уществующее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независимо от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воли и сознания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убъекта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(индивида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75760" y="274320"/>
            <a:ext cx="8589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сториософия В. С. Соловьёва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сновные формы общечеловеческого организ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3"/>
          <p:cNvSpPr/>
          <p:nvPr/>
        </p:nvSpPr>
        <p:spPr>
          <a:xfrm>
            <a:off x="6629400" y="5105520"/>
            <a:ext cx="205740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Экономическое общество </a:t>
            </a:r>
            <a:r>
              <a:rPr b="1" lang="ru-RU" sz="1800" spc="-1" strike="noStrike">
                <a:solidFill>
                  <a:srgbClr val="00ff00"/>
                </a:solidFill>
                <a:latin typeface="Arial"/>
              </a:rPr>
              <a:t>(земство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4"/>
          <p:cNvSpPr/>
          <p:nvPr/>
        </p:nvSpPr>
        <p:spPr>
          <a:xfrm>
            <a:off x="4572000" y="5105520"/>
            <a:ext cx="205740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ложительная наука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5"/>
          <p:cNvSpPr/>
          <p:nvPr/>
        </p:nvSpPr>
        <p:spPr>
          <a:xfrm>
            <a:off x="2514600" y="5105520"/>
            <a:ext cx="205740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ехническое творчество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6"/>
          <p:cNvSpPr/>
          <p:nvPr/>
        </p:nvSpPr>
        <p:spPr>
          <a:xfrm>
            <a:off x="457200" y="5105520"/>
            <a:ext cx="205740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Материальная степен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7"/>
          <p:cNvSpPr/>
          <p:nvPr/>
        </p:nvSpPr>
        <p:spPr>
          <a:xfrm>
            <a:off x="6629400" y="3975120"/>
            <a:ext cx="205740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литическое общество </a:t>
            </a:r>
            <a:r>
              <a:rPr b="1" lang="ru-RU" sz="1800" spc="-1" strike="noStrike">
                <a:solidFill>
                  <a:srgbClr val="00ff00"/>
                </a:solidFill>
                <a:latin typeface="Arial"/>
              </a:rPr>
              <a:t>(государство)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8"/>
          <p:cNvSpPr/>
          <p:nvPr/>
        </p:nvSpPr>
        <p:spPr>
          <a:xfrm>
            <a:off x="4572000" y="3975120"/>
            <a:ext cx="205740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твлечённая философия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9"/>
          <p:cNvSpPr/>
          <p:nvPr/>
        </p:nvSpPr>
        <p:spPr>
          <a:xfrm>
            <a:off x="2514600" y="3975120"/>
            <a:ext cx="205740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зящное художество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10"/>
          <p:cNvSpPr/>
          <p:nvPr/>
        </p:nvSpPr>
        <p:spPr>
          <a:xfrm>
            <a:off x="457200" y="3975120"/>
            <a:ext cx="205740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Формальная степе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11"/>
          <p:cNvSpPr/>
          <p:nvPr/>
        </p:nvSpPr>
        <p:spPr>
          <a:xfrm>
            <a:off x="6629400" y="2843280"/>
            <a:ext cx="205740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уховное общество </a:t>
            </a:r>
            <a:r>
              <a:rPr b="1" lang="ru-RU" sz="1800" spc="-1" strike="noStrike">
                <a:solidFill>
                  <a:srgbClr val="00ff00"/>
                </a:solidFill>
                <a:latin typeface="Arial"/>
              </a:rPr>
              <a:t>(церковь)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12"/>
          <p:cNvSpPr/>
          <p:nvPr/>
        </p:nvSpPr>
        <p:spPr>
          <a:xfrm>
            <a:off x="4572000" y="2843280"/>
            <a:ext cx="205740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еолог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13"/>
          <p:cNvSpPr/>
          <p:nvPr/>
        </p:nvSpPr>
        <p:spPr>
          <a:xfrm>
            <a:off x="2514600" y="2843280"/>
            <a:ext cx="205740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ист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14"/>
          <p:cNvSpPr/>
          <p:nvPr/>
        </p:nvSpPr>
        <p:spPr>
          <a:xfrm>
            <a:off x="457200" y="2843280"/>
            <a:ext cx="205740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Абсолютная степе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15"/>
          <p:cNvSpPr/>
          <p:nvPr/>
        </p:nvSpPr>
        <p:spPr>
          <a:xfrm>
            <a:off x="6629400" y="1711440"/>
            <a:ext cx="205740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Сфера практической деятель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16"/>
          <p:cNvSpPr/>
          <p:nvPr/>
        </p:nvSpPr>
        <p:spPr>
          <a:xfrm>
            <a:off x="4572000" y="1711440"/>
            <a:ext cx="205740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Сфера </a:t>
            </a:r>
            <a:br>
              <a:rPr sz="2000"/>
            </a:b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зн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17"/>
          <p:cNvSpPr/>
          <p:nvPr/>
        </p:nvSpPr>
        <p:spPr>
          <a:xfrm>
            <a:off x="2514600" y="1711440"/>
            <a:ext cx="205740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Сфера творче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18"/>
          <p:cNvSpPr/>
          <p:nvPr/>
        </p:nvSpPr>
        <p:spPr>
          <a:xfrm>
            <a:off x="457200" y="1711440"/>
            <a:ext cx="205740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19"/>
          <p:cNvSpPr/>
          <p:nvPr/>
        </p:nvSpPr>
        <p:spPr>
          <a:xfrm>
            <a:off x="457200" y="1711440"/>
            <a:ext cx="82296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20"/>
          <p:cNvSpPr/>
          <p:nvPr/>
        </p:nvSpPr>
        <p:spPr>
          <a:xfrm>
            <a:off x="457200" y="2843280"/>
            <a:ext cx="822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21"/>
          <p:cNvSpPr/>
          <p:nvPr/>
        </p:nvSpPr>
        <p:spPr>
          <a:xfrm>
            <a:off x="457200" y="3975120"/>
            <a:ext cx="822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22"/>
          <p:cNvSpPr/>
          <p:nvPr/>
        </p:nvSpPr>
        <p:spPr>
          <a:xfrm>
            <a:off x="457200" y="5105520"/>
            <a:ext cx="822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23"/>
          <p:cNvSpPr/>
          <p:nvPr/>
        </p:nvSpPr>
        <p:spPr>
          <a:xfrm>
            <a:off x="457200" y="6237360"/>
            <a:ext cx="82296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24"/>
          <p:cNvSpPr/>
          <p:nvPr/>
        </p:nvSpPr>
        <p:spPr>
          <a:xfrm>
            <a:off x="457200" y="1711440"/>
            <a:ext cx="0" cy="45259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25"/>
          <p:cNvSpPr/>
          <p:nvPr/>
        </p:nvSpPr>
        <p:spPr>
          <a:xfrm>
            <a:off x="2514600" y="1711440"/>
            <a:ext cx="0" cy="4525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26"/>
          <p:cNvSpPr/>
          <p:nvPr/>
        </p:nvSpPr>
        <p:spPr>
          <a:xfrm>
            <a:off x="4572000" y="1711440"/>
            <a:ext cx="0" cy="4525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27"/>
          <p:cNvSpPr/>
          <p:nvPr/>
        </p:nvSpPr>
        <p:spPr>
          <a:xfrm>
            <a:off x="6629400" y="1711440"/>
            <a:ext cx="0" cy="4525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28"/>
          <p:cNvSpPr/>
          <p:nvPr/>
        </p:nvSpPr>
        <p:spPr>
          <a:xfrm>
            <a:off x="8686800" y="1711440"/>
            <a:ext cx="0" cy="45259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3" dur="indefinite" restart="never" nodeType="tmRoot">
          <p:childTnLst>
            <p:seq>
              <p:cTn id="1094" dur="indefinite" nodeType="mainSeq">
                <p:childTnLst>
                  <p:par>
                    <p:cTn id="1095" nodeType="clickEffect" fill="hold">
                      <p:stCondLst>
                        <p:cond delay="indefinite"/>
                      </p:stCondLst>
                      <p:childTnLst>
                        <p:par>
                          <p:cTn id="10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0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4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7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8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1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6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9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2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5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8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1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2" nodeType="clickEffect" fill="hold">
                      <p:stCondLst>
                        <p:cond delay="indefinite"/>
                      </p:stCondLst>
                      <p:childTnLst>
                        <p:par>
                          <p:cTn id="1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0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4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6" nodeType="clickEffect" fill="hold">
                      <p:stCondLst>
                        <p:cond delay="indefinite"/>
                      </p:stCondLst>
                      <p:childTnLst>
                        <p:par>
                          <p:cTn id="1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9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nodeType="clickEffect" fill="hold">
                      <p:stCondLst>
                        <p:cond delay="indefinite"/>
                      </p:stCondLst>
                      <p:childTnLst>
                        <p:par>
                          <p:cTn id="1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4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5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7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8" nodeType="clickEffect" fill="hold">
                      <p:stCondLst>
                        <p:cond delay="indefinite"/>
                      </p:stCondLst>
                      <p:childTnLst>
                        <p:par>
                          <p:cTn id="1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2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6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7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8" nodeType="clickEffect" fill="hold">
                      <p:stCondLst>
                        <p:cond delay="indefinite"/>
                      </p:stCondLst>
                      <p:childTnLst>
                        <p:par>
                          <p:cTn id="1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2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3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4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5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6" nodeType="clickEffect" fill="hold">
                      <p:stCondLst>
                        <p:cond delay="indefinite"/>
                      </p:stCondLst>
                      <p:childTnLst>
                        <p:par>
                          <p:cTn id="1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4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5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nodeType="clickEffect" fill="hold">
                      <p:stCondLst>
                        <p:cond delay="indefinite"/>
                      </p:stCondLst>
                      <p:childTnLst>
                        <p:par>
                          <p:cTn id="1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2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3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4" nodeType="clickEffect" fill="hold">
                      <p:stCondLst>
                        <p:cond delay="indefinite"/>
                      </p:stCondLst>
                      <p:childTnLst>
                        <p:par>
                          <p:cTn id="1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8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2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сториософия В. С. Соловьёва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азделение церквей и его последств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239760" y="1492200"/>
            <a:ext cx="8663040" cy="524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ложительный смысл истории заключается в свободном вхождении человечества в церковь и в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свободном оцерковлении человечест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о этот положительный смысл был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нарушен разделением церквей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(церковь может быть лишь вселенской), что привело к духовному оскудению отдельных церквей и отделению культуры светской от культуры духовной: культура стала безбожной, а церковь стала чуждаться культур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ледствиями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отрыва светской культуры от духовной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стал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трыв интеллектуального </a:t>
            </a:r>
            <a:r>
              <a:rPr b="1" lang="ru-RU" sz="1600" spc="-1" strike="noStrike">
                <a:solidFill>
                  <a:srgbClr val="00ffff"/>
                </a:solidFill>
                <a:latin typeface="Arial"/>
              </a:rPr>
              <a:t>просвещения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от абсолютных </a:t>
            </a:r>
            <a:r>
              <a:rPr b="1" lang="ru-RU" sz="1600" spc="-1" strike="noStrike">
                <a:solidFill>
                  <a:srgbClr val="00ffff"/>
                </a:solidFill>
                <a:latin typeface="Arial"/>
              </a:rPr>
              <a:t>оснований быти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трыв </a:t>
            </a:r>
            <a:r>
              <a:rPr b="1" lang="ru-RU" sz="1600" spc="-1" strike="noStrike">
                <a:solidFill>
                  <a:srgbClr val="00ffff"/>
                </a:solidFill>
                <a:latin typeface="Arial"/>
              </a:rPr>
              <a:t>свободы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от </a:t>
            </a:r>
            <a:r>
              <a:rPr b="1" lang="ru-RU" sz="1600" spc="-1" strike="noStrike">
                <a:solidFill>
                  <a:srgbClr val="00ffff"/>
                </a:solidFill>
                <a:latin typeface="Arial"/>
              </a:rPr>
              <a:t>истины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как её положительной цел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трыв </a:t>
            </a:r>
            <a:r>
              <a:rPr b="1" lang="ru-RU" sz="1600" spc="-1" strike="noStrike">
                <a:solidFill>
                  <a:srgbClr val="00ffff"/>
                </a:solidFill>
                <a:latin typeface="Arial"/>
              </a:rPr>
              <a:t>знания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от </a:t>
            </a:r>
            <a:r>
              <a:rPr b="1" lang="ru-RU" sz="1600" spc="-1" strike="noStrike">
                <a:solidFill>
                  <a:srgbClr val="00ffff"/>
                </a:solidFill>
                <a:latin typeface="Arial"/>
              </a:rPr>
              <a:t>жизн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разрыв между </a:t>
            </a:r>
            <a:r>
              <a:rPr b="1" lang="ru-RU" sz="1600" spc="-1" strike="noStrike">
                <a:solidFill>
                  <a:srgbClr val="00ffff"/>
                </a:solidFill>
                <a:latin typeface="Arial"/>
              </a:rPr>
              <a:t>Востоком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1" lang="ru-RU" sz="1600" spc="-1" strike="noStrike">
                <a:solidFill>
                  <a:srgbClr val="00ffff"/>
                </a:solidFill>
                <a:latin typeface="Arial"/>
              </a:rPr>
              <a:t>Западом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(«бесчеловечный Восток» и «безбожный Запад»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разрыв между </a:t>
            </a:r>
            <a:r>
              <a:rPr b="1" lang="ru-RU" sz="1600" spc="-1" strike="noStrike">
                <a:solidFill>
                  <a:srgbClr val="00ffff"/>
                </a:solidFill>
                <a:latin typeface="Arial"/>
              </a:rPr>
              <a:t>национальным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1" lang="ru-RU" sz="1600" spc="-1" strike="noStrike">
                <a:solidFill>
                  <a:srgbClr val="00ffff"/>
                </a:solidFill>
                <a:latin typeface="Arial"/>
              </a:rPr>
              <a:t>вселенским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разрыв между </a:t>
            </a:r>
            <a:r>
              <a:rPr b="1" lang="ru-RU" sz="1600" spc="-1" strike="noStrike">
                <a:solidFill>
                  <a:srgbClr val="00ffff"/>
                </a:solidFill>
                <a:latin typeface="Arial"/>
              </a:rPr>
              <a:t>классовым,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сословным и </a:t>
            </a:r>
            <a:r>
              <a:rPr b="1" lang="ru-RU" sz="1600" spc="-1" strike="noStrike">
                <a:solidFill>
                  <a:srgbClr val="00ffff"/>
                </a:solidFill>
                <a:latin typeface="Arial"/>
              </a:rPr>
              <a:t>общечеловечески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результате весь социальный прогресс последних веков обязан своим существованием почти исключительно неверующим;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историческая же церковь взяла сторону реакции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и тормозила этот прогресс, как только могла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4" dur="indefinite" restart="never" nodeType="tmRoot">
          <p:childTnLst>
            <p:seq>
              <p:cTn id="1215" dur="indefinite" nodeType="mainSeq">
                <p:childTnLst>
                  <p:par>
                    <p:cTn id="1216" nodeType="clickEffect" fill="hold">
                      <p:stCondLst>
                        <p:cond delay="indefinite"/>
                      </p:stCondLst>
                      <p:childTnLst>
                        <p:par>
                          <p:cTn id="1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0" dur="5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1" dur="5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2" nodeType="clickEffect" fill="hold">
                      <p:stCondLst>
                        <p:cond delay="indefinite"/>
                      </p:stCondLst>
                      <p:childTnLst>
                        <p:par>
                          <p:cTn id="1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6" dur="500" fill="hold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7" dur="500" fill="hold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8" nodeType="clickEffect" fill="hold">
                      <p:stCondLst>
                        <p:cond delay="indefinite"/>
                      </p:stCondLst>
                      <p:childTnLst>
                        <p:par>
                          <p:cTn id="1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2" dur="500" fill="hold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3" dur="500" fill="hold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4" nodeType="clickEffect" fill="hold">
                      <p:stCondLst>
                        <p:cond delay="indefinite"/>
                      </p:stCondLst>
                      <p:childTnLst>
                        <p:par>
                          <p:cTn id="1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8" dur="500" fill="hold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9" dur="500" fill="hold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0" nodeType="clickEffect" fill="hold">
                      <p:stCondLst>
                        <p:cond delay="indefinite"/>
                      </p:stCondLst>
                      <p:childTnLst>
                        <p:par>
                          <p:cTn id="1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4" dur="500" fill="hold"/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5" dur="500" fill="hold"/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6" nodeType="clickEffect" fill="hold">
                      <p:stCondLst>
                        <p:cond delay="indefinite"/>
                      </p:stCondLst>
                      <p:childTnLst>
                        <p:par>
                          <p:cTn id="1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0" dur="500" fill="hold"/>
                                        <p:tgtEl>
                                          <p:spTgt spid="2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1" dur="500" fill="hold"/>
                                        <p:tgtEl>
                                          <p:spTgt spid="2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2" nodeType="clickEffect" fill="hold">
                      <p:stCondLst>
                        <p:cond delay="indefinite"/>
                      </p:stCondLst>
                      <p:childTnLst>
                        <p:par>
                          <p:cTn id="1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6" dur="500" fill="hold"/>
                                        <p:tgtEl>
                                          <p:spTgt spid="2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7" dur="500" fill="hold"/>
                                        <p:tgtEl>
                                          <p:spTgt spid="2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8" nodeType="clickEffect" fill="hold">
                      <p:stCondLst>
                        <p:cond delay="indefinite"/>
                      </p:stCondLst>
                      <p:childTnLst>
                        <p:par>
                          <p:cTn id="1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2" dur="500" fill="hold"/>
                                        <p:tgtEl>
                                          <p:spTgt spid="2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3" dur="500" fill="hold"/>
                                        <p:tgtEl>
                                          <p:spTgt spid="2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4" nodeType="clickEffect" fill="hold">
                      <p:stCondLst>
                        <p:cond delay="indefinite"/>
                      </p:stCondLst>
                      <p:childTnLst>
                        <p:par>
                          <p:cTn id="1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8" dur="500" fill="hold"/>
                                        <p:tgtEl>
                                          <p:spTgt spid="2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9" dur="500" fill="hold"/>
                                        <p:tgtEl>
                                          <p:spTgt spid="2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0" nodeType="clickEffect" fill="hold">
                      <p:stCondLst>
                        <p:cond delay="indefinite"/>
                      </p:stCondLst>
                      <p:childTnLst>
                        <p:par>
                          <p:cTn id="1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4" dur="500" fill="hold"/>
                                        <p:tgtEl>
                                          <p:spTgt spid="2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5" dur="500" fill="hold"/>
                                        <p:tgtEl>
                                          <p:spTgt spid="2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сториософия В. С. Соловьёва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еократическая утоп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83760" y="1600200"/>
            <a:ext cx="8481960" cy="488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5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апад и Восток могут быть соединены лишь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третьей силой,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вободной от их крайностей. Такой силой должна стать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Россия.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5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оссия обязана своим величием «силе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самоотречения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русского народа»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5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лавянские племена не побоялись призвать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чужую власть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 – варягов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5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инять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чужую веру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– византийское православие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5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сознать собственную отсталость и приобщиться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чужой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западной –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культуре.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5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еперь от России требуется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четвёртый акт самоотречения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признание главенства римского папы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во имя восстановления единства церкв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5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Союз римского папы и русского царя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должен стать институциональной гарантией «богочеловеческого процесса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6" dur="indefinite" restart="never" nodeType="tmRoot">
          <p:childTnLst>
            <p:seq>
              <p:cTn id="1277" dur="indefinite" nodeType="mainSeq">
                <p:childTnLst>
                  <p:par>
                    <p:cTn id="1278" nodeType="clickEffect" fill="hold">
                      <p:stCondLst>
                        <p:cond delay="indefinite"/>
                      </p:stCondLst>
                      <p:childTnLst>
                        <p:par>
                          <p:cTn id="1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2" dur="5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3" dur="5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4" nodeType="clickEffect" fill="hold">
                      <p:stCondLst>
                        <p:cond delay="indefinite"/>
                      </p:stCondLst>
                      <p:childTnLst>
                        <p:par>
                          <p:cTn id="1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8" dur="500" fill="hold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9" dur="500" fill="hold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0" nodeType="clickEffect" fill="hold">
                      <p:stCondLst>
                        <p:cond delay="indefinite"/>
                      </p:stCondLst>
                      <p:childTnLst>
                        <p:par>
                          <p:cTn id="1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4" dur="500" fill="hold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5" dur="500" fill="hold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6" nodeType="clickEffect" fill="hold">
                      <p:stCondLst>
                        <p:cond delay="indefinite"/>
                      </p:stCondLst>
                      <p:childTnLst>
                        <p:par>
                          <p:cTn id="1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0" dur="500" fill="hold"/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1" dur="500" fill="hold"/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2" nodeType="clickEffect" fill="hold">
                      <p:stCondLst>
                        <p:cond delay="indefinite"/>
                      </p:stCondLst>
                      <p:childTnLst>
                        <p:par>
                          <p:cTn id="1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6" dur="500" fill="hold"/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7" dur="500" fill="hold"/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8" nodeType="clickEffect" fill="hold">
                      <p:stCondLst>
                        <p:cond delay="indefinite"/>
                      </p:stCondLst>
                      <p:childTnLst>
                        <p:par>
                          <p:cTn id="1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2" dur="500" fill="hold"/>
                                        <p:tgtEl>
                                          <p:spTgt spid="2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3" dur="500" fill="hold"/>
                                        <p:tgtEl>
                                          <p:spTgt spid="2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4" nodeType="clickEffect" fill="hold">
                      <p:stCondLst>
                        <p:cond delay="indefinite"/>
                      </p:stCondLst>
                      <p:childTnLst>
                        <p:par>
                          <p:cTn id="1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8" dur="500" fill="hold"/>
                                        <p:tgtEl>
                                          <p:spTgt spid="2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9" dur="500" fill="hold"/>
                                        <p:tgtEl>
                                          <p:spTgt spid="2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Концепция всеединства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в русской социальной философии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XX </a:t>
            </a: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ве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4" descr="Трубецкой С (1)"/>
          <p:cNvPicPr/>
          <p:nvPr/>
        </p:nvPicPr>
        <p:blipFill>
          <a:blip r:embed="rId1"/>
          <a:stretch/>
        </p:blipFill>
        <p:spPr>
          <a:xfrm>
            <a:off x="358920" y="1798560"/>
            <a:ext cx="1662120" cy="19796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272" name="Text Box 6"/>
          <p:cNvSpPr/>
          <p:nvPr/>
        </p:nvSpPr>
        <p:spPr>
          <a:xfrm>
            <a:off x="2230560" y="1798560"/>
            <a:ext cx="2232000" cy="6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. Трубецкой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62-19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Picture 8" descr="Франк СЛ (3bw)"/>
          <p:cNvPicPr/>
          <p:nvPr/>
        </p:nvPicPr>
        <p:blipFill>
          <a:blip r:embed="rId2"/>
          <a:stretch/>
        </p:blipFill>
        <p:spPr>
          <a:xfrm>
            <a:off x="539640" y="4317840"/>
            <a:ext cx="1320840" cy="19828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274" name="Text Box 9"/>
          <p:cNvSpPr/>
          <p:nvPr/>
        </p:nvSpPr>
        <p:spPr>
          <a:xfrm>
            <a:off x="2230560" y="4317840"/>
            <a:ext cx="2232000" cy="6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Л. Франк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77‑195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Picture 10" descr="Карсавин (1-1)"/>
          <p:cNvPicPr/>
          <p:nvPr/>
        </p:nvPicPr>
        <p:blipFill>
          <a:blip r:embed="rId3"/>
          <a:stretch/>
        </p:blipFill>
        <p:spPr>
          <a:xfrm>
            <a:off x="7377120" y="4317840"/>
            <a:ext cx="1317600" cy="19828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276" name="Text Box 11"/>
          <p:cNvSpPr/>
          <p:nvPr/>
        </p:nvSpPr>
        <p:spPr>
          <a:xfrm>
            <a:off x="4786200" y="1798560"/>
            <a:ext cx="2232000" cy="6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. Лосский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70-196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Picture 12" descr="Лосский (1-3)"/>
          <p:cNvPicPr/>
          <p:nvPr/>
        </p:nvPicPr>
        <p:blipFill>
          <a:blip r:embed="rId4"/>
          <a:stretch/>
        </p:blipFill>
        <p:spPr>
          <a:xfrm>
            <a:off x="7269120" y="1798560"/>
            <a:ext cx="1496880" cy="19782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278" name="Text Box 13"/>
          <p:cNvSpPr/>
          <p:nvPr/>
        </p:nvSpPr>
        <p:spPr>
          <a:xfrm>
            <a:off x="4786200" y="4317840"/>
            <a:ext cx="2232000" cy="6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Л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. Карсавин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82-195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14"/>
          <p:cNvSpPr/>
          <p:nvPr/>
        </p:nvSpPr>
        <p:spPr>
          <a:xfrm>
            <a:off x="4786200" y="5289480"/>
            <a:ext cx="2232000" cy="1008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онцепция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симфонической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личност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15"/>
          <p:cNvSpPr/>
          <p:nvPr/>
        </p:nvSpPr>
        <p:spPr>
          <a:xfrm>
            <a:off x="4786200" y="2770200"/>
            <a:ext cx="2232000" cy="1008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еория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ерархическог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ерсонализ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16"/>
          <p:cNvSpPr/>
          <p:nvPr/>
        </p:nvSpPr>
        <p:spPr>
          <a:xfrm>
            <a:off x="2230560" y="5289480"/>
            <a:ext cx="2232000" cy="1008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борность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ак основа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циаль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17"/>
          <p:cNvSpPr/>
          <p:nvPr/>
        </p:nvSpPr>
        <p:spPr>
          <a:xfrm>
            <a:off x="2230560" y="2770200"/>
            <a:ext cx="2232000" cy="1008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чени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 соборности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зн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0" dur="indefinite" restart="never" nodeType="tmRoot">
          <p:childTnLst>
            <p:seq>
              <p:cTn id="1321" dur="indefinite" nodeType="mainSeq">
                <p:childTnLst>
                  <p:par>
                    <p:cTn id="1322" nodeType="clickEffect" fill="hold">
                      <p:stCondLst>
                        <p:cond delay="indefinite"/>
                      </p:stCondLst>
                      <p:childTnLst>
                        <p:par>
                          <p:cTn id="1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26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0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1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3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5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7" nodeType="clickEffect" fill="hold">
                      <p:stCondLst>
                        <p:cond delay="indefinite"/>
                      </p:stCondLst>
                      <p:childTnLst>
                        <p:par>
                          <p:cTn id="1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4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5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6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4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0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1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2" nodeType="clickEffect" fill="hold">
                      <p:stCondLst>
                        <p:cond delay="indefinite"/>
                      </p:stCondLst>
                      <p:childTnLst>
                        <p:par>
                          <p:cTn id="1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56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5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0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1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6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5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6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nodeType="clickEffect" fill="hold">
                      <p:stCondLst>
                        <p:cond delay="indefinite"/>
                      </p:stCondLst>
                      <p:childTnLst>
                        <p:par>
                          <p:cTn id="1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71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7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0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1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AutoShape 2"/>
          <p:cNvSpPr/>
          <p:nvPr/>
        </p:nvSpPr>
        <p:spPr>
          <a:xfrm>
            <a:off x="2193840" y="5002200"/>
            <a:ext cx="647640" cy="1224000"/>
          </a:xfrm>
          <a:custGeom>
            <a:avLst/>
            <a:gdLst>
              <a:gd name="textAreaLeft" fmla="*/ 86760 w 647640"/>
              <a:gd name="textAreaRight" fmla="*/ 560880 w 64764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AutoShape 3"/>
          <p:cNvSpPr/>
          <p:nvPr/>
        </p:nvSpPr>
        <p:spPr>
          <a:xfrm>
            <a:off x="1330200" y="3706920"/>
            <a:ext cx="648000" cy="1224000"/>
          </a:xfrm>
          <a:custGeom>
            <a:avLst/>
            <a:gdLst>
              <a:gd name="textAreaLeft" fmla="*/ 86760 w 648000"/>
              <a:gd name="textAreaRight" fmla="*/ 561240 w 64800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AutoShape 4"/>
          <p:cNvSpPr/>
          <p:nvPr/>
        </p:nvSpPr>
        <p:spPr>
          <a:xfrm>
            <a:off x="431640" y="2409840"/>
            <a:ext cx="648000" cy="1224000"/>
          </a:xfrm>
          <a:custGeom>
            <a:avLst/>
            <a:gdLst>
              <a:gd name="textAreaLeft" fmla="*/ 86760 w 648000"/>
              <a:gd name="textAreaRight" fmla="*/ 561240 w 64800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AutoShape 5"/>
          <p:cNvSpPr/>
          <p:nvPr/>
        </p:nvSpPr>
        <p:spPr>
          <a:xfrm>
            <a:off x="216000" y="151128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Внешняя сфера социальности («общественности») 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основывается на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«соборности»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 – первично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солидарной слитности индивидуальных “я” 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во всеобъемлющем “мы”.</a:t>
            </a:r>
            <a:r>
              <a:rPr b="0" lang="ru-RU" sz="18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AutoShape 6"/>
          <p:cNvSpPr/>
          <p:nvPr/>
        </p:nvSpPr>
        <p:spPr>
          <a:xfrm>
            <a:off x="1079640" y="280656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ы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 не есть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просто множественное число от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я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”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(в своём основном и первичном смысле 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“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я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”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вообще не может иметь множественного числа) – 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ы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есть единство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я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и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ты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(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ы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AutoShape 7"/>
          <p:cNvSpPr/>
          <p:nvPr/>
        </p:nvSpPr>
        <p:spPr>
          <a:xfrm>
            <a:off x="1978200" y="410220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“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Мы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”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 есть, следовательно, некая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ервичная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атегория социального бытия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 (столь же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первичная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как и 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“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я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”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), в которой преодолевается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вечная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противопоставленность 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“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я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”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 и 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“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ты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”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AutoShape 8"/>
          <p:cNvSpPr/>
          <p:nvPr/>
        </p:nvSpPr>
        <p:spPr>
          <a:xfrm>
            <a:off x="2841480" y="539748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Соборное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“мы”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 есть непосредственное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отражение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сеединства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 в социальной жизн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оциальная философия С. Л. Франк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оборность как основа социаль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Picture 10" descr="Франк СЛ (3)"/>
          <p:cNvPicPr/>
          <p:nvPr/>
        </p:nvPicPr>
        <p:blipFill>
          <a:blip r:embed="rId1"/>
          <a:stretch/>
        </p:blipFill>
        <p:spPr>
          <a:xfrm>
            <a:off x="7629480" y="1438200"/>
            <a:ext cx="1122480" cy="1871640"/>
          </a:xfrm>
          <a:prstGeom prst="rect">
            <a:avLst/>
          </a:prstGeom>
          <a:ln w="0">
            <a:noFill/>
          </a:ln>
        </p:spPr>
      </p:pic>
      <p:sp>
        <p:nvSpPr>
          <p:cNvPr id="293" name="Text Box 11"/>
          <p:cNvSpPr/>
          <p:nvPr/>
        </p:nvSpPr>
        <p:spPr>
          <a:xfrm>
            <a:off x="1440" y="5649840"/>
            <a:ext cx="291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Мы» – не имя класса,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элементами которого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являются многие «я»,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 конкретная общн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2" dur="indefinite" restart="never" nodeType="tmRoot">
          <p:childTnLst>
            <p:seq>
              <p:cTn id="1383" dur="indefinite" nodeType="mainSeq">
                <p:childTnLst>
                  <p:par>
                    <p:cTn id="1384" nodeType="clickEffect" fill="hold">
                      <p:stCondLst>
                        <p:cond delay="indefinite"/>
                      </p:stCondLst>
                      <p:childTnLst>
                        <p:par>
                          <p:cTn id="1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8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9" nodeType="clickEffect" fill="hold">
                      <p:stCondLst>
                        <p:cond delay="indefinite"/>
                      </p:stCondLst>
                      <p:childTnLst>
                        <p:par>
                          <p:cTn id="1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3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8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9" nodeType="clickEffect" fill="hold">
                      <p:stCondLst>
                        <p:cond delay="indefinite"/>
                      </p:stCondLst>
                      <p:childTnLst>
                        <p:par>
                          <p:cTn id="1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03" dur="80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04" dur="80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05" dur="80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6" nodeType="clickEffect" fill="hold">
                      <p:stCondLst>
                        <p:cond delay="indefinite"/>
                      </p:stCondLst>
                      <p:childTnLst>
                        <p:par>
                          <p:cTn id="1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0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1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5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6" nodeType="clickEffect" fill="hold">
                      <p:stCondLst>
                        <p:cond delay="indefinite"/>
                      </p:stCondLst>
                      <p:childTnLst>
                        <p:par>
                          <p:cTn id="1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8" nodeType="click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419" dur="2000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2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4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5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4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9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Философия истории Л. П. Карсавин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онцепция «симфонической личност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Oval 4"/>
          <p:cNvSpPr/>
          <p:nvPr/>
        </p:nvSpPr>
        <p:spPr>
          <a:xfrm>
            <a:off x="3957480" y="1906560"/>
            <a:ext cx="4318200" cy="4318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Oval 5"/>
          <p:cNvSpPr/>
          <p:nvPr/>
        </p:nvSpPr>
        <p:spPr>
          <a:xfrm>
            <a:off x="4173480" y="3346560"/>
            <a:ext cx="2519280" cy="251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Oval 11"/>
          <p:cNvSpPr/>
          <p:nvPr/>
        </p:nvSpPr>
        <p:spPr>
          <a:xfrm>
            <a:off x="5540400" y="3346560"/>
            <a:ext cx="2519280" cy="251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Oval 12"/>
          <p:cNvSpPr/>
          <p:nvPr/>
        </p:nvSpPr>
        <p:spPr>
          <a:xfrm>
            <a:off x="4856040" y="1943280"/>
            <a:ext cx="2519640" cy="251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Oval 7"/>
          <p:cNvSpPr/>
          <p:nvPr/>
        </p:nvSpPr>
        <p:spPr>
          <a:xfrm>
            <a:off x="5000760" y="2770200"/>
            <a:ext cx="1439640" cy="1440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Oval 6"/>
          <p:cNvSpPr/>
          <p:nvPr/>
        </p:nvSpPr>
        <p:spPr>
          <a:xfrm>
            <a:off x="5792760" y="2770200"/>
            <a:ext cx="1440000" cy="1440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Oval 10"/>
          <p:cNvSpPr/>
          <p:nvPr/>
        </p:nvSpPr>
        <p:spPr>
          <a:xfrm>
            <a:off x="5397480" y="1978200"/>
            <a:ext cx="1440000" cy="1439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Oval 9"/>
          <p:cNvSpPr/>
          <p:nvPr/>
        </p:nvSpPr>
        <p:spPr>
          <a:xfrm>
            <a:off x="5470560" y="2409840"/>
            <a:ext cx="863640" cy="863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Oval 8"/>
          <p:cNvSpPr/>
          <p:nvPr/>
        </p:nvSpPr>
        <p:spPr>
          <a:xfrm>
            <a:off x="5902200" y="2409840"/>
            <a:ext cx="863640" cy="863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Oval 13"/>
          <p:cNvSpPr/>
          <p:nvPr/>
        </p:nvSpPr>
        <p:spPr>
          <a:xfrm>
            <a:off x="5686560" y="2014560"/>
            <a:ext cx="863640" cy="863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Oval 14"/>
          <p:cNvSpPr/>
          <p:nvPr/>
        </p:nvSpPr>
        <p:spPr>
          <a:xfrm>
            <a:off x="5756400" y="2301840"/>
            <a:ext cx="468360" cy="468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Oval 15"/>
          <p:cNvSpPr/>
          <p:nvPr/>
        </p:nvSpPr>
        <p:spPr>
          <a:xfrm>
            <a:off x="6008760" y="2301840"/>
            <a:ext cx="468360" cy="468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Oval 16"/>
          <p:cNvSpPr/>
          <p:nvPr/>
        </p:nvSpPr>
        <p:spPr>
          <a:xfrm>
            <a:off x="5865840" y="2050920"/>
            <a:ext cx="468360" cy="468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Oval 17"/>
          <p:cNvSpPr/>
          <p:nvPr/>
        </p:nvSpPr>
        <p:spPr>
          <a:xfrm>
            <a:off x="5902200" y="2193840"/>
            <a:ext cx="252360" cy="252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Oval 18"/>
          <p:cNvSpPr/>
          <p:nvPr/>
        </p:nvSpPr>
        <p:spPr>
          <a:xfrm>
            <a:off x="6043680" y="2193840"/>
            <a:ext cx="252360" cy="252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Oval 19"/>
          <p:cNvSpPr/>
          <p:nvPr/>
        </p:nvSpPr>
        <p:spPr>
          <a:xfrm>
            <a:off x="5973840" y="2068560"/>
            <a:ext cx="252360" cy="252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20"/>
          <p:cNvSpPr/>
          <p:nvPr/>
        </p:nvSpPr>
        <p:spPr>
          <a:xfrm>
            <a:off x="359640" y="1978200"/>
            <a:ext cx="3061080" cy="25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Человечест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ульту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аро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ослов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о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емь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22"/>
          <p:cNvSpPr/>
          <p:nvPr/>
        </p:nvSpPr>
        <p:spPr>
          <a:xfrm>
            <a:off x="509040" y="4786200"/>
            <a:ext cx="3082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циальные эфемери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ериодические лич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стоянные лич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23"/>
          <p:cNvSpPr/>
          <p:nvPr/>
        </p:nvSpPr>
        <p:spPr>
          <a:xfrm>
            <a:off x="507600" y="5865840"/>
            <a:ext cx="332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амодовлеющие лич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ункциональные лич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0" dur="indefinite" restart="never" nodeType="tmRoot">
          <p:childTnLst>
            <p:seq>
              <p:cTn id="1431" dur="indefinite" nodeType="mainSeq">
                <p:childTnLst>
                  <p:par>
                    <p:cTn id="1432" nodeType="clickEffect" fill="hold">
                      <p:stCondLst>
                        <p:cond delay="indefinite"/>
                      </p:stCondLst>
                      <p:childTnLst>
                        <p:par>
                          <p:cTn id="1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6" dur="500" fill="hold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7" dur="500" fill="hold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3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41" dur="2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2" nodeType="clickEffect" fill="hold">
                      <p:stCondLst>
                        <p:cond delay="indefinite"/>
                      </p:stCondLst>
                      <p:childTnLst>
                        <p:par>
                          <p:cTn id="1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6" dur="500" fill="hold"/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7" dur="500" fill="hold"/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4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51" dur="2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45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55" dur="2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45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59" dur="2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0" nodeType="clickEffect" fill="hold">
                      <p:stCondLst>
                        <p:cond delay="indefinite"/>
                      </p:stCondLst>
                      <p:childTnLst>
                        <p:par>
                          <p:cTn id="1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4" dur="500" fill="hold"/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5" dur="500" fill="hold"/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6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69" dur="2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47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73" dur="2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4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47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77" dur="2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8" nodeType="clickEffect" fill="hold">
                      <p:stCondLst>
                        <p:cond delay="indefinite"/>
                      </p:stCondLst>
                      <p:childTnLst>
                        <p:par>
                          <p:cTn id="1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2" dur="500" fill="hold"/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3" dur="500" fill="hold"/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8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87" dur="2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48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91" dur="2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2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49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95" dur="2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6" nodeType="clickEffect" fill="hold">
                      <p:stCondLst>
                        <p:cond delay="indefinite"/>
                      </p:stCondLst>
                      <p:childTnLst>
                        <p:par>
                          <p:cTn id="1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0" dur="500" fill="hold"/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1" dur="500" fill="hold"/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0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05" dur="2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0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09" dur="2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51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13" dur="2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4" nodeType="clickEffect" fill="hold">
                      <p:stCondLst>
                        <p:cond delay="indefinite"/>
                      </p:stCondLst>
                      <p:childTnLst>
                        <p:par>
                          <p:cTn id="1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8" dur="500" fill="hold"/>
                                        <p:tgtEl>
                                          <p:spTgt spid="3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9" dur="500" fill="hold"/>
                                        <p:tgtEl>
                                          <p:spTgt spid="3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23" dur="2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2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27" dur="2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52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31" dur="2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2" nodeType="clickEffect" fill="hold">
                      <p:stCondLst>
                        <p:cond delay="indefinite"/>
                      </p:stCondLst>
                      <p:childTnLst>
                        <p:par>
                          <p:cTn id="1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6" dur="500" fill="hold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7" dur="500" fill="hold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8" nodeType="clickEffect" fill="hold">
                      <p:stCondLst>
                        <p:cond delay="indefinite"/>
                      </p:stCondLst>
                      <p:childTnLst>
                        <p:par>
                          <p:cTn id="1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2" dur="500" fill="hold"/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3" dur="500" fill="hold"/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4" nodeType="clickEffect" fill="hold">
                      <p:stCondLst>
                        <p:cond delay="indefinite"/>
                      </p:stCondLst>
                      <p:childTnLst>
                        <p:par>
                          <p:cTn id="1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8" dur="500" fill="hold"/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9" dur="500" fill="hold"/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0" nodeType="clickEffect" fill="hold">
                      <p:stCondLst>
                        <p:cond delay="indefinite"/>
                      </p:stCondLst>
                      <p:childTnLst>
                        <p:par>
                          <p:cTn id="1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4" dur="500" fill="hold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5" dur="500" fill="hold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6" nodeType="clickEffect" fill="hold">
                      <p:stCondLst>
                        <p:cond delay="indefinite"/>
                      </p:stCondLst>
                      <p:childTnLst>
                        <p:par>
                          <p:cTn id="1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0" dur="500" fill="hold"/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1" dur="500" fill="hold"/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AutoShape 2"/>
          <p:cNvSpPr/>
          <p:nvPr/>
        </p:nvSpPr>
        <p:spPr>
          <a:xfrm>
            <a:off x="2139840" y="4551480"/>
            <a:ext cx="925560" cy="1531800"/>
          </a:xfrm>
          <a:custGeom>
            <a:avLst/>
            <a:gdLst>
              <a:gd name="textAreaLeft" fmla="*/ 123840 w 925560"/>
              <a:gd name="textAreaRight" fmla="*/ 801720 w 925560"/>
              <a:gd name="textAreaTop" fmla="*/ 267840 h 1531800"/>
              <a:gd name="textAreaBottom" fmla="*/ 1110600 h 1531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AutoShape 3"/>
          <p:cNvSpPr/>
          <p:nvPr/>
        </p:nvSpPr>
        <p:spPr>
          <a:xfrm>
            <a:off x="880920" y="2824200"/>
            <a:ext cx="925560" cy="1531800"/>
          </a:xfrm>
          <a:custGeom>
            <a:avLst/>
            <a:gdLst>
              <a:gd name="textAreaLeft" fmla="*/ 123840 w 925560"/>
              <a:gd name="textAreaRight" fmla="*/ 801720 w 925560"/>
              <a:gd name="textAreaTop" fmla="*/ 267840 h 1531800"/>
              <a:gd name="textAreaBottom" fmla="*/ 1110600 h 1531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96840" y="274320"/>
            <a:ext cx="8950320" cy="114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Политическая философия русского марксизма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т «класса в себе» к «классу для себя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AutoShape 5"/>
          <p:cNvSpPr/>
          <p:nvPr/>
        </p:nvSpPr>
        <p:spPr>
          <a:xfrm>
            <a:off x="539640" y="1511280"/>
            <a:ext cx="5507280" cy="1619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Рабочий класс сам по себе способен 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выработать лиш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тред-юнионистское 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ознание;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 т.е. он способен вести 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классовую борьбу лиш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 рамках 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апитализма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 – за улучшение 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условий труда и т.п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AutoShape 6"/>
          <p:cNvSpPr/>
          <p:nvPr/>
        </p:nvSpPr>
        <p:spPr>
          <a:xfrm>
            <a:off x="1798560" y="3238560"/>
            <a:ext cx="5507280" cy="1619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Выйти за эти рамки, начать борьбу за 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уничтожение самого капиталистического 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строя, т.е. выполнить свою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сторическую 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иссию «могильщика капитализма»,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 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рабочий класс может лишь при условии, 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что он станет действовать как единое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организованное цело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AutoShape 7"/>
          <p:cNvSpPr/>
          <p:nvPr/>
        </p:nvSpPr>
        <p:spPr>
          <a:xfrm>
            <a:off x="3057480" y="4965840"/>
            <a:ext cx="5506920" cy="1619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Организовать и повести его на борьбу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может лишь 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«революционный авангард»,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 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основу которого составляет 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революционная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нтеллигенция, 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владеющая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аучной теорией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 исторического 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развития и классовой борьб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Oval 8"/>
          <p:cNvSpPr/>
          <p:nvPr/>
        </p:nvSpPr>
        <p:spPr>
          <a:xfrm>
            <a:off x="7124760" y="1511280"/>
            <a:ext cx="1619280" cy="161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«Класс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 себе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Oval 9"/>
          <p:cNvSpPr/>
          <p:nvPr/>
        </p:nvSpPr>
        <p:spPr>
          <a:xfrm>
            <a:off x="358920" y="4965840"/>
            <a:ext cx="1619280" cy="161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«Класс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ля себя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2" dur="indefinite" restart="never" nodeType="tmRoot">
          <p:childTnLst>
            <p:seq>
              <p:cTn id="1563" dur="indefinite" nodeType="mainSeq">
                <p:childTnLst>
                  <p:par>
                    <p:cTn id="1564" nodeType="clickEffect" fill="hold">
                      <p:stCondLst>
                        <p:cond delay="indefinite"/>
                      </p:stCondLst>
                      <p:childTnLst>
                        <p:par>
                          <p:cTn id="1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8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70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2" dur="5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3" dur="5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4" nodeType="clickEffect" fill="hold">
                      <p:stCondLst>
                        <p:cond delay="indefinite"/>
                      </p:stCondLst>
                      <p:childTnLst>
                        <p:par>
                          <p:cTn id="1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8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9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3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8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7" dur="5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8" dur="5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9" nodeType="clickEffect" fill="hold">
                      <p:stCondLst>
                        <p:cond delay="indefinite"/>
                      </p:stCondLst>
                      <p:childTnLst>
                        <p:par>
                          <p:cTn id="1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3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4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8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2"/>
          <p:cNvSpPr/>
          <p:nvPr/>
        </p:nvSpPr>
        <p:spPr>
          <a:xfrm>
            <a:off x="1979640" y="1438200"/>
            <a:ext cx="50385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Вопросы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Picture 3" descr="Gozzoli, Averroes"/>
          <p:cNvPicPr/>
          <p:nvPr/>
        </p:nvPicPr>
        <p:blipFill>
          <a:blip r:embed="rId1"/>
          <a:stretch/>
        </p:blipFill>
        <p:spPr>
          <a:xfrm>
            <a:off x="2158920" y="3598920"/>
            <a:ext cx="4822920" cy="1430280"/>
          </a:xfrm>
          <a:prstGeom prst="rect">
            <a:avLst/>
          </a:prstGeom>
          <a:ln w="0">
            <a:noFill/>
          </a:ln>
        </p:spPr>
      </p:pic>
      <p:sp>
        <p:nvSpPr>
          <p:cNvPr id="3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9" dur="indefinite" restart="never" nodeType="tmRoot">
          <p:childTnLst>
            <p:seq>
              <p:cTn id="1600" dur="indefinite" nodeType="mainSeq">
                <p:childTnLst>
                  <p:par>
                    <p:cTn id="1601" nodeType="clickEffect" fill="hold">
                      <p:stCondLst>
                        <p:cond delay="0"/>
                      </p:stCondLst>
                      <p:childTnLst>
                        <p:par>
                          <p:cTn id="1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3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60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2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3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4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5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6" nodeType="clickEffect" fill="hold">
                      <p:stCondLst>
                        <p:cond delay="indefinite"/>
                      </p:stCondLst>
                      <p:childTnLst>
                        <p:par>
                          <p:cTn id="16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0" dur="5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1" dur="5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2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4" dur="5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5" dur="5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6" nodeType="clickEffect" fill="hold">
                      <p:stCondLst>
                        <p:cond delay="indefinite"/>
                      </p:stCondLst>
                      <p:childTnLst>
                        <p:par>
                          <p:cTn id="1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8" nodeType="click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0" dur="2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1" dur="2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2" dur="2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3" dur="2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6" dur="2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7" dur="2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8" dur="2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9" dur="2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AutoShape 2"/>
          <p:cNvSpPr/>
          <p:nvPr/>
        </p:nvSpPr>
        <p:spPr>
          <a:xfrm>
            <a:off x="2949480" y="5425920"/>
            <a:ext cx="576360" cy="954360"/>
          </a:xfrm>
          <a:custGeom>
            <a:avLst/>
            <a:gdLst>
              <a:gd name="textAreaLeft" fmla="*/ 77040 w 576360"/>
              <a:gd name="textAreaRight" fmla="*/ 499320 w 576360"/>
              <a:gd name="textAreaTop" fmla="*/ 167040 h 954360"/>
              <a:gd name="textAreaBottom" fmla="*/ 691920 h 95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3"/>
          <p:cNvSpPr/>
          <p:nvPr/>
        </p:nvSpPr>
        <p:spPr>
          <a:xfrm>
            <a:off x="2122560" y="434664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4"/>
          <p:cNvSpPr/>
          <p:nvPr/>
        </p:nvSpPr>
        <p:spPr>
          <a:xfrm>
            <a:off x="1295280" y="326700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5"/>
          <p:cNvSpPr/>
          <p:nvPr/>
        </p:nvSpPr>
        <p:spPr>
          <a:xfrm>
            <a:off x="466560" y="218772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6"/>
          <p:cNvSpPr/>
          <p:nvPr/>
        </p:nvSpPr>
        <p:spPr>
          <a:xfrm>
            <a:off x="1042920" y="2446200"/>
            <a:ext cx="4749840" cy="1008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ведение коллективных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бщносте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ожно в принципе рассматривать как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бъективно обусловленное без того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тобы отрицать при этом свободу вол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7"/>
          <p:cNvSpPr/>
          <p:nvPr/>
        </p:nvSpPr>
        <p:spPr>
          <a:xfrm>
            <a:off x="2698920" y="4605480"/>
            <a:ext cx="474948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имерами таких общностей являются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бщественные классы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т.е. группы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людей, занимающих одинаковое мест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системе общественного производст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6840" y="274680"/>
            <a:ext cx="895032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еоретические предпосылки социальной науки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лассы как субъекты закономерной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9"/>
          <p:cNvSpPr/>
          <p:nvPr/>
        </p:nvSpPr>
        <p:spPr>
          <a:xfrm>
            <a:off x="3525840" y="5684760"/>
            <a:ext cx="474984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уществование и характеристик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лассов не зависят от воли и сознани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ленов общества, а обусловлены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труктурой и характером производст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10"/>
          <p:cNvSpPr/>
          <p:nvPr/>
        </p:nvSpPr>
        <p:spPr>
          <a:xfrm>
            <a:off x="216000" y="1366920"/>
            <a:ext cx="474984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всё же историческая закономернос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ыслима, поскольку субъектам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закономерной деятельности не обяза-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ельно должны выступат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ндивид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11"/>
          <p:cNvSpPr/>
          <p:nvPr/>
        </p:nvSpPr>
        <p:spPr>
          <a:xfrm>
            <a:off x="1870200" y="3525840"/>
            <a:ext cx="474984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закономерности поведени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циальных общностей проявляется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единство значимых характеристик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х индивидуальных член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12" descr="marx (6)"/>
          <p:cNvPicPr/>
          <p:nvPr/>
        </p:nvPicPr>
        <p:blipFill>
          <a:blip r:embed="rId1"/>
          <a:stretch/>
        </p:blipFill>
        <p:spPr>
          <a:xfrm>
            <a:off x="468360" y="4678200"/>
            <a:ext cx="1465200" cy="1898640"/>
          </a:xfrm>
          <a:prstGeom prst="rect">
            <a:avLst/>
          </a:prstGeom>
          <a:ln w="0">
            <a:noFill/>
          </a:ln>
        </p:spPr>
      </p:pic>
      <p:sp>
        <p:nvSpPr>
          <p:cNvPr id="79" name="Text Box 13"/>
          <p:cNvSpPr/>
          <p:nvPr/>
        </p:nvSpPr>
        <p:spPr>
          <a:xfrm>
            <a:off x="5937120" y="1366920"/>
            <a:ext cx="3059280" cy="17272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Общественные классы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–</a:t>
            </a:r>
            <a:br>
              <a:rPr sz="18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большие группы людей,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различающиеся по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их месту в системе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бщественного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роизводств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5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бстрактные и конкретные социальные общ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"/>
          <p:cNvSpPr/>
          <p:nvPr/>
        </p:nvSpPr>
        <p:spPr>
          <a:xfrm>
            <a:off x="216000" y="1978200"/>
            <a:ext cx="4282920" cy="1331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Абстрактная социальная общность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класс) –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ножество индивидов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 одинаковыми свойств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5"/>
          <p:cNvSpPr/>
          <p:nvPr/>
        </p:nvSpPr>
        <p:spPr>
          <a:xfrm>
            <a:off x="4678200" y="1978200"/>
            <a:ext cx="4283280" cy="1331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Конкретная социальная общность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коллектив) –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вокупность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заимодействующих индивид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6"/>
          <p:cNvSpPr/>
          <p:nvPr/>
        </p:nvSpPr>
        <p:spPr>
          <a:xfrm>
            <a:off x="287280" y="3778200"/>
            <a:ext cx="4138560" cy="2158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гласованность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одинаковость)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ведения индивидов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инадлежащих к одному классу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беспечивает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ождественностью свойств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характеристик или условий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7"/>
          <p:cNvSpPr/>
          <p:nvPr/>
        </p:nvSpPr>
        <p:spPr>
          <a:xfrm>
            <a:off x="4749840" y="3778200"/>
            <a:ext cx="4138560" cy="2158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гласованность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«симфоничность»)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ведения индивидов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инадлежащих к одному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оллективу, обеспечивается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средством особых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нтеграционных механизм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Философия истории славянофилов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ультурно-исторические общности (А. С. Хомяков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Предмет истории и её действующие ли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Жизнь всего человече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бщности (определяемые по вероисповеданиям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Новая парадигма исторической нау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ародные верования как исторические источники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Поэтический инстинкт» как метод исследова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етроспективный метод («возвратный ход»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Общая схема исторического процесса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Иранство» и «кушитство»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бщина и дружи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оссия и Европ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Будущее человечества и миссия Росс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Единение человечества на органически-духовных,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 не механических (империалистических) начал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8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8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8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8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Философия истории славянофилов 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октрина собор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3"/>
          <p:cNvSpPr/>
          <p:nvPr/>
        </p:nvSpPr>
        <p:spPr>
          <a:xfrm>
            <a:off x="1906560" y="2367000"/>
            <a:ext cx="5399280" cy="197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0" rIns="180000" tIns="108000" bIns="108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оборность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–</a:t>
            </a:r>
            <a:br>
              <a:rPr sz="24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единство свободное и органическое,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живое начало которого есть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Божественная благодать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заимной любви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3"/>
          <p:cNvSpPr/>
          <p:nvPr/>
        </p:nvSpPr>
        <p:spPr>
          <a:xfrm>
            <a:off x="4572000" y="4722840"/>
            <a:ext cx="4114800" cy="14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вобода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 единств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4"/>
          <p:cNvSpPr/>
          <p:nvPr/>
        </p:nvSpPr>
        <p:spPr>
          <a:xfrm>
            <a:off x="457200" y="4722840"/>
            <a:ext cx="4114800" cy="14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Вселенская церковь</a:t>
            </a:r>
            <a:r>
              <a:rPr b="1" lang="ru-RU" sz="2400" spc="-1" strike="noStrike">
                <a:solidFill>
                  <a:srgbClr val="00ffff"/>
                </a:solidFill>
                <a:latin typeface="Arial"/>
              </a:rPr>
              <a:t> (православи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5"/>
          <p:cNvSpPr/>
          <p:nvPr/>
        </p:nvSpPr>
        <p:spPr>
          <a:xfrm>
            <a:off x="4572000" y="3319560"/>
            <a:ext cx="4114800" cy="14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вобода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без един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6"/>
          <p:cNvSpPr/>
          <p:nvPr/>
        </p:nvSpPr>
        <p:spPr>
          <a:xfrm>
            <a:off x="457200" y="3319560"/>
            <a:ext cx="4114800" cy="14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ff"/>
                </a:solidFill>
                <a:latin typeface="Arial"/>
              </a:rPr>
              <a:t>Протестантиз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7"/>
          <p:cNvSpPr/>
          <p:nvPr/>
        </p:nvSpPr>
        <p:spPr>
          <a:xfrm>
            <a:off x="4572000" y="1916280"/>
            <a:ext cx="4114800" cy="14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Единство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без свобо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8"/>
          <p:cNvSpPr/>
          <p:nvPr/>
        </p:nvSpPr>
        <p:spPr>
          <a:xfrm>
            <a:off x="457200" y="1916280"/>
            <a:ext cx="4114800" cy="14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ff"/>
                </a:solidFill>
                <a:latin typeface="Arial"/>
              </a:rPr>
              <a:t>Католициз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457200" y="3319560"/>
            <a:ext cx="822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10"/>
          <p:cNvSpPr/>
          <p:nvPr/>
        </p:nvSpPr>
        <p:spPr>
          <a:xfrm>
            <a:off x="457200" y="4722840"/>
            <a:ext cx="822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11"/>
          <p:cNvSpPr/>
          <p:nvPr/>
        </p:nvSpPr>
        <p:spPr>
          <a:xfrm>
            <a:off x="457200" y="6126120"/>
            <a:ext cx="82296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12"/>
          <p:cNvSpPr/>
          <p:nvPr/>
        </p:nvSpPr>
        <p:spPr>
          <a:xfrm>
            <a:off x="4572000" y="1916280"/>
            <a:ext cx="0" cy="4209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3"/>
          <p:cNvSpPr/>
          <p:nvPr/>
        </p:nvSpPr>
        <p:spPr>
          <a:xfrm>
            <a:off x="457200" y="1916280"/>
            <a:ext cx="82296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457200" y="1916280"/>
            <a:ext cx="0" cy="420984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15"/>
          <p:cNvSpPr/>
          <p:nvPr/>
        </p:nvSpPr>
        <p:spPr>
          <a:xfrm>
            <a:off x="8686800" y="1916280"/>
            <a:ext cx="0" cy="420984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Философия истории славянофилов 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октрина собор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4" dur="80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5" dur="80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6" dur="80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6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7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8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8" dur="80"/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9" dur="80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0" dur="80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Философия истории славянофилов 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октрина собор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3"/>
          <p:cNvSpPr/>
          <p:nvPr/>
        </p:nvSpPr>
        <p:spPr>
          <a:xfrm rot="10800000">
            <a:off x="2877840" y="1726920"/>
            <a:ext cx="6118200" cy="48578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оманизме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верно понятом, единств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ля христиан есть лиш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единств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ослушания центральной власти;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это  порабощение христиан доктрине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оторой они не содействуют и котора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олжна навсегда оставаться для них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ем-то внешним (так как она всецел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чиет в едином главе иерархии)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конец, это узаконенное равнодуши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 вере, которая окончательно сводит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подчинение вере другого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Это, очевидно,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единство в смысле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условном, а не в смысле христианском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74880" y="4786200"/>
            <a:ext cx="3015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. С. Хомяков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Ещё несколько слов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авославног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христианина о западных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ероисповеданиях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5" descr="Хомяков Алексей Степанович (sm10-3)"/>
          <p:cNvPicPr/>
          <p:nvPr/>
        </p:nvPicPr>
        <p:blipFill>
          <a:blip r:embed="rId1"/>
          <a:stretch/>
        </p:blipFill>
        <p:spPr>
          <a:xfrm>
            <a:off x="539640" y="1727280"/>
            <a:ext cx="2381400" cy="2981160"/>
          </a:xfrm>
          <a:prstGeom prst="rect">
            <a:avLst/>
          </a:prstGeom>
          <a:ln w="0">
            <a:noFill/>
          </a:ln>
        </p:spPr>
      </p:pic>
      <p:sp>
        <p:nvSpPr>
          <p:cNvPr id="1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7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2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9T21:52:40Z</dcterms:created>
  <dc:creator>Николай Бирюков / Nikolai Biryukov</dc:creator>
  <dc:description>редакция апреля 2008 г.</dc:description>
  <dc:language>en-US</dc:language>
  <cp:lastModifiedBy>LEGION</cp:lastModifiedBy>
  <dcterms:modified xsi:type="dcterms:W3CDTF">2014-11-11T12:43:56Z</dcterms:modified>
  <cp:revision>47</cp:revision>
  <dc:subject>История и философия науки - Тема 1</dc:subject>
  <dc:title>Русская философия социального и исторического знания</dc:title>
</cp:coreProperties>
</file>