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D9AD-CE7D-4923-9A8A-2AC538E0061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6196-D82D-4C1D-B0E7-9F719B5B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01C-1158-43BB-BBE1-94561EB5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455-D95B-49C8-A079-504C9A52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B88-7BEB-4B9D-8314-0BDE6344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7972-B7FC-401D-8200-A90AA8AA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6CA3-EBD5-43A8-968B-49090198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A3CF-3B12-4990-B15F-CE9D5988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D03A-46DF-4C06-BDA4-25830821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937D-9545-4888-A90D-ACE36721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0EAC-6F67-45C7-908F-2411BB31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9D53-C8F0-4B4E-B18F-15E88208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9EBB-DF7E-458B-BF5D-E0707D27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F3B5-0CC6-4978-8051-529AA692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A7FF-3B6B-4C29-9155-AAC8BBFB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B6A0-F192-488B-8F5F-D37443F6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2A45-86EE-4DA4-AEAF-F5A26F28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6A9C-21E2-4B4D-99E4-9255B39B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348D2-CD93-41EF-916D-C1904D8C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72BE8-A6E1-4120-9DE8-2470770B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8264-28CB-44CD-8C30-7D16A72D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6A3C9-928A-49DA-8304-E5501385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B4083-EBDC-4E87-A6AA-08D38C99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785-9C7D-4C0F-BDEF-416C0E75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287C1-B84A-4FD9-B954-FD0906E2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F7522-BCBC-4480-8771-758E780C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A75F-1F1D-42CE-9018-BBB9C5E6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BE51-2116-4974-8BD9-00AB5D7F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AC8FA-5795-44BB-8F6D-CBEB1B0F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15172-EBA8-4E9A-B5DB-EB19E8AB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C5E2E-9B50-4720-AF01-FAF18BCD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416-2628-4F3A-8E3A-19E008B5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CA2-A80C-4C25-A373-CD734B21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9CA-725B-4048-9C63-45D3CFB0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D57-5087-4B42-ABD5-C2FA679E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D96-D8BF-4FF1-BBD0-C9BE2681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A7A-8C9E-4D72-BCFD-66300463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87B8-E9EF-4D27-8943-08F804D49EC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FCB9-112F-4F3B-8E4D-C2B1156C4B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887E-48C3-40E7-B6E9-F19EA94C294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0359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фициальные золотовалютные резервы: назначение, масштабы,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ЗВ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инадлежащие государству резервы золота (монетарное золото)и иностранной валю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на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йствие на курс национальной валю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коло 5 трлн.в мире, не считая монетарного зо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1/4 состоят из монетарного зол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ричины, масштабы,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ссудного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финансов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формально сосредоточен в странах с неконвертируемой валю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ставляет 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л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фициальный (государственный) внешний дол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астный внешний долг (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оследствия и пут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дствия (позитивные и негатив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использовать внешние средства при нехватке или дороговизне сбережений и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олговая петл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ily indebted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решения проблемы внешнего 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ыстрый рост экспортных поступлений и иностранных прямых и портфельных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еструктур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правление вешним дол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итивные и негативные последствия глобализации финансовых ресурсов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и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мягчение нехватки финансовых ресурсов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г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слабление влияния национальных правительств на национальные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ерез профилактику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едоставление достаточных кредитов во время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Усиление контроля над международным движением капит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лог Тоб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а госрегулирования притока «горячих дене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апита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как экономический ресурс под-разделяется на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реальный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капитал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средства производства) и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финансовый капитал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еньги,ценные бумаги, монетарное золото). Финансовый капитал можно называть также финансовыми ресурс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питалообра-з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под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бережениями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разумевается та часть ВНД/ВВП, которая не идет на конечное потребление товаров и услуг. Отношение всех сбережений страны к ее ВВП назы-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рмой валового сбереж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ли, как принято писать в статистике, к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валовому накоплению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ношение валового накопления к ВВП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нормой валового накоплен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сущности, это отношение инвестиций в реальный капитал к ВВ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 со сбережениями и инвестициями в различных группах и подгруппах стран,  200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692280"/>
          <a:ext cx="8856720" cy="612144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448000"/>
                <a:gridCol w="1368360"/>
              </a:tblGrid>
              <a:tr h="96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сбере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нако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з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е индустр. азиатские эк-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Ц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я,кр.Ср.Вос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Вос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.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значении –как для иностранного, так и национального капит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рямы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инвес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инвестиционные рейтинг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у 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ортфельных инвесторов и креди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(кредитные рейтинги,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ody’s, Standard and Poor’s, F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финансовых ресурсов и механизм их перелива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6"/>
          <p:cNvGrpSpPr/>
          <p:nvPr/>
        </p:nvGrpSpPr>
        <p:grpSpPr>
          <a:xfrm>
            <a:off x="324000" y="1141920"/>
            <a:ext cx="9038880" cy="4698360"/>
            <a:chOff x="324000" y="1141920"/>
            <a:chExt cx="9038880" cy="4698360"/>
          </a:xfrm>
        </p:grpSpPr>
        <p:cxnSp>
          <p:nvCxnSpPr>
            <p:cNvPr id="152" name="_s1028"/>
            <p:cNvCxnSpPr>
              <a:stCxn id="153" idx="0"/>
              <a:endCxn id="154" idx="2"/>
            </p:cNvCxnSpPr>
            <p:nvPr/>
          </p:nvCxnSpPr>
          <p:spPr>
            <a:xfrm flipV="1" rot="16200000">
              <a:off x="6248520" y="4939200"/>
              <a:ext cx="177840" cy="81000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4" idx="2"/>
            </p:cNvCxnSpPr>
            <p:nvPr/>
          </p:nvCxnSpPr>
          <p:spPr>
            <a:xfrm flipH="1" flipV="1" rot="5400000">
              <a:off x="5438520" y="4939200"/>
              <a:ext cx="177840" cy="81036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030"/>
            <p:cNvCxnSpPr>
              <a:stCxn id="154" idx="1"/>
              <a:endCxn id="158" idx="2"/>
            </p:cNvCxnSpPr>
            <p:nvPr/>
          </p:nvCxnSpPr>
          <p:spPr>
            <a:xfrm rot="10800000">
              <a:off x="4282560" y="2110680"/>
              <a:ext cx="546480" cy="297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31"/>
            <p:cNvCxnSpPr>
              <a:stCxn id="160" idx="1"/>
              <a:endCxn id="158" idx="2"/>
            </p:cNvCxnSpPr>
            <p:nvPr/>
          </p:nvCxnSpPr>
          <p:spPr>
            <a:xfrm rot="10800000">
              <a:off x="4282560" y="2110680"/>
              <a:ext cx="546480" cy="24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32"/>
            <p:cNvCxnSpPr>
              <a:stCxn id="162" idx="1"/>
              <a:endCxn id="158" idx="2"/>
            </p:cNvCxnSpPr>
            <p:nvPr/>
          </p:nvCxnSpPr>
          <p:spPr>
            <a:xfrm rot="10800000">
              <a:off x="4282560" y="2110680"/>
              <a:ext cx="546480" cy="1922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033"/>
            <p:cNvCxnSpPr>
              <a:stCxn id="164" idx="1"/>
              <a:endCxn id="158" idx="2"/>
            </p:cNvCxnSpPr>
            <p:nvPr/>
          </p:nvCxnSpPr>
          <p:spPr>
            <a:xfrm rot="10800000">
              <a:off x="4282560" y="2110680"/>
              <a:ext cx="5464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34"/>
            <p:cNvCxnSpPr>
              <a:stCxn id="166" idx="1"/>
              <a:endCxn id="158" idx="2"/>
            </p:cNvCxnSpPr>
            <p:nvPr/>
          </p:nvCxnSpPr>
          <p:spPr>
            <a:xfrm rot="10800000">
              <a:off x="4282560" y="2110680"/>
              <a:ext cx="5464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5"/>
            <p:cNvCxnSpPr>
              <a:stCxn id="168" idx="1"/>
              <a:endCxn id="158" idx="2"/>
            </p:cNvCxnSpPr>
            <p:nvPr/>
          </p:nvCxnSpPr>
          <p:spPr>
            <a:xfrm rot="10800000">
              <a:off x="4282560" y="2110680"/>
              <a:ext cx="5464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36"/>
            <p:cNvCxnSpPr>
              <a:stCxn id="170" idx="1"/>
              <a:endCxn id="171" idx="2"/>
            </p:cNvCxnSpPr>
            <p:nvPr/>
          </p:nvCxnSpPr>
          <p:spPr>
            <a:xfrm rot="10800000">
              <a:off x="7095240" y="2110680"/>
              <a:ext cx="6120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37"/>
            <p:cNvCxnSpPr>
              <a:stCxn id="173" idx="1"/>
              <a:endCxn id="171" idx="2"/>
            </p:cNvCxnSpPr>
            <p:nvPr/>
          </p:nvCxnSpPr>
          <p:spPr>
            <a:xfrm rot="10800000">
              <a:off x="7095240" y="2110680"/>
              <a:ext cx="6120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038"/>
            <p:cNvCxnSpPr>
              <a:stCxn id="175" idx="3"/>
              <a:endCxn id="176" idx="2"/>
            </p:cNvCxnSpPr>
            <p:nvPr/>
          </p:nvCxnSpPr>
          <p:spPr>
            <a:xfrm flipV="1">
              <a:off x="2530080" y="2111040"/>
              <a:ext cx="622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1039"/>
            <p:cNvCxnSpPr>
              <a:stCxn id="178" idx="3"/>
              <a:endCxn id="176" idx="2"/>
            </p:cNvCxnSpPr>
            <p:nvPr/>
          </p:nvCxnSpPr>
          <p:spPr>
            <a:xfrm flipV="1">
              <a:off x="2530080" y="2111040"/>
              <a:ext cx="622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40"/>
            <p:cNvCxnSpPr>
              <a:stCxn id="171" idx="0"/>
              <a:endCxn id="180" idx="2"/>
            </p:cNvCxnSpPr>
            <p:nvPr/>
          </p:nvCxnSpPr>
          <p:spPr>
            <a:xfrm flipV="1" rot="16200000">
              <a:off x="5882040" y="445680"/>
              <a:ext cx="175320" cy="225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41"/>
            <p:cNvCxnSpPr>
              <a:stCxn id="158" idx="0"/>
              <a:endCxn id="180" idx="2"/>
            </p:cNvCxnSpPr>
            <p:nvPr/>
          </p:nvCxnSpPr>
          <p:spPr>
            <a:xfrm flipH="1" flipV="1" rot="5400000">
              <a:off x="4475880" y="1292040"/>
              <a:ext cx="175320" cy="56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42"/>
            <p:cNvCxnSpPr>
              <a:stCxn id="176" idx="0"/>
              <a:endCxn id="180" idx="2"/>
            </p:cNvCxnSpPr>
            <p:nvPr/>
          </p:nvCxnSpPr>
          <p:spPr>
            <a:xfrm flipH="1" flipV="1" rot="5400000">
              <a:off x="3630240" y="446400"/>
              <a:ext cx="175320" cy="225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043"/>
            <p:cNvSpPr/>
            <p:nvPr/>
          </p:nvSpPr>
          <p:spPr>
            <a:xfrm>
              <a:off x="3441960" y="1141920"/>
              <a:ext cx="2803320" cy="34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ые ресурсы мир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_s1044"/>
            <p:cNvSpPr/>
            <p:nvPr/>
          </p:nvSpPr>
          <p:spPr>
            <a:xfrm>
              <a:off x="177588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ая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помощь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_s1045"/>
            <p:cNvSpPr/>
            <p:nvPr/>
          </p:nvSpPr>
          <p:spPr>
            <a:xfrm>
              <a:off x="346680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Мировые рынки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капитал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_s1046"/>
            <p:cNvSpPr/>
            <p:nvPr/>
          </p:nvSpPr>
          <p:spPr>
            <a:xfrm>
              <a:off x="628092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Золотовалютные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езервы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_s1047"/>
            <p:cNvSpPr/>
            <p:nvPr/>
          </p:nvSpPr>
          <p:spPr>
            <a:xfrm>
              <a:off x="32400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государственные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_s1048"/>
            <p:cNvSpPr/>
            <p:nvPr/>
          </p:nvSpPr>
          <p:spPr>
            <a:xfrm>
              <a:off x="32400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дународных организаций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_s1049"/>
            <p:cNvSpPr/>
            <p:nvPr/>
          </p:nvSpPr>
          <p:spPr>
            <a:xfrm>
              <a:off x="715608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Официаль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_s1050"/>
            <p:cNvSpPr/>
            <p:nvPr/>
          </p:nvSpPr>
          <p:spPr>
            <a:xfrm>
              <a:off x="715608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" rIns="18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Част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_s1051"/>
            <p:cNvSpPr/>
            <p:nvPr/>
          </p:nvSpPr>
          <p:spPr>
            <a:xfrm>
              <a:off x="482904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Валютный рынок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_s1052"/>
            <p:cNvSpPr/>
            <p:nvPr/>
          </p:nvSpPr>
          <p:spPr>
            <a:xfrm>
              <a:off x="482904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Verdana"/>
                </a:rPr>
                <a:t>Рынок дериватив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_s1053"/>
            <p:cNvSpPr/>
            <p:nvPr/>
          </p:nvSpPr>
          <p:spPr>
            <a:xfrm>
              <a:off x="4829040" y="333468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страховых услуг</a:t>
              </a:r>
              <a:r>
                <a:rPr b="0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_s1054"/>
            <p:cNvSpPr/>
            <p:nvPr/>
          </p:nvSpPr>
          <p:spPr>
            <a:xfrm>
              <a:off x="4829040" y="385884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ынок прямых инвестиций?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_s1055"/>
            <p:cNvSpPr/>
            <p:nvPr/>
          </p:nvSpPr>
          <p:spPr>
            <a:xfrm>
              <a:off x="4829040" y="4383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Рынок акций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_s1056"/>
            <p:cNvSpPr/>
            <p:nvPr/>
          </p:nvSpPr>
          <p:spPr>
            <a:xfrm>
              <a:off x="4829040" y="4907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Кредитный рыно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_s1057"/>
            <p:cNvSpPr/>
            <p:nvPr/>
          </p:nvSpPr>
          <p:spPr>
            <a:xfrm>
              <a:off x="434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долговы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ценных бумаг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1058"/>
            <p:cNvSpPr/>
            <p:nvPr/>
          </p:nvSpPr>
          <p:spPr>
            <a:xfrm>
              <a:off x="596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банковски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" name="Rectangle 50"/>
          <p:cNvSpPr/>
          <p:nvPr/>
        </p:nvSpPr>
        <p:spPr>
          <a:xfrm>
            <a:off x="7031880" y="20606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рынки капитала (мировой финансовый рынок)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сновные учас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б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ституциональные инвес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 также государства, международные организации, физ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финансовые центры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фор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Военная помощ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Официальная помощь на цели развития  -сроч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родовольственна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техн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писание задолж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т международных организац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чие виды помощи развития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чи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ые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аны-получ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абсолютной велич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размерам на душу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итика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енная помощь – наиболее сильно политизиров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шингтонскому и поствашингтонскому консенсу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3:20:28Z</dcterms:created>
  <dc:creator>b</dc:creator>
  <dc:description/>
  <dc:language>en-US</dc:language>
  <cp:lastModifiedBy>LEGION</cp:lastModifiedBy>
  <dcterms:modified xsi:type="dcterms:W3CDTF">2016-01-05T11:04:11Z</dcterms:modified>
  <cp:revision>45</cp:revision>
  <dc:subject/>
  <dc:title>Тема 7. Финансовые ресурсы мира</dc:title>
</cp:coreProperties>
</file>