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E766-81CC-453F-B8E6-FB9C792A1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 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 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 оп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товарами (trade in goods) — купля-продажа овеществленных результатов производства между резидентами и нерезид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услугами (trade in services) — покупка-продажа неовеществленных результатов производства, приводящих к изменению условий потреб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воды доходов (income) — получение и выплата зарплаты, обычно работникам, пребывающи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рубежом менее года, а также доходы и платежи процентов по иностранным инвестициям и кредитам между резидентами и нерезид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 переводы (current transfers) — другие платежи между резидентами и нерезидентами (почтовые переводы, оплата налогов, субсидий, социальных пособий),  межправительственные платежи, получение и выдача гра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кущие опер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рговля товарами (trade in goods) — купля-продажа овеществленных результатов производства между резидентами и нерезидента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рговля услугами (trade in services) — покупка-продажа неовеществленных результатов производства, приводящих к изменению условий потреб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воды доходов (income) — получение и выплата зарплаты, обычно работникам, пребывающим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 рубежом менее года, а также доходы и платежи процентов по иностранным инвестициям и кредитам между резидентами и нерезидента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кущие переводы (current transfers) — другие платежи между резидентами и нерезидентами (почтовые переводы, оплата налогов, субсидий, социальных пособий),  межправительственные платежи, получение и выдача грант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ьные и финансовые оп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ьные переводы (capital transfers) — передача собственности на капитал между резидента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нерезидентами или прощение долга кредито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инвестиции (direct investment) — приобретение резидентом длительного интере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едприятии нерезидента, обычно пакета акций, превышающего 1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ельные инвестиции (portfolio investment) — сделки с акциями, облигациями и другими ценными бумагами, обеспечивающими участие в капитале, но не представляющими длительный интерес для инвест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е инвестиции (other investment) — получ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редоставление коммерческих кредитов, финансовых ссуд, покупка-продажа иностранной валюты, монетарного золота и других резервных акти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ьные и финансовые опер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ьные переводы (capital transfers) — передача собственности на капитал между резидентам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нерезидентами или прощение долга кредитор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ямые инвестиции (direct investment) — приобретение резидентом длительного интерес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предприятии нерезидента, обычно пакета акций, превышающего 10%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ртфельные инвестиции (portfolio investment) — сделки с акциями, облигациями и другими ценными бумагами, обеспечивающими участие в капитале, но не представляющими длительный интерес для инвестор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ругие инвестиции (other investment) — получен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предоставление коммерческих кредитов, финансовых ссуд, покупка-продажа иностранной валюты, монетарного золота и других резервных актив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микроэкономика — международная торговля товарами, услугами, факторами производ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егулирующая их государственная полит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макроэкономика —международные финансы, государственная экономическая политика в условиях открыт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дународная микроэкономика — международная торговля товарами, услугами, факторами производств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регулирующая их государственная политик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дународная макроэкономика —международные финансы, государственная экономическая политика в условиях открытой экономик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ерт Соло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од.1924), американский экономист, автор неоклассической теории экономического роста и развития. Показал, что в длительной перспективе технологическое развитие является фундаментальной предпосылкой для экономического роста. В статье “Вклад в теорию экономического роста” (1956) предложил математическую модель, которая показывала, как возросший основной капитал вызывает рост продукции на душу населения. Эта модель экономического роста получила название модель Соло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берт Солоу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род.1924), американский экономист, автор неоклассической теории экономического роста и развития. Показал, что в длительной перспективе технологическое развитие является фундаментальной предпосылкой для экономического роста. В статье “Вклад в теорию экономического роста” (1956) предложил математическую модель, которая показывала, как возросший основной капитал вызывает рост продукции на душу населения. Эта модель экономического роста получила название модель Соло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н Тимберг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903–1994), нидерландский экономист, один из создателей эконометрики — дисциплины, соединившей экономическую теорию со статистикой и математик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70-е гг. возглавлял работу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подготовке доклада о концепции и методологии глобалистики как новой науки. Основы ее были изложены в монографии “Пересмотр международного порядка” (1976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ы человечества уж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могут быть решены правительствами стран. Нужно мировое правительство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Ян Тимберге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1903–1994), нидерландский экономист, один из создателей эконометрики — дисциплины, соединившей экономическую теорию со статистикой и математико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970-е гг. возглавлял работу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подготовке доклада о концепции и методологии глобалистики как новой науки. Основы ее были изложены в монографии “Пересмотр международного порядка” (1976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блемы человечества уж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 могут быть решены правительствами стран. Нужно мировое правительство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еждународной экономике страны делятся на страны с развитой экономикой, другие стран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формирующимся рынк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азвивающиеся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низкими дохода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 доходами ниже средних считаются развивающими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из наименее развитых стран имеет право на особое отнош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 стороны других стр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 (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международной экономике страны делятся на страны с развитой экономикой, другие страны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формирующимся рынком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развивающиеся стран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низкими доходам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с доходами ниже средних считаются развивающимис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уппа из наименее развитых стран имеет право на особое отношен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 стороны других стра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иденты в каждом из основных сектор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и — реальном, бюджетном и денежном — экономически связаны с нерезиден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 связи составляют внешний сектор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следующие формы международных экономических операций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товар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услуг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воды доход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 перево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инвести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ельные инвестиц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е инвестиции и движения резервных акти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 (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зиденты в каждом из основных секторов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ки — реальном, бюджетном и денежном — экономически связаны с нерезидентам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и связи составляют внешний сектор экономи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ществуют следующие формы международных экономических операций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рговля товарам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рговля услугам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воды доходов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кущие перевод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ямые инвестици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ртфельные инвестиции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чие инвестиции и движения резервных актив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тические группы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развитой экономикой (advanced economics) — 29 промышленно развитых стран Северной Америки, Западной Европы и Тихоокеанского бассейна с высоким уровнем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е страны с формирующимся рынком и развивающиеся страны (other emerging markets and developing countries) — все остальные стра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алитические группы стр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развитой экономикой (advanced economics) — 29 промышленно развитых стран Северной Америки, Западной Европы и Тихоокеанского бассейна с высоким уровнем доход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ругие страны с формирующимся рынком и развивающиеся страны (other emerging markets and developing countries) — все остальные страны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ые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пнейшие страны с развитой экономикой (major advanced economies) — Группа 7 (Group of 7, G-7): Канада, Франция, Германия, Италия, Япония, Великобритания,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она Евро (Euro area) — европейские страны, в которых используется евро в качестве единой денежной едини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ий союз (European Union) — 25 стран — членов Европейского союза — крупнейшей экономической интеграционной группировки в ми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индустриальные экономики Азии (newly industrialized Asian economies) — 4 страны и территории в Азии (Гонконг, Корея, Сингапур, Тайвань), которые характеризуются стабильно высокими темпами ро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тые стра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упнейшие страны с развитой экономикой (major advanced economies) — Группа 7 (Group of 7, G-7): Канада, Франция, Германия, Италия, Япония, Великобритания, СШ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она Евро (Euro area) — европейские страны, в которых используется евро в качестве единой денежной единиц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вропейский союз (European Union) — 25 стран — членов Европейского союза — крупнейшей экономической интеграционной группировки в мир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вые индустриальные экономики Азии (newly industrialized Asian economies) — 4 страны и территории в Азии (Гонконг, Корея, Сингапур, Тайвань), которые характеризуются стабильно высокими темпами рос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экономическ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низким уровнем доходов (low-income countries) — 64 государства, в которых ВНД на душу населения составил в 2005 г. менее 875 долл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доходами ниже среднего уровня (lower middle-income countries) — 66 государств, в которых ВНД на душу населения составил 876–3465 долл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доходами выше среднего уровня (upper middle-income countries) — 35 государств, в которых ВНД на душу населения составил 3466–10725 долл. Россия входит в эту групп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высоким уровнем доходов (high-income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ountries) — 44 государства, в которых ВНД на душу населения составил более 10 726 дол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и экономического развит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низким уровнем доходов (low-income countries) — 64 государства, в которых ВНД на душу населения составил в 2005 г. менее 875 долл.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доходами ниже среднего уровня (lower middle-income countries) — 66 государств, в которых ВНД на душу населения составил 876–3465 долл.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доходами выше среднего уровня (upper middle-income countries) — 35 государств, в которых ВНД на душу населения составил 3466–10725 долл. Россия входит в эту группу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высоким уровнем доходов (high-income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countries) — 44 государства, в которых ВНД на душу населения составил более 10 726 дол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вающиеся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developing countries) — государства, в основном в Азии, Африке, Латинской Америке, характеризующиеся низким и средним уровнем доходов на душу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менее развитые страны (least developed countries, LDCs) — группа развивающихся стран, имеющих право на особое отнош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 стороны других стра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вающиеся стра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developing countries) — государства, в основном в Азии, Африке, Латинской Америке, характеризующиеся низким и средним уровнем доходов на душу насе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именее развитые страны (least developed countries, LDCs) — группа развивающихся стран, имеющих право на особое отношен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 стороны других стран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ь реаль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сть сбережений и инвестиций внутри страны равна счету текущих операций платежного балан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-I=C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текущий баланс положительный, страна фактически отдает часть своих сбережений другим странам и не может вкладывать и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бственное развит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же текущий баланс отрицательный, страна привлекает средства других стра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может инвестировать в свой экономический рост не только сбережения внутри страны, но и сбережения других стр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заимосвязь реального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ность сбережений и инвестиций внутри страны равна счету текущих операций платежного баланса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S-I=C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текущий баланс положительный, страна фактически отдает часть своих сбережений другим странам и не может вкладывать их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собственное развитие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же текущий баланс отрицательный, страна привлекает средства других стран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может инвестировать в свой экономический рост не только сбережения внутри страны, но и сбережения других стра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ь бюджет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беспечения сбалансированности бюджета дефицит можно финансировать из двух источников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ймов у резидент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ймов у нерезид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е финансирование бюджета является основным связующим звеном между бюджетным и внешним сектор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заимосвязь бюджетного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обеспечения сбалансированности бюджета дефицит можно финансировать из двух источников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ймов у резидентов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ймов у нерезидент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нешнее финансирование бюджета является основным связующим звеном между бюджетным и внешним секторам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ь денеж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текущий баланс страны отрицательный, то источников финансирования у нее дв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ый приток капитала  из-за рубеж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государственных валютных резерв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озможности финансирования платежных дисбалансов заключается связь денежного и внешнего сек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заимосвязь денежного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текущий баланс страны отрицательный, то источников финансирования у нее два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полнительный приток капитала  из-за рубеж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государственных валютных резервов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возможности финансирования платежных дисбалансов заключается связь денежного и внешнего сек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экономическая опе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international economic transaction) — сделка между резидента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нерезидентами, при которой передается право собствен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материальные или финансовые активы или оказываются услуг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 опе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ьные и финансовые опе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дународная экономическая опера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international economic transaction) — сделка между резидентам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нерезидентами, при которой передается право собственност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материальные или финансовые активы или оказываются услуг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кущие опера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ьные и финансовые опера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97F46-F0CC-4739-9AE9-A3DFC31C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0C7C4-8283-4D0E-B980-C26715D7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6A4F5-E0FD-462A-8509-12D9AE04B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300E8-EB80-4B59-BF21-0F2021717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88867-2F57-44DD-9DB9-C9E8F558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862C0-D818-4843-9771-BB629181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995F4-186E-4FD6-B9BB-9A8D04DB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E2A51-31A9-4E2D-93C3-1B923F4A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B1E9F-E114-4F8E-B66F-7D075F73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DFA61-AE8A-4D9E-A3CE-B5DF13BA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0E821-B16C-43DF-9C19-C957D3B8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CB1D9-75FA-424F-9369-9D90AF0C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C911A-3B44-4E54-9269-37C214BA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613FF-2F2E-4F83-AC23-06EDB914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1E154-7BDC-42F0-AEAA-2CEAE062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91F73-C054-4F93-94A2-DA556EB9E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B3477-75E8-4AE5-8523-9FEFBC3EE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A9BE7-9502-4CE6-BE82-82130D65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25FF4-6F8F-4273-9021-7BA5313C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9CE0F-B21C-4EAE-8EFD-328A8E39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47D60-2939-4FF8-B94E-87446DD6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529F1-EA6D-4243-8B3A-6D2C0A91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91D05-5F03-4D59-8084-2B0FC6E5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42550-59D1-41BA-9CB9-FE0AE323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971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1310-6727-4C73-B760-9DD8ADAF4E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372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EDA3-7036-477F-B67F-B87FEDA155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596520"/>
            <a:ext cx="7772400" cy="14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Глава 5. Экономика ми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761760" y="1937880"/>
            <a:ext cx="792468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0. Структура международной экономи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20" descr=""/>
          <p:cNvPicPr/>
          <p:nvPr/>
        </p:nvPicPr>
        <p:blipFill>
          <a:blip r:embed="rId1"/>
          <a:stretch/>
        </p:blipFill>
        <p:spPr>
          <a:xfrm>
            <a:off x="5181480" y="2460600"/>
            <a:ext cx="299880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кущие операц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Торговля товарами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rad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good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—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упля-продажа овеществленных результатов производства между резидентами и нерезидент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Торговля услугами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rad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service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покупка-продажа неовеществленных результатов производства, приводящих к изменению условий потребле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Переводы доходов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com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получение и выпла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зарплаты, обычно работни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м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пребывающ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 рубежом менее года, а также доходы и платежи процентов по иностранным инвестициям и кредитам между резидентами и нерезидент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Текущие переводы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urrent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ransfer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другие платежи между резидентами и нерезидентами (почтовые переводы, оплата налогов, субсидий, социальных пособий),  межправительственные платежи, получение и выдача грант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Капитальные и финансовые операци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апитальные переводы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ransfers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передача собственности на капитал между резидента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нерезидентами или прощение долга кредиторо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ямые инвестиции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irect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vestment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приобретение резидентом длительного интерес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редприятии нерезидента, обычно пакета акций, превышающего 10%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ртфельные инвестиции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ortfolio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vestment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сделки с акциями, облигациями и другими ценными бумагами, обеспечивающими участие в капитале, но не представляющими длительный интерес для инвестор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ругие инвестиции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vestment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получени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предоставление коммерческих кредитов, финансовых ссуд, покупка-продажа иностранной валюты, монетарного золота и других резервных актив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труктура международной экономик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международная микроэкономика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международная торговля товарами, услугами, факторами производств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регулирующая их государственная политик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международная макроэкономика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международные финансы, государствен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экономическая политика в условиях открытой экономик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оберт Солоу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5" name="Picture 4" descr="Robert M. Solow (Роберт Солоу)"/>
          <p:cNvPicPr/>
          <p:nvPr/>
        </p:nvPicPr>
        <p:blipFill>
          <a:blip r:embed="rId1"/>
          <a:stretch/>
        </p:blipFill>
        <p:spPr>
          <a:xfrm>
            <a:off x="5259240" y="1295280"/>
            <a:ext cx="3498840" cy="49532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304920" y="1676520"/>
            <a:ext cx="4647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род.1924)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мериканский экономист, автор неоклассической теории экономического роста и развития. Показал, что в длительной перспективе технологическое развитие является фундаментальной предпосылкой для экономического роста. В статье “Вклад в теорию экономического роста” (1956) предложил математическую модель, которая показывала, как возросший основной капитал вызывает рост продукции на душу населения. Эта модель экономического роста получила название модель Соло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Ян Тимберген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9" name="Picture 4" descr="ЯН ТИНБЕРГЕН"/>
          <p:cNvPicPr/>
          <p:nvPr/>
        </p:nvPicPr>
        <p:blipFill>
          <a:blip r:embed="rId1"/>
          <a:stretch/>
        </p:blipFill>
        <p:spPr>
          <a:xfrm>
            <a:off x="4952880" y="1295280"/>
            <a:ext cx="3498840" cy="49532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380880" y="1066680"/>
            <a:ext cx="434340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3–1994)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дерландский экономист, один из создателей эконометрики — дисциплины, соединившей экономическую теорию со статистикой и математик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1970-е гг. возглавлял работ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 подготовке доклада о концепции и методологии глобалистики как новой науки. Основы ее были изложены в монографии “Пересмотр международного порядка” (1976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57200" y="49528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облемы человечества уж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е могут быть решены правительствами стран. Нужно мировое правительств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 (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международной экономике страны делятся на страны с развитой экономикой, другие страны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 формирующимся рынком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развивающиеся стран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траны с низкими доходам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с доходами ниже средних считаются развивающимися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руппа из наименее развитых стран имеет право н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ое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отношени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 стороны других стран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 (2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езиденты в каждом из основных секторо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кономики — реальном, бюджетном и денежном — экономически связаны с нерезидентам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ти связи составляют внешний сектор экономик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уществуют следующие формы международных экономических операций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орговля товарам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орговля услугам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ереводы доход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екущие переводы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ямые инвес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ц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ртфельные инвестиции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чие инвестиции и движения резервных активо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Аналитические группы стран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траны с развитой экономикой 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dvanced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conomics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29 промышленно развит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стран Северной Америки, Западной Европы и Тихоокеанского бассейна с высоким уровнем доход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Другие страны с формирующимся рынком и развивающиеся страны 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other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emerging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markets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and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eveloping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все остальные страны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звитые стран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рупнейшие страны с развитой экономикой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jor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dvanced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conomies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Группа 7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7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7): Канада, Франция, Германия, Италия, Япония, Великобритания, СШ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Зона Евро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uro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rea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европейские страны, в которых используется евро в качестве единой денежной единиц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Европейский союз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uropean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ion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25 стран — членов Европейского союза — крупнейшей экономической интеграционной группировки в мир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овые индустриальные экономики Азии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ewly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dustrialized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sian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conomies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— 4 страны и территории в Азии (Гонконг, Корея, Сингапур, Тайвань), которые характеризуются стабильно высокими темпами рос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Уровни экономического развит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страны с низким уровнем доходов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low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com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— 64 государства, в которых ВНД на душу населения составил в 2005 г. менее 875 долл.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страны с доходами ниже среднего уровня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lower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iddl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com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— 66 государств, в которых ВНД на душу населения составил 876–3465 долл.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страны с доходами выше среднего уровня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upper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iddl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com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— 35 государств, в которых ВНД на душу населения составил 3466–10725 долл. Россия входит в эту группу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страны с высоким уровнем доходов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high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come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— 44 государства, в которых ВНД на душу населения составил более 10 726 дол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звивающиеся стран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eveloping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— государства, в основном в Азии, Африк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, Латинской Америк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, характеризующиеся низким и средним уровнем доходов на душу насел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Наименее развитые страны 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least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eveloped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LDCs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группа развивающихся стран, имеющих право на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об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е отношение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о стороны других стран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заимосвязь реального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 внешнего сектор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зность сбережений и инвестиций внутри страны равна счету текущих операций платежного баланса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-I=CA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Если текущий баланс положительный, страна фактически отдает часть своих сбережений другим странам и не может вкладывать их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собственное развити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Если же текущий баланс отрицательный, страна привлекает средства других стран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 может инвестировать в свой экономический рост не только сбереже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я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внутри страны, но и сбережения других стран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заимосвязь бюджетного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 внешнего сектор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ля обеспечения сбалансированности бюджета дефицит можно финансировать из двух источников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ймов у резидентов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ймов у нерезидент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нешнее финансирование бюджета является основным связующим звеном между бюджетным и внешним секторами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заимосвязь денежного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 внешнего сектор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Если текущий баланс страны отрицательный, то источников финансирования у нее два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ополнительный приток капитала  из-за рубеж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пользование государственных валютных резервов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возможности финансирован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платежных дисбалансов заключается связь денежного и внешнего сектор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еждународная экономическая операц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international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economic transaction)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— сделка между резидентами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и нерезидентами, при которой передается право собственности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а материальные или финансовые активы или оказываются услуги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екущие операц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питальные и финансовые операц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1:46:14Z</dcterms:created>
  <dc:creator/>
  <dc:description/>
  <dc:language>en-US</dc:language>
  <cp:lastModifiedBy>LEGION</cp:lastModifiedBy>
  <dcterms:modified xsi:type="dcterms:W3CDTF">2016-01-05T11:04:04Z</dcterms:modified>
  <cp:revision>140</cp:revision>
  <dc:subject/>
  <dc:title>18. Фирма на рынке</dc:title>
</cp:coreProperties>
</file>