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0490-1636-4D20-BE09-DD6C44A2030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Е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НГЕ-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ЦИОНАЛЬНАЯ  ВАЛЮТА КАЗАХСТ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ЕНГЕ-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НАЦИОНАЛЬНАЯ  ВАЛЮТА КАЗАХСТА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 валюты Казахстана –  тенге произошло  12 ноября 1993 года. В этот день вышел указ Президента Республики Казахстан «О введении национальной валюты Республики Казахста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 название валюта получила от  древних тюркских денег под названием «таньга», что очень созвучно со словом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ждение валюты Казахстана –  тенге произошло  12 ноября 1993 года. В этот день вышел указ Президента Республики Казахстан «О введении национальной валюты Республики Казахстан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е название валюта получила от  древних тюркских денег под названием «таньга», что очень созвучно со словом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ервые банкноты Казахстана "Тенг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ервые банкноты Казахстана "Тенге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на руках у казахстанцев имеются следующие бумажные банкноты: двести тенге, пятьсот  тенге, одна тысяча тенге, две тысячи, пять тысяч, десять тыся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йчас на руках у казахстанцев имеются следующие бумажные банкноты: двести тенге, пятьсот  тенге, одна тысяча тенге, две тысячи, пять тысяч, десять тыся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479C-E47A-4868-8053-E1054B88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0183-5FE7-4CE4-AD77-A911C2AF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D7F3-E52D-4E2A-9F81-8C18C445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7F3-320C-4C23-8B7B-0BDB830D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DDA9-26AF-476B-A4CE-F19BE465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C188-2EE8-4D5D-8DD2-60025AE4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A0AB-77C1-4F91-8F8E-67DB6D9F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7123-CE0C-440A-9B3C-4159240C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501D-1A49-4C05-BF1B-D816D9AA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7678-74C9-4060-8243-432BE638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A145-F445-4AAD-9AC5-C91912B4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3FE0-5DBB-4137-AB86-35BC5FC5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71D4-6E80-4BDB-9C09-D7E925DA1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357120" y="-339840"/>
            <a:ext cx="10764720" cy="7913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0040" y="2352240"/>
            <a:ext cx="68659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990000"/>
                </a:solidFill>
                <a:latin typeface="Georgia"/>
              </a:rPr>
              <a:t>ТЕНГЕ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270080" y="1841400"/>
            <a:ext cx="7619760" cy="39369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270080" y="1816200"/>
            <a:ext cx="7619760" cy="3987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482920" y="1905120"/>
            <a:ext cx="5194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270080" y="1784520"/>
            <a:ext cx="7619760" cy="40510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270080" y="1803240"/>
            <a:ext cx="7619760" cy="40132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775040" y="-193680"/>
            <a:ext cx="5383440" cy="7796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0" y="-103320"/>
            <a:ext cx="4775040" cy="7848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03320" y="0"/>
            <a:ext cx="10302840" cy="77598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-458640" y="-255600"/>
            <a:ext cx="10644120" cy="8075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47560" y="129708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ТЕНГЕ-  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НАЦИОНАЛЬНАЯ  ВАЛЮТА КАЗАХСТАНА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-358920" y="-85680"/>
            <a:ext cx="10628280" cy="7837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55280" y="812880"/>
            <a:ext cx="8705880" cy="60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Рождение валюты Казахстана –  тенге произошло  12 ноября 1993 года.</a:t>
            </a:r>
            <a:r>
              <a:rPr b="1" lang="en-US" sz="35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00ff"/>
                </a:solidFill>
                <a:latin typeface="Arial"/>
              </a:rPr>
              <a:t>В этот день вышел указ Президента Республики Казахстан «</a:t>
            </a:r>
            <a:r>
              <a:rPr b="1" lang="en-US" sz="3500" spc="-1" strike="noStrike" u="sng">
                <a:solidFill>
                  <a:srgbClr val="0099ff"/>
                </a:solidFill>
                <a:uFillTx/>
                <a:latin typeface="Arial"/>
              </a:rPr>
              <a:t>О введении национальной валюты</a:t>
            </a:r>
            <a:r>
              <a:rPr b="1" lang="en-US" sz="3500" spc="-1" strike="noStrike">
                <a:solidFill>
                  <a:srgbClr val="ff00ff"/>
                </a:solidFill>
                <a:latin typeface="Arial"/>
              </a:rPr>
              <a:t> Республики Казахстан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Свое название валюта получила от  древних тюркских денег под названием «таньга», что очень созвучно со словом деньги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46160" y="-20520"/>
            <a:ext cx="1002816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6e"/>
                </a:solidFill>
                <a:latin typeface="Tahoma"/>
              </a:rPr>
              <a:t>Первые банкноты Казахстана "Тенге"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03040" y="2336760"/>
            <a:ext cx="5112000" cy="5118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978440" y="812880"/>
            <a:ext cx="5041800" cy="50799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293400"/>
            <a:ext cx="8602920" cy="77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741b47"/>
                </a:solidFill>
                <a:latin typeface="Georgia"/>
              </a:rPr>
              <a:t>Сейчас на руках у </a:t>
            </a:r>
            <a:r>
              <a:rPr b="0" lang="en-US" sz="3500" spc="-1" strike="noStrike" u="sng">
                <a:solidFill>
                  <a:srgbClr val="0099ff"/>
                </a:solidFill>
                <a:uFillTx/>
                <a:latin typeface="Georgia"/>
              </a:rPr>
              <a:t>казахстанце</a:t>
            </a:r>
            <a:r>
              <a:rPr b="0" lang="en-US" sz="3500" spc="-1" strike="noStrike">
                <a:solidFill>
                  <a:srgbClr val="741b47"/>
                </a:solidFill>
                <a:latin typeface="Georgia"/>
              </a:rPr>
              <a:t>в имеются следующие бумажные </a:t>
            </a:r>
            <a:r>
              <a:rPr b="0" lang="en-US" sz="3500" spc="-1" strike="noStrike" u="sng">
                <a:solidFill>
                  <a:srgbClr val="0099ff"/>
                </a:solidFill>
                <a:uFillTx/>
                <a:latin typeface="Georgia"/>
              </a:rPr>
              <a:t>банкноты</a:t>
            </a:r>
            <a:r>
              <a:rPr b="0" lang="en-US" sz="3500" spc="-1" strike="noStrike">
                <a:solidFill>
                  <a:srgbClr val="741b47"/>
                </a:solidFill>
                <a:latin typeface="Georgia"/>
              </a:rPr>
              <a:t>: двести тенге, пятьсот  тенге, одна тысяча тенге, две тысячи, пять тысяч, десять тысяч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89080" y="2641680"/>
            <a:ext cx="9646920" cy="47228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57600" y="68400"/>
            <a:ext cx="97268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41b47"/>
                </a:solidFill>
                <a:latin typeface="Georgia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9536040" cy="41608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5892840" y="4165560"/>
            <a:ext cx="3873600" cy="285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5892840" y="507960"/>
            <a:ext cx="3879720" cy="3335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04920" y="4064040"/>
            <a:ext cx="3423960" cy="306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4"/>
          <a:stretch/>
        </p:blipFill>
        <p:spPr>
          <a:xfrm>
            <a:off x="406440" y="507960"/>
            <a:ext cx="3457440" cy="3235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5"/>
          <a:stretch/>
        </p:blipFill>
        <p:spPr>
          <a:xfrm>
            <a:off x="3251160" y="2336760"/>
            <a:ext cx="3114720" cy="29401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35040" y="1619280"/>
            <a:ext cx="8889840" cy="43815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EGION</cp:lastModifiedBy>
  <dcterms:modified xsi:type="dcterms:W3CDTF">2016-01-05T11:04:17Z</dcterms:modified>
  <cp:revision>3</cp:revision>
  <dc:subject/>
  <dc:title>PowerPoint Presentation</dc:title>
</cp:coreProperties>
</file>