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47BE-820D-4B11-BA2B-9663EF1A23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5EE-4F02-42AB-A170-6635C723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993-2B61-4E69-9BEA-C6D43FE9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146-0D5E-4A74-927F-006F0263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166-0492-4889-A7BA-318A7DC9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2EE-A3BA-49BA-9775-061DED0A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07C-7299-405F-870B-93334C84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609-7FDC-42EA-BFA7-8651DFB0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AE0-EBF5-4268-9C69-6BA829FA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CA9-2160-4DB2-819A-585952A2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611-9B9D-4426-9A44-77A3715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D41-9754-48F3-9B6D-6C610F7C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40E-3026-4E4D-8C61-177135A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185F-F27E-460B-B8E9-FB7538A3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775040" y="-193680"/>
            <a:ext cx="5383440" cy="77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-103320"/>
            <a:ext cx="4775040" cy="784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3320" y="0"/>
            <a:ext cx="10302840" cy="7759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  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Рождение валюты Казахстана –  тенге произошло  12 ноября 1993 года.</a:t>
            </a: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В этот день вышел указ Президента Республики Казахстан «</a:t>
            </a:r>
            <a:r>
              <a:rPr b="1" lang="en-US" sz="3500" spc="-1" strike="noStrike" u="sng">
                <a:solidFill>
                  <a:srgbClr val="0099ff"/>
                </a:solidFill>
                <a:uFillTx/>
                <a:latin typeface="Arial"/>
              </a:rPr>
              <a:t>О введении национальной валюты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 Республики Казахстан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Сейчас на руках у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казахстанце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в имеются следующие бумажные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банкноты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GION</cp:lastModifiedBy>
  <dcterms:modified xsi:type="dcterms:W3CDTF">2016-01-05T11:04:17Z</dcterms:modified>
  <cp:revision>3</cp:revision>
  <dc:subject/>
  <dc:title>PowerPoint Presentation</dc:title>
</cp:coreProperties>
</file>