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D2B1-D59E-4243-9F91-320583F917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470-AA32-4C8F-A6E4-311EF69F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384-5728-4FAC-ACFD-D477C81E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E51-E191-466D-8272-FDE260AB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432-E3A2-4A96-8089-1E28EB54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13A1-E250-4A1C-B8A6-7599DBA4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586C-AE49-4E50-B075-8137E054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9EE3-21C0-4F51-8D78-53A3CED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14B7-372B-4A21-8D92-96CFD404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95D8-544F-46BA-8DB6-172E987A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6AD-0A28-4FBE-9DD2-9DCDF519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F47C-9FE1-477B-99E6-F951941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EA7-F312-4211-81BA-136CD39D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838B-FA90-45DE-8EF5-46EFF96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8F3F-C7F5-4EC7-BB87-CB893A17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AE0C-D421-4A20-B186-1E9AF198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5C9D-35BB-4585-B518-37C5C6D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47FC-98B6-4ACA-A78D-7D64A540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C90-FC53-470A-90CE-334BAB3A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242-CA98-4D17-BB1F-5E34C661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2B8-03B2-4938-9A30-399DB746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B6E-C03E-4374-9B90-8AA1E57E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036-9A1C-4F67-8E1B-D3C6C184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F2D-299D-420B-A9B3-B9DB850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D47-FA93-4CAC-9D85-E3F8DF63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BB28-0B92-4CAD-A4C1-CF8F893A27C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E193-B3DB-4655-B7C5-84A88962C6F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1F6B-3341-4E83-AEB9-28B2FD70418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19280" y="871920"/>
            <a:ext cx="81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шибки и пропуски появляются по следующим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ичинам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ница во времени между поступлением товаров и услуг и их финансовым обеспечени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3D8E-45CE-47D1-BC30-C679F0A90C1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92000" y="21686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задержки в пути при доставке товаров, наприме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аличие неучтенных опера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есогласованность цен контрактов с действующими цена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широкое развитие кредитных отношений (будущие платежи учитываются в разделе движения капиталов и кредитов)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DA2B-FFC0-4726-9224-2F1102456CA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900000" y="5918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перации с ликвидными валютными активам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E4EE-98B5-4DF2-84A4-6B7CE573246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71640" y="835560"/>
            <a:ext cx="75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Составле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базируется н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нятии резидент и нерезиден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пределении сделк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чете цен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фиксации момента сдел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5F91-477E-41E5-B9B2-3A1EC1C28B9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63640" y="696600"/>
            <a:ext cx="80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Классификация статей платежного баланса по методике МВФ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. Текущие опе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. Прямые инвестиции и прочий долг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. Кратк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шибки и пропус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Е. Компенсирующие стат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Чрезвычайное финансир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бязательства, образующие валютные резервы иностранных официальных орган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Итоговое изменение резерв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159200"/>
            <a:ext cx="76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Текущие операци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товар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слуг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доходы от инвести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услуги и дох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частные односторонние перев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фициальные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08000" y="871920"/>
            <a:ext cx="76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ямые инвестиции и прочий долгосрочный капитал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ям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ртфельн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й долгосрочный капит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08000" y="123228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Итоговое изменение резервов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СД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езервная позиция в МВФ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иностранная валют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требова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кредиты МВФ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900000" y="9068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ые разделы платежного баланса РФ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операций с капиталом и финансовыми инструмент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Чистые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Изменение валютных резервов («+» - снижение, «-« - рост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63640" y="234540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тать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делятся на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балансирую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платеж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альдо (соотношение активов и пассивов) по основным стать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ложительное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если активы бол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, если активы мен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тог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всегда равен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00000" y="9522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042920" y="9435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пособы измерения 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платежного балан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Концепция баланса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Концепция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8719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аланс текущих операций наиболее полно отражает величину </a:t>
            </a: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реальных ценносте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которые страна передала загранице или получила от нее в дополнение к ВВП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92000" y="1307880"/>
            <a:ext cx="756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сновные разделы </a:t>
            </a:r>
            <a:r>
              <a:rPr b="1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–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теку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операции, движение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долгосрочного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апит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ирующие операци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движение краткосрочного капитала и валютных резер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базис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умма итогов разделов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оторая должна быть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равн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у операций по остальным разделам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4"/>
          <p:cNvSpPr/>
          <p:nvPr/>
        </p:nvSpPr>
        <p:spPr>
          <a:xfrm>
            <a:off x="755640" y="906840"/>
            <a:ext cx="81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ая цель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ить прирост суммы ликвидных долларовых активов у нерезиден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а ликвидност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сумма сальдо операций по основным группам А + В + С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ие стать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( с обратным знаком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34920" y="591480"/>
            <a:ext cx="79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 = А + В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C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(основные стать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ая статья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тог по группе Н (официальные валютные операци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663120"/>
            <a:ext cx="77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Факторы, влияющие на состоя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Циклические колебания эконом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Рост государственных расходов за границ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34920" y="2379600"/>
            <a:ext cx="74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Милитаризация экономики и уровень военных расх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Усиление международной финансовой взаимозависим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6. Изменение объемов и характера международной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7. Динамика валютных кур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8. Уровень инфля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9. Чрезвычайные обстоя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79640" y="7682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Необходимость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971640" y="2744640"/>
            <a:ext cx="75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719280" y="9090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атериальная основа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официальные золотовалютные резерв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государственный бюдж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регламентация внешнеэкономических опер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4B7F-1F1F-4B98-9B9D-2BD3ED171C8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71640" y="88056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92000" y="768960"/>
            <a:ext cx="80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етоды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Дефляцион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Девальва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текционистские меры. Валютные ограни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Финансовая и денежно-кредит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Специальные меры государственного воздействия на платежный бала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6A4C-E68D-4378-88EE-3CC4A69C452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4360" y="2527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кономические операции включают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делк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CAB9-EBEB-457C-BDCC-0F539826BB4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55640" y="1233360"/>
            <a:ext cx="77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Экономическая сделк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41A6-7E69-484D-9E31-04B97A272BF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76360" y="15120"/>
            <a:ext cx="79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отношение требований и обязательств страны  в иностранной валют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латежный баланс содержит все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финансовые активы (или требования) и обязательства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резидентов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 отношению к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нерезиден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новной принцип составления платежного баланса – принцип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двойной запис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т.е. каждая операция отражается по дебету и кредит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66168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i="1" lang="ru-RU" sz="2800" spc="-1" strike="noStrike">
                <a:solidFill>
                  <a:srgbClr val="3366ff"/>
                </a:solidFill>
                <a:latin typeface="Tahoma"/>
              </a:rPr>
              <a:t>по экономическому содержанию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личае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определенный пери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е фиксируется в форме статистических показателей, соотношение платежей и поступлений постоянно меняе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за определенный период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DE6A-A45E-4F37-A6AD-EA1B6BC0F12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49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1280" y="141192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труктура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Баланс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движения капиталов и креди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перации с ликвидными валютными актив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60C-DE76-4AD6-BB00-FB7EB4A6ED5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9640" y="1370520"/>
            <a:ext cx="82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ав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Торговый бала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услу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Выплаты и поступления доходов по инвестициям и процентов по международным креди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EGION</cp:lastModifiedBy>
  <dcterms:modified xsi:type="dcterms:W3CDTF">2016-01-05T11:34:34Z</dcterms:modified>
  <cp:revision>143</cp:revision>
  <dc:subject/>
  <dc:title>Международные финансовые рынки</dc:title>
</cp:coreProperties>
</file>