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HAZAR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49B9-EA83-4DF6-9374-53A0D5078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77A-9677-49B2-BF93-9E2CF223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B4C-30A9-4AC9-926A-B1A29737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EBCA2-2598-4D02-88AD-3A552C4A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E18B6-5180-479C-ADDE-0314047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ABE46-E485-468A-8360-0CBE441A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9203B-28A0-4A5E-8A37-2951EFAC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A44CB-EE61-4012-819F-B884E19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DD6DE-B9F6-47FF-9126-D2D9DF3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90561-E95A-43E0-B491-1289CC8F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F6A69-295F-4FF9-845C-BC9D9D12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98C77-8265-4478-96BB-E69594C5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35F02-D0E5-479C-AFB5-425FA709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ABD-52EA-484F-BE8E-D30406A3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A5ECB-982D-40AE-B094-60FE4F21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E9802-EA17-4237-ADB2-802CB18D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FAF5F-5832-4632-89F5-ABC13DBA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6583E-72F6-466B-9906-B29849D9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5BFC7-0756-4256-BA2E-A52742BB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762E5-1F71-4E48-BAB8-70D1DEB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EB3A4-84A5-43FA-BBDB-63D465D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D88A1-8C88-467C-AFE2-13D4973E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9F832-56AD-46FB-BA15-E03ABA1E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34014-D33F-447C-95FC-55A2A688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CF4-BFA4-4AE4-9122-CC8EFD01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9DA06-1BAF-4E54-B495-0E4BF551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18186-575C-468A-B87B-5197F13A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364B2-E742-4051-ABB4-508CDE2E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15ED4-533D-4BBE-AD91-ACFDEB82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10892-39B3-4657-ACE1-5A739928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F1C9F-A416-4C1E-A98C-D7148EE2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5C84C-B6A4-40E6-AC8E-09E58ACD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EBAEB-FE8A-4E8D-B2E4-90A40DCE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B6CF9-6DCD-4FD8-9BF4-68D6FE0B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F3C83-7AE7-4157-908C-18AD14F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67E6-28DC-4C4E-BF22-6DE4DE5D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F1E33-1117-41DD-A2D2-75150A62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371DB-D285-4A01-BC47-9B70EB9E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E53BE-354E-4842-A0EE-B17D864D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75471-6698-4E08-B9CA-E39ECEDC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A3EF0-3F36-4583-9625-C39A211C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E6CD8-9295-4E5C-A6AB-AAF307DB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E5975-E4A8-4763-93FE-C573B5E8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B2EBF-700B-4C12-AD35-1172DB1F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EE7EB-2A92-4194-B4D8-D75AE6A0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2D056-67AA-4AD7-9F88-AD7D79A9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37A7-D3E8-4878-8F1A-8CB4A3E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D2ECE-0392-45C1-90B1-781B089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F9CB9-6C74-4A51-A974-53E32E5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3646C-92D4-4A54-93A0-0EAEABE1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67047-48DE-4EED-A61F-0A1A68A2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44B4B-DFED-4543-A64E-9828EFBA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13FEB-9032-4117-AED3-092C4D33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226A8-EE89-4ECE-A92D-2E07DF4A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434E5-14E4-4AA7-BAE8-09BBB916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3F00A-A935-468D-B534-AC3464A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9BBE3-8511-4E56-A6F6-46DA8C5F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9036-3175-4BD5-94AC-F948498D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EA7A1-3545-403D-ACCE-FCA886C4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90D04-1AF8-450B-8307-CCBEE642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B3192-852A-4FFB-9C64-366D82B3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0B7FD-A3F9-4750-BDC7-F18DD9E5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F6C89-F697-4381-BD77-9DDE1986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3A860-7A3E-4ECD-A027-85D1AEFE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11D8F-FC9C-40A5-BC36-C74B9BFF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769F4-164C-4FB3-99F2-DD15827E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EC70C-5FFD-45A4-B8F1-9D58A3EC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B5416-E0F0-46F4-AF22-50582383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50E5-7B70-4069-9AAD-1FCB2C6A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8D67D-6DD2-4B4F-A8BA-CF1EE0D0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AD878-EF1C-46B0-BEB0-4BCEBB06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B4A9A-4715-412F-981E-6D4A3FB1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B68A7-A647-4CC5-9A5C-13034D3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788F9-5D6A-410B-B778-46311DE9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BEE3F-3822-4E41-B858-0387FC6A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3E44B-5BDF-4AE6-89DF-B8759864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85757-2CFA-4FE6-8FEA-489242FC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4E2E5-1DED-4960-9F8D-9FC834FB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D95B-C951-47FB-90B4-24AB4E50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C078-A46F-42AC-B1FB-78F16BBB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39C-B65A-45A4-84D1-17B8876E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2E2-D352-492F-8278-8517DF29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2A84-D927-4542-980A-62B1ACB5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072E-12A7-439C-BDF4-92DB6B08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EC42-9975-4B2F-BD84-3279A8C8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C016-9045-4A65-B64E-0B656D70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C6E7-4522-4CE5-9692-D8769DEC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E791-5E18-41D6-9F14-E3C09A51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BCE8C-D7B6-4FBE-8480-338531D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8FF9-9065-4344-9F0C-D7739635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4B11-FE9A-4F4A-9DBC-78A145C3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04F8-3B45-4D4F-837D-4AA49136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686-1AC1-4BB4-BA9D-3910B055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9563-CA0F-4BB2-AB3D-58F8E0F7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8868-9A80-48A3-9367-F651454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7710-E641-4DF2-8292-E6EE7868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9CA3-3735-40D8-B5F8-6F14DB1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0D5B-3F1D-48AF-874E-D9D6E1DA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820C-E4FD-49A9-AEB8-C4A99204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B83B-E8AC-4E49-9ADD-4BCCA472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63CD2-514A-41DA-BD79-F7019AAD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5D423-439E-4CB2-8FCD-F9F67AC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A4DA-9EA7-415F-AA7B-ABDD8E9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548-EF7F-4C77-9085-0E192086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F6C17-BCAC-479A-8D7C-25104431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11892-8ACE-4699-8FBC-B9F6681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8220-88DB-486E-AEE9-3744E8D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B7044-1491-44F3-9E08-F0C3BABD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0F0BB-DF45-48F8-8155-3D79D4D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5F3A-082D-48C4-8496-46628E4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E174-577A-4133-B415-4170CBA3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EBB8E-7C23-43AF-88C0-9C1D8928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E1F8-0D0E-4D64-8A43-BA3EBF6A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BC28E-B015-4429-8CEF-45287596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A11-67C8-4B7E-9DC0-96DB7C3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6D00-DE1B-42F6-B927-A0C0BE91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08826-51AF-4746-A3BB-248A0084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A720D-C982-48D8-AB1F-01776A67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D5E54-FDB6-4404-967D-4DD70EFE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C0AA-4FAA-448C-A0CD-1E214798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2F95D-D2F3-4BCA-891A-06BC6C9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C6CC-F47B-44BA-B6D4-23CBB09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CB57-415B-4CD5-BA6F-441B3777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818BF-17F1-42BC-A95B-872D2307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3591A-DB52-46CC-9D6D-4C2C5EFF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E91-6596-498B-81EB-C16BE3AF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C16F6-96F6-40D1-A680-A0B96428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C606A-1B48-4DFB-84C3-5F12371D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AA21-531A-44B0-BDBE-372A2E09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5B664-4F03-45B0-AF7F-AF26F56E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A6BCB-84B6-47E3-97BC-6926B582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C1B51-2B55-4EE5-B44C-AC71A16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5F19-7B6F-4ADE-B845-9614E109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5F1D2-8325-4B19-A85F-F463655A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6F602-ED5F-4409-A90E-A01D8078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15FE-091D-47D9-B5B5-28D498D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FB1-4989-4B45-9C00-E629FE0D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703BF-99C4-4C26-9FB8-B9CBF173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2504C-3E0E-4988-94C7-061160C7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B15B7-1A74-4B9C-BB30-71E281F0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2C417-2928-425D-91DB-63946D4A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BD14C-D30E-4E25-9E50-7BE81A2B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843FD-D50F-4D62-91F1-86D66C89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E5479-082E-40A6-A5D7-C3560A3B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97673-D112-4B64-BE3E-1F813B0A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99FAE-20CD-4F68-8492-B72811EB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35564-A702-4393-B7EA-6FE6539C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414-4CDF-4FFA-BB5C-1CDAB958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C6CBD-652D-4483-826A-0F728B9C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98039-5BAF-4D84-B60E-C82E07FC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ACAC-4BAB-4284-9BC9-095FBCA3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BF44A-9FE5-49FA-ABB2-931D554B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779F8-FCF6-41EC-A3CB-BE3BE45A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8F9E2-F55F-4F80-BDBE-30EC41FC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F540F-65E2-43AC-84A2-AD88C47E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EED46-9DC7-426E-9BFE-E8827941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41C99-7D84-4892-9523-E5564A7C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92C3C-58C6-401B-A3B0-27BBD476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045-BE1B-4B80-AEFD-167E19EF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F6795-DA1D-4F9B-86E6-B0ABCF8C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F95E1-E43A-439A-B592-C31BC76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57201-30FF-46AC-96AA-482228BC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24ADF-BB0A-443F-AB51-C089ED92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71455-9749-4F03-88B5-B6D70C72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74A44-E0EA-46FF-B00D-BE3A1A72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65DD2-26B1-4D6E-81C8-5DE9344A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3B830-63F4-4071-A2BD-A5B620CA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E2A3F-0F97-4A85-84DB-8C5A30AD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76D29-93AE-4A0E-B118-39D9EEDB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3204-12A4-4746-B5D7-C77F5DEFD1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0A40-7D3F-4E10-BC01-0E3BE15633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30ED-A9A1-4066-BF16-A4FAD1769F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C215-146B-4CDF-90DB-9A2ECC0A5A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E91F-921C-4B7C-8072-D25BC11B33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D3BD-A7FD-498C-898B-AE73515118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AD4D-8304-49F5-BE41-F75E645C42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E762-CB00-4E3D-A784-BA899CFFD3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5259-F0E2-4D45-B54C-3E7EE1639A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6772-4628-47FA-AD3F-E0D0989E59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39A2-D433-44D1-8907-2E524D102C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AE6A-BE6D-451C-AD68-B3690D67A6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6785-71CE-47DF-B878-BAB765E4D3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112B-21B3-4C6E-8CA7-8206AFB537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228600" y="5880240"/>
            <a:ext cx="411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39200"/>
            <a:ext cx="6276960" cy="20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cc66"/>
                </a:solidFill>
                <a:latin typeface="Arial"/>
              </a:rPr>
              <a:t>Мировая экономик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680160" y="501480"/>
            <a:ext cx="129528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Palatino Linotype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внутренни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Ценовой индекс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тнесение номинального валового внутреннего продукта к реально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неизменных (приведенных)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текущих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ебники для первого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ы мировой экономики» - </a:t>
            </a:r>
            <a:r>
              <a:rPr b="0" lang="az-Latn-AZ" sz="3000" spc="-1" strike="noStrike">
                <a:solidFill>
                  <a:srgbClr val="000000"/>
                </a:solidFill>
                <a:latin typeface="Arial"/>
              </a:rPr>
              <a:t>Johanson, P.N., (200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: 619 - 6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2f2f2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ое огл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ы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авления и формы МЭ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ъектом изучения мировой эконом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43:35Z</dcterms:created>
  <dc:creator>fahmadov</dc:creator>
  <dc:description/>
  <dc:language>en-US</dc:language>
  <cp:lastModifiedBy>LEGION</cp:lastModifiedBy>
  <dcterms:modified xsi:type="dcterms:W3CDTF">2016-01-05T11:13:28Z</dcterms:modified>
  <cp:revision>143</cp:revision>
  <dc:subject/>
  <dc:title>Chapter 1 Introduction to  Managerial Economics</dc:title>
</cp:coreProperties>
</file>