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HAZAR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BA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685B-7F76-4830-8E24-9F74BD439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r: Farid M.Mammad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r: Farid M.Mammad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r: Farid M.Mammad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r: Farid M.Mammad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а ССС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капит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соци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хозяйства развивающихся стран, освободившихся от колониаль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а ССС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капит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соци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хозяйства развивающихся стран, освободившихся от колониаль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а ССС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капит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соци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хозяйства развивающихся стран, освободившихся от колониаль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а ССС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капит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соци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хозяйства развивающихся стран, освободившихся от колониаль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внутренний продукт - стоимость всех конечных благ, включающих товары и услуги, произведенные и реализованные в определенной стране за конкретный промежуток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национальный продукт - величина валового внутреннего продукта за вычетом части товаров и услуг произведенных и реализованных иностранцами, проживающими в данной стране, а также суммируя соответствующие доходы граждан данной страны, проживающих за ее пред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индекс - отнесение номинального валового внутреннего продукта к реаль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внутренний продукт - стоимость всех конечных благ, включающих товары и услуги, произведенные и реализованные в определенной стране за конкретный промежуток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национальный продукт - величина валового внутреннего продукта за вычетом части товаров и услуг произведенных и реализованных иностранцами, проживающими в данной стране, а также суммируя соответствующие доходы граждан данной страны, проживающих за ее пред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индекс - отнесение номинального валового внутреннего продукта к реаль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внутренний продукт - стоимость всех конечных благ, включающих товары и услуги, произведенные и реализованные в определенной стране за конкретный промежуток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национальный продукт - величина валового внутреннего продукта за вычетом части товаров и услуг произведенных и реализованных иностранцами, проживающими в данной стране, а также суммируя соответствующие доходы граждан данной страны, проживающих за ее пред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индекс - отнесение номинального валового внутреннего продукта к реаль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внутренний продукт - стоимость всех конечных благ, включающих товары и услуги, произведенные и реализованные в определенной стране за конкретный промежуток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национальный продукт - величина валового внутреннего продукта за вычетом части товаров и услуг произведенных и реализованных иностранцами, проживающими в данной стране, а также суммируя соответствующие доходы граждан данной страны, проживающих за ее пред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индекс - отнесение номинального валового внутреннего продукта к реаль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валовый внутренний продукт - стоимостная оценка ВВП, выраженная в неизменных (приведенных)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ый валовый внутренний продукт - стоимостная оценка ВВП, выраженная в текущих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валовый внутренний продукт - стоимостная оценка ВВП, выраженная в неизменных (приведенных)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ый валовый внутренний продукт - стоимостная оценка ВВП, выраженная в текущих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валовый внутренний продукт - стоимостная оценка ВВП, выраженная в неизменных (приведенных)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ый валовый внутренний продукт - стоимостная оценка ВВП, выраженная в текущих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валовый внутренний продукт - стоимостная оценка ВВП, выраженная в неизменных (приведенных)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ый валовый внутренний продукт - стоимостная оценка ВВП, выраженная в текущих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для первого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мировой экономики» - Johanson, P.N.,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номика» - А.С. Булатова, - 4-е изд. 2008    стр: 619 - 6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для первого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мировой экономики» - Johanson, P.N.,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номика» - А.С. Булатова, - 4-е изд. 2008    стр: 619 - 6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для первого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мировой экономики» - Johanson, P.N.,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номика» - А.С. Булатова, - 4-е изд. 2008    стр: 619 - 6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для первого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мировой экономики» - Johanson, P.N.,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номика» - А.С. Булатова, - 4-е изд. 2008    стр: 619 - 6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е огл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е огл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е огл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е огл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, как и экономика отдельной страны или конкретного производства базируется на совокупности таких факторов, ка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, как и экономика отдельной страны или конкретного производства базируется на совокупности таких факторов, ка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, как и экономика отдельной страны или конкретного производства базируется на совокупности таких факторов, ка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, как и экономика отдельной страны или конкретного производства базируется на совокупности таких факторов, ка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 определена как совокупность национальных экономик отдельных стран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 определена как совокупность национальных экономик отдельных стран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 определена как совокупность национальных экономик отдельных стран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 определена как совокупность национальных экономик отдельных стран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еждународных экономических отно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, работами, услуг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специализация производства и научно-технических работ, или международный научно-технический обм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научно-техническими результа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еждународных экономических отно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, работами, услуг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специализация производства и научно-технических работ, или международный научно-технический обм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научно-техническими результа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еждународных экономических отно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, работами, услуг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специализация производства и научно-технических работ, или международный научно-технический обм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научно-техническими результа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еждународных экономических отно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, работами, услуг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специализация производства и научно-технических работ, или международный научно-технический обм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научно-техническими результа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, валютно-финансовые и кредитные связи между стран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капитала (инвестици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(миграция) рабочей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международных экономических организаций, хозяйственное сотрудничество в решении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, валютно-финансовые и кредитные связи между стран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капитала (инвестици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(миграция) рабочей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международных экономических организаций, хозяйственное сотрудничество в решении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, валютно-финансовые и кредитные связи между стран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капитала (инвестици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(миграция) рабочей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международных экономических организаций, хозяйственное сотрудничество в решении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, валютно-финансовые и кредитные связи между стран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капитала (инвестици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(миграция) рабочей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международных экономических организаций, хозяйственное сотрудничество в решении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изучен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всемирное, или мировое, хозяйство, под которым понимается совокупная система отдельных стран, участвующих в международном разделении труда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изучен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всемирное, или мировое, хозяйство, под которым понимается совокупная система отдельных стран, участвующих в международном разделении труда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изучен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всемирное, или мировое, хозяйство, под которым понимается совокупная система отдельных стран, участвующих в международном разделении труда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изучен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всемирное, или мировое, хозяйство, под которым понимается совокупная система отдельных стран, участвующих в международном разделении труда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 - Римская импе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ая империя дала прообраз всемирных экономических отношений по производству, распределению, обмену и потреблению жизненных благ, а значит и начало развития всемирного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енесс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ы внешний рынок и внешняя торговля стали приобретать особо важное значение, что подтверждается еще раз и снаряжением различных экспедиций с целью отыскания Новых земель, а значит и новых источников сырья и новых рынков сбыта создаваем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 - Римская импе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ая империя дала прообраз всемирных экономических отношений по производству, распределению, обмену и потреблению жизненных благ, а значит и начало развития всемирного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енесс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ы внешний рынок и внешняя торговля стали приобретать особо важное значение, что подтверждается еще раз и снаряжением различных экспедиций с целью отыскания Новых земель, а значит и новых источников сырья и новых рынков сбыта создаваем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 - Римская импе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ая империя дала прообраз всемирных экономических отношений по производству, распределению, обмену и потреблению жизненных благ, а значит и начало развития всемирного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енесс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ы внешний рынок и внешняя торговля стали приобретать особо важное значение, что подтверждается еще раз и снаряжением различных экспедиций с целью отыскания Новых земель, а значит и новых источников сырья и новых рынков сбыта создаваем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 - Римская импе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ая империя дала прообраз всемирных экономических отношений по производству, распределению, обмену и потреблению жизненных благ, а значит и начало развития всемирного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енесс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ы внешний рынок и внешняя торговля стали приобретать особо важное значение, что подтверждается еще раз и снаряжением различных экспедиций с целью отыскания Новых земель, а значит и новых источников сырья и новых рынков сбыта создаваем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екс Наполе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50 - 60 годам XIX века мировой рынок стал быстро интернационализироваться, способствуя ускоренному развитию мирового капиталистического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годам XX 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ориентированная на ценности рыноч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хозяйственные отношения которой ориентировались на политические и идеологические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екс Наполе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50 - 60 годам XIX века мировой рынок стал быстро интернационализироваться, способствуя ускоренному развитию мирового капиталистического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годам XX 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ориентированная на ценности рыноч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хозяйственные отношения которой ориентировались на политические и идеологические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екс Наполе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50 - 60 годам XIX века мировой рынок стал быстро интернационализироваться, способствуя ускоренному развитию мирового капиталистического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годам XX 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ориентированная на ценности рыноч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хозяйственные отношения которой ориентировались на политические и идеологические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екс Наполе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50 - 60 годам XIX века мировой рынок стал быстро интернационализироваться, способствуя ускоренному развитию мирового капиталистического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годам XX 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ориентированная на ценности рыноч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хозяйственные отношения которой ориентировались на политические и идеологические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0FBC-253A-40D8-8E37-D9F1289AA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DA7B-EF4A-45E7-BAA1-DA28CE46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24CF1-23FE-42C5-96AD-27BEF339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DB9566-7324-4871-B765-C2416BF5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BAC42-E73C-40CE-8961-C4AC1C18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ED5BB-E9D8-4D84-9049-13FEF5FD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9E2BF7-928D-4BB3-934D-996B25E2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03C61-B6BC-40A4-82C5-C889940B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8A838E-A44D-45A3-A28E-CC58B418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9229F-3C63-47FC-BA84-0B2D04D0F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2245C-D002-45D2-BE3C-4816A07A2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B56FA-50EA-43AD-BBC3-D683AE776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F483-8BB8-4D9F-B1D5-5C1913FCB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9A2986-56E3-44AE-9C50-76DE0699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74062F-E641-4462-BDD2-1E871357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CC5B3-7D84-4DB2-95B7-8D7F2CFE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14AF8-9899-4E70-86B6-DCE6767C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B0CE3A-92E6-4AD9-B5B8-6905D35C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BAD827-C7C4-42B9-90EB-41731AD3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93AEE4-35C1-4766-B4FE-B47A83AA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EC61C7-409D-4AB1-915D-F435ABB7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193F8A-C0A6-44C3-B640-9F4B1B85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280D12-EA3D-4DDB-9678-F5C123DC5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89E8-4E59-490A-9F35-71218DCDE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9CD3A0-8A08-470C-9F74-86FBA82B9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5F1AC-6BF4-4FAA-AF55-F906396A0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29F1D-BA88-48B7-8E45-81CA498C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93CC6-8CBD-49EE-865E-95DE67A8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29CA6A-A728-43A4-A77B-C1E09D24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F13D0-9057-4768-A467-F5574976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A77E0-2945-4D7F-A0E8-FA758C95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DAD1A7-F51D-4AB4-AF93-C43F46F5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47CA1-51E2-45E3-A862-EC69C140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78E12-B03A-4062-864A-516F2DBC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010D-2F03-4B5F-9703-0922C71A4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2887E8-FBE5-4043-A9F4-C3123676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36F3E-E69F-4555-A306-7B3851468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51811-7154-4029-8999-3CAA5CC62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762875-BA7E-412C-87C9-9C729AD91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601AB-F8BC-4DA0-B558-0A00688E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25083C-1430-4115-ABB9-53695370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372D88-9783-4218-A9E6-70B705AF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4A198E-8167-471C-829D-944D9FBC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411880-7DC7-4602-8C68-72B23644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72B9BE-F0D0-44D4-B95C-B2ADD82D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8428-3BE0-4B01-92BA-56200625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D2A1CF-0A7A-45DF-85AC-3F1D739E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EF5F17-E109-4CF1-9AC6-DD35FCBE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A2A419-08D0-456B-92D3-18A81751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C845E5-B8DB-47B3-893F-ACA6219D2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09ECE6-4F4C-4751-A925-043FF6506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521732-A84D-4C94-A3C0-2B305172C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973FC7-A032-4E67-9729-728A5C39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42A490-C7D1-443B-B149-DC8BE669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567D90-3F40-4621-81CB-EA525E42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5736C4-C367-4B98-9491-D71C5F67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70B9-80C3-4F3B-A8CA-70DDB2A5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EEE063-B21C-4510-8430-0120AF7E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ADA4F9-00BC-4A18-9814-6F756662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505FE0-6365-44D4-AF4F-38719DF1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032C60-9C07-4DDC-8490-2D7CFC11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13C99D-1CA0-47F5-90AE-3B49A9F7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C82CE1-E8C6-4522-9ADC-C31649E3F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420EA2-3715-48A6-9141-DF4A8AFBD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04219B-08B9-4B9E-A49D-5DD581556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BD045B-F4C4-4DC8-A357-DF0E0B41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8F0C6B-510E-403F-BCA0-CE41F0EE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A57C-A9D9-4B0A-B757-B3E2FB86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1C9D3C-BAAB-4C91-9EF2-54E2F9ED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0A5F03-A5CB-4645-B109-A7409357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80A3B4-40E0-4EA1-8D88-11A9340F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FDF9C6-2D97-4FED-8ECD-CF0E1F43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4E06AF-1B30-4E21-9FEE-CD518F9B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B9D87E-3566-42F8-9156-7D5BA712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D05F48-164A-467F-893E-92D2C38B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D6CA5E-A46C-45CF-A9AF-09F1395DF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5A980F-4CC1-4CD3-8250-D46C77CA6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8017-57F0-4270-8335-BAAB033B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1682-947A-4DE8-AA39-78357EE3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03B8-F274-4352-8496-00E93FA0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9E00-3ED4-431B-910D-ACEAAF20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671F-2E4A-40F7-9C52-41D66F4A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FC72-7409-4E4E-B6C2-941A35C2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D554-D397-49D7-88F6-3850591C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D414-B7A8-4B75-B3BE-7EAB51ED1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9F12-F69A-49CD-8A49-567B68C9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4BC14-E75B-4782-A3CE-D7DFC7C17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C8F3A-3309-41BC-B119-D6ADDDC8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BCDA7-5FBC-4F38-B38B-6672BBA7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0F755-1568-43AD-8162-C62604E9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DA3D8-54A7-45C5-B885-46565F68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C673-A090-448A-AEEF-FB4313B9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1216E-FDEA-440F-8E6B-A4449A7E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57612-3E2E-42AF-9CDA-DA5FD396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C68A8-E9F1-4C34-A79F-F1410137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6E2E3-880B-4D51-AE75-A057BD19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5FFB4-0FEE-4584-8B3B-A9A7C041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F63E9-D36E-408E-A0ED-92E7D15D9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68CE7-9EDB-4844-99BD-70431B0CA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CAADF-9F96-4CCF-A950-130521649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9844E-B511-4B05-A1D2-EEC81B01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92913-F03C-4C24-AA4C-9C6C7390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4A45-57C7-4600-859B-932C35F4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C7840-0DF7-4905-90A8-638B1C26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61DDA-5488-41C2-9A14-5C9CC46E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F6845-E8B5-4423-B9F0-6753CB07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DD5CD-D0D0-457D-AA4F-CDA9F252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5325C-D4A5-4963-A3EB-E67B880E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2E353-8940-47E2-AAF0-97E5DFBB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8FF61-486F-4263-B93F-C9F3E6AC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D7F88-D4FD-4257-926A-2EFA0BE7D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91B84-CAB8-4E90-86F4-CEC808328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7723B-105B-45A3-A36E-D964DBA5B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1667-0E60-4C29-A63D-18EF794B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D8A10-0A52-4B4B-AE99-119F76EE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E75B3-9791-4D3A-83EA-BBC7DDFD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2C932-8C3C-4F37-9C3B-B95C409C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A61C2-A39C-446A-B650-4C6855AF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B7E60-3D07-4FC3-AC55-D03C0724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46B3C-9CA0-4627-9807-582118CE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44771-CF17-4A2D-A434-4EF35608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2674E-9ADF-4FF7-8C16-9A529260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ED638-AA46-470B-A764-A46722F2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CFBD1-3E76-46E7-8EBE-1B4609E2B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0F0F-2BD6-4613-A060-17F8AFBD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DC8BA-DCC5-4BC5-A3FA-555257D3D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29913-6E0D-4982-9F0F-833268AC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1DDF1-3AB9-4F6F-8BFF-D9B47E02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44031-F6BD-421A-B193-E9971679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4D12E-8387-4958-8D6C-259620AF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ED80F-A9BC-4523-99F7-083FAE42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32336-3395-4F4F-93F6-AFAE8ABF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3663E-E051-413F-B70E-EC8B37F1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8F284-F8BB-420C-A7A4-B07CBC4E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80103-EDC9-46B2-BFA0-1518350F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27A5-EACB-4B5A-8ADC-C91878E7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D337D-352E-4E92-85DE-B4A2D7BB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2580B-FED5-4C5D-A49B-64D084B0C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331D7-84F7-4FF5-BDBD-2301D4221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F9F6B-CAFC-4AF5-9F3D-5FAC7EFF7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10B7E-A320-49B1-ABBC-5C26A973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100C7-116F-44D0-8B54-78C84717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420F5-BB59-4E60-AFAB-D8724501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153CF-FAF4-4470-A536-0EBF1629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AA056-CB11-4DDB-AAFD-63B4CB2C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EA4FC-E15B-4E5E-9387-2C3815B8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3AF1-6F4D-459F-9597-795ED940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B1A8E-7986-45DD-8D8C-76CA15E1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85F76-F0AC-4B25-8609-5E6F32C6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BC0D7-64B9-4206-93EA-A9A0F080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00425-DD89-44CB-8CBE-D851F8D16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F6B18-A126-4DD2-BB85-FC097B8C0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29145-F5CF-48A8-913C-8D209DD9C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E2C0F-86C3-42B4-B940-20245E0E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A1879-465F-40A4-AF2C-60CA5C14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87D7D-DCD5-4030-ABD0-11FFD9CB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2E75D-9DF2-4F0B-ACF9-37CFE881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9C4D-465C-4336-8F01-98822313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17513-E872-4D83-AD5B-09D1F57D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35E56-762B-4A9F-B729-8019F69B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371C3-BEFC-4834-AAF1-E240EBAC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B46FD-8A32-44ED-9E45-EFAF18CD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9DCA4-FAC2-4218-BACE-E25E9D75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0048D-2AA6-48D3-B744-F72C58CBB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6EBDB-F7E5-440D-9251-EE5662190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1C1A5B-42AD-49C3-BDF5-73444217B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0BCBB-37B1-4BC6-83B7-21AB3B53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99B3F7-40C4-4906-B9A8-CAF52050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F5B3-3F0E-4BFA-93C1-291912FFD4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6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CD3A-1A35-401D-A829-7DF7937528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4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9CA5-0122-42C8-8ECF-45463E71E8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1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2BD9-8146-4F6E-99DF-2C74DD2FE6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9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818E-8BE4-44B1-9AC1-8A1A7571BF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96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2A8D-F237-4658-82F2-7AD0955922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48E9-B417-458B-9A50-BBD4DD4F7DA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DAB9-18B0-418E-AFDB-AC34175152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2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64BB-0A06-43D4-BF25-3E107CDB9B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9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ADD5-83AD-4CA3-8254-1BDBB64EDD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37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5CB1-3DD7-4587-AA25-33489F61A5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4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2393-F720-407E-9647-47326DE400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45F4-E00B-484D-9D8F-CCD377E525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9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E17E-333A-4DC7-87DD-AD95A7D2F7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00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6"/>
          <p:cNvSpPr/>
          <p:nvPr/>
        </p:nvSpPr>
        <p:spPr>
          <a:xfrm>
            <a:off x="228600" y="5880240"/>
            <a:ext cx="41148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Latn-AZ" sz="2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16080" y="439200"/>
            <a:ext cx="6276960" cy="200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cc66"/>
                </a:solidFill>
                <a:latin typeface="Arial"/>
              </a:rPr>
              <a:t>Мировая экономика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6" name="Oval 4"/>
          <p:cNvSpPr/>
          <p:nvPr/>
        </p:nvSpPr>
        <p:spPr>
          <a:xfrm>
            <a:off x="6680160" y="501480"/>
            <a:ext cx="1295280" cy="11480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Palatino Linotype"/>
              </a:rPr>
              <a:t>CH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Latn-AZ" sz="3600" spc="-1" strike="noStrike">
                <a:solidFill>
                  <a:srgbClr val="000066"/>
                </a:solidFill>
                <a:latin typeface="Palatino Linotype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История всемирные экономические отнош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Времена ССС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истема капиталистического хозяй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истема социалистического хозяй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истема хозяйства развивающихся стран, освободившихся от колониальной зависим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Основные показатели развития мировой экономики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Валовый внутренний продукт - 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стоимость всех конечных благ, включающих товары и услуги, произведенные и реализованные в определенной стране за конкретный промежуток времен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Валовый национальный продукт - 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величина валового внутреннего продукта за вычетом части товаров и услуг произведенных и реализованных иностранцами, проживающими в данной стране, а также суммируя соответствующие доходы граждан данной страны, проживающих за ее пределам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Ценовой индекс - 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отнесение номинального валового внутреннего продукта к реальном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Основные показатели развития мировой экономики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Реальный валовый внутренний продукт -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стоимостная оценка ВВП, выраженная в неизменных (приведенных) цена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Номинальный валовый внутренний продукт -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стоимостная оценка ВВП, выраженная в текущих цена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Учебники для первого уро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Основы мировой экономики» - </a:t>
            </a:r>
            <a:r>
              <a:rPr b="0" lang="az-Latn-AZ" sz="3000" spc="-1" strike="noStrike">
                <a:solidFill>
                  <a:srgbClr val="000000"/>
                </a:solidFill>
                <a:latin typeface="Arial"/>
              </a:rPr>
              <a:t>Johanson, P.N., (200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Экономика» - А.С. Булатова, - 4-е изд. 2008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р: 619 - 64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f2f2f2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раткое оглавле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сновы мировой экономи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ировая экономика, как и экономика отдельной страны или конкретного производства базируется на совокупности таких факторов, как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Труд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апитал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Земл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едметная область мировой экономи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ировая экономика определена как совокупность национальных экономик отдельных стран и связанных системой международных экономических отно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едметная область мировой экономи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Направления и формы международных экономических отношений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, работами, услугам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еждународная специализация производства и научно-технических работ, или международный научно-технический обмен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Обмен научно-техническими результатам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Направления и формы МЭ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Информационные, валютно-финансовые и кредитные связи между странам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Движение капитала (инвестиции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Движение (миграция) рабочей сил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Деятельность международных экономических организаций, хозяйственное сотрудничество в решении глобальных пробле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Объектом изучения мировой экономики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Является всемирное, или мировое, хозяйство, под которым понимается совокупная система отдельных стран, участвующих в международном разделении труда и связанных системой международных экономических отнош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История всемирные экономические отнош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ериод  - Римская импе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мская империя дала прообраз всемирных экономических отношений по производству, распределению, обмену и потреблению жизненных благ, а значит и начало развития всемирного хозя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инцип Ренессан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вропы внешний рынок и внешняя торговля стали приобретать особо важное значение, что подтверждается еще раз и снаряжением различных экспедиций с целью отыскания Новых земель, а значит и новых источников сырья и новых рынков сбыта создаваемой прод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История всемирные экономические отнош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декс Наполе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 50 - 60 годам XIX века мировой рынок стал быстро интернационализироваться, способствуя ускоренному развитию мирового капиталистического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80 годам XX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истема, ориентированная на ценности рыночной эконом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истема, хозяйственные отношения которой ориентировались на политические и идеологические свя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3:43:35Z</dcterms:created>
  <dc:creator>fahmadov</dc:creator>
  <dc:description/>
  <dc:language>en-US</dc:language>
  <cp:lastModifiedBy>LEGION</cp:lastModifiedBy>
  <dcterms:modified xsi:type="dcterms:W3CDTF">2016-01-05T11:13:28Z</dcterms:modified>
  <cp:revision>143</cp:revision>
  <dc:subject/>
  <dc:title>Chapter 1 Introduction to  Managerial Economics</dc:title>
</cp:coreProperties>
</file>