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26BA-67D4-478F-A4B0-2C3595780F3E}" type="slidenum"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Л. Ерем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ск 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производства (МС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 виды МСП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ая (производство продукто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етальная (производство частей, компонентов продуктов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, или стадийная специ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МС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 - удельный вес товара (товаров-аналогов) в мировом экспо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ссортимент, номенклатура ввозимых и вывозимых в страну товар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международного разделения тру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ая - 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капитала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ехнологии -результат различий в уровне развития научно-технического прогресса, обеспеченность стран ресурсами знаний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стран в международной эконом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– это территориальная еди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щаяся государств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циональный доход брутто или ВНП на душу населения ($/год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ысоким доходом – 9386 $ и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ографическое местоположение стран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внешней задолженности: высокий, умеренный и низ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- доля внешней задолженности к ВНП составляет 80 % или к годовому экспорту - 22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ый  - любое из этих соотношений не превышает 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– 2 (страна не предоставляет информа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ВНП – до 5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годовому экспорту - до 275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ашение и обслуживание внешнего долга к годовому экспорту - до 30 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луживание внешнего долга к экспорту до 20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ФОРМИРОВАНИЯ И ПЕРИ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народное разделение труда и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руппы стран в международной экономи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 практика международно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рудовая теория стоимости о классической теории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тика классической те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курентные структуры в производстве и обм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жения из-за вмешательства госуда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международной торговли. ГАТТ. ВТО. ЮНКТАД. МТ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 – регулятор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«заповедей» В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НКТАД, МТП – особенности регулирования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 систем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 структура международного рынка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еремещ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вижение рабочей силы. Проблемы миг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ятие и формы международного движения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ила международного инвестирования Т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ый кре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осударственный долг страны. Методы преодоления государственной задолж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– т.н. третичный сектор экономики - 2/3 мирового ВВП – отличаются от това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делимы от своего источни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оизводство и потребление, как правило, происходят одновре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тоянство качества, изменчивость, невозможность хра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оста роли услуг в мировой и национальной экономи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доходов и платежеспособности населения во многих странах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, удовлетворяющие потребности физических 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ые - для обслуживания юридических лиц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/ВТО (ГАТС) учитывает более 160 видов услуг (12 сектор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более 500 позиций и субпозиций (6 отраслевых груп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- три раздела: туризм, технологии,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стран в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:  деловые 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ция, Египет, Таиланд, Кипр –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ама, Либерия, Сингапур, Гонконг - морской транспо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фшорные центры Карибского моря и Тихого океана - финанс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язательств ГАТ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 - 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- свободный доступ или национальный режим на рынке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уризм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11 %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 % международного рынк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8% мирового экспорта товаров и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 отрасле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 около $2 млрд в день (около трлн в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00 млн. рабочих м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туристов – более 1,7 млрд ч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уристическаяО – регулятор международного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чле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действительные (суверенные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хозя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тия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поведения тури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справочники и прогноз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банки данных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международного тур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ант - путешественник, который провел за границей менее 24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туристического 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ский продукт (тур) - разработка маршрута и комплекс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агент - самостоятельная фирма, распространяющая туристский продук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– научные методы достижения практических результа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передача технологии (international technology transfer) – перемещение научно-технических достижений на коммерческой или безвоздмездной осно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инструменты защиты новой технолог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- разрешение владельца на использование технологии в течение определенного времени и за определенную пла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ирайт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ая марка - обозначение, способное отличать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знак (брэнд) - промышленно - интеллектуальная собственность, связанная с торговлей технолог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ой передач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еждународного технического с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гранты (technological co-operation grants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нансирование (сo-financing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ие учебные за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и фо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 - изобретатели и уче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- Соглашение о торговых аспектах прав на интеллектуальную 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развитию культуры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ИС в политику и программы национальн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международных законов и норм в области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качественных услуг в рамках глобальных систем охраны в области 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эффективности процесса управления и вспомогательных процессов в ВО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макро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 –1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ия –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объем продаж - $2,3 тр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государства в финансировании НИОК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33 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и и Франции - до 40 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я товарного производства, вышедшего за национальн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ирует использование факторов производства в отраслях и реги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большая доля экспорта коммерческих услуг – 24-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: железнодорожный, автомобильный, внутренний водный, морской, речной, воздушный, трубопров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передвижения: сухопутный, водный, воздушный, специ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характер движения: транзитный, внутрихозяйственный, местный, даль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нение силы тяги: сплавной, парусный, гужевой, паровой, электрический, дизельный, газотурбинный, ат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(МРТУ)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9 % мирового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100 млрд. т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 трлн. пассажи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650 млн. автомобил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рейсовых самоле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 тыс. локомо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50 % цены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алия и НИС ЮВА - 40 %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товара в международной торговле -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ой транспорт – лидер МР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80% от всего объема грузов внешней торговли, в том числе 34,3% - танкерным фл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перевозки морским транспортом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для перевозки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кт на перевозку товара на оговоренных в нем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распорядительный докумен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(МВФ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Текущие операции (Current account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инвестиц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товарно-торгового баланса (Merchandise trade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преодолению дефиц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- взять в долг, продать зарубежные а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тировка - больше зарабатывать, либо меньше трат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ямые инвестиции и прочий долгосрочный капитал (Long term capital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й долгосрочный капит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заграничные активы (ЧЗА) – их алгебраическая сумма -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ц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ую собственность корпо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Прочий краткосрочный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Ошибки и пропу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. Чрезвычайные источники покрытия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. Обязательства, образующие валютные резервы официальных иностран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. Итоговое изменение резервов, которые состоят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позиции в МВФ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ой валю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х требов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платежный и торгов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цен на основные статьи национального экспорта и им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курсов 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на потребительские и инвестиционны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экономическая, экспор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мировых цен на сырьевые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текущих операций (платежи за товары и услуги, а также доходы от инвестиц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торгуемых и неторгуемых това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валютных отношений и валют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 Факторы, влияющие на его формирование. Способы валютн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(Balance of Pay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нтеграционные группировк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– форма организации и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х отношений, закрепленная национ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ом и межгосударств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ациональ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а – установленная законом денежная единица данн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ая или резервная валю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пар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средства 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ликвид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национальн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необходим для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ой переоценки счетов в иностранной валюте фирм 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(ПП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ы(золото, серебро, плат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 фонар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егулируемых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ого курса предполагает наличие 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срочные -  изменение процентной ста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срочные - валютные интервенции, использование валютных резервов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ые - прекращение торгов, если речь идет о биржевом варианте установления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пераци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дачи банковск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зиция банков при валютных опер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евро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собы передачи банковской информац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международных межбанковских финансовых телекоммуникаций СВИФТ (Society for Worldwide Interbank Finansial Telecommunication ) передает стандартные банковские сообщ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ы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дел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согла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объем, характер валютных операций и набор используемых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 местные рынки, где используется ограниченное количество СК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: торгуемые и неторгуемые (классификация О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уровень легитим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– участ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метод котировки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покупка или продажа валю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родавца –банк продает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курс – среднеарифметическая величина курсов продавца и покупателя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сс-курс – котировка двух иностранных валют через трет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время совершения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ая – кассовая или spot-сделка -  до 48 часов ( 65 % межбанковского ры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ая – более 48 часов.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сии валют в коммерческих цел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ание прямых и портфельных капиталовложений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спекулятивной прибыли за счет курсовых разниц («медведи» и «быки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и валютно-финансов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агентство по инвестиционным гарантиям (МАГИ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(МЦУИ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- за сокращение экспортной выручки (Срок кредита - 3-5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ле 1944 было на Бреттон-Вудской 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торговля является международной, если товар пересекает таможенную границу государства - смена терри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платежного баланса определяющим является смена товаром собстве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194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редитов относительно богатым развивающимся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дности через доступ 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 кредитным ресурс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ыгодных условия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более длительными сроками погашения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более устойчив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1960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мощь беднейшим странам в борьбе с бедностью через предоставление кредитов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улевой процентной став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рок от 35 до 40 лет, включая льготный период продолжительностью 1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 (195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ддержка частн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агентство по гарантированию инвестиций (198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 (196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содействие международному капиталу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исслед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об инвестиционном законодательстве различны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мая 1950 года - Декларация МИД Франции - создание ЕО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. История созд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ЕЭ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7–1968 гг. - зона свободной торговли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–1987 гг. -  таможенный союз (общий таможенный тариф и торговая политика в отношении третьи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7–1992 гг. - единый внутренний рынок (свободное движение услуг, капиталов и рабочей сил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, Маастрихт – создание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–2002 гг. - ЭВС (12 стран) - единая валюта –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8 - создание ЕВС – соз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а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й валютной единицы ECU – ЭКЮ. международная расчётная единица на основе корзины валют стран-членов ЕЭ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е между ЕС и ЦВЕ - «копенгагенские критерии членст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ыночной экономики, способной справляться с конкуренц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принять на себя обязательства членства (acquis communautaire) в ЕС и Э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 правовые инструменты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инвестиционный ба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ЕС - 129 млрд евро (2011 г.) - специальные структурные фонды 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и и гарантий в сфере сельского хозяйства (19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ого развития (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(1960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лочения (199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я рыболовству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я условий жизни 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й подгот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международного разделения труда и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ХIХ – начало ХХ веков. Торговля дополняется экспортом капитала и миграцией рабочей сил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7 год. Сформировались международное социалистическое и капиталистическое разделение тру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астрихтский договор 1992 г. - критерии конвергенции для введения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уров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быть более 3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должен быть более 60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нструменты Европейск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кредитования и фискальные ме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нтных став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государственных расхо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внивание обязательных резерв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ведения 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999 года - безналичные расчеты в ев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 года – наличные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ofia@tp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казатели уровня международного разделения труда (МР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международного разделения труда - соотношение удельного веса страны в мировой торговле к ее удельному весу в мировом ВВП или Н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ная квота – доля экспорта страны в промышленном производстве в целом и в выпуске продукции теми или иными отра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8F6-11FD-4D12-A835-83222D0E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CC9-CD3A-48C8-95E4-C2C53D83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E0C-6D04-4A84-AB08-1756F88C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CB6-E0FA-4B3C-AB20-4F9E2306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0CE-1E0F-4A26-B940-6B05C3E5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D39-825B-42D9-8625-D80896CE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8D2-9881-4B44-86F6-F4703A65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EC6-FD93-4C53-957D-5750386B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C4F-3E3A-4914-84D2-6471D149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837-7EBD-49E5-B056-82F9A123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21A-0BAB-4BA4-ACF8-CA49146B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6EF-7F14-4335-A2BB-96835652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0099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C4CC-D358-4531-8FF3-8D6D59F91B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Мировая экономика</a:t>
            </a:r>
            <a:br>
              <a:rPr sz="4800"/>
            </a:b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Text Box 38"/>
          <p:cNvSpPr/>
          <p:nvPr/>
        </p:nvSpPr>
        <p:spPr>
          <a:xfrm>
            <a:off x="1763640" y="3141720"/>
            <a:ext cx="5781600" cy="29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С. Л. Еремин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.э.н., профессор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Томск  2012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ая специализация производства (МСП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Направления и виды МСП 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метная (производство продукто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етальная (производство частей, компонентов продуктов)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ая, или стадийная специал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казатели МСП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3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 - удельный вес товара (товаров-аналогов) в мировом экспор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Ассортимент, номенклатура ввозимых и вывозимых в страну товар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image002"/>
          <p:cNvPicPr/>
          <p:nvPr/>
        </p:nvPicPr>
        <p:blipFill>
          <a:blip r:embed="rId1"/>
          <a:stretch/>
        </p:blipFill>
        <p:spPr>
          <a:xfrm>
            <a:off x="3276720" y="2781360"/>
            <a:ext cx="1461960" cy="830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ы международного разделения труда: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тественная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д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разделение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капит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результат различий в уровне развития научно-технического прогресса, обеспеченность стран ресурсами зна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Группы стран в международной экономике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ана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ерриториальная еди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ющаяся государство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рганизац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стран-членов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Н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ВФ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Критерии оценки МБ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й доход брутто или ВНП на душу населения ($/год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высоким доходом – 9386 $ и вы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географическое местоположение страны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уровень внешней задолженности: высокий, умеренный и низк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- 1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со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оля внешней задолженности к ВНП составляет 80 % или к годовому экспорту - 22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мере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любое из этих соотношений не превышает 6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– 2 (страна не предоставляет информацию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ВНП – до 5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годовому экспорту - до 275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ашение и обслуживание внешнего долга к годовому экспорту - до 30 %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служивание внешнего долга к экспорту до 20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ЕДПОСЫЛКИ ФОРМИРОВАНИЯ И ПЕРИОДЫ</a:t>
            </a:r>
            <a:br>
              <a:rPr sz="2400"/>
            </a:b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РАЗВИТИЯ МИРОВОЙ ЭКОНОМИКИ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Rectangle 37"/>
          <p:cNvSpPr/>
          <p:nvPr/>
        </p:nvSpPr>
        <p:spPr>
          <a:xfrm>
            <a:off x="684360" y="1197000"/>
            <a:ext cx="40384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164960" y="1691640"/>
            <a:ext cx="705852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рынк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2. Международное разделение труда и факторов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оизводств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3. Группы стран в международной экономике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еория и практика международной торговли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Трудовая теория стоимости о классической теории международной торгов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Критика классической теор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нкурентные структуры в производстве и обм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ажения из-за вмешательства государ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рганизация международной торговли. ГАТТ. ВТО. ЮНКТАД. МТП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ТТ – регулятор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 «заповедей» В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НКТАД, МТП – особенности регулирования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я в системе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ятие и структура международного рынка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перемещение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Движение рабочей силы. Проблемы мигр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Понятие и формы международного движения капи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Правила международного инвестирования Т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Организация движения усл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Международный кре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Государственный долг страны. Методы преодоления государственной задолжен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Организация движения услу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уги – т.н. третичный сектор экономики - 2/3 мирового ВВП – отличаются от товар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тделимы от своего источни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х производство и потребление, как правило, происходят одноврем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остоянство качества, изменчивость, невозможность х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ричины роста роли услуг в мировой и национальной экономиках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доходов и платежеспособности населения во многих странах ми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труктурирование услуг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сональные, удовлетворяющие потребности физических лиц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овые - для обслуживания юридических ли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ТТ/ВТО (ГАТС) учитывает более 160 видов услуг (12 сектор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ОН - более 500 позиций и субпозиций (6 отраслевых групп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ВФ - три раздела: туризм, технологии, тран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ециализация стран в МРТ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ые страны:  делов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ция, Египет, Таиланд, Кипр –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нама, Либерия, Сингапур, Гонконг - морской транспор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фшорные центры Карибского моря и Тихого океана - финансов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обязательств ГАТ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щие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пецифические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вободный доступ или национальный режим на рынке данной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туризм – 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-11 % мирового ВВ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 % международного рынк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-8% мирового экспорта товаров и услу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0 отраслей эконом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ходы - около $2 млрд в день (около трлн в г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ее 100 млн. рабочих ме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енность туристов – более 1,7 млрд ч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уристическаяО – регулятор международного туриз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егории член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действительные (суверенные государств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хозяйства: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8588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тия туриз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екс поведения турис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е справочники и прогноз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онные банки дан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я международного туриз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курсант - путешественник, который провел за границей менее 24 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Характеристики туристического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бизнес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истский продукт (тур) - разработка маршрута и комплекс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агент - самостоятельная фирма, распространяющая туристский продукт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– научные методы достижения практических результатов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укт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передача технологи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technology trans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– перемещение научно-технических достижений на коммерческой ил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воздмездной осно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авовые инструменты защиты новой технологии 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ат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Лиценз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разрешение владельца на использование технологии в течение определенного времени и за определенную плату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пирай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ая мар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обозначение, способное отличать товар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брэнд) - промышленно - интеллектуальная собственность, связанная с торговлей технолог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ормы международной передачи технолог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виды международного технического содейств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е гра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ical 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grant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финансиров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убъекты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шие учебные завед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но-исследовательские орган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ы и фон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ческие лиц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атели и уче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 - Соглашение о торговых аспектах прав на интеллектуальную соб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е развитию культуры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ение ИС в политику и программы национального развит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международных законов и норм в области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азание качественных услуг в рамках глобальных систем охраны в области 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процесса управления и вспомогательных процессов в ВО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макротехнолог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2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я –1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пония – 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ий объем продаж - $2,3 трл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государства в финансировании НИОК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33 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и и Франции - до 40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тегория товарного производства, вышедшего за национальные рам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изирует использование факторов производства в отраслях и регио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ая большая доля экспорта коммерческих услуг – 24-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 видов транспор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железнодорожный, автомобильный, внутренний водный, морской, речной, воздушный, трубопровод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особ пере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ухопутный, водный, воздушный, специальны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арактер 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транзитный, внутрихозяйственный, местный, даль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менение силы тя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плавной, парусный, гужевой, паровой, электрический, дизельный, газотурбинный, атом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 (МРТУ)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- 9 % мирового ВВ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100 млрд. т гру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1 трлн. пассажи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650 млн. автомобил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тыс. рейсовых самолет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0 тыс. локомотив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50 % цены тов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я и НИС ЮВА - 40 % рын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ставка товара в международной торговле -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орской транспорт – лидер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РТУ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80% от всего объема грузов внешней торговли, в том числе 34,3% - танкерным флот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имущества перевозки морским транспортом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кумент для перевозки грузов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акт на перевозку товара на оговоренных в нем условиях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варораспорядительный докумен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тьи (МВФ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екущие операции (Current account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ва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ы от инвестиц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ояние товарно-торгового баланса (Merchandise trade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лан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ы по преодолению дефици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ансирование - взять в долг, продать зарубежные 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ректировка - больше зарабатывать, либо меньше трати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. Прямые инвестиции и прочий долгосрочный капитал (Long term capital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ые инвести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ф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й долгосрочный капита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тые заграничные активы (ЧЗА) – их алгебраическая сумма - включаю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ига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вижимост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ые ценност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ую собственность корпор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чий краткосрочный капита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шибки и пропу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мпенсирующие стать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резвычайные источники покрытия сальд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язательства, образующие валютные резервы официальных иностранных орга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тоговое изменение резервов, которые состоят и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лот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ДР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ервной позиции в МВФ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остранной валюты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х требовани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дитов МВФ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Факторы, влияющие на платежный и торговый баланс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кл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цен на основные статьи национального экспорта и импор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курсов вал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спроса на потребительские и инвестиционные това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еэкономическая, экспортна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мировых цен на сырьевые това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РФ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текущих операций (платежи за товары и услуги, а также доходы от инвести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азличия торгуемых и неторгуемых товар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валютных отношений и валютной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истемы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циональная валютная сист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ый курс. Факторы, влияющие на его формирование. Способы валютного регул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тежный баланс страны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of Payme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ая политика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волюция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ональные интеграционные группиров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77384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ая система – форма организации и регул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х отношений, закрепленная националь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одательством и межгосударстве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Элементы национальной валютной систем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валюта – установленная законом денежная единица данного государ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чевая или резервная валю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пень конвертируе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й парит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ограни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кредитные средства обра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ая валютная ликвид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ы национальной валютной 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алютный курс необходим для: 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одической переоценки счетов в иностранной валюте фирм и бан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Основа валютного курс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итет покупательной способности (ПП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аллы(золото, серебро, платин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ос и предлож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т фонар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регулируемых валютных курс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758960"/>
                <a:gridCol w="2201760"/>
                <a:gridCol w="2324160"/>
                <a:gridCol w="1487520"/>
              </a:tblGrid>
              <a:tr h="922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лавающи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вободно – плавающи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В «коридоре»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ет ограничений колебаний.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имальная и максимальная граница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Точка отсчета 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ределы колебаний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Фиксированны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Золото, серебр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руги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оллективны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валютного курса предполагает наличие мер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лг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изменение процентной став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реднесрочные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интервенции, использование валютных резервов ст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атк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екращение торгов, если речь идет о биржевом варианте установления валютного кур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перации банк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ы передачи банковско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валютных ры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ютная позиция банков при валютных операц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ынок евровал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особы передачи банковской информации 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О международных межбанковских финансовых телекоммуникаций СВИФТ (Society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rldwi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terban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nans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ecommunication ) передает стандартные банковские сообщ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рговы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сдел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овски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е согла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А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ъем, характер валютны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набор используемых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и местные рынки, где используется ограниченное количество СК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овары: торгуемые и неторгуемые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(классификация ООН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87280" y="1916280"/>
          <a:ext cx="6864480" cy="3962160"/>
        </p:xfrm>
        <a:graphic>
          <a:graphicData uri="http://schemas.openxmlformats.org/drawingml/2006/table">
            <a:tbl>
              <a:tblPr/>
              <a:tblGrid>
                <a:gridCol w="3432240"/>
                <a:gridCol w="3432240"/>
              </a:tblGrid>
              <a:tr h="56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хозяйство, охота, лесно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рыболов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ат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услуги и строитель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овая и розничная торговля, рестораны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гостиниц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ировка, хранение, связь,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ое посредниче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на и обязательные социальны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, здравоохранени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щественные рабо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ммунальные, социальны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Б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егитим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В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итерий - метод котировки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Д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купка или продажа валю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родавца –банк продает валю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ий курс – среднеарифметическая величина курсов продавца и покупателя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сс-курс – котировка двух иностранных валют через трет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Е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ремя соверш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дел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ная – кассовая или spot-сделка -  до 48 часо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65 % межбанковского рын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очная – более 48 часов. Це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версии валют в коммерческих це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хование прямых и портфельных капиталовложений за границ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 спекулятивной прибыли за счет курсовых разниц («медведи» и «быки»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е экономические и валютно-финансовые организации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банк реконструкции и развития (МБР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ассоциация развития (МА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финансовая корпорация (МФК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остороннее агентство по инвестиционным гарантиям (МАГИ)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центр по урегулированию инвестиционных споров (МЦУИС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Банк международных расчет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1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едиты МВФ делятся 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енсационные - за сокращение экспортной выручки (Срок кредита - 3-5 л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2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Группа Всемирного банк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юле 1944 было на Бреттон-Вудск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международной торговл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иров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акт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орговля является международной, если товар пересекает таможенную границу государства - смена террито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ори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латежного балан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пределяющим является смена товаром собственник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банк реконструкции и развития (1945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оставление кредитов относительно богатым развивающимся стран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щение бедности через доступ к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им кредитным ресурса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выгодных условия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более длительными сроками погаш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более устойчивой осно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Ассоциация Развития (1960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мощь беднейшим странам в борьбе с бедностью через предоставление кредито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нулевой процентной став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срок от 35 до 40 лет, включая льготный период продолжительностью 10 л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финансовая корпорация  (195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ддержка частного секто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ое агентство по гарантированию инвестиций (1988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центр по урегулированию инвестиционных споров  (196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- содействие международному капиталу чер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е исследов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информации об инвестиционном законодательстве различных стр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 мая 1950 года - Декларация МИД Франции - создание ЕОУ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ий союз. История создан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ЕЭ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57–1968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она свободной торгов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68–1987 гг. -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аможенный сою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бщий таможенный тариф и торговая политика в отношении третьих стра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87–199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диный внутренний рын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вободное движение услуг, капиталов и рабочей сил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 г., Маастрихт – создание Е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–200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В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12 стран) - единая валюта – евр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ая валютная систе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8 - создание ЕВС – созд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ханизма валютных кур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й валютной единицы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EC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 ЭКЮ. международная расчётная единица на основе корзины валют стран-членов ЕЭ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оглашение между ЕС и ЦВЕ - «копенгагенские критерии членства»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рыночной экономики, способной справляться с конкуренцие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ность принять на себя обязательства членства (acquis communautaire) в ЕС и ЭВ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инансовые и правовые инструменты Е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вропейский инвестиционный бан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юджет ЕС - 129 млрд евро (2011 г.) - специальные структурные фонды Е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иентации и гарантий в сфере сельского хозяйства (19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онального развития (19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й (1960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лочения (1993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я рыболовству (1994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лучшения условий жизни и тр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й подготов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68360" y="367812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5236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24000" y="548280"/>
            <a:ext cx="853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международного разделения труда и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468360" y="2274840"/>
            <a:ext cx="81360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ц 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 – начало ХХ веков. Торговля дополняется экспортом капитала и миграцией рабочей силы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17 год. Сформировались международное социалистическое и капиталистическое разделение труд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аастрихтский договор 1992 г. - критерии конвергенции для введения евро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ельные уровн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фицит госбюджета не должен быть более 3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й долг не должен быть более 60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инструменты Европейской валютной системы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кредитования и фискальные мер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процентных ставо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кращение государственных расход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авнивание обязательных резервов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введения евро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января 1999 года - безналичные расчеты в евр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02 года – наличные евр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539640" y="19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258920" y="2637000"/>
            <a:ext cx="69483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!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 algn="ctr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sofia@tpu.ru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показатели уровня международного разделения труда (МРТ)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эффициент международного разделения тру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оотношение удельного веса страны в мировой торговле к ее удельному весу в мировом ВВП или Н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кспортная кв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оля экспорта страны в промышленном производстве в целом и в выпуске продукции теми или иными отрасл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09:09Z</dcterms:created>
  <dc:creator>Ерофеев Е.Л.</dc:creator>
  <dc:description/>
  <dc:language>en-US</dc:language>
  <cp:lastModifiedBy>LEGION</cp:lastModifiedBy>
  <dcterms:modified xsi:type="dcterms:W3CDTF">2016-01-05T11:05:03Z</dcterms:modified>
  <cp:revision>72</cp:revision>
  <dc:subject/>
  <dc:title>Мировая экономика</dc:title>
</cp:coreProperties>
</file>