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BE3-1964-4E77-96EB-3E4A83C454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A6A9-FD00-4EB8-81F0-98AF29CF56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1000"/>
            </a:b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87E2-FA11-4F79-A8C3-3599FDB59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DAC0-644D-40A6-A192-1173923005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B708-A713-44D4-B22B-FCC7555889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986F-7069-4ACD-BC7B-79C108CB5C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3830-22C6-4BED-97DC-78BEE6A122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29D7-DED9-4F64-A3CB-BE2F2692B0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D384-F524-496B-8EC6-D431CED6D1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1EDD-8874-4472-A1DF-8D3350803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D077-C7E1-410F-8034-5D24167B2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7B04-5D37-4DF6-A636-5D09E950F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68A4-A7F4-4350-A711-339F14E92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E004-A2AA-426D-929A-3B41F9EF95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19E7-6FE3-4B47-846B-2849EA598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A79C-34DE-4438-9106-624C0A5D9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44E5-9FD9-4183-B319-DE4C65B0D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76DA-972D-4B9E-97C1-CEAD2E04E1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B7C7-1951-40DE-B10D-EFAA28020A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417-2375-4035-84EA-D4CA03B734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0AC-9D28-4FA6-9A6B-A326ECF1D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82B3-17BD-41F9-BC46-38166EECB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3333-AF95-4192-8B07-D1626D9B7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65E4-A6F5-4ECD-94E9-B986AC01E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8740-8F54-4E1C-9D79-B33E9485F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8B3A-48BC-4169-B203-1BD25CB6D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81B9-BC69-4DAB-A2A2-3EC2D7267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6B35-A6FF-4465-A658-10D31A547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2E8-11B4-4156-96A1-7EB1ECABAD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610-7A2E-4032-83FF-392BCC301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5D91-1F5A-47DD-9AF3-D80E9E887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F19-6581-4A6E-AF31-DD4BDDE8C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D6C-966E-4A77-9679-8B7DA29040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6B7F-E19D-4A39-9A4B-3D2AE5F81E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6AD-8B2F-45B9-ACCA-14BFF456E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710C-87D6-41D9-9FEC-D8C6CF4EE8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FBF6-B953-46BA-8595-BA843A53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FB2-E45D-47B3-B571-2B8C037E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026-65B4-411E-A5D2-72A3F9C8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157-BF2C-4FD5-ABD4-8916AE6A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825-78C2-4CE8-95A4-497E817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03D9-E7FB-4F6A-9B24-6272AEF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267-DC75-42CC-A1B0-6BF4D53B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FDE-42E9-462A-8216-4A6E03A9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708-6303-4423-9443-DA4E0F97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094-FA9F-4E7C-82DA-3A12EDA5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208-EBD3-4478-9B34-9E1D6A2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782-9530-4EF5-BEB5-274C5956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B55-A3FE-4392-9A2E-F6A5EE38E8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2130120"/>
            <a:ext cx="8277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и философия нау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4880" y="3885840"/>
            <a:ext cx="8274240" cy="18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2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346560" y="3057480"/>
            <a:ext cx="50328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273480" y="4678200"/>
            <a:ext cx="647640" cy="468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уровня реальности и три познавательных способнос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58920" y="5145120"/>
            <a:ext cx="647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е 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пыт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вает нам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719280" y="3525840"/>
            <a:ext cx="575784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тигает идеи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м подчинён этот ми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1079640" y="1906560"/>
            <a:ext cx="5038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нкретное единство живых объектов)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аи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9"/>
          <p:cNvSpPr/>
          <p:nvPr/>
        </p:nvSpPr>
        <p:spPr>
          <a:xfrm>
            <a:off x="6981840" y="503712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2863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178452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704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58920" y="1619280"/>
            <a:ext cx="4857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 по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пособен достичь исти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же если он отправляется от да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38200" y="2878200"/>
            <a:ext cx="485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познания леж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благодаря которым мы отлич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ктивную действите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её субъективного от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2517840" y="413856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ь веры удостовер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орным субъектом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рк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598920" y="5397480"/>
            <a:ext cx="48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и субъектом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не отдельный человек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а доступн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окуп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вязанных любов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тановка проблемы (А. С. Хом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7" descr="Хомяков Алексей Степанович (sm9)"/>
          <p:cNvPicPr/>
          <p:nvPr/>
        </p:nvPicPr>
        <p:blipFill>
          <a:blip r:embed="rId1"/>
          <a:stretch/>
        </p:blipFill>
        <p:spPr>
          <a:xfrm>
            <a:off x="250920" y="4246560"/>
            <a:ext cx="1942920" cy="24289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20"/>
          <p:cNvSpPr/>
          <p:nvPr/>
        </p:nvSpPr>
        <p:spPr>
          <a:xfrm>
            <a:off x="7448400" y="4138560"/>
            <a:ext cx="161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циаль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6369120" y="2878200"/>
            <a:ext cx="26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я и вера как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ы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5289480" y="1619280"/>
            <a:ext cx="37782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сторон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судо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480" y="27432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66294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ном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зем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720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ая нау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5146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ическое творч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" y="510552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атериальная степ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6294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итическ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государство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45720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влечённ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5146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ящное художе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57200" y="3975120"/>
            <a:ext cx="20574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аль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66294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овное общество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(церковь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45720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25146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457200" y="284328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бсолютная степ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66294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практи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45720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25146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фер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457200" y="1711440"/>
            <a:ext cx="20574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>
            <a:off x="457200" y="17114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" y="2843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457200" y="39751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3"/>
          <p:cNvSpPr/>
          <p:nvPr/>
        </p:nvSpPr>
        <p:spPr>
          <a:xfrm>
            <a:off x="457200" y="623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4572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5"/>
          <p:cNvSpPr/>
          <p:nvPr/>
        </p:nvSpPr>
        <p:spPr>
          <a:xfrm>
            <a:off x="25146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45720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6629400" y="171144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8686800" y="171144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6908760" y="4954680"/>
            <a:ext cx="733320" cy="1295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1496880" y="4954680"/>
            <a:ext cx="733680" cy="1295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492912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475080" y="3760920"/>
            <a:ext cx="733320" cy="117612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560 h 1176120"/>
              <a:gd name="textAreaBottom" fmla="*/ 852840 h 11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690560" y="2949480"/>
            <a:ext cx="2698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диничные вещи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редст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4749840" y="2949480"/>
            <a:ext cx="2698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бщие начала, идеи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нципы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 по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8"/>
          <p:cNvSpPr/>
          <p:nvPr/>
        </p:nvSpPr>
        <p:spPr>
          <a:xfrm>
            <a:off x="531720" y="1935000"/>
            <a:ext cx="1158840" cy="1917720"/>
          </a:xfrm>
          <a:custGeom>
            <a:avLst/>
            <a:gdLst>
              <a:gd name="textAreaLeft" fmla="*/ 155160 w 1158840"/>
              <a:gd name="textAreaRight" fmla="*/ 1003680 w 1158840"/>
              <a:gd name="textAreaTop" fmla="*/ 335520 h 1917720"/>
              <a:gd name="textAreaBottom" fmla="*/ 1390320 h 191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7448400" y="1935000"/>
            <a:ext cx="1101960" cy="192276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36240 h 1922760"/>
              <a:gd name="textAreaBottom" fmla="*/ 1393920 h 192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88416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ответственно,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для эмпириков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5664240" y="4173480"/>
            <a:ext cx="259092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рационал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е нача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1690560" y="154620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 всех различиях между ними два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сновных направления западной гносеологии: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эмпиризм и рационализм – 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ходятся между собой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ивиз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2230560" y="5397480"/>
            <a:ext cx="467820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тем, сознание не может бы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езличным, ни единоличны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более, чем лично –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но собо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104292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первых,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ность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навательного акта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ключаетс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тношении ко вне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му предмету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«трансцендирован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4678200" y="3489480"/>
            <a:ext cx="341964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-вторы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ий акт по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тендует на т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бы иметь обще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аж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611280" y="223056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7448400" y="223056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1690560" y="1798560"/>
            <a:ext cx="5757840" cy="118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познание выводит нас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 пределы нашей индивидуальности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двух отношениях: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250920" y="161892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обще всем на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, что я познаю им и в нём объективно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сеобщ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я признаю истинным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 всех и за всех, не для себя тольк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актически я по поводу вс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ржу внутри себя собор со всеми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только то для меня истинно, достовер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общим и безусловны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должно быть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таковым для всех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ше общее согласие, возмож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огласие, которое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матриваю в своём сознании, есть дл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еня безусловный внутренний критерий..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42560" y="1618920"/>
            <a:ext cx="672948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 могу ошибаться внутри себ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тносительно всеобщего орга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гласия – в сложных запутанных вопросах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том, что не для всех очевидно, о чё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щё не состоялось внешнего соглашен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я моя ошибка предполага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веренность в возможности общего согласия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этому каждый может меня обличи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оказать мне моё заблуждение на основани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признанного, –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того, что все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внутри меня признают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бы ни силил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заглушить общий голос, он непогрешим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 когда я сознаю, что имею его за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смело отвечаю за все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5"/>
          <p:cNvSpPr/>
          <p:nvPr/>
        </p:nvSpPr>
        <p:spPr>
          <a:xfrm>
            <a:off x="719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>
            <a:off x="431784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/>
          <p:cNvSpPr/>
          <p:nvPr/>
        </p:nvSpPr>
        <p:spPr>
          <a:xfrm>
            <a:off x="1438200" y="3778200"/>
            <a:ext cx="503280" cy="1440000"/>
          </a:xfrm>
          <a:prstGeom prst="downArrow">
            <a:avLst>
              <a:gd name="adj1" fmla="val 50000"/>
              <a:gd name="adj2" fmla="val 715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7"/>
          <p:cNvSpPr/>
          <p:nvPr/>
        </p:nvSpPr>
        <p:spPr>
          <a:xfrm>
            <a:off x="4316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мпир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3309840" y="287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циона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4316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липс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0"/>
          <p:cNvSpPr/>
          <p:nvPr/>
        </p:nvSpPr>
        <p:spPr>
          <a:xfrm>
            <a:off x="3309840" y="521820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олир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2409840" y="1798560"/>
            <a:ext cx="431784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ческая робинз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6189840" y="287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анти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6189840" y="5218200"/>
            <a:ext cx="251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аковость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телл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7"/>
          <p:cNvSpPr/>
          <p:nvPr/>
        </p:nvSpPr>
        <p:spPr>
          <a:xfrm>
            <a:off x="9716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ереходит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8"/>
          <p:cNvSpPr/>
          <p:nvPr/>
        </p:nvSpPr>
        <p:spPr>
          <a:xfrm>
            <a:off x="384984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утвержда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"/>
          <p:cNvSpPr/>
          <p:nvPr/>
        </p:nvSpPr>
        <p:spPr>
          <a:xfrm>
            <a:off x="6729480" y="3922560"/>
            <a:ext cx="143964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ъясняет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бщезначи-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16"/>
          <p:cNvSpPr/>
          <p:nvPr/>
        </p:nvSpPr>
        <p:spPr>
          <a:xfrm>
            <a:off x="4317840" y="50734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2590920" y="5505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овательно, сознани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ая функ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"/>
          <p:cNvSpPr/>
          <p:nvPr/>
        </p:nvSpPr>
        <p:spPr>
          <a:xfrm>
            <a:off x="7088040" y="3562200"/>
            <a:ext cx="719280" cy="1258920"/>
          </a:xfrm>
          <a:custGeom>
            <a:avLst/>
            <a:gdLst>
              <a:gd name="textAreaLeft" fmla="*/ 96120 w 719280"/>
              <a:gd name="textAreaRight" fmla="*/ 623160 w 71928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1332000" y="3562200"/>
            <a:ext cx="718920" cy="1258920"/>
          </a:xfrm>
          <a:custGeom>
            <a:avLst/>
            <a:gdLst>
              <a:gd name="textAreaLeft" fmla="*/ 96120 w 718920"/>
              <a:gd name="textAreaRight" fmla="*/ 622800 w 718920"/>
              <a:gd name="textAreaTop" fmla="*/ 220320 h 1258920"/>
              <a:gd name="textAreaBottom" fmla="*/ 912960 h 12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4749840" y="2338560"/>
            <a:ext cx="718920" cy="1258560"/>
          </a:xfrm>
          <a:custGeom>
            <a:avLst/>
            <a:gdLst>
              <a:gd name="textAreaLeft" fmla="*/ 96120 w 718920"/>
              <a:gd name="textAreaRight" fmla="*/ 622800 w 71892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670200" y="2338560"/>
            <a:ext cx="719280" cy="1258560"/>
          </a:xfrm>
          <a:custGeom>
            <a:avLst/>
            <a:gdLst>
              <a:gd name="textAreaLeft" fmla="*/ 96120 w 719280"/>
              <a:gd name="textAreaRight" fmla="*/ 623160 w 719280"/>
              <a:gd name="textAreaTop" fmla="*/ 219960 h 1258560"/>
              <a:gd name="textAreaBottom" fmla="*/ 912600 h 12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611280" y="2841480"/>
            <a:ext cx="3058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не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гу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468760" y="2841480"/>
            <a:ext cx="30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и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трактно-обще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ойств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ногих инди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3"/>
          <p:cNvSpPr/>
          <p:nvPr/>
        </p:nvSpPr>
        <p:spPr>
          <a:xfrm>
            <a:off x="2409840" y="1619280"/>
            <a:ext cx="4317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еловеческое сознание н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адлежность индиви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2050920" y="406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е, ограниченн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ет сознани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щее, коллективное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 rot="10800000">
            <a:off x="142920" y="1620360"/>
            <a:ext cx="694512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нание человека начин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чувственного опыта, показания котор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егда частны и единичны; от эт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учаев единичный субъект лично, сам по себ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л бы ни психологической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логического права перейти к чему-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му, универсальному и необходимому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в действительности это делают все.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огически совершенно непонятно, каки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ом отдельный индивид может зн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 безусловной всеобщей достоверностью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бы то ни было: своё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ование, бытие внешнего мир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сконечного времени и пространств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ая гносеолог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 философия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эмпириз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вательная функция веры (А. С. Хомяков, В. С. Соловьё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социальной (коллективистской) природе 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новка проблемы (А. С. Хомяк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очеловечество как субъект познания (В. С. Соловьё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(С. Н. Трубецк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реальности как онтологической предпосылке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(Н. О. Лос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 (С. Л. Фран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 (Г. Г. Шп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. А. Флоренск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"/>
          <p:cNvSpPr/>
          <p:nvPr/>
        </p:nvSpPr>
        <p:spPr>
          <a:xfrm rot="10800000">
            <a:off x="250920" y="1620360"/>
            <a:ext cx="6657840" cy="485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месте с тем вера каждого человек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еальное существование мира и всех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колебима и вселенски истинна.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то же уполномочивает на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посредственно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объективность? Что свидетельствует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нас непосредственно об этом реальном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сеобщем существовании вещей и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универсальных свойств и качеств?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 сознани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отором я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нимаю вселенское соглас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 rot="10800000">
            <a:off x="431640" y="1798200"/>
            <a:ext cx="629784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зитивность опыт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.е. восприятие самобыт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зависимой от нас реаль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озможная логичность зна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едполагают коренную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щественную соборность сознан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логические функ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авленные на позн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обще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ышали бы компетенц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дивидуальной личности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ли бы она не заключала в себ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личного начал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0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ая (коллективистская) природа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ние о «соборности сознания» С. Н. Трубец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 rot="10800000">
            <a:off x="142560" y="1474560"/>
            <a:ext cx="6910200" cy="5146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е слово наше доказывает фа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лективного 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полагая е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ова никогда не мыслит человек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только в форме слов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ь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 обобщается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о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влекаем, образуем, опреде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гические универсальные понятия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 же обособляем и закрепля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дивидуализируем наши представлен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мест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ово есть воплощение собор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не было бы слов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были непонятны и невнятны для друг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незачем и не с кем было говорить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о предполагает органическ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взаимного понимания, родов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сихологическое единство; и вместе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говорящих и внимающих люд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Трубецкой С (2)"/>
          <p:cNvPicPr/>
          <p:nvPr/>
        </p:nvPicPr>
        <p:blipFill>
          <a:blip r:embed="rId1"/>
          <a:stretch/>
        </p:blipFill>
        <p:spPr>
          <a:xfrm>
            <a:off x="7269120" y="1798560"/>
            <a:ext cx="1419120" cy="18478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765840" y="5218200"/>
            <a:ext cx="20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 Трубецко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Учение о трансрациональном единстве как онтологической предпосылке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сский (1-3)"/>
          <p:cNvPicPr/>
          <p:nvPr/>
        </p:nvPicPr>
        <p:blipFill>
          <a:blip r:embed="rId1"/>
          <a:stretch/>
        </p:blipFill>
        <p:spPr>
          <a:xfrm>
            <a:off x="395280" y="1798560"/>
            <a:ext cx="149688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4" name="Text Box 5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. Лос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9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ордин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Франк СЛ (3bw)"/>
          <p:cNvPicPr/>
          <p:nvPr/>
        </p:nvPicPr>
        <p:blipFill>
          <a:blip r:embed="rId2"/>
          <a:stretch/>
        </p:blipFill>
        <p:spPr>
          <a:xfrm>
            <a:off x="7377120" y="1798560"/>
            <a:ext cx="1320840" cy="19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 Франк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7‑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талог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Шпет (1)"/>
          <p:cNvPicPr/>
          <p:nvPr/>
        </p:nvPicPr>
        <p:blipFill>
          <a:blip r:embed="rId3"/>
          <a:stretch/>
        </p:blipFill>
        <p:spPr>
          <a:xfrm>
            <a:off x="358920" y="4317840"/>
            <a:ext cx="158256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0" name="Text Box 12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 Шпет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9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цепц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оренён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т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 Флоренски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2-19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тиж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мволическ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2" descr="Флоренский (1-1cut_cmp)"/>
          <p:cNvPicPr/>
          <p:nvPr/>
        </p:nvPicPr>
        <p:blipFill>
          <a:blip r:embed="rId4"/>
          <a:stretch/>
        </p:blipFill>
        <p:spPr>
          <a:xfrm>
            <a:off x="7269120" y="4317840"/>
            <a:ext cx="1587600" cy="1981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е подобно не «психическому вместилищу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е предмет должен «попасть», что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ть «осознанным», а 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едоточию луч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авленных на участки бытия и их освеща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этой направленности на предм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енциональности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ь познавательного а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знавательном акте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лич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предмет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своей подлинност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его «копия», «отражение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убъективное преломление»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 имеет не опосредован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посредствен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интуитив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4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6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о отношение субъект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 всем другим сущностям в мир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торое делает интуицию возможно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носеологическая координа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менно гносеологическая координац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не гносеологическая суб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а – предмету или предмета – субъект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ной закон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и этом сама гносеологическая координац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 лишь частный (гносеологический) аспек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ости друг другу всех индивидуаль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«субстанциальных деятеле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ниверсальность 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«единосущных» субстанциальных деятелей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разующ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 как органическое целое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ставляет онтологическую основу интуитив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гносеологической координации» Н. О. Лос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0" descr="Лосский (1-2red)"/>
          <p:cNvPicPr/>
          <p:nvPr/>
        </p:nvPicPr>
        <p:blipFill>
          <a:blip r:embed="rId1"/>
          <a:stretch/>
        </p:blipFill>
        <p:spPr>
          <a:xfrm>
            <a:off x="7413480" y="1403280"/>
            <a:ext cx="1590840" cy="21621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1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сякое определённо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жно мыслить лишь в е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отнесённости с каким-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о сама соотнесённость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и </a:t>
            </a: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не-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едполагает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а они я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ленами некоего объемл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а,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которое должно мыслить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верхопределённым, «трансцендентны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то искомое единство не вмещае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 рамки логической системы именно потому, чт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сам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 возможности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ак таковое оно «мета-логично», точнее –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но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еталогическое единство»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ли «Всеединст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3"/>
          <p:cNvSpPr/>
          <p:nvPr/>
        </p:nvSpPr>
        <p:spPr>
          <a:xfrm>
            <a:off x="357840" y="615312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сееди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 и предмет знания существуют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должны мыслиться на фон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бъемлющего их «металогического единства».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знание не противостоит бытию, 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ключено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(сознанию противостоит лишь «предметны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» – область «объективируемого», но подлинно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ытие не знает раздвоения на субъект и предм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ледует отлич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мпирическое «предметное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ние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действительности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абстрактное» знание логических связ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ежду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элементами действительности 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ив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деальное знание приводит в систему данны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пыта, но это единство рационально и статичн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есть лишь «бледный намёк» 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логичес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, открывающееся в «живом зн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металогического единств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 Л. Фра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Франк СЛ (3)"/>
          <p:cNvPicPr/>
          <p:nvPr/>
        </p:nvPicPr>
        <p:blipFill>
          <a:blip r:embed="rId1"/>
          <a:stretch/>
        </p:blipFill>
        <p:spPr>
          <a:xfrm>
            <a:off x="7629480" y="1438200"/>
            <a:ext cx="1122480" cy="18716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355680" y="61531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туитив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очки зрения отрицательной философ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ъект и объект разделены пропасть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же понимается либо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ение вещи в себе, либо как акт субъ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тика исти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граничивается рамка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ии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ама же истина понимается не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манентное, а 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нсцендентное согласование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с вещью, или вещи – с позн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 при этом имеет своим источни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рядок и связи в предмете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обязательность 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в конеч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тоге – субъекта, утверждающего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нима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 от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действитель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звёртывание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цесса познания не приближает, а, напрот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даляет понятия от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отрица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5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8" dur="indefinite" restart="never" nodeType="tmRoot">
          <p:childTnLst>
            <p:seq>
              <p:cTn id="1049" dur="indefinite" nodeType="mainSeq">
                <p:childTnLst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2"/>
          <p:cNvSpPr/>
          <p:nvPr/>
        </p:nvSpPr>
        <p:spPr>
          <a:xfrm>
            <a:off x="212256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1295280" y="370692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466560" y="2409840"/>
            <a:ext cx="648000" cy="1224000"/>
          </a:xfrm>
          <a:custGeom>
            <a:avLst/>
            <a:gdLst>
              <a:gd name="textAreaLeft" fmla="*/ 86760 w 648000"/>
              <a:gd name="textAreaRight" fmla="*/ 561240 w 64800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87280" y="15112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ожительная философия исходи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сти обоснования всякой предмет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ведения всего сущего под некотор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нование, превышающее обосновывае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1114560" y="280656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основание переходит в конечном итоге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ельную полноту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о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ренён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тотальности совокупной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ступающей единым основанием всего с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943280" y="410220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ение проблемы действительности и сред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решения суть также части действитель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язи с чем положительн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е бы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ирующей в себя нау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2770200" y="5397480"/>
            <a:ext cx="611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ходя этот путь до конца,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может остановиться только 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туиция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непосредственно очевидных нача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шествующих всякому теоретическому зн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1"/>
          <p:cNvSpPr/>
          <p:nvPr/>
        </p:nvSpPr>
        <p:spPr>
          <a:xfrm>
            <a:off x="90360" y="5397480"/>
            <a:ext cx="2057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Точка зрения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«положительной</a:t>
            </a:r>
            <a:br>
              <a:rPr sz="1800"/>
            </a:b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илософ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учение о социальной природе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Хомяков Алексей Степанович (sm10)"/>
          <p:cNvPicPr/>
          <p:nvPr/>
        </p:nvPicPr>
        <p:blipFill>
          <a:blip r:embed="rId1"/>
          <a:stretch/>
        </p:blipFill>
        <p:spPr>
          <a:xfrm>
            <a:off x="358920" y="1798560"/>
            <a:ext cx="15224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5" descr="Трубецкой С (1)"/>
          <p:cNvPicPr/>
          <p:nvPr/>
        </p:nvPicPr>
        <p:blipFill>
          <a:blip r:embed="rId2"/>
          <a:stretch/>
        </p:blipFill>
        <p:spPr>
          <a:xfrm>
            <a:off x="7197840" y="4317840"/>
            <a:ext cx="166212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Text Box 6"/>
          <p:cNvSpPr/>
          <p:nvPr/>
        </p:nvSpPr>
        <p:spPr>
          <a:xfrm>
            <a:off x="478620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 Трубецкой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2-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3056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С. Хомяков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4-18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3056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ост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И"/>
          <p:cNvPicPr/>
          <p:nvPr/>
        </p:nvPicPr>
        <p:blipFill>
          <a:blip r:embed="rId3"/>
          <a:stretch/>
        </p:blipFill>
        <p:spPr>
          <a:xfrm>
            <a:off x="7232760" y="1798560"/>
            <a:ext cx="1587240" cy="197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4" name="Text Box 10"/>
          <p:cNvSpPr/>
          <p:nvPr/>
        </p:nvSpPr>
        <p:spPr>
          <a:xfrm>
            <a:off x="4786200" y="179856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Соловьёв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3-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786200" y="277020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78620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бор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Лопатин (3)"/>
          <p:cNvPicPr/>
          <p:nvPr/>
        </p:nvPicPr>
        <p:blipFill>
          <a:blip r:embed="rId4"/>
          <a:stretch/>
        </p:blipFill>
        <p:spPr>
          <a:xfrm>
            <a:off x="358920" y="4317840"/>
            <a:ext cx="1547640" cy="19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8" name="Text Box 15"/>
          <p:cNvSpPr/>
          <p:nvPr/>
        </p:nvSpPr>
        <p:spPr>
          <a:xfrm>
            <a:off x="2230560" y="4317840"/>
            <a:ext cx="223200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 Лопати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5-19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30560" y="5289480"/>
            <a:ext cx="223200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ционал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блема истины – это проблема вс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олько области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ак полагает отрицательная философ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ложительной философии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возможн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ядоположное рассмотр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го и иллюзор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 как нет нич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ме реальной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люзия возможна только внутри са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орно не содержа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ллюз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ерные соотнош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ими областями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таль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хвате материала действительност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ррелирует с истин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«укоренённости в тотальности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. Г. Шп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0" descr="Шпет (1-red2)"/>
          <p:cNvPicPr/>
          <p:nvPr/>
        </p:nvPicPr>
        <p:blipFill>
          <a:blip r:embed="rId1"/>
          <a:stretch/>
        </p:blipFill>
        <p:spPr>
          <a:xfrm>
            <a:off x="7340760" y="1403280"/>
            <a:ext cx="1523880" cy="184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1"/>
          <p:cNvSpPr/>
          <p:nvPr/>
        </p:nvSpPr>
        <p:spPr>
          <a:xfrm>
            <a:off x="142920" y="5468760"/>
            <a:ext cx="2050920" cy="122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истин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своём мест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ло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месте чуж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3"/>
          <p:cNvSpPr/>
          <p:nvPr/>
        </p:nvSpPr>
        <p:spPr>
          <a:xfrm>
            <a:off x="465120" y="61531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н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0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1"/>
          <p:cNvSpPr/>
          <p:nvPr/>
        </p:nvSpPr>
        <p:spPr>
          <a:xfrm>
            <a:off x="248040" y="6153120"/>
            <a:ext cx="21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Мнимый ми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0800000">
            <a:off x="465120" y="1545480"/>
            <a:ext cx="827712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2301840" y="500220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1474920" y="370692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47640" y="2409840"/>
            <a:ext cx="647640" cy="1224000"/>
          </a:xfrm>
          <a:custGeom>
            <a:avLst/>
            <a:gdLst>
              <a:gd name="textAreaLeft" fmla="*/ 86760 w 647640"/>
              <a:gd name="textAreaRight" fmla="*/ 560880 w 64764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466560" y="1511280"/>
            <a:ext cx="575820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1295280" y="280656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следует поним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 оно должно быть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откры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правляющих» 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2122560" y="410220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2949480" y="5397480"/>
            <a:ext cx="5757840" cy="1150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как постижение символической реальности (П. А. Флор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11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2"/>
          <p:cNvSpPr/>
          <p:nvPr/>
        </p:nvSpPr>
        <p:spPr>
          <a:xfrm>
            <a:off x="358200" y="615312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таге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0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2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5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мы можем знать об этом ми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о собственным своим ощуще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тому, что нами испытывается, так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держание нашего оп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ашего знания 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ственные состоя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ничего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всякое утверждение внешнего бы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его этим состояния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с логической точки зр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более или мен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оятным заключение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151080" y="49658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07180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99216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647640" y="16192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мпирическая философ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состоянии доказ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ми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оп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727280" y="2878200"/>
            <a:ext cx="449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и в особенности 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других со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138560"/>
            <a:ext cx="449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овательный эмпириз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неизбе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дёт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3886200" y="5397480"/>
            <a:ext cx="449892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лепость выв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ставляет отвергнуть и посылку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зис о происхождении всех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й из чувственного вос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эмпи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324000" y="5397480"/>
            <a:ext cx="2600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М. Лопат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Положитель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3" descr="Лопатин (3)"/>
          <p:cNvPicPr/>
          <p:nvPr/>
        </p:nvPicPr>
        <p:blipFill>
          <a:blip r:embed="rId1"/>
          <a:stretch/>
        </p:blipFill>
        <p:spPr>
          <a:xfrm>
            <a:off x="6800760" y="1619280"/>
            <a:ext cx="2051280" cy="21589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закон причинности и наводит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ние внешнего бытия как прич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х ощущений и представлений, но так ка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ый этот зако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ности есть фор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го же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ение э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й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т име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условное значение 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дать безусловного непоколебим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беждения в существовании внешн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: все доказатель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, сводимые к закон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, являются, таким образ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как соображения вероят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как свидетельства достоверност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6553440" y="5397480"/>
            <a:ext cx="24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Чтения 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очеловечеств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9" descr="Лопатин (3)"/>
          <p:cNvPicPr/>
          <p:nvPr/>
        </p:nvPicPr>
        <p:blipFill>
          <a:blip r:embed="rId1"/>
          <a:stretch/>
        </p:blipFill>
        <p:spPr>
          <a:xfrm>
            <a:off x="7377120" y="1258920"/>
            <a:ext cx="1525680" cy="1606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2"/>
          <p:cNvSpPr/>
          <p:nvPr/>
        </p:nvSpPr>
        <p:spPr>
          <a:xfrm>
            <a:off x="1870200" y="3778200"/>
            <a:ext cx="259056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одме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вещ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ношение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4678200" y="3778200"/>
            <a:ext cx="2590920" cy="21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ью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971640" y="2590920"/>
            <a:ext cx="1079280" cy="180000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7088040" y="2590920"/>
            <a:ext cx="1079640" cy="180000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15000 h 1800000"/>
              <a:gd name="textAreaBottom" fmla="*/ 13050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западных теорий познания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рациона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2050920" y="2193840"/>
            <a:ext cx="503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ренной недостаток рационал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проявляющийся яснее вс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Спинозы и Гегеля) заклю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301440" y="5397480"/>
            <a:ext cx="276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С. Соловьё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илософские нач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льн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178920" y="1798200"/>
            <a:ext cx="665820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вестн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едмет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е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знак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го собственном или безуслов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ова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а  уверенность ни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бусловлена ощущениями, получаем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и от предмета, и понятием нашим о нё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е значение на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й и понятий прямо обусло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веренностью в самостоятель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и предмет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…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чевидно предмет  некоторого особ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етьего рода позна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ьнее может быть назва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Соловьев (2-3 - sel)"/>
          <p:cNvPicPr/>
          <p:nvPr/>
        </p:nvPicPr>
        <p:blipFill>
          <a:blip r:embed="rId1"/>
          <a:stretch/>
        </p:blipFill>
        <p:spPr>
          <a:xfrm>
            <a:off x="7197840" y="1798560"/>
            <a:ext cx="1485720" cy="2516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9" descr="Соловьев (2-3 - sel)"/>
          <p:cNvPicPr/>
          <p:nvPr/>
        </p:nvPicPr>
        <p:blipFill>
          <a:blip r:embed="rId1"/>
          <a:stretch/>
        </p:blipFill>
        <p:spPr>
          <a:xfrm>
            <a:off x="7556400" y="539640"/>
            <a:ext cx="1181160" cy="2000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ория цельного знания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знавательная функция в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5892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ществов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тверждае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р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32385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одержание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нешне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йствительности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ом.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6116760" y="1978200"/>
            <a:ext cx="2698560" cy="26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вязь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тдельных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едени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 цельную систему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аётс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шл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2400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есть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ь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и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"/>
          <p:cNvSpPr/>
          <p:nvPr/>
        </p:nvSpPr>
        <p:spPr>
          <a:xfrm>
            <a:off x="3201840" y="4857840"/>
            <a:ext cx="2772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Чт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ако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– это м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пытыв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н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6081840" y="4857840"/>
            <a:ext cx="2771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Как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а устроен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очему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им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21:39:57Z</dcterms:created>
  <dc:creator>Николай Бирюков / Nikolai Biryukov</dc:creator>
  <dc:description>Версия мая 2006 г.
Добавления концепция алогичного становления А. Ф. Лосева</dc:description>
  <dc:language>en-US</dc:language>
  <cp:lastModifiedBy>LEGION</cp:lastModifiedBy>
  <dcterms:modified xsi:type="dcterms:W3CDTF">2014-11-11T12:45:30Z</dcterms:modified>
  <cp:revision>95</cp:revision>
  <dc:subject>История и философия науки - Тема 2</dc:subject>
  <dc:title>Русская гносеология и философия науки</dc:title>
</cp:coreProperties>
</file>