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C23-669F-4A69-A98A-9DCB69F946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917-E706-4788-A6C7-66DB25E6B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10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E515-CA84-490F-A2E5-DC1C367AF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DDFC-6C58-4CDD-97DA-C42E1BE7B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D443-CB2F-4617-AF8E-59DA68C9D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589D-9B8A-4A47-9D6F-751D9C651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DA9-3709-4759-8156-DC5229D72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FE0E-B19D-479F-9B7E-49053F37A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6F80-0C4A-487A-B53D-28632BF3D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66CA-9E06-48D5-9CB0-12BD08926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8239-D117-463F-9F61-E569F8DB5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C36C-FEBB-44A2-B8E1-9F9B4473E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9B28-78B3-472C-8EC3-6BFE90022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6D7F-381B-4597-9EEA-8CA1AC812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FB4-73B4-4104-8CD1-C2620E928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B362-67A6-4007-B433-EBDC85E68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1A20-2FA5-4B59-95DF-AC245E658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7216-11C5-4470-BE98-1F26E2FFD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94C-1F73-4190-8A1A-A3838AC01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D334-FED2-46FB-A6E2-C09CE2D2F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12B3-7D59-4243-8894-F186FD251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160-6F64-4984-84B7-0E5DD85B0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CC9-D968-4516-923A-63082C7AF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C7A-5A34-45A6-B08C-9E3EC28BE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D7DF-9E28-4A60-B748-2F2E15EA7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D813-18CE-4553-96A3-E2878EDDE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8927-C162-4550-8242-A1941EC7B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44C4-6675-4074-A7E7-FB8589393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A66E-25FD-4BEE-A16E-07C338E18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9D22-3195-4610-B776-EC7E49B37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4D8D-6D9F-443E-B4E9-3758B55B7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CD61-63E8-465D-9169-8866A6D01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E66F-CB38-4540-9C2E-C935DFF45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EBB-BFBD-4905-9CCE-CFC76B557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FE0F-17E9-4EA2-9AB9-BA2AA11FC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C4C4-E1B5-4DE4-BB62-27BD16226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F9E-54E6-4BA4-9B30-86330510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C80-89E9-4C52-81FC-B29B9C2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985-EB81-4888-ABC5-8AFD6B5B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702-98BD-4C17-8E52-E3253896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57E-BF3C-43A1-B0EC-172256EA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B2D-AFD4-4CF1-ABC3-17280DB0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145-0978-4CC8-825B-AE7C7E7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B38-1541-447E-8DED-5E91708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2E8-206B-40DC-B743-DD1916B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9EB-75B6-465F-9CE5-A5846BE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4DF-418B-4334-9D35-643BFE3F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06A-260F-4D29-8765-5E09A17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D12D-5C89-4ECA-A2E2-34F5E0D40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2130120"/>
            <a:ext cx="827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880" y="388584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863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8452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4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58920" y="1619280"/>
            <a:ext cx="4857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по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пособен достичь исти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же если он отправляется от да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38200" y="2878200"/>
            <a:ext cx="485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познания леж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благодаря которым мы отлич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ую действи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её субъектив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17840" y="413856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ь веры удостовер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орным субъектом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598920" y="539748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и субъектом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е отдельный человек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а доступн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окуп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язанных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Хомяков Алексей Степанович (sm9)"/>
          <p:cNvPicPr/>
          <p:nvPr/>
        </p:nvPicPr>
        <p:blipFill>
          <a:blip r:embed="rId1"/>
          <a:stretch/>
        </p:blipFill>
        <p:spPr>
          <a:xfrm>
            <a:off x="250920" y="4246560"/>
            <a:ext cx="1942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7448400" y="4138560"/>
            <a:ext cx="161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369120" y="2878200"/>
            <a:ext cx="26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я и вера ка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5289480" y="1619280"/>
            <a:ext cx="377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сторон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д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" y="2743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5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16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сский (1-3)"/>
          <p:cNvPicPr/>
          <p:nvPr/>
        </p:nvPicPr>
        <p:blipFill>
          <a:blip r:embed="rId1"/>
          <a:stretch/>
        </p:blipFill>
        <p:spPr>
          <a:xfrm>
            <a:off x="39528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Франк СЛ (3bw)"/>
          <p:cNvPicPr/>
          <p:nvPr/>
        </p:nvPicPr>
        <p:blipFill>
          <a:blip r:embed="rId2"/>
          <a:stretch/>
        </p:blipFill>
        <p:spPr>
          <a:xfrm>
            <a:off x="7377120" y="179856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Шпет (1)"/>
          <p:cNvPicPr/>
          <p:nvPr/>
        </p:nvPicPr>
        <p:blipFill>
          <a:blip r:embed="rId3"/>
          <a:stretch/>
        </p:blipFill>
        <p:spPr>
          <a:xfrm>
            <a:off x="358920" y="4317840"/>
            <a:ext cx="158256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0" name="Text Box 12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 Шпе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9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оренён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т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 Флорен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и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2" descr="Флоренский (1-1cut_cmp)"/>
          <p:cNvPicPr/>
          <p:nvPr/>
        </p:nvPicPr>
        <p:blipFill>
          <a:blip r:embed="rId4"/>
          <a:stretch/>
        </p:blipFill>
        <p:spPr>
          <a:xfrm>
            <a:off x="7269120" y="4317840"/>
            <a:ext cx="158760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очки зрения отрицательн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 и объект разделены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же понимается либо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ение вещи в себе, либо как акт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тика исти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вается рамка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и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ама же истина понимается не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манентное, 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нсцендентное согласование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с вещью, или вещи – с п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 при этом имеет своим источни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ядок и связи в предмете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сть 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в конеч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тоге – субъекта, утверждающего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нима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 от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действитель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вёртывание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а познания не приближает, а, напрот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яет понятия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отрица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жительная философия исходи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сти обоснования всякой предмет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ведения всего сущего под некотор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, превышающее обосновыв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основание переходит в конечном итоге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ьную полноту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о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рен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тотальности совокупной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тупающей единым основанием всего с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ение проблемы действительности и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решения суть также части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язи с чем положительн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е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ирующей в себя на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ходя этот путь до конца,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может остановиться только 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уиция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непосредственно очевидных нача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ующих всякому теоретическому 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ложи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Хомяков Алексей Степанович (sm10)"/>
          <p:cNvPicPr/>
          <p:nvPr/>
        </p:nvPicPr>
        <p:blipFill>
          <a:blip r:embed="rId1"/>
          <a:stretch/>
        </p:blipFill>
        <p:spPr>
          <a:xfrm>
            <a:off x="358920" y="1798560"/>
            <a:ext cx="15224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5" descr="Трубецкой С (1)"/>
          <p:cNvPicPr/>
          <p:nvPr/>
        </p:nvPicPr>
        <p:blipFill>
          <a:blip r:embed="rId2"/>
          <a:stretch/>
        </p:blipFill>
        <p:spPr>
          <a:xfrm>
            <a:off x="7197840" y="431784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С. Хомяков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4-18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ст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И"/>
          <p:cNvPicPr/>
          <p:nvPr/>
        </p:nvPicPr>
        <p:blipFill>
          <a:blip r:embed="rId3"/>
          <a:stretch/>
        </p:blipFill>
        <p:spPr>
          <a:xfrm>
            <a:off x="7232760" y="1798560"/>
            <a:ext cx="15872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Соловьё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3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Лопатин (3)"/>
          <p:cNvPicPr/>
          <p:nvPr/>
        </p:nvPicPr>
        <p:blipFill>
          <a:blip r:embed="rId4"/>
          <a:stretch/>
        </p:blipFill>
        <p:spPr>
          <a:xfrm>
            <a:off x="358920" y="4317840"/>
            <a:ext cx="154764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15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ци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 истины – это проблема вс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области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полагает отрицательная фило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ложительной философии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ядоположное рассмотр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иллюзор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 как нет нич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ме реальной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люзия возможна только внутри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орно не содерж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ые соотнош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ими областями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та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хвате материала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релирует с исти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"/>
          <p:cNvSpPr/>
          <p:nvPr/>
        </p:nvSpPr>
        <p:spPr>
          <a:xfrm>
            <a:off x="142920" y="5468760"/>
            <a:ext cx="205092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истин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воём мест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месте чу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5120" y="6153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248040" y="6153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нимый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0800000">
            <a:off x="465120" y="1545480"/>
            <a:ext cx="827712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следует поним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 оно должно быть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откр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правляющих» 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358200" y="61531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таг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0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мы можем знать об этом ми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о собственным своим ощуще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тому, что нами испытывается, так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держание нашего оп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шего знания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ственные состоя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ичего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якое утверждение внешнего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его этим состоя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с логической точки з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более или ме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оятным заключени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151080" y="4965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07180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99216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47640" y="16192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мпирическ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состоянии доказ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ми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оп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727280" y="2878200"/>
            <a:ext cx="44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и в особенност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других со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13856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овательный эмпириз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неизбе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ёт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3886200" y="53974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епость выв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ставляет отвергнуть и посылк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зис о происхождении всех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 из 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5397480"/>
            <a:ext cx="260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М. Лопат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ложит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Лопатин (3)"/>
          <p:cNvPicPr/>
          <p:nvPr/>
        </p:nvPicPr>
        <p:blipFill>
          <a:blip r:embed="rId1"/>
          <a:stretch/>
        </p:blipFill>
        <p:spPr>
          <a:xfrm>
            <a:off x="6800760" y="1619280"/>
            <a:ext cx="2051280" cy="2158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закон причинности и наводит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внешнего бытия как пр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х ощущений и представлений, но так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этот зак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ности есть фор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ж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име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условное значение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дать безусловного непоколебим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еждения в существовании внешн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все доказатель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, сводимые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, являются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как соображения вероят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как свидетельства достоверност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Лопатин (3)"/>
          <p:cNvPicPr/>
          <p:nvPr/>
        </p:nvPicPr>
        <p:blipFill>
          <a:blip r:embed="rId1"/>
          <a:stretch/>
        </p:blipFill>
        <p:spPr>
          <a:xfrm>
            <a:off x="7377120" y="1258920"/>
            <a:ext cx="1525680" cy="1606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870200" y="3778200"/>
            <a:ext cx="259056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ме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вещ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78200" y="3778200"/>
            <a:ext cx="2590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971640" y="259092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088040" y="259092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050920" y="2193840"/>
            <a:ext cx="503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ренной недостаток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проявляющийся яснее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Спинозы и Гегеля) 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301440" y="539748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илософские нач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вест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мет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го собственном или безуслов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а  уверенность ни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бусловлена ощущениями, получаем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и от предмета, и понятием нашим о 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е значение на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й и понятий прямо обусло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ностью в самостоятель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и предмет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…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видно предмет  некоторого особ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тьего рода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ьнее может быть назва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Соловьев (2-3 - sel)"/>
          <p:cNvPicPr/>
          <p:nvPr/>
        </p:nvPicPr>
        <p:blipFill>
          <a:blip r:embed="rId1"/>
          <a:stretch/>
        </p:blipFill>
        <p:spPr>
          <a:xfrm>
            <a:off x="7556400" y="539640"/>
            <a:ext cx="1181160" cy="2000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5892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ществов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тверждае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385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одерж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ом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67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вяз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ьных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едени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цельную систему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есть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и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01840" y="4857840"/>
            <a:ext cx="2772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– это м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ытыв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184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а устрое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че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39:57Z</dcterms:created>
  <dc:creator>Николай Бирюков / Nikolai Biryukov</dc:creator>
  <dc:description>Версия мая 2006 г.
Добавления концепция алогичного становления А. Ф. Лосева</dc:description>
  <dc:language>en-US</dc:language>
  <cp:lastModifiedBy>LEGION</cp:lastModifiedBy>
  <dcterms:modified xsi:type="dcterms:W3CDTF">2014-11-11T12:45:30Z</dcterms:modified>
  <cp:revision>95</cp:revision>
  <dc:subject>История и философия науки - Тема 2</dc:subject>
  <dc:title>Русская гносеология и философия науки</dc:title>
</cp:coreProperties>
</file>