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114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1E4C-E47D-4BC8-8BAF-31B728977D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ивостокский Государственный Университет Экономики и Серви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Международных Отношений  и Социальных Технолог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Международных Отношений и Зарубежного регионове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презент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урсу «Международные экономические отношения США и Канады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ель ст.преподаватель кафедры МОЗ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юк Е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востокский Государственный Университет Экономики и Серви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 Международных Отношений  и Социальных Технолог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Международных Отношений и Зарубежного регионове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ая презент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урсу «Международные экономические отношения США и Канады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итель ст.преподаватель кафедры МОЗ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дюк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ен, а следовательно, и чрезвычайно привлекателен для производителей и инвесторов американский внутренний рын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ен, а следовательно, и чрезвычайно привлекателен для производителей и инвесторов американский внутренний ры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преступность и число заключенных в США (по отношению к общей численности населения) на порядок выше, чем в других развитых государствах, таких, как например, Япония или скандинавские страны. Серьезную нагрузку на бюджет оказывают также наркотики и СПИД, которые представляют для США более серьезную проблему, чем для других развитых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преступность и число заключенных в США (по отношению к общей численности населения) на порядок выше, чем в других развитых государствах, таких, как например, Япония или скандинавские страны. Серьезную нагрузку на бюджет оказывают также наркотики и СПИД, которые представляют для США более серьезную проблему, чем для других развиты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четвертых, сохраняется опасность глубокого экономического кризиса (хотя еще одна Великая депрессия вряд ли возможн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четвертых, сохраняется опасность глубокого экономического кризиса (хотя еще одна Великая депрессия вряд ли возможна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 экономических терминов 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экономических терминов 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цены- валюта в которой устанавливаются цены на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платежа – валюта, в которой будет погашено обязательство импор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пинг- это продажа товаров на внешних рынках по ценам, значительно ниже внутрен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очные цены- это цены, по которым реализуется сельскохозяйственная проду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цены- валюта в которой устанавливаются цены на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платежа – валюта, в которой будет погашено обязательство импор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пинг- это продажа товаров на внешних рынках по ценам, значительно ниже внутрен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очные цены- это цены, по которым реализуется сельскохозяйственная проду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цены- это цена реализации товара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- ввоз в страну товаров из-за гра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- вывоз товаров из страны для продажи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 цены- это цена реализации товара на мировом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орт- ввоз в страну товаров из-за гра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- вывоз товаров из страны для продажи в други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 рекомендуемой литерат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едложенных учебников по общему курсу можно порекомендова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: Учебник / Под. ред. Е. Жуковой  и Современные международные отношения: Учебник/ под. ред. А.В. Торкуновой  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зор рекомендуемой литерат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едложенных учебников по общему курсу можно порекомендовать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ой  и Современные международные отношения: Учебник/ под. ред. А.В. Торкуновой  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,  в частности основные принципы американской экономической политики хорошо  отражены в учебном пособии  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Фишер Г. Глобализация мирохозяйственных связей: сущность, направления, перспективы. – М.: ДА МИД РФ, 1999  и  Кругман П., Обстфельд М. Международная экономика. Теория и политика. – М.: ЮНИТИ, 19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,  в частности основные принципы американской экономической политики хорошо  отражены в учебном пособии  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Фишер Г. Глобализация мирохозяйственных связей: сущность, направления, перспективы. – М.: ДА МИД РФ, 1999  и  Кругман П., Обстфельд М. Международная экономика. Теория и политика. – М.: ЮНИТИ, 199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Научная период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Канада: экономика, политика, культура. 1992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и международные отношения. 1992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пломатический вестник. 1993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сант. 1999- 2004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звестия. 2000-2004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Научная период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- Канада: экономика, политика, культура. 1992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и международные отношения. 1992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пломатический вестник. 1993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сант. 1999- 2004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известия. 2000-2004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уем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orld Investment Report. 2000. N.Y. and Geneva, 2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orld Investment Report. 2000. N.Y. and Geneva, 20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ромышленность США потребляет около 1/3 сырья, добываемого в мир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 машиностро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промышленность США потребляет около 1/3 сырья, добываемого в мир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 машиностро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ляция: ценообразование и денежное обращение. – М.;: ИМЭМО РАН, 199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de Finance Payments and Services. L.: BPP Publishing Ltd, 1993, p. 84, 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ляция: ценообразование и денежное обращение. – М.;: ИМЭМО РАН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ade Finance Payments and Services. L.: BPP Publishing Ltd, 1993, p. 84, 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уджейро Р. Прямые иностранные инвестиции и многосторонняя торговая система//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national corporations. – Viol. 5, No 1 (April 1996), p. 1-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1992, N.Y. p. 70-7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1998, N.Y. , p. 74,7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2000, N.Y. and Geneva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уджейро Р. Прямые иностранные инвестиции и многосторонняя торговая система//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ansnational corporations. – Viol. 5, No 1 (April 1996), p. 1-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1992, N.Y. p. 70-7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1998, N.Y. , p. 74,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2000, N.Y. and Geneva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экономики: Учебник/ Под. ред. В.Е. Рыбалкина.- М.: МО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. A Survey of the World Economy. September 19 th 1992, p.6,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, 3 August 1996, p.2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, 27 July 1996, p. 6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экономики: Учебник/ Под. ред. В.Е. Рыбалкина.- М.: МО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. A Survey of the World Economy. September 19 th 1992, p.6,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, 3 August 1996, p.2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, 27 July 1996, p. 6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бек Э. Занятость и экономический рост // Человек и труд. – 1994. - №4. – с. 58-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ТБ. Конвенции и Рекомендации, принятые Международной конвенцией труда. 1919-1986. – Женева, 1988.- С. 1428-144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ueller Ch/ the Economist of Labour Migration A Behavioral Analysis, N.Y. 19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бек Э. Занятость и экономический рост // Человек и труд. – 1994. - №4. – с. 58-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ТБ. Конвенции и Рекомендации, принятые Международной конвенцией труда. 1919-1986. – Женева, 1988.- С. 1428-144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ueller Ch/ the Economist of Labour Migration A Behavioral Analysis, N.Y. 198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ир на рубеже тысячелетий», прогноз развития мировой экономики до 2015 года.// 2001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млев С. // Экономика Канады- радикальные перемены// Журнал «МЭ и МО» 1998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ay J., Dawn Fals: The Delusions of Global Capitalism. L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ncher, D. Messner. Global Trends. Munchen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Мир на рубеже тысячелетий», прогноз развития мировой экономики до 2015 года.// 200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млев С. // Экономика Канады- радикальные перемены// Журнал «МЭ и МО» 199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y J., Dawn Fals: The Delusions of Global Capitalism. L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ncher, D. Messner. Global Trends. Munchen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имов Ю.Г. Современное канадское общество: Учебное пособие. -СПб.: Петрополис.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международные отношения: Учебник/ под. ред А.В. Торкунова. – М.:РОССПЭН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имов Ю.Г. Современное канадское общество: Учебное пособие. -СПб.: Петрополис.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 А.В. Торкунова. – М.:РОССПЭН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: Учебник / Под. ред. Е. Жукова. – М.: ЮНИТИ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один Андрей, Глерий Широков. Глобализация: выгоды и риски. International Politic. №7, июль 2001. С. 50-5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ягин, М.Г. (ред.) Практика глобализации: игры и правила новой эпохи Москва: ИНФРА-М. 2000. Глава 1.Увлекательная жизнь технологий: информационная революция. Сс. 41-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ннеди, Пол. Вступая в двадцать первый век. Москва: Весь мир. 1997. С. 37-6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кин, А.И. Глобализация: процесс и осмысление. Москва: Логос. 2001. С. 160-16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berstadt, Nicholas. The Population Implosion. Foreign Policy, March/April 2001, p. 42-5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а. – М.: ЮНИТИ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один Андрей, Глерий Широков. Глобализация: выгоды и риски. International Politic. №7, июль 2001. С. 50-5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ягин, М.Г. (ред.) Практика глобализации: игры и правила новой эпохи Москва: ИНФРА-М. 2000. Глава 1.Увлекательная жизнь технологий: информационная революция. Сс. 41-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ннеди, Пол. Вступая в двадцать первый век. Москва: Весь мир. 1997. С. 37-6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кин, А.И. Глобализация: процесс и осмысление. Москва: Логос. 2001. С. 160-16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berstadt, Nicholas. The Population Implosion. Foreign Policy, March/April 2001, p. 42-5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ых отношений. Внешняя и мировая торгов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как одна из форм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понятие глобальных проблем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ировых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международных отношений. Внешняя и мировая торгов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как одна из форм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понятие глобальных проблем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ировых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 глобальных  мировых проблем и роль США в их ре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транснациональных корпораций и кредитно-финансовых  институ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. Кредитование им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ьюктура мирового рынка и организация продвижения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е в международной торговле. Классификац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экспортных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сть мировой финансов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формирован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государства над ц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решения глобальных  мировых проблем и роль США в их реал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 институ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. Кредитование им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ьюктура мирового рынка и организация продвижения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образование в международной торговле. Классификаци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экспортных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сть мировой финансов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формировани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государства над це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ывоза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зиции России и США в области ядерного оруж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развития экономических отношений Канады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 позиции США в Япо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и США перспективы развития на будущ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и структура экономических связей США с Кит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интеграционные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новой политики. Необходимая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овая стратегия в ценообразов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государственного сотрудничества и международных организаций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ывоз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зиции России и США в области ядерного оруж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экономических отношений Канады 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онные позиции США в Яп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и США перспективы развития на будущ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и структура экономических связей США с Кита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ценовой политики. Необходим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овая стратегия в ценообраз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межгосударственного сотрудничества и международных организаций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международной торговли и ее особенности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ассоциация свободной торговли (ЕАСТ). Основ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международной торговли и ее особенности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Основные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ами международных экономических отношений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микроэкономическом уров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ами международных экономических отношений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а микроэкономическом уров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дальнейшего развития международной специализации произошло разделение стран как бы на три группы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производящие продукцию обрабатывающей промышленности на мировой 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дающие продукцию добывающей промышлен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пециализирующие на производстве и продаже продукции сельского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дальнейшего развития международной специализации произошло разделение стран как бы на три группы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производящие продукцию обрабатывающей промышленности на мировой рын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дающие продукцию добывающей промышлен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пециализирующие на производстве и продаже продукции сельского хозя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яд западных промышленно развитых стран (США, Канада, Англия, ФРГ, Фран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ряд западных промышленно развитых стран (США, Канада, Англия, ФРГ, Фран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ервой группе стран следует отнести в основном такие промышленно развитые западные страны, как США, Канада, ФРГ, а также Япония, Итал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первой группе стран следует отнести в основном такие промышленно развитые западные страны, как США, Канада, ФРГ, а также Япония, Итал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страны Ближнего востока, Латинской Америки, Африки, осуществляющие продажу  нефти и газа в основном промышленно развитым странам. А также  такие промышленно развитые страны как Швеция, Канада, которые добывают в большом количестве различные минеральные ресурсы (уголь, руды черных и цветных металлов, золото, серебр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страны Ближнего востока, Латинской Америки, Африки, осуществляющие продажу  нефти и газа в основном промышленно развитым странам. А также  такие промышленно развитые страны как Швеция, Канада, которые добывают в большом количестве различные минеральные ресурсы (уголь, руды черных и цветных металлов, золото, серебро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асается стран   Азии, Африки, и Латинской  Амери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касается стран   Азии, Африки, и Латинской  Амери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. Виды и формы МЗО на современном этапе. Тенденции динамики и 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международных 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следующ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Виды и формы МЗО на современном этапе. Тенденции динамики и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формами международных 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тся следующ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и мировая торгов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и платежно-расчет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и вывоз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яя и мировая торгов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и вывоз капит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интеграцион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транснациональных корпораций и кредитно-финансовых институ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 техническое и производственное сотру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институ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 техническое и производственное сотрудн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и мировая торгов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яя и мировая торгов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ф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отно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х случаях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в связи с кредитованием внешней торгов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в результате движения ссудного капитала в рамках мирового рын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 третьих, в связи с поведением международных расч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фе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х отно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ех случаях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в связи с кредитованием внешней торговл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в результате движения ссудного капитала в рамках мирового рын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 третьих, в связи с поведением международ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включает  кредитование экспорта и кредитование импо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экспорта осуществляется в форме покупательских взно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внешней торговли включает  кредитование экспорта и кредитование импор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экспорта осуществляется в форме покупательских взно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и платежно-расче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между различными стра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отношения между различными страна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следующая разновидность че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жный (туристический) ч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чек(чек в евровалюте, который действует с 1968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карт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СВИФТ – информация по международным банковским расч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EDEL – межбанковские расчеты то торговле ценными бумаг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ы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следующая разновидность че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жный (туристический) че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чек(чек в евровалюте, который действует с 1968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карто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СВИФТ – информация по международным банковским расчет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EDEL – межбанковские расчеты то торговле ценными бумага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еты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 и  вывоз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 и  вывоз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уж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8 г. доходы только от США, Англии и Франции превышали 6 млрд. дол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у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58 г. доходы только от США, Англии и Франции превышали 6 млрд. дол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3. Ценообразование в международной торгов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и 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платежи в бюдж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3. Ценообразование в международной торгов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и 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платежи в бюдж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ждународной торговле существуют следующие виды классификации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рриториальному призна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порядка возмещения транспортных расходов  по доставке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тепени государственного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еждународной торговле существуют следующие виды классификации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территориальному призна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орядка возмещения транспортных расходов  по доставке гру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рриториальному признаку н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е или пояс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(зональ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территориальному признаку н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ые или пояс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(зона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ША являются ведущей страной в мировом хозяйстве, одним из крупнейших по территории и населению государством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занимают территорию площадью около 9,3 млн. кв. км, на которой проживает более 265 млн. человек, или 1,7% населения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ША являются ведущей страной в мировом хозяйстве, одним из крупнейших по территории и населению государством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занимают территорию площадью около 9,3 млн. кв. км, на которой проживает более 265 млн. человек, или 1,7% населения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тепени государственного регулирования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ые цены, складывающиеся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ые цены, складывающиеся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я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яется под влиянием спроса и предложения в относительно короткие с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яется под влиянием спроса и предложения в относительно короткие сро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феры товарного обращения  различают следующие виды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овые цены на промышленную продук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продукцию стро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очные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грузового и пассажирского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зничные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на платные услуги насе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обслуживающие внешнеторговый об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феры товарного обращения  различают следующие виды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е цены на промышленную продук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продукцию стро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очны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грузового и пассажирского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на платные услуги насе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обслуживающие внешнеторговый 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строительную продукцию делятся на три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жная стоимость -предельный размер затрат на строительство о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строительную продукцию делятся на три 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жная стоимость -предельный размер затрат на строительство объ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ьные корпорации (ТН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 по капиталу, но интернациональные по сфере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орпорации (МН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ациональные  и по капитал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ер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национальные корпорации (Т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 по капиталу, но интернациональные по сфере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корпорации (М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циональные  и по капита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ЕЭС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ространства без внутренних гран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сбалансированному и длительному экономическому прогресс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ЕЭС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ространства без внутренних границ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сбалансированному и длительному экономическому прогресс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ассоциация свободной торговли (ЕАСТ). 3 мая 19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ЕАС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постоянному росту экономической активности, обеспечению полной занятости, повышению производительности, рациональному использованию ресурсов, финансовой стабильности и неуклонному повышению уровня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3 мая 196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ЕАС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постоянному росту экономической активности, обеспечению полной занятости, повышению производительности, рациональному использованию ресурсов, финансовой стабильности и неуклонному повышению уровня жиз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4.  Миграция  и  вывоз капитала как форма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4.  Миграция  и  вывоз капитала как форма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функционирующего ссудного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функционирующего ссудного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 ссудного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 ссудного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займы различаются по своему назна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займы, или кредиты, производительного харак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к займы, или кредиты, непроизводительного характер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займы различаются по своему назна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займы, или кредиты, производительного характ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ак займы, или кредиты, непроизводительного характе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го характера в промышленности, на транспорте, в сельском хозяй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го характера,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ьного характера в промышленности, на транспорте, в сельском хозяйств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 портфельные инвести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 портфельные инвести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ются различными путя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их случаях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ются различными путя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них случаях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угих случаях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ругих случаях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5. Международные валютно-денежные и кредитные рын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выступают как партнеры-соперники. Последние  десятилетия отмечены активизацией развивающихся стран в этой сфер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5. Международные валютно-денежные и кредитные рын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выступают как партнеры-соперники. Последние  десятилетия отмечены активизацией развивающихся стран в этой сфер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а эволюции мировой валютной системы (МВС)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изменении структуры мирового хозяйства и соотношения сил  на  мировой  аре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замена существующей формы МВС на нову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вшись  в  XIX  веке, МВС прошла 3 этапа эволюц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1. «Золотой стандарт» или Парижская валютная систем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2. Бреттон - Вудская система фиксированных валютных курсов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Ямайская система плавающих валютный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этапа эволюции мировой валютной системы (МВС)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изменении структуры мирового хозяйства и соотношения сил  на  мировой  аре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замена существующей формы МВС на нову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ившись  в  XIX  веке, МВС прошла 3 этапа эволюц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1. «Золотой стандарт» или Парижская валютная систем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2. Бреттон - Вудская система фиксированных валютных курсов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Ямайская система плавающих валютный к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первой мировой войны и особ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превратились в нового финансового лидера, а золотой стандарт видоизменял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ериод первой мировой войны и особ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превратились в нового финансового лидера, а золотой стандарт видоизменял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 апреле  1933  г.  США  вышли   из   системы   золотого  станда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апреле  1933  г.  США  вышли   из   системы   золотого  стандар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овый блок: возглавляемый СШ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3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второй мировой войны все валютные блоки распа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ларовый блок: возглавляемый СШ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 создан в 1933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второй мировой войны все валютные блоки распали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оздания второй мировой валютной системы: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осстановление обширной свободной торговл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ередача в распоряжение  государств  ресурсов  для  противодействия        временным трудностям во внешнем балан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создания второй мировой валютной системы: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сстановление обширной свободной торговл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ередача в распоряжение  государств  ресурсов  для  противодействия        временным трудностям во внешнем баланс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 является исторически сложившейся форм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валютная система  является исторически сложившейся форм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личаются национальная, мировая, региональная валютные систе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о-кредитные и финансовые организации условно можн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международными финансовыми институтам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личаются национальная, мировая, региональная валютные систе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о-кредитные и финансовые организации условно можн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вать международными финансовыми институтам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 организации  объединяет общая  цель 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витие  сотрудничества   и   обеспечение   целостности   и стабилизации сложного и противоречивого всемирного хозяйства,  регулирование МЭО, в том числе валютно-кредитных  и  финансо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 организации  объединяет общая  цель 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 сотрудничества   и   обеспечение   целостности   и стабилизации сложного и противоречивого всемирного хозяйства,  регулирование МЭО, в том числе валютно-кредитных  и  финансов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 ним  относя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 расчетов,  Международный  валютный  фонд,   Всемирный   бан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 ним  относя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 международных  расчетов,  Международный  валютный  фонд,   Всемирный   бан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финансовые институты преследуют следующ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финансовые институты преследуют следующие ц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 Международная миграционная политика. Перемещение населения и трудовы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ирового рынка рабочей силы обусловлено международной миграцией трудящихся, т.е. взаимопересекающимся потоком  миграции (отъезд из страны) и иммиграции (въезд в стран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 Международная миграционная политика. Перемещение населения и трудов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мирового рынка рабочей силы обусловлено международной миграцией трудящихся, т.е. взаимопересекающимся потоком  миграции (отъезд из страны) и иммиграции (въезд в страну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 – передвижение лиц наемного труда через государственные границы в поисках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езде из своей страны трудящийся является эмигрантом, а при въезде в другую страну – иммигран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 – передвижение лиц наемного труда через государственные границы в поисках рабо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езде из своей страны трудящийся является эмигрантом, а при въезде в другую страну – иммигра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экономических пр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токи мигра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,КАНАДА и АВСТР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кономических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токи мигра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,КАНАДА и АВСТРА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токи Низкоквалифицированной рабочей силы направляются в США из латиноамериканских стран – Мексики, стран Карибского бассей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квалифицированной  рабочей силы иммигрируют  практически из всех стран мира , включая Западную Европу, Латинскую Америку, Россию, Индию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токи Низкоквалифицированной рабочей силы направляются в США из латиноамериканских стран – Мексики, стран Карибского бассей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квалифицированной  рабочей силы иммигрируют  практически из всех стран мира , включая Западную Европу, Латинскую Америку, Россию, Индию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развитые  западноевропейские страны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развитые  западноевропейские страны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Индии, Пакистана, Бангладеш, Кореи, Филипп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Индии, Пакистана, Бангладеш, Кореи, Филипп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эмиграции – развивающие страны, главные из которых -Мексика и страны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эмиграции – развивающие страны, главные из которых -Мексика и страны 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миграции рабочей силы являются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чее переселени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в пределах пограничных зо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арная ми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зонная ми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ятник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формами миграции рабочей силы являются следу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чее переселени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в пределах пограничных зон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арная миг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зонная миг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ятнико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й вид современной международной миграции населения – нелегальная иммиг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ый вид современной международной миграции населения – нелегальная иммиг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ША число подпольных мигрантов оценивается от 2 до15 млн. 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ША число подпольных мигрантов оценивается от 2 до15 млн. ч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нелегальной  иммиграции объясняется многими прич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нелегальной  иммиграции объясняется многими причин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данным, собранным Наследием Канад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88, они (иммигранты) принесли около 6 миллиардов долларов в Кана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процентов из них занимаются частным бизнес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игранты имеют доходы выше среднего и более высокую заработную плату, и поэтому они платят больше нало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данным, собранным Наследием Кана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88, они (иммигранты) принесли около 6 миллиардов долларов в Канад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процентов из них занимаются частным бизнесо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игранты имеют доходы выше среднего и более высокую заработную плату, и поэтому они платят больше нал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 Глобальные проблемы в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глобальных проблем относят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 Глобальные проблемы в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числу глобальных проблем относят следу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альнейшие развитие прав человека путем усиления личной и экономической своб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альнейшие развитие прав человека путем усиления личной и экономической своб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лишь федеральный бюджет страны превосходит размеры ВВП всех государств мира, кроме Японии и Герм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лишь федеральный бюджет страны превосходит размеры ВВП всех государств мира, кроме Японии и Герм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и предотвращение загряз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предотвращение загряз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«Green peace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 «Green peace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й оборот природоохранных технологий составляет более 700 млрд. долл., и постоянно рас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довой оборот природоохранных технологий составляет более 700 млрд. долл., и постоянно раст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элементы космического сотрудничества между стран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элементы космического сотрудничества между стран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ество в области мирового океана, не достигло таких масштабов, как  в космо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потенциал носит  военно - политически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чество в области мирового океана, не достигло таких масштабов, как  в космо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потенциал носит  военно - политически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и исчезновении главного стратегического противника и отступлении угрозы глобальной войны сохраняется опасность локальных войн и террор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несмотря на известные достижения в смягчении расовой проблемы, ее острота велика особенно потому, что расовые различия в большой мере совпадают с различиями в эко­номическом и социальном стату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при исчезновении главного стратегического противника и отступлении угрозы глобальной войны сохраняется опасность локальных войн и террор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несмотря на известные достижения в смягчении расовой проблемы, ее острота велика особенно потому, что расовые различия в большой мере совпадают с различиями в эко­номическом и социальном стату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50B9-6983-4A0D-89F8-D971706B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AF5-1221-4334-8739-F3631C20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7DF4-A69B-4E08-A316-711673A3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1094-0F0E-4379-B16C-953CC716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0BDE-60FC-41BE-AC9E-C9F60728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7028-C779-4647-A130-0611B505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46F8-87B0-467D-9848-9E79DFF1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F134-9FFE-4E0E-AF38-A213F1D1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515-FE4F-4860-A8E9-8009CE10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FAC-3D62-4BF5-96F0-953AD6FF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22E-16FF-4C1F-AC3A-A0F63F41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8D7-7507-457D-A51D-1B9BED3A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EF9E-02BE-4750-A3EC-C81F7A9E83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469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востокский Государственный Университет Экономики и Сервис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итут Международных Отношений  и Социальных Технолог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а Международных Отношений и Зарубежного регионоведения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ая презент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курс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еждународные экономические отношения США и Канады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ель ст.преподаватель кафедры МОЗ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юк Е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ромен, а следовательно, и чрезвычайно привлекателен для производителей и инвесторов американский внутренний рын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-третьих, преступность и число заключе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США (по отношению к общей численности населени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 на порядок выше, чем в других развитых государствах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аких, как например, Япония или скандинавские страны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ерьезную нагрузку на бюджет оказывают также наркотики и СПИД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торые представляют для США более серьезную проблему, чем для других развиты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-четвертых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храняется опасность глубокого экономического кризи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хотя еще одна Великая депрессия вряд ли возможн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варь экономических терминов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юта цены- валюта в которой устанавливаются цены на тов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юта платежа – валюта, в которой будет погашено обязательство импор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пинг- это продажа товаров на внешних рынках по ценам, значительно ниже внутрен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упочные цены- это цены, по которым реализуется сельскохозяйственная продук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овые цены- это цена реализации товара на мировом ры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порт- ввоз в страну товаров из-за гра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орт- вывоз товаров из страны для продажи в других стр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зор рекомендуемой литерат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предложенных учебников по общему курсу можно порекомендова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. А.В. Торкуновой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,  в частности основные принципы американской экономической политики хорошо  отражены в учебном пособии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Кругман П., Обстфельд М. Международная экономика. Теория и политика. – М.: ЮНИТИ, 1997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ая период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- Канада: экономика, политика, культура. 1992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овая экономика и международные отношения. 1992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пломатический вестник. 1993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ерсант. 1999- 200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звестия. 2000-200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ris 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and Interregional Economic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Investment Report. 2000. N.Y. and Geneva, 20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ько промышленность США потребляет около 1/3 сырья, добываемого в мир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шиностро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ляция: ценообразование и денежное обращение. – М.;: ИМЭМО РАН, 199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Finance Payments and Services. L.: BPP Publishing Ltd, 1993, p. 84, 9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362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джейро Р. Прямые иностранные инвестиции и многосторонняя торговая система/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national corporatio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5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996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1-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1992, N.Y. p. 70-7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1998, N.Y. , p. 74,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2000, N.Y. and Geneva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экономики: Учебник/ Под. ред. В.Е. Рыбалкина.- М.: МО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rvey of the World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19 th 1992, p.6,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, 3 August 1996, p.2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2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996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бек Э. Занятость и экономический рост // Человек и труд. – 1994. - №4. – с. 58-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ТБ. Конвенции и Рекомендации, принятые Международной конвенцией труда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19-1986.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не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988.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428-144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eller Ch/ the Economist of Labour Migration A Behavioral Analysis, N.Y. 198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02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ир на рубеже тысячелетий», прогноз развития мировой экономики до 2015 года.// 2001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лев С. // Экономика Канады- радикальные перемены// Журнал «МЭ и МО» 199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y J., Dawn Fals: The Delusions of Global Capitalism. L.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ch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n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rends. Munchen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ая лит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имов Ю.Г. Современное канадское общество: Учебное пособ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Пб.: Петрополис.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 А.В. Торкунова. – М.:РОССПЭН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196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а. – М.: ЮНИТИ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один Андрей, Глерий Широков. Глобализация: выгоды и риски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Politic. №7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ю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 50-5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гин, М.Г. (ред.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актика глобализации: игры и правила новой эпох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сква: ИНФРА-М. 2000. Глава 1.Увлекательная жизнь технологий: информационная революция. Сс. 41-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еннеди, Пол. Вступая в двадцать первый век. Москва: Весь мир. 1997. С. 37-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кин, А.И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обализация: процесс и осмыс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осква: Логос. 2001. С. 160-1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erstadt, Nicholas. The Population Implosion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eign Poli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rch/April 2001, p. 42-5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стика и структура миров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международных отношений. Внешняя и мировая торгов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з капитала как одна из форм международных экономически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и понятие глобальных проблем в современ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ы мировых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и решения глобальных  мировых проблем и роль США в их ре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 институ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дитные отношения. Кредитование им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ьюктура мирового рынка и организация продвижения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ообразование в международной торговле. Классификация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экспортных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бильность мировой финансов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мерности формирования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государства над це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вывоза капи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зиции России и США в области ядерного оруж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развития экономических отношений Канады и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вестиционные позиции США в Япо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и США перспективы развития на будущ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ка и структура экономических связей США с Кит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ценовой политики. Необходим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кетинговая стратегия в ценообраз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ь межгосударственного сотрудничества и международных организаций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международной торговли и ее особенности на современном эта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торговая поли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Основные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бъектами международных экономических отношен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на микроэкономическом уров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0920" y="333360"/>
            <a:ext cx="80866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дальнейшего развития международной специализации произошло разделение стран как бы на три группы 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производящие продукцию обрабатывающей промышленности на мировой рын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дающие продукцию добывающей промышлен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специализирующие на производстве и продаже продукции сельского хозяй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2565360"/>
            <a:ext cx="8218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ряд западных промышленно развитых стран (США, Канада, Англия, ФРГ, Франц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1557360"/>
            <a:ext cx="8663040" cy="35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первой группе стран следует отнести в основном такие промышленно развитые западные страны, как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, Канада, ФР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пония, Итали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 Ближнего востока, Латинской Америки, Африки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уществляющие продажу  нефти и газа в основном промышленно развитым странам. А также  такие промышленно развитые страны ка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веци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нада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ые добывают в большом количестве различные минеральные ресурсы (уголь, руды черных и цветных металлов, золото, серебро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07789952130184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касается стран   Азии, Африки, и Латинской  Америк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2. Виды и формы МЗО на современном этапе. Тенденции динамики и струк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ременных услов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ми формами международных  экономически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ются следующ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шняя и мировая торгов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ные отно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грация и вывоз капит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институ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о- техническое и производственное сотрудн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нешняя и мировая торговл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едитные отнош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фе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их отнош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дитные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ех случая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-первых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вязи с кредитованием внешней торговл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-вторых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езультате движения ссудного капитала в рамках мирового рын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- треть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связи с поведением международных расч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внешней торговли включает  кредитование экспорта и кредитование импор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экспорта осуществляется в форме покупательских взно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ютные отношения между различными стра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147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27280" y="1413000"/>
            <a:ext cx="4716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808668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ществует следующая разновидность че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жный (туристический) че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рочек(чек в евровалюте, который действует с 1968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ные кар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СВИФТ – информация по международным банковским расчет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D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межбанковские расчеты то торговле ценными бумаг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ы по валютным операц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грац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и  вывоз капитал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уж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58 г. доходы только от США, Англии и Франции превышали 6 млрд. до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 3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Ценообразование в международной торговле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ждународная торговля и внешнеторговая поли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акже платежи в бюд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ждународной торговле существуют следующие виды классификации ц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ерриториальному призна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висимости от порядка возмещения транспортных расходов  по доставке гру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8028000" y="3429000"/>
            <a:ext cx="37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территориальному признаку на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ые или поя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иональные (зональ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1. Характеристика и структура мирового хозя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настоящее время США являю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дущей страной в мировом хозяйстве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одним из крупнейших по территории и населению государством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ни занимают территорию площадью около 9,3 млн. кв. км, на которой проживает более 265 млн. человек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1,7% населения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ые цены, складывающиеся под влиянием спроса и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бкая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к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яется под влиянием спроса и предложения в относительно короткие с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 сферы товарного обращения  различают следующие виды це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товые цены на промышленную проду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ы на продукцию строи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упочные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рифы грузового и пассажирского трансп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зничные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рифы на платные услуги насе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ы обслуживающие внешнеторговый об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ны на строительную продукцию делятся на три вид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жная стоимость -предельный размер затрат на строительство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91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ая торгов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lagkanada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20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41716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нснациональные корпорации (ТН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ые  по капиталу, но интернациональные по сфере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народные корпорации (МН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ациональные  и по капита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фере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цели ЕЭ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пространства без внутренних грани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йствие сбалансированному и длительному экономическому прогресс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3 мая 196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цели ЕА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йствие постоянному росту экономической активности, обеспечению полной занят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ю производительности, рациональному использованию ресурсов, финансовой стабильности и неуклонному повышению уровня жиз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 4.  Миграция  и  вывоз капитала как форма международных экономических отно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воз функционирующего ссудного капита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з  ссудного капита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02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ые зай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личаются по своему назнач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ймы, или кредиты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одительного харак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ак займы, или кредиты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147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одительного харак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ромышленности, на транспорте, в сельском хозяйст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2643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ямые и портфельные инвести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ямые инвест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ются различными пут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дних случаях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8147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ругих случаях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ртфельные инвест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 5. Международные валютно-денежные и кредитные рын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ые выступают как партнеры-соперники. Последние  десятилетия отмечены активизацией развивающихся стран в этой сфер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5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98984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этапа эволюции мировой валютной системы (МВС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изменении структуры мирового хозяйства и соотношения сил  на  мировой  арен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замена существующей формы МВС на нов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95280" y="3886200"/>
            <a:ext cx="842472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вшись  в  XIX  веке, МВС прошла 3 этапа эволюции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1. «Золотой стандарт» или Парижская валютная система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2. Бреттон - Вудская система фиксированных валютных курсов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Ямайская система плавающих валютный к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иод первой мировой войны и особ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превратились в нового финансового лидера, а золотой стандарт видоизменял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апреле  1933  г.  США  вышли   из   системы   золотого  стандар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02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ларовый блок: возглавляемый СШ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 создан в 193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ремя второй мировой войны все валютные блоки распали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21844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 создания второй мировой валютной системы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осстановление обширной свободной торговл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ередача в распоряжение  государств  ресурсов  для  противодействия        временным трудностям во внешнем балан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овая валютная система  является исторически сложившейся форм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личаются национальная, мировая, региональная валютные системы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валютно-кредитные и финансовые организации условно мож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ть международными финансовыми институтами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 организации  объединяет общая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звитие  сотрудничества   и   обеспечение   целостности   и стабилизации сложного и противоречивого всемирного хозяйств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регулирование МЭО, в том числе валютно-кредитных  и  финансо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 ним  относя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 международных  расчетов,  Международный  валютный  фонд,   Всемирный   бан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финансовые институты преследуют следующие 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6.  Международная миграционная политика. Перемещение населения и трудовых ресурсов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мирового рынка рабочей силы обусловлено международной миграцией трудящихся, т.е. взаимопересекающимся потоком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г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тъезд из страны) 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миг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ъезд в стран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редвижение лиц наемного труда через государственные границы в поисках раб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выезде из своей страны трудящийся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мигрантом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 при въезде в другую страну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мигранто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075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илу экономических пр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отоки мигр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ША,КАНАДА и АВСТР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поток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зкоквалифицированной рабоч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правляются в США из латиноамериканских стран – Мексики, стран Карибского бассе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ококвалифицированной  рабочей си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ммигрируют  практически из всех стран мира , включая Западную Европу, Латинскую Америку, Россию, Индию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4358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иболее развитые  западноевропейские стра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14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Индии, Пакистана, Бангладеш, Кореи, Филипп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18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 эмиграции – развивающие страны, главные из которых -Мексика и страны Аз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ми формами миграции рабочей силы являются следу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учее переселени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грация в пределах пограничных з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арная мигр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зонная мигр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ятник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ый вид современной международной миграции населения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егальная иммигр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18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ША число подпольных мигрантов оценивается от 2 до15 млн.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т нелегальной  иммиграции объясняется многими причи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075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сно данным, собранным Наследием Кана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1988, они (иммигранты) принесли около 6 миллиардов долларов в Канад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0 процентов из них занимаются частным бизнес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ммигранты имеют доходы выше среднего и более высокую заработную плату, и поэтому они платят больше налог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7.  Глобальные проблемы в международных экономических отношениях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числу глобальных проблем относят следу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дальнейшие развитие прав человека путем усиления личной и экономической свобо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дин лишь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федеральный бюджет страны превосходит размеры ВВП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всех государств мира, кроме Японии и Герм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и предотвращение загрязнения окружающей сре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 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peac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ово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рот природоохранных технолог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ставляет более 700 млрд. долл., и постоянно раст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ые элементы космического сотрудничества между стран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трудничество в области мирового океана, не достигло таких масштабов, как  в космо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потенциал носит  военно - политически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81579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-первы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исчезновении главного стратегического противника и отступлении угрозы глобальной войны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храняется опасность локальных войн и террор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-вторы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смотря на известные достижения в смягчении расовой проблемы, ее острота велика особенно потому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расовые различия в большой мере совпадают с различиями в эко­номическом и социальном стату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0:05:57Z</dcterms:created>
  <dc:creator>User</dc:creator>
  <dc:description/>
  <dc:language>en-US</dc:language>
  <cp:lastModifiedBy>LEGION</cp:lastModifiedBy>
  <dcterms:modified xsi:type="dcterms:W3CDTF">2016-01-05T11:05:27Z</dcterms:modified>
  <cp:revision>17</cp:revision>
  <dc:subject/>
  <dc:title>Владивостокский Государственный Университет Экономики и Сервиса Институт Международных Отношений и Социальных Технологий Кафедра Международных Отношений и Зарубежного регионоведения Учебная презентация по курсу «Международные экономические отношения США</dc:title>
</cp:coreProperties>
</file>