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114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C3A1-6E3E-423D-850D-287AB0C1B1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ивостокский Государственный Университет Экономики и Серви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 Международных Отношений  и Социальных Технолог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Международных Отношений и Зарубежного регионовед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ая презент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урсу «Международные экономические отношения США и Канады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ель ст.преподаватель кафедры МОЗ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юк Е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ивостокский Государственный Университет Экономики и Серви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итут Международных Отношений  и Социальных Технолог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Международных Отношений и Зарубежного регионовед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ая презент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курсу «Международные экономические отношения США и Канады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итель ст.преподаватель кафедры МОЗ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дюк Е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омен, а следовательно, и чрезвычайно привлекателен для производителей и инвесторов американский внутренний рын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оглощает примерно 90% всего объема внутреннего производства и, кроме того, значительную часть продукции, которая создается в других странах, в том числе в развиваю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омен, а следовательно, и чрезвычайно привлекателен для производителей и инвесторов американский внутренний рын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поглощает примерно 90% всего объема внутреннего производства и, кроме того, значительную часть продукции, которая создается в других странах, в том числе в развивающих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третьих, преступность и число заключенных в США (по отношению к общей численности населения) на порядок выше, чем в других развитых государствах, таких, как например, Япония или скандинавские страны. Серьезную нагрузку на бюджет оказывают также наркотики и СПИД, которые представляют для США более серьезную проблему, чем для других развитых ст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третьих, преступность и число заключенных в США (по отношению к общей численности населения) на порядок выше, чем в других развитых государствах, таких, как например, Япония или скандинавские страны. Серьезную нагрузку на бюджет оказывают также наркотики и СПИД, которые представляют для США более серьезную проблему, чем для других развитых ст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четвертых, сохраняется опасность глубокого экономического кризиса (хотя еще одна Великая депрессия вряд ли возможна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устойчивость финансовой сферы, существенно больше связанной с мировым рынком, чем в 30-е годы, не гарантиров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четвертых, сохраняется опасность глубокого экономического кризиса (хотя еще одна Великая депрессия вряд ли возможна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устойчивость финансовой сферы, существенно больше связанной с мировым рынком, чем в 30-е годы, не гарантиров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арь экономических терминов 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орговля- это обмен товарами и услугами между разными странами, связанный со всеобщей интернационализацией хозяйственной жизни и интенсификацией международного разделения труда в условиях научно- технической револю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миграция рабочей силы- передвижение  лиц наемного труда через государственные границы в поисках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ая торговля- это свободный, беспошлинный или облагаемый лишь незначительными пошлинами ввоз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арь экономических терминов 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- это обмен товарами и услугами между разными странами, связанный со всеобщей интернационализацией хозяйственной жизни и интенсификацией международного разделения труда в условиях научно- технической револю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- передвижение  лиц наемного труда через государственные границы в поисках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ая торговля- это свободный, беспошлинный или облагаемый лишь незначительными пошлинами ввоз тов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ая торговля – это свободный, беспошлинный или облагаемый лишь незначительными пошлинами ввоз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цены- валюта в которой устанавливаются цены на тов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платежа – валюта, в которой будет погашено обязательство импорт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- денежное выражение стоимости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пинг- это продажа товаров на внешних рынках по ценам, значительно ниже внутрен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упочные цены- это цены, по которым реализуется сельскохозяйственная продук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рифы транспорта- это плата за перемещение грузов и пассажиров, взимаемая транспортными организац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ая торговля – это свободный, беспошлинный или облагаемый лишь незначительными пошлинами ввоз тов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а цены- валюта в которой устанавливаются цены на тов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а платежа – валюта, в которой будет погашено обязательство импорт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- денежное выражение стоимости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пинг- это продажа товаров на внешних рынках по ценам, значительно ниже внутрен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очные цены- это цены, по которым реализуется сельскохозяйственная проду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рифы транспорта- это плата за перемещение грузов и пассажиров, взимаемая транспортными организа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зничные цены- это цены, по которым товары реализуются в розничной торговле предприятиям, организациям и насе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цены- это цена реализации товара на мировом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- ввоз в страну товаров из-за гра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- вывоз товаров из страны для продажи в друг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национализация- это меж государственная интеграция, реализуемая на уровне частны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ничные цены- это цены, по которым товары реализуются в розничной торговле предприятиям, организациям и насел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ые цены- это цена реализации товара на мировом ры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порт- ввоз в страну товаров из-за грани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- вывоз товаров из страны для продажи в других стра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национализация- это меж государственная интеграция, реализуемая на уровне частных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зор рекомендуемой литерату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редложенных учебников по общему курсу можно порекомендовать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отношения: Учебник / Под. ред. Е. Жуковой  и Современные международные отношения: Учебник/ под. ред. А.В. Торкуновой  по лаконичному, но вместе с тем наглядному и доступному изложению материала, ориентированного на студентов экономических специальностей. В учебнике дается достаточно четкое и компактное комплексное  рассмотрение всех важнейших теоретических и практических аспектов мировой экономики и международных экономических  связей, современная их интерпрет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зор рекомендуемой литерату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предложенных учебников по общему курсу можно порекомендовать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: Учебник / Под. ред. Е. Жуковой  и Современные международные отношения: Учебник/ под. ред. А.В. Торкуновой  по лаконичному, но вместе с тем наглядному и доступному изложению материала, ориентированного на студентов экономических специальностей. В учебнике дается достаточно четкое и компактное комплексное  рассмотрение всех важнейших теоретических и практических аспектов мировой экономики и международных экономических  связей, современная их интерпрет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,  в частности основные принципы американской экономической политики хорошо  отражены в учебном пособии  Ойкен В. Основные принципы экономической политики.- М.: Прогресс, 1995.- С. 32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му усвоению дисциплины способствует большее количество примеров, иллюстрирующих реальную практику принятия эффективных решений которые представлены в  таких книгах как Фишер Г. Глобализация мирохозяйственных связей: сущность, направления, перспективы. – М.: ДА МИД РФ, 1999  и  Кругман П., Обстфельд М. Международная экономика. Теория и политика. – М.: ЮНИТИ, 199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,  в частности основные принципы американской экономической политики хорошо  отражены в учебном пособии  Ойкен В. Основные принципы экономической политики.- М.: Прогресс, 1995.- С. 32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ому усвоению дисциплины способствует большее количество примеров, иллюстрирующих реальную практику принятия эффективных решений которые представлены в  таких книгах как Фишер Г. Глобализация мирохозяйственных связей: сущность, направления, перспективы. – М.: ДА МИД РФ, 1999  и  Кругман П., Обстфельд М. Международная экономика. Теория и политика. – М.: ЮНИТИ, 199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ую помощь  приносит систематическое знакомство с серьезными отечественными и зарубежными изданиями, такими, как «Коммерсант», «Файненшнл таймс», «БизнесУик», с разнообразной и оперативной  экономической информацией, представленной системой Интернет. Научная период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- Канада: экономика, политика, культура. 1992-2003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 и международные отношения. 1992-2003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пломатический вестник. 1993-2003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сант. 1999- 2004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известия. 2000-2004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енную помощь  приносит систематическое знакомство с серьезными отечественными и зарубежными изданиями, такими, как «Коммерсант», «Файненшнл таймс», «БизнесУик», с разнообразной и оперативной  экономической информацией, представленной системой Интернет. Научная период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 - Канада: экономика, политика, культура. 1992-2003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и международные отношения. 1992-2003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пломатический вестник. 1993-2003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сант. 1999- 2004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е известия. 2000-2004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используемой литера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отношения. Интеграция/ Щербанин Ю.А. , Рожков К.Л., Рыбалкин В.Е., Фишер Г. – М.: ЮНИТИ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йкен В. Основные принципы экономической политики.- М.: Прогресс, 1995.- С. 32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arris S.E. International and Interregional Economics.- N.Y. 196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используемой литера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. Интеграция/ Щербанин Ю.А. , Рожков К.Л., Рыбалкин В.Е., Фишер Г. – М.: ЮНИТИ, 19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йкен В. Основные принципы экономической политики.- М.: Прогресс, 1995.- С. 32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arris S.E. International and Interregional Economics.- N.Y. 196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реев А. Международная экономика.- М.:МО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orld Investment Report. 2000. N.Y. and Geneva, 200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реев А. Международная экономика.- М.:МО, 19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orld Investment Report. 2000. N.Y. and Geneva, 200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промышленность США потребляет около 1/3 сырья, добываемого в мир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имеет самый емкий рынок машин и оборудования, на долю которого приходится свыше 40% реализуемой в развитых странах продукции машиностро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ько промышленность США потребляет около 1/3 сырья, добываемого в мир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акже имеет самый емкий рынок машин и оборудования, на долю которого приходится свыше 40% реализуемой в развитых странах продукции машиностро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а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фляция: ценообразование и денежное обращение. – М.;: ИМЭМО РАН, 199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ругман П., Обстфельд М. Международная экономика. Теория и политика. – М.: ЮНИТИ, 1997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ade Finance Payments and Services. L.: BPP Publishing Ltd, 1993, p. 84, 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ма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фляция: ценообразование и денежное обращение. – М.;: ИМЭМО РАН, 199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ругман П., Обстфельд М. Международная экономика. Теория и политика. – М.: ЮНИТИ, 1997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ade Finance Payments and Services. L.: BPP Publishing Ltd, 1993, p. 84, 9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а 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уджейро Р. Прямые иностранные инвестиции и многосторонняя торговая система//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ansnational corporations. – Viol. 5, No 1 (April 1996), p. 1-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ША: политическая мысль и история / Н.Н. Яковлев, В.К. Пархоменко, А.А. Каренин и др./ Ин-т Соединенных штатов Америки и Канады./ М: Наука 1976г. –619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Investment Report, 1992, N.Y. p. 70-7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Investment Report, 1998, N.Y. , p. 74,7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Investment Report, 2000, N.Y. and Geneva,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ма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уджейро Р. Прямые иностранные инвестиции и многосторонняя торговая система//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ansnational corporations. – Viol. 5, No 1 (April 1996), p. 1-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ША: политическая мысль и история / Н.Н. Яковлев, В.К. Пархоменко, А.А. Каренин и др./ Ин-т Соединенных штатов Америки и Канады./ М: Наука 1976г. –619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Investment Report, 1992, N.Y. p. 70-7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Investment Report, 1998, N.Y. , p. 74,7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Investment Report, 2000, N.Y. and Geneva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еньги и Кредит», журнал, «Мировая экономика и международные финансовые рынки: итоги 2000 года», статья , №4, 2001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ировая экономика и международные отношения», журнал, «Экономика США на исходе века: итоги и проблемы», статья №11, 1998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экономики: Учебник/ Под. ред. В.Е. Рыбалкина.- М.: МО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ая организация и деятельность Международного валютного фонда. – Вашингтон, 1994. – с. 1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he Economist. A Survey of the World Economy. September 19 th 1992, p.6,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he Economist, 3 August 1996, p.2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he Economist, 27 July 1996, p. 6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сов А.Г. // Финансовый капитал и финансовая олигархия Канады»// Журнал «МЭ и МО» 1999 г. –с. 13-1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Деньги и Кредит», журнал, «Мировая экономика и международные финансовые рынки: итоги 2000 года», статья , №4, 200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ировая экономика и международные отношения», журнал, «Экономика США на исходе века: итоги и проблемы», статья №11, 1998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экономики: Учебник/ Под. ред. В.Е. Рыбалкина.- М.: МО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организация и деятельность Международного валютного фонда. – Вашингтон, 1994. – с. 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he Economist. A Survey of the World Economy. September 19 th 1992, p.6,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he Economist, 3 August 1996, p.2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he Economist, 27 July 1996, p. 6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сов А.Г. // Финансовый капитал и финансовая олигархия Канады»// Журнал «МЭ и МО» 1999 г. –с. 13-1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шневская Н.Т. Рынок труда – переплетение циклических и структурных факторов// Мировая экономика и международные отношения. – 1993. - № 12. – с. 63-7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шневская Н.Т. рынок труда – проблемы и решения // Мировая экономика и международные отношения. 1995 - № 1. –с. 111 – 1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йло В.С. Проблемы интеллектуального труда // США: экономика, политика, идеология. – 1995. - №6. –с.23-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бек Э. Занятость и экономический рост // Человек и труд. – 1994. - №4. – с. 58-6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ТБ. Конвенции и Рекомендации, принятые Международной конвенцией труда. 1919-1986. – Женева, 1988.- С. 1428-144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ueller Ch/ the Economist of Labour Migration A Behavioral Analysis, N.Y. 198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шневская Н.Т. Рынок труда – переплетение циклических и структурных факторов// Мировая экономика и международные отношения. – 1993. - № 12. – с. 63-7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шневская Н.Т. рынок труда – проблемы и решения // Мировая экономика и международные отношения. 1995 - № 1. –с. 111 – 11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йло В.С. Проблемы интеллектуального труда // США: экономика, политика, идеология. – 1995. - №6. –с.23-3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бек Э. Занятость и экономический рост // Человек и труд. – 1994. - №4. – с. 58-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ТБ. Конвенции и Рекомендации, принятые Международной конвенцией труда. 1919-1986. – Женева, 1988.- С. 1428-144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ueller Ch/ the Economist of Labour Migration A Behavioral Analysis, N.Y. 198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а 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ир на рубеже тысячелетий», прогноз развития мировой экономики до 2015 года.// 2001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иглиц Дж. Ю. Экономика государственного сектора. / пер. с англ. М.:  Изд-во: МГУ, ИНФВА-М, 1997 г. –154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млев С. // Экономика Канады- радикальные перемены// Журнал «МЭ и МО» 1998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ay J., Dawn Fals: The Delusions of Global Capitalism. L., 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ncher, D. Messner. Global Trends. Munchen, 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ма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«Мир на рубеже тысячелетий», прогноз развития мировой экономики до 2015 года.// 200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иглиц Дж. Ю. Экономика государственного сектора. / пер. с англ. М.:  Изд-во: МГУ, ИНФВА-М, 1997 г. –154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омлев С. // Экономика Канады- радикальные перемены// Журнал «МЭ и МО» 199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ay J., Dawn Fals: The Delusions of Global Capitalism. L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ncher, D. Messner. Global Trends. Munchen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литерату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имов Ю.Г. Современное канадское общество: Учебное пособие. -СПб.: Петрополис.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международные отношения: Учебник/ под. ред А.В. Торкунова. – М.:РОССПЭН,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ман П., Обстфельд М. Международная экономика. Теория и политика. – М.: ЮНИТИ, 1997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реев А. Международная экономика.- М.:МО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литерату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имов Ю.Г. Современное канадское общество: Учебное пособие. -СПб.: Петрополис.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международные отношения: Учебник/ под. ред А.В. Торкунова. – М.:РОССПЭН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гман П., Обстфельд М. Международная экономика. Теория и политика. – М.: ЮНИТИ, 1997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реев А. Международная экономика.- М.:МО, 19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arris S.E. International and Interregional Economics.- N.Y. 196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конелл, Кемпбелл Р., Брю, Стэнли Л.  Экономикс: принципы,                проблемы и политика : Учебник М.; Инфра- М, 1990г. –905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отношения: Учебник / Под. ред. Е. Жукова. – М.: ЮНИТИ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один Андрей, Глерий Широков. Глобализация: выгоды и риски. International Politic. №7, июль 2001. С. 50-5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ягин, М.Г. (ред.) Практика глобализации: игры и правила новой эпохи Москва: ИНФРА-М. 2000. Глава 1.Увлекательная жизнь технологий: информационная революция. Сс. 41-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ннеди, Пол. Вступая в двадцать первый век. Москва: Весь мир. 1997. С. 37-6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кин, А.И. Глобализация: процесс и осмысление. Москва: Логос. 2001. С. 160-16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berstadt, Nicholas. The Population Implosion. Foreign Policy, March/April 2001, p. 42-5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arris S.E. International and Interregional Economics.- N.Y. 196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конелл, Кемпбелл Р., Брю, Стэнли Л.  Экономикс: принципы,                проблемы и политика : Учебник М.; Инфра- М, 1990г. –905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: Учебник / Под. ред. Е. Жукова. – М.: ЮНИТИ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один Андрей, Глерий Широков. Глобализация: выгоды и риски. International Politic. №7, июль 2001. С. 50-5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ягин, М.Г. (ред.) Практика глобализации: игры и правила новой эпохи Москва: ИНФРА-М. 2000. Глава 1.Увлекательная жизнь технологий: информационная революция. Сс. 41-9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еннеди, Пол. Вступая в двадцать первый век. Москва: Весь мир. 1997. С. 37-6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кин, А.И. Глобализация: процесс и осмысление. Москва: Логос. 2001. С. 160-16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berstadt, Nicholas. The Population Implosion. Foreign Policy, March/April 2001, p. 42-5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аменационные вопросы по курсу «Международные экономические отношения США и Канад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а и структура мирового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специализация и ее сущ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международных отношений. Внешняя и мировая торгов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капитала как одна из форм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понятие глобальных проблем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мировых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международного экономического сотрудничества в  области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заменационные вопросы по курсу «Международные экономические отношения США и Канад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а и структура миров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и ее сущ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международных отношений. Внешняя и мировая торгов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капитала как одна из форм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и понятие глобальных проблем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мировых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международного экономического сотрудничества в  области глобальных проб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решения глобальных  мировых проблем и роль США в их реал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развитие транснациональных корпораций и кредитно-финансовых  институ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отношения. Кредитование импо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миграция рабочей си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ьюктура мирового рынка и организация продвижения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образование в международной торговле. Классификация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экспортных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ьность мировой финансов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формирования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государства над це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решения глобальных  мировых проблем и роль США в их реал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и развитие транснациональных корпораций и кредитно-финансовых  институ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е отношения. Кредитование имп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ьюктура мирового рынка и организация продвижения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образование в международной торговле. Классификация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экспортных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ьность мировой финансов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формирования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государства над цен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вывоза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характеристика состояния и потенциала торгово-экономических связей России и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зиции России и США в области ядерного оруж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развития экономических отношений Канады и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е позиции США в Япо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и США перспективы развития на будущ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и структура экономических связей США с Кит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интеграционные процес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ценовой политики. Необходимая информ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инговая стратегия в ценообразов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государственного сотрудничества и международных организаций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вывоза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состояния и потенциала торгово-экономических связей России и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зиции России и США в области ядерного оруж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азвития экономических отношений Канады и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онные позиции США в Япо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я и США перспективы развития на будущ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намика и структура экономических связей США с Кита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интеграционные процес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ценовой политики. Необходимая информ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овая стратегия в ценообразов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межгосударственного сотрудничества и международных организаций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а расходует огромные средства на НИОКР (до 40% мировых затрат, 162 млрд. долл. в 1992 г.). Ежегодные ассигнования на эти цели превышают подобные расходы Британии, Германии, Франции и Японии вместе взят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США в общем объеме экспорта наукоемкой продукции в современном мире,  составляет не менее 2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а расходует огромные средства на НИОКР (до 40% мировых затрат, 162 млрд. долл. в 1992 г.). Ежегодные ассигнования на эти цели превышают подобные расходы Британии, Германии, Франции и Японии вместе взяты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США в общем объеме экспорта наукоемкой продукции в современном мире,  составляет не менее 2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международной торговли и ее особенности на современном этап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торговая поли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ая ассоциация свободной торговли (ЕАСТ). Основные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экономических отношений США И Ближний Восток. Американская теория модернизации Ближнего Вост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международной торговли и ее особенности на современном этап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торгов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ая ассоциация свободной торговли (ЕАСТ). Основные ц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экономических отношений США И Ближний Восток. Американская теория модернизации Ближнего Вост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ами международных экономических отношений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на микроэкономическом уровн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кие и средние предприятия, а также физические лица, осуществляющие внешнеэкономические опер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 на макроэкономическом уровне субъектами     международных экономических отношений   выступают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ьные страны (их региональные и муниципальные субъекты), интеграционные объединения стран, крупные города и отдельные области (регионы) разных стр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ами международных экономических отношений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на микроэкономическом уровн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ие и средние предприятия, а также физические лица, осуществляющие внешнеэкономические опе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 на макроэкономическом уровне субъектами     международных экономических отношений   выступают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ьные страны (их региональные и муниципальные субъекты), интеграционные объединения стран, крупные города и отдельные области (регионы) разных стра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на обоих уровнях функционируют крупнейшие международные торговые, финансовые, промышленные корпорации, а также институциональные инвесторы: инвестиционные, пенсионные и другие фонды, страховые, трастовые компании. |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на наднациональном уровне в качестве субъектов МЭО действуют международные организации и наднациональные институ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на обоих уровнях функционируют крупнейшие международные торговые, финансовые, промышленные корпорации, а также институциональные инвесторы: инвестиционные, пенсионные и другие фонды, страховые, трастовые компании.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на наднациональном уровне в качестве субъектов МЭО действуют международные организации и наднациональные институ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специализация и ее сущ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ация позволяет отдельным странам не затрачивать огромные денежные ресурсы на создание некоторых производств для выпуска товаров, а получать их путем внешней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специализации состоит в том, что отдельные страны специализируются на выпуске каких-то конкретных товаров и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и ее сущ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ация позволяет отдельным странам не затрачивать огромные денежные ресурсы на создание некоторых производств для выпуска товаров, а получать их путем внешней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специализации состоит в том, что отдельные страны специализируются на выпуске каких-то конкретных товаров и услу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дальнейшего развития международной специализации произошло разделение стран как бы на три группы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производящие продукцию обрабатывающей промышленности на мировой рын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дающие продукцию добывающей промышлен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пециализирующие на производстве и продаже продукции сельского хозя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дальнейшего развития международной специализации произошло разделение стран как бы на три группы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производящие продукцию обрабатывающей промышленности на мировой рын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дающие продукцию добывающей промышлен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пециализирующие на производстве и продаже продукции сельского хозяй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 же время существует и четвертая группа стран, которая одновременно производит продукцию обрабатывающей, добывающей промышленности и сельского хозяйств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яд западных промышленно развитых стран (США, Канада, Англия, ФРГ, Фран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 же время существует и четвертая группа стран, которая одновременно производит продукцию обрабатывающей, добывающей промышленности и сельского хозяйств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ряд западных промышленно развитых стран (США, Канада, Англия, ФРГ, Фран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ервой группе стран следует отнести в основном такие промышленно развитые западные страны, как США, Канада, ФРГ, а также Япония, Итали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торые поставляют на мировой рынок  высокотехнологическое оборудование, автомобили, станки, химические товары, бытовую техн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первой группе стран следует отнести в основном такие промышленно развитые западные страны, как США, Канада, ФРГ, а также Япония, Итали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торые поставляют на мировой рынок  высокотехнологическое оборудование, автомобили, станки, химические товары, бытовую техн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 второй группе относятся страны, обладающие мощными минеральными ресурсами и продающими их на мировом рынке. Это прежде всего нефтедобывающие страны Ближнего востока, Латинской Америки, Африки, осуществляющие продажу  нефти и газа в основном промышленно развитым странам. А также  такие промышленно развитые страны как Швеция, Канада, которые добывают в большом количестве различные минеральные ресурсы (уголь, руды черных и цветных металлов, золото, серебро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 второй группе относятся страны, обладающие мощными минеральными ресурсами и продающими их на мировом рынке. Это прежде всего нефтедобывающие страны Ближнего востока, Латинской Америки, Африки, осуществляющие продажу  нефти и газа в основном промышленно развитым странам. А также  такие промышленно развитые страны как Швеция, Канада, которые добывают в большом количестве различные минеральные ресурсы (уголь, руды черных и цветных металлов, золото, серебро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третьей группе относятся страны , специализация которых на всемирном рынке ограничивается исключительно сельскохозяйственной продукци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асается стран   Азии, Африки, и Латинской  Амери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вщиками сельскохозяйственной продукции на мировом рынке являются также большинство промышленно развитых стран (США, Канада, Западная Европа, Австрал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ретьей группе относятся страны , специализация которых на всемирном рынке ограничивается исключительно сельскохозяйственной продукци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касается стран   Азии, Африки, и Латинской  Амери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вщиками сельскохозяйственной продукции на мировом рынке являются также большинство промышленно развитых стран (США, Канада, Западная Европа, Австрал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2. Виды и формы МЗО на современном этапе. Тенденции динамики и струк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формами международных 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ются следующ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Виды и формы МЗО на современном этапе. Тенденции динамики и 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формами международных 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ются следующ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и мировая торгов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отно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и платежно-расчетные отно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грация и вывоз капит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миграция рабочей си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яя и мировая торгов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е отно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е и платежно-расчетные отно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грация и вывоз капитал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интеграционные процес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развитие транснациональных корпораций и кредитно-финансовых институ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осударственное регулирование международных экономических отношений (регулирование валютно-финансовых, торговых отношен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- техническое и производственное сотрудни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интеграционные процес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и развитие транснациональных корпораций и кредитно-финансовых институ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государственное регулирование международных экономических отношений (регулирование валютно-финансовых, торговых отношен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о- техническое и производственное сотрудн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и мировая торгов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 мировой рынок- это сфера обмена, которая охватывает совокупное товарное обращение различных стран, являющихся его составными органическими элемен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ление к получению прибыли и сравнительно узкие рамки национальных  рынков за пределы своего рынка, что в итоге ведет к поискам внешних ры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яя и мировая торговл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й  мировой рынок- это сфера обмена, которая охватывает совокупное товарное обращение различных стран, являющихся его составными органическими элем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ление к получению прибыли и сравнительно узкие рамки национальных  рынков за пределы своего рынка, что в итоге ведет к поискам внешних рын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фе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х отнош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отно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рех случаях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в связи с кредитованием внешней торговл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в результате движения ссудного капитала в рамках мирового рын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 третьих, в связи с поведением международных расч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фер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х отнош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е отно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рех случаях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в связи с кредитованием внешней торговл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в результате движения ссудного капитала в рамках мирового рын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 третьих, в связи с поведением международных расч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 включает  кредитование экспорта и кредитование импор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экспорта осуществляется в форме покупательских взно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импорта также производится посредством коммерческого и банковского креди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ование внешней торговли включает  кредитование экспорта и кредитование импор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ование экспорта осуществляется в форме покупательских взно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ование импорта также производится посредством коммерческого и банковского креди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и платежно-расчетные отно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между различными стран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перации между различными участниками валютного рынка, представляющие официальные центры купли-продажи валют на основании спроса и предлож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е и платежно-расчетные отно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е отношения между различными странам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е операции между различными участниками валютного рынка, представляющие официальные центры купли-продажи валют на основании спроса и предложе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арбитраж, позволяющий использовать разницу в котировках валют на международных и национальных  валютных рынка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и регулирование национального валютного рынка, а также участие в операциях международного валютного рынка, осуществление валютных ограничений и использование валютных клирин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арбитраж, позволяющий использовать разницу в котировках валют на международных и национальных  валютных рынка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и регулирование национального валютного рынка, а также участие в операциях международного валютного рынка, осуществление валютных ограничений и использование валютных клиринг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финансовым документам относятся векселя (простые и переводные), чеки, платежные распис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Коммерческим документам: счета-фактуры, отгрузочные документы (коносаменты, квитанции), страховые полисы и документы страховых компаний; прочие документы (сертификаты, счета и т.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финансовым документам относятся векселя (простые и переводные), чеки, платежные распис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оммерческим документам: счета-фактуры, отгрузочные документы (коносаменты, квитанции), страховые полисы и документы страховых компаний; прочие документы (сертификаты, счета и т.д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- государство в Северной Америке, федеративная республика, состоящая из 50 штатов: Аляски, Гавайев и 48 штатов на территории между Атлантическим и Тихим океанами и между Канадой и Мекс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– государство-гигант, ведущая экономическая и военная держава, занимающая третье место в мире по площади и численности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- государство в Северной Америке, федеративная республика, состоящая из 50 штатов: Аляски, Гавайев и 48 штатов на территории между Атлантическим и Тихим океанами и между Канадой и Мекси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 – государство-гигант, ведущая экономическая и военная держава, занимающая третье место в мире по площади и численности насе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следующая разновидность че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рожный (туристический) че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чек(чек в евровалюте, который действует с 1968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карт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СВИФТ – информация по международным банковским расчет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EDEL – межбанковские расчеты то торговле ценными бумаг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ы по валютным опера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следующая разновидность че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рожный (туристический) чек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чек(чек в евровалюте, который действует с 1968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е карточ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СВИФТ – информация по международным банковским расчет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EDEL – межбанковские расчеты то торговле ценными бумагам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четы по валютным операц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грация  и  вывоз капита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капитала представляет собой помещение капитала за границей в целях систематического  получения дополнительной прибы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грация  и  вывоз капит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капитала представляет собой помещение капитала за границей в целях систематического  получения дополнительной прибы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ность повышения прибыли  заставляет капиталистов вывозить капитал за пределы национальных гран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от вывоза капитала за первые полвека значительно возросла. Накануне первой мировой войны доходы от всех иностранных инвестиций капиталистических стран составляли ежегодно 1,8-2 млрд. дол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ность повышения прибыли  заставляет капиталистов вывозить капитал за пределы национальных грани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ыль от вывоза капитала за первые полвека значительно возросла. Накануне первой мировой войны доходы от всех иностранных инвестиций капиталистических стран составляли ежегодно 1,8-2 млрд. дол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29 г. доходы от четырех крупных западных держав (США, Англии, Франции, Японии) от заграничных инвестиций достигали 2,3 млрд. дол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уж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58 г. доходы только от США, Англии и Франции превышали 6 млрд. дол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29 г. доходы от четырех крупных западных держав (США, Англии, Франции, Японии) от заграничных инвестиций достигали 2,3 млрд. дол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уж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58 г. доходы только от США, Англии и Франции превышали 6 млрд. дол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 существовали огромные  колониальные империи, вывоз капитала направлялся в первую очередь в экономически отсталые,  аграрно-сырьевые страны, где прибыль обычно более высока вследствие очень низкой оплаты труда рабочего класса, сравнительной дешевизны земли и сырьевых материал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 существовали огромные  колониальные империи, вывоз капитала направлялся в первую очередь в экономически отсталые,  аграрно-сырьевые страны, где прибыль обычно более высока вследствие очень низкой оплаты труда рабочего класса, сравнительной дешевизны земли и сырьевых материал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ибыли американских нефтяных монополий в Венесуэле -33%, на Ближнем Востоке-100%, тогда как к внутри США – 1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ибыли американских нефтяных монополий в Венесуэле -33%, на Ближнем Востоке-100%, тогда как к внутри США – 1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ере роста трудностей в области экспорта товаров в связи с обострением  проблемы рынков сбыта все большую роль в завоевании внешних рынков играет вывоз капитала. Движение экспортируемого капитала подчиняло себе движение товаров в международной торгов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мере роста трудностей в области экспорта товаров в связи с обострением  проблемы рынков сбыта все большую роль в завоевании внешних рынков играет вывоз капитала. Движение экспортируемого капитала подчиняло себе движение товаров в международной торгов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 3. Ценообразование в международной торговл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орговля и внешнеторговая поли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- денежное выражение стоимости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 стоимости товара лежат затраты на производство и реализацию продукции с учетом чистого дохода, необходимого для эффективной деятельности предприят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платежи в бюдж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 3. Ценообразование в международной торговл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и внешнеторгов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- денежное выражение стоимости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 стоимости товара лежат затраты на производство и реализацию продукции с учетом чистого дохода, необходимого для эффективной деятельности предприят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акже платежи в бюдж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еждународной торговле существуют следующие виды классификации ц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территориальному признак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порядка возмещения транспортных расходов  по доставке гру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степени государственного регул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еждународной торговле существуют следующие виды классификации ц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территориальному признак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порядка возмещения транспортных расходов  по доставке груз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степени государственного регул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территориальному признаку н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ые или пояс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(зональ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территориальному признаку н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ые или пояс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е (зональны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 Характеристика и структура мирового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США являются ведущей страной в мировом хозяйстве, одним из крупнейших по территории и населению государством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занимают территорию площадью около 9,3 млн. кв. км, на которой проживает более 265 млн. человек, или 1,7% населения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Характеристика и структура миров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США являются ведущей страной в мировом хозяйстве, одним из крупнейших по территории и населению государством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занимают территорию площадью около 9,3 млн. кв. км, на которой проживает более 265 млн. человек, или 1,7% населения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степени государственного регулирования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ые цены, складывающиеся под влиянием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мые, складывающиеся на рынке, но испытывающие определенное влияние (прямое или косвенное) государственны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ируемые, устанавливаемые государственными органами на ограниченный круг товаров, в зависимости от степени новизны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степени государственного регулирования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ые цены, складывающиеся под влиянием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уемые, складывающиеся на рынке, но испытывающие определенное влияние (прямое или косвенное) государственных орг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ксируемые, устанавливаемые государственными органами на ограниченный круг товаров, в зависимости от степени новизны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способов проникновения  на  рынок с новым товаром является продажа его по сравнительно низкой цене для стимулирования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 наличии постоянных ценовых колебаний  и множества  скидок и надбавок, трудно определить реальный уровень ц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е с тем цены даже идентичных товаров могут  меняться в зависимости от качества, сортов и т.д. Уровень цен зависит также от размеров сбытовых расходов: чем больше посредников при реализации товаров, тем больше разного рода надбавок к це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им из способов проникновения  на  рынок с новым товаром является продажа его по сравнительно низкой цене для стимулирования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 наличии постоянных ценовых колебаний  и множества  скидок и надбавок, трудно определить реальный уровень ц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месте с тем цены даже идентичных товаров могут  меняться в зависимости от качества, сортов и т.д. Уровень цен зависит также от размеров сбытовых расходов: чем больше посредников при реализации товаров, тем больше разного рода надбавок к це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овары с длительным жизненным циклом, которые реализуются на рынке продолжительное время , устанавливаются следующие виды ц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зящая или падающ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говременн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я ц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овары с длительным жизненным циклом, которые реализуются на рынке продолжительное время , устанавливаются следующие виды ц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зящая или падающ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говременн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кая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н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зящая или падающ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уется под влиянием спроса и предложения,  а затем по мере насыщения рынка постепенно сниж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зящая или падающ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уется под влиянием спроса и предложения,  а затем по мере насыщения рынка постепенно сниж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говременн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а для товаров массового спроса и остается неизменной в течение длительного период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говременн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на для товаров массового спроса и остается неизменной в течение длительного период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яется под влиянием спроса и предложения в относительно короткие с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к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яется под влиянием спроса и предложения в относительно короткие сро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ней покупателям могут быть предложены  какие-либо скидки с обычной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н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и с ней покупателям могут быть предложены  какие-либо скидки с обычной ц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сферы товарного обращения  различают следующие виды ц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овые цены на промышленную продук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продукцию стро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упочные ц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рифы грузового и пассажирского трансп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зничные ц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рифы на платные услуги насе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обслуживающие внешнеторговый обор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сферы товарного обращения  различают следующие виды ц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ые цены на промышленную продукц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продукцию стро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очные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рифы грузового и пассажирского транспо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ничные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рифы на платные услуги насел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обслуживающие внешнеторговый обо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строительную продукцию делятся на три ви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жная стоимость -предельный размер затрат на строительство объ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ая цена- устанавливается по соглашению сторон между  заказчиками и подрядчи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строительную продукцию делятся на три ви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ежная стоимость -предельный размер затрат на строительство объ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ная цена- устанавливается по соглашению сторон между  заказчиками и подрядчи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орговля – обмен товарами и услугами между разными странами, связанный со всеобщей интернационализацией хозяйствен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возникли два вида международных компаний, имеющих предприятия в разных странах, а им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– обмен товарами и услугами между разными странами, связанный со всеобщей интернационализацией хозяйственно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возникли два вида международных компаний, имеющих предприятия в разных странах, а имен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национальные корпорации (ТН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 по капиталу, но интернациональные по сфере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орпорации (МН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ациональные  и по капитал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фере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национальные корпорации (ТН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 по капиталу, но интернациональные по сфере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корпорации (МН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национальные  и по капитал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фере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ий Союз (ЕС) возник на базе Европейского экономического сообщества (ЕЭС), 1 января 1958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ЕЭС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пространства без внутренних гран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 сбалансированному и длительному экономическому прогресс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ий Союз (ЕС) возник на базе Европейского экономического сообщества (ЕЭС), 1 января 1958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цели ЕЭС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пространства без внутренних границ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йствие сбалансированному и длительному экономическому прогрессу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ая ассоциация свободной торговли (ЕАСТ). 3 мая 196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ЕАС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 постоянному росту экономической активности, обеспечению полной занятости, повышению производительности, рациональному использованию ресурсов, финансовой стабильности и неуклонному повышению уровня жиз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ая ассоциация свободной торговли (ЕАСТ). 3 мая 196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цели ЕАС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йствие постоянному росту экономической активности, обеспечению полной занятости, повышению производительности, рациональному использованию ресурсов, финансовой стабильности и неуклонному повышению уровня жизн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ое экономическое пространство (ЕЭП)  1994 год, приходится свыше 40% мировой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рынке ликвидированы практически все оставшиеся барьеры на пути свободного перемещения  товаров, услуг, капиталов и людски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ое экономическое пространство (ЕЭП)  1994 год, приходится свыше 40% мировой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рынке ликвидированы практически все оставшиеся барьеры на пути свободного перемещения  товаров, услуг, капиталов и людски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 4.  Миграция  и  вывоз капитала как форма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чертами вывоза капитала на современном этапе является его миграция как в развивающиеся, так и в развитые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капитала наиболее развитая, усовершенствованная форма международной эксплуа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 4.  Миграция  и  вывоз капитала как форма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чертами вывоза капитала на современном этапе является его миграция как в развивающиеся, так и в развитые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капитала наиболее развитая, усовершенствованная форма международной эксплуат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формой вывоза капитала остаются вывоз функционирующего ссудного капитала, осуществляемый в виде вложений в промышленность, торговлю, транспорт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форма– вывоз  ссудного капитала, который различается по срокам, назначению, характеру обеспечения и субъек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формой вывоза капитала остаются вывоз функционирующего ссудного капитала, осуществляемый в виде вложений в промышленность, торговлю, транспорт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форма– вывоз  ссудного капитала, который различается по срокам, назначению, характеру обеспечения и субъек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функционирующего ссудного капита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 прямые вложения (инвестиции), которые дают право контроля, и портфельные, обеспечивающие только участие, а не контроль. Формой дохода может быть прибыль или прибыль в виде дивиден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функционирующего ссудного капит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прямые вложения (инвестиции), которые дают право контроля, и портфельные, обеспечивающие только участие, а не контроль. Формой дохода может быть прибыль или прибыль в виде дивиден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 ссудного капита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ся в виде международных займов на различные сроки, предоставляемые как частным сектором, так и государствами, и в форме вложений в ценные бумаги (акции, облигаци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 ссудного капит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яется в виде международных займов на различные сроки, предоставляемые как частным сектором, так и государствами, и в форме вложений в ценные бумаги (акции, облигаци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займы различаются по своему назнач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займы, или кредиты, производительного характ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ак займы, или кредиты, непроизводительного характер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займы различаются по своему назнач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займы, или кредиты, производительного характе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ак займы, или кредиты, непроизводительного характер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го характера в промышленности, на транспорте, в сельском хозяйст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оизводительного характера, т.е. используемые для гонки вооружений, содержания военно-полицейского аппарата, непосредственно для ведения войны, выплаты процентов по старым займам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ельного характера в промышленности, на транспорте, в сельском хозяйств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оизводительного характера, т.е. используемые для гонки вооружений, содержания военно-полицейского аппарата, непосредственно для ведения войны, выплаты процентов по старым займам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е и портфельные инвести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инвестиций функционирующего капитала осуществляется в двух основных формах: прямые инвестиции и портфель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 портфельные инвести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инвестиций функционирующего капитала осуществляется в двух основных формах: прямые инвестиции и портфель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е 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ются различными путя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дних случаях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ании или банки создают филиалы за границей, строят там свои предприятия, образуют специальные компании, которые действуют преимущественно за границей, покупают зарубежные предприятия. При этом заграничные инвестиции находятся в полной собственности компаний, вывозящих капит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яются различными путя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дних случаях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ании или банки создают филиалы за границей, строят там свои предприятия, образуют специальные компании, которые действуют преимущественно за границей, покупают зарубежные предприятия. При этом заграничные инвестиции находятся в полной собственности компаний, вывозящих капита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ругих случаях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лец капитала приобретает контрольный пакет акций иностранной компаний, составляю­щий, как правило, 25% или более ее акционерного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ругих случаях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лец капитала приобретает контрольный пакет акций иностранной компаний, составляю­щий, как правило, 25% или более ее акционерного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фельные 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ют собой такие вложения в ценные бумаги иностранных фирм, которые либо слишком малы, либо так распылены между держателями, что не могут дать экспортеру капитала контроль над этими фирм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фельные вложения составляют значительную часть заграничных инвестиций ряда малых западных стран (Швейцария, Дания, Канада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ельные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яют собой такие вложения в ценные бумаги иностранных фирм, которые либо слишком малы, либо так распылены между держателями, что не могут дать экспортеру капитала контроль над этими фирм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ельные вложения составляют значительную часть заграничных инвестиций ряда малых западных стран (Швейцария, Дания, Канада и 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такие вложения имеются и у ведущих держав. Так, на конец 1980 г. портфельные инвестиции США составили 12,6 млрд долл., т.е. около 22% всех частных заграничных инвести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 такие вложения имеются и у ведущих держав. Так, на конец 1980 г. портфельные инвестиции США составили 12,6 млрд долл., т.е. около 22% всех частных заграничных инвести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 5. Международные валютно-денежные и кредитные рынк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 влияние  на  международные  валютно-кредитные  и   финансовые отношения   оказывают   ведущие   промышленно-развитые   страны    (особенно«семерка»)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е выступают как партнеры-соперники. Последние  десятилетия отмечены активизацией развивающихся стран в этой сфер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 5. Международные валютно-денежные и кредитные рынк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ое  влияние  на  международные  валютно-кредитные  и   финансовые отношения   оказывают   ведущие   промышленно-развитые   страны    (особенно«семерка»)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е выступают как партнеры-соперники. Последние  десятилетия отмечены активизацией развивающихся стран в этой сфер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этапа эволюции мировой валютной системы (МВС)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Характер функционирования  и  стабильность  мировой  валютной  системы зависят  от  степени  ее  соответствия  структуре  мирового  хозяйств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изменении структуры мирового хозяйства и соотношения сил  на  мировой  арен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замена существующей формы МВС на нову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ившись  в  XIX  веке, МВС прошла 3 этапа эволюци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1. «Золотой стандарт» или Парижская валютная систем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2. Бреттон - Вудская система фиксированных валютных курсов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Ямайская система плавающих валютный к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этапа эволюции мировой валютной системы (МВС)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Характер функционирования  и  стабильность  мировой  валютной  системы зависят  от  степени  ее  соответствия  структуре  мирового  хозяйств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и изменении структуры мирового хозяйства и соотношения сил  на  мировой  арен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дит замена существующей формы МВС на нову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ившись  в  XIX  веке, МВС прошла 3 этапа эволюци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1. «Золотой стандарт» или Парижская валютная систем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2. Бреттон - Вудская система фиксированных валютных курсов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Ямайская система плавающих валютный к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иод первой мировой войны и особ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ена Великой  депрессии(1929-1934   гг)   система   золотого    стандарта    переживала    кризис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-за  высокой инфляции в большинстве стран Европы их валюты стали  неконвертируемым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превратились в нового финансового лидера, а золотой стандарт видоизменял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ериод первой мировой войны и особен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ена Великой  депрессии(1929-1934   гг)   система   золотого    стандарта    переживала    кризис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-за  высокой инфляции в большинстве стран Европы их валюты стали  неконвертируемым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 превратились в нового финансового лидера, а золотой стандарт видоизменял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 апреле  1933  г.  США  вышли   из   системы   золотого  стандар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редственной причиной  отмены  послужило  значительное  и  не равномерное падение цен. Это вызвало  массовые  банкрот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ротство  10000  банков подорвало  денежно-кредитную  систему  США  и  привело  к   отмене   размена долларовых банкнот на золотые мон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 апреле  1933  г.  США  вышли   из   системы   золотого  стандар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средственной причиной  отмены  послужило  значительное  и  не равномерное падение цен. Это вызвало  массовые  банкрот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ротство  10000  банков подорвало  денежно-кредитную  систему  США  и  привело  к   отмене   размена долларовых банкнот на золотые моне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валютных блоков – укрепление конкурентных  позиций  страны-лидера на международной арене, особенно в моменты экономических кризи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ларовый блок: возглавляемый СШ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 создан в 193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го вошли: Канада,  многие  страны  Центральной  и  Южной  Америки,  где  господствовал американский капит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второй мировой войны все валютные блоки распал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валютных блоков – укрепление конкурентных  позиций  страны-лидера на международной арене, особенно в моменты экономических кризи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ларовый блок: возглавляемый СШ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л создан в 1933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его вошли: Канада,  многие  страны  Центральной  и  Южной  Америки,  где  господствовал американский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второй мировой войны все валютные блоки распалис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ада является второй по величине страной в мире (9970610 кв.км.) которую превосходит только Рос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ады разделена на  10 провинций и 3 территории. На юге и на западе Канада граничит с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еление Канады насчитывает 30,3 миллионов человек. Большинство канадцев живут в городах , 76,6 % живут в городах, а 23,4 % в сельской мес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да является второй по величине страной в мире (9970610 кв.км.) которую превосходит только Росс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ды разделена на  10 провинций и 3 территории. На юге и на западе Канада граничит с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еление Канады насчитывает 30,3 миллионов человек. Большинство канадцев живут в городах , 76,6 % живут в городах, а 23,4 % в сельской мест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валютная система была  официально  оформлена  на  Международной валютно-финансовой конференции ООН, проходившей с 1 по 22 июля 1944 г. в  г. Бреттон-Вудсе (США). Здесь также были основаны МВФ и МБР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создания второй мировой валютной системы: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осстановление обширной свободной торговл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Установление стабильного равновесия системы  международного  обмена        на основе системы фиксированных валютных курсов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ередача в распоряжение  государств  ресурсов  для  противодействия        временным трудностям во внешнем баланс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валютная система была  официально  оформлена  на  Международной валютно-финансовой конференции ООН, проходившей с 1 по 22 июля 1944 г. в  г. Бреттон-Вудсе (США). Здесь также были основаны МВФ и МБР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создания второй мировой валютной системы: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осстановление обширной свободной торговл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Установление стабильного равновесия системы  международного  обмена        на основе системы фиксированных валютных курсов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ередача в распоряжение  государств  ресурсов  для  противодействия        временным трудностям во внешнем баланс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  является исторически сложившейся форм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и     международных     денежных      отношений,      закрепленной межгосударственными договоренностям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С  представляет  собой  совокупность способов, инструментов и межгосударственных  органов  ,  с  помощью  которых осуществляется платежно-расчетный оборот в  рамках  мирового  хозяйств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валютная система  является исторически сложившейся форм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и     международных     денежных      отношений,      закрепленной межгосударственными договоренностям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ВС  представляет  собой  совокупность способов, инструментов и межгосударственных  органов  ,  с  помощью  которых осуществляется платежно-расчетный оборот в  рамках  мирового  хозяйств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е возникновение  и  последующая   эволюция   отражают   объективное   развитие процессов  интернационализации  капитала,  требующих  адекватных  условий  в международной денежной сфере.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зличаются национальная, мировая, региональная валютные систем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о-кредитные и финансовые организации условно можн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ть международными финансовыми институтами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е возникновение  и  последующая   эволюция   отражают   объективное   развитие процессов  интернационализации  капитала,  требующих  адекватных  условий  в международной денежной сфере.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личаются национальная, мировая, региональная валютные систем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валютно-кредитные и финансовые организации условно можн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вать международными финансовыми институтами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 организации  объединяет общая  цель 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звитие  сотрудничества   и   обеспечение   целостности   и стабилизации сложного и противоречивого всемирного хозяйства,  регулирование МЭО, в том числе валютно-кредитных  и  финансов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 организации  объединяет общая  цель 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витие  сотрудничества   и   обеспечение   целостности   и стабилизации сложного и противоречивого всемирного хозяйства,  регулирование МЭО, в том числе валютно-кредитных  и  финансов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 ним  относя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международных  расчетов,  Международный  валютный  фонд,   Всемирный   бан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   ассоциация    развития,    Международное    агентство    по инвестиционным  гарантиям  и  др.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 также  региональные  банки  развития, валютно-кредитные и финансовые организации Е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 ним  относя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 международных  расчетов,  Международный  валютный  фонд,   Всемирный   бан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   ассоциация    развития,    Международное    агентство    по инвестиционным  гарантиям  и  др.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 также  региональные  банки  развития, валютно-кредитные и финансовые организации Е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финансовые институты преследуют следующие 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ить  усилия  мирового  сообщества  в   целях   стабилизации        международных финансов и мировой экономики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ть  межгосударственное  валютное  и  кредитно-финансовое        регулирование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местно  разрабатывать  и  координировать  стратегию  и  тактику        мировой валютной и кредитно-финансовой полит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финансовые институты преследуют следующие це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динить  усилия  мирового  сообщества  в   целях   стабилизации        международных финансов и мировой экономики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ять  межгосударственное  валютное  и  кредитно-финансовое        регулирование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  разрабатывать  и  координировать  стратегию  и  тактику        мировой валютной и кредитно-финансовой полит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6.  Международная миграционная политика. Перемещение населения и трудовы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мирового рынка рабочей силы обусловлено международной миграцией трудящихся, т.е. взаимопересекающимся потоком  миграции (отъезд из страны) и иммиграции (въезд в страну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 Международная миграционная политика. Перемещение населения и трудовы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мирового рынка рабочей силы обусловлено международной миграцией трудящихся, т.е. взаимопересекающимся потоком  миграции (отъезд из страны) и иммиграции (въезд в страну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миграция рабочей силы – передвижение лиц наемного труда через государственные границы в поисках рабо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езде из своей страны трудящийся является эмигрантом, а при въезде в другую страну – иммигрант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 – передвижение лиц наемного труда через государственные границы в поисках рабо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ыезде из своей страны трудящийся является эмигрантом, а при въезде в другую страну – иммигрант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лу экономических пр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токи мигра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да направлялись из стран с низкими личными доходами в страны с более высокими до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,КАНАДА и АВСТРА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илу экономических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токи мигра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гда направлялись из стран с низкими личными доходами в страны с более высокими доход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,КАНАДА и АВСТРА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токи Низкоквалифицированной рабочей силы направляются в США из латиноамериканских стран – Мексики, стран Карибского бассей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квалифицированной  рабочей силы иммигрируют  практически из всех стран мира , включая Западную Европу, Латинскую Америку, Россию, Индию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токи Низкоквалифицированной рабочей силы направляются в США из латиноамериканских стран – Мексики, стран Карибского бассей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оквалифицированной  рабочей силы иммигрируют  практически из всех стран мира , включая Западную Европу, Латинскую Америку, Россию, Индию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ада входит в «семерку» наиболее крупных развитых стран. Ее ВВП в конце 90-х гг. приблизился к 700 млрд. долл., а ВВП на душу населения был около 22 тыс. долл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видетельствует о высоком уровне экономического развития страны. Традиционно на экономику Канады оказывали влияние два главных фактора — наличие богатых природных ресурсов и соседство с могущественными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да входит в «семерку» наиболее крупных развитых стран. Ее ВВП в конце 90-х гг. приблизился к 700 млрд. долл., а ВВП на душу населения был около 22 тыс. долл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видетельствует о высоком уровне экономического развития страны. Традиционно на экономику Канады оказывали влияние два главных фактора — наличие богатых природных ресурсов и соседство с могущественными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развитые  западноевропейские страны, входящие в Европейский союз, притягивают рабочую силу из менее развитых западноевропейских стран (Португалии, Мальты, Испании), арабских стран северной Африки и Ближнего Востока, стран Африки и республик бывшего ССС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развитые  западноевропейские страны, входящие в Европейский союз, притягивают рабочую силу из менее развитых западноевропейских стран (Португалии, Мальты, Испании), арабских стран северной Африки и Ближнего Востока, стран Африки и республик бывшего ССС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тедобывающие страны Ближнего Востока привлекают дешевую рабочую силу на тяжелые низкооплачиваемые рабо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Индии, Пакистана, Бангладеш, Кореи, Филиппи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тедобывающие страны Ближнего Востока привлекают дешевую рабочую силу на тяжелые низкооплачиваемые рабо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Индии, Пакистана, Бангладеш, Кореи, Филиппи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 все страны, в которые иммигрирует более 25 тыс. человек в год, - высокоразвитые государства с ВНП более 6900 долл. на душу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эмиграции – развивающие страны, главные из которых -Мексика и страны 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все страны, в которые иммигрирует более 25 тыс. человек в год, - высокоразвитые государства с ВНП более 6900 долл. на душу насе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эмиграции – развивающие страны, главные из которых -Мексика и страны Аз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формами миграции рабочей силы являются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чее переселени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грация в пределах пограничных зон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арная мигр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зонная мигр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ятник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формами миграции рабочей силы являются следующ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чее переселение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грация в пределах пограничных зон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рарная мигр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зонная мигр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ятников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й вид современной международной миграции населения – нелегальная иммигр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егальные иммигранты – лица, незаконно въезжающие в поисках работы в другие страны (так, из Мексики  в США нелегально переходят границу более 1 млн. человек ежегодно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ый вид современной международной миграции населения – нелегальная иммигр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егальные иммигранты – лица, незаконно въезжающие в поисках работы в другие страны (так, из Мексики  в США нелегально переходят границу более 1 млн. человек ежегодно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лица, пересекающие границу на законных основаниях  ( по частным приглашениям, в качестве туристов и т.п. ), с последующим нелегальным трудоустрой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ША число подпольных мигрантов оценивается от 2 до15 млн. ч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акже лица, пересекающие границу на законных основаниях  ( по частным приглашениям, в качестве туристов и т.п. ), с последующим нелегальным трудоустрой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ША число подпольных мигрантов оценивается от 2 до15 млн. че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нелегальной  иммиграции объясняется многими причин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 из основных – тот факт, что мигранты работающие  нелегально, представляют собой для предпринимателей самую дешевую и бесправную рабочую си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нелегальной  иммиграции объясняется многими причин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 из основных – тот факт, что мигранты работающие  нелегально, представляют собой для предпринимателей самую дешевую и бесправную рабочую сил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данным, собранным Наследием Канад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88, они (иммигранты) принесли около 6 миллиардов долларов в Канад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 процентов из них занимаются частным бизнес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экономят больше, таким образом расширяя общий объем инвестиционного капитала, доступного в стран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имеют тенденцию меньше пользоваться общественными услугами, и лишь немногие из них получают социальную помощ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игранты имеют доходы выше среднего и более высокую заработную плату, и поэтому они платят больше нало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данным, собранным Наследием Канад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88, они (иммигранты) принесли около 6 миллиардов долларов в Канаду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 процентов из них занимаются частным бизнесом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экономят больше, таким образом расширяя общий объем инвестиционного капитала, доступного в стран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имеют тенденцию меньше пользоваться общественными услугами, и лишь немногие из них получают социальную помощь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мигранты имеют доходы выше среднего и более высокую заработную плату, и поэтому они платят больше налог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7.  Глобальные проблемы в международных экономических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числу глобальных проблем относят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мира и прекращение гонки вооружения ради экономического развития и построения процветающих обще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нужденная миграция больших масс людей, обусловленная локальными военными конфликтами, появление особой категории населения – беженц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 Глобальные проблемы в международных экономических отношен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числу глобальных проблем относят следующ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ение мира и прекращение гонки вооружения ради экономического развития и построения процветающих общест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нужденная миграция больших масс людей, обусловленная локальными военными конфликтами, появление особой категории населения – беженце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дальнейшие развитие прав человека путем усиления личной и экономической свобо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родовольственная проблема и меры по ее решению, особенно в Африке, Азии, Латинской Амер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реодоления загрязнения окружающей среды,  угрожающего самой жизни на земле, и решение экологической проблемы, которая охватывает практически все географические районы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альнейшие развитие прав человека путем усиления личной и экономической свобо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одовольственная проблема и меры по ее решению, особенно в Африке, Азии, Латинской Амер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реодоления загрязнения окружающей среды,  угрожающего самой жизни на земле, и решение экологической проблемы, которая охватывает практически все географические районы мир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асштабам хозяйства США значительно опережают любую другую промышленно развитую стра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лишь федеральный бюджет страны превосходит размеры ВВП всех государств мира, кроме Японии и Герм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масштабам хозяйства США значительно опережают любую другую промышленно развитую стран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 лишь федеральный бюджет страны превосходит размеры ВВП всех государств мира, кроме Японии и Герм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укрепление социально-экономической деятельности различных  структур ООН, а также некоторых других международных организ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крепление социально-экономической деятельности различных  структур ООН, а также некоторых других международных организ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и предотвращение загрязнения окружающей ср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кризисная  экологическая ситуация, которая выражается в загрязнении атмосферы, почвы, рек, морей, океана, в уменьшении зеленой среды (леса)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и предотвращение загрязнения окружающей сре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кризисная  экологическая ситуация, которая выражается в загрязнении атмосферы, почвы, рек, морей, океана, в уменьшении зеленой среды (леса) на зем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ю международного сотрудничества в области экологии способствует система международных организаций ООН, Европейское агентство по охране окружающей среды (ЮНЕП), а также неправительственные организации и движения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 «Green peace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ю международного сотрудничества в области экологии способствует система международных организаций ООН, Европейское агентство по охране окружающей среды (ЮНЕП), а также неправительственные организации и движения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 «Green peace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организации принимают активное участие  в борьбе против сброса токсических и радиоактивных отходов, строительства производств, опасных для природы, животного мира и человека, а также продажи продуктов питания и бытовых  товаров которые созданы с экологическими наруше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организации принимают активное участие  в борьбе против сброса токсических и радиоактивных отходов, строительства производств, опасных для природы, животного мира и человека, а также продажи продуктов питания и бытовых  товаров которые созданы с экологическими наруш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еленый бизнес»- это специфический сектор экономики, который предусматривает ресурсосбережение, технологию защиты окружающей среды, различные экологические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ША, Западной Европе, Японии и ряде других стран  активно развивается корпоративный экологический бизнес, который выражается в росте числа компа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еленый бизнес»- это специфический сектор экономики, который предусматривает ресурсосбережение, технологию защиты окружающей среды, различные экологические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ША, Западной Европе, Японии и ряде других стран  активно развивается корпоративный экологический бизнес, который выражается в росте числа компа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ящих различное очистительное оборудование и технологии, альтернативные источники энергии, экологическую экспертизу, озеленение территор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овой оборот природоохранных технологий составляет более 700 млрд. долл., и постоянно раст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ящих различное очистительное оборудование и технологии, альтернативные источники энергии, экологическую экспертизу, озеленение территор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довой оборот природоохранных технологий составляет более 700 млрд. долл., и постоянно раст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сотрудничество в области освоения космоса ( США, Россией и Западной Европо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местное использование российской орбитальной станции «МИР»  в виде полетов стажировок космонавтов в целях различных космических, биологических и технических экспериментов в условиях невесо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сотрудничество в области освоения космоса ( США, Россией и Западной Европо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е использование российской орбитальной станции «МИР»  в виде полетов стажировок космонавтов в целях различных космических, биологических и технических экспериментов в условиях невесом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е элементы космического сотрудничества между стран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т подготовка к запуску и монтированию новой орбитальной космической  станции. (Россия - СШ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специальной плавающей платформы – космодрома в океане для запуска коммерческих спутников.(Россия, США, Норвег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элементы космического сотрудничества между стран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т подготовка к запуску и монтированию новой орбитальной космической  станции. (Россия - СШ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специальной плавающей платформы – космодрома в океане для запуска коммерческих спутников.(Россия, США, Норвег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трудничество в области мирового океана, не достигло таких масштабов, как  в космо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обладают достаточным потенциалом в области освоения океана в виде специальных судов и подводных лодок для исследования его различных аспе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потенциал носит  военно - политически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трудничество в области мирового океана, не достигло таких масштабов, как  в космо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 обладают достаточным потенциалом в области освоения океана в виде специальных судов и подводных лодок для исследования его различных аспек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потенциал носит  военно - политически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мотря на все вышеупомянутое для США характерен ряд серьезных, прежде всего социально-политических,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при исчезновении главного стратегического противника и отступлении угрозы глобальной войны сохраняется опасность локальных войн и террор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несмотря на известные достижения в смягчении расовой проблемы, ее острота велика особенно потому, что расовые различия в большой мере совпадают с различиями в эко­номическом и социальном стату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мотря на все вышеупомянутое для США характерен ряд серьезных, прежде всего социально-политических, проб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при исчезновении главного стратегического противника и отступлении угрозы глобальной войны сохраняется опасность локальных войн и террор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несмотря на известные достижения в смягчении расовой проблемы, ее острота велика особенно потому, что расовые различия в большой мере совпадают с различиями в эко­номическом и социальном стату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0EC4-ADA3-4B73-BB12-ED94E06D1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111B-4D54-41E1-A994-3B64829B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D5E2-8C93-4EDF-995F-2FF7DB8B2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30DC-ACDE-4442-8675-E4B76B60F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4E98-D1C8-421C-A1BD-9948A1F4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CD39-51CE-4F36-BA76-08C18EEE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8A73-C295-4C1A-96F4-077E3617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E719-B83A-4855-B0B3-57578623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D339-3B62-4D75-8E7C-04C24B64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B0B1-384D-4E26-8C58-DA0941E0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5A1E-8E13-4FAE-9EA8-D52FBD5D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40ED-B7C4-4521-BE97-6854253E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9AE9-4D0A-4FDE-A861-3C9AE8A6BC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84692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ивостокский Государственный Университет Экономики и Сервис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итут Международных Отношений  и Социальных Технологи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федра Международных Отношений и Зарубежного регионоведения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бная презентац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курсу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Международные экономические отношения США и Канады»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ель ст.преподаватель кафедры МОЗ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дюк Е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91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громен, а следовательно, и чрезвычайно привлекателен для производителей и инвесторов американский внутренний рын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поглощает примерно 90% всего объема внутреннего производства и, кроме того, значительную часть продукции, которая создается в других странах, в том числе в развиваю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-третьих, преступность и число заключенны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США (по отношению к общей численности населения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) на порядок выше, чем в других развитых государствах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аких, как например, Япония или скандинавские страны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ерьезную нагрузку на бюджет оказывают также наркотики и СПИД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торые представляют для США более серьезную проблему, чем для других развитых ст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-четвертых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охраняется опасность глубокого экономического кризис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хотя еще одна Великая депрессия вряд ли возможна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кольку устойчивость финансовой сферы, существенно больше связанной с мировым рынком, чем в 30-е годы, не гарантиров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оварь экономических терминов 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ая торговля- это обмен товарами и услугами между разными странами, связанный со всеобщей интернационализацией хозяйственной жизни и интенсификацией международного разделения труда в условиях научно- технической револю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- передвижение  лиц наемного труда через государственные границы в поисках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бодная торговля- это свободный, беспошлинный или облагаемый лишь незначительными пошлинами ввоз това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бодная торговля – это свободный, беспошлинный или облагаемый лишь незначительными пошлинами ввоз това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люта цены- валюта в которой устанавливаются цены на тов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люта платежа – валюта, в которой будет погашено обязательство импор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а- денежное выражение стоимости тов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мпинг- это продажа товаров на внешних рынках по ценам, значительно ниже внутрен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упочные цены- это цены, по которым реализуется сельскохозяйственная продук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рифы транспорта- это плата за перемещение грузов и пассажиров, взимаемая транспортными организац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зничные цены- это цены, по которым товары реализуются в розничной торговле предприятиям, организациям и насел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овые цены- это цена реализации товара на мировом ры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порт- ввоз в страну товаров из-за гра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порт- вывоз товаров из страны для продажи в других стра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снационализация- это меж государственная интеграция, реализуемая на уровне частных фир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зор рекомендуемой литерат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предложенных учебников по общему курсу можно порекомендова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: Учебник / Под. ред. Е. Жуков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временные международные отношения: Учебник/ под. ред. А.В. Торкуновой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лаконичному, но вместе с тем наглядному и доступному изложению материала, ориентированного на студентов экономических специальностей. В учебнике дается достаточно четкое и компактное комплексное  рассмотрение всех важнейших теоретических и практических аспектов мировой экономики и международных экономических  связей, современная их интерпрет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,  в частности основные принципы американской экономической политики хорошо  отражены в учебном пособии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йкен В. Основные принципы экономической политики.- М.: Прогресс, 1995.- С. 32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иональному усвоению дисциплины способствует большее количество примеров, иллюстрирующих реальную практику принятия эффективных решений которые представлены в  таких книгах как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ишер Г. Глобализация мирохозяйственных связей: сущность, направления, перспективы. – М.: ДА МИД РФ, 1999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Кругман П., Обстфельд М. Международная экономика. Теория и политика. – М.: ЮНИТИ, 1997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енную помощь  приносит систематическое знакомство с серьезными отечественными и зарубежными изданиями, такими, как «Коммерсант», «Файненшнл таймс», «БизнесУик», с разнообразной и оперативной  экономической информацией, представленной системой Интернет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учная период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 - Канада: экономика, политика, культура. 1992-2003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овая экономика и международные отношения. 1992-2003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пломатический вестник. 1993-2003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мерсант. 1999- 2004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ые известия. 2000-2004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исок используемой литератур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. Интеграция/ Щербанин Ю.А. , Рожков К.Л., Рыбалкин В.Е., Фишер Г. – М.: ЮНИТИ, 199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йкен В. Основные принципы экономической политики.- М.: Прогресс, 1995.- С. 32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ris 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and Interregional Economic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196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реев А. Международная экономика.- М.:МО, 199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 Investment Report. 2000. N.Y. and Geneva, 200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91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лько промышленность США потребляет около 1/3 сырья, добываемого в мир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 также имеет самый емкий рынок машин и оборудования, на долю которого приходится свыше 40% реализуемой в развитых странах продук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ашиностро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915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ляция: ценообразование и денежное обращение. – М.;: ИМЭМО РАН, 199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гман П., Обстфельд М. Международная экономика. Теория и политика. – М.: ЮНИТИ, 1997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 Finance Payments and Services. L.: BPP Publishing Ltd, 1993, p. 84, 9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362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джейро Р. Прямые иностранные инвестиции и многосторонняя торговая система/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national corporation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5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996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1-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: политическая мысль и история / Н.Н. Яковлев, В.К. Пархоменко, А.А. Каренин и др./ Ин-т Соединенных штатов Америки и Канады./ М: Наука 1976г. –619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Investment Report, 1992, N.Y. p. 70-7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Investment Report, 1998, N.Y. , p. 74,7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Investment Report, 2000, N.Y. and Geneva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еньги и Кредит», журнал, «Мировая экономика и международные финансовые рынки: итоги 2000 года», статья , №4, 200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ировая экономика и международные отношения», журнал, «Экономика США на исходе века: итоги и проблемы», статья №11, 1998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экономики: Учебник/ Под. ред. В.Е. Рыбалкина.- М.: МО, 199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ая организация и деятельность Международного валютного фонда. – Вашингтон, 1994. – с. 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conomis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rvey of the World Econom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ber 19 th 1992, p.6,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conomist, 3 August 1996, p.2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conomis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2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996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сов А.Г. // Финансовый капитал и финансовая олигархия Канады»// Журнал «МЭ и МО» 1999 г. –с. 13-1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шневская Н.Т. Рынок труда – переплетение циклических и структурных факторов// Мировая экономика и международные отношения. – 1993. - № 12. – с. 63-7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шневская Н.Т. рынок труда – проблемы и решения // Мировая экономика и международные отношения. 1995 - № 1. –с. 111 – 11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йло В.С. Проблемы интеллектуального труда // США: экономика, политика, идеология. – 1995. - №6. –с.23-3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рбек Э. Занятость и экономический рост // Человек и труд. – 1994. - №4. – с. 58-6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ТБ. Конвенции и Рекомендации, принятые Международной конвенцией труда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19-1986.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не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1988.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1428-144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eller Ch/ the Economist of Labour Migration A Behavioral Analysis, N.Y. 198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002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Мир на рубеже тысячелетий», прогноз развития мировой экономики до 2015 года.// 2001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глиц Дж. Ю. Экономика государственного сектора. / пер. с англ. М.:  Изд-во: МГУ, ИНФВА-М, 1997 г. –154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лев С. // Экономика Канады- радикальные перемены// Журнал «МЭ и МО» 1998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y J., Dawn Fals: The Delusions of Global Capitalism. L., 199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ch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n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Trends. Munchen, 199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ая литерату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имов Ю.Г. Современное канадское общество: Учебное пособи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Пб.: Петрополис.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е международные отношения: Учебник/ под. ред А.В. Торкунова. – М.:РОССПЭН,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гман П., Обстфельд М. Международная экономика. Теория и политика. – М.: ЮНИТИ, 1997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реев А. Международная экономика.- М.:МО, 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ris S.E. International and Interregional Economics.- 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196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конелл, Кемпбелл Р., Брю, Стэнли Л.  Экономикс: принципы,                проблемы и политика : Учебник М.; Инфра- М, 1990г. –905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: Учебник / Под. ред. Е. Жукова. – М.: ЮНИТИ, 19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лодин Андрей, Глерий Широков. Глобализация: выгоды и риски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Politic. №7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юл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1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. 50-5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ягин, М.Г. (ред.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актика глобализации: игры и правила новой эпох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сква: ИНФРА-М. 2000. Глава 1.Увлекательная жизнь технологий: информационная революция. Сс. 41-9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еннеди, Пол. Вступая в двадцать первый век. Москва: Весь мир. 1997. С. 37-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кин, А.И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лобализация: процесс и осмыс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Москва: Логос. 2001. С. 160-1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erstadt, Nicholas. The Population Implosion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eign Poli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arch/April 2001, p. 42-5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заменационные вопросы по курсу «Международные экономические отношения США и Канад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истика и структура мирового хозя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ая специализация и ее сущ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международных отношений. Внешняя и мировая торгов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з капитала как одна из форм международных экономических отно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 и понятие глобальных проблем в современны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ы мировых ц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направления международного экономического сотрудничества в  области глобальных проб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ти решения глобальных  мировых проблем и роль США в их реал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и развитие транснациональных корпораций и кредитно-финансовых  институ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дитные отношения. Кредитование им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ьюктура мирового рынка и организация продвижения тов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ообразование в международной торговле. Классификация ц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экспортных ц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бильность мировой финансово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омерности формирования ц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ь государства над це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вывоза капит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ая характеристика состояния и потенциала торгово-экономических связей России и С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озиции России и США в области ядерного оруж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развития экономических отношений Канады и С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вестиционные позиции США в Япо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я и США перспективы развития на будущ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намика и структура экономических связей США с Кита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е интеграционные процес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ценовой политики. Необходимая информ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кетинговая стратегия в ценообразов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ль межгосударственного сотрудничества и международных организаций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147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ана расходует огромные средства на НИОКР (до 40% мировых затрат, 162 млрд. долл. в 1992 г.). Ежегодные ассигнования на эти цели превышают подобные расходы Британии, Германии, Франции и Японии вместе взяты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оля США в общем объеме экспорта наукоемкой продукции в современном мире,  составляет не менее 2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 международной торговли и ее особенности на современном эта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еторговая поли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ропейская ассоциация свободной торговли (ЕАСТ). Основные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экономических отношений США И Ближний Восток. Американская теория модернизации Ближнего Вост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4358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убъектами международных экономических отношени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вля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на микроэкономическом уровн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лкие и средние предприятия, а также физические лица, осуществляющие внешнеэкономические опер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 на макроэкономическом уровне субъектами     международных экономических отношений   выступаю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ьные страны (их региональные и муниципальные субъекты), интеграционные объединения стран, крупные города и отдельные области (регионы) разных стра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10920" y="333360"/>
            <a:ext cx="80866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на обоих уровнях функционируют крупнейшие международные торговые, финансовые, промышленные корпорации, а также институциональные инвесторы: инвестиционные, пенсионные и другие фонды, страховые, трастовые компании. 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на наднациональном уровне в качестве субъектов МЭО действуют международные организации и наднациональные институ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14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ая специализация и ее сущ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изация позволяет отдельным странам не затрачивать огромные денежные ресурсы на создание некоторых производств для выпуска товаров, а получать их путем внешней торгов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ность специализации состоит в том, что отдельные страны специализируются на выпуске каких-то конкретных товаров и услу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дальнейшего развития международной специализации произошло разделение стран как бы на три группы 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ны производящие продукцию обрабатывающей промышленности на мировой рын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ны дающие продукцию добывающей промышленност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ны специализирующие на производстве и продаже продукции сельского хозяй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2565360"/>
            <a:ext cx="8218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это же время существует и четвертая группа стран, которая одновременно производит продукцию обрабатывающей, добывающей промышленности и сельского хозяйства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ряд западных промышленно развитых стран (США, Канада, Англия, ФРГ, Франц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1557360"/>
            <a:ext cx="8663040" cy="35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первой группе стран следует отнести в основном такие промышленно развитые западные страны, как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ША, Канада, ФР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такж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пония, Итали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торые поставляют на мировой рынок  высокотехнологическое оборудование, автомобили, станки, химические товары, бытовую техн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 второй группе относятся страны, обладающие мощными минеральными ресурсами и продающими их на мировом рынке. Это прежде всего нефтедобывающ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аны Ближнего востока, Латинской Америки, Африки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существляющие продажу  нефти и газа в основном промышленно развитым странам. А также  такие промышленно развитые страны как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веция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нада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ые добывают в большом количестве различные минеральные ресурсы (уголь, руды черных и цветных металлов, золото, серебро)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107789952130184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4872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третьей группе относятся страны , специализация которых на всемирном рынке ограничивается исключительно сельскохозяйственной продукцие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касается стран   Азии, Африки, и Латинской  Америки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авщиками сельскохозяйственной продукции на мировом рынке являются также большинство промышленно развитых стран (США, Канада, Западная Европа, Австрал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ма 2. Виды и формы МЗО на современном этапе. Тенденции динамики и струк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временных услов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ми формами международных  экономических отно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ются следующ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шняя и мировая торгов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дитные отнош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ютные и платежно-расчетные отнош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грация и вывоз капита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147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ые интеграционные процесс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и развитие транснациональных корпораций и кредитно-финансовых институ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государственное регулирование международных экономических отношений (регулирование валютно-финансовых, торговых отношени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но- техническое и производственное сотрудни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нешняя и мировая торговл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ый  мировой рынок- это сфера обмена, которая охватывает совокупное товарное обращение различных стран, являющихся его составными органическими элемен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мление к получению прибыли и сравнительно узкие рамки национальных  рынков за пределы своего рынка, что в итоге ведет к поискам внешних рын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едитные отнош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фе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ческих отнош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дитные отно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ник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рех случаях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-первых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вязи с кредитованием внешней торговл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-вторых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результате движения ссудного капитала в рамках мирового рын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- треть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связи с поведением международных расч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дитование внешней торговли включает  кредитование экспорта и кредитование импор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дитование экспорта осуществляется в форме покупательских взно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дитование импорта также производится посредством коммерческого и банковского креди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алютные и платежно-расчетные отноше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лютные отношения между различными стра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лютные операции между различными участниками валютного рынка, представляющие официальные центры купли-продажи валют на основании спроса и предложе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147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ютный арбитраж, позволяющий использовать разницу в котировках валют на международных и национальных  валютных рынка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и регулирование национального валютного рынка, а также участие в операциях международного валютного рынка, осуществление валютных ограничений и использование валютных клирин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9280" y="1413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финансовым документам относятся векселя (простые и переводные), чеки, платежные распис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27280" y="1413000"/>
            <a:ext cx="47163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Коммерческим документам: счета-фактуры, отгрузочные документы (коносаменты, квитанции), страховые полисы и документы страховых компаний; прочие документы (сертификаты, счета и т.д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808668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ША- государство в Северной Америке, федеративная республика, состоящая из 50 штатов: Аляски, Гавайев и 48 штатов на территории между Атлантическим и Тихим океанами и между Канадой и Мекси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ША – государство-гигант, ведущая экономическая и военная держава, занимающая третье место в мире по площади и численности насе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уществует следующая разновидность чек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рожный (туристический) че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врочек(чек в евровалюте, который действует с 1968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дитные карт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ы СВИФТ – информация по международным банковским расчет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DE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межбанковские расчеты то торговле ценными бумага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четы по валютным операц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грац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и  вывоз капитал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з капитала представляет собой помещение капитала за границей в целях систематического  получения дополнительной прибы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3628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ребность повышения прибыли  заставляет капиталистов вывозить капитал за пределы национальных гран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быль от вывоза капитала за первые полвека значительно возросла. Накануне первой мировой войны доходы от всех иностранных инвестиций капиталистических стран составляли ежегодно 1,8-2 млрд. дол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147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29 г. доходы от четырех крупных западных держав (США, Англии, Франции, Японии) от заграничных инвестиций достигали 2,3 млрд. дол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 уж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58 г. доходы только от США, Англии и Франции превышали 6 млрд. дол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91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 существовали огромные  колониальные империи, вывоз капитала направлялся в первую очередь в экономически отсталые,  аграрно-сырьевые страны, где прибыль обычно более высока вследствие очень низкой оплаты труда рабочего класса, сравнительной дешевизны земли и сырьевых материал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 прибыли американских нефтяных монополий в Венесуэле -33%, на Ближнем Востоке-100%, тогда как к внутри США – 1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мере роста трудностей в области экспорта товаров в связи с обострением  проблемы рынков сбыта все большую роль в завоевании внешних рынков играет вывоз капитала. Движение экспортируемого капитала подчиняло себе движение товаров в международной торгов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 3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Ценообразование в международной торговле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ждународная торговля и внешнеторговая поли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а- денежное выражение стоимости тов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нове  стоимости товара лежат затраты на производство и реализацию продукции с учетом чистого дохода, необходимого для эффективной деятельности предприят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также платежи в бюд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ждународной торговле существуют следующие виды классификации ц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территориальному призна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зависимости от порядка возмещения транспортных расходов  по доставке гру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степени государственного регулир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8028000" y="3429000"/>
            <a:ext cx="37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территориальному признаку на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ые или пояс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иональные (зональ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147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ма 1. Характеристика и структура мирового хозя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настоящее время США являютс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дущей страной в мировом хозяйстве,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одним из крупнейших по территории и населению государством м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ни занимают территорию площадью около 9,3 млн. кв. км, на которой проживает более 265 млн. человек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ли 1,7% населения м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степени государственного регулирования н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бодные цены, складывающиеся под влиянием спроса и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улируемые, складывающиеся на рынке, но испытывающие определенное влияние (прямое или косвенное) государственных орга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ксируемые, устанавливаемые государственными органами на ограниченный круг товаров, в зависимости от степени новизны тов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способов проникновения  на  рынок с новым товаром является продажа его по сравнительно низкой цене для стимулирования спр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 наличии постоянных ценовых колебаний  и множества  скидок и надбавок, трудно определить реальный уровень це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месте с тем цены даже идентичных товаров могут  меняться в зависимости от качества, сортов и т.д. Уровень цен зависит также от размеров сбытовых расходов: чем больше посредников при реализации товаров, тем больше разного рода надбавок к це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товары с длительным жизненным циклом, которые реализуются на рынке продолжительное время , устанавливаются следующие виды це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зящая или падающая ц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говременная ц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бкая ц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говорная ц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кользящая или падающая це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уется под влиянием спроса и предложения,  а затем по мере насыщения рынка постепенно сниж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лговременная це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рактерна для товаров массового спроса и остается неизменной в течение длительного периода вр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бкая це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няется под влиянием спроса и предложения в относительно короткие ср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говорная це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ответствии с ней покупателям могут быть предложены  какие-либо скидки с обычной ц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 сферы товарного обращения  различают следующие виды цен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товые цены на промышленную продук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ы на продукцию строи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упочные ц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рифы грузового и пассажирского транспо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зничные ц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рифы на платные услуги насе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ы обслуживающие внешнеторговый обо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ны на строительную продукцию делятся на три вид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ежная стоимость -предельный размер затрат на строительство объ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говорная цена- устанавливается по соглашению сторон между  заказчиками и подрядчи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91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дународная торгов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бмен товарами и услугами между разными странами, связанный со всеобщей интернационализацией хозяйственной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возникли два вида международных компаний, имеющих предприятия в разных странах, а им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flagkanada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200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41716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анснациональные корпорации (ТН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циональные  по капиталу, но интернациональные по сфере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0" y="90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ждународные корпорации (МН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национальные  и по капитал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фере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000" y="692280"/>
            <a:ext cx="8218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ропейский Союз (ЕС) возник на базе Европейского экономического сообщества (ЕЭС), 1 января 1958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цели ЕЭ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пространства без внутренних грани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йствие сбалансированному и длительному экономическому прогрессу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ропейская ассоциация свободной торговли (ЕАСТ). 3 мая 196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цели ЕАС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йствие постоянному росту экономической активности, обеспечению полной занято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ю производительности, рациональному использованию ресурсов, финансовой стабильности и неуклонному повышению уровня жиз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ропейское экономическое пространство (ЕЭП)  1994 год, приходится свыше 40% мировой торгов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этом рынке ликвидированы практически все оставшиеся барьеры на пути свободного перемещения  товаров, услуг, капиталов и людских ресур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 4.  Миграция  и  вывоз капитала как форма международных экономических отнош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ми чертами вывоза капитала на современном этапе является его миграция как в развивающиеся, так и в развитые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воз капитала наиболее развитая, усовершенствованная форма международной эксплуа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ой формой вывоза капитала остаются вывоз функционирующего ссудного капитала, осуществляемый в виде вложений в промышленность, торговлю, транспорт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0" y="90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форма– вывоз  ссудного капитала, который различается по срокам, назначению, характеру обеспечения и субъек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воз функционирующего ссудного капитал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ют прямые вложения (инвестиции), которые дают право контроля, и портфельные, обеспечивающие только участие, а не контроль. Формой дохода может быть прибыль или прибыль в виде дивиденд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з  ссудного капитал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уществляется в виде международных займов на различные сроки, предоставляемые как частным сектором, так и государствами, и в форме вложений в ценные бумаги (акции, облигации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002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дународные зай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зличаются по своему назнач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займы, или кредиты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одительного характ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как займы, или кредиты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производительного характер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9280" y="836280"/>
            <a:ext cx="81471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одительного характ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промышленности, на транспорте, в сельском хозяйст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производительного характера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.е. используемые для гонки вооружений, содержания военно-полицейского аппарата, непосредственно для ведения войны, выплаты процентов по старым займам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2643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ямые и портфельные инвестиц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з инвестиций функционирующего капитала осуществляется в двух основных формах: прямые инвестиции и портфель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рямые инвести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ются различными путя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дних случаях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ании или банки создают филиалы за границей, строят там свои предприятия, образуют специальные компании, которые действуют преимущественно за границей, покупают зарубежные предприятия. При этом заграничные инвестиции находятся в полной собственности компаний, вывозящих капита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9280" y="692280"/>
            <a:ext cx="814716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ругих случаях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аделец капитала приобретает контрольный пакет акций иностранной компаний, составляю­щий, как правило, 25% или более ее акционерного капит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ортфельные инвести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ляют собой такие вложения в ценные бумаги иностранных фирм, которые либо слишком малы, либо так распылены между держателями, что не могут дать экспортеру капитала контроль над этими фирм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тфельные вложения составляют значительную часть заграничных инвестиций ряда малых западных стран (Швейцария, Дания, Канада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91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такие вложения имеются и у ведущих держав. Так, на конец 1980 г. портфельные инвестиции США составили 12,6 млрд долл., т.е. около 22% всех частных заграничных инвестиц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915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ма  5. Международные валютно-денежные и кредитные рынк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ое  влияние  на  международные  валютно-кредитные  и   финансовые отношения   оказывают   ведущие   промышленно-развитые   страны    (особенно«семерка»)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ые выступают как партнеры-соперники. Последние  десятилетия отмечены активизацией развивающихся стран в этой сфер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5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989840" cy="30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этапа эволюции мировой валютной системы (МВС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Характер функционирования  и  стабильность  мировой  валютной  системы зависят  от  степени  ее  соответствия  структуре  мирового  хозяйств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 изменении структуры мирового хозяйства и соотношения сил  на  мировой  арен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дит замена существующей формы МВС на нов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95280" y="3886200"/>
            <a:ext cx="842472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ившись  в  XIX  веке, МВС прошла 3 этапа эволюции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1. «Золотой стандарт» или Парижская валютная система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2. Бреттон - Вудская система фиксированных валютных курсов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Ямайская система плавающих валютный кур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иод первой мировой войны и особ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ремена Великой  депрессии(1929-1934   гг)   система   золотого    стандарта    переживала    кризис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-за  высокой инфляции в большинстве стран Европы их валюты стали  неконвертируемым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 превратились в нового финансового лидера, а золотой стандарт видоизменял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 апреле  1933  г.  США  вышли   из   системы   золотого  стандар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осредственной причиной  отмены  послужило  значительное  и  не равномерное падение цен. Это вызвало  массовые  банкрот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кротство  10000  банков подорвало  денежно-кредитную  систему  США  и  привело  к   отмене   размена долларовых банкнот на золотые моне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валютных блоков – укрепление конкурентных  позиций  страны-лидера на международной арене, особенно в моменты экономических кризисов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0244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ларовый блок: возглавляемый СШ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 создан в 193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его вошли: Канада,  многие  страны  Центральной  и  Южной  Америки,  где  господствовал американский капит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время второй мировой войны все валютные блоки распалис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нада является второй по величине страной в мире (9970610 кв.км.) которую превосходит только Росс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нады разделена на  10 провинций и 3 территории. На юге и на западе Канада граничит с С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еление Канады насчитывает 30,3 миллионов человек. Большинство канадцев живут в городах , 76,6 % живут в городах, а 23,4 % в сельской мес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ая валютная система была  официально  оформлена  на  Международной валютно-финансовой конференции ООН, проходившей с 1 по 22 июля 1944 г. в  г. Бреттон-Вудсе (США). Здесь также были основаны МВФ и МБРР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821844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и создания второй мировой валютной системы: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осстановление обширной свободной торговл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Установление стабильного равновесия системы  международного  обмена        на основе системы фиксированных валютных курсов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ередача в распоряжение  государств  ресурсов  для  противодействия        временным трудностям во внешнем баланс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ровая валютная система  является исторически сложившейся форм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и     международных     денежных      отношений,      закрепленной межгосударственными договоренностями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ВС  представляет  собой  совокупность способов, инструментов и межгосударственных  органов  ,  с  помощью  которых осуществляется платежно-расчетный оборот в  рамках  мирового  хозяйств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е возникновение  и  последующая   эволюция   отражают   объективное   развитие процессов  интернационализации  капитала,  требующих  адекватных  условий  в международной денежной сфере.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личаются национальная, мировая, региональная валютные системы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е валютно-кредитные и финансовые организации условно можн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ть международными финансовыми институтами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14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 организации  объединяет общая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  –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звитие  сотрудничества   и   обеспечение   целостности   и стабилизации сложного и противоречивого всемирного хозяйства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регулирование МЭО, в том числе валютно-кредитных  и  финансов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 ним  относятс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нк международных  расчетов,  Международный  валютный  фонд,   Всемирный   бан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ая    ассоциация    развития,    Международное    агентство    по инвестиционным  гарантиям  и  др.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 также  региональные  банки  развития, валютно-кредитные и финансовые организации Е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ые финансовые институты преследуют следующие ц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динить  усилия  мирового  сообщества  в   целях   стабилизации        международных финансов и мировой экономики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ть  межгосударственное  валютное  и  кредитно-финансовое        регулирование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местно  разрабатывать  и  координировать  стратегию  и  тактику        мировой валютной и кредитно-финансовой полит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6.  Международная миграционная политика. Перемещение населения и трудовых ресурсов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ичие мирового рынка рабочей силы обусловлено международной миграцией трудящихся, т.е. взаимопересекающимся потоком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гр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тъезд из страны) 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мигр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въезд в страну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ередвижение лиц наемного труда через государственные границы в поисках рабо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выезде из своей страны трудящийся являе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мигрантом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 при въезде в другую страну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мигранто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075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илу экономических пр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потоки мигра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гда направлялись из стран с низкими личными доходами в страны с более высокими доход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ША,КАНАДА и АВСТРА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68000" y="692280"/>
            <a:ext cx="8218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поток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зкоквалифицированной рабоч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л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правляются в США из латиноамериканских стран – Мексики, стран Карибского бассей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сококвалифицированной  рабочей сил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ммигрируют  практически из всех стран мира , включая Западную Европу, Латинскую Америку, Россию, Индию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218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нада входит в «семерку» наиболее крупных развитых стран. Ее ВВП в конце 90-х гг. приблизился к 700 млрд. долл., а ВВП на душу населения был около 22 тыс. долл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свидетельствует о высоком уровне экономического развития страны. Традиционно на экономику Канады оказывали влияние два главных фактора — наличие богатых природных ресурсов и соседство с могущественными С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4358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иболее развитые  западноевропейские стра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входящие в Европейский союз, притягивают рабочую силу из менее развитых западноевропейских стран (Португалии, Мальты, Испании), арабских стран северной Африки и Ближнего Востока, стран Африки и республик бывшего ССС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814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фтедобывающие страны Ближнего Востока привлекают дешевую рабочую силу на тяжелые низкооплачиваемые рабо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Индии, Пакистана, Бангладеш, Кореи, Филипп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184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чески все страны, в которые иммигрирует более 25 тыс. человек в год, - высокоразвитые государства с ВНП более 6900 долл. на душу насе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 эмиграции – развивающие страны, главные из которых -Мексика и страны Аз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ми формами миграции рабочей силы являются следующ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учее переселени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грация в пределах пограничных зон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грарная мигр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зонная мигр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ятник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14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жный вид современной международной миграции населения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егальная иммигр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легальные иммигранты – лица, незаконно въезжающие в поисках работы в другие страны (так, из Мексики  в США нелегально переходят границу более 1 млн. человек ежегодно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184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также лица, пересекающие границу на законных основаниях  ( по частным приглашениям, в качестве туристов и т.п. ), с последующим нелегальным трудоустройст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ША число подпольных мигрантов оценивается от 2 до15 млн.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ст нелегальной  иммиграции объясняется многими причин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 из основных – тот факт, что мигранты работающие  нелегально, представляют собой для предпринимателей самую дешевую и бесправную рабочую си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8075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гласно данным, собранным Наследием Кана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1988, они (иммигранты) принесли около 6 миллиардов долларов в Канад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50 процентов из них занимаются частным бизнес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ни экономят больше, таким образом расширяя общий объем инвестиционного капитала, доступного в стран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ни имеют тенденцию меньше пользоваться общественными услугами, и лишь немногие из них получают социальную помощ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ммигранты имеют доходы выше среднего и более высокую заработную плату, и поэтому они платят больше налог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7.  Глобальные проблемы в международных экономических отношениях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числу глобальных проблем относят следующ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хранение мира и прекращение гонки вооружения ради экономического развития и построения процветающих общест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нужденная миграция больших масс людей, обусловленная локальными военными конфликтами, появление особой категории населения – беженце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дальнейшие развитие прав человека путем усиления личной и экономической свобо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родовольственная проблема и меры по ее решению, особенно в Африке, Азии, Латинской Амер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преодоления загрязнения окружающей среды,  угрожающего самой жизни на земле, и решение экологической проблемы, которая охватывает практически все географические районы ми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4000" y="404280"/>
            <a:ext cx="8002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о масштабам хозяйства США значительно опережают любую другую промышленно развитую стран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Один лишь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федеральный бюджет страны превосходит размеры ВВП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всех государств мира, кроме Японии и Герм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укрепление социально-экономической деятельности различных  структур ООН, а также некоторых других международных организа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и предотвращение загрязнения окружающей сре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ет кризисная  экологическая ситуация, которая выражается в загрязнении атмосферы, почвы, рек, морей, океана, в уменьшении зеленой среды (леса)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ю международного сотрудничества в области экологии способствует система международных организаций ООН, Европейское агентство по охране окружающей среды (ЮНЕП), а также неправительственные организации и движения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имер 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 peac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организации принимают активное участие  в борьбе против сброса токсических и радиоактивных отходов, строительства производств, опасных для природы, животного мира и человека, а также продажи продуктов питания и бытовых  товаров которые созданы с экологическими наруше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218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Зеленый бизнес»- это специфический сектор экономики, который предусматривает ресурсосбережение, технологию защиты окружающей среды, различные экологические услу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ША, Западной Европе, Японии и ряде других стран  активно развивается корпоративный экологический бизнес, который выражается в росте числа компан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684000" y="404280"/>
            <a:ext cx="8002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дящих различное очистительное оборудование и технологии, альтернативные источники энергии, экологическую экспертизу, озеленение территор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довой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рот природоохранных технолог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оставляет более 700 млрд. долл., и постоянно раст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ое сотрудничество в области освоения космоса ( США, Россией и Западной Европо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местное использование российской орбитальной станции «МИР»  в виде полетов стажировок космонавтов в целях различных космических, биологических и технических экспериментов в условиях невесом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вые элементы космического сотрудничества между стран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ет подготовка к запуску и монтированию новой орбитальной космической  станции. (Россия - СШ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специальной плавающей платформы – космодрома в океане для запуска коммерческих спутников.(Россия, США, Норвег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трудничество в области мирового океана, не достигло таких масштабов, как  в космо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Ш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бладают достаточным потенциалом в области освоения океана в виде специальных судов и подводных лодок для исследования его различных аспек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т потенциал носит  военно - политический харак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610920" y="259920"/>
            <a:ext cx="81579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смотря на все вышеупомянутое для США характерен ряд серьезных, прежде всего социально-политических, проб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-первых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исчезновении главного стратегического противника и отступлении угрозы глобальной войны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охраняется опасность локальных войн и террор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-вторых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смотря на известные достижения в смягчении расовой проблемы, ее острота велика особенно потому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то расовые различия в большой мере совпадают с различиями в эко­номическом и социальном стату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0:05:57Z</dcterms:created>
  <dc:creator>User</dc:creator>
  <dc:description/>
  <dc:language>en-US</dc:language>
  <cp:lastModifiedBy>LEGION</cp:lastModifiedBy>
  <dcterms:modified xsi:type="dcterms:W3CDTF">2016-01-05T11:05:27Z</dcterms:modified>
  <cp:revision>17</cp:revision>
  <dc:subject/>
  <dc:title>Владивостокский Государственный Университет Экономики и Сервиса Институт Международных Отношений и Социальных Технологий Кафедра Международных Отношений и Зарубежного регионоведения Учебная презентация по курсу «Международные экономические отношения США</dc:title>
</cp:coreProperties>
</file>