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A46C-9B6D-43C2-92A5-06A6C0B1D5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Международные валют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онятие «валюта», «валютная систем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Валютный курс ,его виды. Факторы, влияющие на валютный ку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Валютные рынки и валютные оп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Регулирование международных валютных отношений. Валютная поли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 Международные валютны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«валюта», «валютная систем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Валютный курс ,его виды. Факторы, влияющие на валютный кур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Валютные рынки и валютные опе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Регулирование международных валютных отношений. Валютн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ых опер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ля-продажа валютных ценностей, товаров, услуг и т.д.; расчёты по которым осуществляются без отсрочки платеж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оды процентов, дивидендов, зарплаты, стипендий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 предоставление коммерческих кредитов на срок не более 180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алютных опер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пля-продажа валютных ценностей, товаров, услуг и т.д.; расчёты по которым осуществляются без отсрочки платеж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воды процентов, дивидендов, зарплаты, стипендий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ие и предоставление коммерческих кредитов на срок не более 180 д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тение и продажа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коммерческих и финансовых кредитов на срок более 180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чение и размещение валютных средств на счетах и во вкла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иные операции с валютой, не являющиеся текущ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ческие сде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трай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ци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ьюче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ьны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ение и продажа ценных бума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коммерческих и финансовых кредитов на срок более 180 д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ие и размещение валютных средств на счетах и во вклад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иные операции с валютой, не являющиеся текущ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ческие сдел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битраж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трай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ци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ьючер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политика – это комплекс мероприятий в сфере М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ая – оперативное регулирование валютной сферы с помощью валютных ограничений, интервенций, субсидирования и диверсификации валютных резерв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текущей валют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виз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в области валютных ограничений обращения иностранной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ая политика – это комплекс мероприятий в сфере М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алютной поли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ая – оперативное регулирование валютной сферы с помощью валютных ограничений, интервенций, субсидирования и диверсификации валютных резер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текущей валютной поли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ная поли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визная поли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ка в области валютных ограничений обращения иностранной валю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олговременная валютная политика – предполагает меры структурного характера, направленные на последовательные изменения валютного мех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долговременная валют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международных расчё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валютных курсов и парит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золота, резервных валют, международных платёж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международных и региональных валютно-кредитных и банковских организ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олговременная валютная политика – предполагает меры структурного характера, направленные на последовательные изменения валютного механ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долговременная валютной поли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международных расчё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валютных курсов и парит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золота, резервных валют, международных платёжных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и региональных валютно-кредитных и банковских организ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ироком смыс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– это любой товар, способный выполнять денежную функцию обмена на международной ар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зком смыс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– это наличная часть денежной массы, циркулирующая из рук в руки в форме денежных банкнот и мо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широком смыс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а – это любой товар, способный выполнять денежную функцию обмена на международной ар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узком смыс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а – это наличная часть денежной массы, циркулирующая из рук в руки в форме денежных банкнот и мо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 (МВО) - это совокупность денежно-кредитных связей между странами, способов их организации и регулирован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М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Региональные и мировая валютные системы (сложились в середине XIX ве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валютные отношения (МВО) - это совокупность денежно-кредитных связей между странами, способов их организации и регулирован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М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валютны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 Региональные и мировая валютные системы (сложились в середине XIX 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 (НВС) – это часть денежной системы страны, выходящая за национальные границы, тесно связанная с финансово-кредитной системой и обеспечивающая международный обор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НВ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циональная валютная едини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фициальные золотовалютные резер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алютный курс и механизм его регул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ловия конвертируемости национальной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алютные ограни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ежим и способы использования валютных инструментов при международных расче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циональные учреждения, регулирующие валютные отношения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ловия функционирования национального золотовалютного ры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ая валютная система (НВС) – это часть денежной системы страны, выходящая за национальные границы, тесно связанная с финансово-кредитной системой и обеспечивающая международный обор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НВ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ациональная валютная единиц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фициальные золотовалютные резерв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алютный курс и механизм его регул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условия конвертируемости национальной валю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алютные огранич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ежим и способы использования валютных инструментов при международных расчет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ациональные учреждения, регулирующие валютные отношения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условия функционирования национального золотовалютного ры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 (МПС) -это форма организации международных валютных отношений, юридически закрепляемая межгосударственными соглаше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МП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и коллективные валютные един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ликвидные акти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установления валютных паритетов и к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обмена вал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рынки и рынки зол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осударственные валютно-кредитные организации и правовые нормы, регулирующие валют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валютная система (МПС) -это форма организации международных валютных отношений, юридически закрепляемая межгосударственными соглаш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МП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и коллективные валютные единиц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ликвидные актив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 установления валютных паритетов и курс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обмена валю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валютные рынки и рынки золо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государственные валютно-кредитные организации и правовые нормы, регулирующие валют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развития международн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ижская валютная система (золотой стандарт). Официально признана в 1867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уэзская валютная система (золотослитковый стандарт) с 1922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еттон-Вудская валютная система (девизный стандарт) с 1944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майская валютная система (многовалютный стандарт) с 1976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развития международной валютн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ижская валютная система (золотой стандарт). Официально признана в 1867 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уэзская валютная система (золотослитковый стандарт) с 1922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еттон-Вудская валютная система (девизный стандарт) с 1944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майская валютная система (многовалютный стандарт) с 1976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- это соотношение между двумя валютами, цена единицы валюты, выраженная в другой валю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алютных курс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 номинальный и реаль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мый и свобод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ышенный и занижен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я и продав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яемый и стабиль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ый и кассов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урс- это соотношение между двумя валютами, цена единицы валюты, выраженная в другой валю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валютных курс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 номинальный и реальны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мый и свободны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ышенный и заниженны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я и продавц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яемый и стабильны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чный и кассов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инфля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ая ма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ная став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тельственная политика в отношении частных вкла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торговая полит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оспособность товаров страны на мировых рын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платежного балан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ткрытости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ъюнктурные фак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пы инфля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ежная мас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нтная став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тельственная политика в отношении частных вклад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торговая полит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оспособность товаров страны на мировых рынк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платежного балан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пень открытости эконом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ъюнктурные факто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 – это сфера экономических отношений, возникающих при совершении операции по купле-продаже иностранной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ых рын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бъёмам торговли валю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(локаль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По срокам исполнения операц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т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вардные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идам операц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опци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фьюче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своп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рынок – это сфера экономических отношений, возникающих при совершении операции по купле-продаже иностранной валю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алютных рын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бъёмам торговли валю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(локальны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  По срокам исполнения операц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т 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вардные 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видам операц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опци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фьюче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сво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972B-CCAA-4568-A500-1A5EBE693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02B1-C9A6-426A-8910-05A9A56B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10DC-8988-4D8A-8C95-B8C54F6C6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9DEA-8560-4543-8064-1CA5B6588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0F79-94E0-4906-93C1-A5F289308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79AA-C0C2-4068-94F7-D72F114F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5777-1F9E-4008-82D2-57EA9B67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1F56-09F0-45B0-917C-01C1B4DD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A44E-DFC1-4D9B-B01A-8F19100E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EDBE-79F1-445A-96DC-1DB53142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3B79-7092-4865-AA64-27B0E062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75E2-E247-4B1C-8CF7-01052233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A8B8-97A6-4303-AD78-0275ADD0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AB8D-E46A-49C0-802A-58FD0B38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59E6-55F5-4E71-BC25-3467D4B7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B283-79B6-46C8-AB25-93C716486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60C5-CDB1-4157-A85D-2049A3710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3862-1E00-4858-98C2-2D1FDB51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4132-3789-41F2-95B7-D0A65B88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F565-3A86-4562-B2CA-ED9A5462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C8A6-5E0B-42CA-964E-07D24C6E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FB3A-7881-4013-AA8A-A519612C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B107-C671-41B1-AE86-BD04BDB3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4803-9577-4248-88CE-160D3966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368F-C3D7-43A4-B407-782E36E76E3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CD9F-D50F-4689-8B6A-7AE6C80A592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Тема: Международные валютные отношения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Понятие «валюта», «валютная систем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Валютный курс ,его виды. Факторы, влияющие на валютный кур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Валютные рынки и валютные оп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Регулирование международных валютных отношений. Валютная полит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j0222015"/>
          <p:cNvPicPr/>
          <p:nvPr/>
        </p:nvPicPr>
        <p:blipFill>
          <a:blip r:embed="rId1"/>
          <a:stretch/>
        </p:blipFill>
        <p:spPr>
          <a:xfrm>
            <a:off x="7086600" y="4800600"/>
            <a:ext cx="1779480" cy="17874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Виды валютных операций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ку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пля-продажа валютных ценностей, товаров, услуг и т.д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чёты по которым осуществляются без отсрочки плате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ы процентов, дивидендов, зарплаты, стипендий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ение и предоставление коммерческих кредитов на срок не более 180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j0222017"/>
          <p:cNvPicPr/>
          <p:nvPr/>
        </p:nvPicPr>
        <p:blipFill>
          <a:blip r:embed="rId1"/>
          <a:stretch/>
        </p:blipFill>
        <p:spPr>
          <a:xfrm>
            <a:off x="7086600" y="480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питаль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обретение и продажа ценных бум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ставление коммерческих и финансовых кредитов на срок более 180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лечение и размещение валютных средств на счетах и во вклад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иные операции с валютой, не являющиеся текущ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фические сдел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битра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утрай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ци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ьючер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j0222021"/>
          <p:cNvPicPr/>
          <p:nvPr/>
        </p:nvPicPr>
        <p:blipFill>
          <a:blip r:embed="rId1"/>
          <a:stretch/>
        </p:blipFill>
        <p:spPr>
          <a:xfrm>
            <a:off x="7010280" y="480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Валютная политика – это комплекс мероприятий в сфере МВО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валютной поли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ущая – оперативное регулирование валютной сферы с помощью валютных ограничений, интервенций, субсидирования и диверсификации валютных резер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ы текущей валютной поли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контна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изна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тика в области валютных ограничений обращения иностранной валю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j0222015"/>
          <p:cNvPicPr/>
          <p:nvPr/>
        </p:nvPicPr>
        <p:blipFill>
          <a:blip r:embed="rId1"/>
          <a:stretch/>
        </p:blipFill>
        <p:spPr>
          <a:xfrm>
            <a:off x="7010280" y="4800600"/>
            <a:ext cx="1779840" cy="17874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олговременная валютная политика – предполагает меры структурного характера, направленные на последовательные изменения валютного мех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ы долговременная валютной поли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ок международных расчё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им валютных курсов и парит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золота, резервных валют, международных платёжных сред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ятельность международных и региональных валютно-кредитных и банковских организ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j0222019"/>
          <p:cNvPicPr/>
          <p:nvPr/>
        </p:nvPicPr>
        <p:blipFill>
          <a:blip r:embed="rId1"/>
          <a:stretch/>
        </p:blipFill>
        <p:spPr>
          <a:xfrm>
            <a:off x="7086600" y="480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широком смыс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юта – это любой товар, способный выполнять денежную функцию обмена на международной аре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узком смыс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юта – это наличная часть денежной массы, циркулирующая из рук в руки в форме денежных банкнот и мо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j0222017"/>
          <p:cNvPicPr/>
          <p:nvPr/>
        </p:nvPicPr>
        <p:blipFill>
          <a:blip r:embed="rId1"/>
          <a:stretch/>
        </p:blipFill>
        <p:spPr>
          <a:xfrm>
            <a:off x="6934320" y="4724280"/>
            <a:ext cx="1780920" cy="17877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Международные валютные отношения (МВО) - это совокупность денежно-кредитных связей между странами, способов их организации и регулирования.</a:t>
            </a: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715840"/>
            <a:ext cx="7925040" cy="33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менты М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циональные валютные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 Региональные и мировая валютные системы (сложились в середин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22021"/>
          <p:cNvPicPr/>
          <p:nvPr/>
        </p:nvPicPr>
        <p:blipFill>
          <a:blip r:embed="rId1"/>
          <a:stretch/>
        </p:blipFill>
        <p:spPr>
          <a:xfrm>
            <a:off x="7086600" y="18288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Национальная валютная система (НВС)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– это часть денежной системы страны, выходящая за национальные границы, тесно связанная с финансово-кредитной системой и обеспечивающая международный оборот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менты НВ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национальная валютная едини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официальные золотовалютные резерв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валютный курс и механизм его регул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условия конвертируемости национальной валю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валютные ограни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режим и способы использования валютных инструментов при международных расчет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национальные учреждения, регулирующие валютные отношения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условия функционирования национального золотовалютного ры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j0222019"/>
          <p:cNvPicPr/>
          <p:nvPr/>
        </p:nvPicPr>
        <p:blipFill>
          <a:blip r:embed="rId1"/>
          <a:stretch/>
        </p:blipFill>
        <p:spPr>
          <a:xfrm>
            <a:off x="7086600" y="144792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Мировая валютная система (МПС)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-это форма организации международных валютных отношений, юридически закрепляемая межгосударственными соглашениям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менты МП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циональные и коллективные валютные единиц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е ликвидные актив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ханизм установления валютных паритетов и кур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им обмена валю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международных расче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е валютные рынки и рынки золо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государственные валютно-кредитные организации и правовые нормы, регулирующие валютные от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j0222017"/>
          <p:cNvPicPr/>
          <p:nvPr/>
        </p:nvPicPr>
        <p:blipFill>
          <a:blip r:embed="rId1"/>
          <a:stretch/>
        </p:blipFill>
        <p:spPr>
          <a:xfrm>
            <a:off x="7086600" y="507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Этапы развития международной валютной систем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арижская валютная система (золотой стандарт). Официально признана в 1867 год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енуэзская валютная система (золотослитковый стандарт) с 1922 г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реттон-Вудская валютная система (девизный стандарт) с 1944 г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Ямайская валютная система (многовалютный стандарт) с 1976 г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j0222015"/>
          <p:cNvPicPr/>
          <p:nvPr/>
        </p:nvPicPr>
        <p:blipFill>
          <a:blip r:embed="rId1"/>
          <a:stretch/>
        </p:blipFill>
        <p:spPr>
          <a:xfrm>
            <a:off x="7086600" y="1828800"/>
            <a:ext cx="1779480" cy="17874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алютный курс-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это соотношение между двумя валютами, цена единицы валюты, выраженная в другой валюте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ификация валютных кур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 номинальный и реаль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яемый и свобод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ышенный и заниже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упателя и продав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яемый и стабиль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очный и кассо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j0222019"/>
          <p:cNvPicPr/>
          <p:nvPr/>
        </p:nvPicPr>
        <p:blipFill>
          <a:blip r:embed="rId1"/>
          <a:stretch/>
        </p:blipFill>
        <p:spPr>
          <a:xfrm>
            <a:off x="7010280" y="4724280"/>
            <a:ext cx="1781280" cy="178776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Факторы, влияющие на формирование валютного курс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ы инфля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ежная ма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нтная став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тельственная политика в отношении частных вкла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еторговая полит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урентоспособность товаров страны на мировых рынк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ние платежного балан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пень открытости эконом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ъюнктурные факт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j0222021"/>
          <p:cNvPicPr/>
          <p:nvPr/>
        </p:nvPicPr>
        <p:blipFill>
          <a:blip r:embed="rId1"/>
          <a:stretch/>
        </p:blipFill>
        <p:spPr>
          <a:xfrm>
            <a:off x="7010280" y="480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алютный рынок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– это сфера экономических отношений, возникающих при совершении операции по купле-продаже иностранной валюты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иды валютных рынк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объёмам торговли валют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циональные (локальны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гиональн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иров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   По срокам исполнения операц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т рын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вардные рын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видам операц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ынки опцион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ынки фьючерс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ынки своп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j0222015"/>
          <p:cNvPicPr/>
          <p:nvPr/>
        </p:nvPicPr>
        <p:blipFill>
          <a:blip r:embed="rId1"/>
          <a:stretch/>
        </p:blipFill>
        <p:spPr>
          <a:xfrm>
            <a:off x="7010280" y="4800600"/>
            <a:ext cx="1779840" cy="17874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1:05:34Z</dcterms:modified>
  <cp:revision>6</cp:revision>
  <dc:subject/>
  <dc:title>План: 1.Понятие «валюта», «валютная систем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