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9C36-BE1F-437F-A25F-A79307E40F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097-AB2F-4C33-9D3A-7DF2F116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99C-FA0E-4E63-8CEF-5FDF2E3A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B96-4E42-47B7-A0E4-06F1EB69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8F5-37EB-4480-B093-11FB3227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8A5D-20F6-4EFB-A996-5A6D5095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7B8E-F545-4E63-891A-817196D4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E4E7-03F4-4415-9C89-06665FED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2BB1-E523-4070-B2B2-39CD8FA4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183-B5EE-43FD-A8A4-5A5E3AE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9054-718C-4422-9978-EE1A30BD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1D92-26A2-4B25-8631-6C47B24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FAC-E474-4E6F-B309-2D59CB27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4888-0ABA-4F89-B16A-FB3176B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0A6F-9F13-43A1-AAFB-7DEE20B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BDF3-FC08-46C0-8365-811EFF92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25AC-0D08-43D5-BF1A-A06FE893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5A5D-DD6D-46CD-B54B-E6395BA2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4E6-86AF-4B7A-B308-FD0E50E5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99B-E9B6-43A1-B8A2-9AD08ADC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197-8713-492D-8CF7-A50E3148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0D9-1C6D-4862-8957-752F8C57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841-7B21-4501-B7E0-C74554A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9D1-4FE3-4A23-9343-3EE82EC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2CD-4658-483C-81E5-D5D92FB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87E8-A16D-4A7E-ABBE-8184514FDE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9E8-8647-4E63-A87B-594DAB47BA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47560"/>
            <a:ext cx="8424720" cy="157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482560"/>
            <a:ext cx="78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и аналогичны принципам предшествующей Парижск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честве критериев отбора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ону евро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установл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епень конвертируем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жет быть различ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основе валютного кур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собенно при фиксированном режиме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лежит валютный паритет — это соотношение между двумя валютами, устанавливаемое в законодательном поряд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те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т. е. определенные исходя из паритета покупательной способности валют сравниваемых стра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живление инвестиционной 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объем внутренни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предложения национальной валюты для зарубежны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кционистская политика увеличивает налоги на импорт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импорта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спроса на иностранную валюту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ая антиинфляционная политика укрепляет национальную валю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ъюнктура валютного ры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яе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жившимися в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росом и предложением на иностранную валю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выглядит как совокупность национальных, региональных и мировых рын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редине XIX ве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осыл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степени либерализации внутреннего валютного законод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циональный валютный рынок может существовать в фор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ерног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сновные 5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между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инансовых цент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ые финансовые цен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валютных рын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степени их организованн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биржевые валютные сдел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течении двух рабочих дней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наличный или спот-рын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вард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не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ьючерс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опци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арактеризует право, а не обязанность купить/продать валют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ного ры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Валютный Фон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него входит 184 страны-участн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3 года 3 мес.-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ширенные креди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4,5 до 10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менее развитых стран на срок от 3 лет 3 мес. до 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урегулирования долгового кризиса Р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ленами МБРР могут быть только страны-члены МВ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ппа Всемирного ба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ногоструктурная международная кредитная организ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БРР) имеет два филиа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АР) создана в 1960 г. МАР предоставляет беспроцентные кредиты наименее развитым странам на срок 35-4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ФК) создана в 1956 г. с целью стимулирования частных инвестиций в промышленность молодых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МИГА) учреждено в 1988 г. Его цель — страхования инвестиций и прямых капиталовложений от некоммерческих рис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ндонский клуб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честве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й МВ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едует отметит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9:54Z</dcterms:created>
  <dc:creator>Lena</dc:creator>
  <dc:description/>
  <dc:language>en-US</dc:language>
  <cp:lastModifiedBy>LEGION</cp:lastModifiedBy>
  <dcterms:modified xsi:type="dcterms:W3CDTF">2016-01-05T11:05:41Z</dcterms:modified>
  <cp:revision>19</cp:revision>
  <dc:subject/>
  <dc:title>Тема 6. Международная валютная система и мировой валютный рынок</dc:title>
</cp:coreProperties>
</file>