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B316-8BBA-4BD0-92AC-ED3C573F987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6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валютная система и мировой валютный 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: сущность, виды, элемен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волюция мировой валютн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и валютные курсы регулирование валютного кур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: понятие, виды, современные тенденции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международных финансовых организаций в функционировании мировой валютн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ма 6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ая валютная система и мировой валютный рынок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волюция мировой валютной систем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и валютные курсы регулирование валютного курс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ировой валютной систем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2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волюция мировой валютн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ринципы Генуэзской валютной системы были аналогичны принципам предшествующей Парижск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, назначалось два основных способа размена национальной валюты в золот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первых, прямой — для валют, выполнявших роль девизов (фунт стерлингов, доллар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вторых, косвенный — для всех остальных валют данн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анной МВС использовался принцип свободноплавающих валютных к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2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Эволюция мировой валютной систем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сновные принципы Генуэзской валютной системы были аналогичны принципам предшествующей Парижской систем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о, назначалось два основных способа размена национальной валюты в золото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-первых, прямой — для валют, выполнявших роль девизов (фунт стерлингов, доллар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-вторых, косвенный — для всех остальных валют данной систем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данной МВС использовался принцип свободноплавающих валютных курс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2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волюция мировой валютн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принципами Бреттон-Вудской валютной системы являлис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золото сохранило функцию мировых дене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резервные валюты — доллар США, английский фунт стерлинг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обязательный размен резервных валют на золото по официальному курсу 35 долларов за 1 тройскую унц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установлены фиксированные валютные курс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МВФ, МБР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) при нарушении платежных балансов разрешалось урегулировать их золо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2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Эволюция мировой валютной систем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сновными принципами Бреттон-Вудской валютной системы являлись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) золото сохранило функцию мировых денег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) резервные валюты — доллар США, английский фунт стерлингов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) обязательный размен резервных валют на золото по официальному курсу 35 долларов за 1 тройскую унцию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) установлены фиксированные валютные курсы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) МВФ, МБРР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) при нарушении платежных балансов разрешалось урегулировать их золотом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2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волюция мировой валютн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майская валютная система строилась на основании следующих принцип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официально отменен золотой стандар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зафиксирована демонетизация золо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запрещены золотые паритеты — привязка валют к золот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золото рассматривается как обычный това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введен стандарт СД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) резервные валюты - доллар США, марка ФРГ, фунт стерлингов, швейцарский франк, японская йена, французский фран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) установлен режим свободно плавающих валютных кур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) узаконено создание замкнутых валютных бло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2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Эволюция мировой валютной систем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Ямайская валютная система строилась на основании следующих принципов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) официально отменен золотой стандарт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) зафиксирована демонетизация золота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) запрещены золотые паритеты — привязка валют к золоту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) золото рассматривается как обычный товар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) введен стандарт СДР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) резервные валюты - доллар США, марка ФРГ, фунт стерлингов, швейцарский франк, японская йена, французский франк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7) установлен режим свободно плавающих валютных курсов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8) узаконено создание замкнутых валютных блок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2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волюция мировой валютн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честве критериев отбора в «Зону евро»  установле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ы инфляции не должны превышать аналогичный показатель в трех странах с наименьшим ростом цен более чем в 1,5 процентных пунк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 госбюджета не должен превышать 3% ВВП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долг не более 60% ВВП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менный курс национальной валюты в течение двух лет не должен выходить за пределы колебаний, действующих в ЕВС (± 15%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2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Эволюция мировой валютной систем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качестве критериев отбора в «Зону евро»  установлены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мпы инфляции не должны превышать аналогичный показатель в трех странах с наименьшим ростом цен более чем в 1,5 процентных пункта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ефицит госбюджета не должен превышать 3% ВВП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осударственный долг не более 60% ВВП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менный курс национальной валюты в течение двух лет не должен выходить за пределы колебаний, действующих в ЕВС (± 15%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валютой подразумевают особый способ функционирования денег, когда национальные деньги опосредуют международные торговые, кредитные, платежно-расчетные опер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конвертируемостью понимают свободу обмена финансовых активов. Конвертируемость валюты означает способность экономических субъектов обменивать национальную валюту на иностранную и использовать ее в расчет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д валютой подразумевают особый способ функционирования денег, когда национальные деньги опосредуют международные торговые, кредитные, платежно-расчетные операци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д конвертируемостью понимают свободу обмена финансовых активов. Конвертируемость валюты означает способность экономических субъектов обменивать национальную валюту на иностранную и использовать ее в расчетах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конвертируемости может быть различ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 качестве критерия выбран тип экономических отношений, отражаемых в платежном балансе, то можно выделить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ртируемость по текущим операция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ртируемость по капитальным операци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ую конвертируем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пень конвертируемости может быть различно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сли в качестве критерия выбран тип экономических отношений, отражаемых в платежном балансе, то можно выделить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вертируемость по текущим операциям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вертируемость по капитальным операциям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лную конвертируемость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висимости от того, насколько свободно та или иная валюта обменивается на другие валюты различных стран мирового хозяйства, различают несколько видов вал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свободно-конвертируемые валю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частично конвертируемые валю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замкнутые (неконвертируемые) валю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зависимости от того, насколько свободно та или иная валюта обменивается на другие валюты различных стран мирового хозяйства, различают несколько видов валют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) свободно-конвертируемые валюты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) частично конвертируемые валюты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) замкнутые (неконвертируемые) валют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татусу валюты классифицируют на следующие ви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остранн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условные (СДР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е условные (ЭКЮ, с 1 января 1999 г. евро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валюты (валюты, участвующие в расчетах третьих стран и не контролируемые финансовыми органами страны-эмитент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ервной валю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 статусу валюты классифицируют на следующие виды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циональна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ностранна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е условные (СДР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гиональные условные (ЭКЮ, с 1 января 1999 г. евро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вровалюты (валюты, участвующие в расчетах третьих стран и не контролируемые финансовыми органами страны-эмитента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зервной валют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ервная валюта — это конвертируемая национальная валюта, котора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яет функции международного платежного и резервного средств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ется базой для определения валютного паритета и валютных курсов для валют других стран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ется для проведения валютных интервенций и формирования официальных золотовалютных резервов государ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зервная валюта — это конвертируемая национальная валюта, которая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ыполняет функции международного платежного и резервного средства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является базой для определения валютного паритета и валютных курсов для валют других стран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спользуется для проведения валютных интервенций и формирования официальных золотовалютных резервов государст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 — это цена денежной единицы данной страны, выраженная в денежной единице другой страны или международных счетных валютных единиц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валютного курса (особенно при фиксированном режиме)  лежит валютный паритет — это соотношение между двумя валютами, устанавливаемое в законодательном поряд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курс — это цена денежной единицы данной страны, выраженная в денежной единице другой страны или международных счетных валютных единицах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основе валютного курса (особенно при фиксированном режиме)  лежит валютный паритет — это соотношение между двумя валютами, устанавливаемое в законодательном порядке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: сущность, виды, эле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валютной системой понимается совокупность денежно-кредитных отношений, сложившихся между субъектами мирового хозяйства на базе интернационализации хозяйственной жизни и развития мирового рынка, закрепленная в международных договорных и государственно-правовых норм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мере интернационализации хозяйственных связей формируются национальная, региональная и мировая валютные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д валютной системой понимается совокупность денежно-кредитных отношений, сложившихся между субъектами мирового хозяйства на базе интернационализации хозяйственной жизни и развития мирового рынка, закрепленная в международных договорных и государственно-правовых нормах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 мере интернационализации хозяйственных связей формируются национальная, региональная и мировая валютные систем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форм валютных курсов по способу фикс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ксированные валютные курсы (предполагают наличие официально зарегистрированных паритетов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ьно фиксированные (опираются на золотой паритет, отклоняются в пределах «золотых точек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но фиксированные (опираются на: согласованный этало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лассификация форм валютных курсов по способу фиксац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иксированные валютные курсы (предполагают наличие официально зарегистрированных паритетов)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ально фиксированные (опираются на золотой паритет, отклоняются в пределах «золотых точек»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оговорно фиксированные (опираются на: согласованный эталон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форм валютных курсов по способу фикс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кие валютные курсы (у валют отсутствует официальный паритет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вающие (изменяются в зависимости от спроса и предлож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еблющие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зменяются от спроса и предложения, но корректируются валютными интервенциями центральных банков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лассификация форм валютных курсов по способу фиксац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ибкие валютные курсы (у валют отсутствует официальный паритет)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вающие (изменяются в зависимости от спроса и предложения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леблющиеся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изменяются от спроса и предложения, но корректируются валютными интервенциями центральных банков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пособу расчета валютные курсы бываю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ическ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итетные (т. е. определенные исходя из паритета покупательной способности валют сравниваемых стра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учетом инфляции необходимо различать номинальный и реальный  валютные курсы, которые отличаются друг от друга в зависимости от соотношения цен в сравниваемых стра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 способу расчета валютные курсы бывают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актические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аритетные (т. е. определенные исходя из паритета покупательной способности валют сравниваемых стран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 учетом инфляции необходимо различать номинальный и реальный  валютные курсы, которые отличаются друг от друга в зависимости от соотношения цен в сравниваемых странах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колебания валютного курса воздействуют следующие фактор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относительных темпов инфляции (рост цен) и объема денежной масс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ежный баланс стра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ия в процентных ставк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кулятивные валютные опер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использования в международных расчет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ношение государственного и рыночного регулир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показатели стра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ивные факторы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 колебания валютного курса воздействуют следующие факторы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зменение относительных темпов инфляции (рост цен) и объема денежной массы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тежный баланс страны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зличия в процентных ставках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пекулятивные валютные операци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пень использования в международных расчетах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отношение государственного и рыночного регулировани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акроэкономические показатели страны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бъективные факторы и др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мулирующая бюджетно-налоговая и денежно-кредитная политики сопровождаются снижением налогов и ставки процента ⇒ оживление инвестиционной активности ⇒растет объем внутренних инвестиций ⇒снижение предложения национальной валюты для зарубежных инвестиций ⇒повышается реальный валютный кур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екционистская политика увеличивает налоги на импорт ⇒ снижение импорта ⇒ снижение спроса на иностранную валюту ⇒ повышается реальный валютный кур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ая антиинфляционная политика укрепляет национальную валю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имулирующая бюджетно-налоговая и денежно-кредитная политики сопровождаются снижением налогов и ставки процента ⇒ оживление инвестиционной активности ⇒растет объем внутренних инвестиций ⇒снижение предложения национальной валюты для зарубежных инвестиций ⇒повышается реальный валютный кур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текционистская политика увеличивает налоги на импорт ⇒ снижение импорта ⇒ снижение спроса на иностранную валюту ⇒ повышается реальный валютный кур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ффективная антиинфляционная политика укрепляет национальную валюту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 представляет собой систему устойчивых экономических и организационных отношений, возникающих в результате операций по купле-продаже иностранной валюты и различных валютных ценностей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ъюнктура валютного рынка определяется сложившимися в данный момент спросом и предложением на иностранную валю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рынок представляет собой систему устойчивых экономических и организационных отношений, возникающих в результате операций по купле-продаже иностранной валюты и различных валютных ценностей.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ъюнктура валютного рынка определяется сложившимися в данный момент спросом и предложением на иностранную валюту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ыходе на валютный рынок экономические субъекты преследуют различные це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рерывное осуществление международных расче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версификация валютных резервов и их пополн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прибы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еджирование от валютных и кредитных рис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дение валютной полит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международных креди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 выходе на валютный рынок экономические субъекты преследуют различные цели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епрерывное осуществление международных расчетов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иверсификация валютных резервов и их пополнение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лучение прибыл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еджирование от валютных и кредитных рисков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ведение валютной политик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лучение международных кредит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ой задачей валютного рынка является обслуживание международных экономически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овременном этапе валютный рынок выглядит как совокупность национальных, региональных и мировых рын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лавной задачей валютного рынка является обслуживание международных экономических отношени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 современном этапе валютный рынок выглядит как совокупность национальных, региональных и мировых рынк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национальных валютных относится к середине XIX века. Предпосыл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регулярных МЭ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ая степень концентрации и централизации банковского капита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респондентские отношения между банк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ирокое распространение кредитных средств международных расче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средств связ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валютных ограничений по текущим счет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ормирование национальных валютных относится к середине XIX века. Предпосылки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звитие регулярных МЭО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ысокая степень концентрации и централизации банковского капитала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рреспондентские отношения между банкам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широкое распространение кредитных средств международных расчетов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звитие средств связ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тсутствие валютных ограничений по текущим счетам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висимости от степени либерализации внутреннего валютного законодательства национальный валютный рынок может существовать в форм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фициального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официального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черного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зависимости от степени либерализации внутреннего валютного законодательства национальный валютный рынок может существовать в форме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фициального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луофициального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«черного»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: сущность, виды, эле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национальную валютную систему возлагается ряд функц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и использование валютных ресур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внешнеэкономических связей стра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оптимальных условий функционирования национального хозя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 национальную валютную систему возлагается ряд функций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ормирование и использование валютных ресурсов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еспечение внешнеэкономических связей страны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еспечение оптимальных условий функционирования национального хозяйств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стика мирового валютного рын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уют валютные огранич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яется огромное число сдел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вуют субъекты всех стра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0% общего международного оборота приходится на основные 5 валю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международных финансовых цент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арактеристика мирового валютного рынк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тсутствуют валютные ограничения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существляется огромное число сделок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частвуют субъекты всех стран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90% общего международного оборота приходится на основные 5 валют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личие международных финансовых центр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финансовые центры — это места сосредоточения банков, специализированных кредитно-финансовых институтов, где осуществляются международные валютные, кредитные, финансовые операции, сделки с ценными бумаг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ировые финансовые центры — это места сосредоточения банков, специализированных кредитно-финансовых институтов, где осуществляются международные валютные, кредитные, финансовые операции, сделки с ценными бумагам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ы валютных рынков в зависимости от степени их организован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ованные или биржевые валютные рын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рганизованные или межбанковские валютные рын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мышленно развитых странах около 90% валютных сделок приходится на внебиржевые валютные сдел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ипы валютных рынков в зависимости от степени их организованности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ованные или биржевые валютные рынк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еорганизованные или межбанковские валютные рынк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промышленно развитых странах около 90% валютных сделок приходится на внебиржевые валютные сделк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валютных рынк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немедленной поставки валюты (в течении двух рабочих дней) – наличный или спот-рын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чный (форвардный рынок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чные валютные контракт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вардный контракт (внебиржевой контракт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ьючерсный контракт (биржевой контракт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опцион (характеризует право, а не обязанность купить/продать валют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иды валютных рынков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ынок немедленной поставки валюты (в течении двух рабочих дней) – наличный или спот-рынок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рочный (форвардный рынок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рочные валютные контракты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орвардный контракт (внебиржевой контракт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ьючерсный контракт (биржевой контракт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опцион (характеризует право, а не обязанность купить/продать валюту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мирового валютного рынка на современном этап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интернационализации валютных рынков стра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ции совершаются непрерывно в течение сут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нифицируется техника валютных операций, международных расчетов и креди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стро развивается срочный сектор валютного рын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ет объем валютных операций с целью страх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ироко применяются электронные средства связ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собенности мирового валютного рынка на современном этапе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ост интернационализации валютных рынков стран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ерации совершаются непрерывно в течение суток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нифицируется техника валютных операций, международных расчетов и кредитов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ыстро развивается срочный сектор валютного рынка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стет объем валютных операций с целью страховани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широко применяются электронные средства связ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международных финансовых организаций в функционировании МВ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Валютный Фонд — это межправительственная организация, предназначенная для регулирования валютно-кредитных отношений между государствами-членами и оказания им финансовой помощ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л создан в 1944 г. на Бреттон-Вудской международной конференции. В него входит 184 страны-участниц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В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й Валютный Фонд — это межправительственная организация, предназначенная для регулирования валютно-кредитных отношений между государствами-членами и оказания им финансовой помощ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ыл создан в 1944 г. на Бреттон-Вудской международной конференции. В него входит 184 страны-участницы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международных финансовых организаций в функционировании МВ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ы МВФ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ы поддержки (срок погашения 3 года 3 мес.-5 лет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ширенные кредиты (срок погашения 4,5 до 10 лет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енсационные кредиты и кредиты финансирования буферных запасов (для менее развитых стран на срок от 3 лет 3 мес. до 5 лет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ы структурной адаптации (для урегулирования долгового кризиса РС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ы системной транс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ы МВФ выдаются, как правило, кредитными долями (транши) по 25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В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ы МВФ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ы поддержки (срок погашения 3 года 3 мес.-5 лет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сширенные кредиты (срок погашения 4,5 до 10 лет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мпенсационные кредиты и кредиты финансирования буферных запасов (для менее развитых стран на срок от 3 лет 3 мес. до 5 лет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ы структурной адаптации (для урегулирования долгового кризиса РС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ы системной трансформаци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ы МВФ выдаются, как правило, кредитными долями (транши) по 25%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международных финансовых организаций в функционировании МВ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банк реконструкции и развития (МБРР) или Всемирный банк предназначен для финансирования средне- и долгосрочных проектов развития инфраструктуры экономик развивающихся стра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л создан в 1944 г. на Бреттон-Вудской международной конференции. Членами МБРР могут быть только страны-члены МВ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Всемирного банка — это многоструктурная международная кредитная организ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В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й банк реконструкции и развития (МБРР) или Всемирный банк предназначен для финансирования средне- и долгосрочных проектов развития инфраструктуры экономик развивающихся стран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ыл создан в 1944 г. на Бреттон-Вудской международной конференции. Членами МБРР могут быть только страны-члены МВФ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руппа Всемирного банка — это многоструктурная международная кредитная организаци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международных финансовых организаций в функционировании МВ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банк реконструкции и развития (МБРР) имеет два филиал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ассоциация развития (МАР) создана в 1960 г. МАР предоставляет беспроцентные кредиты наименее развитым странам на срок 35-40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финансовая корпорация (МФК) создана в 1956 г. с целью стимулирования частных инвестиций в промышленность молодых государ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В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й банк реконструкции и развития (МБРР) имеет два филиала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ая ассоциация развития (МАР) создана в 1960 г. МАР предоставляет беспроцентные кредиты наименее развитым странам на срок 35-40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ая финансовая корпорация (МФК) создана в 1956 г. с целью стимулирования частных инвестиций в промышленность молодых государст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международных финансовых организаций в функционировании МВ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группу Мирового банка входят еще три организа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стороннее инвестиционно-гарантийное агентство (МИГА) учреждено в 1988 г. Его цель — страхования инвестиций и прямых капиталовложений от некоммерческих рис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центр по урегулированию инвестиционных разногласий, созданный в 1966 году. Его цель- выступать арбитром в конфликтах между государствами-членами и иностранными инвестор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ьный фонд помощи для Африки Южнее Сахары, созданный в 1985 году. Его цель — распоряжение специальными средствами на оказание чрезвычайной помощи бедным африканским странам, начавшим реализацию крупных программ структурных рефор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В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группу Мирового банка входят еще три организации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ногостороннее инвестиционно-гарантийное агентство (МИГА) учреждено в 1988 г. Его цель — страхования инвестиций и прямых капиталовложений от некоммерческих риск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й центр по урегулированию инвестиционных разногласий, созданный в 1966 году. Его цель- выступать арбитром в конфликтах между государствами-членами и иностранными инвесторам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пециальный фонд помощи для Африки Южнее Сахары, созданный в 1985 году. Его цель — распоряжение специальными средствами на оказание чрезвычайной помощи бедным африканским странам, начавшим реализацию крупных программ структурных реформ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: сущность, виды, эле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 (МВС) — это глобальная форма организации валютных отношений в рамках мирового хозяйства, закрепленная многосторонними межгосударственными соглашениями и регулируемая международными валютно-кредитными и финансовыми организац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ВС включает валютные отношения и валютный механиз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ировая валютная система (МВС) — это глобальная форма организации валютных отношений в рамках мирового хозяйства, закрепленная многосторонними межгосударственными соглашениями и регулируемая международными валютно-кредитными и финансовыми организациям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ВС включает валютные отношения и валютный механизм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международных финансовых организаций в функционировании МВ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еждународных валютно-финансовых и кредитных отношениях участвуют и частные клубы кредитор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ижский клуб стран-кредиторов — это неформальная организация индустриально развитых стран (19), где обсуждаются проблемы урегулирования, отсрочки платежей по государственному долгу стра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ндонский клуб является неформальной организацией крупнейших банков-кредиторов (600 - 1000), где обсуждаются проблемы урегулирования частной внешней задолженности стран-должни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В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международных валютно-финансовых и кредитных отношениях участвуют и частные клубы кредиторов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арижский клуб стран-кредиторов — это неформальная организация индустриально развитых стран (19), где обсуждаются проблемы урегулирования, отсрочки платежей по государственному долгу стран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ондонский клуб является неформальной организацией крупнейших банков-кредиторов (600 - 1000), где обсуждаются проблемы урегулирования частной внешней задолженности стран-должников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: сущность, виды, эле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ми отношениями называется совокупность денежных отношений, определяющих платежно-расчетные операции между национальными хозяйств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механизм представляет собой правовые нормы и представляющие их инструменты как на национальном, так и на международном уровн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ми отношениями называется совокупность денежных отношений, определяющих платежно-расчетные операции между национальными хозяйствам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механизм представляет собой правовые нормы и представляющие их инструменты как на национальном, так и на международном уровнях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: сущность, виды, эле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честве основных функций МВС следует отметить следующ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осредование международных экономических связ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платежно-расчетного оборота в рамках мирового хозяй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необходимых условий для нормального воспроизводственного процес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ламентирование и координирование режимов национальных валютных сист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нификация и стандартизация принципов валютны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качестве основных функций МВС следует отметить следующие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осредование международных экономических связей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еспечение платежно-расчетного оборота в рамках мирового хозяйства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еспечение необходимых условий для нормального воспроизводственного процесса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гламентирование и координирование режимов национальных валютных систем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нификация и стандартизация принципов валютных отношени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: сущность, виды, эле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лементы мировой валютной систе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ервные валюты и международные счетные валютные единиц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ия взаимной конвертируемости валю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ламентация режимов валютных кур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государственное регулирование валютных огранич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нификация форм международных расчетов и кредитных средст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мировых валютных рынков и рынков золо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ые организации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сновные элементы мировой валютной системы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зервные валюты и международные счетные валютные единицы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словия взаимной конвертируемости валют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гламентация режимов валютных курсов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государственное регулирование валютных ограничений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нификация форм международных расчетов и кредитных средств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жим мировых валютных рынков и рынков золота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е валютные организации и др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2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волюция мировой валютн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яют следующие этап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арижская валютная система (с 1867 г. по 20-е годы XX в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Генуэзская валютная система (с 1922 г. по 30-е год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Бреттон-Вудская валютная система (с 1944 г. по 1976 г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Ямайская валютная система (с 1976—1978 годов по настоящее врем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2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Эволюция мировой валютной систем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ыделяют следующие этапы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Парижская валютная система (с 1867 г. по 20-е годы XX в.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 Генуэзская валютная система (с 1922 г. по 30-е годы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. Бреттон-Вудская валютная система (с 1944 г. по 1976 г.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. Ямайская валютная система (с 1976—1978 годов по настоящее время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2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волюция мировой валютн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принципами золотомонетного стандарта являлись следующ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установлено золотое содержание национальных денежных единиц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золото выполняло функцию мировых дене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банкноты свободно обменивались на золот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курс валюты мог отклоняться от монетных паритетов в пределах «золотых точек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резервная валюта - английский фунт стерлинг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) поддерживалось жесткое соотношение между национальным золотым запасом и внутренним предложением дене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) дефицит платежных балансов покрывался золо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2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Эволюция мировой валютной систем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сновными принципами золотомонетного стандарта являлись следующие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) установлено золотое содержание национальных денежных единиц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) золото выполняло функцию мировых денег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) банкноты свободно обменивались на золото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) курс валюты мог отклоняться от монетных паритетов в пределах «золотых точек»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) резервная валюта - английский фунт стерлингов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) поддерживалось жесткое соотношение между национальным золотым запасом и внутренним предложением денег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7) дефицит платежных балансов покрывался золотом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D674-38E9-491F-BF39-8712DF027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B6CB-E285-4066-A7BA-44BF1190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53E4-92A6-47B2-B778-DAAFD3615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D3FC-3529-4643-B600-0AD188239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A6A3A-38C4-48CA-AB05-D5C664FC5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EC802-353C-48BD-8075-94A0BE801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8EF56-AC42-4584-B97B-66A4CEF03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9F54A-1925-4A49-9300-82AEDFD0D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41EC5-4D8B-4C8D-8A62-983014DF3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F112F-863B-44AA-BF78-12E0047F0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684AF-40C1-4007-9212-CEC3EDAF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9BCB-C1A8-4FE9-B27F-DCBD32A7D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03BE1-11A6-4156-8D34-8386CC03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3A049-1C80-4100-8D37-D7E62A7F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919E2-E9B9-4AA2-B64D-6678801CC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F6CB3-37CF-4DDA-BD29-66DCBD7D3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DE6D3-6C45-41DB-A4E8-4A604F147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A0DE-B968-4DE6-BEB8-963E0C5C1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3DD4-37A7-4029-B20B-2F22F80C0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7E91-4CF1-49D7-98E3-B99CF297C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9AB4-F372-46D1-AF89-E98E6CED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4641-2576-4D9C-872C-3603A744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2E3E-D313-412B-A7D9-9A9B6470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F5DA-5ECF-4C47-B59A-B4AB856E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0f0f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D1346-066F-489A-A00F-35E62A12BAB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49050-7A86-4F02-83B0-B13614D703A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547560"/>
            <a:ext cx="8424720" cy="1578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Тема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Международная валютная система и мировой валютный рыно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84000" y="2482560"/>
            <a:ext cx="7848360" cy="39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Эволюция мировой валютной систем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алюта и валютные курсы регулирование валютного курс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ировой валютной систем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2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волюция мировой валютной систем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сновные принципы Генуэзской валютной системы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были аналогичны принципам предшествующей Парижской систем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о, назначалось два основных способа размена национальной валюты в золото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о-первых, прямой — для валют, выполнявших роль девизов (фунт стерлингов, доллар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о-вторых, косвенный — для всех остальных валют данной систем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данной МВС использовался принцип свободноплавающих валютных курс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2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волюция мировой валютной систем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сновными принципами Бреттон-Вудской валютной системы являлись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) золото сохранило функцию мировых денег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) резервные валюты — доллар США, английский фунт стерлинго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) обязательный размен резервных валют на золото по официальному курсу 35 долларов за 1 тройскую унцию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) установлены фиксированные валютные курс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5) МВФ, МБРР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6) при нарушении платежных балансов разрешалось урегулировать их золото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2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волюция мировой валютной систем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Ямайская валютная система строилась на основании следующих принципов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) официально отменен золотой стандарт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2) зафиксирована демонетизация золот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3) запрещены золотые паритеты — привязка валют к золоту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4) золото рассматривается как обычный товар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5) введен стандарт СДР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6) резервные валюты - доллар США, марка ФРГ, фунт стерлингов, швейцарский франк, японская йена, французский франк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7) установлен режим свободно плавающих валютных курсов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8) узаконено создание замкнутых валютных блок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2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волюция мировой валютной систем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качестве критериев отбора в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Зону евро»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установлены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емпы инфляции не должны превышать аналогичный показатель в трех странах с наименьшим ростом цен более чем в 1,5 процентных пункт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ефицит госбюджета не должен превышать 3% ВВП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осударственный долг не более 60% ВВП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менный курс национальной валюты в течение двух лет не должен выходить за пределы колебаний, действующих в ЕВС (± 15%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д валютой подразумевают особый способ функционирования денег, когда национальные деньги опосредуют международные торговые, кредитные, платежно-расчетные операц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д конвертируемостью понимают свободу обмена финансовых активов. Конвертируемость валюты означает способность экономических субъектов обменивать национальную валюту на иностранную и использовать ее в расчета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тепень конвертируемост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может быть различно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Если в качестве критерия выбран тип экономических отношений, отражаемых в платежном балансе, то можно выделить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нвертируемость по текущим операциям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нвертируемость по капитальным операци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лную конвертируемость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зависимости от того, насколько свободно та или иная валюта обменивается на другие валюты различных стран мирового хозяйства, различают несколько видов валют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) свободно-конвертируемые валют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) частично конвертируемые валют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) замкнутые (неконвертируемые) валют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 статусу валюты классифицируют на следующие виды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циональна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ностранна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еждународные условные (СДР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гиональные условные (ЭКЮ, с 1 января 1999 г. евро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евровалюты (валюты, участвующие в расчетах третьих стран и не контролируемые финансовыми органами страны-эмитента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зервной валют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езервная валюта — это конвертируемая национальная валюта, которая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ыполняет функции международного платежного и резервного средства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является базой для определения валютного паритета и валютных курсов для валют других стран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спользуется для проведения валютных интервенций и формирования официальных золотовалютных резервов государст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алютный курс — это цена денежной единицы данной страны, выраженная в денежной единице другой страны или международных счетных валютных единицах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основе валютного курса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особенно при фиксированном режиме)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лежит валютный паритет — это соотношение между двумя валютами, устанавливаемое в законодательном порядке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1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д валютной системой понимается совокупность денежно-кредитных отношений, сложившихся между субъектами мирового хозяйства на базе интернационализации хозяйственной жизни и развития мирового рынка, закрепленная в международных договорных и государственно-правовых норма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 мере интернационализации хозяйственных связей формируются национальная, региональная и мировая валютные систем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лассификация форм валютных курсов по способу фиксац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Фиксированные валютные курсы (предполагают наличие официально зарегистрированных паритетов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ально фиксированные (опираются на золотой паритет, отклоняются в пределах «золотых точек»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оговорно фиксированные (опираются на: согласованный эталон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лассификация форм валютных курсов по способу фиксац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ибкие валютные курсы (у валют отсутствует официальный паритет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лавающие (изменяются в зависимости от спроса и предложения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леблющиес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изменяются от спроса и предложения, но корректируются валютными интервенциями центральных банков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 способу расчета валютные курсы бывают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фактически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аритетны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(т. е. определенные исходя из паритета покупательной способности валют сравниваемых стран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 учетом инфляции необходимо различать номинальный и реальный  валютные курсы, которые отличаются друг от друга в зависимости от соотношения цен в сравниваемых страна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а колебания валютного курса воздействуют следующие факторы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зменение относительных темпов инфляции (рост цен) и объема денежной масс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латежный баланс стран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личия в процентных ставках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пекулятивные валютные операци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тепень использования в международных расчетах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отношение государственного и рыночного регулирован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акроэкономические показатели стран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убъективные факторы и др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тимулирующая бюджетно-налоговая и денежно-кредитная политики сопровождаются снижением налогов и ставки процент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바탕"/>
                <a:ea typeface="바탕"/>
              </a:rPr>
              <a:t>⇒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живление инвестиционной активности </a:t>
            </a:r>
            <a:r>
              <a:rPr b="0" lang="ru-RU" sz="2400" spc="-1" strike="noStrike">
                <a:solidFill>
                  <a:srgbClr val="000000"/>
                </a:solidFill>
                <a:latin typeface="바탕"/>
                <a:ea typeface="바탕"/>
              </a:rPr>
              <a:t>⇒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тет объем внутренних инвестиций </a:t>
            </a:r>
            <a:r>
              <a:rPr b="0" lang="ru-RU" sz="2400" spc="-1" strike="noStrike">
                <a:solidFill>
                  <a:srgbClr val="000000"/>
                </a:solidFill>
                <a:latin typeface="바탕"/>
                <a:ea typeface="바탕"/>
              </a:rPr>
              <a:t>⇒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ижение предложения национальной валюты для зарубежных инвестиций </a:t>
            </a:r>
            <a:r>
              <a:rPr b="0" lang="ru-RU" sz="2400" spc="-1" strike="noStrike">
                <a:solidFill>
                  <a:srgbClr val="000000"/>
                </a:solidFill>
                <a:latin typeface="바탕"/>
                <a:ea typeface="바탕"/>
              </a:rPr>
              <a:t>⇒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ышается реальный валютный кур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текционистская политика увеличивает налоги на импорт </a:t>
            </a:r>
            <a:r>
              <a:rPr b="0" lang="ru-RU" sz="2400" spc="-1" strike="noStrike">
                <a:solidFill>
                  <a:srgbClr val="000000"/>
                </a:solidFill>
                <a:latin typeface="바탕"/>
                <a:ea typeface="바탕"/>
              </a:rPr>
              <a:t>⇒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нижение импорта </a:t>
            </a:r>
            <a:r>
              <a:rPr b="0" lang="ru-RU" sz="2400" spc="-1" strike="noStrike">
                <a:solidFill>
                  <a:srgbClr val="000000"/>
                </a:solidFill>
                <a:latin typeface="바탕"/>
                <a:ea typeface="바탕"/>
              </a:rPr>
              <a:t>⇒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нижение спроса на иностранную валюту </a:t>
            </a:r>
            <a:r>
              <a:rPr b="0" lang="ru-RU" sz="2400" spc="-1" strike="noStrike">
                <a:solidFill>
                  <a:srgbClr val="000000"/>
                </a:solidFill>
                <a:latin typeface="바탕"/>
                <a:ea typeface="바탕"/>
              </a:rPr>
              <a:t>⇒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ышается реальный валютный кур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ффективная антиинфляционная политика укрепляет национальную валюту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алютный рынок представляет собой систему устойчивых экономических и организационных отношений, возникающих в результате операций по купле-продаже иностранной валюты и различных валютных ценностей.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онъюнктура валютного рынк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пределяетс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сложившимися в данный момент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просом и предложением на иностранную валюту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и выходе на валютный рынок экономические субъекты преследуют различные цел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епрерывное осуществление международных расчето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иверсификация валютных резервов и их пополнени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лучение прибыл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хеджирование от валютных и кредитных риско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ведение валютной политик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лучение международных кредит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Главной задачей валютного рынка является обслуживание международных экономических отношений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 современном этапе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алютный рынок выглядит как совокупность национальных, региональных и мировых рынк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Формирование национальных валютных относится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 середине XIX век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едпосылк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витие регулярных МЭО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ысокая степень концентрации и централизации банковского капитал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рреспондентские отношения между банкам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широкое распространение кредитных средств международных расчето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витие средств связ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сутствие валютных ограничений по текущим счета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зависимости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т степени либерализации внутреннего валютного законодательств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национальный валютный рынок может существовать в форме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фициального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луофициального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«черного»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1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а национальную валютную систему возлагается ряд функций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формирование и использование валютных ресурсо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еспечение внешнеэкономических связей стран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еспечение оптимальных условий функционирования национального хозяйств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Характеристика мирового валютного рынк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тсутствуют валютные ограничения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существляется огромное число сделок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частвуют субъекты всех стран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90% общего международного оборота приходится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а основные 5 валют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личие международных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финансовых центро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ировые финансовые центры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— это места сосредоточения банков, специализированных кредитно-финансовых институтов, где осуществляются международные валютные, кредитные, финансовые операции, сделки с ценными бумагам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ипы валютных рынков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зависимости от степени их организованност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рганизованные или биржевые валютные рынк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организованные или межбанковские валютные рынк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промышленно развитых странах около 90% валютных сделок приходится на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небиржевые валютные сделк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иды валютных рынков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ынок немедленной поставки валюты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в течении двух рабочих дней)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– наличный или спот-рынок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рочный (форвардный рынок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рочные валютные контракты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форвардный контракт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внебиржевой контракт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фьючерсный контракт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биржевой контракт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алютный опцион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характеризует право, а не обязанность купить/продать валюту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собенности мирового валютного рынка на современном этап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ост интернационализации валютных рынков стран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перации совершаются непрерывно в течение суток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нифицируется техника валютных операций, международных расчетов и кредито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ыстро развивается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рочный сектор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алютного рынк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стет объем валютных операций с целью страхован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широко применяются электронные средства связ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5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В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еждународный Валютный Фонд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— это межправительственная организация, предназначенная для регулирования валютно-кредитных отношений между государствами-членами и оказания им финансовой помощ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ыл создан в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944 г. на Бреттон-Вудской международной конференции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 него входит 184 страны-участницы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5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В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редиты МВФ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редиты поддержк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срок погашения 3 года 3 мес.-5 лет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асширенные кредиты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срок погашения 4,5 до 10 лет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омпенсационные кредиты и кредиты финансирования буферных запасов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для менее развитых стран на срок от 3 лет 3 мес. до 5 лет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редиты структурной адаптаци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для урегулирования долгового кризиса РС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редиты системной трансформаци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редиты МВФ выдаются, как правило, кредитными долями (транши) по 25%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5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В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еждународный банк реконструкции и развития (МБРР) или Всемирный банк предназначен для финансирования средне- и долгосрочных проектов развития инфраструктуры экономик развивающихся стран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ыл создан в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944 г. на Бреттон-Вудской международной конференции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Членами МБРР могут быть только страны-члены МВФ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Группа Всемирного банк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— это многоструктурная международная кредитная организац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5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В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еждународный банк реконструкции и развити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(МБРР) имеет два филиала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еждународная ассоциация развити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(МАР) создана в 1960 г. МАР предоставляет беспроцентные кредиты наименее развитым странам на срок 35-40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еждународная финансовая корпораци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(МФК) создана в 1956 г. с целью стимулирования частных инвестиций в промышленность молодых государст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Вопрос 5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В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 группу Мирового банка входят еще три организации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Многостороннее инвестиционно-гарантийное агентство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МИГА) учреждено в 1988 г. Его цель — страхования инвестиций и прямых капиталовложений от некоммерческих риск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Международный центр по урегулированию инвестиционных разногласий,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созданный в 1966 году. Его цель- выступать арбитром в конфликтах между государствами-членами и иностранными инвесторам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пециальный фонд помощи для Африки Южнее Сахары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 созданный в 1985 году. Его цель — распоряжение специальными средствами на оказание чрезвычайной помощи бедным африканским странам, начавшим реализацию крупных программ структурных реформ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1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ировая валютная система (МВС) — это глобальная форма организации валютных отношений в рамках мирового хозяйства, закрепленная многосторонними межгосударственными соглашениями и регулируемая международными валютно-кредитными и финансовыми организация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ВС включает валютные отношения и валютный механизм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5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В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международных валютно-финансовых и кредитных отношениях участвуют и частные клубы кредиторов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арижский клуб стран-кредиторов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— это неформальная организация индустриально развитых стран (19), где обсуждаются проблемы урегулирования, отсрочки платежей по государственному долгу стран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Лондонский клуб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является неформальной организацией крупнейших банков-кредиторов (600 - 1000), где обсуждаются проблемы урегулирования частной внешней задолженности стран-должников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1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алютными отношениями называется совокупность денежных отношений, определяющих платежно-расчетные операции между национальными хозяйства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алютный механизм представляет собой правовые нормы и представляющие их инструменты как на национальном, так и на международном уровня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1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01720"/>
            <a:ext cx="8229600" cy="43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качестве основных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функций МВС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следует отметить следующи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посредование международных экономических связе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еспечение платежно-расчетного оборота в рамках мирового хозяйств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еспечение необходимых условий для нормального воспроизводственного процесс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гламентирование и координирование режимов национальных валютных систе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нификация и стандартизация принципов валютных отношени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1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01720"/>
            <a:ext cx="8229600" cy="43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сновные элементы мировой валютной системы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зервные валюты и международные счетные валютные единиц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словия взаимной конвертируемости валют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гламентация режимов валютных курсо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ежгосударственное регулирование валютных ограничени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нификация форм международных расчетов и кредитных средст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жим мировых валютных рынков и рынков золот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еждународные валютные организации и др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2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волюция мировой валютной систем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ыделяют следующие этапы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. Парижская валютная система (с 1867 г. по 20-е годы XX в.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2. Генуэзская валютная система (с 1922 г. по 30-е годы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3. Бреттон-Вудская валютная система (с 1944 г. по 1976 г.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4. Ямайская валютная система (с 1976—1978 годов по настоящее время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2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волюция мировой валютной систем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сновными принципами золотомонетного стандарта являлись следующи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) установлено золотое содержание национальных денежных единиц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) золото выполняло функцию мировых денег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) банкноты свободно обменивались на золото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) курс валюты мог отклоняться от монетных паритетов в пределах «золотых точек»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5) резервная валюта - английский фунт стерлинго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6) поддерживалось жесткое соотношение между национальным золотым запасом и внутренним предложением денег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7) дефицит платежных балансов покрывался золото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4:39:54Z</dcterms:created>
  <dc:creator>Lena</dc:creator>
  <dc:description/>
  <dc:language>en-US</dc:language>
  <cp:lastModifiedBy>LEGION</cp:lastModifiedBy>
  <dcterms:modified xsi:type="dcterms:W3CDTF">2016-01-05T11:05:41Z</dcterms:modified>
  <cp:revision>19</cp:revision>
  <dc:subject/>
  <dc:title>Тема 6. Международная валютная система и мировой валютный рынок</dc:title>
</cp:coreProperties>
</file>