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0387-7831-40D7-B2A1-A1DE3BDB1BD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стория национальной валют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стория национальной валют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овременная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овременная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начальные сведения о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начально на территории Республики Казахстан имели хождение разменные монеты из сплава Л-80 с номиналом 2, 5, 10, 20, 50 тиын, впоследствии они были изъяты из обращения. Кроме того, были введены монеты денежного обращения из сплава “нейзильбер” номиналом 1, 3, 5, 10, 20 тенге, а также памятные и юбилейные моне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ьные сведения о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ьно на территории Республики Казахстан имели хождение разменные монеты из сплава Л-80 с номиналом 2, 5, 10, 20, 50 тиын, впоследствии они были изъяты из обращения. Кроме того, были введены монеты денежного обращения из сплава “нейзильбер” номиналом 1, 3, 5, 10, 20 тенге, а также памятные и юбилейные моне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24х62 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вая сторона банкноты достоинством 1 тенге синего цвета С правой стороны банкноты размещен портрет великого мыслителя Востока Аль-Фараби, по вертикали синей краской напечатаны его имя и годы жизни. Внизу слева от портрета казахский национальный орнамент. Под номиналом в левом углу орнаментальный рисунок.Оборотная сторона банкноты розового цвета. В центре изображены геометрические построения и формулы Аль-Фараб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24х62 м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цевая сторона банкноты достоинством 1 тенге синего цвета С правой стороны банкноты размещен портрет великого мыслителя Востока Аль-Фараби, по вертикали синей краской напечатаны его имя и годы жизни. Внизу слева от портрета казахский национальный орнамент. Под номиналом в левом углу орнаментальный рисунок.Оборотная сторона банкноты розового цвета. В центре изображены геометрические построения и формулы Аль-Фараб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24х62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вая сторона банкноты серо-зеленого цвета. С правой стороны банкноты размещен портрет народного акына Суинбая. По вертикали темно-зеленой краской напечатаны имя и годы жизни акына. Внизу слева от портрета казахский национальный орнамент. Под номиналом в левом углу орнаментальный рисунок.Оборотная сторона банкноты зеленого цвета. В центре пейзаж Алата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24х62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цевая сторона банкноты серо-зеленого цвета. С правой стороны банкноты размещен портрет народного акына Суинбая. По вертикали темно-зеленой краской напечатаны имя и годы жизни акына. Внизу слева от портрета казахский национальный орнамент. Под номиналом в левом углу орнаментальный рисунок.Оборотная сторона банкноты зеленого цвета. В центре пейзаж Алата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24х62 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вая сторона банкноты коричневого цвета. С правой стороны размещен портрет народного композитора Курмангазы. По вертикали коричневой краской напечатаны имя и годы жизни композитора. Внизу слева от портрета казахский национальный орнамент. Под номиналом в левом углу размещен орнаментальный рисунок. Оборотная сторона банкноты желто-красного цвета. В центре изображен мавзолейный комплекс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24х62 м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цевая сторона банкноты коричневого цвета. С правой стороны размещен портрет народного композитора Курмангазы. По вертикали коричневой краской напечатаны имя и годы жизни композитора. Внизу слева от портрета казахский национальный орнамент. Под номиналом в левом углу размещен орнаментальный рисунок. Оборотная сторона банкноты желто-красного цвета. В центре изображен мавзолейный комплекс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ладающий цвет лицевой стороны банкноты темно-зеленый. С правой стороны размещен портрет казахского просветителя Чокана Валиханова и по вертикали темно-зеленой краской напечатаны его имя и годы жизни.Внизу слева от портрета казахский орнамент. С левой стороны банкноты водяной знак Чокана Валиханова.На оборотной стороне банкноты преобладает зеленый цвет. В центре банкноты изображен пейзаж с видом на горы "Ок жетпес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бладающий цвет лицевой стороны банкноты темно-зеленый. С правой стороны размещен портрет казахского просветителя Чокана Валиханова и по вертикали темно-зеленой краской напечатаны его имя и годы жизни.Внизу слева от портрета казахский орнамент. С левой стороны банкноты водяной знак Чокана Валиханова.На оборотной стороне банкноты преобладает зеленый цвет. В центре банкноты изображен пейзаж с видом на горы "Ок жетпес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ладающий цвет лицевой стороны банкноты темно-коричневый. С левой стороны банкноты водяной знак с портретом Абая, по вертикали черной краской его имя и годы жизни.             В нижнем углу с левой стороны и вверху с правой стороны обозначен цифровой номинал банкноты "20", а под ним орнаментальный узор.Основной цвет оборотной стороны коричневый. В центре изображен беркутчи с беркутом по произведениям Абая Кунанбае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бладающий цвет лицевой стороны банкноты темно-коричневый. С левой стороны банкноты водяной знак с портретом Абая, по вертикали черной краской его имя и годы жизни.             В нижнем углу с левой стороны и вверху с правой стороны обозначен цифровой номинал банкноты "20", а под ним орнаментальный узор.Основной цвет оборотной стороны коричневый. В центре изображен беркутчи с беркутом по произведениям Абая Кунанбае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 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ладающие цвета лицевой и оборотной стороны банкноты светло-коричневый. С правой стороны банкноты размещен портрет Абулхаир хана и по вертикали светло-коричневой краской его имя и годы жизни. В нижнем углу с левой стороны и вверху с правой стороны обозначен цифровой номинал банкноты "50". На левой стороне банкноты водяной знак с портретом Абулхаир х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отная сторона банкноты коричневая. В центре изображены наскальные рисунки Мангистау отражающие древние искусства Казахста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бразцы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 тен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бладающие цвета лицевой и оборотной стороны банкноты светло-коричневый. С правой стороны банкноты размещен портрет Абулхаир хана и по вертикали светло-коричневой краской его имя и годы жизни. В нижнем углу с левой стороны и вверху с правой стороны обозначен цифровой номинал банкноты "50". На левой стороне банкноты водяной знак с портретом Абулхаир х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отная сторона банкноты коричневая. В центре изображены наскальные рисунки Мангистау отражающие древние искусства Казахстан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овую жизнь с новыми день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2001 г. была выпущена в обращение банкнота номиналом 100 тенге, на лицевой сторон которой в левом верхнем углу изображение розетки специальной цветоменяющейся краской заменено краской "золотой интаглио" без цветоменяющегося эффе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1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3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овую жизнь с новыми деньг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001 г. была выпущена в обращение банкнота номиналом 100 тенге, на лицевой сторон которой в левом верхнем углу изображение розетки специальной цветоменяющейся краской заменено краской "золотой интаглио" без цветоменяющегося эффек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3 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1305-143A-4A74-B6B2-223A201BA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89A6-250D-4FC5-ADCF-EA58F77F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B339-9DA3-4A4C-8E1F-64E261DF9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5720-5F0C-48E2-A8B5-36CC25721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8B12-300E-4460-AEEF-C8A969698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4FD3-58C0-46CC-86E0-DE7BFC24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CE76-6EE8-4A5E-BE18-4C010B38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35A9-B949-4CA8-BDCE-3A67B594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5D79-18C5-4C78-884F-3351173C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618A-BD5A-46C7-BDA5-BDA87D20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96E7-33C4-437D-9F35-C7A12E04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AE4F-18CA-480C-A1B7-63FED789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124D-C854-458D-B586-16FFF577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28F5-050D-411E-9A0B-562444A0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8A7D-14C2-47EF-9B6E-A110483D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3AFB-D7E7-4C79-AE2A-C7CA8CA44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5165-1320-416B-BA50-409CE8E35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7DB4-2A50-4598-B9BD-FE10D203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58B8-C97E-4535-830A-C5740D40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6558-20D6-4BA6-96C1-F1AA5925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69C4-B449-4D21-838A-3755B1FE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AF8A-EFCA-4F32-8CEF-C66969D4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0E2F-DA78-431A-B711-C8C2FC57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BB8E-8BEE-411F-B0CA-F8B79AA1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FC25-7864-492F-86F4-A5305915AD2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9368-2309-4700-819B-A486809B311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920" y="2060640"/>
            <a:ext cx="8458200" cy="2448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e4005c"/>
                </a:solidFill>
                <a:latin typeface="Arial"/>
              </a:rPr>
              <a:t>История национальной валюты Тенге</a:t>
            </a:r>
            <a:endParaRPr b="0" lang="en-US" sz="7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овременная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3" name="Picture 4" descr="239px-Kazah_tenge"/>
          <p:cNvPicPr/>
          <p:nvPr/>
        </p:nvPicPr>
        <p:blipFill>
          <a:blip r:embed="rId1"/>
          <a:stretch/>
        </p:blipFill>
        <p:spPr>
          <a:xfrm rot="882000">
            <a:off x="468000" y="836640"/>
            <a:ext cx="4456080" cy="3262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kazakh_tenge"/>
          <p:cNvPicPr/>
          <p:nvPr/>
        </p:nvPicPr>
        <p:blipFill>
          <a:blip r:embed="rId2"/>
          <a:stretch/>
        </p:blipFill>
        <p:spPr>
          <a:xfrm rot="19501800">
            <a:off x="3780000" y="2636640"/>
            <a:ext cx="5717880" cy="358452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оначальные сведения о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47640" y="112500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оначально на территории Республики Казахстан имели хождение разменные монеты из сплава Л-80 с номиналом 2, 5, 10, 20, 50 тиын, впоследствии они были изъяты из обращения. Кроме того, были введены монеты денежного обращения из сплава “нейзильбер” номиналом 1, 3, 5, 10, 20 тенге, а также памятные и юбилейные моне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Монета 20 тенге"/>
          <p:cNvPicPr/>
          <p:nvPr/>
        </p:nvPicPr>
        <p:blipFill>
          <a:blip r:embed="rId1"/>
          <a:stretch/>
        </p:blipFill>
        <p:spPr>
          <a:xfrm>
            <a:off x="0" y="5318280"/>
            <a:ext cx="2521080" cy="1539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Монета 50 тиын"/>
          <p:cNvPicPr/>
          <p:nvPr/>
        </p:nvPicPr>
        <p:blipFill>
          <a:blip r:embed="rId2"/>
          <a:stretch/>
        </p:blipFill>
        <p:spPr>
          <a:xfrm>
            <a:off x="6659640" y="5373720"/>
            <a:ext cx="2334960" cy="12891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1" name="Picture 4" descr="image012"/>
          <p:cNvPicPr/>
          <p:nvPr/>
        </p:nvPicPr>
        <p:blipFill>
          <a:blip r:embed="rId1"/>
          <a:stretch/>
        </p:blipFill>
        <p:spPr>
          <a:xfrm rot="1267200">
            <a:off x="5795640" y="1413000"/>
            <a:ext cx="3024000" cy="24368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1042920" y="3285360"/>
            <a:ext cx="6356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те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124х62 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евая сторона банкноты достоинством 1 тенге синего цвета С правой стороны банкноты размещен портрет великого мыслителя Востока Аль-Фараби, по вертикали синей краской напечатаны его имя и годы жизни. Внизу слева от портрета казахский национальный орнамент. Под номиналом в левом углу орнаментальный рисунок.Оборотная сторона банкноты розового цвета. В центре изображены геометрические построения и формулы Аль-Фараб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5" name="Picture 4" descr="image010"/>
          <p:cNvPicPr/>
          <p:nvPr/>
        </p:nvPicPr>
        <p:blipFill>
          <a:blip r:embed="rId1"/>
          <a:stretch/>
        </p:blipFill>
        <p:spPr>
          <a:xfrm rot="1375800">
            <a:off x="5940000" y="1483920"/>
            <a:ext cx="2921040" cy="21970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1619280" y="3574080"/>
            <a:ext cx="563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те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124х62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евая сторона банкноты серо-зеленого цвета. С правой стороны банкноты размещен портрет народного акына Суинбая. По вертикали темно-зеленой краской напечатаны имя и годы жизни акына. Внизу слева от портрета казахский национальный орнамент. Под номиналом в левом углу орнаментальный рисунок.Оборотная сторона банкноты зеленого цвета. В центре пейзаж Алата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9" name="Picture 4" descr="image008"/>
          <p:cNvPicPr/>
          <p:nvPr/>
        </p:nvPicPr>
        <p:blipFill>
          <a:blip r:embed="rId1"/>
          <a:stretch/>
        </p:blipFill>
        <p:spPr>
          <a:xfrm rot="1368600">
            <a:off x="5867280" y="1483920"/>
            <a:ext cx="2938680" cy="20383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2124000" y="2925360"/>
            <a:ext cx="5087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 те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124х62 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цевая сторона банкноты коричневого цвета. С правой стороны размещен портрет народного композитора Курмангазы. По вертикали коричневой краской напечатаны имя и годы жизни композитора. Внизу слева от портрета казахский национальный орнамент. Под номиналом в левом углу размещен орнаментальный рисунок. Оборотная сторона банкноты желто-красного цвета. В центре изображен мавзолейный комплекс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3" name="Picture 4" descr="image006"/>
          <p:cNvPicPr/>
          <p:nvPr/>
        </p:nvPicPr>
        <p:blipFill>
          <a:blip r:embed="rId1"/>
          <a:stretch/>
        </p:blipFill>
        <p:spPr>
          <a:xfrm rot="1359600">
            <a:off x="5435280" y="1412640"/>
            <a:ext cx="3240000" cy="27320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1476360" y="2709360"/>
            <a:ext cx="4573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 те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ладающий цвет лицевой стороны банкноты темно-зеленый. С правой стороны размещен портрет казахского просветителя Чокана Валиханова и по вертикали темно-зеленой краской напечатаны его имя и годы жизни.Внизу слева от портрета казахский орнамент. С левой стороны банкноты водяной знак Чокана Валиханова.На оборотной стороне банкноты преобладает зеленый цвет. В центре банкноты изображен пейзаж с видом на горы "Ок жетпес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7" name="Picture 4" descr="image004"/>
          <p:cNvPicPr/>
          <p:nvPr/>
        </p:nvPicPr>
        <p:blipFill>
          <a:blip r:embed="rId1"/>
          <a:stretch/>
        </p:blipFill>
        <p:spPr>
          <a:xfrm rot="1231200">
            <a:off x="5435280" y="1341000"/>
            <a:ext cx="3419280" cy="29145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611280" y="2422080"/>
            <a:ext cx="4905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 тен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ладающий цвет лицевой стороны банкноты темно-коричневый. С левой стороны банкноты водяной знак с портретом Абая, по вертикали черной краской его имя и годы жизни.             В нижнем углу с левой стороны и вверху с правой стороны обозначен цифровой номинал банкноты "20", а под ним орнаментальный узор.Основной цвет оборотной стороны коричневый. В центре изображен беркутчи с беркутом по произведениям Абая Кунанбае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рвые образцы тенг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92360" y="1557000"/>
            <a:ext cx="3456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 тенг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мер 144х69 м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обладающие цвета лицевой и оборотной стороны банкноты светло-коричневый. С правой стороны банкноты размещен портрет Абулхаир хана и по вертикали светло-коричневой краской его имя и годы жизни. В нижнем углу с левой стороны и вверху с правой стороны обозначен цифровой номинал банкноты "50". На левой стороне банкноты водяной знак с портретом Абулхаир ха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оротная сторона банкноты коричневая. В центре изображены наскальные рисунки Мангистау отражающие древние искусства Казахста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1" descr="image002"/>
          <p:cNvPicPr/>
          <p:nvPr/>
        </p:nvPicPr>
        <p:blipFill>
          <a:blip r:embed="rId1"/>
          <a:stretch/>
        </p:blipFill>
        <p:spPr>
          <a:xfrm rot="930000">
            <a:off x="4966920" y="1412640"/>
            <a:ext cx="4176720" cy="311472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 новую жизнь с новыми деньгам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7920" y="1599840"/>
            <a:ext cx="479772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2001 г. была выпущена в обращение банкнота номиналом 100 тенге, на лицевой сторон которой в левом верхнем углу изображение розетки специальной цветоменяющейся краской заменено краской "золотой интаглио" без цветоменяющегося эффе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http://www.nationalbank.kz/cont/import/word/docimport3167.doc.files/image003.jpg"/>
          <p:cNvPicPr/>
          <p:nvPr/>
        </p:nvPicPr>
        <p:blipFill>
          <a:blip r:embed="rId1"/>
          <a:stretch/>
        </p:blipFill>
        <p:spPr>
          <a:xfrm>
            <a:off x="5364000" y="4581360"/>
            <a:ext cx="2089440" cy="118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Picture 4" descr="http://www.nationalbank.kz/cont/import/word/docimport3167.doc.files/image002.jpg"/>
          <p:cNvPicPr/>
          <p:nvPr/>
        </p:nvPicPr>
        <p:blipFill>
          <a:blip r:embed="rId2"/>
          <a:stretch/>
        </p:blipFill>
        <p:spPr>
          <a:xfrm>
            <a:off x="2268360" y="4581360"/>
            <a:ext cx="2376720" cy="129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8" name="Rectangle 6"/>
          <p:cNvSpPr/>
          <p:nvPr/>
        </p:nvSpPr>
        <p:spPr>
          <a:xfrm>
            <a:off x="5003640" y="42775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001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2700360" y="4205160"/>
            <a:ext cx="122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993 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0" y="46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2:14:04Z</dcterms:created>
  <dc:creator>ww</dc:creator>
  <dc:description/>
  <dc:language>en-US</dc:language>
  <cp:lastModifiedBy>LEGION</cp:lastModifiedBy>
  <dcterms:modified xsi:type="dcterms:W3CDTF">2016-01-05T11:05:47Z</dcterms:modified>
  <cp:revision>5</cp:revision>
  <dc:subject/>
  <dc:title>История национальной валюты Тенге</dc:title>
</cp:coreProperties>
</file>