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6139-0820-4F40-9B73-34EEDEBBC8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F31-C3E2-40E1-A2DB-828CAE6F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4722-9952-4AF8-8925-3AF899BD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299-AE90-4860-9457-439CA666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A47-6C0D-441D-B358-0D343F0F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E59-198A-4FE9-9530-2C7A507B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0D4-9A23-43BF-B97A-877B0F75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AEA-A787-415B-A96B-9B176076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C5F-0C4F-44BB-9940-33AA277A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BCF-D137-4445-B13E-6ED83E3D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7A7-46B6-4D03-A75F-8099E421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E62-A053-4908-97D1-12E83F0D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065-B039-4DB4-8D86-1133F019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17E0-4396-4C55-9253-F4117F56C7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889760" cy="32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57480"/>
            <a:ext cx="6200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067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е результаты О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85520"/>
            <a:ext cx="817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клады о состоянии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ий менеджмент на предприятиях , «Вода и безопас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692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8556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7120" y="1285920"/>
            <a:ext cx="83296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456840"/>
            <a:ext cx="811512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6760" y="1143000"/>
            <a:ext cx="8286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1928520"/>
            <a:ext cx="8186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8115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5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2968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жиш, Чехословак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церн, Швейц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фия, Болг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хус, 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в, Укра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град, Сер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9:44:54Z</dcterms:created>
  <dc:creator>none</dc:creator>
  <dc:description/>
  <dc:language>en-US</dc:language>
  <cp:lastModifiedBy>LEGION</cp:lastModifiedBy>
  <dcterms:modified xsi:type="dcterms:W3CDTF">2016-01-05T11:06:06Z</dcterms:modified>
  <cp:revision>9</cp:revision>
  <dc:subject/>
  <dc:title>Возможности гражданского общества для укрепления сотрудничества в сфере содействия международному развитию</dc:title>
</cp:coreProperties>
</file>