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A1D9-4DFC-4445-A153-DEC06931A88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стория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и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стория экономических 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ждународная эконом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е зару­беж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ую орган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ми труд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A2A-E857-41D6-B3B1-F5292956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EFBF-BD11-4417-9000-D0C01AAB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63B-58D6-4ADF-AE23-35937B57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D72-8E79-412C-91B6-4492BF7B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8940-CA8D-4910-B605-2F726297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2D9E-0D4C-4A6A-98E6-006D4609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3CAC-F48B-4442-893B-306EAAA3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4752-FAD9-4BDA-ABE1-0D5417C7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E31E-E233-4C5E-8B22-3C144789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8781-1C18-4594-B5D4-DD45A5CA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C589-9425-40B5-BE95-2F470F61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DBB-0817-42D9-A632-E3072A49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95DE-DB49-4F8F-959B-38804B45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E030-BEE4-4AFF-93E7-DA6562D8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CFA4-C395-4CF4-9946-1F277C6B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475D-AB69-4FC0-83F9-7E8C1D23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CF8C-00CC-4133-83F2-4A5B7CD1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855-9722-477C-BB89-9481DCFC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A87-AA9D-4FB0-99AA-1EEE2E08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D7A-97FB-47E7-BD3B-07C1348C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0008-BBD4-4273-B638-F6719CE7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2D5-4D18-4735-84D7-BFAB1AEF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3A0-88FF-4316-94EF-C2016B7A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A334-9C52-49A5-B914-7D67B6A1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169B-A1DA-4BCF-AB66-56231124D0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055C-42B8-4D82-8DC6-AA927FE9DF2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920" y="182160"/>
            <a:ext cx="8642160" cy="1047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Глава 1. Введение в курс мировой экономики.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теории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50560" y="1371600"/>
            <a:ext cx="871380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стория экономики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жилась в течение XIX в. в Германии и постепенно распространилась в других странах. Рождение дисципли­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кро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амая молодая и динамичная часть со­временной экономиче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чем более закрыта экономика какой-либо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2. Предмет и методология мировой экономик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учает экономические закономерности взаимодейств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лич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микро- и макроэкономики от мировой экономи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3. Россия и мировое экономическое сообщество</a:t>
            </a:r>
            <a:br>
              <a:rPr sz="4000"/>
            </a:b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1:11:54Z</dcterms:created>
  <dc:creator>User 2006</dc:creator>
  <dc:description/>
  <dc:language>en-US</dc:language>
  <cp:lastModifiedBy>LEGION</cp:lastModifiedBy>
  <dcterms:modified xsi:type="dcterms:W3CDTF">2016-01-05T11:06:13Z</dcterms:modified>
  <cp:revision>5</cp:revision>
  <dc:subject/>
  <dc:title>Глава 1. Введение в курс мировой экономики. 1.1. Мировая экономика как составная часть экономической теории.</dc:title>
</cp:coreProperties>
</file>