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FBF4-94E1-4996-B4D8-D8EF1AE3BFD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1. Введение в курс миров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Мировая экономика как составная часть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экономическая теория состоит из пяти ча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стория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икроэконом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кроэконом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стория экономических у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ждународная эконом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экономики сложилась в течение XIX в. в Германии и постепенно распространилась в других странах. Рождение дисципли­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а 1. Введение в курс миров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1. Мировая экономика как составная часть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ременная экономическая теория состоит из пяти ча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история экономики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микроэкономик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макроэкономик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история экономических уч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международная экономи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тория экономики сложилась в течение XIX в. в Германии и постепенно распространилась в других странах. Рождение дисципли­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кроэкономика 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- самая молодая и динамичная часть со­временной эконом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. Сначала она была разделами мик­ро- и макроэкономики, но со второй полов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X в. международная (мировая) экономика выделяется в самостоятельную нау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­лину. Это было связано с большими переменами в мировом хозяйстве: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ом колониальной системы, с развитием рыночной экономики в Азии, Латин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е и с распадом социалистического лаг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наступления нового этапа в развитии мировой экономи­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ость экономики как важнейший принцип взаимоотноше­ний между государ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международных, надгосударственных организ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ирование самостоятельной международной финансо­в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отмечена закономерность: чем более закрыта экономика какой-либо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мирового сообщества, тем медленнее она раз­вивается, тем ниж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ь труда, тем хуже качество то­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закономерность подтверждается значительными статистиче­скими да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экономика - самая молодая и динамичная часть со­временной экономичес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и. Сначала она была разделами мик­ро- и макроэкономики, но со второй полови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XX в. международная (мировая) экономика выделяется в самостоятельную науч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исцип­лину. Это было связано с большими переменами в мировом хозяйстве: 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падом колониальной системы, с развитием рыночной экономики в Азии, Латинс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мерике и с распадом социалистического лагер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ки наступления нового этапа в развитии мировой экономи­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крытость экономики как важнейший принцип взаимоотноше­ний между государствам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ние международных, надгосударственных организац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онирование самостоятельной международной финансо­вой сфе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отмечена закономерность: чем более закрыта экономика какой-либо стра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 мирового сообщества, тем медленнее она раз­вивается, тем ниж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одительность труда, тем хуже качество то­ва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а закономерность подтверждается значительными статистиче­скими дан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Предмет и методолог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изучает экономические закономерности взаимо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х экономик: движение потоков товаров, услуг и платежей; экономическ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у, регламентирующую эти потоки и их воздействие на обще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я микро- и макроэкономики от мировой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микроэкономике товаром признается любая полез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ь, а произведенные товары включаются в валовой внутренний продукт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, то в мировой экономике пополняй ве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чески не приобретает статус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 национальной экономики происходит свободное пере­мещ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питала, что приводит к сглаживанию различий ме­жду регионами.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экономике иммиграционные законы и дру­гие барьеры существ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рживают выравнивание ставок зарплат между стра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. Предмет и методология мировой экономик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экономика изучает экономические закономерности взаимодейств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ых экономик: движение потоков товаров, услуг и платежей; экономическ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литику, регламентирующую эти потоки и их воздействие на обществен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лагосостоя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личия микро- и макроэкономики от мировой экономи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в микроэкономике товаром признается любая полезн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щь, а произведенные товары включаются в валовой внутренний продукт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ый доход, то в мировой экономике пополняй вещ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втоматически не приобретает статус товар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нутри национальной экономики происходит свободное пере­мещение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 капитала, что приводит к сглаживанию различий ме­жду регионами. 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ой экономике иммиграционные законы и дру­гие барьеры существен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держивают выравнивание ставок зарплат между странам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Россия и мировое экономическое сообще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современной России в мире до сих пор определяется со­ветским прошл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СР был изолированной супердержавой с невы­соким уровнем жизни, с коман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й экстенсивной экономикой, что приводило к низ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оспособности товаров и замедлению темпов экономического ро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92 г. задача интеграции с мировым экономическим сообще­ством для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шла в практическую плоскость. Отношения СССР с миром носили иде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. Сотрудничество со­циалистическими странами и рядом стран третье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лось на внеэкономической основе. Контакты с развитыми странами были весь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х социалистической системы ослабил позиции России в мире. По уровню ВНП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е на душу населения Россия значительно ус­тупает развитым страна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ся к странам с доходом ниже сред­него уровня. В эту группу входят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тинской Америки, Африки, Азии и Арабского Востока. Мы считаем Россию вел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жавой, а она по многим параметрам относится к развивающимся странам. Эт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 определяет место и роль России в мировом хозяйстве. Вхождение в рыно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у было осложнено глубоким эко­номическим кризисом, охватив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стсоциалистическое про­стран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утратила рынки сбыта бывшего СЭВ. Дезинтеграция разрушила всю сист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енных связей, произошло обвальное сокращение товарооборота м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публиками бывшего СССР. Внешняя торговля стран СНГ переориентировалась 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ее зару­беж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3. Россия и мировое экономическое сообщество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сто современной России в мире до сих пор определяется со­ветским прошл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ССР был изолированной супердержавой с невы­соким уровнем жизни, с команд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дминистративной экстенсивной экономикой, что приводило к низ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нкурентоспособности товаров и замедлению темпов экономического рос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1992 г. задача интеграции с мировым экономическим сообще­ством для Росс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ешла в практическую плоскость. Отношения СССР с миром носили идеологическ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. Сотрудничество со­циалистическими странами и рядом стран третьего ми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оилось на внеэкономической основе. Контакты с развитыми странами были весь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ен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ах социалистической системы ослабил позиции России в мире. По уровню ВНП 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чете на душу населения Россия значительно ус­тупает развитым странам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носится к странам с доходом ниже сред­него уровня. В эту группу входят стра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атинской Америки, Африки, Азии и Арабского Востока. Мы считаем Россию вели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ржавой, а она по многим параметрам относится к развивающимся странам. Это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 определяет место и роль России в мировом хозяйстве. Вхождение в рыноч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номику было осложнено глубоким эко­номическим кризисом, охвативши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се постсоциалистическое про­странство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сия утратила рынки сбыта бывшего СЭВ. Дезинтеграция разрушила всю систе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енных связей, произошло обвальное сокращение товарооборота межд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спубликами бывшего СССР. Внешняя торговля стран СНГ переориентировалась 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льнее зару­бежь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понесла крупные потери в производстве и экспорте. Все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ложнялось большим внешним долгом, отсутствием таможенной гран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эффективного валютного и экспортного контро­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вступила в МВФ, МБРР, подала заявку на вступление во Всемир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ую орган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важнейшей задачей России становится вос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й интеграции в рамках СНГ. Этот процесс происходит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ми труд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обесценивания рубля по отношению к доллару в 1998 году и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х цен на энергоносители в экономике страны начинает­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импортозамещающих отраслей с одновременным рос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 за счет экспорта энергоносителей. Но рост доходов в стране ведет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ю импорта, что замедляет экономиче­ское восстано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ется зависимость от мировых цен на энергонос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ана понесла крупные потери в производстве и экспорте. Все э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ложнялось большим внешним долгом, отсутствием таможенной границы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сутствием эффективного валютного и экспортного контро­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сия вступила в МВФ, МБРР, подала заявку на вступление во Всемир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рговую организац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этому важнейшей задачей России становится восстановл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номической интеграции в рамках СНГ. Этот процесс происходит 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ольшими трудност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сле обесценивания рубля по отношению к доллару в 1998 году и рос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ых цен на энергоносители в экономике страны начинает­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сстановление импортозамещающих отраслей с одновременным рост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ходов за счет экспорта энергоносителей. Но рост доходов в стране ведет 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сстановлению импорта, что замедляет экономиче­ское восстановл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храняется зависимость от мировых цен на энергоносите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A447-9F75-4D80-B205-C8D7FE0D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BCC-3AC1-4D1C-A3EE-144E063E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E20E-178A-41DA-A332-96FABFAC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6FAA-443B-4D3B-A21B-766249FE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FCC5-7E1A-47EF-96DC-7DA76F50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4ED6-166E-4FEC-8F1B-6BF4B163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A017-523A-4026-9D12-F40E279F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8D44-B031-4E80-86A6-353E12FF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82A4-33DA-4BA6-9753-9E010535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A8C5-1104-4EF3-83C1-CB84ADB9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80F8-4599-4F94-83F9-4156F640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C235-B57A-49D4-89AD-3E2DF427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2085-BAE1-4123-A051-4015B855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032E-E84C-49C8-9A66-3B0B4337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6C81-2E58-46BD-840A-7EB466B7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4580-77F6-4A7F-B629-2E487CE0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081A-8532-432C-9BBB-3496130B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F10-972F-4CA4-B60B-2442A2E4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D3B-DB64-45AA-9FE9-EB611741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7D72-9AFD-4370-B34E-2E8697B7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7D03-BABF-47C7-867F-48F33D05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3540-7F18-4703-92F3-BDED0BBF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9E39-53A2-49D3-BDEC-84B03194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4FF8-FB12-46FE-B189-7C28E7D7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86DA-B488-4575-9765-6C9835359F1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C70F-95DD-4AE1-AA36-41CCA2C7FBF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920" y="182160"/>
            <a:ext cx="8642160" cy="1047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Глава 1. Введение в курс мировой экономики.</a:t>
            </a:r>
            <a:br>
              <a:rPr sz="2000"/>
            </a:b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1.1. Мировая экономика как составная часть экономической</a:t>
            </a:r>
            <a:br>
              <a:rPr sz="2000"/>
            </a:b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теории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50560" y="1371600"/>
            <a:ext cx="871380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ременная экономическая теория состоит из пяти часте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история экономи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микроэкономик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макроэкономик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история экономических учен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5. международная экономи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стория экономики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ожилась в течение XIX в. в Германии и постепенно распространилась в других странах. Рождение дисципли­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кро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ровая 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амая молодая и динамичная часть со­временной экономиче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еории. Сначала она была разделами мик­ро- и макроэкономики, но со второй полови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XX в. международная (мировая) экономика выделяется в самостоятельную науч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исцип­лину. Это было связано с большими переменами в мировом хозяйстве: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падом колониальной системы, с развитием рыночной экономики в Азии, Латин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мерике и с распадом социалистического лагер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изнаки наступления нового этапа в развитии мировой экономи­к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крытость экономики как важнейший принцип взаимоотноше­ний между государствам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здание международных, надгосударственных организац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ункционирование самостоятельной международной финансо­вой сфе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егодня отмечена закономерность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чем более закрыта экономика какой-либо стра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мирового сообщества, тем медленнее она раз­вивается, тем ниж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изводительность труда, тем хуже качество то­вар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а закономерность подтверждается значительными статистиче­скими данны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Tahoma"/>
              </a:rPr>
              <a:t>1.2. Предмет и методология мировой экономик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ровая 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учает экономические закономерности взаимодейств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циональных экономик: движение потоков товаров, услуг и платежей; экономическ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итику, регламентирующую эти потоки и их воздействие на общественн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лагосостоя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тлич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микро- и макроэкономики от мировой экономик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ли в микроэкономике товаром признается любая полезна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щь, а произведенные товары включаются в валовой внутренний продукт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циональный доход, то в мировой экономике пополняй вещ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втоматически не приобретает статус товар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нутри национальной экономики происходит свободное пере­мещение тру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капитала, что приводит к сглаживанию различий ме­жду регионами.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ировой экономике иммиграционные законы и дру­гие барьеры существен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держивают выравнивание ставок зарплат между странам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Tahoma"/>
              </a:rPr>
              <a:t>1.3. Россия и мировое экономическое сообщество</a:t>
            </a:r>
            <a:br>
              <a:rPr sz="4000"/>
            </a:b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сто современной России в мире до сих пор определяется со­ветским прошлы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ССР был изолированной супердержавой с невы­соким уровнем жизни, с команд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дминистративной экстенсивной экономикой, что приводило к низ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курентоспособности товаров и замедлению темпов экономического рос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 1992 г. задача интеграции с мировым экономическим сообще­ством для Росс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ешла в практическую плоскость. Отношения СССР с миром носили идеолог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арактер. Сотрудничество со­циалистическими странами и рядом стран третьего ми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оилось на внеэкономической основе. Контакты с развитыми странами были весьм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граниченны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ах социалистической системы ослабил позиции России в мире. По уровню ВНП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чете на душу населения Россия значительно ус­тупает развитым странам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носится к странам с доходом ниже сред­него уровня. В эту группу входят стра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атинской Америки, Африки, Азии и Арабского Востока. Мы считаем Россию вели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ержавой, а она по многим параметрам относится к развивающимся странам. Эт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акт определяет место и роль России в мировом хозяйстве. Вхождение в рыноч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кономику было осложнено глубоким эко­номическим кризисом, охвативш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се постсоциалистическое про­странств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оссия утратила рынки сбыта бывшего СЭВ. Дезинтеграция разрушила всю систем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озяйственных связей, произошло обвальное сокращение товарооборота межд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спубликами бывшего СССР. Внешняя торговля стран СНГ переориентировалась 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альнее зару­бежь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ана понесла крупные потери в производстве и экспорте. Все эт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сложнялось большим внешним долгом, отсутствием таможенной границы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сутствием эффективного валютного и экспортного контро­л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оссия вступила в МВФ, МБРР, подала заявку на вступление во Всемир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орговую организаци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этому важнейшей задачей России становится восстановл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кономической интеграции в рамках СНГ. Этот процесс происходит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ьшими трудностя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сле обесценивания рубля по отношению к доллару в 1998 году и рос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ировых цен на энергоносители в экономике страны начинает­с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сстановление импортозамещающих отраслей с одновременным рост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ходов за счет экспорта энергоносителей. Но рост доходов в стране ведет 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сстановлению импорта, что замедляет экономиче­ское восстановл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храняется зависимость от мировых цен на энергоносител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1:11:54Z</dcterms:created>
  <dc:creator>User 2006</dc:creator>
  <dc:description/>
  <dc:language>en-US</dc:language>
  <cp:lastModifiedBy>LEGION</cp:lastModifiedBy>
  <dcterms:modified xsi:type="dcterms:W3CDTF">2016-01-05T11:06:13Z</dcterms:modified>
  <cp:revision>5</cp:revision>
  <dc:subject/>
  <dc:title>Глава 1. Введение в курс мировой экономики. 1.1. Мировая экономика как составная часть экономической теории.</dc:title>
</cp:coreProperties>
</file>