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6F15-B676-4D40-8FB1-FA09090709F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ВАЛЮТНЫЙ КУР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денежной массы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ые ставки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е ожидания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льдо торгового баланса страны с внешним ми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формирование валютного курс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ВП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ъем денежной массы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нтные ставки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фляционные ожидания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альдо торгового баланса страны с внешним мир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chael Mussa (1979) “Empirical Regularities in the Behavior of Exchange Rates and Theories of the Foreign Exchange Market”, Carnegie Rochester Conference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Michael Mussa (1979) “Empirical Regularities in the Behavior of Exchange Rates and Theories of the Foreign Exchange Market”, Carnegie Rochester Conference Se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ая троица (impossible trin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ован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движени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ая кредитно-денеж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мобильности капитала фиксация валютного курса ограничивает свободу маневра в кредитно-денежной политике в целях поддержания внутреннего равновесия в от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возможная троица (impossible trinity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иксированный валютный кур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вободное движение капита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зависимая кредитно-денежная поли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условиях мобильности капитала фиксация валютного курса ограничивает свободу маневра в кредитно-денежной политике в целях поддержания внутреннего равновесия в открыт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бзоры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rueger A. (1983) “Exchange-Rate Determination”, Cambridge: Cambridge University P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rno L., Taylor M. (2002) “The Economics of Exchange Rates”, Cambridge: Cambridge University P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Обзоры исследова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Krueger A. (1983) “Exchange-Rate Determination”, Cambridge: Cambridge University Pr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Sarno L., Taylor M. (2002) “The Economics of Exchange Rates”, Cambridge: Cambridge University Pr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как экономическая катего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валютных курсов в мировых валютных системах: историческая ретросп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обменный курс: основные 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. 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 ле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как экономическая категор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ормирование валютных курсов в мировых валютных системах: историческая ретроспекти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обменный курс: основные опреде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. 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как экономическая катег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– это соотношение между национальной и иностранными валютами, определяемое их покупательной способностью и рядом други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мо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ьная способность (стоимостное соотношение) как основной фактор, определяющий равновес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ние значения ряда других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как экономическая категор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– это соотношение между национальной и иностранными валютами, определяемое их покупательной способностью и рядом других факто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лючевые момент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купательная способность (стоимостное соотношение) как основной фактор, определяющий равновесный валютный кур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ние значения ряда других фактор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ческая ретросп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историческая ретроспекти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ческая ретросп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историческая ретроспекти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тет покупательной способности  (PPP) – соотношение двух валют по их покупательной спосо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й ПП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APPP = Pf/ Pd                     (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ый ПП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PPP = I (Pf) / I (Pd)           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ритет покупательной способности  (PPP) – соотношение двух валют по их покупательной способ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бсолютный ПП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APPP = Pf/ Pd                     (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носительный ПП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RPPP = I (Pf) / I (Pd)           (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инальный валютный курс (e) – относительная цена валют двух стран, или валюта одной страны, выраженная в денежных единицах друго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данного курса е определяется как количество единиц национальной валюты за единицу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минальный валютный курс (e) – относительная цена валют двух стран, или валюта одной страны, выраженная в денежных единицах другой стран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амках данного курса е определяется как количество единиц национальной валюты за единицу иностранной валю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валютный курс – рыночное соотношение, в котором товары одной страны могут быть проданы в обмен на товары другой страны, или относительная цена товаров, произведенных в дву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= e  * Pf/Pd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.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= e  *APPP                       (3.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альный валютный курс – рыночное соотношение, в котором товары одной страны могут быть проданы в обмен на товары другой страны, или относительная цена товаров, произведенных в двух страна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R = e  * Pf/Pd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3.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R = e  *APPP                       (3.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9BA17-0F18-4DEF-818E-7239190A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6840E-0BB1-4D45-B313-6E92A3A0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F9B13-2557-4195-8206-584B10BA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F819C-2C3F-46FD-A0DB-4F4675CF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D22FF-BBC5-4263-943B-5153EDCB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FC4F8-99A6-4A27-9E81-F39CC6E1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4D51A-0805-46D8-9157-6F812000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5D88C-2D3E-4EC7-A602-9E00914C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08F5D-41EF-4FF5-A7F1-0E74C861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35138-975F-4CA5-912C-BD64CC86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38F74-C9A2-4801-BA3E-AFB01DE9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2CF70-747C-47BF-8164-2A3E61BA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D0BD5-F435-4894-AC36-757F0812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1422B-0CD9-4C79-A13E-9D35E320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A6DEC-0120-41CC-A40E-1E57AB7A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53B42-0921-41E8-B478-CA3E770D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9FD4B-6D73-4D2A-B84C-BB56FC04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3F6A5-1142-4F8C-B3A8-11C1E8AE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A913B-EC8B-4057-9E34-0340704C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64135-A910-482F-BAC6-EC097AB2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26C0F-5046-488E-AFAB-7860D6B2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8E21D-32B4-498E-88EA-43B91910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82FBF-5993-47E3-AA61-638F56DC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49C62-3708-477A-A147-9A9812C2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F7A2D-8E62-4868-AB10-1D5B3AED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8258E-475D-492D-8E5A-A327A947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2E228-1547-4F72-8BB4-E79CB828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8B118-9812-4D97-9395-0356317F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C4945-E2D2-42A6-80CC-B309EF90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52EE6-AA87-4EE7-8EBA-10DB2BF7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3B10E-37B5-4AF5-99C1-54701CA8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764B1-D774-47C0-96D9-3A4E122D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7C775-0047-4E49-94F0-77992D3D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9C113-A883-4695-970E-CD245287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E862D-CE9D-4A03-BE82-FBBB2AF5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F09E8-0A62-455A-A22F-AB909919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F9AAF-3C89-42B8-82CE-7DBB2F23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DC105-3E04-487A-A670-847F68B4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8C3E5-BB37-4704-A8C5-C6E32743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27FDF-2783-474C-985B-F579A4EB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DD5D5-0489-4FD4-AB76-B6DFF105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312C2-DCCC-4CC8-AA6F-279EE564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31DBE-90EE-4248-B0CF-CD489316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779BD-04CC-4992-94BA-275FA0CC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E4809-DACC-4241-9F9E-85B8303A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AB89-4859-4E32-909B-95006874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27C0E-B907-4DEA-ACC8-AEAF2966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648D3-F36A-4547-9EF8-32A904B9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E3C4-16B1-403B-A358-2B03BC4E7C0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D303-6013-4C67-B973-CE06CE50D3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1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828A-7761-4917-B10E-A2760494AA1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7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8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83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7565-D6A4-439E-B637-41373D8846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ВАЛЮТНЫЙ КУРС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Факторы, влияющие на формирование валютного курса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ВП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ъем денежной массы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центные ставки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фляционные ожидания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альдо торгового баланса страны с внешним мир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Факторы, влияющие на формирование валютного кур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hael Mussa (1979) “Empirical Regularities in the Behavior of Exchange Rates and Theories of the Foreign Exchange Market”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arnegie Rochester Conference Se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ы валютных курсов в современном мире: классификация МВФ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70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иксированный режи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change Arrangements with No Separate Legal Ten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urrency Board Arrangem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her Conventional Fixed Peg Arrangem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ы валютных курсов в современном мире: классификация МВФ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межуточные режимы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gged Exchange Rates with Horizontal Ba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wling Pe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change Rates within Crawling Ba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ы валютных курсов в современном мире: классификация МВФ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ибкие режимы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naged Floating with No Pre-announced Path for the Exchan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pendent Floa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 валютного курса и национальная кредитно-денежная политик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возможная троица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ossible trinit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иксированный валютный кур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вободное движение капита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зависимая кредитно-денежная полит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 условиях мобильности капитала фиксация валютного курса ограничивает свободу маневра в кредитно-денежной политике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 целях поддержания внутреннего равновесия в открытой экономик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бзоры исследован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rueger A. (1983) “Exchange-Rate Determination”, Cambridge: Cambridge University P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rno L., Taylor M. (2002) “The Economics of Exchange Rates”, Cambridge: Cambridge University P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План лек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лютный курс как экономическая категор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ормирование валютных курсов в мировых валютных системах: историческая ретроспекти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ПС, номинальный и реальный обменный курс: основные определ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акторы, влияющие на формирование валютного кур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жимы валютных курсов в современном мире: классификация МВФ. Режим валютного курса и национальная кредитно-денежная полит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Валютный курс как экономическая категор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алютный курс – это соотношение между национальной и иностранными валютами, определяемое их покупательной способностью и рядом других фактор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лючевые моменты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купательная способность (стоимостное соотношение) как основной фактор, определяющий равновесный валютный курс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знание значения ряда других фактор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Валютный курс в мировых валютных системах:</a:t>
            </a:r>
            <a:br>
              <a:rPr sz="3200"/>
            </a:b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историческая ретроспектив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1600200"/>
          <a:ext cx="8229600" cy="3465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лютная сис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жим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ариж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ебание валютных курсов вокруг валютных паритетов в пределах золотых точе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енуэз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ебание валютных курсов вокруг валютных парит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Валютный курс в мировых валютных системах:</a:t>
            </a:r>
            <a:br>
              <a:rPr sz="3200"/>
            </a:b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историческая ретроспектив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57200" y="1600200"/>
          <a:ext cx="8229600" cy="4535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лютная сис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жим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реттон-Вуд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ебание валютных курсов вокруг валютных паритетов, согласованных странами членами МВ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май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жим валютного курса устанавливается странами-членами МВФ самостоятель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ритет покупательной способности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PPP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соотношение двух валют по их покупательной способ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Абсолютный ПП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P = 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 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(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тносительный ПП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PPP = I (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/ I (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          (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оминальный валютный курс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e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относительная цена валют двух стран, или валюта одной страны, выраженная в денежных единицах другой стра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рамках данного курса е определяется как количество единиц национальной валюты за единицу иностранной валю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альный валютный курс – рыночное соотношение, в котором товары одной страны могут быть проданы в обмен на товары другой страны, или относительная цена товаров, произведенных в двух стран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= e  * 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3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= e  *APPP                       (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Line 48"/>
          <p:cNvSpPr/>
          <p:nvPr/>
        </p:nvSpPr>
        <p:spPr>
          <a:xfrm flipV="1">
            <a:off x="349236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Line 49"/>
          <p:cNvSpPr/>
          <p:nvPr/>
        </p:nvSpPr>
        <p:spPr>
          <a:xfrm>
            <a:off x="3492360" y="3068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Line 50"/>
          <p:cNvSpPr/>
          <p:nvPr/>
        </p:nvSpPr>
        <p:spPr>
          <a:xfrm flipV="1">
            <a:off x="5580000" y="3644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Line 51"/>
          <p:cNvSpPr/>
          <p:nvPr/>
        </p:nvSpPr>
        <p:spPr>
          <a:xfrm>
            <a:off x="5580000" y="4365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Line 52"/>
          <p:cNvSpPr/>
          <p:nvPr/>
        </p:nvSpPr>
        <p:spPr>
          <a:xfrm flipV="1">
            <a:off x="7667640" y="501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Line 53"/>
          <p:cNvSpPr/>
          <p:nvPr/>
        </p:nvSpPr>
        <p:spPr>
          <a:xfrm>
            <a:off x="7667640" y="5661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6:19Z</dcterms:modified>
  <cp:revision>12</cp:revision>
  <dc:subject/>
  <dc:title>PowerPoint Presentation</dc:title>
</cp:coreProperties>
</file>