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DC96-29D3-41F2-A23A-4505DE8944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П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ая троица (impossible trin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движ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возможная троица (impossible trinit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иксирован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движение капит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зоры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Обзоры исследо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мо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лючевые момент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PPP = Pf/ Pd                    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PPP = I (Pf) / I (Pd)          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APPP = Pf/ Pd                     (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ель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PPP = I (Pf) / I (Pd)           (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 Pf/Pd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APPP                       (3.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 Pf/Pd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3.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APPP                       (3.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3E3C-CB5A-4638-B507-D41AC5D9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C37C-FD83-41DE-B122-731836EA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CE1B-7659-42C2-B2DB-22B7F223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A41F-E1AE-4EB6-AA1A-C835D7B1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0CA74-D0B8-437A-A275-7C712172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39E0C-B268-4554-BDE0-3900775E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3B0F2-0C15-44B8-A32B-FC2EE4D1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C401F-81AD-4EF0-B672-FC781D91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912B3-4CC1-46B3-A882-9CA06B45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814DA-FB16-4C80-B5A3-4C27C56A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7134B-8355-4B96-B737-DDCC326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A9DD-E2E6-4679-BA1F-5168D333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AD18E-9419-4929-9AD1-6B6BBE5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211C1-22FD-45F4-94B9-2DFE900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0744-2B11-4784-8263-1F88FB9C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4D779-6A75-4ECA-8A61-9CB30E2E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00DAC-B1C3-4CCE-8766-F9A1ABB6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230D-14BB-4387-9B02-0A3D5AEF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98D1-1434-473B-9DD4-A6B03A80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A70E-AED5-4D5D-8E73-54A7A6B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63E5-81F1-431F-A04C-FF070BC0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7E3E-9AE1-454E-90DE-B0D9FCBA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B0D3-F503-4975-824F-48E9DB7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A4AB-841B-4210-A0C1-F5EA92EA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9AED-ED25-4EB4-A01A-358E6BE4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E91B-9551-4BA2-B2D3-330C0C7E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9590-7683-486F-8D41-0DA47772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EB96-DF74-4E78-B0A2-6E855634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066E-3018-4613-97B7-9BAE762B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58FC-3B00-4B45-99FB-0081BD95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C473-056D-4AF2-B2AC-C785B677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8585-343A-46FD-AB69-81885497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6D6A-459F-483B-B685-74DBA825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5A49-99EF-4A5A-86C6-55DAB144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D8B6-AE11-4375-96AD-6F925B91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E57D-D7EF-4BD0-A050-8F97AED9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FA6B-57D0-4CFB-813B-C860CC55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D951-08F0-4DE9-936F-C662E42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0C36-EEFF-42C0-BEDA-D8D2A49C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E0F9-D287-4335-A2B4-C3945420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3284-8FED-4184-9157-8D903C1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56282-1A1A-4EB7-A295-D696F750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3EA2-981D-4923-AEC1-B4DD59FD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BF6E-774D-47B8-BE32-E18F7E07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6249-DF26-4242-85FD-6B1794F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5E35-DDBE-4242-B196-5595F121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11B8-8680-4D6E-B13A-0F772ABC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61BA-D788-441A-AF31-40B9B32C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31FC-A460-44F3-953B-E36DEA68D11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9740-9F28-46A6-BA33-CE41AF6EB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DFCF-65BD-441C-973C-E2F8B4563D5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39BF-66CA-4AE2-9A35-F7BBE5A50A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ВАЛЮТНЫЙ КУР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П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денежной массы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нтные ставки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ляционные ожидания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льдо торгового баланса страны с внешним ми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Mussa (1979) “Empirical Regularities in the Behavior of Exchange Rates and Theories of the Foreign Exchange Market”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negie Rochester Conferenc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ксированный реж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Arrangements with No Separate Legal Te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rency Board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her Conventional Fixed Peg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ежуточны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gged Exchange Rates with Horizontal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wling Pe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Rates within Crawling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бки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aged Floating with No Pre-announced Path for the Ex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pendent Flo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 валютного курса и национальная кредитно-денежная полити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возможная троица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le trin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ксированный валютный ку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ободное движение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условиях мобильности капитала фиксация валютного курса ограничивает свободу маневра в кредитно-денежной политике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целях поддержания внутреннего равновесия в открытой экономи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зоры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ueger A. (1983) “Exchange-Rate Determination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no L., Taylor M. (2002) “The Economics of Exchange Rates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лек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лютный курс как экономическая катего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ПС, номинальный и реальный обменный курс: основные опреде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кторы, влияющие на формирование валютного кур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лютный курс как экономическая катег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ючевые мо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ние значения ряда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346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 в пределах золотых точ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уэз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реттон-Вуд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, согласованных странами членами МВ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май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 устанавливается странами-членами МВФ самостоя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итет покупательной способност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PPP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соотношение двух валют по их покупательной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бсолют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P =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носитель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PPP =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/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          (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минальный валютный кур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относительная цена валют двух стран, или валюта одной страны, выраженная в денежных единицах друго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3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APPP                       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Line 48"/>
          <p:cNvSpPr/>
          <p:nvPr/>
        </p:nvSpPr>
        <p:spPr>
          <a:xfrm flipV="1">
            <a:off x="3492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9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5580000" y="36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558000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52"/>
          <p:cNvSpPr/>
          <p:nvPr/>
        </p:nvSpPr>
        <p:spPr>
          <a:xfrm flipV="1">
            <a:off x="766764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766764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19Z</dcterms:modified>
  <cp:revision>12</cp:revision>
  <dc:subject/>
  <dc:title>PowerPoint Presentation</dc:title>
</cp:coreProperties>
</file>