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DA50-FCC6-45CE-9434-64DAE822EE5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и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одная л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отношения и валютные систе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водная лекц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 ле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 Российской Федер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новные формы международных экономических связ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овы основные формы международных экономических связей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роизводны по отношению к основным формам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ни производны по отношению к основным формам международных экономических отно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(региональная)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ая валютная систе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ждународная (региональная) валютная систе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EE05-BD24-4253-B3D4-88ECA83F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7080-7EB9-4309-A4C1-BB930348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41DE-AD4B-4103-AAC6-8D5FAF97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57FE-3B8F-4160-BD40-B2BA5E94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EB33-C1AD-41BC-864E-79433DBF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0D57-2D20-4270-89AF-B6DD13FE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2200-84D5-4E75-A8D5-A533B21A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A857-5687-499C-9ADC-C83B48D3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8341-DCA0-4DFD-873D-2B1BB66B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1549-E919-4D72-BE84-7478F249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76A4-6CAC-4BEF-8E9C-B5B8AFB0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5B20-24CC-476B-B270-179489BB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EB4C-EB8C-46F0-A5E8-3E40876D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97C4-3FA9-48E1-88E3-56ACE588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5AFF-D42B-48E3-9452-948775B8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A63C-CBAB-4565-A399-48206FF3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9070-5D87-4ECE-A0AC-93255D48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A513-D951-4C3F-BF76-0FD5B0C5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9E4B-4157-413A-A059-945D75F1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2D88-34E6-423B-B9A5-4A90D721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0849-911C-409A-96B7-17886FF1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1D7-0301-4011-864F-BAA6C04B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0F37-E5CD-4210-82C7-AEC6C416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7CE9-7340-46E4-9CBC-EA25C723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DFCA-A65A-4CAE-867D-D51407B7F5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A724-7163-4E76-937F-29705C95245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Валютные отношения и валютные системы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водная лек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600200"/>
          <a:ext cx="8229600" cy="4916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национального валютного рынка и рынка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мировых валютных рынков и рынков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9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ые органы, обслуживающие и регламентирующие валютные отношения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организации, осуществляющие межгосударственное валютное регулиро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br>
              <a:rPr sz="40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Oval 4"/>
          <p:cNvSpPr/>
          <p:nvPr/>
        </p:nvSpPr>
        <p:spPr>
          <a:xfrm rot="21468600">
            <a:off x="826560" y="2349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вы основные формы международных экономических связ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Oval 8"/>
          <p:cNvSpPr/>
          <p:nvPr/>
        </p:nvSpPr>
        <p:spPr>
          <a:xfrm>
            <a:off x="5148360" y="2492280"/>
            <a:ext cx="2736720" cy="30974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Oval 9"/>
          <p:cNvSpPr/>
          <p:nvPr/>
        </p:nvSpPr>
        <p:spPr>
          <a:xfrm rot="21468600">
            <a:off x="1042560" y="2565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2916360" y="2565000"/>
            <a:ext cx="324000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3348000" y="3068280"/>
            <a:ext cx="216072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12"/>
          <p:cNvSpPr/>
          <p:nvPr/>
        </p:nvSpPr>
        <p:spPr>
          <a:xfrm flipV="1">
            <a:off x="3564000" y="3645000"/>
            <a:ext cx="1584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13"/>
          <p:cNvSpPr/>
          <p:nvPr/>
        </p:nvSpPr>
        <p:spPr>
          <a:xfrm flipV="1">
            <a:off x="3564000" y="4220640"/>
            <a:ext cx="15843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3276720" y="486900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производны по отношению к основным формам международных экономических 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лютная сист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ров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ждународная (региональная)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3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 СТРУКТУРНЫЕ ЭЛЕМЕНТЫ ВАЛЮТНОЙ СИСТЕМ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                   МИРО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валю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зервные валюты, международные счетные денежные единиц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епень конвертируемости национальной валю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словия взаимной конвертируемости валю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600200"/>
          <a:ext cx="8229600" cy="4819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аритет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цированный режим валютных парит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курса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режимов валютных курс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7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ая валютная ликвидность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международной валютной ликвид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600200"/>
          <a:ext cx="8229600" cy="5092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алютные огранич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валютных ограниче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кредитные средства обращения, регламентация правил их исполь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правил использования международных кредитных средств обращ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основных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6:25Z</dcterms:modified>
  <cp:revision>5</cp:revision>
  <dc:subject/>
  <dc:title>PowerPoint Presentation</dc:title>
</cp:coreProperties>
</file>