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24EB-3AE0-43BC-88E4-BCF45ADB5D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ая 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D6B-C303-4E61-AA9B-EEAB3C6D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A4E-42E3-472A-9884-70677BAC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11D-C333-4160-AA0F-F56710D3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3981-489E-45C1-972B-4F6CAD9F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1A8A-FB87-4B3A-8BB0-4E627C6C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B4CA-8CD6-474F-BE60-CA0EB482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F8D9-1D89-46E3-BCB9-865F48EF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553A-DCD1-4D7F-AE75-13F2F3F6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F439-5FBC-4171-BD40-F9736777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E0AD-C255-41A3-8536-C1B79863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1D21-95D7-4CB7-8C75-A977FDC1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1F8-8D08-48A1-8493-989045C7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9A0C-FE73-4F5F-942C-E72DC9B0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CDB2-9D1E-4A84-AD9E-E09D9539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436E-F336-4342-885D-9B55B6EB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5FA3-2448-4E83-8EC0-A62D1E8F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BE77-D5AB-42B9-8CD1-4CCFD46F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AA3-728C-4FA4-8A8A-A634D00D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754F-73C8-4AA1-8355-899F43FC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AA4-6CD9-4C69-A042-92F7E96E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3A6-DBE2-441C-849A-26AC482B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0CE-B737-449D-B86E-85F296D0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68D-A278-457A-887D-59F9D2BB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3577-4ABE-4B01-B064-84968C54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829B-ED66-474E-9E3D-54C2CB7707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17FC-67B7-4A4A-89BB-A6E30E41DC9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Валютные отношения и валютные системы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национального валютного рынка и рынка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мировых валютных рынков и рынков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9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ые органы, обслуживающие и регламентирующие валютные отношения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организации, осуществляющие межгосударственное валютное регулиро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br>
              <a:rPr sz="40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 rot="21468600">
            <a:off x="826560" y="2349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5148360" y="2492280"/>
            <a:ext cx="2736720" cy="30974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Oval 9"/>
          <p:cNvSpPr/>
          <p:nvPr/>
        </p:nvSpPr>
        <p:spPr>
          <a:xfrm rot="21468600">
            <a:off x="1042560" y="2565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2916360" y="2565000"/>
            <a:ext cx="32400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3348000" y="3068280"/>
            <a:ext cx="2160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3564000" y="3645000"/>
            <a:ext cx="1584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3564000" y="4220640"/>
            <a:ext cx="158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276720" y="486900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3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СТРУКТУРНЫЕ ЭЛЕМЕНТЫ ВАЛЮТНОЙ СИСТЕ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                   МИР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валю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ервные валюты, международные счетные денежные едини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пень конвертируемости национальной валю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ловия взаимной конвертируемости вал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ритет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цированный режим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курса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режимов валютных кур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7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ая валютная ликвидность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международной валютной ликвид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9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лютные ограни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валютных огранич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кредитные средства обращения, регламентация правил их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правил использования международных кредитных средств обращ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основных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25Z</dcterms:modified>
  <cp:revision>5</cp:revision>
  <dc:subject/>
  <dc:title>PowerPoint Presentation</dc:title>
</cp:coreProperties>
</file>