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20A2-A357-479D-B623-9277AD3520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056-3F5E-4293-A681-EF050EF3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DEE-9A52-4D23-8D06-A05894B8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17F-43A7-4B96-84DB-53275B36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73E-30CE-4140-A22F-4DD72220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717C-3A2B-499D-922C-4D1FB2A0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806-6AFF-4830-AE59-2BA11BBD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A6CC-3938-4B1C-A6FA-DDF8FE5A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6980-9DCD-485E-93BC-8E0DE0B7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B249-5408-4A93-AAA9-3D2C79C4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CBA8-CE00-4012-9CA3-D0D87E3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379B-9075-49AE-AE9B-9DE323C0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1C7-F6F5-4EF2-904C-90C5F415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A9A4-BE95-4024-9180-0FFF97A3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8915-7003-41A6-86A1-647D5FED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6467-4405-4D98-B556-94DF55ED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1E76-0497-49D1-B632-87C8AAC3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33C2-5307-4FC9-A408-0FACCDB8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0EE-BB50-41D1-8FB3-BE40C711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591-4AF4-4CA9-8C57-DFD5566C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8D7-C33D-449A-8BD9-ACC45875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463-9DAC-4A38-BC2A-2A249296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F9E-26A0-41E8-A9BD-E856FA6F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248-4F03-4508-8CDD-ED7D5AC8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2B1-73E8-440E-80A3-B6C0819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83E7-602E-416C-879D-6CBE290526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44D9-7760-4D7F-9D3C-457A25FF7E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25Z</dcterms:modified>
  <cp:revision>5</cp:revision>
  <dc:subject/>
  <dc:title>PowerPoint Presentation</dc:title>
</cp:coreProperties>
</file>