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0D2A-A23D-4209-B2CA-3B33DC8D18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B086-C5D9-4BC9-A24D-7815DEE62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2395-2FB5-4301-8CB1-7B5213AF7D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к человеческое “я” есть деятель, который, может быть, биллионы лет назад вёл жизн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тон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том, объединив вокруг себя несколько электронов, усвоил тип жизн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слород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ем, усложнив ещё более своё тело, поднялся до типа жизни, например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сталл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од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лее перешёл к жизн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дноклеточного живот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– после ряда перевоплощений, или, лучше [сказать], выражаясь термином Лейбница, после ряда метаморфоз – стал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человеческим “я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9C72-3A73-4954-958D-D24E562FEA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EE25-C91E-4AA8-A0E6-230FF38E0F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806A-F988-48CA-9859-85D8383B40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. Франк 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дмет знания: Об основах и пределах отвлечённого знани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ша человека: Опыт введения в философскую психологи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ховные основы общества: Введение в социальную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постижимое: Онтологическое введение в философию религ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9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117E-49F4-4EA4-8CD9-23569DC0CB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Металогическое единство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543A-627C-43C6-A878-91D4BF8B41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Живое знание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9600-D442-4B37-93D1-648FAD223D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0E12-17DF-4634-A220-9136DF3422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50C6-9816-4241-83E8-33FF840559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детерм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D3A6-95EB-4EF9-9E5E-A1358B4C13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овечная борьба добра и з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13BB-D450-403B-9B11-D66182E499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8A21-02E7-4E11-8C40-95A04EA884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Ересь утопизм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17AE-8B68-4984-88FF-911808CB1E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99AC-C4F0-4AF3-8E7A-E2B06E57FF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DA31-21B6-4438-90DF-C63BBE3866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. О. Лосский: органический идеал-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вида инту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как органическое 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 Л. Фр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е ед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Живое зн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детерми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Вековечная борьба добра и з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ресь утопиз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7C4B-8BCD-4E17-B192-14AE79BD4F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. Лосский (1870-1965)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рганический идеал-реализ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интуитивизм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0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увственная, интеллектуальная и мистическая интуиц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 и мировое зло: Основы теодице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4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ловия абсолютного добра: Основы этик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4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E33D-5821-4E6D-A20A-2115401215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9332-4CD8-437E-A948-7F85DB4780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ческая координ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FA32-E3CA-40EC-8571-62DF59C4B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вида интуи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448D-C43B-484A-96AE-FF245680F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1DED-1866-4D39-89E1-2A97C59E38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00A-B59D-4173-B2B6-BFD9C0C4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57D-FA07-4930-A412-AADACF4C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C84-97DB-48FD-A381-90B6AE67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CC2-323E-48C1-B0FE-99FBF809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65F0-92F8-4690-8717-E2A4DBC6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003-C2A7-4DA5-94F1-97ECCAC2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DE2-F000-44E9-8A9C-F3F5A4E9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499-112E-465F-A91F-B0ADAC55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773F-BA04-45DE-9DCA-D3C0B0A0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FF1-343D-463A-A577-516D9151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339-F4A3-4553-8A04-79B7C895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023-7906-4ACB-A82A-DB00BC9B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8ABC-9C39-4D46-9DE5-373115D961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2214720"/>
            <a:ext cx="8201160" cy="19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человеческое “я” есть деятель, который, может быть, биллионы лет назад вёл жизн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тон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ом, объединив вокруг себя несколько электронов, усвоил тип жизн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ислор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ем, усложнив ещё более своё тело, поднялся до типа жизни, например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ристал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 перешёл к жизн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ноклеточного живот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– после ряда перевоплощений, или, лучше [сказать], выражаясь термином Лейбница, после ряда метаморфоз – ста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еловеческим “я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21589901"/>
          <p:cNvPicPr/>
          <p:nvPr/>
        </p:nvPicPr>
        <p:blipFill>
          <a:blip r:embed="rId1"/>
          <a:stretch/>
        </p:blipFill>
        <p:spPr>
          <a:xfrm>
            <a:off x="5937120" y="1619280"/>
            <a:ext cx="117180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19851724"/>
          <p:cNvPicPr/>
          <p:nvPr/>
        </p:nvPicPr>
        <p:blipFill>
          <a:blip r:embed="rId2"/>
          <a:stretch/>
        </p:blipFill>
        <p:spPr>
          <a:xfrm>
            <a:off x="7521480" y="24829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19930693"/>
          <p:cNvPicPr/>
          <p:nvPr/>
        </p:nvPicPr>
        <p:blipFill>
          <a:blip r:embed="rId3"/>
          <a:stretch/>
        </p:blipFill>
        <p:spPr>
          <a:xfrm>
            <a:off x="6081840" y="3201840"/>
            <a:ext cx="96192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25722158"/>
          <p:cNvPicPr/>
          <p:nvPr/>
        </p:nvPicPr>
        <p:blipFill>
          <a:blip r:embed="rId4"/>
          <a:stretch/>
        </p:blipFill>
        <p:spPr>
          <a:xfrm>
            <a:off x="7556400" y="384984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24795109"/>
          <p:cNvPicPr/>
          <p:nvPr/>
        </p:nvPicPr>
        <p:blipFill>
          <a:blip r:embed="rId5"/>
          <a:stretch/>
        </p:blipFill>
        <p:spPr>
          <a:xfrm>
            <a:off x="6153120" y="4857840"/>
            <a:ext cx="88596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Диоген (clipart)"/>
          <p:cNvPicPr/>
          <p:nvPr/>
        </p:nvPicPr>
        <p:blipFill>
          <a:blip r:embed="rId6"/>
          <a:stretch/>
        </p:blipFill>
        <p:spPr>
          <a:xfrm>
            <a:off x="7556400" y="5218200"/>
            <a:ext cx="1238400" cy="1224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ерцание других су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и, какими они яв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 по себе, возмож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есть некое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ознающий субъек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ьное человеческое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е сверхвременно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рхпространственное быт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сно связанное с целым мир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ая от времен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ранства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не 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язь сверхвременных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пространственных деятел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 с друго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благодаря котор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ереживает один деяте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воё проясн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не только для н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для других деятелей всего ми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 Франк (1877‑19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5480" y="2769840"/>
            <a:ext cx="550692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мет знания: Об основах и пределах отвлечённого зна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ша человека: Опыт введения в философскую психолог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ые основы общества: Введение в социальную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остижимое: Онтологическое введение в философию рели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Франк СЛ (1)"/>
          <p:cNvPicPr/>
          <p:nvPr/>
        </p:nvPicPr>
        <p:blipFill>
          <a:blip r:embed="rId1"/>
          <a:stretch/>
        </p:blipFill>
        <p:spPr>
          <a:xfrm>
            <a:off x="539640" y="1798560"/>
            <a:ext cx="25956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2" name="Text Box 7"/>
          <p:cNvSpPr/>
          <p:nvPr/>
        </p:nvSpPr>
        <p:spPr>
          <a:xfrm>
            <a:off x="4497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ое определённо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ожно мыслить лишь в е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отнесённости с каким-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 соотнесённость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едполагает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а они я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ленами некоего объемл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а,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оторое должно мыслить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определённым, «трансцендент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о искомое единство не вмещ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амки логической системы имен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сам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 возможности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таковое оно «мета-логично», точнее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еталогическое единство»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ли «Всееди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еталогическое един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 и предмет знания существуют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должны мыслиться на фоне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ъемлющего их «металогического единства»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не противостоит бытию, 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ключено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сознанию противостоит лишь «предметны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ир» – область «объективируемого», но подли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ытие не знает раздвоения на субъект и пред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ует отлич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ческое «предметное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действительности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абстрактное» знание логических связе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ежд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лементами действительности 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ив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деальное знание приводит в систему данн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пыта, но это единство рационально и статич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есть лишь «бледный намёк»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логичес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, открывающееся в «живом зн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Живое зн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знаваемый мир со всех сторон окружён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ёмной бездной непостижимого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едует отличать «непостижимое для нас»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кантовская «вещь в себе»)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епостижимого в его самобыт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читать эту исконную таинственность быт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едствием нашей ограниченной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сприятия – значит упростить проблем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звести тайну на уровень неразрешимой шар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огда, под предлогом «непостижимости»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абсолютного быти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ок выхолости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 глубинное из предметного мир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гонит его в прокрустово ложе своих катего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bregno_monument_of_cardinal_nicola_de_cusa"/>
          <p:cNvPicPr/>
          <p:nvPr/>
        </p:nvPicPr>
        <p:blipFill>
          <a:blip r:embed="rId1"/>
          <a:stretch/>
        </p:blipFill>
        <p:spPr>
          <a:xfrm>
            <a:off x="539640" y="2266920"/>
            <a:ext cx="2428920" cy="3181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3835800" y="2360520"/>
            <a:ext cx="44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Непостижимое постигается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средством его непости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761800" y="46782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колай Куз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5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постижимое есть не только то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то было, есть и будет, оно есть скор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чник бытия;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, чем бытие: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енциальность, или св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аиболее явное проявлени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постижимого в мире само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етерминизм означ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пределённость одной определё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определённостью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о если глубина личности есть внутренне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наружение Непостижимого, то мы получа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пределённость определё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пределённостью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у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етерм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вобода воли дел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чески реаль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изически невозможное –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граниченность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лы всемогущего (Божественный Свет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 смог просветить душу Иу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о нельзя объяснить;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го и не нужно объяснять: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«объяснить зло» значило бы «оправдать зло», но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пустимо только такое толкование зла, котор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вляется 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личением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а не оправд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этому нет никаких гарантий для торжества начал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бра и разума: борьба между добром и злом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ковечна, более тог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ет смысл совершенн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зависимо от веры в конечную победу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ад з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пасение мира возможно лишь силой божественной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благодати, но это отнюдь не снимает обяза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ершенствования мир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создания в нём таких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словий, при которых зло свелось бы к миниму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ковечная борьба добра и з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165480" y="1870200"/>
            <a:ext cx="3238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0-1965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 Фран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Лосский (1-2)"/>
          <p:cNvPicPr/>
          <p:nvPr/>
        </p:nvPicPr>
        <p:blipFill>
          <a:blip r:embed="rId1"/>
          <a:stretch/>
        </p:blipFill>
        <p:spPr>
          <a:xfrm>
            <a:off x="647640" y="1906560"/>
            <a:ext cx="231480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8" descr="Франк СЛ (1)"/>
          <p:cNvPicPr/>
          <p:nvPr/>
        </p:nvPicPr>
        <p:blipFill>
          <a:blip r:embed="rId2"/>
          <a:stretch/>
        </p:blipFill>
        <p:spPr>
          <a:xfrm>
            <a:off x="6656400" y="3057480"/>
            <a:ext cx="183816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днако, возможное «совершенствование» мир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 наше врем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меняетс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тремлением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 метафизически невозможному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лами человеческими «спасению»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ак возник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ересь утопизма»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– стремлени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«спасти мир» установлением неко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го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удительно осуществляемого поря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 спасти мир принуждением невозможно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так как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пытки построить идеальный мир наталкиваю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а сопротивление человеческой природы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ходится прибегать к жестоким ме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 результате вместо положительног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роен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ового мира на практик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рушаетс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тарый ми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Ересь утопиз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нешняя сфера социальности («общественности»)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ывае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оборности»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первич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лидарной слитности индивидуальных “я”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 всеобъемлющем “мы”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е ес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сто множественное число от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в своём основном и первичном смысле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обще не может иметь множественного числа) –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единств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, следовательно, не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ич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социального быт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(столь ж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ерви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ак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), в которой преодолевае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тивопоставленность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бор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“мы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епосредствен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раже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в соци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892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. О. Лосский: органический идеал-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вида инту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как органическое 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 Л. Фр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е ед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Живое зн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детерми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Вековечная борьба добра и з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ресь утопиз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. Лосский (1870-196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ганический идеал-реа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8560" y="2769840"/>
            <a:ext cx="48942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основание интуитивизм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увственная, интеллектуальная и мистическая интуиц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мировое зло: Основы теодице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абсолютного добра: Основы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русск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Лосский (1-2)"/>
          <p:cNvPicPr/>
          <p:nvPr/>
        </p:nvPicPr>
        <p:blipFill>
          <a:blip r:embed="rId1"/>
          <a:stretch/>
        </p:blipFill>
        <p:spPr>
          <a:xfrm>
            <a:off x="5505480" y="1798560"/>
            <a:ext cx="32670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5"/>
          <p:cNvSpPr/>
          <p:nvPr/>
        </p:nvSpPr>
        <p:spPr>
          <a:xfrm>
            <a:off x="9716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е подобно не «психическому вместилищу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е предмет должен «попасть»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ть «осознанным», а 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оточию луч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енных на участки бытия и их освещ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этой направленности на предм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енциональности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познавательного 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знавательном акте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ич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предм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своей подлинност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его «копия», «отражение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ъективное преломление»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имеет не опосредован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посредствен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уитив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отношение субъект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 всем другим сущностям в мир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торое делает интуицию возмож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носеологическая координ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менно гносеологическая координац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не гносеологическая суб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а – предмету или предмета – субъект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ой закон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этом сама гносеологическая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лишь частный (гносеологический) аспе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ости друг другу всех индивидуаль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«субстанциальных деятеле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ниверсальность 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единосущных» субстанциальных деятеле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ующ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как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онтологическую основу интуитив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ческая коорд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298620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91456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вида инту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358920" y="514512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материальные качества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898560" y="3525840"/>
            <a:ext cx="467820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ектуальн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мир и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438200" y="1906560"/>
            <a:ext cx="3598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тическ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Абсолю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864040" y="1906560"/>
            <a:ext cx="297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уитивный характе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ого ак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олее чистом ви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наруж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лучаях, ког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метом я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ьное быти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идей, чужое «я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едельных случаях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бсолю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благий, всемогущ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здесущий Бо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ил мир как систему сущ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айшее значение которой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а состоит из сущ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ых творить с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лостивейшей помощ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очайшее благ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жественную полноту жизн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личности способны к этому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творит только лич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ый субстанциальный деяте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развиваться и поднима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 более высокие ступени бы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части творчески вырабатыв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части подражательно усваи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более сложные типы жиз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05:42:15Z</dcterms:created>
  <dc:creator>Николай Бирюков / Nikolai Biryukov</dc:creator>
  <dc:description>Версия мая 2007 г.</dc:description>
  <dc:language>en-US</dc:language>
  <cp:lastModifiedBy>LEGION</cp:lastModifiedBy>
  <dcterms:modified xsi:type="dcterms:W3CDTF">2014-11-11T12:46:26Z</dcterms:modified>
  <cp:revision>56</cp:revision>
  <dc:subject>История русской философии - Лекция 13</dc:subject>
  <dc:title>Русский интуитивизм</dc:title>
</cp:coreProperties>
</file>