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F45C-A1A3-4747-B496-1E5BE8BAE7A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— закрепленная в международных соглашениях форма организации валютно-финансовых отношений, функционирующих самостоятельно или обслуживающих международное движение товаров и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— способность резидентов и нерезидентов свободно, без ограничений, обменивать национальную валюту на иностранную и использовать иностранную валюту в сделках с реальными и финансовыми акти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 разделяется на внутреннюю и внешню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утренняя конвертируемость — право резидентов покупать, иметь и совершать операции внутри страны с активами в форме валюты и банковских депозитов, переведенных в иностранную валюту. Внутренняя конвертируемость относится к сделкам между резидентами внутри своей стран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пропорциональный обмен одной национальной валюты на другую путем купли-продаж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играет важную роль в развитии экономики страны, поскольку оказывает непосредственное влияние на выбор такой структуры производства и потребления, экспорта и импорта, которая приносит максимальную прибыл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завышенном валютном курсе внутренние цены страны оказываются выш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ижение курса валюты, его заниженность по сравнению с ее реальной покупательной способностью приводит к тому, что внутренние цены государства оказываются ниже мировы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ествуют три основные системы валютных к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Фиксированная. При такой системе государство устанавливает золотое или долларовое содержание националь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Свободная плавающая. Курс национальной валюты в этом случае складывается в зависимости от изменения соотношения спроса и предложения на нее на валютных рынках и не предполагает вмешательства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Управляемая плавающая. При этой системе при внешнем сохранении плавающей системы государство влияет на формирование курса национальной валюты через ЦБ, который сглаживает колебания курса путем покупки и продажи валюты на валютных рынк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олотой стандарт — международная валютная система, основанная на официальном закреплении странами золотого содержания в единице национальной валюты с обязательством центральных банков покупать и продавать национальную валюту в обмен на золото. Золотой стандарт в международной валютной системе существовал дважды — с 1880 по 1914 г., и с 1925 по 1931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 Международный валютный фонд (МВФ) был создан в июле 1944 г. по решению конференции ООН. Его местонахождение — Вашингт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Ф — крупнейший кредитор мира. В настоящее время в его состав входят около двухсот стран, почти все страны мирового сообщества. Кредиты МВФ предоставляются в иностранной валюте для выравнивания платежных балансов государств-член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институтом регулирования международных валютно-финансовых отношений, кроме МВФ, является Всемирный банк (ВБ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Б состоит из нескольких учреждений, главным из которых является Международный банк реконструкции и развития (МБРР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Валютная система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кредит как разновидность экономической категории «кредит» представляет собой движение ссудного капитала в сфере международных экономических отношений, связанное с предоставлением валютных и товарных ресурсов на условиях возвратности, срочности, обеспеченности и уплаты процен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черты современного развития международного креди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ое стимулирование экспор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правительственное регулирование экспортного кредит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предоставление кредитов в валютах третьих стран (например, в евро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(МВФ) — это международная валютно-кредитная организация, имеющая статус специализированного учреждения ОО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жнейшим направлением деятельности МВФ являются его кредитные операции, осуществляемые только с официальными органами стран-членов (казначействами, центральными банками, стабилизационными фондами), их можно разделить на два вид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ные операции деля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в пределах резервной позиции страны в МВФ: для покрытия дефицита платежного баланса страна может получить кредит в иностранной валюте в обмен на национальную сроком до 3 — 5 лет, при этом погашение кредита производится обратным путем — посредством покупки национальной валюты на свободно конвертируемую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, предоставляемые сверх резервной доли; в этом случае кредит может быть выдан только после предварительного изучения валютно-экономического положения страны и выполнения ею требований МВФ о проведении стабилизационных ме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ой рынок ссудных капиталов — это рынок, на котором осуществляются международные кредитные операции, его эволюция связана с процессом интернационализации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жно выделить две составляющие мирового рынка ссудных капиталов: рынок «иностранных кредитов и займов», охватывающий международные операции на национальных рынках ссудных капиталов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стемы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ный рынок (еврорынок), на котором совершаются безналичные депозитно-кредитные операции в иностранных валютах за пределами стран — эмитентов этих валю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нешняя торговля — это торговля между странами, состоящая из вывоза (экспорта) и ввоза (импорта) товаров и услуг. Внешняя торговля осуществляется преимущественно через коммерческие сделки, оформляемые внешнеторговыми контракт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 — это предоставление кредитных средств в денежной или товарной форме на определенный срок для осуществления внешнеторговых операц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ы кредитования внешней торговли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оринговые услуги, представляющие собой финансирование под уступку денежных требова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форфейтинге используется экономический инструмент акцептованный вексель, или тратт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консенсуальным и носит организационный характер, поскольку сначала в договоре оговаривается, 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— это статистическая система, в которой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, в течение определенного периода времен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ляемые по методике 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текущие и капитальные трансфер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кущие трансферты увеличивают уровень располагаемого дохода и потребления товаров и услуг получателя и уменьшают располагаемый доход и потенциальные возможности потребления донора, например гуманитарная помощь в форме потребительских товаров и услу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питальные трансферты приводят к изменению в объеме активов или обязательств донора и получателя и отражаются в счете операций с капиталом. Пример капитальных трансфертов — безвозмездная передача прав собственности на основные фонды, прощение долг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должником и кредиторо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долг бывших социалистических и развивающихся стран приходится 140 млрд долл. США. Основные заемщики — это Куба, Монголия, Вьетнам, Индия, Ливия и др.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касается роли должника, то Россия как правопреемница СССР по его зарубежным активам и пассивам — СССР привлекал среднесрочный и долгосрочный иностранный капитал преимущественно в форме экспортных кредитов — взяла на себя обязательства по обслуживанию внешнего долга ССС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лагается комплексное решение проблемы внешней задолже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 счет возврата средств, незаконно вывезенных за рубеж; по оценке экспертов, это примерно 500 — 700 млрд. долл., которые хранятся в американских банках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шению задачи активного участия России в мировых интеграционных процессах в значительной степени способствует дальнейшее углубление торгово-экономических отношений с Европейским Союзом. Фундаментом этих отношений является Соглашение о партнерстве и сотрудничестве, Стратегия развития отношений Российской Федерации с ЕС на среднесрочную перспективу (2000 — 2010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цессы, происходящие в банковской системе, наиболее хорошо наблюдаемы и одновременно очень тонко отражают состояние экономики в цело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 Сбербанка России как главного банка, обслуживающего население стран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ктронные ресур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в широком смысле слова — любой товар, способный выполнять денежную функцию средства обмена на международной арене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разделяется в зависимости от ее принадлежности: на национальную валюту — законное платежное средство на территории выпускающих ее стран (доллар в США, рубль в России); иностранную валюту — платежное средство других стран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о-кредитные и финансовые отношения — составная часть и самая сложная сфера рыночного хозяйства. В них фокусируются проблемы национальной и мировой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 — это форма организации и регулирования валютных отношении, закрепленная национальным законодательством или межгосударственными соглашениям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РФ понимаетс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ходящиеся в обращении, а также изъятые или изымаем из обращения, но подлежащие обмену рубли в виде банковских билетов (банкнот) Центрального банка РФ и монет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 заключаемого Правительством РФ и Центральным банком РФ с ответствующими органами иностранного государ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ая систем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 валютная система — форма организации валютных отношений страны, закрепленна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ой национальной валютной системы выступает установленная законом денежная единица государства. В России это российский рубль, введенный в обращение в 1993 г. и заменивший рубль ССС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базируется на функции мировых денег. Они служат мировым платежным средством, мировым покупательным средством и материальным воплощением общественного богат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лементами мировой валютной системы являются определенный набор платежных средств, валютные курсы и валютные паритеты и т.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AEA-9804-4754-AD9D-4E3A8063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430-6C4E-4091-BFAC-47A896ED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0E3-A09D-4CA8-A011-6B63291B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E27-3549-4470-9D5C-865650FA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71E7-DA3E-4044-8F0A-762FEF57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C6B1-CF55-4E12-8C6A-82D348CC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1DE6-463D-459C-805F-8CB1A4F6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05C4-D915-4775-99BA-CDCB25B1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3D75-6BE4-46E4-A4AF-55AEF01F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B8D6-F7AC-4D5D-B8F8-94D9BF1D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D788-01A9-4162-8F7B-17205D0A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51F-0074-4F30-8B5E-53C75257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9313-0344-4C53-8568-78692D2C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F725-BCD9-4AE9-A741-72538DA2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7380-62A6-418C-BB52-5343D379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7EFD-950D-4595-9FEA-9A01F45E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9228-986F-41CB-A44C-C9020002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311-965F-440A-A658-E356D7E5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8D8-D714-433A-B46D-E24C58A3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795-5A19-4E5B-B05A-51D99698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7FC-8D84-40DB-8E77-C0505F48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3B87-C3A9-42DA-A715-0C4B1A4F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A27-6E10-4B84-A79D-AB4BD307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774C-81F2-49A9-B7A0-50A8CACF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6ACF-37BA-4E65-B570-C2232BAD4F46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1387-20E8-490A-89D4-D96EEFB4832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 и международные кредитные отношения.</a:t>
            </a:r>
            <a:endParaRPr b="0" lang="en-US" sz="5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770580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Международная валют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закрепленная в международных соглашения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орма организации валютно-финансовых отнош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ункционирующих самостоятель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ли обслуживающих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ое движение товаров и 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6470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способность резидентов и нерезидентов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свободн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без ограничений, обменивать национальную валюту на иностран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использовать иностранную валюту в сделках с реальными и финансовыми актив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онвертируемость валю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разделяе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 внутреннюю и внешню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1933560"/>
            <a:ext cx="820908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 резиден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окупа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иметь и совершать операции внутри стра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 активам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форме валюты и банковских депозит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ереведенных в иностранную валю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нутренняя конвертируем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ится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к сделкам между резидентами внутри своей стра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онвертируемость валют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454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опорциональный обмен одной национальной валюты на другую путем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купли-продаж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лютный кур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грает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важную 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развитии экономики страны, поскольку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оказывает непосредственное влия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 выбор такой структуры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производства и 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экспорта и им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которая приносит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аксимальную прибыль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вышенном валютном курс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нутренние цены страны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оказываются выше мировы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нижение курса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заниженность по сравнению с ее реальной покупательной способностью приводит к тому, </a:t>
            </a: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что внутренние цены государства оказываются ниже мировы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416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ществуют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три основные системы валютных курс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иксированна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При такой системе государств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устанавливает золотое или долларовое содержание национальной денежной един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ый курс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вободн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урс национальной валюты в этом случае складывается в зависимости от изменения соотношения спроса и предложения на нее на валютных рынка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не предполагает вмешательства государ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правляемая плавающ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При этой системе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ри внешнем сохранении плавающей системы государство влияет на формирование курса национальной валюты через ЦБ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который сглаживает колебания курса путем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купки и прода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ы на валютных рынк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истемы валютного курс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олотой стандар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снованна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 официальном закреплении странами золотого содержания в единице национальной валю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обязательством центральных банков покупать и продавать национальную валюту в обмен на золото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Золотой стандарт в международной валютной системе существовал дважды — с 1880 по 1914 г., и с 1925 по 1931 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777708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2106360"/>
            <a:ext cx="777744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 создан в июле 1944 г. по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решению конференции ООН. Его местонахождение — Вашингт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ВФ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упнейший кредитор ми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 настоящее время в его состав входят около двухсот стран, почти все страны мирового сообщества.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Кредиты МВФ предоставляются в иностранной валюте для выравнивания платежных балансов государств-член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3640" y="2249280"/>
            <a:ext cx="845964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жнейши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ститутом регулирования международных валютно-финансовы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шений, кроме МВФ, является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семирный банк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ВБ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Б состоит из нескольких учрежде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главным из которых является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(МБРР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934560" y="333360"/>
            <a:ext cx="8029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99"/>
                </a:solidFill>
                <a:latin typeface="Tahoma"/>
              </a:rPr>
              <a:t>Международные валютные организации и Московская межбанковская валютная бирж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345440" cy="46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Валютная система Российской Федерации</a:t>
            </a:r>
            <a:endParaRPr b="0" lang="en-US" sz="6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е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3399"/>
                </a:solidFill>
                <a:latin typeface="Tahoma"/>
              </a:rPr>
              <a:t>Международные кредитные отношен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333000"/>
            <a:ext cx="8029440" cy="12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2006280"/>
            <a:ext cx="80643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кредит как разновидность экономической категории «кредит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ет собой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вижение ссудного капитала в сфере международных экономических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связанное с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м валютных и товарных ресурсов на условиях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вратности, срочности, обеспеченности и уплаты процен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890360"/>
            <a:ext cx="784872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Характерные черты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современног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звития международного креди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тимулирование экспор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правительственное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регулирование экспортного кредитов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ориентация ряда стран от кредитования экспорта в национальных валютах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едоставление кредитов в валютах треть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например, в евро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80280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еждународный валютный фонд (МВФ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международная валютно-кредитная организац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имеющая статус специализированного учреждения ООН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Важнейшим направлением деятельности МВФ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ег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редитны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уществляемые только с официальными органами стран-членов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казначействами, центральными банками, стабилизационными фондами), их можно разделить на два вид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ные операции деля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едиты, предоставляемые в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еделах резервной пози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ы в МВФ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для покрытия дефицита платежного баланс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ана может получить кредит в иностранной валюте в обмен на национальную сроком до 3 — 5 лет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ри этом погашение кредита производится обратным путем — посредством покупки национальной валюты на свободно конвертируемую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кредиты,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предоставляемые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верх резервной доли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; в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этом случае кредит может быть выдан только после предварительного изучения валютно-экономического положения стран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и выполнения ею требований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ВФ о проведении стабилизационных мер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ущность и классификация международного креди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280" y="-360"/>
            <a:ext cx="8425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онятие, эволюция и структура мирового рынка ссудных капита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ировой рынок ссудных капитало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рынок, на котором осуществляются международные кредитные опе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его эволюция связана с процессом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интернационализации хозяйственной жизн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выделить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ве составляющие мирового рынка ссудных капитало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иностранных кредитов и займов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»,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хватывающи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международные операции на национальных рынк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судных капитал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125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Валютная систе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Национальная, мировая, международная валютные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Конвертируемость валю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Валютный кур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Системы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Международные валютные организации и Московская межбанковская валютная бир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7" action="ppaction://hlinksldjump"/>
              </a:rPr>
              <a:t>Задачи к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8" action="ppaction://hlinksldjump"/>
              </a:rPr>
              <a:t>Тест к 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евровалютный рын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еврорынок), на котором совершаются безналичные </a:t>
            </a:r>
            <a:r>
              <a:rPr b="0" lang="ru-RU" sz="3200" spc="-1" strike="noStrike">
                <a:solidFill>
                  <a:srgbClr val="ffcf01"/>
                </a:solidFill>
                <a:latin typeface="Tahoma"/>
              </a:rPr>
              <a:t>депозитно-кредитн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ции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 иностранных валютах за пределами стран — эмитентов этих валю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4759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нятия, эволюция и структура мирового рынка ссудных капиталов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2007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79898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это торговля между странами, состоящая из вывоза (экспорта) и ввоза (импорта)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нешняя торговл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существляется преимущественно через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оммерческие сдел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оформляемые внешнеторговыми контрак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редитование внешней торговл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это предоставление кредитных средств в денежной или товарной форме на определенный сро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осуществления внешнеторговых операц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560" y="2249280"/>
            <a:ext cx="8713800" cy="40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Формы кредитования внешней торговли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Факторинговы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услуги, представляющие собой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финансирование под уступку денежных требован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992240"/>
            <a:ext cx="842472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форфейтинг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ется экономический инструмент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акцептованный вексель, или тратт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говор о форфейтинге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консенсуаль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носит организационный характер, поскольку сначала в договоре оговаривается,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какие векселя банк принимает к форфейтингу, в какие сроки, по какой ставке они учитываются, а уже потом передается конкретный, вексе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едитование внешней торговл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98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латежный баланс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статистическая 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система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й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отражаются все международные операции страны в форме соотношения валютных поступлений из-за границы и платежей, произведенных данной страной другим страна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в течение определенного периода времен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ляемые по методике </a:t>
            </a: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МВФ платежные балансы включают не только поступления и платежи, которые фактически осуществлены, но и будущие платежи по международным требованиям и обязательства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латежном балансе также разграничиваются </a:t>
            </a:r>
            <a:r>
              <a:rPr b="0" lang="ru-RU" sz="2800" spc="-1" strike="noStrike">
                <a:solidFill>
                  <a:srgbClr val="1c1c1c"/>
                </a:solidFill>
                <a:latin typeface="Tahoma"/>
              </a:rPr>
              <a:t>текущие и капитальные трансфер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екущие трансфер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величивают уровень располагаемого дохода и потребления товаров и услу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олучател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уменьшают располагаемый доход и потенциальные возможности потребления дон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пример гуманитарная помощь в форме потребительских товаров и услу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тальные трансферт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приводят к изменению в объеме активов или обязательств донора и получателя и отражаются в счете операций с капита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ример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питальных трансфертов —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безвозмездная передача прав собственности на основные фонды, прощение долг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0560" y="404280"/>
            <a:ext cx="81741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3548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ссия является одновремен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жником и кредитором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долг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ывших социалистических и развивающихся стран приходится 140 млрд долл. США.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Основные 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заемщик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— это Куба, Монголия, Вьетнам, Индия, Лив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др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касается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роли должн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о Россия как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авопреемниц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 его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зарубежным активам и пассива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— СССР привлекал среднесрочный и долгосрочный иностранный капитал преимущественно в форме экспортных кредитов —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зяла на себя обязательства по обслуживанию внешнего долга СССР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690560"/>
            <a:ext cx="799308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Международные кредитные отнош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Сущность и классификация международного креди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Понятия, эволюция и структура мирового рынка ссудных капитал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ование внешней торгов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тёжный баланс: понятие и основные составляющ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блема внешней задолженности Росс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писок литератур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и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ст к те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Международные кредитные отнош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агается комплексное </a:t>
            </a:r>
            <a:r>
              <a:rPr b="1" lang="ru-RU" sz="3200" spc="-1" strike="noStrike">
                <a:solidFill>
                  <a:srgbClr val="33cc33"/>
                </a:solidFill>
                <a:latin typeface="Tahoma"/>
              </a:rPr>
              <a:t>решение проблем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внешней задолжен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 счет возврата средств, незаконно вывезенных за рубеж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по оценке экспертов, это примерно 500 — 700 млрд. долл., которые хранятся в американских банка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 внешней задолженности Росс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9200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33640"/>
            <a:ext cx="8642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ешению задачи активного участия России в мировых интеграционных процессах</a:t>
            </a:r>
            <a:r>
              <a:rPr b="0" lang="ru-RU" sz="2800" spc="-1" strike="noStrike">
                <a:solidFill>
                  <a:srgbClr val="ffcf01"/>
                </a:solidFill>
                <a:latin typeface="Tahoma"/>
              </a:rPr>
              <a:t> в значительной степени способствует дальнейшее углубление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оргово-экономических отношений с Европейским Союзо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Фундаментом этих отношений яв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оглашение о партнерстве и сотрудничеств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тратегия развития отношений Российской Федерации с ЕС на среднесрочную перспективу (2000 — 2010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7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Процессы, происходящие в банковс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систе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наиболее хорошо наблюдаемы и одновременно очень </a:t>
            </a:r>
            <a:r>
              <a:rPr b="0" lang="ru-RU" sz="3200" spc="-1" strike="noStrike">
                <a:solidFill>
                  <a:srgbClr val="33cc33"/>
                </a:solidFill>
                <a:latin typeface="Tahoma"/>
              </a:rPr>
              <a:t>тонко отражают состояние экономики в цел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мотрим международную экономическую деятельность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Сбербанка России как главного банка, обслуживающего население стра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еждународное экономическое сотрудничество в современных услови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483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исок литерату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71280" y="1125360"/>
            <a:ext cx="7561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крёстова Л.В. Финансы и кредит: учеб. пособие для студ. сред. проф. учеб. Заведений/ Л.В. Перекрёстова.  – М.: Академия, 2006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ергеев Е.Ю. Международные экономические отношения: Курс лекций. – М.: Информационно-внедренческий центр «Маркетинг», 2000. С. 2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онова И.Н. Валютный рынок и валютное регулирование / И. Н. Платонов – М.: БЕК, 199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Электронные ресур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лютная система РФ: [Электронный ресурс] / Электрон. ст. – Режим доступа к ст.:  http://www.bankreferatov.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кредитные отношения: [Электронный ресурс] / Электрон. ст. – Режим доступа к ст.: http://www.5ballov.ru/referats/p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оссар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ест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к т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765000"/>
            <a:ext cx="6870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120" y="1699920"/>
            <a:ext cx="8642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широко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мысле слова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любой товар, способный выполнять денежную функцию средства обмена на международной арен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разделяется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зависимости от ее принадлеж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на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законное платежное средство на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территории выпускающих ее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доллар в США, рубль в России);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иностранную валю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платежное средств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других стра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онно или незаконно используемое на территории данной страны (доллар в России, рубль на Украине, латы в Латвии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136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Международные валютно-кредитные и финансовые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составная часть и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самая сложная сфера рыночного хозяй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В них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фокусируются проблемы национальной и мировой эконом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это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и регулирования валютных отношен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циональным законодательством или межгосударственными соглашени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81764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2400" spc="-1" strike="noStrike">
                <a:solidFill>
                  <a:srgbClr val="ffcf01"/>
                </a:solidFill>
                <a:latin typeface="Tahoma"/>
              </a:rPr>
              <a:t>Под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валютой РФ понимаетс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аходящиеся в обращении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, а также изъятые или изымаем из обращения, </a:t>
            </a: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но подлежащие обмену рубли в виде банковских билетов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(банкнот) Центрального банка РФ и монеты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и иных кредитных учреждениях в РФ;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ahoma"/>
              </a:rPr>
              <a:t>средства в рублях на счетах в банках и иных кредитных учреждениях за пределами РФ на основании соглашения,</a:t>
            </a: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 заключаемого Правительством РФ и Центральным банком РФ с ответствующими органами иностранного государства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алютная систе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7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Национальн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—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форма организации валютных отношений стран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закрепленная национальным законодательством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сновой национальной валютной системы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ступает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установленная законом денежная единица государ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В России это российский рубль, введенный в обращение в 1993 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и заменивший рубль ССС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сылка на тек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ировая валютная систем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базируется на функции мировых дене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Они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служат мировым платежным средством, мировым покупательным средством и материальным воплощением общественного богатст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Элементами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являются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определенный набор платежных средств, валютные курсы и валютные паритет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т.д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ациональная, мировая, международная валютные системы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22:22Z</dcterms:created>
  <dc:creator>USER</dc:creator>
  <dc:description/>
  <dc:language>en-US</dc:language>
  <cp:lastModifiedBy>LEGION</cp:lastModifiedBy>
  <dcterms:modified xsi:type="dcterms:W3CDTF">2016-01-05T11:06:38Z</dcterms:modified>
  <cp:revision>13</cp:revision>
  <dc:subject/>
  <dc:title>Валютная система Российской Федерации и международные кредитные отношения.</dc:title>
</cp:coreProperties>
</file>