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70B5-E476-42B4-9A2F-088A379348D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F2E-BDA3-4D53-80AF-8BB0E9F5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3B7-6E17-472E-BA26-5931F8DE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3F1-CFDC-4A05-83CE-18E9A6FB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627-DA1A-4CBD-9A24-3922E380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0835-B54C-431D-B050-9DC1A31C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88A4-D078-4379-891F-80D92028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D54D-FC24-4B32-9458-BF3310F8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3081-5718-4601-A728-4197FEA7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D49D-80DD-4693-9D33-C0FD4705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64CE-F8DB-4E5B-A0CA-16DD2CA7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7AD5-F50E-4C1E-99EE-716A8F95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232-D2D9-4559-82DB-B5902A71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CD2C-6DA2-4701-B9BE-0F3B2033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C020-F09C-48C1-9829-6300C355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C5AC-CC80-45FA-8346-115160B7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CA3D-3F00-4BC5-B78F-FD4383B4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44CB-595B-4F19-A5BF-DC12838F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96D-0B74-44FF-957A-E73F46BC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A73-B819-4DD2-8C55-18A73B70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E46-0746-4AA8-879D-43908900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8F3-F94A-46C9-94AD-65F89AE6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C5A-D5C9-4C70-9820-D8E585F2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9D1-D51E-4A33-9634-99C164FD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FEF-49EA-44D1-8367-AF314DD7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8120-5858-4957-A4E2-37F424A702C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5481-45F2-4300-A520-57D197F3FDD3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5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770580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еждународная валют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закрепленная в международных соглашения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орма организации валютно-финансов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ункционирующих самостоятель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обслуживающи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ое движение товаров и факторов производст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64706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способность резидентов и нерезидентов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свобод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без ограничений, обменивать национальную валюту на иностранну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использовать иностранную валюту в сделках с реальными и финансовыми актив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деляе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на внутреннюю и внешню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1933560"/>
            <a:ext cx="820908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 резиден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окупа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иметь и совершать операции внутри стра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 активам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форме валюты и банковских депози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ереведенных в иностранную валют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си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 сделкам между резидентами внутри своей стра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3454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опорциональный обмен одной национальной валюты на другую путем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купли-продаж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грает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важную ро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развитии экономики страны, поскольку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оказывает непосредственное влия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выбор такой структуры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производства и потребл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экспорта и им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которая приносит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аксимальную прибыл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и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вышенном валютном курс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нутренние цены страны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казываются выше мировы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онижение курса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го заниженность по сравнению с ее реальной покупательной способностью приводит к тому,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что внутренние цены государства оказываются ниже мировы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93280" cy="14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1280" y="1988640"/>
            <a:ext cx="7416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ествуют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ри основные системы валютных курс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иксирован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При такой системе государств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устанавливает золотое или долларовое содержание национальной денежной един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93280" cy="12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вободн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урс национальной валюты в этом случае складывается в зависимости от изменения соотношения спроса и предложения на нее на валютных рынка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е предполагает вмешательства государ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правляем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При этой системе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ри внешнем сохранении плавающей системы государство влияет на формирование курса национальной валюты через Ц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торый сглаживает колебания курса путем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купки и продаж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алюты на валютных рынка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истемы валютного курс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олотой стандар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снованна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на официальном закреплении странами золотого содержания в единице национальной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обязательством центральных банков покупать и продавать национальную валюту в обмен на золото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Золотой стандарт в международной валютной системе существовал дважды — с 1880 по 1914 г., и с 1925 по 1931 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77708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2106360"/>
            <a:ext cx="777744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 создан в июле 1944 г. по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решению конференции ООН. Его местонахождение — Вашингто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ВФ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упнейший кредитор ми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 настоящее время в его состав входят около двухсот стран, почти все страны мирового сообщества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едиты МВФ предоставляются в иностранной валюте для выравнивания платежных балансов государств-член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3640" y="2249280"/>
            <a:ext cx="845964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жнейши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ститутом регулирования международных валютно-финансов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шений, кроме МВФ, является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семирный банк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ВБ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Б состоит из нескольких учрежд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главным из которых является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еждународный банк реконструкции и развития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(МБРР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934560" y="333360"/>
            <a:ext cx="8029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34544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Международные кредитные отношени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63640" y="333000"/>
            <a:ext cx="802944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0920" y="2006280"/>
            <a:ext cx="80643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кредит как разновидность экономической категории «кредит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ставляет собой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вижение ссудного капитала в сфере международных экономических 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связанное с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м валютных и товарных ресурсов на условия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озвратности, срочности, обеспеченности и уплаты процен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890360"/>
            <a:ext cx="784872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арактерные черты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современного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развития международного креди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судар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тимулирование экс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жправитель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регулирование экспортного кредитова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 кредитов в валютах треть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например, в евро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0280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международная валютно-кредитная организац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имеющая статус специализированного учреждения ОО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жнейшим направлением деятельности МВФ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ег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редитные опер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уществляемые только с официальными органами стран-член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казначействами, центральными банками, стабилизационными фондами), их можно разделить на два вид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ные операции деля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ы, предоставляемые в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еделах резервной пози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ы в МВФ: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для покрытия дефицита платежного балан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а может получить кредит в иностранной валюте в обмен на национальную сроком до 3 — 5 лет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и этом погашение кредита производится обратным путем — посредством покупки национальной валюты на свободно конвертируемую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2133720"/>
            <a:ext cx="813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кредиты,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предоставляемые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верх резервной доли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; в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этом случае кредит может быть выдан только после предварительного изучения валютно-экономического положения страны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и выполнения ею требований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ВФ о проведении стабилизационных мер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9280" y="-360"/>
            <a:ext cx="8425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ировой рынок ссудных капитал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рынок, на котором осуществляются международные кредитные операци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его эволюция связана с процессо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тернационализации хозяйственной жизн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выделить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ве составляющие мирового рынка ссудных капитал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иностранных кредитов и займов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»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хватывающи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ые операции на национальных рынка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судных капитало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Валютная систе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Национальная, мировая, международная валютные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Конвертируемость валю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Валютный кур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Системы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6" action="ppaction://hlinksldjump"/>
              </a:rPr>
              <a:t>Международные валютные организации и Московская межбанковская валютная бир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7" action="ppaction://hlinksldjump"/>
              </a:rPr>
              <a:t>Задачи к тем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8" action="ppaction://hlinksldjump"/>
              </a:rPr>
              <a:t>Тест к тем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вровалютный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еврорынок), на котором совершаются безналичные 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депозитно-кредитн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пераци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иностранных валютах за пределами стран — эмитентов этих валю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2007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7989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торговля между странами, состоящая из вывоза (экспорта) и ввоза (импорта)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существляется преимущественно через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оммерческие сдел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формляемые внешнеторговыми контрак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редитование внешней торговл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это предоставление кредитных средств в денежной или товарной форме на определенный ср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осуществления внешнеторговых операц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560" y="2249280"/>
            <a:ext cx="87138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Формы кредитования внешней торговли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акторингов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слуги, представляющие собо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инансирование под уступку денежных требова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992240"/>
            <a:ext cx="842472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форфейтинг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ется экономический инструмент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акцептованный вексель, или трат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консенсуальны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носит организационный характер, поскольку сначала в договоре оговаривается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58988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латежный баланс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это статистическая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истема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оторой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 течение определенного периода времен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ляемые по методике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</a:t>
            </a:r>
            <a:r>
              <a:rPr b="0" lang="ru-RU" sz="2800" spc="-1" strike="noStrike">
                <a:solidFill>
                  <a:srgbClr val="1c1c1c"/>
                </a:solidFill>
                <a:latin typeface="Tahoma"/>
              </a:rPr>
              <a:t>текущие и капитальные трансфер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екущие трансфер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величивают уровень располагаемого дохода и потребления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олучател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меньшают располагаемый доход и потенциальные возможности потребления дон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апример гуманитарная помощь в форме потребительских товаров и услу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апитальные трансфер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риводят к изменению в объеме активов или обязательств донора и получателя и отражаются в счете операций с капита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мер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питальных трансфертов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безвозмездная передача прав собственности на основные фонды, прощение долг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0560" y="404280"/>
            <a:ext cx="81741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354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жником и кредитором</a:t>
            </a:r>
            <a:r>
              <a:rPr b="1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г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ывших социалистических и развивающихся стран приходится 140 млрд долл. США.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Основные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заемщики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— это Куба, Монголия, Вьетнам, Индия, Лив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др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касается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роли должни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Россия как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преемниц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 его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зарубежным активам и пассива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ССР привлекал среднесрочный и долгосрочный иностранный капитал преимущественно в форме экспортных кредитов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зяла на себя обязательства по обслуживанию внешнего долг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690560"/>
            <a:ext cx="799308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Международные кредитные отнош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Сущность и классификация международного креди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Понятия, эволюция и структура мирового рынка ссудных капитал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еждународные кредитные отнош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91592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агается комплексное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решение пробле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нешней задолжен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 счет возврата средств, незаконно вывезенных за рубеж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по оценке экспертов, это примерно 500 — 700 млрд. долл., которые хранятся в американских банка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9200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033640"/>
            <a:ext cx="86421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ешению задачи активного участия России в мировых интеграционных процессах</a:t>
            </a:r>
            <a:r>
              <a:rPr b="0" lang="ru-RU" sz="2800" spc="-1" strike="noStrike">
                <a:solidFill>
                  <a:srgbClr val="ffcf01"/>
                </a:solidFill>
                <a:latin typeface="Tahoma"/>
              </a:rPr>
              <a:t> в значительной степени способствует дальнейшее углубление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торгово-экономических отношений с Европейским Союзо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Фундаментом этих отношений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оглашение о партнерстве и сотрудничеств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тратегия развития отношений Российской Федерации с ЕС на среднесрочную перспективу (2000 — 2010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7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оцессы, происходящие в банковско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систем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наиболее хорошо наблюдаемы и одновременно очень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тонко отражают состояние экономики в це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Сбербанка России как главного банка, обслуживающего население стра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8483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561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Электронные ресурс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лоссар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6870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120" y="1699920"/>
            <a:ext cx="86425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широко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мысле слова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любой товар, способный выполнять денежную функцию средства обмена на международной арен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разде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зависимости от ее принадлеж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на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законное платежное средство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территории выпускающих ее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доллар в США, рубль в России);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иностран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латежное средств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руг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136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ые валютно-кредитные и финансовые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составная часть 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амая сложная сфера рыночного хозяй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В них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фокусируются проблемы национальной и мировой эконом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и регулирования валютных отношен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циональным законодательством или межгосударственными соглашени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1817640"/>
            <a:ext cx="77724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ffcf01"/>
                </a:solidFill>
                <a:latin typeface="Tahoma"/>
              </a:rPr>
              <a:t>Под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валютой РФ понимаетс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аходящиеся в обращении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, а также изъятые или изымаем из обращения, </a:t>
            </a: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о подлежащие обмену рубли в виде банковских билетов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(банкнот) Центрального банка РФ и монеты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и иных кредитных учреждениях в РФ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заключаемого Правительством РФ и Центральным банком РФ с ответствующими органами иностранного государства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137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валютных отношений стран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национальным законодательство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новой национальной валютной системы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ступает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установленная законом денежная единица государ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России это российский рубль, введенный в обращение в 1993 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и заменивший рубль ССС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иров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базируется на функции мировых дене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Они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лужат мировым платежным средством, мировым покупательным средством и материальным воплощением общественного богат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Элементами мировой валют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пределенный набор платежных средств, валютные курсы и валютные парите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7:22:22Z</dcterms:created>
  <dc:creator>USER</dc:creator>
  <dc:description/>
  <dc:language>en-US</dc:language>
  <cp:lastModifiedBy>LEGION</cp:lastModifiedBy>
  <dcterms:modified xsi:type="dcterms:W3CDTF">2016-01-05T11:06:38Z</dcterms:modified>
  <cp:revision>13</cp:revision>
  <dc:subject/>
  <dc:title>Валютная система Российской Федерации и международные кредитные отношения.</dc:title>
</cp:coreProperties>
</file>