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3AEF-0C9F-4D87-BAF5-66D95CB3141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8A3-D13A-45B9-B90F-983AAA0F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D4F-7DC8-4758-892C-0D1CFE66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E34-3912-4FF7-B613-4A02266D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4E0-23C5-402C-B7D9-76F5F8B6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76C6-4E78-4EB3-A824-0EF41A01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70D6-F3A0-49AC-B1E3-E0A4DEA0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E13C-B597-42EE-B732-2B4F3E78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07BE-743F-4736-8BE8-8697D1DE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C2BF-9DA7-4C5A-B68E-08165A40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E29A-F81A-4E3A-A8C1-6EABBFAC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5A5A-E804-429F-B8C0-FA66C82F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773-8193-44CB-ACF1-663311B6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546C-7C3A-4525-95F8-5C5481F7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0916-F517-45F2-8544-4D3BAAB4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9D2A-02F3-45BB-A4E2-335D685B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8CD2-3D72-47C4-9A45-5634655B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3580-C695-4C50-9458-0F41C47C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3DE-A5BA-460A-8BC8-ED5E0445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D49-DF44-46A0-A708-3E7A70C5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0A3-23EA-448A-8F65-BBD51896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7CE-D7F2-456D-9FDE-B7275262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D80-F383-4A9D-AD18-A492D308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CD9-D529-4AD1-A5B7-2B4CC8D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C48-4EB3-48D8-92A7-FCB36FAC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62FC-E1EA-4A68-8319-0E50AB64EB5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0837-29D1-425C-AC24-140B4B00274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7705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еждународная валют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закрепленная в международных соглашения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орма организации валютно-финансов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ункционирующих самостоятель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обслуживающи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ое движение товаров и 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470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пособность резидентов и нерезидентов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свобод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без ограничений, обменивать национальную валюту на иностранн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использовать иностранную валюту в сделках с реальными и финансовыми актив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деляе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 внутреннюю и внешню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1933560"/>
            <a:ext cx="82090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 резиден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окуп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иметь и совершать операции внутри стра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активам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форме валюты и банковских депози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ереведенных в иностранную валю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и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 сделкам между резидентами внутри своей стра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454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порциональный обмен одной национальной валюты на другую путем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купли-продаж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грает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ажную 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развитии экономики страны, поскольку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оказывает непосредстве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выбор такой структуры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производства и 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экспорта и им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ая приносит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аксимальную прибыл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вышенном валютном курс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нутренние цены страны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казываются выше мировы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нижение курса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заниженность по сравнению с ее реальной покупательной способностью приводит к тому,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что внутренние цены государства оказываются ниже мировы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14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ют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ри основные системы валютных курс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икс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ри такой системе государств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устанавливает золотое или долларовое содержание национальной денежной един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вободн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урс национальной валюты в этом случае складывается в зависимости от изменения соотношения спроса и предложения на нее на валютных рынка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 предполагает вмешательства госуда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правляем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ри этой системе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и внешнем сохранении плавающей системы государство влияет на формирование курса национальной валюты через Ц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й сглаживает колебания курса путем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купки и прода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ы на валютных рынк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истемы валютного курс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олотой стандар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снованна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а официальном закреплении странами золотого содержания в единице национальной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обязательством центральных банков покупать и продавать национальную валюту в обмен на золото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Золотой стандарт в международной валютной системе существовал дважды — с 1880 по 1914 г., и с 1925 по 1931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106360"/>
            <a:ext cx="77774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 создан в июле 1944 г. по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решению конференции ООН. Его местонахождение — Вашингт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ВФ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упнейший кредитор ми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настоящее время в его состав входят около двухсот стран, почти все страны мирового сообщества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едиты МВФ предоставляются в иностранной валюте для выравнивания платежных балансов государств-член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2249280"/>
            <a:ext cx="84596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жнейши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ститутом регулирования международных валютно-финансов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шений, кроме МВФ, является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семирный бан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ВБ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Б состоит из нескольких учрежд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лавным из которых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(МБРР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34560" y="333360"/>
            <a:ext cx="8029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34544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Международные кредитные отноше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63640" y="333000"/>
            <a:ext cx="802944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2006280"/>
            <a:ext cx="8064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кредит как разновидность экономической категории «кредит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собой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вижение ссудного капитала в сфере международных экономически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вязанное с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м валютных и товарных ресурсов на услови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вратности, срочности, обеспеченности и уплаты процен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890360"/>
            <a:ext cx="7848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арактерные черты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современног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азвития международного креди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удар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тимулирование экс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правитель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регулирование экспортного кредит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 кредитов в валютах треть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например, в евро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0280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международная валютно-кредитная организа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меющая статус специализированного учреждения ОО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жнейшим направлением деятельности МВФ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ег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редит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уществляемые только с официальными органами стран-член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азначействами, центральными банками, стабилизационными фондами), их можно разделить на два ви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ные операции деля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ы, предоставляемые в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еделах резервной пози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ы в МВФ: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для покрытия дефицита платежного балан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а может получить кредит в иностранной валюте в обмен на национальную сроком до 3 — 5 лет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и этом погашение кредита производится обратным путем — посредством покупки национальной валюты на свободно конвертируемую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редиты,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предоставляемые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верх резервной доли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; в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этом случае кредит может быть выдан только после предварительного изучения валютно-экономического положения стра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выполнения ею требований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ВФ о проведении стабилизационных мер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842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ировой рынок ссудных капитал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рынок, на котором осуществляются международные кредитные опер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го эволюция связана с процессо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тернационализации хозяйственной жизн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выделить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ве составляющие мирового рынка ссудных капитал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ностранных кредитов и займо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»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хватывающи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ые операции на национальных рынк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судных капитал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алютная систе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Национальная, мировая, международная валютные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Конвертируемость валю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Валютный кур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Системы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Международные валютные организации и Московская межбанковская валютная бир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7" action="ppaction://hlinksldjump"/>
              </a:rPr>
              <a:t>Задачи к 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8" action="ppaction://hlinksldjump"/>
              </a:rPr>
              <a:t>Тест к т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вровалютный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еврорынок), на котором совершаются безналичные 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депозитно-кредит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ераци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иностранных валютах за пределами стран — эмитентов этих валю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200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7989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торговля между странами, состоящая из вывоза (экспорта) и ввоза (импорта)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существляется преимущественно через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ммерческие сдел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формляемые внешнеторговыми контрак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редитование внешней торгов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это предоставление кредитных средств в денежной или товарной форме на определенный ср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осуществления внешнеторговых операц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249280"/>
            <a:ext cx="87138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Формы кредитования внешней торговли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акторингов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слуги, представляющие собо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инансирование под уступку денежны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992240"/>
            <a:ext cx="84247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форфейтинг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ется экономический инструмент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акцептованный вексель, или трат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консенсуаль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носит организационный характер, поскольку сначала в договоре оговаривается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5898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латежный баланс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статистическая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истема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торой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 течение определенного периода време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ляемые по методике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</a:t>
            </a:r>
            <a:r>
              <a:rPr b="0" lang="ru-RU" sz="2800" spc="-1" strike="noStrike">
                <a:solidFill>
                  <a:srgbClr val="1c1c1c"/>
                </a:solidFill>
                <a:latin typeface="Tahoma"/>
              </a:rPr>
              <a:t>текущие и капитальные трансфер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кущие трансфер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величивают уровень располагаемого дохода и потребления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олучател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меньшают располагаемый доход и потенциальные возможности потребления дон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пример гуманитарная помощь в форме потребительских товаров и услу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питальные трансфер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водят к изменению в объеме активов или обязательств донора и получателя и отражаются в счете операций с капита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р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питальных трансфертов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безвозмездная передача прав собственности на основные фонды, прощение дол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560" y="404280"/>
            <a:ext cx="81741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354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жником и кредитором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вших социалистических и развивающихся стран приходится 140 млрд долл. США.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Основные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аемщи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— это Куба, Монголия, Вьетнам, Индия, Лив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др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касается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оли должн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Россия как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преемниц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его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зарубежным активам и пассива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ССР привлекал среднесрочный и долгосрочный иностранный капитал преимущественно в форме экспортных кредитов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зяла на себя обязательства по обслуживанию внешнего долг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690560"/>
            <a:ext cx="7993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Международные кредитные отнош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Сущность и классификация международного кред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Понятия, эволюция и структура мирового рынка ссудных капита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еждународные кредитные отнош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агается комплексное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решени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нешней задолжен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 счет возврата средств, незаконно вывезенных за рубеж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по оценке экспертов, это примерно 500 — 700 млрд. долл., которые хранятся в американских банка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9200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33640"/>
            <a:ext cx="8642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шению задачи активного участия России в мировых интеграционных процессах</a:t>
            </a: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 в значительной степени способствует дальнейшее углублени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оргово-экономических отношений с Европейским Союз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Фундаментом этих отношений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оглашение о партнерстве и сотрудничеств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тратегия развития отношений Российской Федерации с ЕС на среднесрочную перспективу (2000 — 2010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оцессы, происходящие в банковс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систем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иболее хорошо наблюдаемы и одновременно очень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тонко отражают состояние экономики в це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Сбербанка России как главного банка, обслуживающего население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48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56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Электронные ресурс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лоссар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120" y="1699920"/>
            <a:ext cx="86425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широко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ысле слова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любой товар, способный выполнять денежную функцию средства обмена на международной арен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разде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зависимости от ее принадлеж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на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законное платежное средство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территории выпускающих ее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доллар в США, рубль в России);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иностран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латежное средст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руг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13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ые валютно-кредитные и финансов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оставная часть 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амая сложная сфера рыночного хозяй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В ни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фокусируются проблемы национальной и мировой эконом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и регулирования валютных отношен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циональным законодательством или межгосударственными соглашени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817640"/>
            <a:ext cx="77724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cf01"/>
                </a:solidFill>
                <a:latin typeface="Tahoma"/>
              </a:rPr>
              <a:t>Под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валютой РФ понимаетс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аходящиеся в обращении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, а также изъятые или изымаем из обращения, </a:t>
            </a: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о подлежащие обмену рубли в виде банковских билетов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(банкнот) Центрального банка РФ и монеты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и иных кредитных учреждениях в РФ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заключаемого Правительством РФ и Центральным банком РФ с ответствующими органами иностранного государств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7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валютных отношений стра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национальным законодательств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новой национальной валютной систем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ет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установленная законом денежная единица государ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России это российский рубль, введенный в обращение в 1993 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и заменивший рубль ССС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иров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базируется на функции мировых дене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Они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лужат мировым платежным средством, мировым покупательным средством и материальным воплощением общественного богат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Элементами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пределенный набор платежных средств, валютные курсы и валютные парит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7:22:22Z</dcterms:created>
  <dc:creator>USER</dc:creator>
  <dc:description/>
  <dc:language>en-US</dc:language>
  <cp:lastModifiedBy>LEGION</cp:lastModifiedBy>
  <dcterms:modified xsi:type="dcterms:W3CDTF">2016-01-05T11:06:38Z</dcterms:modified>
  <cp:revision>13</cp:revision>
  <dc:subject/>
  <dc:title>Валютная система Российской Федерации и международные кредитные отношения.</dc:title>
</cp:coreProperties>
</file>