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241C-4FC0-45C9-B5E3-980EAD9C6BD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№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тветственность и эти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а № 5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ая ответственность и этика бизне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инная роль бизнес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.Д.Рокфеллер пожертвовал 550 млн.долл. в фонд Рокфелл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инная роль бизнеса в обществ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ж.Д.Рокфеллер пожертвовал 550 млн.долл. в фонд Рокфеллер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этой точке зрения организация должна преследовать лишь экономически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этой точке зрения организация должна преследовать лишь экономические цел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бизне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ргументы в пользу социальной ответственност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приятные долгосрочные перспективы для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отребностей и ожиданий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есурсов для помощи в решении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е обязательство быть социально ответстве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аргументы в пользу социальной ответственности бизнес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лагоприятные долгосрочные перспективы для компан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потребностей и ожиданий обще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ресурсов для помощи в решении социальных пробл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ральное обязательство быть социально ответственны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ргументы против социальной ответственност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принципа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, связанные с социальной дея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уровень отчетности перед об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навыков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аргументы против социальной ответственности бизнес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принципа максимизации прибы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, связанные с социальной деятельность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изкий уровень отчетности перед общество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сутствие навыков решения социальных пробл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и современный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ка и современный менеджмен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74A-52F7-41A0-96D2-D72E1048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304-2FB9-432B-81F6-528D38A9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F2C6-3866-4463-B03C-E58B51F5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67AC-7323-41FC-9EFE-F43FDF3D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0B8C-638D-4DCB-85CE-996CD9DE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8CF4-271B-45AF-94A2-0316FCCB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F919-13AF-4161-B080-9C67411A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F936-8747-45F7-AE4A-18A26E01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1CB4-37B1-49B0-BA6D-3DDA7E88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4499-6CBD-4A88-B2E0-7DB60F3B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8BBB-FCA5-41E0-A1A5-24F4B137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A51-D9FF-4052-89D8-7E0E8425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D33B-EC87-4E63-ADA2-16766FC9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EC55-6FB9-47CD-85D7-D00B2EA5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C13F-9892-4BDF-8052-4D4D07C8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856E-59AB-45DE-86FA-D3056711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86A4-0E64-4644-AD5D-55E13F4D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61C-B795-4A18-A078-A0D1F5BE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0E3-460B-4F44-A63D-9327C318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B1F-F385-4E04-AD7A-F688863A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02C-9988-4E37-A2B7-85601EDF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4EB-9073-44B9-A89B-4998E148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02B-A7A0-4E60-A0C2-6BE89562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6F9-CF42-411B-8ABF-19D9586C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BA81-DF8D-43EB-94F7-AFAC6CB700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1880-CCA6-4FB3-A8DE-390177846B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Тема № 5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 ответственность и этика бизн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стинная роль бизнеса в обществе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ж.Д.Рокфеллер пожертвовал 550 млн.долл. в фонд Рокфелле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гласно этой точке зрения организация должна преследовать лишь экономические цел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Юридическая ответственность бизнес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аргументы в пользу социальной ответственности бизне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лагоприятные долгосрочные перспективы для компа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менение потребностей и ожиданий обще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ресурсов для помощи в решении социальных проб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альное обязательство быть социально ответственны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аргументы против социальной ответственности бизне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ушение принципа максимизации прибы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ходы, связанные с социальной деятельность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зкий уровень отчетности перед обществ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сутствие навыков решения социальных проб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Этика и современный менеджмент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5T11:19:01Z</dcterms:created>
  <dc:creator>Ирина</dc:creator>
  <dc:description/>
  <dc:language>en-US</dc:language>
  <cp:lastModifiedBy>LEGION</cp:lastModifiedBy>
  <dcterms:modified xsi:type="dcterms:W3CDTF">2016-01-05T12:47:33Z</dcterms:modified>
  <cp:revision>7</cp:revision>
  <dc:subject/>
  <dc:title>Тема № 5.</dc:title>
</cp:coreProperties>
</file>