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DB87-3764-4C49-8FE4-6DB7AC6113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а № 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роль бизнес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инная роль бизнеса в обще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и современны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ка и современный менеджмен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CDA-6B66-42D7-85BD-3B0CFA32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37E-43C7-4982-A8DA-75591161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F98-2D3E-4030-A19C-AEA0F4B5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811-599C-485D-AE80-761131A5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9410-2DE2-4EC3-8930-A8EA1224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5B75-EBD4-4DF6-8492-82F436A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AC39-5CD7-496F-BD0D-29B88A5D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F989-3966-4F73-9AF5-B759F097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C7C6-F9AE-498A-838E-74A4ACC1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0DA9-D6A3-4A57-9DAB-21F2FB17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1AEE-C778-4ACE-A894-7C01DDFB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4EF-97DC-4C3E-ABE5-33D336E0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2D28-5F68-4FC0-BBBE-BCA1840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DEE7-99F3-47C2-AD3B-BD5A6DA8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6A19-8C53-49F7-9050-96261DE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0FD6-61C1-4C81-8B04-6EBBAA54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84C7-BCD7-440B-845F-00532E2B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AD8-15A7-45A2-8978-2C411475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59B-3CB0-45F5-BEE6-FFE16672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177-49ED-495A-958F-F436ABAC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E40-D550-4F04-B0E4-4513A90A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B3C-E01F-4882-902D-4F4D1EF2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6C2-E338-4D97-A117-5475044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C38-C78F-439B-9C67-AC655A19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E2CB-7670-43F4-B963-5CE6C74D5A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E1C3-5D59-4660-B6BE-6F3E07A10C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ма № 5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стинная роль бизнеса в обществе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дическая ответственность бизнес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Этика и современный менеджмент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1:19:01Z</dcterms:created>
  <dc:creator>Ирина</dc:creator>
  <dc:description/>
  <dc:language>en-US</dc:language>
  <cp:lastModifiedBy>LEGION</cp:lastModifiedBy>
  <dcterms:modified xsi:type="dcterms:W3CDTF">2016-01-05T12:47:33Z</dcterms:modified>
  <cp:revision>7</cp:revision>
  <dc:subject/>
  <dc:title>Тема № 5.</dc:title>
</cp:coreProperties>
</file>