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72DD-E7E9-46AE-A62B-A0FF7AC6A6C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№ 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а № 5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инная роль бизнес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стинная роль бизнеса в обще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бизне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и современны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тика и современный менеджмен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AEE-6516-4E90-BD4E-039E54081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9411-4375-44D1-B601-2DF00039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758F-214F-4EDA-B044-CA8B6B38D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4AC8-8AC1-496E-8EE8-77471FC8E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AC2D1-F9B1-491D-B156-AAC729AA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F936-991C-4377-BE0B-72E86B4F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AE6EC-875A-4355-AE07-DD55F6FD9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7418-1BEB-4B16-8A4E-B5814CC1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23F-32EB-4775-A013-3FEBE4DE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14E4-9D17-4A1A-BD46-0DC67B78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853-A737-458D-91B3-8CDD8DD8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757F-6CE0-4418-A3A3-7E9024968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7FEC-54E2-4C16-A4CB-D233A047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CCF-45BD-4673-BF4E-DB17497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AF2FE-C0AD-402C-86E1-496B17CE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41D19-E5EB-4D8C-A1F9-337A8B1DA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8CE3-FAC4-4101-9655-74EAF454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3461-6B81-4D9D-BC23-C42E1B6C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421-FE5D-44A0-959D-3940774C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D7B5-2736-447E-9607-9E0B6805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F5FA-C8F0-45D9-9333-6C09B65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D499-39F0-42DD-A51C-32BBA477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A28-E379-4832-8FF2-2FDCD000C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C973-39A8-475F-9B93-853DB0F7A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3CCB-1EF3-4FE2-9D1F-385C1669138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0FB3-68BA-4EA4-95CA-8CCD60D6C7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Тема № 5.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ая ответственность и этика бизн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Истинная роль бизнеса в обществе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В начале 20 века возникла доктрина капиталистической благотворительности, согласно которой преуспевающие организации обязаны жертвовать часть своих средств на бла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Э. Карнеги инвестировал 350 млн.долл. в социальные программы и построил более двух тысяч публичных библиоте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ж.Д.Рокфеллер пожертвовал 550 млн.долл. в фонд Рокфелле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 1950-х годов концепция социальной роли бизнеса стала меняться. В книге «Социальная ответственность бизнеса» Х.Р.Боуэн описал, как концепция социальной ответственности применима к бизнесу и какие социально-экономические выгоды могут возникнуть благодаря признанию важности социальных целей при принятии деловых решен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ервая точка зрения заключается в том, что организация является социально ответственной, если работает с максимальной прибылью и при этом свято чтит все законы и нормы своего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этой точке зрения организация должна преследовать лишь экономические цел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Убежденным сторонником этой теории является лауреат Нобелевской премии М.Фридман, по мнению которого «роль бизнеса заключается в использовании ресурсов и энергии в видах деятельности, предназначенных для увеличения прибыли, и в соблюдении при этом правил игры… а также в участии в честной конкурентной борьбе без мошенничества и обмана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Две точки зрения  на отношение организации к социальной среде</a:t>
            </a:r>
            <a:br>
              <a:rPr sz="2400"/>
            </a:b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гласно второй точке зрения организация, кроме обязательств чисто экономического характера, обязана учитывать человеческие и социальные аспекты влияния ее деятельности на сотрудников, потребителей и местные сообщества и вносить позитивный вклад в решение социальных проблем общест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Данный подход также подразумевает, что общество ожидает от современных организаций не только высоких экономических показателей, но и больших успехов в деле достижения социальных целе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овая точка зрения сводится к тому, что организация должна  действовать  ответственно в целом ряде направлений: в области защиты окружающей среды, здравоохранения, гражданских прав, защиты потребителей и т.д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Юридическая ответственность бизнеса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Юридическая ответственность в отличие от социальной подразумевает соблюдение конкретных законов и норм государственного регулирования, определяющих, что может и чего не может делать организац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рганизация, соблюдающая все законы и нормы, ведет себя, как юридически ответственная, однако при этом она не всегда действует как социально ответственна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ая же ответственность предусматривает определенную степень добровольной реакции организации на социальные проблем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в пользу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Благоприятные долгосрочные перспективы для компани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Изменение потребностей и ожиданий обществ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личие ресурсов для помощи в решении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оральное обязательство быть социально ответственны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сновные аргументы против социальной ответственности бизнеса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арушение принципа максимизации прибы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асходы, связанные с социальной деятельностью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Низкий уровень отчетности перед обществ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4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тсутствие навыков решения социальных пробле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Аргументы «за» и «против» социальной ответственности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ногие современники придерживаются мнения, что организации должны направлять часть своих ресурсов и усилий на развитие местных сообществ и общества в цело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офессор Л.Престон считал, что каждой организации следует,  прежде всего,  тщательно проанализировать свою среду и выбрать такие программы, которые будут наиболее эффективны именно для не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оциально ответственные действия – прерогатива не только исключительно крупных компаний. Социальная ответственность предполагает не просто филантропическую деятельность, все таки главным для выживания любой компании является прибыль. Прибыльность и развитие идут рука об руку со справедливым отношением фирмы к персоналу, потребителям и местному сообществу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eec94"/>
                </a:solidFill>
                <a:latin typeface="Times New Roman"/>
              </a:rPr>
              <a:t>Этика и современный менеджмент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редметом бизнес-этики являются принципы, определяющие правильные и неправильные подходы к ведению де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Опросы общественного мнения показали, что общество убеждено в снижении стандартов этичности бизнес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По мнению Л.Осмера, «этические проблемы в бизнесе имеют отношение к конфликту, или как минимум к его вероятности, между показателями экономической деятельности организации, измеряемыми ее доходами, затратами и прибылью, и показателями ее социальной ответственности, которые выражаются в ее обязательствах по отношению к другим людям как внутри организации, так и в обществе»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Стараясь улучшать этический климат, организации предпринимают самые разные шаги: составляют морально-этические кодексы, занимаются социальным аудитом и приводят тренинги по вопросам этик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5T11:19:01Z</dcterms:created>
  <dc:creator>Ирина</dc:creator>
  <dc:description/>
  <dc:language>en-US</dc:language>
  <cp:lastModifiedBy>LEGION</cp:lastModifiedBy>
  <dcterms:modified xsi:type="dcterms:W3CDTF">2016-01-05T12:47:33Z</dcterms:modified>
  <cp:revision>7</cp:revision>
  <dc:subject/>
  <dc:title>Тема № 5.</dc:title>
</cp:coreProperties>
</file>