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59D-F0E9-4849-AAC9-B136CE6BA9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след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поле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заинтересованн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результатов анали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актические результ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количественной оцен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явленные проблем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вление от насл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ход на новые ры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на карау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спан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Выход на новые рынк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база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эффективность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 – люб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дур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отзыва продукции с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ее состояние ре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кущее состояние реформ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074-AB40-4173-BFE3-1518ECF9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D15-69C9-4621-9510-ED22CE10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58A-5983-4952-A386-815ED408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199-BD88-4A92-8351-345F4F3B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94BE-3604-433F-9161-5414C5B1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FC16-5144-4AEE-94E3-EB3091F7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1A86-956C-4A08-A55D-C5D8A416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A0E-162A-49B4-8B09-AD1744AB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2452-164D-4F5B-A0DD-2E4765F9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2FD4-3E0E-49B5-8E13-816F9B6E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4DF3-ACCC-405D-8D18-50B0356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276-EB4B-47B0-9E7A-1FEA3A23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1802-8029-440A-A31D-C10517C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8E7F-5E16-499A-937A-173E4C8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3314-0B10-44B0-815B-8223D8CC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BA33-151B-4503-828D-72B757C6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10D8-B144-4668-8EAE-4E11487A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26A-D8BD-4E3B-A859-6846FF43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21E-F00D-42E9-B4D9-7BD91094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944-7CEC-4334-B959-C4389D98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218-F8B3-46C5-8D30-F53F1C4A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03A-4870-4754-A6F8-4BF4D055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CC3-879D-4C55-92CC-BDFC62F0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C7E-0D47-4852-A1F5-411E41C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F97C-344B-4E52-91C0-D9C98AB4AB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5F2B-6B81-49B7-852B-C1342D3606E1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716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360" y="1484280"/>
          <a:ext cx="8196120" cy="5680080"/>
        </p:xfrm>
        <a:graphic>
          <a:graphicData uri="http://schemas.openxmlformats.org/drawingml/2006/table">
            <a:tbl>
              <a:tblPr/>
              <a:tblGrid>
                <a:gridCol w="1272960"/>
                <a:gridCol w="1440000"/>
                <a:gridCol w="2305080"/>
                <a:gridCol w="317808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изкие цены ресурс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Снизить издержки подтверждения соответствия продукции установленным требования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Оптимальный режим технического регулирования позволяет подтвердить соответствие обязательным требованиям с наименьшим возможным уровнем затрат, что позволит снизить издержки производителя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есурсосбереже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овысить издержки использования технологий с низким уровнем безопасност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ребования к безопасности производства стимулируют производителей выбирать более современные и наукоемкие технологии, что в долгосрочном перспективе стимулирует инновационное разви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409760"/>
          <a:ext cx="8640720" cy="5051520"/>
        </p:xfrm>
        <a:graphic>
          <a:graphicData uri="http://schemas.openxmlformats.org/drawingml/2006/table">
            <a:tbl>
              <a:tblPr/>
              <a:tblGrid>
                <a:gridCol w="1555560"/>
                <a:gridCol w="1540080"/>
                <a:gridCol w="2658960"/>
                <a:gridCol w="2886120"/>
              </a:tblGrid>
              <a:tr h="72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кторы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-ценова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издержки покупателей, связанных с поиском безопасной продукции, а также издержки продавцов на убеждение покупателей в безопасности производимой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приводит к повышению максимальной готовности потребителей платить за товар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утрен-ня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едпоч-тения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уровень риска, связанный с потреблением продукции, в представлении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установленным требованиям приводит к расширению спроса со стороны потребителей, отрицательно относящихся к риску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ешня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ежим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ировать инструменты технического регулирования с целевыми внешними рынк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регулирования позволит снизить дополнительные затраты, необходимые для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4000" y="1268280"/>
          <a:ext cx="8640720" cy="5029200"/>
        </p:xfrm>
        <a:graphic>
          <a:graphicData uri="http://schemas.openxmlformats.org/drawingml/2006/table">
            <a:tbl>
              <a:tblPr/>
              <a:tblGrid>
                <a:gridCol w="3174840"/>
                <a:gridCol w="2867040"/>
                <a:gridCol w="2598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ры технического регулиров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максимальным положи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отрица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кращение административных издержек производителей (доступность обязательных требований, оптимизация оценки соответстви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ынки однородной продукции (основной тип конкуренции – ценова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жесточение обязательных требован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ие барьеры входа/выхода на рын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ая текущая сравнительная конкурентоспособность отечественных производ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новление националь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с международными и региональными обязательными требованиями и стандарт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экспорта в производстве отрасли; низ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частие в разработке международ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расли с высокой долей экспорта или высоким экспортным потенциа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ная задача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азать, что введение технического регламента окажет положительное воздействие на экономи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844640"/>
          <a:ext cx="8226360" cy="4606920"/>
        </p:xfrm>
        <a:graphic>
          <a:graphicData uri="http://schemas.openxmlformats.org/drawingml/2006/table">
            <a:tbl>
              <a:tblPr/>
              <a:tblGrid>
                <a:gridCol w="1484280"/>
                <a:gridCol w="2166840"/>
                <a:gridCol w="2320920"/>
                <a:gridCol w="225432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сниж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остается неизменны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повыш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снижа-ю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неиз-мен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нулево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расту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4360" y="1844640"/>
            <a:ext cx="799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ительный экономически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отрицательны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нулево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нужны дополнительные расчеты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оисходит повышение уровня риска со снижением общих затрат либо его понижение при росте затрат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5564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82692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актические результаты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тодические рекомендации по разработке и подготовке к принятию проектов технических регламенто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тверждены Приказом Минпромэнерго России от 12 апреля 2006 года №78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Выявленные проблемы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Исполнители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С.Б. Авдашева (ГУ-ВШЭ), П.В. Крючкова (Бюро экономического анализ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1 и 2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3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4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539640" y="2019240"/>
          <a:ext cx="79930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19240"/>
                    <a:ext cx="79930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395280" y="1916280"/>
          <a:ext cx="8424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42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зменение внутренней и внешней организ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Выход на новые рынки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ическое регулир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395280" y="1916280"/>
          <a:ext cx="81900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1900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эффективности публичных обсуждений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03380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лнота представительства интересов в процессе общественных слуша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01080" cy="426852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332000" y="2009880"/>
            <a:ext cx="6912000" cy="386712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форма технического регулирования: прич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27655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ы, СНиПы, СанПиНы – более 600 000 докум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68360" y="4797360"/>
            <a:ext cx="8207280" cy="13136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эффективность контро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4140360" y="436572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замечаний, полученных на проекты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727280"/>
            <a:ext cx="7056360" cy="4734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042920" y="1655640"/>
            <a:ext cx="6697800" cy="44942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едставительство групп специальных интересов в процессе публичных обсужд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826920" y="1584360"/>
            <a:ext cx="7705800" cy="4721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тенные и отклоненные замечания по проектам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6360" cy="4732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Эффективность публичных обсуждений: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спективные направления исследов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истема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50920" y="907920"/>
          <a:ext cx="8713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713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79280" y="1025640"/>
          <a:ext cx="871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25640"/>
                    <a:ext cx="871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кущее состоя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3:21:41Z</dcterms:created>
  <dc:creator>www.PHILka.RU</dc:creator>
  <dc:description/>
  <dc:language>en-US</dc:language>
  <cp:lastModifiedBy>LEGION</cp:lastModifiedBy>
  <dcterms:modified xsi:type="dcterms:W3CDTF">2016-01-05T12:47:49Z</dcterms:modified>
  <cp:revision>22</cp:revision>
  <dc:subject/>
  <dc:title>Техническое регулирование: институциональный анализ</dc:title>
</cp:coreProperties>
</file>