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3137-85B4-49F9-9C64-C469751D1D5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: институциональ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В. Крючкова, д.э.н., зав.сектором Фонда «Бюро экономического анализ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: институциональный анализ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.В. Крючкова, д.э.н., зав.сектором Фонда «Бюро экономического анализа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у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анализ (Россия/ЕС/Новая Европа/СН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след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кономику в целом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расл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прият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авнительный анализ (Россия/ЕС/Новая Европа/СНГ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/внутренняя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ая/неценовая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нешняя/внутренняя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Ценовая/неценовая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технического регулирования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ры технического регулирования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ваются состояния до принятия ТР и после при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задача – показать, что введение технического регламента окажет положительное воздействие на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авниваются состояния до принятия ТР и после принят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ая задача – показать, что введение технического регламента окажет положительное воздействие на экономику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нциальные выгоды от введения технического регла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ровня безопасности (снижение уровня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издержки (оценка соответств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тенциальные выгоды от введения технического регламент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вышение уровня безопасности (снижение уровня риска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трат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Административные издержки (оценка соответств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ый экономический эффект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ый эффект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левой эффект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ы дополнительные расчеты – происходит повышение уровня риска со снижением общих затрат либо его понижение при росте затр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ложительный экономический эффект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рицательный эффект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улевой эффект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ужны дополнительные расчеты – происходит повышение уровня риска со снижением общих затрат либо его понижение при росте затрат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реформы технического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е поле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ть реформы технического регулирован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блемное поле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которые исслед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заинтересованны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зменения уровн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зменения издержек для каждой из груп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макроэкономических посл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воздействия на бюджеты всех уров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вывод о целесообразности принятия технического регла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тап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деление заинтересованных групп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пределение изменения уровня рис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пределение изменения издержек для каждой из групп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макроэкономических последств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воздействия на бюджеты всех уровне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щий вывод о целесообразности принятия технического регламент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результатов анали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формление результатов анализ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нная методика включена в Методические рекомендации по разработке и подготовке к принятию проектов технических регламентов (утверждены Приказом Минпромэнерго России от 12 апреля 2006 года №78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актические результат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анная методика включена в Методические рекомендации по разработке и подготовке к принятию проектов технических регламентов (утверждены Приказом Минпромэнерго России от 12 апреля 2006 года №78 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ны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количественной оцен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системы учета случаев причинени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явленные проблем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ложности количественной оценки: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т системы учета случаев причинения вред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и: С.Б. Авдашева (ГУ-ВШЭ), П.В. Крючкова (Бюро экономического анализ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детерминанты спроса на добровольную сертифик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возможные рекомендации для реализации реформы техническ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и: С.Б. Авдашева (ГУ-ВШЭ), П.В. Крючкова (Бюро экономического анализа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: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аковы детерминанты спроса на добровольную сертификацию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аковы возможные рекомендации для реализации реформы технического регулирования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: источник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1 и 2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3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4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: источники данных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1 и 2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3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4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и модернизационная стратегия (выборка 1: 1998-20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модер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сферы деятельности (продукты, рынки, партне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нутренней и внешн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авление от насл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и модернизационная стратегия (выборка 1: 1998-2000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овые сферы деятельности (продукты, рынки, партнеры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е внутренней и внешней организ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жива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бавление от наслед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и модернизационная стратегия (выборка 3: 2001-200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модер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ремление к звездам» (перезод в нишу с более высоким качеством и ценой проду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ыход на новые рын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на карау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спанс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и модернизационная стратегия (выборка 3: 2001-2004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Стремление к звездам» (перезод в нишу с более высоким качеством и ценой продукции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Выход на новые рынки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Смена караула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Экспансия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оценка эффективности публичных обсуждений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ность интересов в процессе публичных обсу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публичных обсуждений на качество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совершенствованию процед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оценка эффективности публичных обсуждений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ставленность интересов в процессе публичных обсужде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оздействие публичных обсуждений на качество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екомендации по совершенствованию процедур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разработке проекта технического регламента должно быть опубликовано уведом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вершении публичного обсуждения проекта также публикуется уведом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 разработке проекта технического регламента должно быть опубликовано уведомление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 завершении публичного обсуждения проекта также публикуется уведомле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актике используются 2 формы публичных обсужд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смотренная законом заочная фор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ная форма (общественные слуш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база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а практике используются 2 формы публичных обсужде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усмотренная законом заочная форм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чная форма (общественные слуш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нформационная база исслед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общественных слушаниях представителей различных групп интересов (в среднем по 68 обсуждения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астие в общественных слушаниях представителей различных групп интересов (в среднем по 68 обсуждениям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та представительства интересов в процессе общественных слуш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лнота представительства интересов в процессе общественных слушан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общественных слушаниях представителей различных регионов (в среднем по 68 обсуждения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астие в общественных слушаниях представителей различных регионов (в среднем по 68 обсуждениям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орма технического регулирования: 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ы, СНиПы, СанПиНы – более 600 000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избыточны, противоречивы, непрозрач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способ подтверждения соответствия – обязательная серт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й сертификации подлежало до 80% товарной номенклатуры по сравнению с 4%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е административные издержки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ответствие требованиям ВТО (Соглашения о технических барьерах в торговл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ффективность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еформа технического регулирования: причин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ГОСТы, СНиПы, СанПиНы – более 600 000 доку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ребования избыточны, противоречивы, непрозрачн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ой способ подтверждения соответствия – обязательная сертифик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ой сертификации подлежало до 80% товарной номенклатуры по сравнению с 4% в ЕС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енные административные издержки бизнес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соответствие требованиям ВТО (Соглашения о технических барьерах в торговле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эффективность контрол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замечаний, полученных на проекты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замечаний, полученных на проекты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организаций, принявших участие в обсуждении проектов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организаций, принявших участие в обсуждении проектов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ство групп специальных интересов в процессе публичных обсужд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ставительство групп специальных интересов в процессе публичных обсужден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тенные и отклоненные замечания по проектам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тенные и отклоненные замечания по проектам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убличных обсуждений: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облема привлечения к обсуждению широких групп специальных интер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убличных обсуждений: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ует проблема привлечения к обсуждению широких групп специальных интерес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д реформы: анализ с позиции теории общественного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Ход реформы: анализ с позиции теории общественного выбор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риск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«О техническом регулировании» (вступил в силу с 1 июля 2003 г.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фикация и актуализация обязательных требов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обязательных и добровольных требов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регламенты – обязательные (только вопросы безопас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(национальные, организаций) - доброво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дификация и актуализация обязательных требова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деление обязательных и добровольных требова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ие регламенты – обязательные (только вопросы безопасности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тандарты (национальные, организаций) - добровольны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«О техническом регулировании» (вступил в силу с 1 июля 2003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к более мягким формам подтверждения соответ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обязательной сертификации к декларированию соответ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чик – люб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убличные обсуждения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цедур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только на стадии обращения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 отзыва продукции с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ход к более мягким формам подтверждения соответств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 обязательной сертификации к декларированию соответств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чик – любое лиц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ые публичные обсуждения проек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е процедур контрол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нтроль только на стадии обращения продук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цедура отзыва продукции с рын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истема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Система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рансформация системы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рансформация системы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ее состояние ре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сих пор не создана национальная система аккреди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7 году приняты поправки в закон «О техническом регулир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в системе государственного контроля (надзора) не произош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кущее состояние реформ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 сих пор не создана национальная система аккредит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2007 году приняты поправки в закон «О техническом регулировании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й в системе государственного контроля (надзора) не произошл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522-95D5-4442-A4AF-14EE8E07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8EE-17F3-42D8-8024-2F0068CC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EC8B-7765-41FD-B567-5C08CB07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B84C-DAA6-4427-8C80-790C28BE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F38E-05CE-41C1-B29C-35344EA7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21D5-DA82-4472-AC5A-6EF60D92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B67F-EB6F-4039-A1E6-48EB91AB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EC70-CA66-4ACC-AC68-F03F6D36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8DFB-DB3E-4DF9-82B2-095097CF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A095-C55C-475B-BCE9-22A10EB3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C6AD-B66C-4A3C-9E76-034651CA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626-335F-4947-9D95-42E48CF5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20EC-FC77-402F-9EF4-65FF44CB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1B5E-EAB0-4A39-AC83-DA487CC4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403C-EF0D-4E69-A9B1-EC9BC3F3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0F18-D606-4FF9-9693-E02D7258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2E00-00E7-4658-B702-8179E2AD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889E-0DE2-471C-9CAC-B72FAE1C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D4D-BB09-4BE9-A6DD-A867D5AB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DB37-4646-43DF-AE86-18364B75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48C-CE0A-4B64-A14D-18C8DC16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2295-4873-46D6-B89B-E7EF4638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047-2A8B-41FC-AF90-1FB6B696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2B8-400B-40F1-9F57-22A67473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D78C-769B-4E47-BFDC-7C0E1792FF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C0B7-DE12-437C-931E-E21F4CE0C089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хническое регулирование: институциональный анализ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7161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.В. Крючкова, д.э.н., зав.сектором Фонда «Бюро экономического анализа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след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Экономику в целом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трасл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Предприятия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Сравнительный анализ (Россия/ЕС/Новая Европа/СНГ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Эффективность процедур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нешняя/внутренняя конкурентоспособн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Ценовая/неценовая конкурентоспособн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Бюро экономического анализ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68360" y="1484280"/>
          <a:ext cx="8196120" cy="5680080"/>
        </p:xfrm>
        <a:graphic>
          <a:graphicData uri="http://schemas.openxmlformats.org/drawingml/2006/table">
            <a:tbl>
              <a:tblPr/>
              <a:tblGrid>
                <a:gridCol w="1272960"/>
                <a:gridCol w="1440000"/>
                <a:gridCol w="2305080"/>
                <a:gridCol w="3178080"/>
              </a:tblGrid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Тип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Фактор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ли системы технического регулирован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Механизм влияния на конкурентоспособность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53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нова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изкие цены ресурсов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76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Снизить издержки подтверждения соответствия продукции установленным требования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1076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Оптимальный режим технического регулирования позволяет подтвердить соответствие обязательным требованиям с наименьшим возможным уровнем затрат, что позволит снизить издержки производителя.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нова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есурсосбереже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Повысить издержки использования технологий с низким уровнем безопасности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Требования к безопасности производства стимулируют производителей выбирать более современные и наукоемкие технологии, что в долгосрочном перспективе стимулирует инновационное разви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24000" y="1409760"/>
          <a:ext cx="8640720" cy="5051520"/>
        </p:xfrm>
        <a:graphic>
          <a:graphicData uri="http://schemas.openxmlformats.org/drawingml/2006/table">
            <a:tbl>
              <a:tblPr/>
              <a:tblGrid>
                <a:gridCol w="1555560"/>
                <a:gridCol w="1540080"/>
                <a:gridCol w="2658960"/>
                <a:gridCol w="2886120"/>
              </a:tblGrid>
              <a:tr h="723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ип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кторы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Цели системы технического регулирования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ханизм влияния на конкурентоспособность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е-ценова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еспечение безопасности продукц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низить издержки покупателей, связанных с поиском безопасной продукции, а также издержки продавцов на убеждение покупателей в безопасности производимой продукц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остоверное подтверждение соответствия продукции приводит к повышению максимальной готовности потребителей платить за товар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нутрен-няя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редпоч-тения потреб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низить уровень риска, связанный с потреблением продукции, в представлении потреб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остоверное подтверждение соответствия продукции установленным требованиям приводит к расширению спроса со стороны потребителей, отрицательно относящихся к риску.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нешня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ежим доступа на внешние рын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ировать инструменты технического регулирования с целевыми внешними рынкам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ация регулирования позволит снизить дополнительные затраты, необходимые для доступа на внешние рын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Меры технического регулирования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24000" y="1268280"/>
          <a:ext cx="8640720" cy="5029200"/>
        </p:xfrm>
        <a:graphic>
          <a:graphicData uri="http://schemas.openxmlformats.org/drawingml/2006/table">
            <a:tbl>
              <a:tblPr/>
              <a:tblGrid>
                <a:gridCol w="3174840"/>
                <a:gridCol w="2867040"/>
                <a:gridCol w="25988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ры технического регулирован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рактеристики рынков с максимальным положительным эффект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рактеристики рынков с отрицательным эффект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кращение административных издержек производителей (доступность обязательных требований, оптимизация оценки соответствия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ынки однородной продукции (основной тип конкуренции – ценовая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жесточение обязательных требовани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зкие барьеры входа/выхода на рынок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инвестиционная привлекательность отрасл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зкая текущая сравнительная конкурентоспособность отечественных производ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новление национальных стандарт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инвестиционная привлекательность отрасл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ация с международными и региональными обязательными требованиями и стандартам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доля экспорта в производстве отрасли; низкая доля импорта на внутреннем рынке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доля импорта на внутреннем рынке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частие в разработке международных стандарт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трасли с высокой долей экспорта или высоким экспортным потенциал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равниваются состояния до принятия ТР и после принят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сновная задача 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казать, что введение технического регламента окажет положительное воздействие на экономик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тенциальные выгоды от введения технического регламен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вышение уровня безопасности (снижение уровня риска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атрат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дминистративные издержки (оценка соответствия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68360" y="1844640"/>
          <a:ext cx="8226360" cy="4606920"/>
        </p:xfrm>
        <a:graphic>
          <a:graphicData uri="http://schemas.openxmlformats.org/drawingml/2006/table">
            <a:tbl>
              <a:tblPr/>
              <a:tblGrid>
                <a:gridCol w="1484280"/>
                <a:gridCol w="2166840"/>
                <a:gridCol w="2320920"/>
                <a:gridCol w="2254320"/>
              </a:tblGrid>
              <a:tr h="97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снижае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остается неизменным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повышае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9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снижа-ю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ужны дополнитель-ные расчет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неиз-менн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ff"/>
                          </a:solidFill>
                          <a:latin typeface="Arial"/>
                          <a:ea typeface="Times New Roman"/>
                        </a:rPr>
                        <a:t>нулево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расту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ужны дополнитель-ные расчет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684360" y="1844640"/>
            <a:ext cx="7991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ожительный экономически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отрицательны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нулево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Arial"/>
              </a:rPr>
              <a:t>нужны дополнительные расчеты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оисходит повышение уровня риска со снижением общих затрат либо его понижение при росте затрат.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новные 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уть реформы технического регулирования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облемное поле исследован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екоторые исслед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75564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Этапы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деление заинтересованных групп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пределение изменения уровня рис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пределение изменения издержек для каждой из групп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макроэкономических последств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воздействия на бюджеты всех уровне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бщий вывод о целесообразности принятия технического регламен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1981080"/>
            <a:ext cx="792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формление результатов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826920" y="1981080"/>
            <a:ext cx="7783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Практические результаты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Разработанная методика включена в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етодические рекомендации по разработке и подготовке к принятию проектов технических регламентов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тверждены Приказом Минпромэнерго России от 12 апреля 2006 года №78 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Выявленные проблемы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ложности количественной оценки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ет системы учета случаев причинения вре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добровольную сертификацию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770120"/>
            <a:ext cx="822636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Исполнители</a:t>
            </a: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С.Б. Авдашева (ГУ-ВШЭ), П.В. Крючкова (Бюро экономического анализа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Основные вопросы: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аковы детерминанты спроса на добровольную сертификацию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аковы возможные рекомендации для реализации реформы технического регулирования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прос на добровольную сертификацию: источники данных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770120"/>
            <a:ext cx="822636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1 и 2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3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4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539640" y="2019240"/>
          <a:ext cx="79930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019240"/>
                    <a:ext cx="79930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395280" y="1916280"/>
          <a:ext cx="842472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4247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ертификация и модернизационная стратегия (выборка 1: 1998-2000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Новые сферы деятельности (продукты, рынки, партнеры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зменение внутренней и внешней организац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ыжива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збавление от наслед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ертификация и модернизационная стратегия (выборка 3: 2001-2004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«Стремление к звездам» (перезод в нишу с более высоким качеством и ценой продукции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«Выход на новые рынки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Смена караула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Экспансия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хническое регулиров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Arial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395280" y="1916280"/>
          <a:ext cx="819000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19000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4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эффективности публичных обсуждений проектов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Бюро экономического анализ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Основные вопрос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едставленность интересов в процессе публичных обсужден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оздействие публичных обсуждений на качество проектов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комендации по совершенствованию процедур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 разработке проекта технического регламента должно быть опубликовано уведомлени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 завершении публичного обсуждения проекта также публикуется уведомле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практике используются 2 формы публичных обсужде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едусмотренная законом заочная форм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чная форма (общественные слушания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нформационная база исслед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6600"/>
                </a:solidFill>
                <a:latin typeface="Arial"/>
              </a:rPr>
              <a:t>Участие в общественных слушаниях представителей различных групп интересов (в среднем по 68 обсуждениям)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04360" cy="4033800"/>
          </a:xfrm>
          <a:prstGeom prst="rect">
            <a:avLst/>
          </a:prstGeom>
          <a:ln w="0">
            <a:noFill/>
          </a:ln>
        </p:spPr>
      </p:pic>
      <p:sp>
        <p:nvSpPr>
          <p:cNvPr id="3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Полнота представительства интересов в процессе общественных слушани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201080" cy="426852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Участие в общественных слушаниях представителей различных регионов (в среднем по 68 обсуждениям)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1332000" y="2009880"/>
            <a:ext cx="6912000" cy="386712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еформа технического регулирования: причи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276552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Ты, СНиПы, СанПиНы – более 600 000 документ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 избыточны, противоречивы, непрозрачн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способ подтверждения соответствия – обязательная сертификац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ой сертификации подлежало до 80% товарной номенклатуры по сравнению с 4% в Е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468360" y="4797360"/>
            <a:ext cx="8207280" cy="131364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енные административные издержки бизне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оответствие требованиям ВТО (Соглашения о технических барьерах в торговле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эффективность контрол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AutoShape 6"/>
          <p:cNvSpPr/>
          <p:nvPr/>
        </p:nvSpPr>
        <p:spPr>
          <a:xfrm>
            <a:off x="4140360" y="436572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noFill/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Количество замечаний, полученных на проекты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332000" y="1727280"/>
            <a:ext cx="7056360" cy="473400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Количество организаций, принявших участие в обсуждении проектов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1042920" y="1655640"/>
            <a:ext cx="6697800" cy="449424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Представительство групп специальных интересов в процессе публичных обсуждени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826920" y="1584360"/>
            <a:ext cx="7705800" cy="472104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Учтенные и отклоненные замечания по проектам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056360" cy="473220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Эффективность публичных обсуждений: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уществует проблема привлечения к обсуждению широких групп специальных интерес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рспективные направления исследова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Ход реформы: анализ с позиции теории общественного выбор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рисков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407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дификация и актуализация обязательных требова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зделение обязательных и добровольных требова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ические регламенты – обязательные (только вопросы безопасности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андарты (национальные, организаций) - добровольны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Переход к более мягким формам подтверждения соответствия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т обязательной сертификации к декларированию соответствия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разработчик – любое лицо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бязательные публичные обсуждения проектов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Изменение процедур контроля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Контроль только на стадии обращения продукци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Процедура отзыва продукции с рынка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истема технического регулиров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250920" y="907920"/>
          <a:ext cx="871380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87138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Трансформация системы технического регулиров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179280" y="1025640"/>
          <a:ext cx="871380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25640"/>
                    <a:ext cx="871380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кущее состояние рефор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До сих пор не создана национальная система аккредитаци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В 2007 году приняты поправки в закон «О техническом регулировании»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Изменений в системе государственного контроля (надзора) не произошло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5T13:21:41Z</dcterms:created>
  <dc:creator>www.PHILka.RU</dc:creator>
  <dc:description/>
  <dc:language>en-US</dc:language>
  <cp:lastModifiedBy>LEGION</cp:lastModifiedBy>
  <dcterms:modified xsi:type="dcterms:W3CDTF">2016-01-05T12:47:49Z</dcterms:modified>
  <cp:revision>22</cp:revision>
  <dc:subject/>
  <dc:title>Техническое регулирование: институциональный анализ</dc:title>
</cp:coreProperties>
</file>