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E329-7748-4B91-928B-0718F0A585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7DA0-4E0A-4F17-A69B-DB00DA0C13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после В. С. Соловьё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E7EA-7787-4218-9B7A-355A0BA31F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итургический критерий софий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5B8D-8E44-4D8D-ACB9-22DFBB1A3A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302A-E393-4762-8667-3B1F8F9F3B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искус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1C83-154B-44BA-AA49-707CBB3BFF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Софиология пол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7E48-4345-45EF-B0B0-ECDF4BB7EE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твор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3DE7-B7B2-4A6D-B80C-C012996388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в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524C-9B41-4F9F-9DD1-89B96E12FE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смер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FCEA-4B50-407B-98E3-AD4FE65EB6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ис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0BA3-49A5-403B-A44B-E547D7F26F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. Флоренский (1882-1937) </a:t>
            </a:r>
            <a:br>
              <a:rPr sz="1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толп и утверждение истины: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пыт православной теодице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двенадцати письмах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4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 водоразделов мысли (Черты конкретной метафизики)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8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коностас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0-е гг.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нимости геометр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2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52E2-1477-442D-88ED-27DDA0EFF2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 Флоренский (1882-1937)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нкретная метафиз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ий симво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 симво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н-Симво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скретный характер реальности и уровни смысловой вырази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пространства и пространственное понимание бы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сте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кусство и куль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C179-681B-4936-BC39-681BAE798F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фиология после В. С. Соловьё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Булгак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71-1944)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. Флоренски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82-1937)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611B-4465-4190-9AE9-371C8FAD95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онкретная метафиз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Философский симво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33BA-212E-4F2E-BAE7-56D01D5BC4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Философский симво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B1E8-5394-4A98-BE6E-CBCE44DDB1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симво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F647-3C43-484D-BAE5-C317E3D968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н-Симво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2474-0920-4CC8-9DDA-13EE7015CB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искретный характер ре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EE17-2026-4472-90A5-3CE821EB92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странственное понимание бы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5C2A-B463-45A2-A364-3B452B944D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странственное понимание бы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2208-46B3-4918-9CBB-5FFA8568AA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Эсте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кусство и куль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A947-1CF4-4CA4-B48F-CD83CBBF86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ум основным видам миропоним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возрожденческ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редневековому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ответствуют два типа художественного изоб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ям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F099-730F-4D31-900A-DAC75D91A2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ум основным видам миропоним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возрожденческ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редневековому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ответствуют два типа художественного изоб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ям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ратн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ерспект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5723-0D11-41BD-A7CB-695DBC702A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. Булгаков (1871-1944)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фийность мирозд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 марксизма к идеализму: Сборник статей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03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ва града: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природе общественных идеалов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1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хозяйств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2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вет невечерний: Созерцания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умозрени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7)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гедия философ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0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мен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0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7994-0E5C-4B0C-B927-C256BC568B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9B40-7FC3-4823-AC64-B22F3E13E2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BB1C-9142-4BBD-8848-E877FD7543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Булгаков (1871-1944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йность мироз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щность и типы философ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роическая аналогия» и троичность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философии как история тринитарных ерес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чение о 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лигиозный материа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ятие 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варная Соф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тургический критерий софи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хозя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искус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по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в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см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E632-95AA-4522-B783-7F497CD504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ущность и типы философии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 «Троическая аналог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595C-8032-4588-966B-24857AC5E0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щность и типы философ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философии как история тринитарных ерес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1D67-4E44-4DE1-A6BD-E6C532AC22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Учение о Соф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лигиозный матери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12E3-D7A1-4399-B413-892E68CC5F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Софии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Соф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D3EF-0925-42A4-B2D1-800D0B7A3D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ение о Софии</a:t>
            </a:r>
            <a:br>
              <a:rPr sz="16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1B37-293C-463E-91A3-2BE208206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4141-AF39-4C14-830F-5E4B8C1D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D012-6461-4EAF-BA0A-F6A7C520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E451-44E8-4176-9331-01ECFDF38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BD1F-1AB6-47FA-AAF8-DA31F3E0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E6A5-7260-4D58-BA94-904C2F9D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9531-1D03-40F6-B49A-3F9B8DF1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7637-03ED-43B9-90F7-D1372DEA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F494-88E8-4792-95AC-4B8A2138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7BCE-9C9D-47F8-AD6E-0E60410A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5409-E6DA-46E1-8F04-D26C5ABA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057D-04D1-4281-8ED9-8D5EFC8B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9036-A32F-403B-898A-648539467B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2338560"/>
            <a:ext cx="8493120" cy="17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офиология после В. С. Соловьё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/>
          <p:cNvSpPr/>
          <p:nvPr/>
        </p:nvSpPr>
        <p:spPr>
          <a:xfrm>
            <a:off x="3094200" y="5425920"/>
            <a:ext cx="576000" cy="954360"/>
          </a:xfrm>
          <a:custGeom>
            <a:avLst/>
            <a:gdLst>
              <a:gd name="textAreaLeft" fmla="*/ 77040 w 576000"/>
              <a:gd name="textAreaRight" fmla="*/ 498960 w 57600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2230560" y="434664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136692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50328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079640" y="2446200"/>
            <a:ext cx="51814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церковная молитва – не об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альном, а имен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 грешном и падшем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р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емами софиологии оказыва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2806560" y="4605480"/>
            <a:ext cx="5181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ужд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труд, хозяйство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тургический критерий софий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3670200" y="5684760"/>
            <a:ext cx="5181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з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семья, влас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216000" y="1366920"/>
            <a:ext cx="5181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чуждо софийности всё т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за что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жно молиться»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благословляет 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вящает Церковь в своём богослуж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1943280" y="3525840"/>
            <a:ext cx="5181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зловые вех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емного существо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рождение, продолжение рода, смерть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>
            <a:off x="2176560" y="447984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917640" y="289548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хозя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539640" y="1727280"/>
            <a:ext cx="539928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оём истоке хозяйство не порожд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падшим состоянием мира, существу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райское хозяйство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к бескорыстн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бовный труд человека над природ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её познавания и усовершенствов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крытия её софийност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1798560" y="3309840"/>
            <a:ext cx="539928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ко в падшем состоянии мира смыс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мотивы хозяйства радикально меняются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требует теперь усилия и явл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яжким бременем, служит не раскрыти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йности,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ужде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3057480" y="4894200"/>
            <a:ext cx="539928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оно сохраня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низшие формы софийности»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оей хозяйственной функ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 утверждает своё централь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авенствующее место в мироздании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ует его софийному первообра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1816200" y="447984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736560" y="2895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искус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539640" y="1727280"/>
            <a:ext cx="583092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«райское хозяйство» и «райск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кусство» тождественны (эта синтет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тивность имену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ургие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), 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адшем модусе они утрачивают важ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о противоположные) свойства теургии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новятся как бы дополнительными друг др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1619280" y="3309840"/>
            <a:ext cx="583092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озяйство, сохраняя способно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йственного изменения мир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трачивает ориентир софийности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ность созерцания красоты; искус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храняет способно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идеть софий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утрачивает возможность её осуществ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2698920" y="4894200"/>
            <a:ext cx="583056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го отношение к Софии выраж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ятие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роса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то – влечение, стремл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, однако, никогда не достиг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ного соединения со своим предме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чём и заключ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трагедия искусст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13"/>
          <p:cNvSpPr/>
          <p:nvPr/>
        </p:nvSpPr>
        <p:spPr>
          <a:xfrm>
            <a:off x="4317840" y="3238560"/>
            <a:ext cx="486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2050920" y="4894200"/>
            <a:ext cx="234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олог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4749840" y="4894200"/>
            <a:ext cx="234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офиолог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949320" y="3994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7088040" y="3994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п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1"/>
          <p:cNvSpPr/>
          <p:nvPr/>
        </p:nvSpPr>
        <p:spPr>
          <a:xfrm>
            <a:off x="1870200" y="3598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ужское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женское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а универсальных софийных принцип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базе которых развиваются, в част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2"/>
          <p:cNvSpPr/>
          <p:nvPr/>
        </p:nvSpPr>
        <p:spPr>
          <a:xfrm>
            <a:off x="1150920" y="2158920"/>
            <a:ext cx="683748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вупол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исуща тварному быти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е зависимости от грехопадения, хотя в падше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оянии она и «затемняется» привнесением похо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/>
          <p:cNvSpPr/>
          <p:nvPr/>
        </p:nvSpPr>
        <p:spPr>
          <a:xfrm>
            <a:off x="4929120" y="4300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3475080" y="4300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205092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р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ниальн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474984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дар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алантлив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949320" y="2554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7088040" y="2554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415800" y="4713120"/>
            <a:ext cx="305928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ужской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пособ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чатия, откры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вых ид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5664240" y="4713120"/>
            <a:ext cx="305892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женской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пособ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нашивать, развив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же данные иде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1870200" y="2158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ворче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никает из соеди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2"/>
          <p:cNvSpPr/>
          <p:nvPr/>
        </p:nvSpPr>
        <p:spPr>
          <a:xfrm>
            <a:off x="4929120" y="4300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3475080" y="4300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205092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спод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474984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чин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949320" y="2554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7088040" y="2554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776160" y="4713120"/>
            <a:ext cx="269892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ужского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5664240" y="4713120"/>
            <a:ext cx="269856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женского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в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1870200" y="2158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ла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это един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ложенных в человеческой приро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оположных стремл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4749840" y="4300560"/>
            <a:ext cx="733320" cy="12128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040 h 1212840"/>
              <a:gd name="textAreaBottom" fmla="*/ 879480 h 121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3656160" y="4300560"/>
            <a:ext cx="733320" cy="12128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040 h 1212840"/>
              <a:gd name="textAreaBottom" fmla="*/ 879480 h 121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205092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мира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474984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мер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949320" y="2554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7088040" y="2554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165240" y="4713120"/>
            <a:ext cx="3490920" cy="111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рную, безысходн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итель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стывший миг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ертного страда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5483160" y="4713120"/>
            <a:ext cx="3490920" cy="111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ое заверш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его существов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законченность, исход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вобождение от умир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смер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1"/>
          <p:cNvSpPr/>
          <p:nvPr/>
        </p:nvSpPr>
        <p:spPr>
          <a:xfrm>
            <a:off x="1870200" y="2158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 различ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2"/>
          <p:cNvSpPr/>
          <p:nvPr/>
        </p:nvSpPr>
        <p:spPr>
          <a:xfrm>
            <a:off x="1816200" y="447984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3"/>
          <p:cNvSpPr/>
          <p:nvPr/>
        </p:nvSpPr>
        <p:spPr>
          <a:xfrm>
            <a:off x="736560" y="2895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539640" y="1727280"/>
            <a:ext cx="575784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я тварная не есть неподвижный атрибут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раскрывается, развёртывает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есть имеет характер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цесса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инамический аспект софийности выявл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рез различие между «образом» и «подобие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1619280" y="3309840"/>
            <a:ext cx="575784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йность как целокупная причаст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а Богу есть вместе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раз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сход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некоторым неизменным признака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об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развёртывание образ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 отождествления с Первообр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2698920" y="4894200"/>
            <a:ext cx="575784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соединение мир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 своим Божественным Первообразом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ософиение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Богочеловеческий процесс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центре которого стоит Церковь и который 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спективе должен охватить всю Вселен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 Флоренский (1882-1937)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54200" y="2878200"/>
            <a:ext cx="449892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олп и утверждение истины: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православной теодице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двенадцати письма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 водоразделов мысли (Черты конкретной метафизики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коностас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0-е г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нимости геомет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Флоренский (2-5)"/>
          <p:cNvPicPr/>
          <p:nvPr/>
        </p:nvPicPr>
        <p:blipFill>
          <a:blip r:embed="rId1"/>
          <a:stretch/>
        </p:blipFill>
        <p:spPr>
          <a:xfrm>
            <a:off x="539640" y="1798560"/>
            <a:ext cx="345456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93" name="Text Box 7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 Флоренский (1882-1937)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нкретная метафиз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ий симво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 симво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н-Симво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скретный характер реальности и уровни смысловой вырази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пространства и пространственное понимание бы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сте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кусство и куль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фиология после В. С. Соловьё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nb_pinacoteca_nesterov_philosophers"/>
          <p:cNvPicPr/>
          <p:nvPr/>
        </p:nvPicPr>
        <p:blipFill>
          <a:blip r:embed="rId1"/>
          <a:stretch/>
        </p:blipFill>
        <p:spPr>
          <a:xfrm>
            <a:off x="4246560" y="1798560"/>
            <a:ext cx="431172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 Булгаков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71-1944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 Флоренский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2-1937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 никаких отвлечённых духов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ей или абстрактных идей, 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овный предмет всегда выражен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явлен пластично и зри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еномен и ноумен выражают друг друг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уя нераздельное двуедин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мв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ский симво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я реальность состоит из символов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имво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мещает в себе «природное» и «духовное»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ь едина, она повсюду, в люб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ём элементе и чувственна, и духо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кретность означает не отсутствие духов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мета, но именно конкретный характер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овного предмета, обретаемый им за счёт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пременной воплощённости в чувствен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нет и чисто эмпирических явл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всякое явлени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явление духовной сущности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ый облик определённого ноу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4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ский симво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"/>
          <p:cNvSpPr/>
          <p:nvPr/>
        </p:nvSpPr>
        <p:spPr>
          <a:xfrm>
            <a:off x="971640" y="2338560"/>
            <a:ext cx="719748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ытие, которое больше самого себя, –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аково основное определение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имв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таком подходе иначе поним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цели позн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а выявле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ундаментальных, первичных символ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которых складывается данная обл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носеология симво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первичные символы выделя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других символов свое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стот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элементарностью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а счёт которых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ретают общность и универса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любой сфере познание означа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кры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мволической природы явлени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узр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умена в феномене, так что принципиаль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личия между родами знания исчез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должно быть направлено не на откры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лечённых законов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«управляющих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ными сферами реаль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н-Симво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 одной стороны, н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стая сумма сущего, а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ое цел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собственным ноуменальным содержани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го внутренняя организация предполагает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 тождество частей целому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есть образ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н-Симв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единство есть вообщ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цип внутренней форм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мволической реа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ь в целом также составля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ый симв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, с другой стороны,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бирательное цел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 единство, а множество), поскольк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емлет и содержит в себе все симв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ыми словами реальнос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оит 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искретных эле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мире явлений существуют градац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упени символичност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е так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непрерывны, а дискрет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скретный характер ре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ь «многослойна»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Бытии-Космосе выделяется ря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пластов»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личающихся по степен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явленности ноуменов в феноме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ь должна, таким образо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иматься как состоящая из элементов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ждый из которых представляет собой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дельную и законченную ц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здешний мир нельзя отождествля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полнотой и совершенством быти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еномен может не в совершенств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ражать собой ноум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феномен, и ноумен пространственн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пространствен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и связь их друг с дру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уменальное пространство не являе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пией эмпирического пространства, но он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абсолютно иное: ноуменальный мир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мир «обращённый»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«мнимый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странственное понимание б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е стороны символа: и чувственн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умнáя – получаются одна из друг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ворачиванием наизна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устое, бескачественное простран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зависимое от веще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всего лишь абстракц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ённая истинного существ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обое пространств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тличн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пространства чувственных вещ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лужащее вместилищем ноуменаль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странственное понимание б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5"/>
          <p:cNvSpPr/>
          <p:nvPr/>
        </p:nvSpPr>
        <p:spPr>
          <a:xfrm rot="10800000">
            <a:off x="465120" y="1582200"/>
            <a:ext cx="8277120" cy="4499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переднюю сторону плоскости 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иди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 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дней тольк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ем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о отвлечённо знать о некотор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глядном образе, сущность которого – именно в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глядности, это значит иметь восприятие его каким-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ы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 зрительным, способом, но с корректи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зрительность через отвлечённое понятие или чере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 воспоминания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йствительн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сть в э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ысле воплощение отвлечённого в наглядный материа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которого и было получено отвлечённое;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ним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воплощение того же самого отвлечённ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 наглядном материале инородном. 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э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ысле и надлежит говорить 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ях ощущ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ях мнимых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ях мнимого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3352320" y="6261120"/>
            <a:ext cx="50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А. Флоренский. «Мнимости геометр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особый характер, тесно связанны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культом, приобретает всякая активность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трагивающ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аницу миров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ерть, сновидения, мистический экстаз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кусство, таким образом, оказыва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 эгидой куль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кусство и куль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конопись сущностно едина с онтологией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е области – одна в слов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ая в изображении – д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явление незримых духовных сущ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лючевой момент в устройстве символическо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и – это отношение её двух миров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лежащее ведени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уль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более широком понимани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граничной активностью следует полагать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якое творчеств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скольку оно направл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раскрытие смысловой стороны я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6" descr="rider"/>
          <p:cNvPicPr/>
          <p:nvPr/>
        </p:nvPicPr>
        <p:blipFill>
          <a:blip r:embed="rId1"/>
          <a:stretch/>
        </p:blipFill>
        <p:spPr>
          <a:xfrm>
            <a:off x="5397480" y="1619280"/>
            <a:ext cx="301644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9" name="Text Box 7"/>
          <p:cNvSpPr/>
          <p:nvPr/>
        </p:nvSpPr>
        <p:spPr>
          <a:xfrm>
            <a:off x="5113080" y="6008760"/>
            <a:ext cx="36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Брюллов. «Наездница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32, Третьяковская галере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798560"/>
            <a:ext cx="411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ум основным видам миропоним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возрожденческ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редневековому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ответствуют два типа художественного изоб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ям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10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8" descr="baptism"/>
          <p:cNvPicPr/>
          <p:nvPr/>
        </p:nvPicPr>
        <p:blipFill>
          <a:blip r:embed="rId1"/>
          <a:stretch/>
        </p:blipFill>
        <p:spPr>
          <a:xfrm>
            <a:off x="5037120" y="1619280"/>
            <a:ext cx="345456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84" name="Text Box 9"/>
          <p:cNvSpPr/>
          <p:nvPr/>
        </p:nvSpPr>
        <p:spPr>
          <a:xfrm>
            <a:off x="4859640" y="6008760"/>
            <a:ext cx="38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рещение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30-ые гг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V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, Тверская шко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11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ум основным видам миропоним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возрожденческ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редневековому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ответствуют два типа художественного изоб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ям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ратн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ерспект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01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1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1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1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Булгаков (1871-1944)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йность мироз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54200" y="2878200"/>
            <a:ext cx="461340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 марксизма к идеализму: Сборник стате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3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града: Исследования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природе общественных идеало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1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хозяйств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ет невечерний: Созерцания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умозр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7)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гедия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0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мен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0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786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Булгаков СН (1)"/>
          <p:cNvPicPr/>
          <p:nvPr/>
        </p:nvPicPr>
        <p:blipFill>
          <a:blip r:embed="rId1"/>
          <a:stretch/>
        </p:blipFill>
        <p:spPr>
          <a:xfrm>
            <a:off x="539640" y="1798560"/>
            <a:ext cx="324648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312480" y="5157720"/>
            <a:ext cx="861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клидово пространство однородно, изотропно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прерывно, связно, бесконечно и безгранично;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этому он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пригодно для символизации глубинной,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ерывной, многосвязной, замкнутой и иерархичной реа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1" descr="george"/>
          <p:cNvPicPr/>
          <p:nvPr/>
        </p:nvPicPr>
        <p:blipFill>
          <a:blip r:embed="rId1"/>
          <a:stretch/>
        </p:blipFill>
        <p:spPr>
          <a:xfrm>
            <a:off x="1474920" y="1619280"/>
            <a:ext cx="2516040" cy="324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90" name="Picture 12" descr="Raphael_St_George_and_the_Dragon"/>
          <p:cNvPicPr/>
          <p:nvPr/>
        </p:nvPicPr>
        <p:blipFill>
          <a:blip r:embed="rId2"/>
          <a:stretch/>
        </p:blipFill>
        <p:spPr>
          <a:xfrm>
            <a:off x="5219640" y="1619280"/>
            <a:ext cx="2462400" cy="324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3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4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5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nodeType="afterEffect" fill="hold">
                            <p:stCondLst>
                              <p:cond delay="7440"/>
                            </p:stCondLst>
                            <p:childTnLst>
                              <p:par>
                                <p:cTn id="11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nodeType="clickEffect" fill="hold">
                      <p:stCondLst>
                        <p:cond delay="0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Булгаков (1871-1944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йность мироз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щность и типы философ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роическая аналогия» и троичность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философии как история тринитарных ерес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чение о 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лигиозный материа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ятие 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варная Соф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тургический критерий софи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хозя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искус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по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в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см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2"/>
          <p:cNvSpPr/>
          <p:nvPr/>
        </p:nvSpPr>
        <p:spPr>
          <a:xfrm>
            <a:off x="323856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338560" y="434664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143820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53964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1114560" y="2446200"/>
            <a:ext cx="503856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роично предложение (суждение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отором следует видеть не про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орму выражения мысли, 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ниверсальный выразительный а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2914560" y="4605480"/>
            <a:ext cx="5038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жд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же грамматическое предлож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тологической первооснов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дится всегда к типу: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я есмь неч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ущность и типы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«Троическая аналог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9"/>
          <p:cNvSpPr/>
          <p:nvPr/>
        </p:nvSpPr>
        <p:spPr>
          <a:xfrm>
            <a:off x="3814920" y="5684760"/>
            <a:ext cx="5038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первосуждение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универсаль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орма; как единство трёх членов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лежащего, сказуемого и связки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несёт в себе образ тро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"/>
          <p:cNvSpPr/>
          <p:nvPr/>
        </p:nvSpPr>
        <p:spPr>
          <a:xfrm>
            <a:off x="216000" y="1366920"/>
            <a:ext cx="5038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ное строение здешнего бы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яется сущим в нём (особенно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ироде человека и в сфер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го духа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разом св. Тро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1"/>
          <p:cNvSpPr/>
          <p:nvPr/>
        </p:nvSpPr>
        <p:spPr>
          <a:xfrm>
            <a:off x="2014560" y="3525840"/>
            <a:ext cx="5038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 существование человека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сматриваться как суждение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вёрнут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сказывание человек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 том, что он е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>
            <a:off x="3094200" y="5425920"/>
            <a:ext cx="576000" cy="954360"/>
          </a:xfrm>
          <a:custGeom>
            <a:avLst/>
            <a:gdLst>
              <a:gd name="textAreaLeft" fmla="*/ 77040 w 576000"/>
              <a:gd name="textAreaRight" fmla="*/ 498960 w 57600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2230560" y="434664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136692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50328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079640" y="2446200"/>
            <a:ext cx="51814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ая реальность, скрытая в форм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суждения,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, равновес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равноправ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рёх грамматических нача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ятых как начала онтологическ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2806560" y="4605480"/>
            <a:ext cx="5181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илософия в принципе неспособ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разить цельность триединой реаль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рече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дить Троицу к единиц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бирая часть вместо цел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щность и типы философии</a:t>
            </a:r>
            <a:br>
              <a:rPr sz="3200"/>
            </a:b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История философии как история тринитарных ерес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3670200" y="5684760"/>
            <a:ext cx="5181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является поэт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философией субъекта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Фихте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философией сказуемого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Гегель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философией связки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Спиноз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216000" y="1366920"/>
            <a:ext cx="5181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суждение, таким образом, – э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версальная онтологическая структур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хема сущего», но также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схема истории 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1943280" y="3525840"/>
            <a:ext cx="5181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философии как таков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и, следовательно, всякой философск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стеме) присущ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низ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утвержд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ственного верховного нач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т творения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нят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кон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орческим актом Бо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хотя и после Бога и по Его вол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я есть такж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ворческое начало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ё ключев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ения – «Земля» и «Мат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чение о 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лигиозный матери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вершине сво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ющего и творческого усил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емля-мать потенциально явл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Богоземлёй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оматер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 сотворён из «ничто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следует различ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бсолютное нич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укон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тносительное нич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мео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оём онтологическом существ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я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6369120" y="1366920"/>
            <a:ext cx="2590560" cy="1871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Укон»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ουχ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ό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бсолютное ничт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цел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полож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179280" y="4821120"/>
            <a:ext cx="2590920" cy="1871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Меон»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μη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ό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носитель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что, небыт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реватое быт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3224160" y="49831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2144880" y="372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065240" y="2463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719280" y="1619280"/>
            <a:ext cx="4425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я («Премудрость Божия»)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идеальный первообраз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а в Бо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1798560" y="2878200"/>
            <a:ext cx="44262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я – не только первообра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арного бытия в целом, но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рание первообразо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ждой из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ей и каждого из явлений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2878200" y="4138560"/>
            <a:ext cx="4425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ей неотъемлемо присутству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спект множествен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единства множества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3957480" y="5397480"/>
            <a:ext cx="4426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 же время это не про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единство или мир ид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сегда – 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сонификац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лицетвор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 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 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>
            <a:off x="2355840" y="447984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1096920" y="2895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 Софии</a:t>
            </a:r>
            <a:br>
              <a:rPr sz="36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719280" y="1727280"/>
            <a:ext cx="503856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фийностью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нимается свой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астности отдельного явл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всего тварного мира Соф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воему идеальному первообра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1978200" y="3309840"/>
            <a:ext cx="503856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офийность» вообщ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и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рмонический лад вещ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нцип закономерности и сообраз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универсальная связь мира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остоящая «несофийным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нденциям вражды, хаоса, расп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3238560" y="4894200"/>
            <a:ext cx="503856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авные име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дефиниции Соф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лаго, Истина и Крас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4T21:21:30Z</dcterms:created>
  <dc:creator>Николай Бирюков / Nikolai Biryukov</dc:creator>
  <dc:description>Версия апреля 2007 г.</dc:description>
  <dc:language>en-US</dc:language>
  <cp:lastModifiedBy>LEGION</cp:lastModifiedBy>
  <dcterms:modified xsi:type="dcterms:W3CDTF">2014-11-11T12:47:34Z</dcterms:modified>
  <cp:revision>63</cp:revision>
  <dc:subject>История русской философии - Лекция 12</dc:subject>
  <dc:title>Софиология после В. С. Соловьёва</dc:title>
</cp:coreProperties>
</file>