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33E3-1D1C-445B-8CA8-C2A451A135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37EA-CCD5-4AFB-95D3-F432FF0053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399-D16C-4133-B416-AF77812C6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EE51-AF1B-41F1-9191-6A2CBDE79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C001-FCAD-4FC4-8E02-E30D5D1A74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D52-4EB1-4459-9C17-A001B5755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4D3C-74E6-47CE-BCDE-28888191D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5994-A0A1-4D2B-B5E6-5480C9977E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08DE-47D1-4D89-B647-103B7E2448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8325-52BD-42B6-8084-C2EB03699F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1A2D-FCD0-47F3-9B54-8F758EB21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18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C8D-6224-40FF-8F35-1044C68F92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13E6-2FDC-4D3A-A5C3-AD41A44EE7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F72B-C87E-4D69-BA75-851B72167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858-49A4-43DC-9F25-ABD12F3FB9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9DA0F-4CB0-4303-B415-AF9B1C8F33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3310-2D56-4482-BB0B-A0534AEB8A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8CEF-F5C5-407E-9113-1F4B76938A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104-38B8-4127-941E-219998B202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6CD-8D64-46BF-BB78-58B0D1F6B0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6D2A-F034-457F-9EA5-C47C9F0CF8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3DD-E366-4508-884C-39A6D01BEC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945B-AA3F-4883-B48C-FF018D2DF1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B5F-FC6D-4B99-9836-63D094419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9B2E-F4DF-4976-B5BC-E93FC2A7DC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06CA-6C94-46FD-89F8-4CECC9923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0403-3C79-4232-A77D-57BCF41C8B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F591-3CCE-4BE7-B56F-0FC981DF13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8539-CA5B-446D-9D53-C9AAA2F55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1F76-00BD-4A68-8D75-BD15480C8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9EEB-EE78-439F-9A45-989C12A44D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A508-D606-4243-BD9E-E38C0E898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16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E99-48BC-445B-AE3D-1D81A1D6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662-4F3A-4054-BDD5-777A19A2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C5A-79A4-47BD-B073-0571DC712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6CD-8B7F-4C20-9BEE-8687C4C8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37C-83A8-4BF7-B251-7135A0F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C691-786D-48BA-A6A3-19A043FC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F23-6FC2-4514-9F02-9C8CE676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F2D2-85EA-47D2-B464-4497EC5E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E23-2AC3-474A-85D7-57B5E2AE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3E2-82A5-4348-8F27-93FE54C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F08-A823-472B-AA68-DF18F51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B0E-1EA6-4943-9A65-D12F8C88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735-ECA1-4B55-9D83-89C2898D0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2338560"/>
            <a:ext cx="8493120" cy="17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церковная молитва – не об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альном, а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грешном и падшем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ир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емами софиологии ок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труд, хозяйств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емья, вла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чуждо софийности всё то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за что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но молиться»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лагословляет 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ящает Церковь в своём богослуж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зловые вех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емного суще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рождение, продолжение рода, смерть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217656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917640" y="289548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539640" y="1727280"/>
            <a:ext cx="539928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истоке хозяйство не порожд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ь падшим состоянием мира, 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райское хозяйств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ескорыст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бовный труд человека над природ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её познавания и усовершен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крытия её софийнос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1798560" y="330984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в падшем состоянии мира смыс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мотивы хозяйства радикально меняются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требует теперь усилия и 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яжким бременем, служит не раскр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и,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ужд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57480" y="4894200"/>
            <a:ext cx="539928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о сохран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низшие формы софийности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ей хозяйственной функ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утверждает своё централь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енствующее место в мироздании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ет его софий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кус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539640" y="1727280"/>
            <a:ext cx="583092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«райское хозяйство» и «райск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» тождественны (эта синтетическ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ивность имену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ург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адшем модусе они утрачивают важ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о противоположные) свойства теургии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ановятся как бы дополнительным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619280" y="3309840"/>
            <a:ext cx="583092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зяйство, сохраняя 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енного изменения ми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рачивает ориентир софийност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ность созерцания красоты; искус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храняет способно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еть софий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утрачивает возможность её осущест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2698920" y="4894200"/>
            <a:ext cx="5830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отношение к Софии выраж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и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роса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– влечение, стрем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, однако, никогда не достиг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го соединения со своим предме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чём и заключ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трагедия искус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3"/>
          <p:cNvSpPr/>
          <p:nvPr/>
        </p:nvSpPr>
        <p:spPr>
          <a:xfrm>
            <a:off x="4317840" y="32385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205092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4749840" y="4894200"/>
            <a:ext cx="234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фиолог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949320" y="399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7088040" y="399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п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>
            <a:off x="1870200" y="359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универсальных софийных принцип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базе которых развиваются, в част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2"/>
          <p:cNvSpPr/>
          <p:nvPr/>
        </p:nvSpPr>
        <p:spPr>
          <a:xfrm>
            <a:off x="1150920" y="2158920"/>
            <a:ext cx="683748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пол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исуща тварному быт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не зависимости от грехопадения, хотя в падш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янии она и «затемняется» привнесением похо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ениальн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р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лантливост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415800" y="4713120"/>
            <a:ext cx="305928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атия, откр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х ид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9"/>
          <p:cNvSpPr/>
          <p:nvPr/>
        </p:nvSpPr>
        <p:spPr>
          <a:xfrm>
            <a:off x="5664240" y="4713120"/>
            <a:ext cx="305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пособ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нашивать, развив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данные иде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никает из соеди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492912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475080" y="4300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осп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чин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776160" y="4713120"/>
            <a:ext cx="26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муж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5664240" y="4713120"/>
            <a:ext cx="269856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женского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чал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это един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ложенных в человеческой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положных стремл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474984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3656160" y="4300560"/>
            <a:ext cx="733320" cy="12128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040 h 1212840"/>
              <a:gd name="textAreaBottom" fmla="*/ 879480 h 121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205092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ира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4749840" y="3454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ер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949320" y="2554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7088040" y="2554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6524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рную, безысходн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итель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стывший ми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ного страд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5483160" y="4713120"/>
            <a:ext cx="3490920" cy="111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е завер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его существова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законченность, исход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вобождение от умир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1870200" y="2158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 различ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181620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73656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539640" y="1727280"/>
            <a:ext cx="575784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тварная не есть неподвижный атрибут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раскрывается, развёртываетс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имеет характер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инамический аспект софийности выяв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рез различие между «образом» и «подобие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1619280" y="330984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йность как целокупная причаст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а Богу есть вместе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сход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некоторым неизменным призна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об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развёртывание образ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отождествления с Перво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698920" y="4894200"/>
            <a:ext cx="575784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соединение мир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 своим Божественным Первообразом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ософиение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Богочеловеческий процесс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центре которого стоит Церковь и который 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спективе должен охватить всю Вселенн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4989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олп и утверждение истины: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православной теодицеи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венадцати письма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водоразделов мысли (Черты конкретной метафизики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коностас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-е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имости геометр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Флоренский (2-5)"/>
          <p:cNvPicPr/>
          <p:nvPr/>
        </p:nvPicPr>
        <p:blipFill>
          <a:blip r:embed="rId1"/>
          <a:stretch/>
        </p:blipFill>
        <p:spPr>
          <a:xfrm>
            <a:off x="539640" y="1798560"/>
            <a:ext cx="34545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93" name="Text Box 7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А. Флоренский (1882-1937)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онкретная метафиз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ий симво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носеология  симв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-Симв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 и уровни смысловой выраз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пространства и пространственное понимание бы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фиология после В. С. Соловьё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nb_pinacoteca_nesterov_philosophers"/>
          <p:cNvPicPr/>
          <p:nvPr/>
        </p:nvPicPr>
        <p:blipFill>
          <a:blip r:embed="rId1"/>
          <a:stretch/>
        </p:blipFill>
        <p:spPr>
          <a:xfrm>
            <a:off x="4246560" y="1798560"/>
            <a:ext cx="431172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. Булгаков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71-1944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 Флоренский </a:t>
            </a:r>
            <a:br>
              <a:rPr sz="24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82-1937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т никаких отвлечённых духов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ей или абстрактных идей, 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ый предмет всегда выражен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о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явлен пластично и зр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еномен и ноумен выражают друг друг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уя нераздельное двуеди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 реальность состоит из символов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имво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мещает в себе «природное» и «духовное»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едина, она повсюду, в люб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ём элементе и чувственна, и духо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кретность означает не отсутствие духов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а, но именно конкретный характер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овного предмета, обретаемый им за счёт е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пременной воплощённости в чувствен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нет и чисто эмпирических явл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всякое явлени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духовной сущности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енный облик определённого ноум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4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лософский симво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971640" y="2338560"/>
            <a:ext cx="719748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Бытие, которое больше самого себя, – 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таково основное определе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имв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таком подходе иначе по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ли по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а выявл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ундаментальных, первичных символ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ых складывается данная обла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я симв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первичные символы выделя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других символов сво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стот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элементарность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а счёт которых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тают общность и универса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любой сфере познание означ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природы явлени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з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 в феномене, так что принципиаль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личия между родами знания исчез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должно быть направлено не на открыт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влечённых законов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«управляющих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ными сферами реа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н-Симво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 одной стороны, н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стая сумма сущего, 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собственным ноуменальным содержани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го внутренняя организация предполагает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тождество частей цел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есть образ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-Симв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есть вооб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цип внутренней форм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имволическ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в целом также составл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ый сим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, с другой стороны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бирательное цел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единство, а множество), поскольк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емлет и содержит в себе все симв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 реальность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оит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ых эле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мире явлений существуют градац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упени символич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так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епрерывны, а дискре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скретный характер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«многослойна»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ытии-Космосе выделяется ря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ластов»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личающихся по степен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явленности ноуменов в феноме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ь должна, таким образо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иматься как состоящая из элемент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ый из которых представляет собо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ельную и законченную ц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здешний мир нельзя отождествл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олнотой и совершенством быти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еномен может не в совершенств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ражать собой ноу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феномен, и ноумен пространственн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простран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вляется и связь их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уменальное пространство не явля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пией эмпирического пространства, но он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абсолютно иное: ноуменальный мир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мир «обращённый»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«мнимый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стороны символа: и чувствен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умнáя – получаются одна из друг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рачиванием наизна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устое, бескачественное простран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е от вещ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всего лишь абстрак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шённая истинного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собое простран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тлич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 пространства чувственных ве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лужащее вместилищем ноуменаль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кретная метафиз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странственное понимание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 rot="10800000">
            <a:off x="465120" y="1582200"/>
            <a:ext cx="8277120" cy="4499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переднюю сторону плоскости м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и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 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дней 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ем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отвлечённо знать о некотор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м образе, сущность которого – именно в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глядности, это значит иметь восприятие его каки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ны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е зрительным, способом, но с корректи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рительность через отвлечённое понятие или чер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 воспоминани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тельн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сть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воплощение отвлечённого в наглядный матери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которого и было получено отвлечённое; 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имо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площение того же самого отвлечённ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наглядном материале инородном. 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э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ысле и надлежит говорить 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нятиях ощущ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ы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ениях мнимого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3352320" y="6261120"/>
            <a:ext cx="50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А. Флоренский. «Мнимости геометр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>
            <a:off x="251784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179856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1079640" y="326700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35892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6"/>
          <p:cNvSpPr/>
          <p:nvPr/>
        </p:nvSpPr>
        <p:spPr>
          <a:xfrm>
            <a:off x="934920" y="2446200"/>
            <a:ext cx="583092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особый характер, тесно связанны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культом, приобретает всякая активность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трагивающ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раницу миров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мерть, сновидения, мистический экстаз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2374920" y="460548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кусство, таким образом, оказыва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 эгидой 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усство и куль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3094200" y="5684760"/>
            <a:ext cx="5830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конопись сущностно едина с онтологией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е области – одна в слов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ая в изображении – д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явление незримых духовных сущ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0"/>
          <p:cNvSpPr/>
          <p:nvPr/>
        </p:nvSpPr>
        <p:spPr>
          <a:xfrm>
            <a:off x="216000" y="136692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лючевой момент в устройстве символической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 – это отношение её двух миров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е ведени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1654200" y="3525840"/>
            <a:ext cx="583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лее широком понимани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граничной активностью следует полагать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якое творчеств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скольку оно напра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раскрытие смысловой стороны яв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2" descr="florensky"/>
          <p:cNvPicPr/>
          <p:nvPr/>
        </p:nvPicPr>
        <p:blipFill>
          <a:blip r:embed="rId1"/>
          <a:stretch/>
        </p:blipFill>
        <p:spPr>
          <a:xfrm>
            <a:off x="7808760" y="1366920"/>
            <a:ext cx="979560" cy="2698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rider"/>
          <p:cNvPicPr/>
          <p:nvPr/>
        </p:nvPicPr>
        <p:blipFill>
          <a:blip r:embed="rId1"/>
          <a:stretch/>
        </p:blipFill>
        <p:spPr>
          <a:xfrm>
            <a:off x="5397480" y="1619280"/>
            <a:ext cx="301644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79" name="Text Box 7"/>
          <p:cNvSpPr/>
          <p:nvPr/>
        </p:nvSpPr>
        <p:spPr>
          <a:xfrm>
            <a:off x="5113080" y="60087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. Брюллов. «Наездница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32, Третьяковская галере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79856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baptism"/>
          <p:cNvPicPr/>
          <p:nvPr/>
        </p:nvPicPr>
        <p:blipFill>
          <a:blip r:embed="rId1"/>
          <a:stretch/>
        </p:blipFill>
        <p:spPr>
          <a:xfrm>
            <a:off x="5037120" y="1619280"/>
            <a:ext cx="3454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84" name="Text Box 9"/>
          <p:cNvSpPr/>
          <p:nvPr/>
        </p:nvSpPr>
        <p:spPr>
          <a:xfrm>
            <a:off x="4859640" y="6008760"/>
            <a:ext cx="38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Крещение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0-ые гг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V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, Тверская школ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1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ум основным видам миропоним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озрожден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средневековому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ответствуют два типа художественного изоб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ям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ратна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ерспект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1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10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54200" y="2878200"/>
            <a:ext cx="461340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марксизма к идеализму: Сборник статей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03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града: Исследов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природе общественных идеал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1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хозяйств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вет невечерний: Созерцани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умо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17)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гедия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ия имен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920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78620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Булгаков СН (1)"/>
          <p:cNvPicPr/>
          <p:nvPr/>
        </p:nvPicPr>
        <p:blipFill>
          <a:blip r:embed="rId1"/>
          <a:stretch/>
        </p:blipFill>
        <p:spPr>
          <a:xfrm>
            <a:off x="539640" y="1798560"/>
            <a:ext cx="32464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стетик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ямая и обратная перспекти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12480" y="5157720"/>
            <a:ext cx="861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вклидово пространство однородно, изотропно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прерывно, связно, бесконечно и безгранично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оно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ригодно для символизации глубинной,</a:t>
            </a:r>
            <a:br>
              <a:rPr sz="2000"/>
            </a:b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рывной, многосвязной, замкнутой и иерархичной реа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george"/>
          <p:cNvPicPr/>
          <p:nvPr/>
        </p:nvPicPr>
        <p:blipFill>
          <a:blip r:embed="rId1"/>
          <a:stretch/>
        </p:blipFill>
        <p:spPr>
          <a:xfrm>
            <a:off x="1474920" y="1619280"/>
            <a:ext cx="251604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90" name="Picture 12" descr="Raphael_St_George_and_the_Dragon"/>
          <p:cNvPicPr/>
          <p:nvPr/>
        </p:nvPicPr>
        <p:blipFill>
          <a:blip r:embed="rId2"/>
          <a:stretch/>
        </p:blipFill>
        <p:spPr>
          <a:xfrm>
            <a:off x="5219640" y="1619280"/>
            <a:ext cx="2462400" cy="3240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nodeType="afterEffect" fill="hold">
                            <p:stCondLst>
                              <p:cond delay="7440"/>
                            </p:stCondLst>
                            <p:childTnLst>
                              <p:par>
                                <p:cTn id="11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nodeType="clickEffect" fill="hold">
                      <p:stCondLst>
                        <p:cond delay="0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.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. Булгаков (1871-1944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фийность мир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роическая аналогия» и троичность пред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лигиозный материализ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варная Соф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тургический критерий софий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хозя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кус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по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твор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в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сме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фиология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2"/>
          <p:cNvSpPr/>
          <p:nvPr/>
        </p:nvSpPr>
        <p:spPr>
          <a:xfrm>
            <a:off x="323856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38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143820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53964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1114560" y="2446200"/>
            <a:ext cx="503856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оично предложение (суждени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отором следует видеть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у выражения мысли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версальный выразительный ак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914560" y="4605480"/>
            <a:ext cx="5038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жд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же грамматическое предлож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тологической первоосн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дится всегда к типу: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я есмь нечт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Троическая аналог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3814920" y="568476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первосуждение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ниверс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орма; как единство трёх членов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лежащего, сказуемого и связк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о несёт в себе образ тро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216000" y="136692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ностное строение здешнего бы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ется сущим в нём (особенно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и в сфер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духа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св. Тро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1"/>
          <p:cNvSpPr/>
          <p:nvPr/>
        </p:nvSpPr>
        <p:spPr>
          <a:xfrm>
            <a:off x="2014560" y="3525840"/>
            <a:ext cx="503856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 существование человека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ться как суждение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вёрнут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сказывание человек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том, что он 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3094200" y="5425920"/>
            <a:ext cx="576000" cy="954360"/>
          </a:xfrm>
          <a:custGeom>
            <a:avLst/>
            <a:gdLst>
              <a:gd name="textAreaLeft" fmla="*/ 77040 w 576000"/>
              <a:gd name="textAreaRight" fmla="*/ 498960 w 57600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2230560" y="434664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36692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503280" y="218772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1079640" y="2446200"/>
            <a:ext cx="51814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ая реальность, скрытая в форм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я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о, равновес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равнопра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рёх грамматически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нятых как начала онтологическ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2806560" y="460548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илософия в принципе неспособ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разить цельность триединой реаль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рече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дить Троицу к единиц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бирая часть вместо цел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и типы философии</a:t>
            </a:r>
            <a:br>
              <a:rPr sz="32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История философии как история тринитарных ересе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3670200" y="5684760"/>
            <a:ext cx="518184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является поэт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убъекта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Фихте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казуемого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Гегель)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философией связки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Спиноз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216000" y="136692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осуждение, таким образом, –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онтологическая структур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хема сущего», но также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схема истории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1943280" y="3525840"/>
            <a:ext cx="518148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философии как таков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, следовательно, всякой философс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стеме) присущ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низ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утвержд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динственного верховного нач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т творения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нят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кон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ческим актом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хотя и после Бога и по Его вол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так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ворческое начало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её ключев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 – «Земля» и «Мать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лигиозный матери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ершине сво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ющего и творческого усил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мля-мать потенциально яв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Богоземлёй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ат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 сотворён из «ничто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ледует различ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бсолют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укон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тносительное ничто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мео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ём онтологическом существ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6369120" y="1366920"/>
            <a:ext cx="259056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Ук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ουχ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бсолютное ничт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цел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ивопол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79280" y="4821120"/>
            <a:ext cx="2590920" cy="187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Меон»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μη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ό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</a:rPr>
              <a:t>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итель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что, небыт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реватое быт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3224160" y="49831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2144880" y="372420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065240" y="24638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19280" y="161928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(«Премудрость Божия»)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«идеальный первообраз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а в Бо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798560" y="2878200"/>
            <a:ext cx="44262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фия – не только первообра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арного бытия в целом, но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рание первообразов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ждо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ей и каждого из явлений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2878200" y="4138560"/>
            <a:ext cx="44258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ей неотъемлемо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спект множествен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единства множества: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а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един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957480" y="5397480"/>
            <a:ext cx="44262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же время это не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единство или мир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сегда – 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сонифика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лицетвор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 Со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2355840" y="4479840"/>
            <a:ext cx="880920" cy="1457280"/>
          </a:xfrm>
          <a:custGeom>
            <a:avLst/>
            <a:gdLst>
              <a:gd name="textAreaLeft" fmla="*/ 117720 w 880920"/>
              <a:gd name="textAreaRight" fmla="*/ 763200 w 88092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1096920" y="2895480"/>
            <a:ext cx="881280" cy="1457280"/>
          </a:xfrm>
          <a:custGeom>
            <a:avLst/>
            <a:gdLst>
              <a:gd name="textAreaLeft" fmla="*/ 118080 w 881280"/>
              <a:gd name="textAreaRight" fmla="*/ 763200 w 881280"/>
              <a:gd name="textAreaTop" fmla="*/ 254880 h 1457280"/>
              <a:gd name="textAreaBottom" fmla="*/ 1056600 h 14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 Софии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Тварная Соф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719280" y="1727280"/>
            <a:ext cx="5038560" cy="1474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фийность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нимается свойств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астности отдельного яв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сего тварного мира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воему идеальному первообра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1978200" y="330984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Софийность» вообщ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рмонический лад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нцип закономерности и сообраз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универсальная связь мира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стоящая «несофийным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нденциям вражды, хаоса, расп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3238560" y="4894200"/>
            <a:ext cx="5038560" cy="147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авные име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дефиниции Соф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о, Истина и Крас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21:21:30Z</dcterms:created>
  <dc:creator>Николай Бирюков / Nikolai Biryukov</dc:creator>
  <dc:description>Версия апреля 2007 г.</dc:description>
  <dc:language>en-US</dc:language>
  <cp:lastModifiedBy>LEGION</cp:lastModifiedBy>
  <dcterms:modified xsi:type="dcterms:W3CDTF">2014-11-11T12:47:34Z</dcterms:modified>
  <cp:revision>63</cp:revision>
  <dc:subject>История русской философии - Лекция 12</dc:subject>
  <dc:title>Софиология после В. С. Соловьёва</dc:title>
</cp:coreProperties>
</file>