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8C1C-B8A3-4F25-ACF5-DF733919D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C2EC-5AFF-4516-A74C-AAFE78E78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5E97-B94E-437E-8B26-988D532637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8BCA-9BF6-4879-8F99-921100872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3AE6-2774-46FE-ACC9-A164E7591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FB6C-320B-496A-BCA1-BA62728F4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DDDA-8A79-468C-867E-3F847834C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A6F-3E7E-418F-B19B-CB42B5DBB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DC07-10E6-4A65-A95C-0894A1D1A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0DEC-9514-4B4B-A6CA-A5642FE2B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1CB3-4B15-40CD-A645-ED5DA504F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1C3-F064-48DC-A7E7-F3418DBEB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45FC-7F0F-465F-A46C-636693154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B88C-76EE-4D92-A401-4052A8CFF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E56B-37F3-40E5-8AD0-ED9EA166A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B0CA-B5D1-47D8-9691-05E2A7E9B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E643-8E5F-4FD6-AF66-67D00C53D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4574-DB9D-47ED-9AC1-135AB16C8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7CCD-941A-4BDC-85A3-0F4A459E2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F8A7-13CD-49CF-BC21-6FD7AFC21A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06F5-DFC4-4FBA-9C4E-0C1145E45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395D-225D-49FD-AC4E-DB0583D71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D471-D267-4880-A561-2A35C77037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6719-5967-45C5-A74A-36AC4FA13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46F2-FB00-4BB3-B4A6-765ABF54F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E73E-2250-4203-9649-648E997C3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43C3-EE8C-46C2-8A84-985AFB601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8753-1E8D-4F22-AEB9-9CD377961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0034-F78A-4813-AB7D-A80B10EF3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F54D-9C16-46F5-A0ED-2ED6BC603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A3DE-1590-4865-BEB0-65E24DBCE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40D3-45DA-4823-B3C6-A79291DF3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CDA-AF7A-4641-A5CB-C65053AF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7F7-438E-4D21-B40E-74A4C2AA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FD5-9993-4765-94F5-ACA98E7D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DAC-61D8-4790-9885-FA69292C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C7B-3C48-4EB5-90B9-4E1CADB8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9E2-166F-46C3-9B76-29F17DB1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57B-DB38-4ED2-93A6-44FA3518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7B2-EFDF-4991-B1A7-6759E006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349-5DA4-4C70-B659-8718CC42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667-D5BF-4AB1-ADBC-DB755717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5EA-E355-4219-8B9C-5A4D1E89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28B-5A8D-43C8-8B4E-2F0A3F0B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7D8E-D8F3-4CF7-90C6-5539C9648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церковная молитва – не об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альном, а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грешном и падше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емами софиологии ок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труд, хозяйств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емья, вла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чуждо софийности всё 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 ч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но молиться»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лагословляет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ящает Церковь в своём богосл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ловые вех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емного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рождение, продолжение рода, смерт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17656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17640" y="289548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727280"/>
            <a:ext cx="53992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истоке хозяйство не порожд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адшим состоянием мира, 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айское хозяйств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ескорыст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овный труд человека над природ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её познавания и усовершен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крытия её софий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798560" y="330984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в падшем состоянии мира смыс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отивы хозяйства радикально меняются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требует теперь усилия и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яжким бременем, служит не раскр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57480" y="489420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о сохран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зшие формы софийности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ей хозяйственной функ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утверждает своё центра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енствующее место в мироздании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ет его софий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9640" y="1727280"/>
            <a:ext cx="583092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райское хозяйство» и «рай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» тождественны (эта синтет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ивность имену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ург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дшем модусе они утрачивают важ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о противоположные) свойства теурги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ятся как бы дополнительным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19280" y="3309840"/>
            <a:ext cx="583092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зяйство, сохраня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енного изменения ми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рачивает ориентир софийн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созерцания красоты; искус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храняет способно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еть софий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трачивает возможность её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698920" y="4894200"/>
            <a:ext cx="5830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отношение к Софии выраж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рос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– влечение, стрем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, однако, никогда не достиг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го соединения со своим предме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и заключ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трагедия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4317840" y="32385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05092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74984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49320" y="399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7088040" y="399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1870200" y="359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универсальных софийных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базе которых развиваются, в част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150920" y="2158920"/>
            <a:ext cx="683748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пол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суща тварному б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зависимости от грехопадения, хотя в падш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она и «затемняется» привнесением похо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лантлив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15800" y="4713120"/>
            <a:ext cx="305928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атия, откр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664240" y="4713120"/>
            <a:ext cx="305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нашивать, разви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данные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из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п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76160" y="4713120"/>
            <a:ext cx="26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664240" y="4713120"/>
            <a:ext cx="269856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ложенных в человеческой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ых стрем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74984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65616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ир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6524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рную, безысход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тель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стывший ми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ного стр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48316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е завер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конченность, исход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ие от умир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 разл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727280"/>
            <a:ext cx="575784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тварная не есть неподвижный атрибут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раскрывается, развёртыв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имеет характе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намический аспект софийности вы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азличие между «образом» и «подоб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330984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ь как целокупная причаст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а Богу есть вместе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х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некоторым неизменным призна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об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развёртывание обра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отождествления с Перво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698920" y="489420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соединение мир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воим Божественным Первообразом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софиени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Богочеловеческий процес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нтре которого стоит Церковь и который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спективе должен охватить всю Всел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Флоренский (2-5)"/>
          <p:cNvPicPr/>
          <p:nvPr/>
        </p:nvPicPr>
        <p:blipFill>
          <a:blip r:embed="rId1"/>
          <a:stretch/>
        </p:blipFill>
        <p:spPr>
          <a:xfrm>
            <a:off x="539640" y="1798560"/>
            <a:ext cx="34545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b_pinacoteca_nesterov_philosophers"/>
          <p:cNvPicPr/>
          <p:nvPr/>
        </p:nvPicPr>
        <p:blipFill>
          <a:blip r:embed="rId1"/>
          <a:stretch/>
        </p:blipFill>
        <p:spPr>
          <a:xfrm>
            <a:off x="4246560" y="1798560"/>
            <a:ext cx="4311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кретность означает не отсутствие духо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а, но именно конкрет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предмета, обретаемый им за счёт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менной воплощённости в чувств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971640" y="2338560"/>
            <a:ext cx="719748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тие, которое больше самого себя,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ково основное определе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по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должно быть направлено не на от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«управляющих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-Симво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 одной стороны,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ая сумма сущего, 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собственным ноуменальным содержа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внутренняя организация предполагает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тождество частей цел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образ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есть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 внутренней 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в целом также составл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с другой стороны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иратель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единство, а множество), посколь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млет и содержит в себе все симв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 реальн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ире явлений существуют града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пени символич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прерывны, а дискре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«многослойна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ытии-Космосе выделяется ря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ластов»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ающихся по степ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явленности ноуменов в фено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должна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иматься как состоящая из элемент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из которых представляет соб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ельную и законченную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здешний мир нельзя отождествл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олнотой и совершенством быти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номен может не в соверше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жать собой н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, бескачественное простра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е от ве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сего лишь абстрак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ённая истинного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лич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 rot="10800000">
            <a:off x="465120" y="1582200"/>
            <a:ext cx="8277120" cy="4499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особый характер, тесно связанн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культом, приобретает всякая активность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трагива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у миров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, сновидения, мистический экстаз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, таким образом,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 эгидой 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конопись сущностно едина с онтологией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области – одна в слов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ая в изображении – д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незримых духовных сущ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ючевой момент в устройстве символ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 – это отношение её двух мир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е веде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лее широком понимани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граничной активностью следует полагать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е творче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кольку оно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раскрытие смысловой стороны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ider"/>
          <p:cNvPicPr/>
          <p:nvPr/>
        </p:nvPicPr>
        <p:blipFill>
          <a:blip r:embed="rId1"/>
          <a:stretch/>
        </p:blipFill>
        <p:spPr>
          <a:xfrm>
            <a:off x="5397480" y="1619280"/>
            <a:ext cx="30164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9" name="Text Box 7"/>
          <p:cNvSpPr/>
          <p:nvPr/>
        </p:nvSpPr>
        <p:spPr>
          <a:xfrm>
            <a:off x="5113080" y="60087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Брюллов. «Наездница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2, Третьяковская гале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baptism"/>
          <p:cNvPicPr/>
          <p:nvPr/>
        </p:nvPicPr>
        <p:blipFill>
          <a:blip r:embed="rId1"/>
          <a:stretch/>
        </p:blipFill>
        <p:spPr>
          <a:xfrm>
            <a:off x="5037120" y="1619280"/>
            <a:ext cx="3454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4" name="Text Box 9"/>
          <p:cNvSpPr/>
          <p:nvPr/>
        </p:nvSpPr>
        <p:spPr>
          <a:xfrm>
            <a:off x="4859640" y="600876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ещени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0-ые гг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, Тверская ш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6134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улгаков СН (1)"/>
          <p:cNvPicPr/>
          <p:nvPr/>
        </p:nvPicPr>
        <p:blipFill>
          <a:blip r:embed="rId1"/>
          <a:stretch/>
        </p:blipFill>
        <p:spPr>
          <a:xfrm>
            <a:off x="539640" y="1798560"/>
            <a:ext cx="32464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12480" y="5157720"/>
            <a:ext cx="86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клидово пространство однородно, изотропн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, связно, бесконечно и безгранично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о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ригодно для символизации глубинной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рывной, многосвязной, замкнутой и иерархичной ре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george"/>
          <p:cNvPicPr/>
          <p:nvPr/>
        </p:nvPicPr>
        <p:blipFill>
          <a:blip r:embed="rId1"/>
          <a:stretch/>
        </p:blipFill>
        <p:spPr>
          <a:xfrm>
            <a:off x="1474920" y="1619280"/>
            <a:ext cx="251604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90" name="Picture 12" descr="Raphael_St_George_and_the_Dragon"/>
          <p:cNvPicPr/>
          <p:nvPr/>
        </p:nvPicPr>
        <p:blipFill>
          <a:blip r:embed="rId2"/>
          <a:stretch/>
        </p:blipFill>
        <p:spPr>
          <a:xfrm>
            <a:off x="5219640" y="1619280"/>
            <a:ext cx="246240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323856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38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438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9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114560" y="2446200"/>
            <a:ext cx="5038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оично предложение (суждени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м следует видеть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у выражения мысли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ый выразительный 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914560" y="460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же грамматическое пред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тологической первоосн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дится всегда к типу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 есмь не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14920" y="568476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ервосуждение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ниверс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а; как единство трёх членов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го, сказуемого и связк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несёт в себе образ тро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216000" y="136692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ное строение здешнего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ется сущим в нём (особенн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и в сфе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духа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св. Тро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014560" y="352584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существование человек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ться как суждени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вёрнут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казывание челове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том, что он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реальность, скрытая 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я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, равновес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равнопра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рёх грамматически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ых как начала онтолог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в принципе неспособ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зить цельность триединой реа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че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дить Троицу к единиц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бирая часть вмест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является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убъекта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Фихт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казуемог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Гегель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вязки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пин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е, таким образом, –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онтологическая структу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хема сущего», но также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хема истори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философии как так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, следовательно, всякой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стеме) присущ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твер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го верховного 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 творения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ня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м актом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хотя и после Бога и по Его вол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так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кое начало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ё ключе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 – «Земля» и «М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ершине сво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ющего и творческого усил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я-мать потенциально 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Богоземлё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сотворён из «ничто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ледует различ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укон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носитель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ме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онтологическом суще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369120" y="1366920"/>
            <a:ext cx="259056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Ук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ουχ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 ничт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цел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4821120"/>
            <a:ext cx="259092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Ме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μη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итель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то, небыт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реватое бы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322416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44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065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(«Премудрость Божия»)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идеальный первообраз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в Б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– не только первообра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арного бытия в целом, н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рание первообразо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и каждого из явлений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й неотъемлемо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спект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единства множеств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же время это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или мир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сегда – 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сонифика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лице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35584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9692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9280" y="1727280"/>
            <a:ext cx="503856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фийность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имается свой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астности отдельного яв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сего тварного мира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ему идеаль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978200" y="330984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офийность» вообщ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ческий лад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цип закономерности и сообраз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ниверсальная связь мира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стоящая «несофийным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нденциям вражды, хаоса, рас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238560" y="489420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ые име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дефиниции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, Истина и Кра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1:21:30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2:47:34Z</dcterms:modified>
  <cp:revision>63</cp:revision>
  <dc:subject>История русской философии - Лекция 12</dc:subject>
  <dc:title>Софиология после В. С. Соловьёва</dc:title>
</cp:coreProperties>
</file>