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6B55-4AB4-4320-9995-428240EBEF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ОТЕНЦИАЛ ГОРОДОВ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ховская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рдинатор GEM Россия, 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хина М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тель GEM Россия, 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«Предпринимательство в России: основные направления исследован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декабря 2008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ОТЕНЦИАЛ ГОРОДОВ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ховская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рдинатор GEM Россия, 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хина М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тель GEM Россия, 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«Предпринимательство в России: основные направления исследован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декабря 2008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ational Expert Surveys — 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ос по специально разработанным анкетам и глубинные интервью с предпринимателями и экспертами в област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енее 36 интерв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групп в соответствии с классификацией, предлагаемой методикой GEM, в которой определены основные показатели внешней среды, влияющие на предпринимательскую активность и экономический р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информации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ational Expert Surveys — 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ос по специально разработанным анкетам и глубинные интервью с предпринимателями и экспертами в област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енее 36 интерв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групп в соответствии с классификацией, предлагаемой методикой GEM, в которой определены основные показатели внешней среды, влияющие на предпринимательскую активность и экономический р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информации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предприним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ысе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Рождение фир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ж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предприним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ысе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Рождение фир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ж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ДЕКС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ЕКС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EA и ВВП на душу населения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EA и ВВП на душу населения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казатели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и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А: индивидуальное воспри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g. Вы лично знаете человека, который за последние 2 года открыл свой бизне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h. В последующие шесть месяцев в том регионе, где Вы живете, будут созданы благоприятные условия для начала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i. У Вас есть знания, навыки и опыт, необходимые для открыти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j. Страх провала помешал бы вам начать свое д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В: национальные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k. В России большинство людей предпочло бы, чтобы все имели одинаковый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l. В России большинство людей воспринимает открытие нового бизнеса как желательный выбор карь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m. В России те люди, которые добились успеха в создании и развитии нового бизнеса, имеют высокий статус и ува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n. В России Вы можете часто видеть в прессе статьи о новых успешных предприят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по оценке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А: индивидуальное воспри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g. Вы лично знаете человека, который за последние 2 года открыл свой бизне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h. В последующие шесть месяцев в том регионе, где Вы живете, будут созданы благоприятные условия для начала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i. У Вас есть знания, навыки и опыт, необходимые для открыти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j. Страх провала помешал бы вам начать свое д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В: национальные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k. В России большинство людей предпочло бы, чтобы все имели одинаковый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l. В России большинство людей воспринимает открытие нового бизнеса как желательный выбор карь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m. В России те люди, которые добились успеха в создании и развитии нового бизнеса, имеют высокий статус и ува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n. В России Вы можете часто видеть в прессе статьи о новых успешных предприят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по оценке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, Россия – США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, Россия – США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ющие бизне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ющие бизне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: Россия 2007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: Россия 2007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международная инициатива по исследованию взаимосвязи между предпринимательством и ростом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уникальная (по сопоставимости) ежегодно обновляемая баз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источник информации для всестороннего анализа предпринимательства на национальном и глобальном уровн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международная инициатива по исследованию взаимосвязи между предпринимательством и ростом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уникальная (по сопоставимости) ежегодно обновляемая баз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источник информации для всестороннего анализа предпринимательства на национальном и глобальном уровн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п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п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возра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возра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ХАРАКТЕР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и «по необходимости» (Necessity Entrepreneurs) – предприниматели, которые пытаются начать свое дело в силу того, что у них нет иных возможностей для получения до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и «по возможности» (Opportunity Entrepreneurs) – предприниматели, которые пытаются использовать открывающиеся возможности и получать преимущества от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и «по необходимости» (Necessity Entrepreneurs) – предприниматели, которые пытаются начать свое дело в силу того, что у них нет иных возможностей для получения до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и «по возможности» (Opportunity Entrepreneurs) – предприниматели, которые пытаются использовать открывающиеся возможности и получать преимущества от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отивы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ы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новацио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зна проду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новацио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овизна проду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: конкурентное окру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новационность: конкурентное окру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кальная международная база данных по предпринимательст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7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уск: Великобритания, США, Финляндия, Ирлан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9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 первый отчет / 10 стран-участни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 стран-участ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о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5 стран-участ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зия и Океания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а (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жная Америка (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ая и Центральная Америка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фрик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кальная международная база данных по предпринимательст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7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уск: Великобритания, США, Финляндия, Ирлан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9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 первый отчет / 10 стран-участни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 стран-участ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о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5 стран-участ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зия и Океания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а (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жная Америка (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ая и Центральная Америка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фрик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ПРЕДПРИНИМАТЕЛЬСКУЮ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ПРЕДПРИНИМАТЕЛЬСКУЮ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трицательно влияющие на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трицательно влияющие на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положительно влияющие на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положительно влияющие на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акторы, стимулирующие развитие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тимулирующие развитие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ение уровней предпринимательской активности между стр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факторов, влияющих на уровень предпринимательской активности (как стимулирующих, так и ограничивающих предпринимательскую деятель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того, как различия в уровнях предпринимательской активности связаны с экономическим рос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того, что можно сделать для увеличения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проекта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ение уровней предпринимательской активности между стр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факторов, влияющих на уровень предпринимательской активности (как стимулирующих, так и ограничивающих предпринимательскую деятель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того, как различия в уровнях предпринимательской активности связаны с экономическим рос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того, что можно сделать для увеличения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проекта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к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предпринимательской активности и предпринимательский потенциал общества, которые опреде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м финансовой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ой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ми програм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ем образования и профессиональной подготов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отой внедрения научно-технических разрабо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м коммерческой и профессиональной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ю физической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остью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культурными нор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е группы предпринимателей: потенциальные, ранние, нарождающиеся, устоявшиеся, владельцы вновь созданного бизнеса, вышедшие из бизнеса, бизнес-анге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к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предпринимательской активности и предпринимательский потенциал общества, которые опреде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м финансовой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ой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ми програм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ем образования и профессиональной подготов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отой внедрения научно-технических разрабо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м коммерческой и профессиональной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ю физической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остью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культурными нор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е группы предпринимателей: потенциальные, ранние, нарождающиеся, устоявшиеся, владельцы вновь созданного бизнеса, вышедшие из бизнеса, бизнес-анге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к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рет российского предпринимателя: социо-демографические характерис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ексы оценки политики в област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 (конкурентное окружение, новизна продукта для потребителей, новизна используемых 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рос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ный потенц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к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рет российского предпринимателя: социо-демографические характерис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ексы оценки политики в област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 (конкурентное окружение, новизна продукта для потребителей, новизна используемых 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рос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ный потенц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, предоставляемые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исследова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омасштабный независимый анализ российского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анная и постоянно усовершенствуемая методика сбор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ый анализ данных по России с национальными базами данных более чем 40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рганов системы государственной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, которой нет в официальной статистике Информирование о состоя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общей информации для интернационализации российского малого и средне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редств массов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общественной осведомленности о состоянии и проблемах 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информации о предпринимательстве в России и за рубеж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, предоставляемые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исследова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омасштабный независимый анализ российского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анная и постоянно усовершенствуемая методика сбор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ый анализ данных по России с национальными базами данных более чем 40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рганов системы государственной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, которой нет в официальной статистике Информирование о состоя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общей информации для интернационализации российского малого и средне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редств массов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общественной осведомленности о состоянии и проблемах 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информации о предпринимательстве в России и за рубеж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нцептуальная модель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ая модель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dult Population Surveys — 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ос взрослого трудоспособного населения с помощью специально разработанных анкет, вопросы которой с разных сторон характеризуют отношение респондента к организации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in. 2 00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информации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dult Population Surveys — 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ос взрослого трудоспособного населения с помощью специально разработанных анкет, вопросы которой с разных сторон характеризуют отношение респондента к организации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in. 2 00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информации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263-6F64-4A56-A861-C16EAFC7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5998-C8D4-4688-83D1-BCD241EF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B4DC-072A-424F-94B0-123BD707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CFEA-653F-4D0C-9F87-3281B1F3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CACE-DDE7-408A-AC57-7308A6DD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F93A-25EE-4AE4-BBEE-6B383447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12FE-D957-4E68-B062-0071E7C0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2101-0CC8-46D1-82CF-A1917C2E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972D-B960-4A39-B3D8-675FA03F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DAA3-67E7-4D26-BFA3-792D472C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EB6B-0ECB-464D-9F2E-161359B2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A7A7-4B67-4CF8-9956-C420C281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F400-224D-438B-A366-CD49F4ED78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pres1"/>
          <p:cNvPicPr/>
          <p:nvPr/>
        </p:nvPicPr>
        <p:blipFill>
          <a:blip r:embed="rId1"/>
          <a:stretch/>
        </p:blipFill>
        <p:spPr>
          <a:xfrm>
            <a:off x="0" y="1177920"/>
            <a:ext cx="9036000" cy="1455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-228600" y="1355760"/>
            <a:ext cx="984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ЕДПРИНИМАТЕЛЬСКИЙ КЛИМАТ РОСС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И ПОТЕНЦИАЛ ГОРОДОВ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752400" y="3309840"/>
            <a:ext cx="749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104840" y="3849840"/>
            <a:ext cx="669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ерховская Оль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ординатор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M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Россия, ВШМ СПб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рохина М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следователь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M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Россия, ВШМ СПб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инар «Предпринимательство в России: основные направления исследован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декабря 2008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logo GEM"/>
          <p:cNvPicPr/>
          <p:nvPr/>
        </p:nvPicPr>
        <p:blipFill>
          <a:blip r:embed="rId2"/>
          <a:stretch/>
        </p:blipFill>
        <p:spPr>
          <a:xfrm>
            <a:off x="3978360" y="2784600"/>
            <a:ext cx="963360" cy="8920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1687320"/>
            <a:ext cx="91440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National Expert Surveys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—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N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 по специально разработанным анкетам и глубинные интервью с предпринимателями и экспертами в области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енее 36 интерв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групп в соответствии с классификацией, предлагаемой методикой GEM, в которой определены основные показатели внешней среды, влияющие на предпринимательскую активность и экономический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2863800" y="806400"/>
            <a:ext cx="49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сточники информации 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2863800" y="806400"/>
            <a:ext cx="49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ипы предприним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6"/>
          <p:cNvGrpSpPr/>
          <p:nvPr/>
        </p:nvGrpSpPr>
        <p:grpSpPr>
          <a:xfrm>
            <a:off x="250920" y="1700280"/>
            <a:ext cx="8591040" cy="3951000"/>
            <a:chOff x="250920" y="1700280"/>
            <a:chExt cx="8591040" cy="3951000"/>
          </a:xfrm>
        </p:grpSpPr>
        <p:sp>
          <p:nvSpPr>
            <p:cNvPr id="146" name="Text Box 7"/>
            <p:cNvSpPr/>
            <p:nvPr/>
          </p:nvSpPr>
          <p:spPr>
            <a:xfrm>
              <a:off x="2410920" y="1700280"/>
              <a:ext cx="4463640" cy="345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99"/>
                  </a:solidFill>
                  <a:latin typeface="Arial"/>
                </a:rPr>
                <a:t>Предпринимательская активность на ранних стадия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8"/>
            <p:cNvSpPr/>
            <p:nvPr/>
          </p:nvSpPr>
          <p:spPr>
            <a:xfrm>
              <a:off x="250920" y="2942640"/>
              <a:ext cx="1871640" cy="146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Потенциальные предприни</a:t>
              </a: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мате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9"/>
            <p:cNvSpPr/>
            <p:nvPr/>
          </p:nvSpPr>
          <p:spPr>
            <a:xfrm>
              <a:off x="7162200" y="2670840"/>
              <a:ext cx="1679760" cy="196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Владельцы устоявшегося бизнеса</a:t>
              </a:r>
              <a:r>
                <a:rPr b="1" lang="ru-RU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(более 3,5 лет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2554560" y="2919240"/>
              <a:ext cx="1871640" cy="173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Нарождающие</a:t>
              </a: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-</a:t>
              </a: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ся предприн-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f5f5f"/>
                  </a:solidFill>
                  <a:latin typeface="Arial"/>
                </a:rPr>
                <a:t>(от основания фирмы до 3 мес.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4858560" y="2919240"/>
              <a:ext cx="1871640" cy="173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Владельцы вновь созданного бизнеса</a:t>
              </a:r>
              <a:r>
                <a:rPr b="0" lang="ru-RU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f5f5f"/>
                  </a:solidFill>
                  <a:latin typeface="Arial"/>
                </a:rPr>
                <a:t>(от 3 мес. до 3,5 лет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2"/>
            <p:cNvSpPr/>
            <p:nvPr/>
          </p:nvSpPr>
          <p:spPr>
            <a:xfrm>
              <a:off x="2122560" y="3737160"/>
              <a:ext cx="43164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3"/>
            <p:cNvSpPr/>
            <p:nvPr/>
          </p:nvSpPr>
          <p:spPr>
            <a:xfrm>
              <a:off x="4426560" y="3664080"/>
              <a:ext cx="43164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4"/>
            <p:cNvSpPr/>
            <p:nvPr/>
          </p:nvSpPr>
          <p:spPr>
            <a:xfrm>
              <a:off x="2266560" y="3911040"/>
              <a:ext cx="0" cy="173880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5"/>
            <p:cNvSpPr/>
            <p:nvPr/>
          </p:nvSpPr>
          <p:spPr>
            <a:xfrm>
              <a:off x="4570560" y="3911040"/>
              <a:ext cx="0" cy="173880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6"/>
            <p:cNvSpPr/>
            <p:nvPr/>
          </p:nvSpPr>
          <p:spPr>
            <a:xfrm>
              <a:off x="7018560" y="3912120"/>
              <a:ext cx="0" cy="173916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AutoShape 17"/>
          <p:cNvSpPr/>
          <p:nvPr/>
        </p:nvSpPr>
        <p:spPr>
          <a:xfrm rot="16200000">
            <a:off x="4488480" y="2971800"/>
            <a:ext cx="368280" cy="3856320"/>
          </a:xfrm>
          <a:custGeom>
            <a:avLst/>
            <a:gdLst>
              <a:gd name="textAreaLeft" fmla="*/ 235440 w 368280"/>
              <a:gd name="textAreaRight" fmla="*/ 368640 w 368280"/>
              <a:gd name="textAreaTop" fmla="*/ 100440 h 3856320"/>
              <a:gd name="textAreaBottom" fmla="*/ 3755880 h 3856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4389480" y="5229360"/>
            <a:ext cx="1079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900000" y="585540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Замысе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Рождение фирмы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ыж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396720" y="3178080"/>
            <a:ext cx="854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ИНДЕКС ПРЕДПРИНИМАТЕЛЬСКОЙ АКТИВ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2863800" y="825480"/>
            <a:ext cx="49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EA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и ВВП на душу населения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3"/>
          <a:stretch/>
        </p:blipFill>
        <p:spPr>
          <a:xfrm>
            <a:off x="657360" y="1471680"/>
            <a:ext cx="8001000" cy="53085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2863800" y="666720"/>
            <a:ext cx="4921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Показатели предпринимательской активно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457200" y="1600200"/>
          <a:ext cx="8229600" cy="4724280"/>
        </p:xfrm>
        <a:graphic>
          <a:graphicData uri="http://schemas.openxmlformats.org/drawingml/2006/table">
            <a:tbl>
              <a:tblPr/>
              <a:tblGrid>
                <a:gridCol w="4280040"/>
                <a:gridCol w="1333440"/>
                <a:gridCol w="1307880"/>
                <a:gridCol w="1308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ождающиеся предпринимат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ельцы вновь созданного бизнес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оявшиеся предпринимат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екс предпринимательской активности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41324"/>
                          </a:solidFill>
                          <a:latin typeface="Arial"/>
                        </a:rPr>
                        <a:t>4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41324"/>
                          </a:solidFill>
                          <a:latin typeface="Arial"/>
                        </a:rPr>
                        <a:t>2,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41324"/>
                          </a:solidFill>
                          <a:latin typeface="Arial"/>
                        </a:rPr>
                        <a:t>3,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396720" y="3178080"/>
            <a:ext cx="854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1569960"/>
            <a:ext cx="91440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Группа А: индивидуальное воспри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g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 лично знаете человека, который за последние 2 года открыл свой бизнес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h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последующие шесть месяцев в том регионе, где Вы живете, будут созданы благоприятные условия для начала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i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Вас есть знания, навыки и опыт, необходимые для открытия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j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рах провала помешал бы вам начать свое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Группа В: национальные особ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k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оссии большинство людей предпочло бы, чтобы все имели одинаковый уровень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l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оссии большинство людей воспринимает открытие нового бизнеса как желательный выбор карь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m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оссии те люди, которые добились успеха в создании и развитии нового бизнеса, имеют высокий статус и ув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n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оссии Вы можете часто видеть в прессе статьи о новых успешных предприят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2863800" y="806400"/>
            <a:ext cx="4921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Вопросы по оценке восприят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2863800" y="62532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Предпринимательский климат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Россия – США, 200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Object 6"/>
          <p:cNvGraphicFramePr/>
          <p:nvPr/>
        </p:nvGraphicFramePr>
        <p:xfrm>
          <a:off x="401760" y="1441440"/>
          <a:ext cx="8588160" cy="5002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1760" y="1441440"/>
                    <a:ext cx="858816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2863800" y="64440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Предпринимательский климат, 200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6"/>
          <p:cNvSpPr/>
          <p:nvPr/>
        </p:nvSpPr>
        <p:spPr>
          <a:xfrm>
            <a:off x="409680" y="1447920"/>
            <a:ext cx="8200800" cy="52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5885640" y="6354720"/>
            <a:ext cx="1704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ладеющие бизнес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8"/>
          <p:cNvGraphicFramePr/>
          <p:nvPr/>
        </p:nvGraphicFramePr>
        <p:xfrm>
          <a:off x="438120" y="1581120"/>
          <a:ext cx="8210520" cy="5276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120" y="1581120"/>
                    <a:ext cx="821052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3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2863800" y="58752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Предпринимательский климат: Россия 2007-200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6"/>
          <p:cNvGraphicFramePr/>
          <p:nvPr/>
        </p:nvGraphicFramePr>
        <p:xfrm>
          <a:off x="361800" y="1467000"/>
          <a:ext cx="8258400" cy="5141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1800" y="1467000"/>
                    <a:ext cx="82584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695600"/>
            <a:ext cx="88250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365400">
              <a:spcBef>
                <a:spcPts val="7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M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ждународная инициатива по исследованию взаимосвязи между предпринимательством и ростом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M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никальная (по сопоставимости) ежегодно обновляемая база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M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точник информации для всестороннего анализа предпринимательства на национальном и глобальном уровн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3036960" y="752400"/>
            <a:ext cx="44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Что такое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396720" y="3178080"/>
            <a:ext cx="854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СОЦИАЛЬНЫЙ ПОРТРЕТ ПРЕДПРИНИМАТЕ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2863800" y="59688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Социальный портрет предпринимателя: по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Object 6"/>
          <p:cNvGraphicFramePr/>
          <p:nvPr/>
        </p:nvGraphicFramePr>
        <p:xfrm>
          <a:off x="152280" y="1495440"/>
          <a:ext cx="8658360" cy="5324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495440"/>
                    <a:ext cx="865836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3"/>
          <p:cNvSpPr/>
          <p:nvPr/>
        </p:nvSpPr>
        <p:spPr>
          <a:xfrm>
            <a:off x="2863800" y="61596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Социальный портрет предпринимателя: возрас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Object 6"/>
          <p:cNvGraphicFramePr/>
          <p:nvPr/>
        </p:nvGraphicFramePr>
        <p:xfrm>
          <a:off x="123840" y="1495440"/>
          <a:ext cx="8715240" cy="5359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840" y="1495440"/>
                    <a:ext cx="8715240" cy="53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/>
          <p:cNvSpPr/>
          <p:nvPr/>
        </p:nvSpPr>
        <p:spPr>
          <a:xfrm>
            <a:off x="2673360" y="596880"/>
            <a:ext cx="5445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Социальный портрет предпринимателя: образован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6"/>
          <p:cNvGraphicFramePr/>
          <p:nvPr/>
        </p:nvGraphicFramePr>
        <p:xfrm>
          <a:off x="133200" y="1467000"/>
          <a:ext cx="8601120" cy="5287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" y="1467000"/>
                    <a:ext cx="8601120" cy="52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396720" y="3178080"/>
            <a:ext cx="854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ХАРАКТЕР ПРЕДПРИНИМАТЕЛЬСКОЙ АКТИВ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0" y="1687320"/>
            <a:ext cx="91440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приниматели «по необходимости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cessity Entrepreneur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редприниматели, которые пытаются начать свое дело в силу того, что у них нет иных возможностей для получения до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приниматели «по возможности»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Entrepreneur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редприниматели, которые пытаются использовать открывающиеся возможности и получать преимущества от предприниматель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2863800" y="806400"/>
            <a:ext cx="50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тивация предприним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2863800" y="806400"/>
            <a:ext cx="4921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Мотивы предпринимательств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"/>
          <p:cNvPicPr/>
          <p:nvPr/>
        </p:nvPicPr>
        <p:blipFill>
          <a:blip r:embed="rId3"/>
          <a:stretch/>
        </p:blipFill>
        <p:spPr>
          <a:xfrm>
            <a:off x="480960" y="1463760"/>
            <a:ext cx="8467920" cy="535284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Object 3"/>
          <p:cNvGraphicFramePr/>
          <p:nvPr/>
        </p:nvGraphicFramePr>
        <p:xfrm>
          <a:off x="219240" y="1544760"/>
          <a:ext cx="857232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544760"/>
                    <a:ext cx="857232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6" name="Picture 5" descr="logo_shabl"/>
          <p:cNvPicPr/>
          <p:nvPr/>
        </p:nvPicPr>
        <p:blipFill>
          <a:blip r:embed="rId3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6"/>
          <p:cNvSpPr/>
          <p:nvPr/>
        </p:nvSpPr>
        <p:spPr>
          <a:xfrm>
            <a:off x="2873520" y="663480"/>
            <a:ext cx="492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новационность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технолог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logo GEM"/>
          <p:cNvPicPr/>
          <p:nvPr/>
        </p:nvPicPr>
        <p:blipFill>
          <a:blip r:embed="rId4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3"/>
          <p:cNvGraphicFramePr/>
          <p:nvPr/>
        </p:nvGraphicFramePr>
        <p:xfrm>
          <a:off x="399960" y="1620720"/>
          <a:ext cx="8448840" cy="510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620720"/>
                    <a:ext cx="8448840" cy="51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3" name="Picture 5" descr="logo_shabl"/>
          <p:cNvPicPr/>
          <p:nvPr/>
        </p:nvPicPr>
        <p:blipFill>
          <a:blip r:embed="rId3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6"/>
          <p:cNvSpPr/>
          <p:nvPr/>
        </p:nvSpPr>
        <p:spPr>
          <a:xfrm>
            <a:off x="2863800" y="596880"/>
            <a:ext cx="48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новационность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новизна продукт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" descr="logo GEM"/>
          <p:cNvPicPr/>
          <p:nvPr/>
        </p:nvPicPr>
        <p:blipFill>
          <a:blip r:embed="rId4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Object 3"/>
          <p:cNvGraphicFramePr/>
          <p:nvPr/>
        </p:nvGraphicFramePr>
        <p:xfrm>
          <a:off x="219240" y="1674720"/>
          <a:ext cx="858204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674720"/>
                    <a:ext cx="858204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0" name="Picture 5" descr="logo_shabl"/>
          <p:cNvPicPr/>
          <p:nvPr/>
        </p:nvPicPr>
        <p:blipFill>
          <a:blip r:embed="rId3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2863800" y="635040"/>
            <a:ext cx="492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новационность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: конкурентное окружен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logo GEM"/>
          <p:cNvPicPr/>
          <p:nvPr/>
        </p:nvPicPr>
        <p:blipFill>
          <a:blip r:embed="rId4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30320" y="1514520"/>
            <a:ext cx="901368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3036960" y="706320"/>
            <a:ext cx="492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Уникальная международная база данных по предпринимательств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70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71"/>
          <p:cNvSpPr/>
          <p:nvPr/>
        </p:nvSpPr>
        <p:spPr>
          <a:xfrm>
            <a:off x="468360" y="1413000"/>
            <a:ext cx="8218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997 год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апуск: Великобритания, США, Финляндия, Ирланд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999 год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публикован первый отчет / 10 стран-участниц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006 год: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ШМ СПбГ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год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стран-участниц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сего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65 стран-участниц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72" descr="WF1"/>
          <p:cNvPicPr/>
          <p:nvPr/>
        </p:nvPicPr>
        <p:blipFill>
          <a:blip r:embed="rId3"/>
          <a:srcRect l="0" t="6940" r="0" b="13879"/>
          <a:stretch/>
        </p:blipFill>
        <p:spPr>
          <a:xfrm>
            <a:off x="1114560" y="2997360"/>
            <a:ext cx="7129440" cy="32083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73"/>
          <p:cNvSpPr/>
          <p:nvPr/>
        </p:nvSpPr>
        <p:spPr>
          <a:xfrm>
            <a:off x="2124000" y="3716280"/>
            <a:ext cx="187164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Северная Аме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4"/>
          <p:cNvSpPr/>
          <p:nvPr/>
        </p:nvSpPr>
        <p:spPr>
          <a:xfrm>
            <a:off x="6084720" y="4581360"/>
            <a:ext cx="165600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Азия и Океания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5"/>
          <p:cNvSpPr/>
          <p:nvPr/>
        </p:nvSpPr>
        <p:spPr>
          <a:xfrm>
            <a:off x="4427640" y="3789360"/>
            <a:ext cx="122400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Европа (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7"/>
          <p:cNvSpPr/>
          <p:nvPr/>
        </p:nvSpPr>
        <p:spPr>
          <a:xfrm>
            <a:off x="5219640" y="3284640"/>
            <a:ext cx="9367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8"/>
          <p:cNvSpPr/>
          <p:nvPr/>
        </p:nvSpPr>
        <p:spPr>
          <a:xfrm>
            <a:off x="2627280" y="5013360"/>
            <a:ext cx="165564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Южная Америка (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79"/>
          <p:cNvSpPr/>
          <p:nvPr/>
        </p:nvSpPr>
        <p:spPr>
          <a:xfrm>
            <a:off x="1914480" y="3716280"/>
            <a:ext cx="2166840" cy="459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Северная и Центральная Америка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0"/>
          <p:cNvSpPr/>
          <p:nvPr/>
        </p:nvSpPr>
        <p:spPr>
          <a:xfrm>
            <a:off x="4417920" y="4751280"/>
            <a:ext cx="122400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Африк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"/>
          <p:cNvSpPr/>
          <p:nvPr/>
        </p:nvSpPr>
        <p:spPr>
          <a:xfrm>
            <a:off x="396720" y="3178080"/>
            <a:ext cx="854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ФАКТОРЫ, ВЛИЯЮЩИЕ НА ПРЕДПРИНИМАТЕЛЬСКУЮ АКТИВ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5"/>
          <p:cNvSpPr/>
          <p:nvPr/>
        </p:nvSpPr>
        <p:spPr>
          <a:xfrm>
            <a:off x="2882880" y="673200"/>
            <a:ext cx="49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акторы, отрицательно влияющие на предпринима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7"/>
          <p:cNvGraphicFramePr/>
          <p:nvPr/>
        </p:nvGraphicFramePr>
        <p:xfrm>
          <a:off x="466560" y="1430280"/>
          <a:ext cx="8318520" cy="4778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560" y="1430280"/>
                    <a:ext cx="831852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3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5"/>
          <p:cNvSpPr/>
          <p:nvPr/>
        </p:nvSpPr>
        <p:spPr>
          <a:xfrm>
            <a:off x="2882880" y="673200"/>
            <a:ext cx="49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акторы, положительно влияющие на предпринима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7"/>
          <p:cNvGraphicFramePr/>
          <p:nvPr/>
        </p:nvGraphicFramePr>
        <p:xfrm>
          <a:off x="485640" y="1424160"/>
          <a:ext cx="8229600" cy="5433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640" y="1424160"/>
                    <a:ext cx="8229600" cy="54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3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2882880" y="673200"/>
            <a:ext cx="49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акторы, стимулирующие развитие предприним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7"/>
          <p:cNvGraphicFramePr/>
          <p:nvPr/>
        </p:nvGraphicFramePr>
        <p:xfrm>
          <a:off x="476280" y="1420920"/>
          <a:ext cx="8229600" cy="543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1420920"/>
                    <a:ext cx="82296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logo_shabl"/>
          <p:cNvPicPr/>
          <p:nvPr/>
        </p:nvPicPr>
        <p:blipFill>
          <a:blip r:embed="rId1"/>
          <a:stretch/>
        </p:blipFill>
        <p:spPr>
          <a:xfrm>
            <a:off x="474840" y="295416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3"/>
          <p:cNvSpPr/>
          <p:nvPr/>
        </p:nvSpPr>
        <p:spPr>
          <a:xfrm>
            <a:off x="2863800" y="2997360"/>
            <a:ext cx="576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2841480" y="296532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93760" y="1633680"/>
            <a:ext cx="8594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ение уровней предпринимательской активности между стра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факторов, влияющих на уровень предпринимательской активности (как стимулирующих, так и ограничивающих предпринимательскую деятель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того, как различия в уровнях предпринимательской активности связаны с экономическим ро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вление того, что можно сделать для увеличения предпринимательской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3075120" y="760320"/>
            <a:ext cx="47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ели проекта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G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2841480" y="649440"/>
            <a:ext cx="5861160" cy="78264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2901960" y="797040"/>
            <a:ext cx="49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дикато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8920" y="1476360"/>
            <a:ext cx="8713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ровень предпринимательской актив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едпринимательский потенциал общества, которые опреде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личием финансовой поддер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литикой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сударственными програм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овнем образования и профессиональной подготов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стотой внедрения научно-технических разрабо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чеством коммерческой и профессиональной инфрастру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упностью физической инфрастру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остью ры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о-культурными нор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зличные группы предпринимателей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тенциальные, ранние, нарождающиеся, устоявшиеся, владельцы вновь созданного бизнеса, вышедшие из бизнеса, бизнес-анге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2901960" y="797040"/>
            <a:ext cx="49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дикато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8920" y="1476360"/>
            <a:ext cx="8713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ртрет российского предпринима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оцио-демографические характер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ндексы оценки полити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области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Характер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новационность (конкурентное окружение, новизна продукта для потребителей, новизна используемых технолог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ремление к ро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спортный потенц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2911320" y="596880"/>
            <a:ext cx="4921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Возможности, предоставляемые 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8920" y="1600200"/>
            <a:ext cx="871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ля исследователей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пномасштабный независимый анализ российского предприниматель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аботанная и постоянно усовершенствуемая методика сбора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льный анализ данных по России с национальными базами данных более чем 40 ст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ля органов системы государственной поддер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я, которой нет в официальной статистик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ирование о состоянии предприним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 общей информации для интернационализации российского малого и среднего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ля средств массовой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ение общественной осведомленности о состоянии и проблема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риним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ставление информации о предпринимательстве в России и за рубеж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1868400"/>
            <a:ext cx="898524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2835360" y="800280"/>
            <a:ext cx="51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Концептуальная модель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86"/>
          <p:cNvGrpSpPr/>
          <p:nvPr/>
        </p:nvGrpSpPr>
        <p:grpSpPr>
          <a:xfrm>
            <a:off x="485640" y="1311120"/>
            <a:ext cx="8223480" cy="5110200"/>
            <a:chOff x="485640" y="1311120"/>
            <a:chExt cx="8223480" cy="5110200"/>
          </a:xfrm>
        </p:grpSpPr>
        <p:sp>
          <p:nvSpPr>
            <p:cNvPr id="104" name="AutoShape 87"/>
            <p:cNvSpPr/>
            <p:nvPr/>
          </p:nvSpPr>
          <p:spPr>
            <a:xfrm>
              <a:off x="485640" y="1311120"/>
              <a:ext cx="8223480" cy="51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88"/>
            <p:cNvSpPr/>
            <p:nvPr/>
          </p:nvSpPr>
          <p:spPr>
            <a:xfrm flipV="1">
              <a:off x="1274040" y="2385720"/>
              <a:ext cx="1053720" cy="92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89"/>
            <p:cNvSpPr/>
            <p:nvPr/>
          </p:nvSpPr>
          <p:spPr>
            <a:xfrm>
              <a:off x="1253520" y="4382640"/>
              <a:ext cx="921240" cy="61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90"/>
            <p:cNvSpPr/>
            <p:nvPr/>
          </p:nvSpPr>
          <p:spPr>
            <a:xfrm flipV="1">
              <a:off x="7853400" y="4382280"/>
              <a:ext cx="3960" cy="39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91"/>
            <p:cNvSpPr/>
            <p:nvPr/>
          </p:nvSpPr>
          <p:spPr>
            <a:xfrm>
              <a:off x="6616080" y="4525560"/>
              <a:ext cx="461520" cy="52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92"/>
            <p:cNvSpPr/>
            <p:nvPr/>
          </p:nvSpPr>
          <p:spPr>
            <a:xfrm flipV="1">
              <a:off x="6629040" y="5150520"/>
              <a:ext cx="460440" cy="46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93"/>
            <p:cNvSpPr/>
            <p:nvPr/>
          </p:nvSpPr>
          <p:spPr>
            <a:xfrm>
              <a:off x="4564080" y="5301000"/>
              <a:ext cx="461160" cy="46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94"/>
            <p:cNvSpPr/>
            <p:nvPr/>
          </p:nvSpPr>
          <p:spPr>
            <a:xfrm flipV="1">
              <a:off x="4564080" y="4512240"/>
              <a:ext cx="527040" cy="46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95"/>
            <p:cNvSpPr/>
            <p:nvPr/>
          </p:nvSpPr>
          <p:spPr>
            <a:xfrm>
              <a:off x="4564080" y="2473200"/>
              <a:ext cx="461160" cy="328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96"/>
            <p:cNvSpPr/>
            <p:nvPr/>
          </p:nvSpPr>
          <p:spPr>
            <a:xfrm flipV="1">
              <a:off x="4564080" y="1881720"/>
              <a:ext cx="461160" cy="46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97"/>
            <p:cNvSpPr/>
            <p:nvPr/>
          </p:nvSpPr>
          <p:spPr>
            <a:xfrm>
              <a:off x="6782400" y="1771920"/>
              <a:ext cx="1465560" cy="175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98"/>
            <p:cNvSpPr/>
            <p:nvPr/>
          </p:nvSpPr>
          <p:spPr>
            <a:xfrm>
              <a:off x="6782400" y="2693160"/>
              <a:ext cx="741240" cy="8326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99"/>
            <p:cNvSpPr/>
            <p:nvPr/>
          </p:nvSpPr>
          <p:spPr>
            <a:xfrm>
              <a:off x="3403440" y="2846880"/>
              <a:ext cx="720" cy="21499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00"/>
            <p:cNvSpPr/>
            <p:nvPr/>
          </p:nvSpPr>
          <p:spPr>
            <a:xfrm>
              <a:off x="2325960" y="2232720"/>
              <a:ext cx="2238120" cy="6141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бщие</a:t>
              </a:r>
              <a:r>
                <a:rPr b="0" lang="ru-RU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экономические</a:t>
              </a:r>
              <a:r>
                <a:rPr b="0" lang="ru-RU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услов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1"/>
            <p:cNvSpPr/>
            <p:nvPr/>
          </p:nvSpPr>
          <p:spPr>
            <a:xfrm>
              <a:off x="2174760" y="4930560"/>
              <a:ext cx="2388960" cy="6807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Условия</a:t>
              </a:r>
              <a:r>
                <a:rPr b="0" lang="ru-RU" sz="15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развития</a:t>
              </a:r>
              <a:r>
                <a:rPr b="0" lang="ru-RU" sz="15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предпринимательств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02"/>
            <p:cNvSpPr/>
            <p:nvPr/>
          </p:nvSpPr>
          <p:spPr>
            <a:xfrm>
              <a:off x="485640" y="3307680"/>
              <a:ext cx="1578240" cy="112032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оциальный</a:t>
              </a:r>
              <a:r>
                <a:rPr b="0" lang="en-US" sz="1600" spc="-1" strike="noStrike">
                  <a:solidFill>
                    <a:srgbClr val="003399"/>
                  </a:solidFill>
                  <a:latin typeface="Arial"/>
                </a:rPr>
                <a:t>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ультурный</a:t>
              </a:r>
              <a:r>
                <a:rPr b="0" lang="en-US" sz="1600" spc="-1" strike="noStrike">
                  <a:solidFill>
                    <a:srgbClr val="003399"/>
                  </a:solidFill>
                  <a:latin typeface="Arial"/>
                </a:rPr>
                <a:t>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литический</a:t>
              </a:r>
              <a:r>
                <a:rPr b="0" lang="ru-RU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нтекс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03"/>
            <p:cNvSpPr/>
            <p:nvPr/>
          </p:nvSpPr>
          <p:spPr>
            <a:xfrm>
              <a:off x="5025600" y="1618200"/>
              <a:ext cx="1841040" cy="6141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рупные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мпан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04"/>
            <p:cNvSpPr/>
            <p:nvPr/>
          </p:nvSpPr>
          <p:spPr>
            <a:xfrm>
              <a:off x="5025600" y="2473200"/>
              <a:ext cx="1841040" cy="6807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алый 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редний бизне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05"/>
            <p:cNvSpPr/>
            <p:nvPr/>
          </p:nvSpPr>
          <p:spPr>
            <a:xfrm>
              <a:off x="4939560" y="5676480"/>
              <a:ext cx="1996560" cy="70272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едпринимательские</a:t>
              </a:r>
              <a:r>
                <a:rPr b="0" lang="ru-RU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пособ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06"/>
            <p:cNvSpPr/>
            <p:nvPr/>
          </p:nvSpPr>
          <p:spPr>
            <a:xfrm>
              <a:off x="7064640" y="4777200"/>
              <a:ext cx="1560600" cy="6807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азвитие</a:t>
              </a:r>
              <a:r>
                <a:rPr b="0" lang="ru-RU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бизне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7"/>
            <p:cNvSpPr/>
            <p:nvPr/>
          </p:nvSpPr>
          <p:spPr>
            <a:xfrm>
              <a:off x="6936120" y="3526200"/>
              <a:ext cx="1643760" cy="856440"/>
            </a:xfrm>
            <a:prstGeom prst="rect">
              <a:avLst/>
            </a:prstGeom>
            <a:solidFill>
              <a:srgbClr val="ddc6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Рост национальной экономики</a:t>
              </a: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 (</a:t>
              </a: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ВВП</a:t>
              </a: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, </a:t>
              </a: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занятость</a:t>
              </a: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08"/>
            <p:cNvSpPr/>
            <p:nvPr/>
          </p:nvSpPr>
          <p:spPr>
            <a:xfrm>
              <a:off x="5051160" y="4075560"/>
              <a:ext cx="1730880" cy="76788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озможности</a:t>
              </a:r>
              <a:r>
                <a:rPr b="0" lang="ru-RU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ля</a:t>
              </a:r>
              <a:r>
                <a:rPr b="0" lang="ru-RU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едприниматель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09"/>
            <p:cNvSpPr/>
            <p:nvPr/>
          </p:nvSpPr>
          <p:spPr>
            <a:xfrm>
              <a:off x="5860800" y="4843800"/>
              <a:ext cx="720" cy="76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Picture 110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45680" y="1821960"/>
            <a:ext cx="8474040" cy="44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dult Population Surveys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— 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ос взрослого трудоспособного населения с помощью специально разработанных анкет, вопросы которой с разных сторон характеризуют отношение респондента к организации предприниматель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 000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logo_shabl"/>
          <p:cNvPicPr/>
          <p:nvPr/>
        </p:nvPicPr>
        <p:blipFill>
          <a:blip r:embed="rId1"/>
          <a:stretch/>
        </p:blipFill>
        <p:spPr>
          <a:xfrm>
            <a:off x="452520" y="606600"/>
            <a:ext cx="2381040" cy="801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2841480" y="638280"/>
            <a:ext cx="5861160" cy="78084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2863800" y="806400"/>
            <a:ext cx="49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сточники информации 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7:48:08Z</dcterms:created>
  <dc:creator>Ивницкая</dc:creator>
  <dc:description/>
  <dc:language>en-US</dc:language>
  <cp:lastModifiedBy>LEGION</cp:lastModifiedBy>
  <dcterms:modified xsi:type="dcterms:W3CDTF">2016-01-05T12:46:17Z</dcterms:modified>
  <cp:revision>136</cp:revision>
  <dc:subject/>
  <dc:title>Слайд 1</dc:title>
</cp:coreProperties>
</file>