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980F-85AB-4DE0-972B-A9431F23F1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ТЕНЦИАЛ ГОРОДОВ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ская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тор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хина 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ель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ТЕНЦИАЛ ГОРОДОВ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ская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тор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хина 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ель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ational Expert Surveys — 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ational Expert Surveys — 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ысе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Рождение фир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ысе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Рождение фир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ДЕКС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 и ВВП на душу населения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 и ВВП на душу населения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казатели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А: индивидуальное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g. Вы лично знаете человека, который за последние 2 года открыл свой бизне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h.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i. У Вас есть знания, навыки и опыт, необходимые для открыт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j. Страх провала помешал бы вам начать сво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В: национа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k. В России большинство людей предпочло бы, чтобы все имели одинаковый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l. В России большинство людей воспринимает открытие нового бизнеса как желательный выбор к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m.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n. В России Вы можете часто видеть в прессе статьи о новых успешных предприят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по оценке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А: индивидуальное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g. Вы лично знаете человека, который за последние 2 года открыл свой бизне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h.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i. У Вас есть знания, навыки и опыт, необходимые для открыт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j. Страх провала помешал бы вам начать сво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В: национа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k. В России большинство людей предпочло бы, чтобы все имели одинаковый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l. В России большинство людей воспринимает открытие нового бизнеса как желательный выбор к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m.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n. В России Вы можете часто видеть в прессе статьи о новых успешных предприят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по оценке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Россия – США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Россия – США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: Россия 2007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: Россия 2007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международная инициатива по исследованию взаимосвязи между предпринимательством и ростом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уникальная (по сопоставимости) ежегодно обновляемая баз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источник информации для всестороннего анализа предпринимательства на национальном и глобальном уровн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международная инициатива по исследованию взаимосвязи между предпринимательством и ростом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уникальная (по сопоставимости) ежегодно обновляемая баз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источник информации для всестороннего анализа предпринимательства на национальном и глобальном уровн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 (Necessity Entrepreneurs)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Opportunity Entrepreneurs)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 (Necessity Entrepreneurs)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Opportunity Entrepreneurs)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тивы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ы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зна проду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визна проду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 конкурентное ок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 конкурентное ок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проекта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проекта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предпринимательской активности и предпринимательский потенциал общества, которые опреде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группы предпринимателей: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предпринимательской активности и предпринимательский потенциал общества, которые опреде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группы предпринимателей: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оссийского предпринимателя: социо-демографические характер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ы оценки политик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оссийского предпринимателя: социо-демографические характер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ы оценки политик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, предоставляемы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сследова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 Информирование о состоя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едств массов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, предоставляемы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сследова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 Информирование о состоя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едств массов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нцептуальная модель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ая модель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ult Population Surveys —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n. 2 0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ult Population Surveys —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n. 2 0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D26-431E-459B-B786-7880F638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012-1BE9-4CD2-A98A-F195F23C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636-609A-47D7-9A09-91B5F984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39B-C53E-45A8-ABB7-0873B6F2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3D7-6A13-4685-907E-86F4912A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715-A956-4EF0-A7CC-EE668BE9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B5E-3408-4D14-833F-E9DF251F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6AB-C88A-4A94-BD09-45C93D5C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0D2-C7A0-4C72-B3FC-B33797E8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3C8-E593-4D18-840B-64A9FB56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31B-4EFF-465A-8531-AF98C297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BB6-AA28-4A5E-AAAB-318F60E5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F3FD-2A7B-4CD9-970D-DAB4EF271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res1"/>
          <p:cNvPicPr/>
          <p:nvPr/>
        </p:nvPicPr>
        <p:blipFill>
          <a:blip r:embed="rId1"/>
          <a:stretch/>
        </p:blipFill>
        <p:spPr>
          <a:xfrm>
            <a:off x="0" y="1177920"/>
            <a:ext cx="9036000" cy="1455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-228600" y="1355760"/>
            <a:ext cx="98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ЕДПРИНИМАТЕЛЬСКИЙ КЛИМАТ РОС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И ПОТЕНЦИАЛ ГОРОДОВ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52400" y="3309840"/>
            <a:ext cx="74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104840" y="3849840"/>
            <a:ext cx="669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рховская Ол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ординатор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Россия, ВШМ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рохина М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овател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Россия, ВШМ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logo GEM"/>
          <p:cNvPicPr/>
          <p:nvPr/>
        </p:nvPicPr>
        <p:blipFill>
          <a:blip r:embed="rId2"/>
          <a:stretch/>
        </p:blipFill>
        <p:spPr>
          <a:xfrm>
            <a:off x="3978360" y="2784600"/>
            <a:ext cx="963360" cy="8920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6873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ational Expert Surveys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2863800" y="80640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сточники информации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2863800" y="806400"/>
            <a:ext cx="49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ипы предприним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6"/>
          <p:cNvGrpSpPr/>
          <p:nvPr/>
        </p:nvGrpSpPr>
        <p:grpSpPr>
          <a:xfrm>
            <a:off x="250920" y="1700280"/>
            <a:ext cx="8591040" cy="3951000"/>
            <a:chOff x="250920" y="1700280"/>
            <a:chExt cx="8591040" cy="3951000"/>
          </a:xfrm>
        </p:grpSpPr>
        <p:sp>
          <p:nvSpPr>
            <p:cNvPr id="146" name="Text Box 7"/>
            <p:cNvSpPr/>
            <p:nvPr/>
          </p:nvSpPr>
          <p:spPr>
            <a:xfrm>
              <a:off x="2410920" y="1700280"/>
              <a:ext cx="4463640" cy="345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Предпринимательская активность на ранних стадия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250920" y="2942640"/>
              <a:ext cx="1871640" cy="146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Потенциальные предприни</a:t>
              </a: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ма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"/>
            <p:cNvSpPr/>
            <p:nvPr/>
          </p:nvSpPr>
          <p:spPr>
            <a:xfrm>
              <a:off x="7162200" y="2670840"/>
              <a:ext cx="1679760" cy="19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Владельцы устоявшегося бизнеса</a:t>
              </a:r>
              <a:r>
                <a:rPr b="1" lang="ru-RU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(более 3,5 лет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2554560" y="2919240"/>
              <a:ext cx="1871640" cy="173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Нарождающие</a:t>
              </a: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ся предприн-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f5f5f"/>
                  </a:solidFill>
                  <a:latin typeface="Arial"/>
                </a:rPr>
                <a:t>(от основания фирмы до 3 мес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4858560" y="2919240"/>
              <a:ext cx="1871640" cy="173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Владельцы вновь созданного бизнеса</a:t>
              </a:r>
              <a:r>
                <a:rPr b="0" lang="ru-RU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f5f5f"/>
                  </a:solidFill>
                  <a:latin typeface="Arial"/>
                </a:rPr>
                <a:t>(от 3 мес. до 3,5 лет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>
              <a:off x="2122560" y="3737160"/>
              <a:ext cx="4316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3"/>
            <p:cNvSpPr/>
            <p:nvPr/>
          </p:nvSpPr>
          <p:spPr>
            <a:xfrm>
              <a:off x="4426560" y="3664080"/>
              <a:ext cx="4316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2266560" y="3911040"/>
              <a:ext cx="0" cy="17388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5"/>
            <p:cNvSpPr/>
            <p:nvPr/>
          </p:nvSpPr>
          <p:spPr>
            <a:xfrm>
              <a:off x="4570560" y="3911040"/>
              <a:ext cx="0" cy="17388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7018560" y="3912120"/>
              <a:ext cx="0" cy="173916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AutoShape 17"/>
          <p:cNvSpPr/>
          <p:nvPr/>
        </p:nvSpPr>
        <p:spPr>
          <a:xfrm rot="16200000">
            <a:off x="4488480" y="2971800"/>
            <a:ext cx="368280" cy="3856320"/>
          </a:xfrm>
          <a:custGeom>
            <a:avLst/>
            <a:gdLst>
              <a:gd name="textAreaLeft" fmla="*/ 235440 w 368280"/>
              <a:gd name="textAreaRight" fmla="*/ 368640 w 368280"/>
              <a:gd name="textAreaTop" fmla="*/ 100440 h 3856320"/>
              <a:gd name="textAreaBottom" fmla="*/ 3755880 h 385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4389480" y="5229360"/>
            <a:ext cx="1079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900000" y="58554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Замысе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ождение фирмы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ы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ИНДЕКС ПРЕДПРИНИМАТЕЛЬСКОЙ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2863800" y="825480"/>
            <a:ext cx="49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E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ВВП на душу населения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57360" y="1471680"/>
            <a:ext cx="8001000" cy="53085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863800" y="666720"/>
            <a:ext cx="4921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Показатели предпринимательской актив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4280040"/>
                <a:gridCol w="1333440"/>
                <a:gridCol w="1307880"/>
                <a:gridCol w="1308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ождающиеся предпринима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ельцы вновь созданного бизне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оявшиеся предпринима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екс предпринимательской активности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2,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3,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96720" y="3178080"/>
            <a:ext cx="854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569960"/>
            <a:ext cx="91440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Группа А: индивидуальное воспри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g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 лично знаете человека, который за последние 2 года открыл свой бизне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h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i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Вас есть знания, навыки и опыт, необходимые для открыт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j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ах провала помешал бы вам начать свое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Группа В: национальные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k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большинство людей предпочло бы, чтобы все имели одинаковый уровень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l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большинство людей воспринимает открытие нового бизнеса как желательный выбор карь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m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n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Вы можете часто видеть в прессе статьи о новых успешных пред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2863800" y="806400"/>
            <a:ext cx="4921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Вопросы по оценке восприят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2863800" y="62532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Россия – США,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Object 6"/>
          <p:cNvGraphicFramePr/>
          <p:nvPr/>
        </p:nvGraphicFramePr>
        <p:xfrm>
          <a:off x="401760" y="1441440"/>
          <a:ext cx="8588160" cy="500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60" y="1441440"/>
                    <a:ext cx="85881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863800" y="64440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,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6"/>
          <p:cNvSpPr/>
          <p:nvPr/>
        </p:nvSpPr>
        <p:spPr>
          <a:xfrm>
            <a:off x="409680" y="1447920"/>
            <a:ext cx="82008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5885640" y="6354720"/>
            <a:ext cx="1704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8"/>
          <p:cNvGraphicFramePr/>
          <p:nvPr/>
        </p:nvGraphicFramePr>
        <p:xfrm>
          <a:off x="438120" y="1581120"/>
          <a:ext cx="8210520" cy="527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20" y="1581120"/>
                    <a:ext cx="821052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863800" y="58752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: Россия 2007-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361800" y="1467000"/>
          <a:ext cx="8258400" cy="514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800" y="1467000"/>
                    <a:ext cx="82584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95600"/>
            <a:ext cx="88250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ждународная инициатива по исследованию взаимосвязи между предпринимательством и ростом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никальная (по сопоставимости) ежегодно обновляемая баз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чник информации для всестороннего анализа предпринимательства на национальном и глобальном уровн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3036960" y="7524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то такое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2863800" y="59688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по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Object 6"/>
          <p:cNvGraphicFramePr/>
          <p:nvPr/>
        </p:nvGraphicFramePr>
        <p:xfrm>
          <a:off x="152280" y="1495440"/>
          <a:ext cx="8658360" cy="5324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95440"/>
                    <a:ext cx="865836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2863800" y="61596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возра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Object 6"/>
          <p:cNvGraphicFramePr/>
          <p:nvPr/>
        </p:nvGraphicFramePr>
        <p:xfrm>
          <a:off x="123840" y="1495440"/>
          <a:ext cx="8715240" cy="5359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1495440"/>
                    <a:ext cx="871524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2673360" y="596880"/>
            <a:ext cx="5445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6"/>
          <p:cNvGraphicFramePr/>
          <p:nvPr/>
        </p:nvGraphicFramePr>
        <p:xfrm>
          <a:off x="133200" y="1467000"/>
          <a:ext cx="8601120" cy="5287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" y="1467000"/>
                    <a:ext cx="8601120" cy="52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ХАРАКТЕР ПРЕДПРИНИМАТЕЛЬСКОЙ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16873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cessity Entrepreneur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Entrepreneur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2863800" y="806400"/>
            <a:ext cx="50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тивация предприним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2863800" y="806400"/>
            <a:ext cx="4921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Мотивы предпринимательст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3"/>
          <a:stretch/>
        </p:blipFill>
        <p:spPr>
          <a:xfrm>
            <a:off x="480960" y="1463760"/>
            <a:ext cx="8467920" cy="53528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3"/>
          <p:cNvGraphicFramePr/>
          <p:nvPr/>
        </p:nvGraphicFramePr>
        <p:xfrm>
          <a:off x="219240" y="1544760"/>
          <a:ext cx="857232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544760"/>
                    <a:ext cx="857232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2873520" y="663480"/>
            <a:ext cx="49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технолог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3"/>
          <p:cNvGraphicFramePr/>
          <p:nvPr/>
        </p:nvGraphicFramePr>
        <p:xfrm>
          <a:off x="399960" y="1620720"/>
          <a:ext cx="8448840" cy="510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620720"/>
                    <a:ext cx="844884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2863800" y="596880"/>
            <a:ext cx="48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новизна продукт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3"/>
          <p:cNvGraphicFramePr/>
          <p:nvPr/>
        </p:nvGraphicFramePr>
        <p:xfrm>
          <a:off x="219240" y="1674720"/>
          <a:ext cx="858204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674720"/>
                    <a:ext cx="858204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2863800" y="635040"/>
            <a:ext cx="49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 конкурентное окруже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30320" y="1514520"/>
            <a:ext cx="90136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036960" y="706320"/>
            <a:ext cx="492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0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1"/>
          <p:cNvSpPr/>
          <p:nvPr/>
        </p:nvSpPr>
        <p:spPr>
          <a:xfrm>
            <a:off x="468360" y="1413000"/>
            <a:ext cx="8218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тран-участни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2" descr="WF1"/>
          <p:cNvPicPr/>
          <p:nvPr/>
        </p:nvPicPr>
        <p:blipFill>
          <a:blip r:embed="rId3"/>
          <a:srcRect l="0" t="6940" r="0" b="13879"/>
          <a:stretch/>
        </p:blipFill>
        <p:spPr>
          <a:xfrm>
            <a:off x="1114560" y="2997360"/>
            <a:ext cx="7129440" cy="3208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3"/>
          <p:cNvSpPr/>
          <p:nvPr/>
        </p:nvSpPr>
        <p:spPr>
          <a:xfrm>
            <a:off x="2124000" y="3716280"/>
            <a:ext cx="18716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4"/>
          <p:cNvSpPr/>
          <p:nvPr/>
        </p:nvSpPr>
        <p:spPr>
          <a:xfrm>
            <a:off x="6084720" y="4581360"/>
            <a:ext cx="1656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5"/>
          <p:cNvSpPr/>
          <p:nvPr/>
        </p:nvSpPr>
        <p:spPr>
          <a:xfrm>
            <a:off x="4427640" y="3789360"/>
            <a:ext cx="1224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7"/>
          <p:cNvSpPr/>
          <p:nvPr/>
        </p:nvSpPr>
        <p:spPr>
          <a:xfrm>
            <a:off x="5219640" y="3284640"/>
            <a:ext cx="9367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8"/>
          <p:cNvSpPr/>
          <p:nvPr/>
        </p:nvSpPr>
        <p:spPr>
          <a:xfrm>
            <a:off x="2627280" y="5013360"/>
            <a:ext cx="16556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9"/>
          <p:cNvSpPr/>
          <p:nvPr/>
        </p:nvSpPr>
        <p:spPr>
          <a:xfrm>
            <a:off x="1914480" y="3716280"/>
            <a:ext cx="2166840" cy="459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0"/>
          <p:cNvSpPr/>
          <p:nvPr/>
        </p:nvSpPr>
        <p:spPr>
          <a:xfrm>
            <a:off x="4417920" y="4751280"/>
            <a:ext cx="1224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396720" y="3178080"/>
            <a:ext cx="854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7"/>
          <p:cNvGraphicFramePr/>
          <p:nvPr/>
        </p:nvGraphicFramePr>
        <p:xfrm>
          <a:off x="466560" y="1430280"/>
          <a:ext cx="8318520" cy="477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1430280"/>
                    <a:ext cx="831852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7"/>
          <p:cNvGraphicFramePr/>
          <p:nvPr/>
        </p:nvGraphicFramePr>
        <p:xfrm>
          <a:off x="485640" y="1424160"/>
          <a:ext cx="8229600" cy="5433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40" y="1424160"/>
                    <a:ext cx="822960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7"/>
          <p:cNvGraphicFramePr/>
          <p:nvPr/>
        </p:nvGraphicFramePr>
        <p:xfrm>
          <a:off x="476280" y="1420920"/>
          <a:ext cx="8229600" cy="543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20920"/>
                    <a:ext cx="82296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logo_shabl"/>
          <p:cNvPicPr/>
          <p:nvPr/>
        </p:nvPicPr>
        <p:blipFill>
          <a:blip r:embed="rId1"/>
          <a:stretch/>
        </p:blipFill>
        <p:spPr>
          <a:xfrm>
            <a:off x="474840" y="295416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"/>
          <p:cNvSpPr/>
          <p:nvPr/>
        </p:nvSpPr>
        <p:spPr>
          <a:xfrm>
            <a:off x="2863800" y="2997360"/>
            <a:ext cx="576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841480" y="296532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93760" y="1633680"/>
            <a:ext cx="8594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075120" y="760320"/>
            <a:ext cx="47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ели проект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841480" y="649440"/>
            <a:ext cx="5861160" cy="7826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2901960" y="79704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дикато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8920" y="1476360"/>
            <a:ext cx="8713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вень предпринимательской актив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едпринимательский потенциал общества, которые опреде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личные группы предпринимателе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2901960" y="79704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дикато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8920" y="1476360"/>
            <a:ext cx="8713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ртрет российского предприним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оцио-демографически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дексы оценки полит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области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Характер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2911320" y="596880"/>
            <a:ext cx="4921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Возможности, предоставляемые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исследователей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ование о состоянии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средств массов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868400"/>
            <a:ext cx="898524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2835360" y="800280"/>
            <a:ext cx="51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Концептуальная модель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86"/>
          <p:cNvGrpSpPr/>
          <p:nvPr/>
        </p:nvGrpSpPr>
        <p:grpSpPr>
          <a:xfrm>
            <a:off x="485640" y="1311120"/>
            <a:ext cx="8223480" cy="5110200"/>
            <a:chOff x="485640" y="1311120"/>
            <a:chExt cx="8223480" cy="5110200"/>
          </a:xfrm>
        </p:grpSpPr>
        <p:sp>
          <p:nvSpPr>
            <p:cNvPr id="104" name="AutoShape 87"/>
            <p:cNvSpPr/>
            <p:nvPr/>
          </p:nvSpPr>
          <p:spPr>
            <a:xfrm>
              <a:off x="485640" y="1311120"/>
              <a:ext cx="8223480" cy="51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88"/>
            <p:cNvSpPr/>
            <p:nvPr/>
          </p:nvSpPr>
          <p:spPr>
            <a:xfrm flipV="1">
              <a:off x="1274040" y="2385720"/>
              <a:ext cx="1053720" cy="9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89"/>
            <p:cNvSpPr/>
            <p:nvPr/>
          </p:nvSpPr>
          <p:spPr>
            <a:xfrm>
              <a:off x="1253520" y="4382640"/>
              <a:ext cx="921240" cy="61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0"/>
            <p:cNvSpPr/>
            <p:nvPr/>
          </p:nvSpPr>
          <p:spPr>
            <a:xfrm flipV="1">
              <a:off x="7853400" y="4382280"/>
              <a:ext cx="3960" cy="39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1"/>
            <p:cNvSpPr/>
            <p:nvPr/>
          </p:nvSpPr>
          <p:spPr>
            <a:xfrm>
              <a:off x="6616080" y="4525560"/>
              <a:ext cx="46152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92"/>
            <p:cNvSpPr/>
            <p:nvPr/>
          </p:nvSpPr>
          <p:spPr>
            <a:xfrm flipV="1">
              <a:off x="6629040" y="5150520"/>
              <a:ext cx="46044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3"/>
            <p:cNvSpPr/>
            <p:nvPr/>
          </p:nvSpPr>
          <p:spPr>
            <a:xfrm>
              <a:off x="4564080" y="5301000"/>
              <a:ext cx="461160" cy="46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94"/>
            <p:cNvSpPr/>
            <p:nvPr/>
          </p:nvSpPr>
          <p:spPr>
            <a:xfrm flipV="1">
              <a:off x="4564080" y="4512240"/>
              <a:ext cx="527040" cy="46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95"/>
            <p:cNvSpPr/>
            <p:nvPr/>
          </p:nvSpPr>
          <p:spPr>
            <a:xfrm>
              <a:off x="4564080" y="2473200"/>
              <a:ext cx="461160" cy="328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96"/>
            <p:cNvSpPr/>
            <p:nvPr/>
          </p:nvSpPr>
          <p:spPr>
            <a:xfrm flipV="1">
              <a:off x="4564080" y="1881720"/>
              <a:ext cx="46116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97"/>
            <p:cNvSpPr/>
            <p:nvPr/>
          </p:nvSpPr>
          <p:spPr>
            <a:xfrm>
              <a:off x="6782400" y="1771920"/>
              <a:ext cx="1465560" cy="175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98"/>
            <p:cNvSpPr/>
            <p:nvPr/>
          </p:nvSpPr>
          <p:spPr>
            <a:xfrm>
              <a:off x="6782400" y="2693160"/>
              <a:ext cx="741240" cy="8326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99"/>
            <p:cNvSpPr/>
            <p:nvPr/>
          </p:nvSpPr>
          <p:spPr>
            <a:xfrm>
              <a:off x="3403440" y="2846880"/>
              <a:ext cx="720" cy="2149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0"/>
            <p:cNvSpPr/>
            <p:nvPr/>
          </p:nvSpPr>
          <p:spPr>
            <a:xfrm>
              <a:off x="2325960" y="2232720"/>
              <a:ext cx="2238120" cy="6141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щие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1"/>
            <p:cNvSpPr/>
            <p:nvPr/>
          </p:nvSpPr>
          <p:spPr>
            <a:xfrm>
              <a:off x="2174760" y="4930560"/>
              <a:ext cx="238896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r>
                <a:rPr b="0" lang="ru-RU" sz="1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звития</a:t>
              </a:r>
              <a:r>
                <a:rPr b="0" lang="ru-RU" sz="1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редпринимательст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2"/>
            <p:cNvSpPr/>
            <p:nvPr/>
          </p:nvSpPr>
          <p:spPr>
            <a:xfrm>
              <a:off x="485640" y="3307680"/>
              <a:ext cx="1578240" cy="112032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ультурный</a:t>
              </a: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итический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нтек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3"/>
            <p:cNvSpPr/>
            <p:nvPr/>
          </p:nvSpPr>
          <p:spPr>
            <a:xfrm>
              <a:off x="5025600" y="1618200"/>
              <a:ext cx="1841040" cy="6141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рупные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мпа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04"/>
            <p:cNvSpPr/>
            <p:nvPr/>
          </p:nvSpPr>
          <p:spPr>
            <a:xfrm>
              <a:off x="5025600" y="2473200"/>
              <a:ext cx="184104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лый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редний бизне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05"/>
            <p:cNvSpPr/>
            <p:nvPr/>
          </p:nvSpPr>
          <p:spPr>
            <a:xfrm>
              <a:off x="4939560" y="5676480"/>
              <a:ext cx="1996560" cy="70272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едпринимательские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пособ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06"/>
            <p:cNvSpPr/>
            <p:nvPr/>
          </p:nvSpPr>
          <p:spPr>
            <a:xfrm>
              <a:off x="7064640" y="4777200"/>
              <a:ext cx="156060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7"/>
            <p:cNvSpPr/>
            <p:nvPr/>
          </p:nvSpPr>
          <p:spPr>
            <a:xfrm>
              <a:off x="6936120" y="3526200"/>
              <a:ext cx="1643760" cy="856440"/>
            </a:xfrm>
            <a:prstGeom prst="rect">
              <a:avLst/>
            </a:prstGeom>
            <a:solidFill>
              <a:srgbClr val="ddc6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Рост национальной экономики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 (</a:t>
              </a: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ВВП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занятость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8"/>
            <p:cNvSpPr/>
            <p:nvPr/>
          </p:nvSpPr>
          <p:spPr>
            <a:xfrm>
              <a:off x="5051160" y="4075560"/>
              <a:ext cx="1730880" cy="76788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озможности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ля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приниматель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09"/>
            <p:cNvSpPr/>
            <p:nvPr/>
          </p:nvSpPr>
          <p:spPr>
            <a:xfrm>
              <a:off x="5860800" y="4843800"/>
              <a:ext cx="720" cy="76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110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45680" y="1821960"/>
            <a:ext cx="847404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dult Population Surveys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— 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 000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logo_shabl"/>
          <p:cNvPicPr/>
          <p:nvPr/>
        </p:nvPicPr>
        <p:blipFill>
          <a:blip r:embed="rId1"/>
          <a:stretch/>
        </p:blipFill>
        <p:spPr>
          <a:xfrm>
            <a:off x="452520" y="606600"/>
            <a:ext cx="2381040" cy="801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841480" y="638280"/>
            <a:ext cx="5861160" cy="7808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2863800" y="80640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сточники информации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7:48:08Z</dcterms:created>
  <dc:creator>Ивницкая</dc:creator>
  <dc:description/>
  <dc:language>en-US</dc:language>
  <cp:lastModifiedBy>LEGION</cp:lastModifiedBy>
  <dcterms:modified xsi:type="dcterms:W3CDTF">2016-01-05T12:46:17Z</dcterms:modified>
  <cp:revision>136</cp:revision>
  <dc:subject/>
  <dc:title>Слайд 1</dc:title>
</cp:coreProperties>
</file>