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CBDD-3351-478A-96CA-D3F1AF575F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а юридическая основ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на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б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а свободного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ообраз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016-B677-4C31-B784-85EE5D14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6C7-8001-4A69-A25C-251CE429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D81-4D73-4125-A626-8936D411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4A0-A170-4D5E-A46D-7E5E1A66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E84-1ABB-4E1A-8057-41C465E0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0B0E-9E1A-475E-902F-ED10319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A854-FDFC-4851-92CE-9736CCFA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7480-C748-4A4C-8820-8643AEA6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C5A-35E6-47ED-B83B-3A3CCBDC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170-048B-48FF-BB7E-B4E8175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DBE-9881-4649-8D0C-6AE7997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D2F-A238-470B-9A85-28361B32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B82E-C85A-48CE-85D1-904B403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990-51BB-4278-82AB-82E32656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664-C544-4E4E-97B0-EFC3D55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F880-C5E3-4ED3-ACFB-AD06892A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7F9-0C94-4B6C-B19D-4A09FC21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CC6-E821-4AF2-918E-B1E29D7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4CA-EC19-40FE-A5FF-04BBE81C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4AB-3899-46A5-B16B-191BF2AC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A52-13E1-4EA8-B01B-C11DFCE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213-F5F1-40D3-B964-7E4A5FA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8E6-7666-429A-A763-A855A00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878-DF9E-4460-AE6D-3ECDE9A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356-A637-4F50-A4AD-CACFBF1027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9D67-A2C1-4F8B-9C99-80D71CC953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едпринимательство в экономической структуре обще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технолог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Что такое предпринимательство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нициативная, в рамках действующего законодательства деятельность по созданию, ведению и развитию предприятия, имеющая своей целью производство и сбыт продукции, получение прибы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а юридическая основа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кон Российской Федерации «О предприятиях и предпринимательской деятельности», введенный в действие 1 января 1991 г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может заниматься предпринимательством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Физ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гражданское лицо, которое действует в экономике самостоятельно, обладает правом осуществлять хозяйственные мероприятия, вступать в хозяйственные отношения с другими физическими и юридическими лиц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j0292020"/>
          <p:cNvPicPr/>
          <p:nvPr/>
        </p:nvPicPr>
        <p:blipFill>
          <a:blip r:embed="rId1"/>
          <a:stretch/>
        </p:blipFill>
        <p:spPr>
          <a:xfrm>
            <a:off x="6804000" y="378936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Юридическое лиц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организация, предприятие, фирма. Оно выступает как единый самостоятельный носитель прав и обязанностей, имеет свое название, устав, юридический адрес, печать, расчетный счет в банк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j0285360"/>
          <p:cNvPicPr/>
          <p:nvPr/>
        </p:nvPicPr>
        <p:blipFill>
          <a:blip r:embed="rId1"/>
          <a:stretch/>
        </p:blipFill>
        <p:spPr>
          <a:xfrm>
            <a:off x="6227640" y="4221000"/>
            <a:ext cx="1474920" cy="181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вляется структурным элементом рыночной экономики и обеспечивает развитие и совершенствование экономической системы стран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340000" y="3500280"/>
            <a:ext cx="25210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бод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24000" y="5084640"/>
            <a:ext cx="2376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5084640"/>
            <a:ext cx="2376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867280" y="5084640"/>
            <a:ext cx="2665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вободного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4859280" y="3500280"/>
            <a:ext cx="3241800" cy="719280"/>
            <a:chOff x="4859280" y="3500280"/>
            <a:chExt cx="3241800" cy="719280"/>
          </a:xfrm>
        </p:grpSpPr>
        <p:sp>
          <p:nvSpPr>
            <p:cNvPr id="120" name="Rectangle 8"/>
            <p:cNvSpPr/>
            <p:nvPr/>
          </p:nvSpPr>
          <p:spPr>
            <a:xfrm>
              <a:off x="5724360" y="3500280"/>
              <a:ext cx="237672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4859280" y="386064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512720" y="4219200"/>
            <a:ext cx="5617080" cy="865440"/>
            <a:chOff x="1512720" y="4219200"/>
            <a:chExt cx="5617080" cy="865440"/>
          </a:xfrm>
        </p:grpSpPr>
        <p:cxnSp>
          <p:nvCxnSpPr>
            <p:cNvPr id="123" name="AutoShape 12"/>
            <p:cNvCxnSpPr>
              <a:stCxn id="115" idx="2"/>
              <a:endCxn id="116" idx="0"/>
            </p:cNvCxnSpPr>
            <p:nvPr/>
          </p:nvCxnSpPr>
          <p:spPr>
            <a:xfrm rot="5400000">
              <a:off x="2160360" y="3571560"/>
              <a:ext cx="865800" cy="216108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3"/>
            <p:cNvCxnSpPr>
              <a:stCxn id="115" idx="2"/>
              <a:endCxn id="117" idx="0"/>
            </p:cNvCxnSpPr>
            <p:nvPr/>
          </p:nvCxnSpPr>
          <p:spPr>
            <a:xfrm flipH="1" rot="16200000">
              <a:off x="3563640" y="4327920"/>
              <a:ext cx="865800" cy="64836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4"/>
            <p:cNvCxnSpPr>
              <a:stCxn id="115" idx="2"/>
              <a:endCxn id="118" idx="0"/>
            </p:cNvCxnSpPr>
            <p:nvPr/>
          </p:nvCxnSpPr>
          <p:spPr>
            <a:xfrm flipH="1" rot="16200000">
              <a:off x="4968720" y="2923560"/>
              <a:ext cx="865800" cy="3456720"/>
            </a:xfrm>
            <a:prstGeom prst="bentConnector3">
              <a:avLst>
                <a:gd name="adj1" fmla="val 498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6" name="Text Box 16"/>
          <p:cNvSpPr/>
          <p:nvPr/>
        </p:nvSpPr>
        <p:spPr>
          <a:xfrm>
            <a:off x="3924360" y="4292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932360" y="357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Свободное предпринимательств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аковы основные черты предпринимателя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ициативность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атор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26920" y="4076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ите ваш потенциал предпринимателя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Flo10012"/>
          <p:cNvPicPr/>
          <p:nvPr/>
        </p:nvPicPr>
        <p:blipFill>
          <a:blip r:embed="rId1"/>
          <a:stretch/>
        </p:blipFill>
        <p:spPr>
          <a:xfrm>
            <a:off x="3780000" y="2421000"/>
            <a:ext cx="1525320" cy="2033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43:40Z</dcterms:created>
  <dc:creator>Сорокина О.П.</dc:creator>
  <dc:description/>
  <dc:language>en-US</dc:language>
  <cp:lastModifiedBy>LEGION</cp:lastModifiedBy>
  <dcterms:modified xsi:type="dcterms:W3CDTF">2016-01-05T12:46:34Z</dcterms:modified>
  <cp:revision>8</cp:revision>
  <dc:subject>Урок технологии 10 кл</dc:subject>
  <dc:title>Предпринимательство и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1000000000001024140</vt:lpwstr>
  </property>
</Properties>
</file>