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96B7-7A96-48BD-8A83-EDF2F03505C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 и бизнес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 – это игра, величайшая игра в мире- если вы знаете , как в неё игр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 Дж. Уот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о и бизнес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знес – это игра, величайшая игра в мире- если вы знаете , как в неё играть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. Дж. Уотсо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цель : Разъяснить учащимся сущность предпринимательства и предпринимательских отношений, формы организации бизнеса. Сформировать потребность в развитии коммуникативнности, деловитости, самосто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ывающая  цель: умение сотрудничать, развивать чувство коллективизма, трудолюбие, культуру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ющая цель: развивать аналитическое мышление, логику, память, устойчивость внимания, формировать умение принятия нестандартных решений, развивать творческие способности, формировать познавательный интер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зовательная цель : Разъяснить учащимся сущность предпринимательства и предпринимательских отношений, формы организации бизнеса. Сформировать потребность в развитии коммуникативнности, деловитости, самостоятель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спитывающая  цель: умение сотрудничать, развивать чувство коллективизма, трудолюбие, культуру повед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вающая цель: развивать аналитическое мышление, логику, память, устойчивость внимания, формировать умение принятия нестандартных решений, развивать творческие способности, формировать познавательный интере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. Малый бизне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организации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с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изнес. Малый бизне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ы организации бизне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изучает экономическая нау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Поведение человека в бы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Методы рационального ведения хозя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Природные я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вопрос который решает 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Что производ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ак производ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Для кого производ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Все перечисле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и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Предмет потреб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Предмет горд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Всеобщий эквивалент всех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изучает экономическая нау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Поведение человека в быт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Методы рационального ведения хозяйст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. Природные 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ой вопрос который решает экономи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Что производ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Как производ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.Для кого производи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. Все перечисленно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ьги – это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Предмет потребления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Предмет горд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.Всеобщий эквивалент всех това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Что такое предприниматель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Что такое предпринимательство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тв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Это социальный и экономический институт общества, закрепленный и регламентируемый законом, имеющий четкую организационную  и правовую структуру, своих представителей в парламенте, а также всевозможные фонды, движения, партии и ассоциации, защищающие интересы предприним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принимательств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Это социальный и экономический институт общества, закрепленный и регламентируемый законом, имеющий четкую организационную  и правовую структуру, своих представителей в парламенте, а также всевозможные фонды, движения, партии и ассоциации, защищающие интересы предпринимател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О ПРЕДПРИНИМАТЕЛЬСКОЙ ДЕЯТЕЛЬНОС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вставить пропущенные сл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может использовать как свои средства, так и средства, взятые в ___________ или 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А ДЛЯ СПРАВОК ( на карточках) : арендованные, коммерческий успех, страх, убытки, риск, собственник, долг, организатор производства, результ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О ПРЕДПРИНИМАТЕЛЬСКОЙ ДЕЯТЕЛЬНОСТИ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о вставить пропущенные сло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 может использовать как свои средства, так и средства, взятые в ___________ или _________________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ЛОВА ДЛЯ СПРАВОК ( на карточках) : арендованные, коммерческий успех, страх, убытки, риск, собственник, долг, организатор производства, результа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алый 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Малый бизне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A682-83AD-4846-BBE6-ECE27938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8B2B-4BBE-4362-9A14-B0926087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EF0-9A20-490C-9026-5F132665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4160-6764-4BDE-A0A8-A27F54523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BE97-A48C-42DB-910D-32EE9F0F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25E1-D690-4D9B-9362-2B0C1429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8480-C723-4919-80CB-5E0B7F60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5AAB-E7F8-430D-AC80-D987A232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AE05-BAA2-44C2-82C8-98DD7EAF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E345-811E-4074-8B19-EEC5BE47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DC63-B030-41C9-9D56-29830427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0220-4620-45B4-8F94-8191A36D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0534-86E1-4614-8BBA-D649C61C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AD0D-6D60-40A8-AA47-B005DB50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B844-70B3-4191-B718-754E5446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DDF2-5E52-432B-9426-05242B09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6620-7E82-4CB8-B28F-7872E3FA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71382-02F5-457A-AACF-35791301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73014-EBC0-4021-BC19-C7DE4788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813D3-7B4E-4A3C-A923-128B5B7A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9E7B6-F6AC-4AB8-BD60-B785936B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DF9A4-A087-4FB5-BC59-814DB506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FBD0-BC14-4658-84EE-A1750ECF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89E67-AE14-4726-B10D-CCB27806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385D3-8684-4510-98EB-3E4F75F4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68902-43F5-4E06-B3AA-6999E818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AA900-F6B3-4ECD-94FF-455DE1BE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51B56-E7CB-4B67-A05F-0D2F99AD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BA591-B97C-4A13-A6C1-A4383E73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3545F-28B8-402B-A1DB-E674F0B0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0E6B1-6B20-4193-9E4E-9E1A7524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ADAF4-D485-4BF1-B297-9817DBE9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76CFA-6D8A-451B-82A4-4695095C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10DD-B29A-4BDC-BCB7-2B8C1906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D1EFD-D117-499E-9B01-D3F2508A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1D62E-3820-42A9-BF4F-18B2D5D2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A5AEC-82FC-4DC5-8D83-BD7ECF41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CC923-42ED-41D8-8CEB-189E0D6C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25F0D-F249-43E8-8F03-180DC1E0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4C860-56A2-4E20-BDF5-FC1B505E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F530D-7786-4F3D-9051-30519EED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1DD1D-39F8-4D3A-AD79-A9329AD7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81100-69D3-45C4-9DBF-0909D560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423CE-D7AB-464C-A49F-92B6C8D4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6569-EB81-45A6-AF6B-19851184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1B24F-96EC-4A11-955F-9AECC843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E4CA2-3B2D-42EA-9F52-7495B84E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B8CF9-7D6F-4FE6-BFB9-29F81E2B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0F1F4-0662-4536-A8F9-7F0A8888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28517-65E5-4358-A17C-9A2EA882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C842D-BE9F-411C-8491-D2CD1E5C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8601F-6E2E-4582-9BDC-9FA1D439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A2B2E-D4D4-45E7-A51C-9D26472A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F0546-E0D1-4F8C-8FF7-1D53F753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83791-D721-44B7-B8E4-FCAB52FC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EA14-5684-4782-B8B8-57F96C02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FD49A-7F0F-4016-AB6D-B77721C9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E373A-1830-4E32-B214-CD31E6B7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08978-A434-4648-8C7B-E0B265FE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193E2-D8EE-4F04-ABCD-E4146212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C05AC-CF2C-478D-96B5-C5AE94B8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35E3B-4306-4849-9E77-08020946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B2E49-7164-4F8A-8EE7-2BDFA94A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66F3C-0114-4B1A-8DF2-F32FBB97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59A45-DB74-4677-A6D6-E144D0F0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EAB73-9201-4E7A-8410-F6948865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D8E3-BFB2-4DDB-9E85-31F27A3E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E100F-E234-4604-99AF-49E503F2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9BFEF-75C3-4141-8E1A-84162E08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4BFC1-4946-4B6F-BE66-FD3B7CC9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703F0-B04A-4AEA-83E5-16BECF4A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0EF8D-C3C4-4A25-AB39-677EAEBE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0E9BA-B6AC-492A-B94F-9223093F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80416-3F70-4962-96C8-2863FEA8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5845E-8A0B-466C-B36D-15916D5B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5152B-E5BF-44B6-B101-19B7C6CB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C4497-8488-4E29-97EE-EAA684F6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956C-C518-453C-8F12-F7767A19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25E2E-0E89-4F71-9BB4-E8EA799E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BCDE6-D6F6-44FD-B188-864F372F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72477-DD8F-4A6A-8186-EA4C27DF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594DD-8A04-41B3-8CFC-10B001D0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E8AFB-707E-42FC-A652-0C107823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5A02-4CCC-4944-8D33-A6DE86CD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7CE3-6DCB-4E04-B6F0-95A194105F2B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945F-9FAD-4D58-AC23-418B29480E7B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B3CB-042C-4EA9-9B6E-017C23D57F53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AE03-5523-436D-93D0-3C646960222C}" type="slidenum">
              <a:rPr b="0" lang="ru-RU" sz="13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98B1-85BE-4D50-882D-619A42553AEF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9363-FC0E-4359-9E45-2176E1C4A886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E1C1-689F-4B0F-8B71-619E3536C122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299E-30B2-4FC8-AA80-FF8F26DF52EA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4E68-1B07-4E65-AE34-B028CB8CA320}" type="datetime">
              <a:rPr b="0" lang="ru-RU" sz="1000" spc="-1" strike="noStrike">
                <a:solidFill>
                  <a:srgbClr val="ffffff"/>
                </a:solidFill>
                <a:latin typeface="Constantia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554C-4C86-4513-A227-4BE4C1A8540C}" type="slidenum">
              <a:rPr b="0" lang="ru-RU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98AD-5CA6-4FA4-9535-C490E9490AB7}" type="datetime">
              <a:rPr b="0" lang="ru-RU" sz="900" spc="-1" strike="noStrike">
                <a:solidFill>
                  <a:srgbClr val="ffffff"/>
                </a:solidFill>
                <a:latin typeface="Constantia"/>
              </a:rPr>
              <a:t>28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0312-0EEA-4082-B03B-03AD088944FB}" type="slidenum">
              <a:rPr b="0" lang="ru-RU" sz="9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onstant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B734-A79A-4BE9-AE1B-156DC99DF5CC}" type="datetime">
              <a:rPr b="0" lang="ru-RU" sz="900" spc="-1" strike="noStrike">
                <a:solidFill>
                  <a:srgbClr val="ffffff"/>
                </a:solidFill>
                <a:latin typeface="Constantia"/>
              </a:rPr>
              <a:t>28.07.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701E-8815-4DC7-8172-9FF46E6AEA74}" type="slidenum">
              <a:rPr b="0" lang="ru-RU" sz="9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573120" y="371520"/>
            <a:ext cx="8637480" cy="35416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"/>
          <p:cNvPicPr/>
          <p:nvPr/>
        </p:nvPicPr>
        <p:blipFill>
          <a:blip r:embed="rId2"/>
          <a:stretch/>
        </p:blipFill>
        <p:spPr>
          <a:xfrm>
            <a:off x="835200" y="4121280"/>
            <a:ext cx="2328840" cy="232884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2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12" name="Содержимое 2" descr=""/>
          <p:cNvPicPr/>
          <p:nvPr/>
        </p:nvPicPr>
        <p:blipFill>
          <a:blip r:embed="rId2"/>
          <a:stretch/>
        </p:blipFill>
        <p:spPr>
          <a:xfrm>
            <a:off x="281160" y="420840"/>
            <a:ext cx="8528040" cy="573084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3" descr=""/>
          <p:cNvPicPr/>
          <p:nvPr/>
        </p:nvPicPr>
        <p:blipFill>
          <a:blip r:embed="rId3"/>
          <a:stretch/>
        </p:blipFill>
        <p:spPr>
          <a:xfrm>
            <a:off x="6838920" y="4761000"/>
            <a:ext cx="2421000" cy="223020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4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Тест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Предпринимательство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Бизнес. Малый бизнес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Формы организации бизнеса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7" name="Рисунок 3" descr=""/>
          <p:cNvPicPr/>
          <p:nvPr/>
        </p:nvPicPr>
        <p:blipFill>
          <a:blip r:embed="rId2"/>
          <a:stretch/>
        </p:blipFill>
        <p:spPr>
          <a:xfrm>
            <a:off x="6029280" y="4334040"/>
            <a:ext cx="2041560" cy="2017440"/>
          </a:xfrm>
          <a:prstGeom prst="rect">
            <a:avLst/>
          </a:prstGeom>
          <a:ln w="0">
            <a:noFill/>
          </a:ln>
        </p:spPr>
      </p:pic>
      <p:sp>
        <p:nvSpPr>
          <p:cNvPr id="318" name="Місце для нижнього колонтитула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то изучает экономическая наука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. Поведение человека в быту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. Методы рационального ведения хозяйства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 Природные явления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сновной вопрос который решает экономика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. Что производить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. Как производить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Для кого производить?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. Все перечисленное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еньги – это…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А. Предмет потребления. 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. Предмет гордости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443160" indent="-378720">
              <a:lnSpc>
                <a:spcPct val="90000"/>
              </a:lnSpc>
              <a:spcBef>
                <a:spcPts val="4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.Всеобщий эквивалент всех товаров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Місце для нижнього колонтитула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254160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2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-</a:t>
            </a:r>
            <a:r>
              <a:rPr b="0" lang="ru-RU" sz="3000" spc="-1" strike="noStrike">
                <a:solidFill>
                  <a:srgbClr val="92d050"/>
                </a:solidFill>
                <a:latin typeface="Constantia"/>
              </a:rPr>
              <a:t>Это социальный и экономический институт общества, закрепленный и регламентируемый законом, имеющий четкую организационную  и правовую структуру, своих представителей в парламенте, а также всевозможные фонды, движения, партии и ассоциации, защищающие интересы предпринимателей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1" descr="табл"/>
          <p:cNvPicPr/>
          <p:nvPr/>
        </p:nvPicPr>
        <p:blipFill>
          <a:blip r:embed="rId1"/>
          <a:stretch/>
        </p:blipFill>
        <p:spPr>
          <a:xfrm>
            <a:off x="554040" y="480960"/>
            <a:ext cx="7821720" cy="617544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2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457200" y="3636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Необходимо вставить пропущенные слова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Кредо предпринимательской деятельности - __________________________, поскольку предприниматель всегда действует на свой ______ и ______ и на него ложатся все последствия и ____________________ деятельности – как   прибыль, так и _______________. 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При этом предприниматель не обязательно ___________________, в первую очередь – это ____________________________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Он может использовать как свои средства, так и средства, взятые в ___________ или _________________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4478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00"/>
                </a:solidFill>
                <a:uFillTx/>
                <a:latin typeface="Constantia"/>
              </a:rPr>
              <a:t>СЛОВА ДЛЯ СПРАВОК </a:t>
            </a: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( на карточках) : арендованные, коммерческий успех, страх, убытки, риск, собственник, долг, организатор производства, результаты.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Місце для нижнього колонтитула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2"/>
          <a:stretch/>
        </p:blipFill>
        <p:spPr>
          <a:xfrm>
            <a:off x="7286760" y="50760"/>
            <a:ext cx="1428480" cy="1349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onstanti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9T17:20:44Z</dcterms:created>
  <dc:creator>Admin</dc:creator>
  <dc:description/>
  <dc:language>en-US</dc:language>
  <cp:lastModifiedBy>LEGION</cp:lastModifiedBy>
  <dcterms:modified xsi:type="dcterms:W3CDTF">2016-01-05T12:46:28Z</dcterms:modified>
  <cp:revision>17</cp:revision>
  <dc:subject/>
  <dc:title>Предпринимательство и бизнес</dc:title>
</cp:coreProperties>
</file>