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ткосрочная 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2063-4D63-44B1-BC00-A2406208F7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2185-851D-409F-830B-0DE65B56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9D4B-BDF5-42AF-AA09-9A38356F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7295-F618-4815-97B8-4219F8C7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999D-9A96-443A-9DD9-2CAAEA0D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964C-6082-499E-A815-FB0AB454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39DE-8822-4E52-A17E-62D8A229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04ED-C448-492D-97B0-F2F9E593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B67F-322E-4448-8CB3-82426A0E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516-1AB5-4588-BD5D-256FC417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9E0B-3F65-4C4B-AA06-00160FA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F7A5-A6A4-4BB5-A180-70EFD03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FD8B-9BC5-476C-90E7-A293A810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5CBC-ADD3-4DBD-B5BE-70D2A87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A33B-5153-42CE-B7E9-96E0EB48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E1B4-5DC4-4BC5-92CA-9AD13762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A491-8ED3-445B-9B8C-A6A64BAD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958D-B871-4F3D-8E09-03A1277D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57BD-14D0-4F18-A9D0-173CE5C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4DEA-0982-4C89-A6FE-B9A4422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9A13-A5C6-4618-9208-586A5315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AD66-2A1A-4847-8CAA-C67A0316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A050-39D8-4479-83A6-CA4023D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3158-C52B-4BE4-B4DC-9D51958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DD5E-C21F-427E-A066-5788D138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7974-A7FE-43D7-9355-1327750DA2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4E74-B4A6-40D0-AF29-4FB0B62C16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нансовый менедж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31960" y="9079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057400"/>
                <a:gridCol w="1986120"/>
                <a:gridCol w="2087280"/>
                <a:gridCol w="2098800"/>
              </a:tblGrid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подходов к управлению рис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ть под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ие потерь при наступлении рискового случ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использование средств на предотвращение р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покрыв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 затраты на превентивные мероприятия, изъятие части ресурсов из оборота, снижение оборачи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осуществляется в ходе проведения хозяйственных опера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вается часть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затраты на превентивные мероприятия, средний уровень эффективности и оборачиваемости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начинается только после наступления рискового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щерб локализуется в рамках одной операции, одного подраз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предупреждения риска малы, что увеличивает прибыльность, оборачиваемость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59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2276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71640" y="31399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971640" y="51577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611280" y="162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61128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11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427640" y="233532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4424400" y="3127320"/>
            <a:ext cx="33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4500720" y="52164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971640" y="4064040"/>
            <a:ext cx="3384360" cy="588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427640" y="3925800"/>
            <a:ext cx="367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915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нятие риска. Финансовая среда предпринимательства (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8713800" cy="162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36000" rIns="360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4"/>
          <p:cNvGrpSpPr/>
          <p:nvPr/>
        </p:nvGrpSpPr>
        <p:grpSpPr>
          <a:xfrm>
            <a:off x="1258920" y="4224240"/>
            <a:ext cx="6211800" cy="2373480"/>
            <a:chOff x="1258920" y="4224240"/>
            <a:chExt cx="6211800" cy="2373480"/>
          </a:xfrm>
        </p:grpSpPr>
        <p:sp>
          <p:nvSpPr>
            <p:cNvPr id="123" name="_s1028"/>
            <p:cNvSpPr/>
            <p:nvPr/>
          </p:nvSpPr>
          <p:spPr>
            <a:xfrm>
              <a:off x="1258920" y="5084640"/>
              <a:ext cx="6211800" cy="614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НАНСОВАЯ СРЕДА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2843280" y="4224240"/>
              <a:ext cx="3384360" cy="565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2843280" y="6031080"/>
              <a:ext cx="3384360" cy="566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0800000">
              <a:off x="3851280" y="4818240"/>
              <a:ext cx="1441440" cy="212400"/>
            </a:xfrm>
            <a:prstGeom prst="triangle">
              <a:avLst>
                <a:gd name="adj" fmla="val 51319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>
              <a:off x="3851280" y="5734080"/>
              <a:ext cx="1441440" cy="21276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168120" y="1125360"/>
            <a:ext cx="8805960" cy="1313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971640" y="1197000"/>
            <a:ext cx="3456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213192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71640" y="270828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1092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11280" y="1484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11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61128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61128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611280" y="5589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76720" y="2205000"/>
            <a:ext cx="374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076720" y="299556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076720" y="3716280"/>
            <a:ext cx="3743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4716000" y="1484280"/>
            <a:ext cx="57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4716360" y="1486080"/>
            <a:ext cx="0" cy="40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716360" y="40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5003640" y="1197000"/>
            <a:ext cx="38894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716360" y="321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971640" y="530064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971640" y="465300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71640" y="335592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971640" y="4003560"/>
            <a:ext cx="3384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611280" y="4940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076720" y="450864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5076720" y="5229360"/>
            <a:ext cx="37432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4716360" y="47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1143000"/>
            <a:ext cx="342900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ассическая теория рис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724280" y="1143000"/>
            <a:ext cx="373392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оклассическая теория рис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8360" y="2362320"/>
            <a:ext cx="3417840" cy="161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к рассматривал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возможный ущерб, который может произойти вследствие экономического дей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716360" y="2286000"/>
            <a:ext cx="3733920" cy="1739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рная прибыль всегда будет иметь большую полезность, нежели прибыль того же ожидаемого размера, но связанная с возможными колеба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68360" y="4292640"/>
            <a:ext cx="7920000" cy="2498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ременная те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иболее сложна и актуальна 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771640" y="3573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50920" y="4581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003640" y="4581360"/>
            <a:ext cx="3600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050920" y="4221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500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05092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659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826920" y="522936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826920" y="587700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5435640" y="522756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5435640" y="587520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53964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539640" y="55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3964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521964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5219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5219640" y="61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324000" y="1197000"/>
            <a:ext cx="8569080" cy="208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нимательский риск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ь субъектов хозяй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и, связа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 преодолением неопределенности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лонения от ц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щиеся в выбираемых альтернати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71640" y="227664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971640" y="292428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508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1128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611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1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11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5300640"/>
            <a:ext cx="3384360" cy="4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11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426920" y="22543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426560" y="2911320"/>
            <a:ext cx="168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00720" y="450864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499640" y="522936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71640" y="363204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611280" y="391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427640" y="3562200"/>
            <a:ext cx="36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950080"/>
            <a:ext cx="3384360" cy="531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1128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499640" y="595008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352680" y="1413000"/>
            <a:ext cx="2659320" cy="105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предпринимате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иск заемщик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49688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кредитор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300720" y="141300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4920" y="2895480"/>
            <a:ext cx="2514600" cy="34567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898720"/>
            <a:ext cx="2514600" cy="359964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ика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огда в оборот направляются собственные деньг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ринимател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ан с сом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полага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вы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на которую предприниматель рассчиты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400800" y="2895480"/>
            <a:ext cx="2514600" cy="331380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язан с возможным уменьшением ценности денежной единиц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360" y="62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03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227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106720"/>
            <a:ext cx="8588160" cy="4451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39640" y="54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0:54:36Z</dcterms:created>
  <dc:creator>Techno</dc:creator>
  <dc:description/>
  <dc:language>en-US</dc:language>
  <cp:lastModifiedBy>LEGION</cp:lastModifiedBy>
  <dcterms:modified xsi:type="dcterms:W3CDTF">2016-01-05T12:46:02Z</dcterms:modified>
  <cp:revision>38</cp:revision>
  <dc:subject/>
  <dc:title>Краткосрочная финансовая политика</dc:title>
</cp:coreProperties>
</file>