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05B4-1D05-4D26-AABD-55D619B7A7F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нятие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онятие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Получение прибы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отрудникам реализоват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финансовый бизн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финансовый бизнес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Х. Леф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ан Хоскин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Хизр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Осип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риентация на получение прибы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основанны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Ответ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Обоснованный риск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Ответствен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ные черт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056-AA5C-4FAF-BDBB-D54B6D45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D8E-5177-4C3E-90C3-357252AC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6D2-DEDC-419D-A251-F1AD32CB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8F3-940A-4801-8959-4D734CF0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25B-6849-4DA4-8A80-AD72B0EC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124-FC76-4756-BB08-0E2A094F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9B7-6CFB-423D-BC4A-BD162813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342-411B-425B-A7EB-3F77C34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403-87AD-45E0-863B-13A8080A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8DB-E83D-41AF-BE15-9B726CB8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B08-500B-448B-B166-9B511AFA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588-9EFA-4A70-9E00-93F32F95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1CFF-2D81-4471-A95E-2A8A38DFD9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2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онятие бизнес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воей сфер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потребносте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Коммерче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финансовый бизне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) Производственный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 Факторы производств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) рабочая сил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б) производственные фонд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) материал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) информация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д) результат.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ты современного предпринимател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лание денег из денег, но ...обязательно посредством полезной производительной деятельности - изготовлением продукта или оказания услуги.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(ГК РФ ст. 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бственных или заемны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редств на свой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ис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под свою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тавящая своими целями получени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ибыли и развитие собственного де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знак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Обоснованный рис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арактерные черт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628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ь и готовность рискова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выгодных условия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определять авторите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9:13:33Z</dcterms:created>
  <dc:creator>Vladimir</dc:creator>
  <dc:description/>
  <dc:language>en-US</dc:language>
  <cp:lastModifiedBy>LEGION</cp:lastModifiedBy>
  <dcterms:modified xsi:type="dcterms:W3CDTF">2016-01-05T12:45:46Z</dcterms:modified>
  <cp:revision>15</cp:revision>
  <dc:subject/>
  <dc:title>Понятие бизнеса</dc:title>
</cp:coreProperties>
</file>