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42192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5FB0-8C90-450F-9A15-F24F7D666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0CCD-E849-4254-9BD0-5850157C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8253C-B806-49DC-9AD1-BEA20BB7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14D63-F55C-4C44-84AF-93D61372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E4F7-999C-4530-BA06-9AB1BB5C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0733-E12F-446A-8526-7957BE68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2498-2EBA-4BB5-B30E-480AA960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64B8-8725-4EAE-B4CB-660C28B9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DA4C-C727-49A0-B18B-D07E7EBA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AEDF-D6E6-4ED6-8F1A-606D4304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772C-3AA1-4AFA-96D6-30D6018A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2F7F-EE4A-41EB-880C-B11D4F9E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924E-DE0A-452A-BAB2-3E39CD39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5794-3FFC-47DD-AEB1-72C7F41F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788D-B90F-43B5-8B13-D93CD48D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788D-3420-403D-BE2F-C6CF8682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F039-322E-4AF5-B737-75A4F510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471A-4242-4324-9E4D-C2D4C886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0545-DC98-4B10-8E77-51DF5987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4E15-2B13-436B-828E-26E40BD2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EDAD-754B-4CD0-8A12-D8815841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8AD9-5BC3-4EB0-A14B-FEBBB444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EE6C-6A9C-4E62-B264-654518E1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3DA0-74EA-4FD4-BE26-0832D529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0E27-A2B7-42A3-ABC9-81C596A9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C027-CB7A-488A-8EAA-ADA57129F4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D2B3-4522-48FA-8F44-C7BEA8C41C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765000"/>
            <a:ext cx="813780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 по выб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сновы функцион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ого бизне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тудентов 2-го кур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культета «Финансы и кред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.э.н., ст. преп. кафедры Эи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никова Екатерина Вале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2184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6. Разработка бизнес-плана создания малого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бизнес-плана. Цели составления. Анализ рыночной ситуа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нирование и анализ внутренней и внешн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Exper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подготовки бизнес-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ю дисципли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и дисциплины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результате изучения кур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Основы функционирования малого бизне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 студентов формируются навыки по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еделение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1268280"/>
          <a:ext cx="8064360" cy="4762800"/>
        </p:xfrm>
        <a:graphic>
          <a:graphicData uri="http://schemas.openxmlformats.org/drawingml/2006/table">
            <a:tbl>
              <a:tblPr/>
              <a:tblGrid>
                <a:gridCol w="5256360"/>
                <a:gridCol w="792000"/>
                <a:gridCol w="1081080"/>
                <a:gridCol w="934920"/>
              </a:tblGrid>
              <a:tr h="52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и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.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1. Малый бизнес: сущность, функции и роль в экономике России и зарубежных ст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2. Малый бизнес в России: состояние, проблемы и перспективы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3. Выбор вида предпринимательской деятельности и организационно-правовой формы, регистрация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4. Оценка ресурсов, необходимых для организации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5. Особенности экономического механизма функционирования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6. Разработка бизнес-плана создания малого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итогового контроля - зач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423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 РАЗДЕЛОВ ДИСЦИПЛИН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ЗДЕЛ 1. МАЛЫЙ БИЗНЕС В ЭКОНОМИКЕ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блемы развития малого предпринимательства в Росси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нансовые и организационные (доступа к ресурса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РАЗДЕЛ 2. ОРГАНИЗАЦИЯ И МЕХАНИЗМ ФУНКЦИОН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МАЛОГО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8:05:10Z</dcterms:created>
  <dc:creator>A</dc:creator>
  <dc:description/>
  <dc:language>en-US</dc:language>
  <cp:lastModifiedBy>LEGION</cp:lastModifiedBy>
  <dcterms:modified xsi:type="dcterms:W3CDTF">2016-01-05T12:45:22Z</dcterms:modified>
  <cp:revision>38</cp:revision>
  <dc:subject/>
  <dc:title>Издержки производства и себестоимость продук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