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89738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7896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44800" y="0"/>
            <a:ext cx="294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942192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01AE-A4FF-4FD0-831C-946F3FE67F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по выбо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функцион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го бизне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тудентов 2-го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ультета «Финансы и креди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э.н., ст. преп. кафедры ЭиА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никова Екатерина Валер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по выбо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функцион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го бизне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тудентов 2-го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ультета «Финансы и креди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э.н., ст. преп. кафедры ЭиА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никова Екатерина Валер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ценка ресурсов, необходимых для организации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потребности малого предприятия в производственных и трудовых ресурсах. Подбор офисных, производственных, торговых и складских помещений. Закупка оборудования и формирование материально-производственных запасов. Методы поиска персон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объема и оптимальной структуры источников финансирования. Оценка  возможностей привлечения заемных финансовых ресурсов (банковский кредит, лизинг, бюджетный креди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ценка ресурсов, необходимых для организации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потребности малого предприятия в производственных и трудовых ресурсах. Подбор офисных, производственных, торговых и складских помещений. Закупка оборудования и формирование материально-производственных запасов. Методы поиска персон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объема и оптимальной структуры источников финансирования. Оценка  возможностей привлечения заемных финансовых ресурсов (банковский кредит, лизинг, бюджетный креди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Особенности экономического механизма функционирования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изводства на малых предприятиях. Выбор оптимальной организационной структуры управления. Логистика в малом бизнесе. Оптимальные формы и системы оплаты труда в мал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затратами на малых предприятиях. Выбор метода ценообразования. Финансовое планирование (бюджетирование) в мал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бухгалтерского учета и налогообложения на предприятиях, относящихся к субъектам малого и среднего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деятельности малого предприятия и уровня рис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Особенности экономического механизма функционирования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изводства на малых предприятиях. Выбор оптимальной организационной структуры управления. Логистика в малом бизнесе. Оптимальные формы и системы оплаты труда в мал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затратами на малых предприятиях. Выбор метода ценообразования. Финансовое планирование (бюджетирование) в мал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бухгалтерского учета и налогообложения на предприятиях, относящихся к субъектам малого и среднего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деятельности малого предприятия и уровня рис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Разработка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бизнес-плана. Цели составления. Анализ рыночной ситуации: сканирование и анализ внутренней и внешней сре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ментирование рынка, выбор целевых сегментов и позиционирование товара. План маркетинга. План продаж. Производственный план. Организационный план. Финансовый пл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Project Expert для подготовки бизнес-пл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Разработка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бизнес-плана. Цели составления. Анализ рыночной ситуации: сканирование и анализ внутренней и внешней сре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ментирование рынка, выбор целевых сегментов и позиционирование товара. План маркетинга. План продаж. Производственный план. Организационный план. Финансовый пл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Project Expert для подготовки бизнес-пл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ю дисциплины является формирование у студентов теоретических знаний об основах функционирования малого бизнеса и практических навыков по организации собственного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ю дисциплины является формирование у студентов теоретических знаний об основах функционирования малого бизнеса и практических навыков по организации собственного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сущность малого предпринимательства, его функции и роль в экономике России и развиты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ть состояние малого бизнеса в России и выявить проблемы его развития; рассмотреть систему государственного регулирования малого бизнеса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критерии выбора вида предпринимательской деятельности и организационно-правовой формы; рассмотреть процедуру государственной регистрации юридических лиц и ПБО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ценку производственных, трудовых и финансовых ресурсов, необходимых для организации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порядок разработки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особенности экономического функционирования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сущность малого предпринимательства, его функции и роль в экономике России и развиты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ть состояние малого бизнеса в России и выявить проблемы его развития; рассмотреть систему государственного регулирования малого бизнеса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критерии выбора вида предпринимательской деятельности и организационно-правовой формы; рассмотреть процедуру государственной регистрации юридических лиц и ПБО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ценку производственных, трудовых и финансовых ресурсов, необходимых для организации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порядок разработки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особенности экономического функционирования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изучения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функционирования малого бизне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студентов формируются навыки п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ю на основе изучения статистических данных анализа экономически и социально значимых проблем  развития малого предприниматель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рганизации бизнеса (выбор вида и сферы деятельности, организационно-правовой формы, оценка необходимых ресурсов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работке бизнес-плана малого предприятия (сбор и анализ необходимой информации, расчет финансово-экономических показателей и анализ полученных результатов, использование информационных 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изучения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функционирования малого бизне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студентов формируются навыки п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ю на основе изучения статистических данных анализа экономически и социально значимых проблем  развития малого предприниматель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рганизации бизнеса (выбор вида и сферы деятельности, организационно-правовой формы, оценка необходимых ресурсов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работке бизнес-плана малого предприятия (сбор и анализ необходимой информации, расчет финансово-экономических показателей и анализ полученных результатов, использование информационных 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аспределение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ение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итогового контроля - за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самостоятельной работы предусмотрено практическое задание по разработке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итогового контроля - за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самостоятельной работы предусмотрено практическое задание по разработке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РАЗДЕЛОВ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1. МАЛЫЙ БИЗНЕС В ЭКОНОМИКЕ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Малый бизнес: сущность, функции и роль в экономике России и зарубежны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редпринимательства. Понятия «предпринимательская деятельность», «малое предпринимательство» и «малый бизне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ая история возникновения и развития малого бизнеса в экономически развитых странах и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, воспроизводственные и социальные функции малого предпринимательства и его роль в экономике России и развитых ст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е критерии малого бизнеса и его качественные характерис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РАЗДЕЛОВ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1. МАЛЫЙ БИЗНЕС В ЭКОНОМИКЕ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Малый бизнес: сущность, функции и роль в экономике России и зарубежны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редпринимательства. Понятия «предпринимательская деятельность», «малое предпринимательство» и «малый бизне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ая история возникновения и развития малого бизнеса в экономически развитых странах и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, воспроизводственные и социальные функции малого предпринимательства и его роль в экономике России и развитых ст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е критерии малого бизнеса и его качественные характерис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Малый бизнес в России: состояние, проблемы и перспективы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ка социально-экономических показателей развития малого предпринимательства в России на современном этапе.    Отраслевая структура малого бизнеса.   Региональная дифференциация в уровне развития малого предпринимательства. Оценка степени инвестиционной и инновационной активности малого бизнеса в стра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 развития малого предпринимательства в России: финансовые и организационные (доступа к ресурса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государственного  регулирования малого предпринимательства в России. Формирование в стране благоприятного предпринимательского климата. Государственная поддержка субъектов малого и среднего предпринимательства. Программно-целевой подход в регулировании малого бизнеса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Малый бизнес в России: состояние, проблемы и перспективы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ка социально-экономических показателей развития малого предпринимательства в России на современном этапе.    Отраслевая структура малого бизнеса.   Региональная дифференциация в уровне развития малого предпринимательства. Оценка степени инвестиционной и инновационной активности малого бизнеса в стра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 развития малого предпринимательства в России: финансовые и организационные (доступа к ресурса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государственного  регулирования малого предпринимательства в России. Формирование в стране благоприятного предпринимательского климата. Государственная поддержка субъектов малого и среднего предпринимательства. Программно-целевой подход в регулировании малого бизнеса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2. ОРГАНИЗАЦИЯ И МЕХАНИЗМ ФУНКЦИОН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Выбор вида предпринимательской деятельности и организационно-правовой формы, регистрация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. Оценка деловых качеств потенциального предприним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сферы и вида предпринимательской деятельности с учетом оценки потенциального уровня дохода, риска, а также наличия административных и экономических барьеров для создания новых предпри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создания малого бизнеса: организация нового предприятия, приобретение готовой фирмы, аренда предприятия, франчайзин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места расположения малого предприятия с учетом удаленности от потребителей и поставщиков ресурсов, наличия производственной и финансовой инфра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оптимальной организационно-правовой формы предприятия с учетом числа учредителей и возможности их участия в управлении, распределения прибыли и убытков, уровня финансовой ответственности, возможности привлечения дополнительн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а государственной регистрации юридических лиц и индивидуальных предпринимателей. Порядок составления учредительных доку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2. ОРГАНИЗАЦИЯ И МЕХАНИЗМ ФУНКЦИОН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Выбор вида предпринимательской деятельности и организационно-правовой формы, регистрация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. Оценка деловых качеств потенциального предприним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сферы и вида предпринимательской деятельности с учетом оценки потенциального уровня дохода, риска, а также наличия административных и экономических барьеров для создания новых предпри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создания малого бизнеса: организация нового предприятия, приобретение готовой фирмы, аренда предприятия, франчайзин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места расположения малого предприятия с учетом удаленности от потребителей и поставщиков ресурсов, наличия производственной и финансовой инфра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оптимальной организационно-правовой формы предприятия с учетом числа учредителей и возможности их участия в управлении, распределения прибыли и убытков, уровня финансовой ответственности, возможности привлечения дополнительн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а государственной регистрации юридических лиц и индивидуальных предпринимателей. Порядок составления учредительных доку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A6F90-0DBC-4EC5-B6C6-423AC5F1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15BE1-565F-4583-AB2F-DA937022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61958-DAFC-40A6-AD41-C441EFC2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E3EBB-2A82-4B11-8738-EF1DD986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CD11-C8DA-4BE1-B6A3-510842E92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EEE3-987D-449D-9677-123DBDEA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822C-43B1-4045-8907-F153DB7F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7C28-98EF-4568-B90C-CCFAC38F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086A-EAC9-4CB9-8266-E1AD7B68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4BC9-66FF-4F81-91E6-0B677392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927D-A31C-4688-9A43-B677FD81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D8192-0CF8-42CE-9A81-9D126380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A8B4-D20E-42CC-A3C5-F0860F38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850F-2095-4156-8A28-5CC66480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E7E2-FD35-423E-BE2A-9B898A53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BAEC-B10A-4ABA-A2CB-C1E86B55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A575-BD64-45BC-8C69-7EFE4092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45ADF-9FF3-4FFE-A1F4-00D08E2F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567E6-0A3A-410F-AEE4-0C5EE078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184E9-5F48-4972-9AE8-A08411E0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28ED3-40E1-4552-BF50-A238603B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066D9-9EDE-45A2-91A1-2F3ECE43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7DBF3-EDAD-46A8-8E56-E287611B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14CAB-56D3-45E6-805A-081DA901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8D0C-4427-409E-B354-2D56C2DF2B1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C164-FB81-4E4A-B3E3-E97DADA3D1E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39640" y="765000"/>
            <a:ext cx="8137800" cy="52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урс по выб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Основы функцион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лого бизнес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студентов 2-го кур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акультета «Финансы и кред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.э.н., ст. преп. кафедры ЭиА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зникова Екатерина Вале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ма 4. Оценка ресурсов, необходимых для организации малого бизн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ение потребности малого предприятия в производственных и трудовых ресурсах. Подбор офисных, производственных, торговых и складских помещений. Закупка оборудования и формирование материально-производственных запасов. Методы поиска персон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ение объема и оптимальной структуры источников финансирования. Оценка  возможностей привлечения заемных финансовых ресурсов (банковский кредит, лизинг, бюджетный креди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21844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ема 5. Особенности экономического механизма функционирования малого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я производства на малых предприятиях. Выбор оптимальной организационной структуры управления. Логистика в малом бизнесе. Оптимальные формы и системы оплаты труда в малом бизне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правление затратами на малых предприятиях. Выбор метода ценообразования. Финансовое планирование (бюджетирование) в малом бизне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енности бухгалтерского учета и налогообложения на предприятиях, относящихся к субъектам малого и среднего предприним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ка эффективности деятельности малого предприятия и уровня ри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21844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ма 6. Разработка бизнес-плана создания малого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бизнес-плана. Цели составления. Анализ рыночной ситуа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анирование и анализ внутренней и внешн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гментирование рынка, выбор целевых сегментов и позиционирование товара. План маркетинга. План продаж. Производственный план. Организационный план. Финансовый п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Exper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ля подготовки бизнес-пл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ью дисциплин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является формирование у студентов теоретических знаний об основах функционирования малого бизнеса и практических навыков по организации собственного малого пред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8351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адачи дисциплины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крыть сущность малого предпринимательства, его функции и роль в экономике России и развитых ст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характеризовать состояние малого бизнеса в России и выявить проблемы его развития; рассмотреть систему государственного регулирования малого бизнеса 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ь критерии выбора вида предпринимательской деятельности и организационно-правовой формы; рассмотреть процедуру государственной регистрации юридических лиц и ПБОЮ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ть оценку производственных, трудовых и финансовых ресурсов, необходимых для организации малого бизн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ить порядок разработки бизнес-плана создания малого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крыть особенности экономического функционирования малого бизн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 результате изучения кур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«Основы функционирования малого бизне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у студентов формируются навыки по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ведению на основе изучения статистических данных анализа экономически и социально значимых проблем  развития малого предпринимательств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рганизации бизнеса (выбор вида и сферы деятельности, организационно-правовой формы, оценка необходимых ресурсов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азработке бизнес-плана малого предприятия (сбор и анализ необходимой информации, расчет финансово-экономических показателей и анализ полученных результатов, использование информационных технолог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пределение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95280" y="1268280"/>
          <a:ext cx="8064360" cy="4762800"/>
        </p:xfrm>
        <a:graphic>
          <a:graphicData uri="http://schemas.openxmlformats.org/drawingml/2006/table">
            <a:tbl>
              <a:tblPr/>
              <a:tblGrid>
                <a:gridCol w="5256360"/>
                <a:gridCol w="792000"/>
                <a:gridCol w="1081080"/>
                <a:gridCol w="934920"/>
              </a:tblGrid>
              <a:tr h="522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мина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ст.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1. Малый бизнес: сущность, функции и роль в экономике России и зарубежных стр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2. Малый бизнес в России: состояние, проблемы и перспективы разви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3. Выбор вида предпринимательской деятельности и организационно-правовой формы, регистрация пред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4. Оценка ресурсов, необходимых для организации малого бизн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5. Особенности экономического механизма функционирования малого бизн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6. Разработка бизнес-плана создания малого пред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8218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а итогового контроля - зач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амках самостоятельной работы предусмотрено практическое задание по разработке бизнес-плана создания малого пред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4232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ОДЕРЖАНИЕ РАЗДЕЛОВ ДИСЦИПЛИН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ЗДЕЛ 1. МАЛЫЙ БИЗНЕС В ЭКОНОМИКЕ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ема 1. Малый бизнес: сущность, функции и роль в экономике России и зарубежных ст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ория предпринимательства. Понятия «предпринимательская деятельность», «малое предпринимательство» и «малый бизнес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ткая история возникновения и развития малого бизнеса в экономически развитых странах и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номические, воспроизводственные и социальные функции малого предпринимательства и его роль в экономике России и развитых стр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ичественные критерии малого бизнеса и его качественные характерис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Тема 2. Малый бизнес в России: состояние, проблемы и перспективы развит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инамика социально-экономических показателей развития малого предпринимательства в России на современном этапе.    Отраслевая структура малого бизнеса.   Региональная дифференциация в уровне развития малого предпринимательства. Оценка степени инвестиционной и инновационной активности малого бизнеса в стра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блемы развития малого предпринимательства в России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инансовые и организационные (доступа к ресурсам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истема государственного  регулирования малого предпринимательства в России. Формирование в стране благоприятного предпринимательского климата. Государственная поддержка субъектов малого и среднего предпринимательства. Программно-целевой подход в регулировании малого бизнеса в Росс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РАЗДЕЛ 2. ОРГАНИЗАЦИЯ И МЕХАНИЗМ ФУНКЦИОН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МАЛОГО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Тема 3. Выбор вида предпринимательской деятельности и организационно-правовой формы, регистрация пред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отивация предпринимательской деятельности. Оценка деловых качеств потенциального предпринимате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бор сферы и вида предпринимательской деятельности с учетом оценки потенциального уровня дохода, риска, а также наличия административных и экономических барьеров для создания новых предприят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ормы создания малого бизнеса: организация нового предприятия, приобретение готовой фирмы, аренда предприятия, франчайзин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ределение места расположения малого предприятия с учетом удаленности от потребителей и поставщиков ресурсов, наличия производственной и финансовой инфраструкт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бор оптимальной организационно-правовой формы предприятия с учетом числа учредителей и возможности их участия в управлении, распределения прибыли и убытков, уровня финансовой ответственности, возможности привлечения дополнительных ресур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цедура государственной регистрации юридических лиц и индивидуальных предпринимателей. Порядок составления учредительных докумен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08:05:10Z</dcterms:created>
  <dc:creator>A</dc:creator>
  <dc:description/>
  <dc:language>en-US</dc:language>
  <cp:lastModifiedBy>LEGION</cp:lastModifiedBy>
  <dcterms:modified xsi:type="dcterms:W3CDTF">2016-01-05T12:45:22Z</dcterms:modified>
  <cp:revision>38</cp:revision>
  <dc:subject/>
  <dc:title>Издержки производства и себестоимость продук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