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C0AB-B46F-459C-8719-F895C345CA3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slide" Target="../slides/slide2.xml"/><Relationship Id="rId5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. Клиника, профилактика, 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цент кафедры внутренних болезней №1 Краснова С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050B-9730-4094-AF88-C0CBCF1B27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ректильная фаза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74E7-33BD-4C06-8D01-ECB9724906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3F06-868B-44DE-B901-67ACE25801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зникает торпидная фаз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B242-5805-48E6-813D-EA82989002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EED3-E0F6-483F-8593-6BE6E9D71A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эректильной фаз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DB62-0F6A-4A67-8C75-FFBA198561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торпидной фаз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D0FC-2FDC-4CC0-8E18-0CEF881807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1AB7-3A01-4849-AF8A-04BEA83F0C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зависимости от тяжести состояния пострадавшего клинически различают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4 стадии торпидного ш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67A6-2729-4DB2-BB7D-5C8CC5517D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— тяжёлое, угрожающе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изни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больного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атологическо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операциях, большой потере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52DE-B48D-407D-822C-8855357E74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2 степени (средний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Шок 3 степени (тяжелый):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F82D-5566-41B8-BF8E-158551BC6F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4 степени (предагональное состояние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C2FD-41FB-4F65-B235-ACD6A13FF7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02EE-9473-49D6-B6C9-0A73479897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ечение травматического шока состоит из оказания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НА ПОЛЕ БО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В ОЧАГАХ МАССОВЫХ САНИТАРНЫХ ПОТЕР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рачебной помощи на М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B3F1-189C-4527-AB18-FBBD2055FD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49D4-24A6-4201-AAE1-3FF3EC5956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7A9D-2E68-4AF0-9CDB-1800AF9A55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FDC1-A765-4C6D-B564-8AAFC060B2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бескровленные раненые с наложенными на поврежденные конечности жгут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4874-1507-47CE-B9A0-5ABD6967E6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3A25-4748-48B1-9EE8-98CFF1FFD5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D7AC-A5AE-440A-B794-84EEC7AF1E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8ED8-9F6E-4FEE-BE97-FD8ADD9032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3B53-E5A0-4D98-9F9E-7884F3DDE7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При переломах костей, повреждениях магистральных сосудов 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6C56-C617-48E3-A82A-805BC2E49F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8BD4-5EFB-42DF-948D-75CB8D9F87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1BEC-8760-4CE0-BC9F-488BB4C829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990F-35EA-47FD-A882-DD6E8CAACE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9501-86B5-42A9-8DAF-A776DC5B41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EA56-9CAB-4DFC-8846-09EE1A5387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338E-DF14-4378-AF27-E9BFBD16F7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EDAB-9B27-4C11-BAA1-E6AA808DB5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9EC8-1074-4DE9-BADC-98F415D45E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анальгина, аспирина, кеторолака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этом не следует использовать морфин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67B2-F3F7-452C-B8FC-680BA1D787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транквилизатора или 40—50 капель корвалола, валокордина, или небольшого количества крепкого спиртного напит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B1E2-234D-4FAB-B6C9-656CC35778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8F17-A4B2-49A4-9362-DD1BADDDD4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3DC1-3FE1-4C30-A485-2B0D62565E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D6E9-55E4-4779-A6A7-2871BD8C3B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 Введение витаминов, особенно аскорбиновой кислоты и витамина В¹, хлорида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противостолбнячной сыворотки и анатоксина, антиби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ейролептанальге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CE4B-B240-40C2-A769-629B9845DB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офилактик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ФИЛАКТИКА травматического ш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здержаться от оперативного вмешательства (только по жизненным показа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иммобилизация при перел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анальгезия, седативные пре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84F9-5E36-4710-9BF2-B39CE26B0B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CF4A-6FD4-4616-8474-3FA336EB2A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5F39-82DE-4FAB-A3B0-9140367ED6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6889-3038-4C8C-984B-9648A7BA34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5C5F-DB8B-4CBF-AA0E-EBAB11DC11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ич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49EC-D86D-41A1-95B3-CCB168E614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0FEF-E757-446A-8151-38956AC838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FBE2-2639-4101-B54E-4FC2F38DDA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8265-453D-4345-AC99-0B569A5F2F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DCD6-8984-43C7-AFA0-6762610158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B7AB-1511-4AAD-B7F0-1B31FD2B9A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0957-882E-4547-8DD7-DC8F0303EC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B5C9-6ADE-40ED-B579-FD9285853F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ин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Борьба с шоком этой группы пострадавших очень трудна и далеко не всегда эффекти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0AF6-54C1-4408-9DF6-3C9A004A30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патогенезу травматический шок соответствует гиповолемическому. Основные факторы, вызывающие данный вид шока, – сильное болевое раздражение и потеря больших объём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F32A-0606-42A8-AC6C-FEDB66829D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9FEB-9839-4977-8BD1-2B1F51B03C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р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C4A1-8586-4810-AFE3-696922D076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ы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1973-8D2F-4DC0-8B2F-47CE11CC18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более глубоких ожогах объем цир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ого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8C35-FCDE-4EB4-9168-78206FB4B7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ЕЧЕНИЕ такое ж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8B0F-9644-451D-93A9-F6E44761D9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99C1-2511-4C5A-89E2-D0BA8EB2C2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297E-674D-4F12-9D95-C4E7792C58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3ED4-1767-45EC-AEF9-B18EBB4699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C369-7B81-4440-8984-19F2354D0B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88E5-CBDD-4CFE-A6F4-0A6B15B332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A6FD-A862-495B-9229-2F9B9DD697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0% раствора анальгин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2% раствора промедол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 в сочетании с фентанилом (0,005% раствор, по 1—2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0EAF-E246-49E2-ACCE-4CA7A1FFC0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A959-E389-4040-9B72-8878CF3D42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E49A-6C9D-42FE-BCD0-39C4F109F5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2DDD-E10F-4663-820D-BD4C632F5B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идкости, в т.ч. 5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% раствора глюкозы, 3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отонического раствора хлорида натрия, 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4% раствора гидрокарбоната натрия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полиглюкина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елатин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2542-4D04-45A4-841F-5C3CA9B8CF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DF09-1F06-4314-BCCD-91E6AB0BC4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во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, почасовой диурез 1,5—2,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/кг/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гематокрит 38—4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3D4E-CEF6-4906-A18E-2695D26A1E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г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сутки). ДТФ (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в сутки), витамины группы В, аскорбиновую кисл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1035-32C1-44B2-B86B-7AE66E5161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B71F-90A5-4BDA-9551-81167294F8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9136-FC27-44CE-A5B5-B832FF409E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ремени возникновения различают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перв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тор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инической картине травматического шока может наблюдаться две фазы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ректи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рпи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9B41-5FBA-4CAA-8881-A734127643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10B1-6C42-4838-911F-1B20B664B7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E694-C3F6-4597-A9EB-8686B05D1E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60CD-7083-47DD-82E8-0465123324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1ACD-CA0C-49FB-A3D2-58490CFB35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FD8-AD5C-4C0A-9906-F20898D0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4EB-F45B-4181-9130-31283140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37D-76C6-419C-BE3D-97C928DC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9BE6-DA77-4D29-B417-D5B059DB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2BDCB-0222-49C0-ACBD-208E5CDA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73811-F88D-4421-95A8-207741F6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BC297-7BD7-4440-AB55-0EF864E2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9D297-93E2-404F-9158-5B4FEA5E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08E0B-996B-46C3-8618-24780F7C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1CE5D-49D1-4033-9F8B-E2EA8F33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E7D69-6E5A-4FC3-9087-F3AB8607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4AA-23D4-4F2A-AB24-792425ED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C98A6-0484-4660-8BCD-5BEF1ECB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F88E3-2390-4EBD-849B-BA67E427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3F831-DB1D-4875-AC22-AB293426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198F1-0BC3-4087-BB6B-8EE2848E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D6977-07F8-453B-A108-E4CF7236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BAA-6A05-43C4-957F-7F8129B5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7A1-4CA3-4E5D-AE68-DB17057B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566-C742-4168-9519-93946747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4CD-4BAD-43E3-ACBC-6421E2FF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C0B-5B08-41F1-AF60-CCE72A6F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4F2-52A0-4964-BE77-D7ED0899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320-C55D-4320-B98D-CB7B8191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3BAC-63FA-46D2-84F8-90C19DA02F9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F093-15FD-463C-B5C0-DFF206EFBA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hyperlink" Target="http://ru.wikipedia.org/wiki/&#1061;&#1080;&#1088;&#1091;&#1088;&#1075;&#1080;&#1095;&#1077;&#1089;&#1082;&#1072;&#1103;_&#1086;&#1087;&#1077;&#1088;&#1072;&#1094;&#1080;&#1103;" TargetMode="External"/><Relationship Id="rId5" Type="http://schemas.openxmlformats.org/officeDocument/2006/relationships/hyperlink" Target="http://ru.wikipedia.org/wiki/&#1050;&#1088;&#1086;&#1074;&#1100;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60;&#1072;&#1081;&#1083;:Antishock_body_position.svg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Intensivstation_%2801%29_2007-03-03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2;&#1083;&#1100;&#1075;&#1080;&#1085;" TargetMode="External"/><Relationship Id="rId2" Type="http://schemas.openxmlformats.org/officeDocument/2006/relationships/hyperlink" Target="http://ru.wikipedia.org/wiki/&#1040;&#1089;&#1087;&#1080;&#1088;&#1080;&#1085;" TargetMode="External"/><Relationship Id="rId3" Type="http://schemas.openxmlformats.org/officeDocument/2006/relationships/hyperlink" Target="http://ru.wikipedia.org/wiki/&#1050;&#1077;&#1090;&#1086;&#1088;&#1086;&#1083;&#1072;&#1082;" TargetMode="External"/><Relationship Id="rId4" Type="http://schemas.openxmlformats.org/officeDocument/2006/relationships/hyperlink" Target="http://ru.wikipedia.org/wiki/&#1052;&#1086;&#1088;&#1092;&#1080;&#1085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2;&#1085;&#1082;&#1074;&#1080;&#1083;&#1080;&#1079;&#1072;&#1090;&#1086;&#1088;" TargetMode="External"/><Relationship Id="rId2" Type="http://schemas.openxmlformats.org/officeDocument/2006/relationships/hyperlink" Target="http://ru.wikipedia.org/wiki/&#1050;&#1086;&#1088;&#1074;&#1072;&#1083;&#1086;&#1083;" TargetMode="External"/><Relationship Id="rId3" Type="http://schemas.openxmlformats.org/officeDocument/2006/relationships/hyperlink" Target="http://ru.wikipedia.org/wiki/&#1042;&#1072;&#1083;&#1086;&#1082;&#1086;&#1088;&#1076;&#1080;&#1085;" TargetMode="External"/><Relationship Id="rId4" Type="http://schemas.openxmlformats.org/officeDocument/2006/relationships/hyperlink" Target="http://ru.wikipedia.org/wiki/&#1040;&#1083;&#1082;&#1086;&#1075;&#1086;&#1083;&#1100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3;&#1080;&#1087;&#1086;&#1074;&#1086;&#1083;&#1077;&#1084;&#1080;&#1095;&#1077;&#1089;&#1082;&#1080;&#1081;_&#1096;&#1086;&#1082;&amp;action=edit&amp;redlink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. Клиника, профилактика, л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Доцент кафедры внутренних болезней №1 Краснова С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98100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эректильная фаза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озникает торпидная фаз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эректильной фазе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торпидной фаз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зависимости от тяжести состояния пострадавшего клинически различают 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4 стадии торпидного ш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Травматически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— тяжёлое, угрожающе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жизн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больного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патологическо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операциях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большой потер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кров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20" descr="C:\Documents and Settings\Администратор\Рабочий стол\777\logo_fin.jpg"/>
          <p:cNvPicPr/>
          <p:nvPr/>
        </p:nvPicPr>
        <p:blipFill>
          <a:blip r:embed="rId6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Шок 2 степени (средний):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3 степени (тяжелый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4 степени (предагональное состояние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ечение травматического шока состоит из оказания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НА ПОЛЕ БО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В ОЧАГАХ МАССОВЫХ САНИТАРНЫХ ПОТЕР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рачебной помощи на М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311280" cy="360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220px-Antishock_body_posi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844640"/>
            <a:ext cx="3672000" cy="3097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696600" y="324576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нять ножной конец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284720" y="443700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20" descr="C:\Documents and Settings\Администратор\Рабочий стол\777\logo_fin.jpg"/>
          <p:cNvPicPr/>
          <p:nvPr/>
        </p:nvPicPr>
        <p:blipFill>
          <a:blip r:embed="rId4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81800" cy="46818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ескровленные раненые с наложенными на поврежденные конечности жгут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896000" cy="3382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переломах костей, повреждениях магистральных сосудов и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250px-Intensivstation_%2801%29_2007-03-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284640"/>
            <a:ext cx="4319640" cy="2592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0" descr="C:\Documents and Settings\Администратор\Рабочий стол\777\logo_fin.jpg"/>
          <p:cNvPicPr/>
          <p:nvPr/>
        </p:nvPicPr>
        <p:blipFill>
          <a:blip r:embed="rId3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392360" cy="3097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анальг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аспир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кеторолак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этом не следует использовать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морфин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транквилизатор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или 40—50 капель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корвалол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валокордин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или небольшого количества крепк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спиртного напит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5287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 Введение витаминов, особенно аскорбиновой кислоты и витамина В¹, хлорида кальц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противостолбнячной сыворотки и анатоксина, антибиот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ейролептанальге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офилактик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ПРОФИЛАКТИКА травматического ш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здержаться от оперативного вмешательства (только по жизненным показания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иммобилизация при перелом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анальгезия, седативные препар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18728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547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4927320" cy="392904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835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ичина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539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11600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Борьба с шоком этой группы пострадавших очень трудна и далеко не всегда эффекти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патогенезу травматический шок соответствует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гиповолемическому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Основные факторы, вызывающие данный вид шока, – сильное болевое раздражение и потеря больших объёмов кро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Клиническая картина ожогов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132000" y="83664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 мм р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ы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более глубоких ожогах объем цир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ого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ЛЕЧЕНИЕ такое ж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0% раствора анальгин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2% раствора промедол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 в сочетании с фентанилом (0,005% раствор, по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и, в т.ч.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% раствора глюкозы, 3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зотонического раствора хлорида натрия, 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4% раствора гидрокарбоната натрия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олиглюкина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елатино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м вод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, почасовой диурез 1,5—2,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/кг/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гематокрит 38—4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11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г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в сутки). ДТФ (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в сутки), витамины группы В, аскорбиновую кисло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468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личество, темп и последовательность инфузий определяются клиническим течением шока. При тяжелом шоке инфузию начинают со струйного введения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за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в дальнейшем переходят к капельному вливанию, регулируя его в зависимости от ЦВД, почасового диуреза и др. В среднем на каждого тяжелообожженного расходуется около 6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ей, причем в первые 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ротивошоковой терапии больной должен получить половину суто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ъе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ремени возникновения различают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перв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тор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линической картине травматического шока может наблюдаться две фазы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ректильн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рпид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126828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119700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8:36:28Z</dcterms:created>
  <dc:creator>Татьяна</dc:creator>
  <dc:description/>
  <dc:language>en-US</dc:language>
  <cp:lastModifiedBy>LEGION</cp:lastModifiedBy>
  <dcterms:modified xsi:type="dcterms:W3CDTF">2014-11-06T11:24:45Z</dcterms:modified>
  <cp:revision>31</cp:revision>
  <dc:subject/>
  <dc:title>Травматический и ожоговый шок. Клиника, профилактика, лечение</dc:title>
</cp:coreProperties>
</file>