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D31-7F3F-4B85-95D2-E30642A2E5A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История психологии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е осн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C8F7-C4B7-4FFC-B4A9-A239BA7D3033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ПОДХОД В ОПРЕДЕЛЕНИ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МЕТА ИСТОРИИ НАУ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чность и творческий пу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85A-7123-491B-B635-77556F37AB6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 сво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носеологической прир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тражением отраж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B26-F1B4-4CA2-8349-BBDC5A84523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иалектической научной дисципли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и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976-E58D-4D83-92B2-E78D53746C3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едметная область истории психологии склад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 стыке и пересечен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овед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ологи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A6C5-7AA5-46A3-A99C-2540FBF2D2D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стемная методолог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CE16-97ED-4EBE-BAD2-FB19834E24E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ым элемен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юбой науки явля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методологических принци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B82-06E4-4B3A-A3DA-BE5885D1D2F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Принцип детерминиз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 развития псих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1C4B-E7C0-4C25-B057-49FAA2A58EC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Принцип единства логического и историческ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CEF5-E20B-427F-BDEB-108B962AB1E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Принцип систем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7DFB-7627-4BC5-A7F0-9BA26E441B3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ринцип объективности историко-психологического исследования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955-1739-49F8-9B68-A835B58E7A3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ЛАН 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и проблемы историко-психологическ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683F-E6E3-4E52-B4FC-B65FF12C122E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Принцип конструктивно-позитивного анализ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6B6-6B30-40C6-89AB-2F1A4357317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Принцип периодизации и преемстве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93E-8BB3-482E-8058-3AAE2556EFFD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Принцип единства прошлого, настоящего и будуще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их зн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A41C-5E93-4F64-97B1-994A8693DAB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009E-475A-4A04-89B9-BCF685464AE4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остоит отличие психологического знания от психологического познани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 основные подходы в определении предмета истории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особенности предметной области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шите основные методологические принципы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арактеризуйте самостоятельные методы истории психологи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8130-CE1E-4479-A17C-6AA6B98C5D6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оварь термин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сторико-психологического позн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й принцип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истории психолог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познание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0DB5-84C7-4BE1-A9A3-735B0B8FA536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ы реферат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особенностей различных форм психологически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объективности историко-психологического исследования: пути и способ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применения метода планирования историко-психологического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46A-4A5F-44CE-9246-479AB32A8417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l A.P. Merton revisited or society sourse in the seventeen century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. P. 89-9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. 60-7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53-6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Soviet Perspectives on Russian Psychology / edited by V.Koltsova, Y.Oleinik, A. Gilgen, K.Gilgen. 199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дан А.Н. История психологии. От античности до наших дней. М., 1990. 367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3B1B-DCA4-40DE-860F-8D74B91081EA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йре А. Очерки истории философской мысли. М., 198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мчур Е.А. Проблемы социокультурной детерминации научного знания. М., 198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 Русская ментальность и ее отражение в науках о человеке. М., 1994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83AE-7352-4F64-B966-A1A74421634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4600" indent="-444600">
              <a:spcBef>
                <a:spcPts val="414"/>
              </a:spcBef>
              <a:buClr>
                <a:srgbClr val="000000"/>
              </a:buClr>
              <a:buFont typeface="Calibri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ЪЕКТ И ПРЕДМЕТ ИСТОРИИ ПСИХОЛОГ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ЩИЕ ЗАКОНОМЕРНОСТИ РАЗВИТИЯ ПСИХОЛОГИЧЕСКИХ ЗНАНИ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ом такого рода размышлений является возникнов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по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4600" indent="0">
              <a:spcBef>
                <a:spcPts val="451"/>
              </a:spcBef>
              <a:buNone/>
              <a:tabLst>
                <a:tab algn="l" pos="0"/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5087-6027-44E4-8696-D343B7BCCFC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06CA-F886-418C-A35D-1502DD4436C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792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60F2-D028-4153-8802-19B4119B82AC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038B-C7B9-46CC-9097-A87C4F5F9425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38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СПЕЦИФИКА ПРЕДМЕТНОЙ ОБЛАСТИ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И ПСИХОЛОГ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838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к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D6E-E008-493D-A879-4F181EE5503F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 В ОПРЕДЕЛЕНИИ ПРЕДМЕТА ИСТОРИИ НАУ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ическое зн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огико-научным, или интернальным, подход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истории нау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B2E2-44AD-4FB6-ABEE-4A5C0C338170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ОЙ ПОДХОД В ОПРЕДЕЛЕНИИ ПРЕДМЕТА ИСТОРИИ НАУ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(В ТОМ ЧИСЛЕ ПСИХОЛОГИИ)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ент на внешней истории развит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го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кстерналь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ерм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60640" y="944388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6E2-151E-4710-9037-D51B677A5ED9}" type="slidenum">
              <a:rPr b="0" lang="uk-UA" sz="1200" spc="-1" strike="noStrike">
                <a:solidFill>
                  <a:srgbClr val="205ff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A983-73C7-468A-A265-07239BE2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864-507B-4E83-A4AB-C49966E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99856-A6EE-461E-91A1-FC6A835E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5602F-FE15-4D94-B630-4CC904AF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26CC5-0A5A-4C00-8C0C-22E87D3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AD5B5-F07C-4DAB-A5ED-8F04AA0E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2BB53-CE5E-46FB-A0FC-7C0E0413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FC4FC-5CE6-43DA-B40E-7D8D940F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21F39-E2B1-49E4-802C-B894E0F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89ADE-2913-4AC6-BC23-69CE1B2C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A5878-228F-4C6D-8E8C-9079B6B4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64676-E884-4EAA-ACF7-F8F1638B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B74-D4C0-4ADC-A005-A9E8911C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9B08F-9E40-41CF-95BF-DD96E49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D4E14-AFC3-4DA2-A131-3206D40A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0B66E-AE40-4666-99BC-C353C68B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137CA-5876-4E4F-AE95-64A2E487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F7F38-BFC5-41BE-BB53-EF103529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BEAEA-B31D-49A7-9352-5311DB2D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FA72E-CF35-4E45-A135-374601A0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7DFB6-3BD9-453E-8C72-31CE1F5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D6884-0A62-40DA-82D8-6EB1416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BDDEC-2E67-4454-A0A3-6E5704D8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90F6-7409-41DB-BFBF-5803CCD2C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91EE3-4AD2-4842-84CD-F0CBA6DA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58C9-7F21-4F25-8E5F-0C13EBAC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87323-1D8E-4718-9101-A5F20B14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300B2-D1B0-4A42-AB51-D49B11B2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8E42C-C242-4202-97F2-3D0AC112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FC20E-0DB6-44E7-9E8F-0AE4AD1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9F9A0-CB4A-4747-9567-7D886AB6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A2128-3B39-4C26-BE19-0252781E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8503-7A75-4297-8A72-6A2390FB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9B378-1D7B-40DC-8BF6-364B252F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78212-ABD0-423B-8B32-16C3E0C3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5656-A5EB-4ABE-B0F1-D93D0F5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A023D-2C07-4771-928C-324A29C7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3C481-7D5D-4E43-95A2-B2917E04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96701-28AB-4131-BF0B-80E8838C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020CF-F11A-48AB-9177-57224B95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2A02-6ED8-4AD8-8F01-90792D1F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137CD-1C51-4C7E-8580-4FEB295D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B7C3A0-3C4A-404D-AB95-A2F8248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F0766-B662-47C4-B550-D486A6A1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5500D-8ABC-4031-9FF2-A4DAFEF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C2DC2-49C5-4531-9F9A-9395F281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C3773-EA1F-4528-BAD8-52EC17FC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1C2A-0B07-4943-808F-10B23F55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A4E51-F445-46DE-9E67-A2D25BE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5E3A1-F5FC-499B-BA29-546DB805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A72B9-A031-492F-A1E7-4FAA19BA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05C88-D66D-4138-86F0-0204BB59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CD930-59AD-4540-BDC5-AC95469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5138A-7527-459F-844C-4D3ADC2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FFC49-3282-46A7-9A79-DCCCACF3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D94C3-C276-4F64-9A68-E7A74511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1E3-0B16-4B2E-8F83-47E9C70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8A309-3FAF-43E1-87DA-9D658323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B3473-F423-4FBD-AC72-8D0079C7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546E8-D973-4CA6-BD12-4707E27A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07EB-353C-49C4-9C50-B3883746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B6EF1-261C-4F8A-90C3-76F3D9A6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B8A23-E6CF-421A-AA4F-A5001690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B317C-7C6C-449A-9A30-652CA10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7526-E4C9-42A8-A95B-0006913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2CDBC-5B1F-4D59-91D5-6E98F697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6FE1-EF97-4CAE-A035-2AF18FA4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768-8B14-4F8E-8B37-2BCFB73F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A6A5-980E-4AA3-BC81-EE40EFE2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7079-6D94-497D-A95F-DADECC6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0D7F5-9259-4FDB-9667-4C51EE4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D3797-2AE8-4BF8-8D45-BB51871B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05C6-8B8F-4638-8A66-1EFBA7BE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952B-59C8-46E7-A485-CBC3FD49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3333-8602-4AA9-AF30-C61E8783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E6F02-51B3-4862-B2F6-3884B13B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E5235-D115-48C5-978D-1D1B13B9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87855-644D-450C-A31E-ABADC6E1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3380-28C0-47D5-A79D-33D86CE2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761AC-A938-426C-AA36-C767DB30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CCD0-5E96-4709-AC76-FB7572CA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E28FE-244A-40FA-9CFD-48091623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51E6C-5C71-453C-966F-3FC622D6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ED296-29BE-4DEF-80B7-88CFE444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362E-A828-440D-AAF8-865FB1F8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A5B3D-D76A-49C1-994F-733A31FE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C8D23-8F62-4B23-8210-37CF3371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E2CC-AF3E-43E1-9482-C8537D06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0D449-CA1D-41D2-8E1B-DD3C6E71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B0C-280F-4682-A28D-BB889994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FBBE0-EFE5-4D26-838C-1BCDAAB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E1761-E7BB-406D-A91A-22A044D0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B26A-57E1-4BEC-B45C-203DDF98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46A4E-0200-4B55-8B25-55D3CB1C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618A8-EEAD-46A5-BBC9-674A91CA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5BC4-4391-4F04-8409-4E57F590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5377-AA80-4FEE-9159-0E185DFB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A7FA7-6B4F-442F-AA33-E83B213D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0C0AE-5ED5-4F65-BDFB-AC15FA3D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664C4-16CF-443E-8613-A56486EA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8DA-BBE3-49E1-9DFC-78CD8A13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5CB1-66BD-449E-8382-4A3670E6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A7B7-8F28-4179-9EC2-6F88B779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B6C0-EFEB-45B5-AB45-BDEE9591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1D6B-DCC2-44B2-938A-E129F8AF5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F052C-4522-4DE8-8B2B-F5FE0F0C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E3F40-FA26-4417-B6CB-84A0DF02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48CF-9AA0-472A-857D-5056122F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94D63-9529-49DA-AEEF-370A409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370A-BA8F-455B-9C2D-3271B1D7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54F9B-709B-4EBF-85BE-3B6B73E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5EE7-89C4-49A4-9C49-83B6839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05253-4651-4680-9270-E9FB375A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8687-B5A1-49D1-AB49-A0003A1D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DB17-76E0-4E31-8BF9-CA5CF648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EAE30-9D09-40BC-ABE3-829A58E3A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F1C9E-5CB0-4AA9-8229-39427F8A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DC9F3-B979-46F3-9C18-80AEF4FE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590DC-A4E6-49CE-B391-B7E16B6E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80014-7DE1-4BA0-BC45-6546C47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FA8DB-E829-4035-AEA7-6F63A8D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82AB7-3A89-40C0-85D1-21718B2F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D82C-595A-43A4-8562-4B282760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1F547-13EE-4F51-9AF2-2964AD7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83D16-7E14-4977-AF1D-CB3520F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F72BC-33C2-4380-8143-8A39CD7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0F25D-EA35-40D5-8AA0-2A42975C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84026-C781-4E43-8833-B91057F7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B9E94-29B3-44F6-B577-25C92464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B84D8-87E0-4685-A506-61574A76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85A45-E6E0-4985-A86C-8B5261DF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9408D-47C8-4494-BAEE-F7799A27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D1C65-BA75-4E2C-8F23-BC071D0F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D60-1054-44D5-8B05-B6F4D24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1F0F0-472D-4DAE-90B0-264CDABF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3742B-2B6E-42B0-BE01-411181E2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3B81F-08FC-4C25-8C8A-6F71C2B8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F49A-ECF7-4ACA-B708-6650EF6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9807A-7C34-4959-BF46-D3DCF1BF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224A-4A23-466E-B91E-0F6595BC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D06B0-EDC2-4711-944C-A4EBF811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BBFB8-0DC0-4EE6-94EF-353AAEAC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06F11-45D9-42CC-BCF9-1A4C9B87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2AE5-97D7-4A20-B614-B944F03F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F23B-B9C3-45E4-98B9-C911E2A9D1B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C144-F070-461B-B587-6E4BE85120A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17B7-D71F-4E8C-85E8-E654CE4D3E0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7BC2-F42E-4815-90C1-67B950424EF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3A94-B51A-489E-9C9E-1BFD658E128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0269-8E3F-468F-BD40-621D2B1FB04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4DF7-1FD3-498A-AE64-D7803435FCC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CEDC-DFB2-4031-9811-DEE2893E7DD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6164-DC57-4B04-AA49-901DEDA31DE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1711-EA23-473D-AF4A-CDCC9417F3B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6F78-46BE-4401-B964-AC38A24883A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3545-68B8-4727-B696-1F215FE7E98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71640" y="3033720"/>
            <a:ext cx="6229440" cy="18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кция 1. История психологии: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оретические основан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РЕТИЙ ПОДХОД В ОПРЕДЕЛЕНИ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ЕДМЕТА ИСТОРИИ НАУКИ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редставители третьего подхода в изучении истории психологии акцентируют внимание на ее персонально-личностных аспектах. Во главу угла в качестве главного двигателя научного прогресса и главного предмета рассмотрения выступает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ичность и творческий путь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того или иного ученого, его научные идеи, взгляды, концепции и подходы. Таким образом, история науки, по сути, становится историей деятелей науки (будь то отдельный ученый, или группа ученых, или то или иное их объединение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боснование определения предмета истории психологии предполагает описание специфики рассматриваемой предметной области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1. По сво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гносеологической природе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история психологии представляет собой отражение процесса становления и развития психологического познания, т.е. является отражением второго порядка -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отражением отраженн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Она исследует не саму психическую реальность, а представления о ней, складывающиеся на разных этапах истории и в разных культурных ареалах. Этим обусловлена необходимость четкого разведения объективного (соответствующего действительному ходу развития истории) и субъективного (привнесенного его интерпретациями) взгляда на исследуемые процессы. Более того, именно субъективные представления во всем их многообразии как отражающие разные уровни их "отходов" или "приближений" к исследуемой реальности и составляют непосредственный предмет историко-психологического исследования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2. Познание в любой области - глубоко диалектический процесс, включающий преобразование, приращение знания, накопление научной фактологии и углубление ее теоретического осмысления, изменение структуры научного знания и его понятийно-категориального основания и т.д. Отражая реальную диалектику психологического познания, история психологии сама явля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диалектической научной дисциплино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Причем и здесь, наряду с объективной диалектикой (идущей от самого объекта, его развития), имеют место и субъективные факторы (исторически детерминированные изменения в мировоззрении исследователе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чного позна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). Этим определяется существование разных картин развития психологического знания на разных этапах истории, в рамках разных научных школ и у отдельных ученых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ое положение усугубляется сложностью выделения точных научных критериев оценки выдвигаемых в области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рии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оложений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3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3. Предметная область истории психологии складывается </a:t>
            </a: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на стыке и пересечен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с рядом научных отраслей. По своему объекту - психическая реальность - история психологии относится к разряду психологических дисциплин, входит в структуру общей психологии. По методу - психолого-историческая реконструкция развития психологического знания - она принадлежит к историческим наукам. Носителем научной фактологии в области истории психологии являются исторические источники и поэтому история психологии тесно связана с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источниковедением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Как область знания, занимающаяся изучением развития научного знания в отдельной отрасли знания, история психологии является разделом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Логика исследования и генезис становления психологического знания определяют связь истории психологии с философией, естествознанием,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культурологие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а также ее опору на данные, полученные в таких разделах психологии, как психология личности, психология творчества, психология развития и историческая психолог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3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4. Наконец, учитывая все вышесказанное, есть основание определить историю психологии как объект исследования в качестве системного образования, включающего множество аспектов, иерархическую структуру, сложную, разноуровневую систему детерминант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ля описания сложноорганизованных объектов используется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системная методолог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, предполагающая их всестороннее, целостное рассмотрение. С этой точки зрения предметом истории психологии является динамика психологического познания в его целостности, включающая изучение: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амого научного знания (его структуры, логико-научных, содержательных аспектов) - логико-науч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роцесса формирования научных идей и представлений в области истории психологии - процессуаль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оциально-культурных и организационных условий и предпосылок психологического познания - социокультурный аспект;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1" marL="801000" indent="-280080" algn="just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осителя, субъекта психологического познания (коллективного и индивидуального) - персонально-личностный аспект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79185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30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Важным элементом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метод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любой науки является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система методологических принципов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аждый из которых выступает в виде кратко сформулированной теории, не только обобщающей исторический опыт развития данной области знания и отражающей ее основные законы и закономерности, но составляющей исходное требование для дальнейших исследований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как одна из базовых отраслей психологии в своих теоретико-методологических основаниях опирается на ряд общефилософских и общепсихологических принципов, которые применительно к историко-психологическим исследованиям приобретают специфическое звучание и формулировку, выступая как частно-психологические принципы истории психологии. Что же это за принципы?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0" name="AutoShape 4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2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20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1. Принцип детерминизма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соответствии с этим принципом, в основе любого историко-психологического события лежит совокупность явных или неявных причин. Нет ни одного факта в истории психологии, которому бы не предшествовали определенные причины. Любое событие на всем протяжении исторического хода формирования психологической науки является результатом, следствием многообразной череды предшествующих явлений или причин и, в тоже время, выступает как одна из предпосылок последующих событий. При этом следует иметь в виду системный характер этих причинно-следственных зависимостей, что позволяет понимать смену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 развития психологии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разные хронологические периоды. Задача исследователя, в соответствии с этим принципом, состоит, во-первых, в раскрытии совокупности и иерархической структуры этих причин (внутренних и внешних, прямых и косвенных, непосредственных и опосредованных и т.д.), обусловивших путь к современности, а во-вторых, в установлении закономерной связи между прошлым, настоящим и будущим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2. Принцип единства логического и историческо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в понимании генезиса развития психологического знания, который отражает понимание соотношения внутренних, внутринаучных (влияние традиции, изменение категориально-понятийного аппарата, динамика структуры науки, взаимосвязи и взаимовлияния разных научных дисциплин, появление новых методов исследования и т.д.) и внешних, социокультурных причин (потребности общественной практики, идеолого-политические влияния, воздействие научно-технического прогресса, особенности духовной и интеллектуальной атмосферы в обществе и т.д.) в ходе реального процесса исторического развития психологии. Другими словами, данный принцип фиксирует взаимосвязь теории и истории психологии, что предполагает, с одной стороны, изучение отношения содержательного (т.е. логического) аспекта объекта историко-психологического исследования с анализом процесса его развития (т.е. исторического), а с другой, - выявление связи познания данного объекта с историей человеческого общества в целом и историей научного познания в частности. 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3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3. Принцип системности.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Он предполагает понимание истории развития психологических идей, проблем и направлений как многоуровневого (фундаментальный и прикладной уровни), многокачественного (обыденное, научное, художественно-образное, религиозное знания), многомерного (научное творчество отдельного ученого, научных коллективов и школ, регионального психологического сообщества, сторонников той или иной парадигмы, теории или концептуального подхода) и многообразного по своим проявлениям (донаучное, научное и паранаучное состояния) процесса, обусловленного многовариантной системой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детерминант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при оформлении ведущего, системообразующего фактора в конкретной исторической и социокультурной ситуации. Реализация данного принципа требует изучения истории психологического знания в различных аспектах: "во-первых, в тех исторических конкретных условиях, в которых наука включалась в общественную жизнь, и, во-вторых, в тех логических, теоретических связях, в которых строились психологические знания каждого исторического этапа, с одной стороны, и в том соотношении, в котором они находятся в современной психологической науке, - с другой"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4. Принцип объективности историко-психологического исследования. 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Данный принцип предполагает, что при такой процедуре, как оценка значимости тех или иных идей и результатов творчества, необходимо исходить не только из современного состояния знания, на которое опирается и от которого отталкивается исследователь, но и учитывать то реальное место, которое занимают те или иные рассматриваемые идеи в психологии и культуре своего времени ("героя судят по законам его времени"). Это позволит историку психологии преодолеть собственные предпочтения (научные и личностные) в восприятии развития психологического знания. Таким образом, в соответствии с данным принципом, перед ученым стоит задача в ходе историко-психологического исследования сформировать и выдержать позицию объективного, строго говоря, не предвзятого (ни как человека с его личностными симпатиями и антипатиями, ни как ученого, приверженного тем или иным теориям и концепциям) в отношении конечного результата наблюдателя по отношению к исследуемому объекту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: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Объект и предмет истории психологии. Общие закономерности развития психологических знаний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Специфика предметной области истории психологии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Принципы и проблемы историко-психологического исследования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4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5. Принцип конструктивно-позитивного анализа.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Принцип объективности непосредственно связан и дополняется принципом конструктивно-позитивного анализа истории психологии, который акцентирует внимание в историко-психологических исследованиях не на ошибках, недостатках и просчетах в развитии психологической мысли какой-либо отстоящей от ученого исторической эпохи, а на выявлении в совокупности историко-психологических фактов, событий, теорий и концепций того позитивного, конструктивного и прогрессивного, что сумела достичь психологическая мысль данного периода; ориентация не на критику несовершенного, а на поиск рационального и перспективного. Однако это не означает отказа от реалистической оценки (включая и ее критические моменты) тех или иных идей, взглядов, подходов. При этом критический анализ из самоцели становится средством научного познания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6. Принцип периодизации и преемственности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развития психологического знания, который предполагает наличие качественно различных этапов и периодов (содержательно и логически связанных между собой) в динамике единого и непрерывного процесса научного познания. Руководствуясь данным принципом, историк психологии должен не только выделить ключевые, наиболее значимые вехи и моменты этого процесса, не только описать историческую и логическую специфику выделенных ступеней развития знания, но и показать их эволюционную взаимосвязь и взаимопроникновени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5ff6"/>
                </a:solidFill>
                <a:latin typeface="Arial"/>
              </a:rPr>
              <a:t>7. Принцип единства прошлого, настоящего и будущего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фиксирует понимание роли и целевой функции историко-психологических исследований. Познание истории психологической науки не является только самоцелью с точки зрения собирания и уточнения исторического материала, характеризующего формирование и развитие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психологических знаний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(архивирование фактов), или воссоздания и реконструкции недостающих (неявных) звеньев в единой цепочке развития психологической мысли. Данный принцип ориентирует ученого на прогностическую стратегию исследования, связанную, во-первых, с выявлением перспективных линий, позиций, идей и подходов, сформировавшихся в прошлом, а во-вторых, с их актуализацией в контексте современных достижений психологической науки. Лишь прошлое, рассмотренное в контексте современности, позволяет очертить проблемное поле будущих исследований и тем самым имеет не только чисто познавательный интерес, но и носит установочно-ориентировочный характер для дальнейшего развития психологического знания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8. Принцип единства коллективного и индивидуального творчества в развитии психологическ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редполагает понимание истории психологии как результата деятельности не только отдельных, хотя и выдающихся ученых, но как совокупного усилия всего научного сообщества. Этот принцип ориентирует исследователя на выявление всех предпосылок формирования той или иной идеи, анализ того контекста, который в конечном итоге привел к оформлению в трудах конкретного ученого определенной концепции или теории. Он также предостерегает историка психологии от абсолютизации вклада отдельного ученого или научной школы в формирование совокупного психологического знания. В данном случае имеется в виду понимание историком психологии того факта, что психология, даже в творчестве особенно выдающихся ее представителей, не начинается каждый раз с "чистого листа", а получает лишь свое закономерное развитие. Соответственно и психологическое познание как совокупность идей и теорий, как результат коллективного творчества многих поколений исследователей в работах конкретного ученого получает творческое, порой оригинальное и новаторское, развитие или более четкое концептуальное оформление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2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В чем состоит отличие психологического знания от психологического познания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Какие формы существования психологического знания представлены в современном общественном и индивидуальном сознании?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Укажите основные подходы в определении предмета истории нау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еречислите особенности предметной области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пишите основные методологические принципы истории психологи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характеризуйте самостоятельные методы истории психологии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7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2000"/>
                                        <p:tgtEl>
                                          <p:spTgt spid="5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ловарь термин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 историко-психологического по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Методологический принцип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Объек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редмет истории психологи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знани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Психологическое позна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581" name="Picture 4" descr="BUTTON16"/>
          <p:cNvPicPr/>
          <p:nvPr/>
        </p:nvPicPr>
        <p:blipFill>
          <a:blip r:embed="rId1"/>
          <a:stretch/>
        </p:blipFill>
        <p:spPr>
          <a:xfrm>
            <a:off x="395280" y="14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BUTTON16"/>
          <p:cNvPicPr/>
          <p:nvPr/>
        </p:nvPicPr>
        <p:blipFill>
          <a:blip r:embed="rId2"/>
          <a:stretch/>
        </p:blipFill>
        <p:spPr>
          <a:xfrm>
            <a:off x="39528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BUTTON16"/>
          <p:cNvPicPr/>
          <p:nvPr/>
        </p:nvPicPr>
        <p:blipFill>
          <a:blip r:embed="rId3"/>
          <a:stretch/>
        </p:blipFill>
        <p:spPr>
          <a:xfrm>
            <a:off x="39528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BUTTON16"/>
          <p:cNvPicPr/>
          <p:nvPr/>
        </p:nvPicPr>
        <p:blipFill>
          <a:blip r:embed="rId4"/>
          <a:stretch/>
        </p:blipFill>
        <p:spPr>
          <a:xfrm>
            <a:off x="395280" y="45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BUTTON16"/>
          <p:cNvPicPr/>
          <p:nvPr/>
        </p:nvPicPr>
        <p:blipFill>
          <a:blip r:embed="rId5"/>
          <a:stretch/>
        </p:blipFill>
        <p:spPr>
          <a:xfrm>
            <a:off x="39528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BUTTON16"/>
          <p:cNvPicPr/>
          <p:nvPr/>
        </p:nvPicPr>
        <p:blipFill>
          <a:blip r:embed="rId6"/>
          <a:stretch/>
        </p:blipFill>
        <p:spPr>
          <a:xfrm>
            <a:off x="395280" y="2205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58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ы рефератов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равнительный анализ особенностей различных форм психологических знаний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ологические подходы в определении предмета истории науки: достоинства и недостатки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вышение объективности историко-психологического исследования: пути и способы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Особенности применения метода планирования историко-психологического исследования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Метод проблемологического анализа в изучении динамики психологического познания об индивидуальности человека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Позитивные и негативные тенденции современного развития историко-психологических исследований 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2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2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2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8" dur="2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Hall A.P. Merton revisited or society sourse in the seventeen century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1968. P. 89-9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Koltsova V. Ideological and scientific discourse in Soviet psycholodical science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P. 60-7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Oleinik Y. Russian psychology at present: trends and paradoxes // Post-Soviet Perspectives on Russian Psychology /edited by V.Koltsova, Y.Oleinik, A. Gilgen, K.Gilgen. 1996.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. 53-6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Post-Soviet Perspectives on Russian Psychology / edited by V.Koltsova, Y.Oleinik, A. Gilgen, K.Gilgen.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ольшакова В.В. Очерки истории русской психологии (XIX-начало XX вв.). Нижний Новгород, 1994. 16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Ждан А.Н. История психологии. От античности до наших дней. М., 1990. 367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стория психологии. Период открытого кризиса (начало 10-х - середина 30-х годов XX в.): Тексты. М., 1992. 362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тегории материалистической диалектики в психологии / Под ред. Л.И. Анцыферова. М., 198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5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йре А. Очерки истории философской мысли. М., 1985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катос И. История науки и ее рациональная реконструкция // Структура и развитие науки. М., 1978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мчур Е.А. Проблемы социокультурной детерминации научного знания. М., 1987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 Русская ментальность и ее отражение в науках о человеке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цинковская Т.Д., Ярошевский М.Г. 50 выдающихся психологов мира: Учебное пособие для студентов. М., 1995. 19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икольская А.А. Возрастная и педагогическая психология дореволюционной России. Дубна, 1995. 331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тровский А. Ярошевский М. Г. История психологии: Учебное пособие для высшей школы. М., 1994. 448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истематический ретроспективный указатель (указатель психологической литературы, изданной в СССР за 1987 г.). М., 1990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2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3" dur="20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20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2000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5" dur="2000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2000"/>
                                        <p:tgtEl>
                                          <p:spTgt spid="5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колова Е.Ю. 13 диалогов о психологии. М., 199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каченко А.Н. Категориальный строй психологии как предмет историко-научного исследования // Методология историко-психологического исследования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Эткинд А. Эрос невозможного. История психоанализа в России. СПб., 1993. 463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История психологии (от античности до середины XX в.) М., 1996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Краткий курс истории психологии. М., 1995. 14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Л. Выготский: в поисках новой психологии. СПб, 1993. 300 с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О категориальном анализе истории психологического познания // Проблемы теории и истории развития психологии. М., 1973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274680" indent="-2746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Ярошевский М.Г. Психология в XX столетии. М., 1974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99" name="AutoShape 4">
            <a:hlinkClick r:id="" action="ppaction://hlinkshowjump?jump=endshow"/>
          </p:cNvPr>
          <p:cNvSpPr/>
          <p:nvPr/>
        </p:nvSpPr>
        <p:spPr>
          <a:xfrm>
            <a:off x="4067280" y="5589720"/>
            <a:ext cx="1225440" cy="647640"/>
          </a:xfrm>
          <a:custGeom>
            <a:avLst/>
            <a:gdLst>
              <a:gd name="textAreaLeft" fmla="*/ 41760 w 1225440"/>
              <a:gd name="textAreaRight" fmla="*/ 1183680 w 1225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0860" h="21600">
                <a:moveTo>
                  <a:pt x="0" y="0"/>
                </a:moveTo>
                <a:lnTo>
                  <a:pt x="40860" y="0"/>
                </a:lnTo>
                <a:lnTo>
                  <a:pt x="40860" y="21600"/>
                </a:lnTo>
                <a:lnTo>
                  <a:pt x="0" y="21600"/>
                </a:lnTo>
                <a:close/>
              </a:path>
              <a:path fill="lightenLess" w="40860" h="21600">
                <a:moveTo>
                  <a:pt x="0" y="0"/>
                </a:moveTo>
                <a:lnTo>
                  <a:pt x="40860" y="0"/>
                </a:lnTo>
                <a:lnTo>
                  <a:pt x="39460" y="1400"/>
                </a:lnTo>
                <a:lnTo>
                  <a:pt x="1400" y="1400"/>
                </a:lnTo>
                <a:close/>
              </a:path>
              <a:path fill="darken" w="40860" h="21600">
                <a:moveTo>
                  <a:pt x="40860" y="0"/>
                </a:moveTo>
                <a:lnTo>
                  <a:pt x="40860" y="21600"/>
                </a:lnTo>
                <a:lnTo>
                  <a:pt x="39460" y="20200"/>
                </a:lnTo>
                <a:lnTo>
                  <a:pt x="39460" y="1400"/>
                </a:lnTo>
                <a:close/>
              </a:path>
              <a:path fill="darkenLess" w="40860" h="21600">
                <a:moveTo>
                  <a:pt x="4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60" y="20200"/>
                </a:lnTo>
                <a:close/>
              </a:path>
              <a:path fill="lighten" w="4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60" h="21600">
                <a:moveTo>
                  <a:pt x="20430" y="3837"/>
                </a:moveTo>
                <a:lnTo>
                  <a:pt x="23006" y="6448"/>
                </a:ln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lnTo>
                  <a:pt x="27393" y="10800"/>
                </a:lnTo>
                <a:lnTo>
                  <a:pt x="25739" y="10800"/>
                </a:lnTo>
                <a:lnTo>
                  <a:pt x="25739" y="17989"/>
                </a:lnTo>
                <a:lnTo>
                  <a:pt x="15121" y="17989"/>
                </a:lnTo>
                <a:lnTo>
                  <a:pt x="15121" y="10800"/>
                </a:lnTo>
                <a:lnTo>
                  <a:pt x="13467" y="10800"/>
                </a:lnTo>
                <a:close/>
              </a:path>
              <a:path fill="darkenLess" w="40860" h="21600">
                <a:moveTo>
                  <a:pt x="23006" y="6448"/>
                </a:moveTo>
                <a:lnTo>
                  <a:pt x="23006" y="4707"/>
                </a:lnTo>
                <a:lnTo>
                  <a:pt x="24782" y="4707"/>
                </a:lnTo>
                <a:lnTo>
                  <a:pt x="24782" y="8224"/>
                </a:lnTo>
                <a:close/>
              </a:path>
              <a:path fill="darkenLess" w="40860" h="21600">
                <a:moveTo>
                  <a:pt x="19507" y="14299"/>
                </a:moveTo>
                <a:lnTo>
                  <a:pt x="21353" y="14299"/>
                </a:lnTo>
                <a:lnTo>
                  <a:pt x="21353" y="17989"/>
                </a:lnTo>
                <a:lnTo>
                  <a:pt x="25739" y="17989"/>
                </a:lnTo>
                <a:lnTo>
                  <a:pt x="25739" y="10800"/>
                </a:lnTo>
                <a:lnTo>
                  <a:pt x="15121" y="10800"/>
                </a:lnTo>
                <a:lnTo>
                  <a:pt x="15121" y="17989"/>
                </a:lnTo>
                <a:lnTo>
                  <a:pt x="1950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5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4600" indent="-444600" algn="r">
              <a:buClr>
                <a:srgbClr val="ffffff"/>
              </a:buClr>
              <a:buFont typeface="Arial"/>
              <a:buAutoNum type="arabicPeriod"/>
              <a:tabLst>
                <a:tab algn="l" pos="3043080"/>
                <a:tab algn="l" pos="3225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ЪЕКТ И ПРЕДМЕТ ИСТОРИИ ПСИХОЛОГИИ.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ИЕ ЗАКОНОМЕРНОСТИ РАЗВИТИЯ ПСИХОЛОГИЧЕСКИХ ЗНАНИЙ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Появление психологических знаний по времени сопоставимо с рождением человеческой цивилизации: возникает человеческое сообщество и вместе с ним появляются попытки ответить на извечные, волнующие человека вопросы, касающиеся его возможностей и ограничений во взаимодействии с суровой действительностью, его специфики и места в окружающем мире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езультатом такого рода размышлений является возникновение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, которое, уходя своими корнями в ранние этапы человеческой истории, сопровождает и все дальнейшее ее развитие, вплоть до настоящего времен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6" name="AutoShape 4"/>
          <p:cNvSpPr/>
          <p:nvPr/>
        </p:nvSpPr>
        <p:spPr>
          <a:xfrm>
            <a:off x="7451640" y="6380280"/>
            <a:ext cx="1225800" cy="477720"/>
          </a:xfrm>
          <a:custGeom>
            <a:avLst/>
            <a:gdLst>
              <a:gd name="textAreaLeft" fmla="*/ 30960 w 1225800"/>
              <a:gd name="textAreaRight" fmla="*/ 1194840 w 122580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99" h="21600">
                <a:moveTo>
                  <a:pt x="0" y="0"/>
                </a:moveTo>
                <a:lnTo>
                  <a:pt x="55399" y="0"/>
                </a:lnTo>
                <a:lnTo>
                  <a:pt x="55399" y="21600"/>
                </a:lnTo>
                <a:lnTo>
                  <a:pt x="0" y="21600"/>
                </a:lnTo>
                <a:close/>
              </a:path>
              <a:path fill="lightenLess" w="55399" h="21600">
                <a:moveTo>
                  <a:pt x="0" y="0"/>
                </a:moveTo>
                <a:lnTo>
                  <a:pt x="55399" y="0"/>
                </a:lnTo>
                <a:lnTo>
                  <a:pt x="53999" y="1400"/>
                </a:lnTo>
                <a:lnTo>
                  <a:pt x="1400" y="1400"/>
                </a:lnTo>
                <a:close/>
              </a:path>
              <a:path fill="darken" w="55399" h="21600">
                <a:moveTo>
                  <a:pt x="55399" y="0"/>
                </a:moveTo>
                <a:lnTo>
                  <a:pt x="55399" y="21600"/>
                </a:lnTo>
                <a:lnTo>
                  <a:pt x="53999" y="20200"/>
                </a:lnTo>
                <a:lnTo>
                  <a:pt x="53999" y="1400"/>
                </a:lnTo>
                <a:close/>
              </a:path>
              <a:path fill="darkenLess" w="55399" h="21600">
                <a:moveTo>
                  <a:pt x="55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99" y="20200"/>
                </a:lnTo>
                <a:close/>
              </a:path>
              <a:path fill="lighten" w="55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99" h="21600">
                <a:moveTo>
                  <a:pt x="20693" y="10800"/>
                </a:moveTo>
                <a:lnTo>
                  <a:pt x="34706" y="3794"/>
                </a:lnTo>
                <a:lnTo>
                  <a:pt x="347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07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04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3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ПО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ъективно происходящее накопление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смысление знаний люде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ак важной составной части развития жизненного процесса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условия совершенствования взаимодействия человека с миром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и самого человека как субъекта психической реа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3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468360" y="1413000"/>
            <a:ext cx="7991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знание человека о себе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как носителе особых психических свойств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и характеристик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5ff6"/>
                </a:solidFill>
                <a:latin typeface="Arial"/>
              </a:rPr>
              <a:t>субъекте психической деятельност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7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3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к результата творческой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знавательной деятельности человека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целостности и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в его реальной </a:t>
            </a:r>
            <a:r>
              <a:rPr b="1" i="1" lang="ru-RU" sz="2400" spc="-1" strike="noStrike">
                <a:solidFill>
                  <a:srgbClr val="205ff6"/>
                </a:solidFill>
                <a:latin typeface="Arial"/>
              </a:rPr>
              <a:t>диалектике</a:t>
            </a: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 разных этапах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ультурной эволюции человечества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 ИСТОРИИ ПСИХОЛОГИИ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AutoShape 5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2"/>
          <p:cNvSpPr/>
          <p:nvPr/>
        </p:nvSpPr>
        <p:spPr>
          <a:xfrm>
            <a:off x="468360" y="1413000"/>
            <a:ext cx="8207280" cy="4608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опытки осмыслить процесс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сихологического познания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описать его содержание и структуру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(совокупность взглядов, идей, подходов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направлений и течений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категорий и понятий)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его институциональные и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персонально-личностные аспекты, 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5ff6"/>
                </a:solidFill>
                <a:latin typeface="Arial"/>
              </a:rPr>
              <a:t>а также закономерности и этапы развития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ЕДМЕТ ИСТОРИИ ПСИХОЛОГ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7524720" y="587700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6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8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психологического знания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осуществляется объективно, с непреложной необходимостью в силу его реальной функции в жизнедеятельности человека, в его эволюционном становлени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Знание о психике, следуя за развивающейся жизнью человека и отражая все новые и усложняющиеся стороны его взаимодействия с миром, включается само в это взаимодействие как важный фактор его регуляции, обеспечивая не только адаптивные, приспособительные, но и преобразующе-действенные, активные формы поведения.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Развитие психологического знания происходит в виде различных взаимосвязанных форм (уровней):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"житейские" представления людей о психике, возникающие в их реальной жизненной практике, в разных ее сферах (материальной, производственной деятельности, в бытовой области, в воспитательно-обучающем процессе, в искусстве и т.д.) и основывающиеся на непосредственном отражении разных аспектов бытия и философии "здравого смысла"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ычленяющиеся в рамках мифологии и религии как исторически первых форм познания мира и человека и отражающие канонические требования указанных видов культурного творчества человечества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накопленные в рамках художественно-образного наблюдения за окружающей действительностью в работах художников, архитекторов, писателей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lvl="1" marL="179280" indent="265320" algn="just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сихологические знания, возникающие на определенном этапе развития общества в связи с выделением нового способа реконструкции действительности - науки - и включающие целенаправленный процесс сбора и анализа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психологической фактологии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, логические формы ее объяснения и доказательства, переход от описательной стратегии и методов исследования к объяснительной, т.е. - </a:t>
            </a:r>
            <a:r>
              <a:rPr b="1" i="1" lang="ru-RU" sz="16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. В свою очередь, научные психологические знания, зародившиеся впервые в античном мире, сами проходят длительный путь эволюции - от существования в лоне других наук (философии, истории, естествознания) и до выделения и дальнейшего их развития в рамках самостоятельной научной дисциплины (вторая половина XIX в.)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30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30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916360" y="1557360"/>
            <a:ext cx="3744720" cy="115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ИСТОРИЯ ПСИХОЛОГИ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2195640" y="3429000"/>
            <a:ext cx="216036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ОБЪЕКТ</a:t>
            </a:r>
            <a:r>
              <a:rPr b="0" i="1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5003640" y="4365720"/>
            <a:ext cx="2087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ПРЕДМЕТ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>
            <a:off x="250920" y="1989000"/>
            <a:ext cx="2233440" cy="2519640"/>
          </a:xfrm>
          <a:custGeom>
            <a:avLst/>
            <a:gdLst>
              <a:gd name="textAreaLeft" fmla="*/ 299160 w 2233440"/>
              <a:gd name="textAreaRight" fmla="*/ 1934280 w 2233440"/>
              <a:gd name="textAreaTop" fmla="*/ 441000 h 2519640"/>
              <a:gd name="textAreaBottom" fmla="*/ 1827000 h 25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>
            <a:off x="6877080" y="1916280"/>
            <a:ext cx="2016000" cy="3817800"/>
          </a:xfrm>
          <a:custGeom>
            <a:avLst/>
            <a:gdLst>
              <a:gd name="textAreaLeft" fmla="*/ 270000 w 2016000"/>
              <a:gd name="textAreaRight" fmla="*/ 1746000 w 2016000"/>
              <a:gd name="textAreaTop" fmla="*/ 668160 h 3817800"/>
              <a:gd name="textAreaBottom" fmla="*/ 2768040 h 38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0" name="AutoShape 16"/>
          <p:cNvSpPr/>
          <p:nvPr/>
        </p:nvSpPr>
        <p:spPr>
          <a:xfrm>
            <a:off x="766764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. СПЕЦИФИКА ПРЕДМЕТНОЙ ОБЛАСТИ 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СТОРИИ ПСИХОЛОГИИ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Сложность и многоаспектность психологического познания как объекта исследования, а также непосредственная связь его осмысления с развитием общенаучных взглядов о человеке и психологических идей, с методологическими и идейными влияниями обусловливают соответственно различные определения предмета истории психологии. В их основе - выделенные и акцентируемые теми или иными авторами стороны или аспекты единого объекта историко-психологического анализа.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Недостаточная отрефлексированность методологических проблем в истории психологии с одной стороны, и ее принадлежность к науковедческим дисциплинам - с другой, объясняют необходимость и возможность при рассмотрении данного вопроса выходить за рамки собственно истории психологии в область </a:t>
            </a:r>
            <a:r>
              <a:rPr b="1" lang="ru-RU" sz="2000" spc="-1" strike="noStrike">
                <a:solidFill>
                  <a:srgbClr val="205ff6"/>
                </a:solidFill>
                <a:latin typeface="Arial"/>
              </a:rPr>
              <a:t>науковедения</a:t>
            </a:r>
            <a:r>
              <a:rPr b="0" lang="ru-RU" sz="2000" spc="-1" strike="noStrike">
                <a:solidFill>
                  <a:srgbClr val="205ff6"/>
                </a:solidFill>
                <a:latin typeface="Arial"/>
              </a:rPr>
              <a:t>. В итоге в наиболее общем виде представляется возможным выделить три основных подхода в определении предмета истории науки (в том числе психологии). 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7596360" y="6380280"/>
            <a:ext cx="1225440" cy="477720"/>
          </a:xfrm>
          <a:custGeom>
            <a:avLst/>
            <a:gdLst>
              <a:gd name="textAreaLeft" fmla="*/ 30960 w 1225440"/>
              <a:gd name="textAreaRight" fmla="*/ 1194480 w 1225440"/>
              <a:gd name="textAreaTop" fmla="*/ 30960 h 477720"/>
              <a:gd name="textAreaBottom" fmla="*/ 446760 h 477720"/>
            </a:gdLst>
            <a:ahLst/>
            <a:rect l="textAreaLeft" t="textAreaTop" r="textAreaRight" b="textAreaBottom"/>
            <a:pathLst>
              <a:path w="55383" h="21600">
                <a:moveTo>
                  <a:pt x="0" y="0"/>
                </a:moveTo>
                <a:lnTo>
                  <a:pt x="55383" y="0"/>
                </a:lnTo>
                <a:lnTo>
                  <a:pt x="55383" y="21600"/>
                </a:lnTo>
                <a:lnTo>
                  <a:pt x="0" y="21600"/>
                </a:lnTo>
                <a:close/>
              </a:path>
              <a:path fill="lightenLess" w="55383" h="21600">
                <a:moveTo>
                  <a:pt x="0" y="0"/>
                </a:moveTo>
                <a:lnTo>
                  <a:pt x="55383" y="0"/>
                </a:lnTo>
                <a:lnTo>
                  <a:pt x="53983" y="1400"/>
                </a:lnTo>
                <a:lnTo>
                  <a:pt x="1400" y="1400"/>
                </a:lnTo>
                <a:close/>
              </a:path>
              <a:path fill="darken" w="55383" h="21600">
                <a:moveTo>
                  <a:pt x="55383" y="0"/>
                </a:moveTo>
                <a:lnTo>
                  <a:pt x="55383" y="21600"/>
                </a:lnTo>
                <a:lnTo>
                  <a:pt x="53983" y="20200"/>
                </a:lnTo>
                <a:lnTo>
                  <a:pt x="53983" y="1400"/>
                </a:lnTo>
                <a:close/>
              </a:path>
              <a:path fill="darkenLess" w="55383" h="21600">
                <a:moveTo>
                  <a:pt x="5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83" y="20200"/>
                </a:lnTo>
                <a:close/>
              </a:path>
              <a:path fill="lighten" w="5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383" h="21600">
                <a:moveTo>
                  <a:pt x="20685" y="10800"/>
                </a:moveTo>
                <a:lnTo>
                  <a:pt x="34698" y="3794"/>
                </a:lnTo>
                <a:lnTo>
                  <a:pt x="34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ЕРВЫЙ ПОДХОД В ОПРЕДЕЛЕНИИ ПРЕДМЕТА ИСТОРИИ НАУКИ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ервый подход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основу изучения кладет результат психологического познания, его внутреннее содержание - собственно </a:t>
            </a:r>
            <a:r>
              <a:rPr b="1" lang="ru-RU" sz="2200" spc="-1" strike="noStrike">
                <a:solidFill>
                  <a:srgbClr val="205ff6"/>
                </a:solidFill>
                <a:latin typeface="Arial"/>
              </a:rPr>
              <a:t>психологическое знание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(его строение, структуру, логико-содержательные аспекты, внутрилогические механизмы развития знания), рассматривая его как самодостаточное и существующее относительно самостоятельно, вне связи с другими сторонами познавательного процесса (социально-культурными и личностными опосредованиями)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Такой подход, акцентирующий внимание в основном на внутренней, логической стороне познания и отвечающий на вопрос "каково содержание знания", может быть назван </a:t>
            </a:r>
            <a:r>
              <a:rPr b="1" i="1" lang="ru-RU" sz="2200" spc="-1" strike="noStrike">
                <a:solidFill>
                  <a:srgbClr val="205ff6"/>
                </a:solidFill>
                <a:latin typeface="Arial"/>
              </a:rPr>
              <a:t>логико-научным, или интернальным, подходом</a:t>
            </a:r>
            <a:r>
              <a:rPr b="0" lang="ru-RU" sz="2200" spc="-1" strike="noStrike">
                <a:solidFill>
                  <a:srgbClr val="205ff6"/>
                </a:solidFill>
                <a:latin typeface="Arial"/>
              </a:rPr>
              <a:t> в истории науки. </a:t>
            </a:r>
            <a:endParaRPr b="0" lang="en-US" sz="2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8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ТОРОЙ ПОДХОД В ОПРЕДЕЛЕНИИ ПРЕДМЕТА ИСТОРИИ НАУК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В ТОМ ЧИСЛЕ ПСИХОЛОГИИ). 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Акцент на внешней истории развития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научного знан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и попытка вывести из нее и описать на ее основе внутринаучные закономерности порождает второй подход в понимании предмета истории науки - </a:t>
            </a:r>
            <a:r>
              <a:rPr b="1" i="1" lang="ru-RU" sz="1800" spc="-1" strike="noStrike">
                <a:solidFill>
                  <a:srgbClr val="205ff6"/>
                </a:solidFill>
                <a:latin typeface="Arial"/>
              </a:rPr>
              <a:t>экстернальны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 На этой основе возникает специальная область науковедения - социальная история науки. История науки рассматривается здесь в социальном контексте, в ее зависимости и связи с развитием организационных и социальных условий и предпосылок. Продуктивность указанного подхода состоит в том, что он выявляет значимые факторы </a:t>
            </a: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детерминации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научного знания, отвечая на вопрос "почему наука в определенных социально-исторических и культурных условиях приобретает конкретно-исторические формы". С одной стороны, это отражает одну из существенных характеристик науки - ее социальную природу как компонента общественной структуры и как результата совокупных коллективных усилий, с другой стороны, возникают вопросы относительно уровня детерминационных возможностей, степени и глубины социального воздействия на развитие психологического знания (его направления, структуру, содержание исследуемых проблем)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4:09:22Z</dcterms:created>
  <dc:creator>1</dc:creator>
  <dc:description/>
  <dc:language>en-US</dc:language>
  <cp:lastModifiedBy>LEGION</cp:lastModifiedBy>
  <dcterms:modified xsi:type="dcterms:W3CDTF">2014-11-12T08:17:56Z</dcterms:modified>
  <cp:revision>297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