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1F9B-3EBD-4D0A-873F-F319E43C39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1. История психолог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е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356A-7929-42D1-A610-176C62837C1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ТИЙ ПОДХОД В ОПРЕДЕЛЕНИ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А ИСТОРИИ НАУ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третьего подхода в изучении истории психологии акцентируют внимание на ее персонально-личностных аспектах. Во главу угла в качестве главного двигателя научного прогресса и главного предмета рассмотрения выступ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 и творчески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 или иного ученого, его научные идеи, взгляды, концепции и подходы. Таким образом, история науки, по сути, становится историей деятелей науки (будь то отдельный ученый, или группа ученых, или то или иное их объединени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563D-4E57-471F-82F9-EABD5BC06CE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определения предмета истории психологии предполагает описание специфики рассматриваемой предметн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сво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носеологической прир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психологии представляет собой отражение процесса становления и развития психологического познания, т.е. является отражением второго порядка 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ражением отраж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а исследует не саму психическую реальность, а представления о ней, складывающиеся на разных этапах истории и в разных культурных ареалах. Этим обусловлена необходимость четкого разведения объективного (соответствующего действительному ходу развития истории) и субъективного (привнесенного его интерпретациями) взгляда на исследуемые процессы. Более того, именно субъективные представления во всем их многообразии как отражающие разные уровни их "отходов" или "приближений" к исследуемой реальности и составляют непосредственный предмет историко-психологического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F063-FD5F-4CBD-838B-91AB12F789F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знание в любой области - глубоко диалектический процесс, включающий преобразование, приращение знания, накопление научной фактологии и углубление ее теоретического осмысления, изменение структуры научного знания и его понятийно-категориального основания и т.д. Отражая реальную диалектику психологического познания, история психологии сама 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иалектической научн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ричем и здесь, наряду с объективной диалектикой (идущей от самого объекта, его развития), имеют место и субъективные факторы (исторически детерминированные изменения в мировоззрении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го по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Этим определяется существование разных картин развития психологического знания на разных этапах истории, в рамках разных научных школ и у отдельных уче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ое положение усугубляется сложностью выделения точных научных критериев оценки выдвигаемых в област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и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B99A-3F83-432C-9375-BAAF082F215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метная область истории психологии склад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стыке и пересеч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рядом научных отраслей. По своему объекту - психическая реальность - история психологии относится к разряду психологических дисциплин, входит в структуру общей психологии. По методу - психолого-историческая реконструкция развития психологического знания - она принадлежит к историческим наукам. Носителем научной фактологии в области истории психологии являются исторические источники и поэтому история психологии тесно связана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овед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к область знания, занимающаяся изучением развития научного знания в отдельной отрасли знания, история психологии является раздел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Логика исследования и генезис становления психологического знания определяют связь истории психологии с философией, естествознание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ее опору на данные, полученные в таких разделах психологии, как психология личности, психология творчества, психология развития и историческая псих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6CB0-A229-4D51-95E1-EA026F86699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Наконец, учитывая все вышесказанное, есть основание определить историю психологии как объект исследования в качестве системного образования, включающего множество аспектов, иерархическую структуру, сложную, разноуровневую систему детермина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писания сложноорганизованных объектов используе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стемная методолог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едполагающая их всестороннее, целостное рассмотрение. С этой точки зрения предметом истории психологии является динамика психологического познания в его целостности, включающая изучен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го научного знания (его структуры, логико-научных, содержательных аспектов) - логико-науч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а формирования научных идей и представлений в области истории психологии - процессуаль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-культурных и организационных условий и предпосылок психологического познания - социокультур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сителя, субъекта психологического познания (коллективного и индивидуального) - персонально-личностный аспек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FDC5-ECA1-4C6F-A78A-DC385DA06CF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ы и проблемы историко-психологического исслед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эле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юбой науки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методологических принци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ждый из которых выступает в виде кратко сформулированной теории, не только обобщающей исторический опыт развития данной области знания и отражающей ее основные законы и закономерности, но составляющей исходное требование для дальнейш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дна из базовых отраслей психологии в своих теоретико-методологических основаниях опирается на ряд общефилософских и общепсихологических принципов, которые применительно к историко-психологическим исследованиям приобретают специфическое звучание и формулировку, выступая как частно-психологические принципы истории психологии. Что же это за принци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A1BD-10AB-48D9-B36F-6BC16E6355E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Принцип детерминиз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соответствии с этим принципом, в основе любого историко-психологического события лежит совокупность явных или неявных причин. Нет ни одного факта в истории психологии, которому бы не предшествовали определенные причины. Любое событие на всем протяжении исторического хода формирования психологической науки является результатом, следствием многообразной череды предшествующих явлений или причин и, в тоже время, выступает как одна из предпосылок последующих событий. При этом следует иметь в виду системный характер этих причинно-следственных зависимостей, что позволяет понимать сме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нт развития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зные хронологические периоды. Задача исследователя, в соответствии с этим принципом, состоит, во-первых, в раскрытии совокупности и иерархической структуры этих причин (внутренних и внешних, прямых и косвенных, непосредственных и опосредованных и т.д.), обусловивших путь к современности, а во-вторых, в установлении закономерной связи между прошлым, настоящим и будущ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4EB3-1F60-46A5-B7C3-C80551A4169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Принцип единства логического и историческ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онимании генезиса развития психологического знания, который отражает понимание соотношения внутренних, внутринаучных (влияние традиции, изменение категориально-понятийного аппарата, динамика структуры науки, взаимосвязи и взаимовлияния разных научных дисциплин, появление новых методов исследования и т.д.) и внешних, социокультурных причин (потребности общественной практики, идеолого-политические влияния, воздействие научно-технического прогресса, особенности духовной и интеллектуальной атмосферы в обществе и т.д.) в ходе реального процесса исторического развития психологии. Другими словами, данный принцип фиксирует взаимосвязь теории и истории психологии, что предполагает, с одной стороны, изучение отношения содержательного (т.е. логического) аспекта объекта историко-психологического исследования с анализом процесса его развития (т.е. исторического), а с другой, - выявление связи познания данного объекта с историей человеческого общества в целом и историей научного познания в частн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711F-F408-4FA7-B80E-885F700B795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Принцип систем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н предполагает понимание истории развития психологических идей, проблем и направлений как многоуровневого (фундаментальный и прикладной уровни), многокачественного (обыденное, научное, художественно-образное, религиозное знания), многомерного (научное творчество отдельного ученого, научных коллективов и школ, регионального психологического сообщества, сторонников той или иной парадигмы, теории или концептуального подхода) и многообразного по своим проявлениям (донаучное, научное и паранаучное состояния) процесса, обусловленного многовариантной систем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оформлении ведущего, системообразующего фактора в конкретной исторической и социокультурной ситуации. Реализация данного принципа требует изучения истории психологического знания в различных аспектах: "во-первых, в тех исторических конкретных условиях, в которых наука включалась в общественную жизнь, и, во-вторых, в тех логических, теоретических связях, в которых строились психологические знания каждого исторического этапа, с одной стороны, и в том соотношении, в котором они находятся в современной психологической науке, - с другой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5683-80DA-4CD1-B276-424AB796834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ринцип объективности историко-психологического исследован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предполагает, что при такой процедуре, как оценка значимости тех или иных идей и результатов творчества, необходимо исходить не только из современного состояния знания, на которое опирается и от которого отталкивается исследователь, но и учитывать то реальное место, которое занимают те или иные рассматриваемые идеи в психологии и культуре своего времени ("героя судят по законам его времени"). Это позволит историку психологии преодолеть собственные предпочтения (научные и личностные) в восприятии развития психологического знания. Таким образом, в соответствии с данным принципом, перед ученым стоит задача в ходе историко-психологического исследования сформировать и выдержать позицию объективного, строго говоря, не предвзятого (ни как человека с его личностными симпатиями и антипатиями, ни как ученого, приверженного тем или иным теориям и концепциям) в отношении конечного результата наблюдателя по отношению к исследуемому объек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C3A4-39F4-485E-B86D-0D078401693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 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 предмет истории психологии. Общие закономерности развития психологически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редметной области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и проблемы историко-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6339-0785-4697-BEE7-D6F0428A2F6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Принцип конструктивно-позитивного анализ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нцип объективности непосредственно связан и дополняется принципом конструктивно-позитивного анализа истории психологии, который акцентирует внимание в историко-психологических исследованиях не на ошибках, недостатках и просчетах в развитии психологической мысли какой-либо отстоящей от ученого исторической эпохи, а на выявлении в совокупности историко-психологических фактов, событий, теорий и концепций того позитивного, конструктивного и прогрессивного, что сумела достичь психологическая мысль данного периода; ориентация не на критику несовершенного, а на поиск рационального и перспективного. Однако это не означает отказа от реалистической оценки (включая и ее критические моменты) тех или иных идей, взглядов, подходов. При этом критический анализ из самоцели становится средством научного п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51D6-7164-4878-AED4-6D60DB7052C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Принцип периодизации и преем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вития психологического знания, который предполагает наличие качественно различных этапов и периодов (содержательно и логически связанных между собой) в динамике единого и непрерывного процесса научного познания. Руководствуясь данным принципом, историк психологии должен не только выделить ключевые, наиболее значимые вехи и моменты этого процесса, не только описать историческую и логическую специфику выделенных ступеней развития знания, но и показать их эволюционную взаимосвязь и взаимопроникнов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0EDF-B7AE-4BF9-BA78-A7AC5D4F253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Принцип единства прошлого, настоящего и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иксирует понимание роли и целевой функции историко-психологических исследований. Познание истории психологической науки не является только самоцелью с точки зрения собирания и уточнения исторического материала, характеризующего формирование и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рхивирование фактов), или воссоздания и реконструкции недостающих (неявных) звеньев в единой цепочке развития психологической мысли. Данный принцип ориентирует ученого на прогностическую стратегию исследования, связанную, во-первых, с выявлением перспективных линий, позиций, идей и подходов, сформировавшихся в прошлом, а во-вторых, с их актуализацией в контексте современных достижений психологической науки. Лишь прошлое, рассмотренное в контексте современности, позволяет очертить проблемное поле будущих исследований и тем самым имеет не только чисто познавательный интерес, но и носит установочно-ориентировочный характер для дальнейшего развития психологического 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B796-2C2D-4A50-AD61-2ED78BE24E6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8. Принцип единства коллективного и индивидуального творчества в развитии психологическ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полагает понимание истории психологии как результата деятельности не только отдельных, хотя и выдающихся ученых, но как совокупного усилия всего научного сообщества. Этот принцип ориентирует исследователя на выявление всех предпосылок формирования той или иной идеи, анализ того контекста, который в конечном итоге привел к оформлению в трудах конкретного ученого определенной концепции или теории. Он также предостерегает историка психологии от абсолютизации вклада отдельного ученого или научной школы в формирование совокупного психологического знания. В данном случае имеется в виду понимание историком психологии того факта, что психология, даже в творчестве особенно выдающихся ее представителей, не начинается каждый раз с "чистого листа", а получает лишь свое закономерное развитие. Соответственно и психологическое познание как совокупность идей и теорий, как результат коллективного творчества многих поколений исследователей в работах конкретного ученого получает творческое, порой оригинальное и новаторское, развитие или более четкое концептуальное оформ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81C9-E210-4BF6-9E12-ACEF250052C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остоит отличие психологического знания от психологического по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формы существования психологического знания представлены в современном общественном и индивидуальном созн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 основные подходы в определении предмета истории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особенности предметной области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шите основные методологические принципы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арактеризуйте самостоятельные методы истории психологии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4DAF-5E9C-497E-AD00-0BD7972E710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варь термин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историко-психологического п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зн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познание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5810-5FB0-4827-8186-2B0477E322F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ы рефера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особенностей различных форм психологически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е подходы в определении предмета истории науки: достоинства и недостат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объективности историко-психологического исследования: пути и спосо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именения метода планирования историко-психолог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облемологического анализа в изучении динамики психологического познания об индивидуальности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тенденции современного развития историко-психологических исследований </a:t>
            </a: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222B-901B-42A1-A72D-7BC1A83BB41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l A.P. Merton revisited or society sourse in the seventeen century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. P. 89-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ltsova V. Ideological and scientific discourse in Soviet psycholodical science // Post-Soviet Perspectives on Russian Psychology /edited by V.Koltsova, Y.Oleinik, A. Gilgen, K.Gilgen. 1996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. 60-7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inik Y. Russian psychology at present: trends and paradoxes // Post-Soviet Perspectives on Russian Psychology /edited by V.Koltsova, Y.Oleinik, A. Gilgen, K.Gilgen. 1996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53-6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Soviet Perspectives on Russian Psychology / edited by V.Koltsova, Y.Oleinik, A. Gilgen, K.Gilgen. 199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кова В.В. Очерки истории русской психологии (XIX-начало XX вв.). Нижний Новгород, 1994. 160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дан А.Н. История психологии. От античности до наших дней. М., 1990. 367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сихологии. Период открытого кризиса (начало 10-х - середина 30-х годов XX в.): Тексты. М., 1992. 362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материалистической диалектики в психологии / Под ред. Л.И. Анцыферова. М.,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EF73-8312-421E-8C27-0DFE5C50FE2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йре А. Очерки истории философской мысли. М., 198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катос И. История науки и ее рациональная реконструкция // Структура и развитие науки. М., 197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мчур Е.А. Проблемы социокультурной детерминации научного знания. М., 198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цинковская Т.Д. Русская ментальность и ее отражение в науках о человеке. М., 199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цинковская Т.Д., Ярошевский М.Г. 50 выдающихся психологов мира: Учебное пособие для студентов. М., 1995. 193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ьская А.А. Возрастная и педагогическая психология дореволюционной России. Дубна, 1995. 331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овский А. Ярошевский М. Г. История психологии: Учебное пособие для высшей школы. М., 1994. 448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й ретроспективный указатель (указатель психологической литературы, изданной в СССР за 1987 г.). М., 199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A900-9F4F-49B1-A7DF-F65EE3F2709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4600" indent="-4446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ЪЕКТ И ПРЕДМЕТ ИСТОРИИ ПСИХОЛОГ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ЩИЕ ЗАКОНОМЕРНОСТИ РАЗВИТИЯ ПСИХОЛОГИЧЕСКИХ ЗНАНИ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психологических знаний по времени сопоставимо с рождением человеческой цивилизации: возникает человеческое сообщество и вместе с ним появляются попытки ответить на извечные, волнующие человека вопросы, касающиеся его возможностей и ограничений во взаимодействии с суровой действительностью, его специфики и места в окружающ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ом такого рода размышлений является возникнов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по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, уходя своими корнями в ранние этапы человеческой истории, сопровождает и все дальнейшее ее развитие, вплоть до настоящего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5C4D-CFC4-4837-8257-C3692986A15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ется объективно, с непреложной необходимостью в силу его реальной функции в жизнедеятельности человека, в его эволюционном становл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о психике, следуя за развивающейся жизнью человека и отражая все новые и усложняющиеся стороны его взаимодействия с миром, включается само в это взаимодействие как важный фактор его регуляции, обеспечивая не только адаптивные, приспособительные, но и преобразующе-действенные, активные формы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сихологического знания происходит в виде различных взаимосвязанных форм (уровней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E8A6-3674-4A96-AF1B-C9D3D9E2CB4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"житейские" представления людей о психике, возникающие в их реальной жизненной практике, в разных ее сферах (материальной, производственной деятельности, в бытовой области, в воспитательно-обучающем процессе, в искусстве и т.д.) и основывающиеся на непосредственном отражении разных аспектов бытия и философии "здравого смысла"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вычленяющиеся в рамках мифологии и религии как исторически первых форм познания мира и человека и отражающие канонические требования указанных видов культурного творчества человечеств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накопленные в рамках художественно-образного наблюдения за окружающей действительностью в работах художников, архитекторов, писателей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возникающие на определенном этапе развития общества в связи с выделением нового способа реконструкции действительности - науки - и включающие целенаправленный процесс сбора и анализ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ологической фактолог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логические формы ее объяснения и доказательства, переход от описательной стратегии и методов исследования к объяснительной, т.е. -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учного зна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В свою очередь, научные психологические знания, зародившиеся впервые в античном мире, сами проходят длительный путь эволюции - от существования в лоне других наук (философии, истории, естествознания) и до выделения и дальнейшего их развития в рамках самостоятельной научной дисциплины (вторая половина XIX в.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1B9A-EE7B-4A4F-B21E-583CF0113C2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3F2B-7802-4B09-A17F-4662256F2B3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ПЕЦИФИКА ПРЕДМЕТНОЙ ОБЛАСТ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РИИ ПСИХОЛОГ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38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и многоаспектность психологического познания как объекта исследования, а также непосредственная связь его осмысления с развитием общенаучных взглядов о человеке и психологических идей, с методологическими и идейными влияниями обусловливают соответственно различные определения предмета истории психологии. В их основе - выделенные и акцентируемые теми или иными авторами стороны или аспекты единого объекта историко-психолог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отрефлексированность методологических проблем в истории психологии с одной стороны, и ее принадлежность к науковедческим дисциплинам - с другой, объясняют необходимость и возможность при рассмотрении данного вопроса выходить за рамки собственно истории психологии в обла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 наиболее общем виде представляется возможным выделить три основных подхода в определении предмета истории науки (в том числе психолог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EA25-A61D-42C5-9B52-9A2268282AE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Й ПОДХОД В ОПРЕДЕЛЕНИИ ПРЕДМЕТА ИСТОРИИ НАУК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снову изучения кладет результат психологического познания, его внутреннее содержание - собствен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е зн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о строение, структуру, логико-содержательные аспекты, внутрилогические механизмы развития знания), рассматривая его как самодостаточное и существующее относительно самостоятельно, вне связи с другими сторонами познавательного процесса (социально-культурными и личностными опосредован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подход, акцентирующий внимание в основном на внутренней, логической стороне познания и отвечающий на вопрос "каково содержание знания", может быть назва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огико-научным, или интернальным, подход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истории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5B59-D4C0-4EF8-96C6-4FB6B83E522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ТОРОЙ ПОДХОД В ОПРЕДЕЛЕНИИ ПРЕДМЕТА ИСТОРИИ НАУ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В ТОМ ЧИСЛЕ ПСИХОЛОГИИ)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на внешней истории развит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опытка вывести из нее и описать на ее основе внутринаучные закономерности порождает второй подход в понимании предмета истории науки 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стерн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а этой основе возникает специальная область науковедения - социальная история науки. История науки рассматривается здесь в социальном контексте, в ее зависимости и связи с развитием организационных и социальных условий и предпосылок. Продуктивность указанного подхода состоит в том, что он выявляет значимые фактор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учного знания, отвечая на вопрос "почему наука в определенных социально-исторических и культурных условиях приобретает конкретно-исторические формы". С одной стороны, это отражает одну из существенных характеристик науки - ее социальную природу как компонента общественной структуры и как результата совокупных коллективных усилий, с другой стороны, возникают вопросы относительно уровня детерминационных возможностей, степени и глубины социального воздействия на развитие психологического знания (его направления, структуру, содержание исследуемых пробл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EB20-CFD9-4E19-81DE-A51358CA439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F4E-5331-430D-9308-13532F70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F90-B465-4A08-A62E-055A5C90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82248-FA15-459E-8620-59546DF9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349C8-6716-4D57-AC99-E00AB410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43EDD-635A-4E93-BBAB-6C7C9DD3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085C1-8CAE-4D80-AE41-98226D5D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5EC74-6E68-4755-BE80-06F2EECA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ADE65-92BA-46E9-ADFD-89AB90A8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83677-0BC6-4091-A174-F85EA938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094FD-AB1D-4571-BF54-2977A444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B03CF-2CED-48F3-A56C-6A814885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9AC8F-DCB9-4FA6-9831-3445C515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79F-3ECC-4DA1-BE99-0BA81E98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2E4FB-1063-46A6-B033-FFBB1BF0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A7C57-EC7A-46A4-A522-18D3DEA4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F189A-EFC4-47CF-8163-A131E5B5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56136-CDE2-419D-B6A5-4B4BDC62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E0E9B-7F01-4B6D-893C-7CC027C1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E6551-AF74-45A3-8BF8-A2B83BCA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3DCB4-6C90-4EF7-A0B8-208DA524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2FB06-755B-4852-8B44-7AC05ED5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425DA-0B0A-4C8C-90B6-A0612501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63618-5E2D-471C-B12D-1F4CB566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A7B-8476-4434-AFD3-0CE6DBBA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AB354-BD0B-4AB5-B0B5-0C7AEE16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F6412-2ED0-432A-BE2F-21B79CF9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7DCCD-40BD-4A8D-93EC-93589E38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E26FB-410B-476A-860C-760A77CF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34F27-9093-4DA7-A9AF-4B04C021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F2396-1A99-44E6-9FC8-88D19C6B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2A9AF-0078-44B1-975E-031AE989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12FAF-C4EC-4390-807A-4337A48E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9DAA8-4740-4BD7-B1E3-AC03C29F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EB45D-FCFB-4C9E-8EEF-FF2DD9D3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6C8B1-D3BF-4CFD-A91A-B956D09B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623A7-A037-4B9C-B96C-F49E8F23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40E02-1202-49B6-9983-354AB1CD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FA34F-F2FF-4F84-8CA7-7FF6AC15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AB594-6CCA-4514-970B-1B8E6283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8C921-68C3-42FC-A8FB-80BED1CC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7D653-731D-4E12-B49D-CF399CA6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B441E-88F2-4E37-BB9C-1321F2CC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71B28-A787-495A-9EB1-15FAE03A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3D9B0-95A9-4D6E-8B8D-5580B5AB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14D59-9F32-4A10-9DA7-34F9DFA8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1798B-C864-4F39-A8C2-9AA27D16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546EA-4AB5-4DBE-843C-04AA48AD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79871-57A5-400C-B1C6-49B0EF93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2EB29-92B7-4B11-B980-5A4F3805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4C9B1-2F24-451B-8C89-A8965829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01942-872C-4F23-BA45-5FEDCA5E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8C96C-9AEF-4327-9576-9849DD45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EA744-6B86-45DD-94AF-FBBD3BED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AAA7C-98E2-46AF-A811-595BFD09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43F5C-5BB4-4BF4-B45E-77EE0259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24C28-445D-4F98-B665-53E44A52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FFD-962C-49E1-8158-D29B12DE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EB1EF-A350-4017-8790-E5199512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CAF5E-5512-45F7-A23B-C2B1288B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6900C-B4DC-4360-9FD3-67F05F1A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22434-8C08-4930-9D53-A087ED6B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ECEF6-C34D-43FE-A6C8-38FBBDBB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042A8-D5E4-45E7-9E29-B9D72C22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6AC8-3D99-48BA-AD43-A1E56322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0F2ED-9F39-4C05-B30A-E71C1D41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A38ED-D662-4D7F-BB37-B9FED2FB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F5A1-2804-4AA8-B8D9-7513D49C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74B-920D-477D-93B8-AA104E40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53EBF-F1AB-4DDD-8BC1-220246AC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CD64-65F2-410C-9724-A4D2DBA6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4AE8-5EDC-480C-9117-2DAB2677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65998-83E6-4506-A5D1-52A66367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ACE01-0B22-4D01-AB18-EAB9CDE4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F42A1-366B-4794-AE64-D68C72BB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43535-B4C6-4197-B722-4EE8349C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4F3EC-D348-42D1-BB73-33D9599D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B14AA-84D5-44D2-BAC8-8280E506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E074F-81AB-4936-A52C-124DBF95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93C-05E4-4775-92EC-ECB73B32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514F1-5DA8-4A68-9F69-CFE0CC8E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83703-B142-4F5C-BC3E-C4B1D313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915F2-F355-4945-BF74-9A464665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A308D-7378-44EC-8CF6-89A69D80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7A77C-5C2B-424A-9875-AD4B9F0C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9D546-EF08-4CFB-8576-EFF7DA0B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B11F5-6745-4DCD-9177-E23A5584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D969C-CFD5-42D1-9845-FE90978C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9ACDC-1627-4635-AD3D-FA69BF23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D6166-6434-4D7F-8B4D-D79C4FA7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2DD-1341-421D-AB4C-DC399729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52CA3-E04E-4365-811F-004357F9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A4D74-A830-4BD4-B8B1-F950E102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7270A-DF73-4B8B-8D4C-10060B3D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B6EB5-93A1-4E1A-9456-B81ECA59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7F716-B0C3-4585-87AE-F7126486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2349C-3DE0-4CE3-9859-4B6F5D37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A1172-6431-47C5-ADEF-AEE9A837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65E5B-084A-465C-AA86-093CE1EE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FEE3E-96E1-4D2A-BAAB-63C690B3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96D4A-9A29-4F01-8028-AF81C495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D53-35EF-4963-A0E5-726A0248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D7BE5-BF57-431C-B064-DE1ECCC8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E19AC-1E34-42F5-8C1E-6E84B58E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0A4F0-C859-4FC6-957B-570BAFA0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CFBED-2E99-4204-AFDF-B7CDC22E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189A7-0384-4FD5-8DC8-7CD190E8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0607B-C0E2-40AB-A564-85B67DD2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5A278-678B-4E1F-BA3B-2BC1A1AB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C4236-2E92-4F85-814D-43793478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1CF53-62BF-4385-B523-C7020808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B2720-E024-4651-A506-4485C88E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0A85-B532-4AE0-A067-4CE93F24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D4579-57BC-4934-BA27-1C78B59E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F0161-29FA-41E2-9790-03DC6C83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54B93-69EB-44A8-BBCE-5522D864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60ACF-78D1-4E7A-B7EF-2D6B5563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6D6B5-D493-4FBC-8E08-E7D4F21E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DD668-354C-4D5F-9BE9-C6F11072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433C5-2BFD-4557-8948-CD20AF57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AC94B-DC57-4048-B304-AE9549EF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C8347-110F-46EC-99BF-F70F0AB8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79B1F-280D-4679-BBE4-9867EB29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7B8-191B-434A-B5A6-1802EEAC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4CD09-3BCD-4010-8961-266C29F3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89A55-B4A2-4E5A-B3FD-23C8A606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63AFD-481E-47FE-A1F4-E51CA015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562AE-9E50-45FB-8779-A4B95F52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5FEC6-614E-41AF-BC77-5506BCFE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C7C40-B096-46C2-8B58-7FC7983E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BBB26-673D-486C-AFE2-E428FBEC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BE732-7E2F-4B75-8DDE-6C31A116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7CD4E-A71E-481E-9C1C-2122E0E1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E48C6-1F4A-4640-95F7-2DCF2713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A78-A1BA-481E-81AC-D4207FCE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F41F8-1E18-4CF5-8203-47D3B21D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638D9-A8B9-42A0-9D40-638EE5D6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80370-A735-4394-9E6F-7B0EA8D0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3B238-C610-48A0-9648-B79A54B1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A00B5-A8EF-4D9D-A35C-AA2D10E3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B1A43-5D13-4DC4-9AC1-2A32DD20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A8073-86D2-48E2-86C3-EF840B44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5EFBC-13D1-400E-9805-B0E65CDF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F20A0-C309-45B9-99DA-95964778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F4A79-8604-49BC-BF0D-12171FFA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5CA2-1FC3-4030-82B6-6EEB3CF57CA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8A44-F672-430E-AA1F-C9AFB5DEE43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65D7-DA2B-47CB-8E04-08F25AE15F1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0585-0943-4A78-BBF0-329F74DDACC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2008-2E45-47EA-9B7A-3911234F879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A21C-5E49-42BA-953D-C217398C99A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6577-E3E3-43EB-9AC7-2135145ED84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9712-1D91-4562-9BA6-86BFE06D0B2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BD57-D890-40AD-8670-4C6A03456A1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C78A-A2E9-4F41-AC40-E215BA7E167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4874-47F2-4841-89EF-7B86F0A7F9A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DBDD-E69B-441D-886D-4390922610B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71640" y="3033720"/>
            <a:ext cx="622944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екция 1. История психологии: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еоретические осн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РЕТИЙ ПОДХОД В ОПРЕДЕЛЕНИ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ДМЕТА ИСТОРИИ НАУК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Представители третьего подхода в изучении истории психологии акцентируют внимание на ее персонально-личностных аспектах. Во главу угла в качестве главного двигателя научного прогресса и главного предмета рассмотрения выступает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личность и творческий путь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того или иного ученого, его научные идеи, взгляды, концепции и подходы. Таким образом, история науки, по сути, становится историей деятелей науки (будь то отдельный ученый, или группа ученых, или то или иное их объединение)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боснование определения предмета истории психологии предполагает описание специфики рассматриваемой предметной области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1. По свое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гносеологической природе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история психологии представляет собой отражение процесса становления и развития психологического познания, т.е. является отражением второго порядка -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отражением отраженно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Она исследует не саму психическую реальность, а представления о ней, складывающиеся на разных этапах истории и в разных культурных ареалах. Этим обусловлена необходимость четкого разведения объективного (соответствующего действительному ходу развития истории) и субъективного (привнесенного его интерпретациями) взгляда на исследуемые процессы. Более того, именно субъективные представления во всем их многообразии как отражающие разные уровни их "отходов" или "приближений" к исследуемой реальности и составляют непосредственный предмет историко-психологического исследования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2. Познание в любой области - глубоко диалектический процесс, включающий преобразование, приращение знания, накопление научной фактологии и углубление ее теоретического осмысления, изменение структуры научного знания и его понятийно-категориального основания и т.д. Отражая реальную диалектику психологического познания, история психологии сама является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диалектической научной дисциплино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Причем и здесь, наряду с объективной диалектикой (идущей от самого объекта, его развития), имеют место и субъективные факторы (исторически детерминированные изменения в мировоззрении исследователе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чного позна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). Этим определяется существование разных картин развития психологического знания на разных этапах истории, в рамках разных научных школ и у отдельных ученых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анное положение усугубляется сложностью выделения точных научных критериев оценки выдвигаемых в области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истории психолог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положений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3. Предметная область истории психологии складывается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на стыке и пересечен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с рядом научных отраслей. По своему объекту - психическая реальность - история психологии относится к разряду психологических дисциплин, входит в структуру общей психологии. По методу - психолого-историческая реконструкция развития психологического знания - она принадлежит к историческим наукам. Носителем научной фактологии в области истории психологии являются исторические источники и поэтому история психологии тесно связана с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источниковедением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Как область знания, занимающаяся изучением развития научного знания в отдельной отрасли знания, история психологии является разделом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коведе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Логика исследования и генезис становления психологического знания определяют связь истории психологии с философией, естествознанием,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культурологие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, а также ее опору на данные, полученные в таких разделах психологии, как психология личности, психология творчества, психология развития и историческая психология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3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4. Наконец, учитывая все вышесказанное, есть основание определить историю психологии как объект исследования в качестве системного образования, включающего множество аспектов, иерархическую структуру, сложную, разноуровневую систему детерминант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ля описания сложноорганизованных объектов используется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системная методолог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, предполагающая их всестороннее, целостное рассмотрение. С этой точки зрения предметом истории психологии является динамика психологического познания в его целостности, включающая изучение: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амого научного знания (его структуры, логико-научных, содержательных аспектов) - логико-науч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роцесса формирования научных идей и представлений в области истории психологии - процессуаль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оциально-культурных и организационных условий и предпосылок психологического познания - социокультур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осителя, субъекта психологического познания (коллективного и индивидуального) - персонально-личностный аспект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791856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и проблемы историко-психологического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Важным элементом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методологи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любой науки является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система методологических принципов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, каждый из которых выступает в виде кратко сформулированной теории, не только обобщающей исторический опыт развития данной области знания и отражающей ее основные законы и закономерности, но составляющей исходное требование для дальнейших исследований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История психологи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как одна из базовых отраслей психологии в своих теоретико-методологических основаниях опирается на ряд общефилософских и общепсихологических принципов, которые применительно к историко-психологическим исследованиям приобретают специфическое звучание и формулировку, выступая как частно-психологические принципы истории психологии. Что же это за принципы?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0" name="AutoShape 4"/>
          <p:cNvSpPr/>
          <p:nvPr/>
        </p:nvSpPr>
        <p:spPr>
          <a:xfrm>
            <a:off x="766764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2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1. Принцип детерминизма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В соответствии с этим принципом, в основе любого историко-психологического события лежит совокупность явных или неявных причин. Нет ни одного факта в истории психологии, которому бы не предшествовали определенные причины. Любое событие на всем протяжении исторического хода формирования психологической науки является результатом, следствием многообразной череды предшествующих явлений или причин и, в тоже время, выступает как одна из предпосылок последующих событий. При этом следует иметь в виду системный характер этих причинно-следственных зависимостей, что позволяет понимать смену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детерминант развития психолог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в разные хронологические периоды. Задача исследователя, в соответствии с этим принципом, состоит, во-первых, в раскрытии совокупности и иерархической структуры этих причин (внутренних и внешних, прямых и косвенных, непосредственных и опосредованных и т.д.), обусловивших путь к современности, а во-вторых, в установлении закономерной связи между прошлым, настоящим и будущим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2. Принцип единства логического и историческо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в понимании генезиса развития психологического знания, который отражает понимание соотношения внутренних, внутринаучных (влияние традиции, изменение категориально-понятийного аппарата, динамика структуры науки, взаимосвязи и взаимовлияния разных научных дисциплин, появление новых методов исследования и т.д.) и внешних, социокультурных причин (потребности общественной практики, идеолого-политические влияния, воздействие научно-технического прогресса, особенности духовной и интеллектуальной атмосферы в обществе и т.д.) в ходе реального процесса исторического развития психологии. Другими словами, данный принцип фиксирует взаимосвязь теории и истории психологии, что предполагает, с одной стороны, изучение отношения содержательного (т.е. логического) аспекта объекта историко-психологического исследования с анализом процесса его развития (т.е. исторического), а с другой, - выявление связи познания данного объекта с историей человеческого общества в целом и историей научного познания в частности. 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3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3. Принцип системности.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Он предполагает понимание истории развития психологических идей, проблем и направлений как многоуровневого (фундаментальный и прикладной уровни), многокачественного (обыденное, научное, художественно-образное, религиозное знания), многомерного (научное творчество отдельного ученого, научных коллективов и школ, регионального психологического сообщества, сторонников той или иной парадигмы, теории или концептуального подхода) и многообразного по своим проявлениям (донаучное, научное и паранаучное состояния) процесса, обусловленного многовариантной системо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детерминант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при оформлении ведущего, системообразующего фактора в конкретной исторической и социокультурной ситуации. Реализация данного принципа требует изучения истории психологического знания в различных аспектах: "во-первых, в тех исторических конкретных условиях, в которых наука включалась в общественную жизнь, и, во-вторых, в тех логических, теоретических связях, в которых строились психологические знания каждого исторического этапа, с одной стороны, и в том соотношении, в котором они находятся в современной психологической науке, - с другой"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4. Принцип объективности историко-психологического исследования. 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анный принцип предполагает, что при такой процедуре, как оценка значимости тех или иных идей и результатов творчества, необходимо исходить не только из современного состояния знания, на которое опирается и от которого отталкивается исследователь, но и учитывать то реальное место, которое занимают те или иные рассматриваемые идеи в психологии и культуре своего времени ("героя судят по законам его времени"). Это позволит историку психологии преодолеть собственные предпочтения (научные и личностные) в восприятии развития психологического знания. Таким образом, в соответствии с данным принципом, перед ученым стоит задача в ходе историко-психологического исследования сформировать и выдержать позицию объективного, строго говоря, не предвзятого (ни как человека с его личностными симпатиями и антипатиями, ни как ученого, приверженного тем или иным теориям и концепциям) в отношении конечного результата наблюдателя по отношению к исследуемому объекту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Объект и предмет истории психологии. Общие закономерности развития психологических знаний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Специфика предметной области истории психологии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Принципы и проблемы историко-психологического исследова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4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5. Принцип конструктивно-позитивного анализа.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Принцип объективности непосредственно связан и дополняется принципом конструктивно-позитивного анализа истории психологии, который акцентирует внимание в историко-психологических исследованиях не на ошибках, недостатках и просчетах в развитии психологической мысли какой-либо отстоящей от ученого исторической эпохи, а на выявлении в совокупности историко-психологических фактов, событий, теорий и концепций того позитивного, конструктивного и прогрессивного, что сумела достичь психологическая мысль данного периода; ориентация не на критику несовершенного, а на поиск рационального и перспективного. Однако это не означает отказа от реалистической оценки (включая и ее критические моменты) тех или иных идей, взглядов, подходов. При этом критический анализ из самоцели становится средством научного познания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2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6. Принцип периодизации и преемственност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развития психологического знания, который предполагает наличие качественно различных этапов и периодов (содержательно и логически связанных между собой) в динамике единого и непрерывного процесса научного познания. Руководствуясь данным принципом, историк психологии должен не только выделить ключевые, наиболее значимые вехи и моменты этого процесса, не только описать историческую и логическую специфику выделенных ступеней развития знания, но и показать их эволюционную взаимосвязь и взаимопроникновение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7. Принцип единства прошлого, настоящего и будуще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фиксирует понимание роли и целевой функции историко-психологических исследований. Познание истории психологической науки не является только самоцелью с точки зрения собирания и уточнения исторического материала, характеризующего формирование и развитие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психологических знани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(архивирование фактов), или воссоздания и реконструкции недостающих (неявных) звеньев в единой цепочке развития психологической мысли. Данный принцип ориентирует ученого на прогностическую стратегию исследования, связанную, во-первых, с выявлением перспективных линий, позиций, идей и подходов, сформировавшихся в прошлом, а во-вторых, с их актуализацией в контексте современных достижений психологической науки. Лишь прошлое, рассмотренное в контексте современности, позволяет очертить проблемное поле будущих исследований и тем самым имеет не только чисто познавательный интерес, но и носит установочно-ориентировочный характер для дальнейшего развития психологического знания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05ff6"/>
                </a:solidFill>
                <a:latin typeface="Arial"/>
              </a:rPr>
              <a:t>8. Принцип единства коллективного и индивидуального творчества в развитии психологического знан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предполагает понимание истории психологии как результата деятельности не только отдельных, хотя и выдающихся ученых, но как совокупного усилия всего научного сообщества. Этот принцип ориентирует исследователя на выявление всех предпосылок формирования той или иной идеи, анализ того контекста, который в конечном итоге привел к оформлению в трудах конкретного ученого определенной концепции или теории. Он также предостерегает историка психологии от абсолютизации вклада отдельного ученого или научной школы в формирование совокупного психологического знания. В данном случае имеется в виду понимание историком психологии того факта, что психология, даже в творчестве особенно выдающихся ее представителей, не начинается каждый раз с "чистого листа", а получает лишь свое закономерное развитие. Соответственно и психологическое познание как совокупность идей и теорий, как результат коллективного творчества многих поколений исследователей в работах конкретного ученого получает творческое, порой оригинальное и новаторское, развитие или более четкое концептуальное оформление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2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В чем состоит отличие психологического знания от психологического познания?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Какие формы существования психологического знания представлены в современном общественном и индивидуальном сознании?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Укажите основные подходы в определении предмета истории наук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еречислите особенности предметной области истории психолог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пишите основные методологические принципы истории психолог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характеризуйте самостоятельные методы истории психологии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77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77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20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ловарь термин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етод историко-психологического познани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етодологический принцип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Объект истории психолог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редмет истории психолог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сихологическое знан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сихологическое позна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581" name="Picture 4" descr="BUTTON16"/>
          <p:cNvPicPr/>
          <p:nvPr/>
        </p:nvPicPr>
        <p:blipFill>
          <a:blip r:embed="rId1"/>
          <a:stretch/>
        </p:blipFill>
        <p:spPr>
          <a:xfrm>
            <a:off x="395280" y="14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UTTON16"/>
          <p:cNvPicPr/>
          <p:nvPr/>
        </p:nvPicPr>
        <p:blipFill>
          <a:blip r:embed="rId2"/>
          <a:stretch/>
        </p:blipFill>
        <p:spPr>
          <a:xfrm>
            <a:off x="39528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BUTTON16"/>
          <p:cNvPicPr/>
          <p:nvPr/>
        </p:nvPicPr>
        <p:blipFill>
          <a:blip r:embed="rId3"/>
          <a:stretch/>
        </p:blipFill>
        <p:spPr>
          <a:xfrm>
            <a:off x="395280" y="378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BUTTON16"/>
          <p:cNvPicPr/>
          <p:nvPr/>
        </p:nvPicPr>
        <p:blipFill>
          <a:blip r:embed="rId4"/>
          <a:stretch/>
        </p:blipFill>
        <p:spPr>
          <a:xfrm>
            <a:off x="39528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BUTTON16"/>
          <p:cNvPicPr/>
          <p:nvPr/>
        </p:nvPicPr>
        <p:blipFill>
          <a:blip r:embed="rId5"/>
          <a:stretch/>
        </p:blipFill>
        <p:spPr>
          <a:xfrm>
            <a:off x="39528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0" descr="BUTTON16"/>
          <p:cNvPicPr/>
          <p:nvPr/>
        </p:nvPicPr>
        <p:blipFill>
          <a:blip r:embed="rId6"/>
          <a:stretch/>
        </p:blipFill>
        <p:spPr>
          <a:xfrm>
            <a:off x="395280" y="2205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ы реферат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равнительный анализ особенностей различных форм психологических знаний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Методологические подходы в определении предмета истории науки: достоинства и недостатк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вышение объективности историко-психологического исследования: пути и способы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собенности применения метода планирования историко-психологического исследования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Метод проблемологического анализа в изучении динамики психологического познания об индивидуальности человека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зитивные и негативные тенденции современного развития историко-психологических исследований 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8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2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2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2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20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Hall A.P. Merton revisited or society sourse in the seventeen century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968. P. 89-97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Koltsova V. Ideological and scientific discourse in Soviet psycholodical science // Post-Soviet Perspectives on Russian Psychology /edited by V.Koltsova, Y.Oleinik, A. Gilgen, K.Gilgen. 1996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P. 60-7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Oleinik Y. Russian psychology at present: trends and paradoxes // Post-Soviet Perspectives on Russian Psychology /edited by V.Koltsova, Y.Oleinik, A. Gilgen, K.Gilgen. 1996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. 53-6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Post-Soviet Perspectives on Russian Psychology / edited by V.Koltsova, Y.Oleinik, A. Gilgen, K.Gilgen. 1996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ольшакова В.В. Очерки истории русской психологии (XIX-начало XX вв.). Нижний Новгород, 1994. 16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Ждан А.Н. История психологии. От античности до наших дней. М., 1990. 367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стория психологии. Период открытого кризиса (начало 10-х - середина 30-х годов XX в.): Тексты. М., 1992. 362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атегории материалистической диалектики в психологии / Под ред. Л.И. Анцыферова. М., 1988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20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йре А. Очерки истории философской мысли. М., 1985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акатос И. История науки и ее рациональная реконструкция // Структура и развитие науки. М., 1978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мчур Е.А. Проблемы социокультурной детерминации научного знания. М., 1987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цинковская Т.Д. Русская ментальность и ее отражение в науках о человеке. М., 199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цинковская Т.Д., Ярошевский М.Г. 50 выдающихся психологов мира: Учебное пособие для студентов. М., 1995. 193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икольская А.А. Возрастная и педагогическая психология дореволюционной России. Дубна, 1995. 331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етровский А. Ярошевский М. Г. История психологии: Учебное пособие для высшей школы. М., 1994. 448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истематический ретроспективный указатель (указатель психологической литературы, изданной в СССР за 1987 г.). М., 199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1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5" dur="2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2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2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7" dur="2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1" dur="2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5" dur="20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2000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олова Е.Ю. 13 диалогов о психологии. М., 199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каченко А.Н. Категориальный строй психологии как предмет историко-научного исследования // Методология историко-психологического исследования. М., 197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Эткинд А. Эрос невозможного. История психоанализа в России. СПб., 1993. 463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История психологии (от античности до середины XX в.) М., 1996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Краткий курс истории психологии. М., 1995. 14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Л. Выготский: в поисках новой психологии. СПб, 1993. 30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О категориальном анализе истории психологического познания // Проблемы теории и истории развития психологии. М., 1973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Психология в XX столетии. М., 197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9" name="AutoShape 4">
            <a:hlinkClick r:id="" action="ppaction://hlinkshowjump?jump=endshow"/>
          </p:cNvPr>
          <p:cNvSpPr/>
          <p:nvPr/>
        </p:nvSpPr>
        <p:spPr>
          <a:xfrm>
            <a:off x="4067280" y="5589720"/>
            <a:ext cx="1225440" cy="647640"/>
          </a:xfrm>
          <a:custGeom>
            <a:avLst/>
            <a:gdLst>
              <a:gd name="textAreaLeft" fmla="*/ 41760 w 1225440"/>
              <a:gd name="textAreaRight" fmla="*/ 1183680 w 1225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0860" h="21600">
                <a:moveTo>
                  <a:pt x="0" y="0"/>
                </a:moveTo>
                <a:lnTo>
                  <a:pt x="40860" y="0"/>
                </a:lnTo>
                <a:lnTo>
                  <a:pt x="40860" y="21600"/>
                </a:lnTo>
                <a:lnTo>
                  <a:pt x="0" y="21600"/>
                </a:lnTo>
                <a:close/>
              </a:path>
              <a:path fill="lightenLess" w="40860" h="21600">
                <a:moveTo>
                  <a:pt x="0" y="0"/>
                </a:moveTo>
                <a:lnTo>
                  <a:pt x="40860" y="0"/>
                </a:lnTo>
                <a:lnTo>
                  <a:pt x="39460" y="1400"/>
                </a:lnTo>
                <a:lnTo>
                  <a:pt x="1400" y="1400"/>
                </a:lnTo>
                <a:close/>
              </a:path>
              <a:path fill="darken" w="40860" h="21600">
                <a:moveTo>
                  <a:pt x="40860" y="0"/>
                </a:moveTo>
                <a:lnTo>
                  <a:pt x="40860" y="21600"/>
                </a:lnTo>
                <a:lnTo>
                  <a:pt x="39460" y="20200"/>
                </a:lnTo>
                <a:lnTo>
                  <a:pt x="39460" y="1400"/>
                </a:lnTo>
                <a:close/>
              </a:path>
              <a:path fill="darkenLess" w="40860" h="21600">
                <a:moveTo>
                  <a:pt x="40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60" y="20200"/>
                </a:lnTo>
                <a:close/>
              </a:path>
              <a:path fill="lighten" w="40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60" h="21600">
                <a:moveTo>
                  <a:pt x="20430" y="3837"/>
                </a:moveTo>
                <a:lnTo>
                  <a:pt x="23006" y="6448"/>
                </a:lnTo>
                <a:lnTo>
                  <a:pt x="23006" y="4707"/>
                </a:lnTo>
                <a:lnTo>
                  <a:pt x="24782" y="4707"/>
                </a:lnTo>
                <a:lnTo>
                  <a:pt x="24782" y="8224"/>
                </a:lnTo>
                <a:lnTo>
                  <a:pt x="27393" y="10800"/>
                </a:lnTo>
                <a:lnTo>
                  <a:pt x="25739" y="10800"/>
                </a:lnTo>
                <a:lnTo>
                  <a:pt x="25739" y="17989"/>
                </a:lnTo>
                <a:lnTo>
                  <a:pt x="15121" y="17989"/>
                </a:lnTo>
                <a:lnTo>
                  <a:pt x="15121" y="10800"/>
                </a:lnTo>
                <a:lnTo>
                  <a:pt x="13467" y="10800"/>
                </a:lnTo>
                <a:close/>
              </a:path>
              <a:path fill="darkenLess" w="40860" h="21600">
                <a:moveTo>
                  <a:pt x="23006" y="6448"/>
                </a:moveTo>
                <a:lnTo>
                  <a:pt x="23006" y="4707"/>
                </a:lnTo>
                <a:lnTo>
                  <a:pt x="24782" y="4707"/>
                </a:lnTo>
                <a:lnTo>
                  <a:pt x="24782" y="8224"/>
                </a:lnTo>
                <a:close/>
              </a:path>
              <a:path fill="darkenLess" w="40860" h="21600">
                <a:moveTo>
                  <a:pt x="19507" y="14299"/>
                </a:moveTo>
                <a:lnTo>
                  <a:pt x="21353" y="14299"/>
                </a:lnTo>
                <a:lnTo>
                  <a:pt x="21353" y="17989"/>
                </a:lnTo>
                <a:lnTo>
                  <a:pt x="25739" y="17989"/>
                </a:lnTo>
                <a:lnTo>
                  <a:pt x="25739" y="10800"/>
                </a:lnTo>
                <a:lnTo>
                  <a:pt x="15121" y="10800"/>
                </a:lnTo>
                <a:lnTo>
                  <a:pt x="15121" y="17989"/>
                </a:lnTo>
                <a:lnTo>
                  <a:pt x="1950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4600" indent="-444600" algn="r">
              <a:buClr>
                <a:srgbClr val="ffffff"/>
              </a:buClr>
              <a:buFont typeface="Arial"/>
              <a:buAutoNum type="arabicPeriod"/>
              <a:tabLst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 И ПРЕДМЕТ ИСТОРИИ ПСИХОЛОГИИ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Е ЗАКОНОМЕРНОСТИ РАЗВИТИЯ ПСИХОЛОГИЧЕСКИХ ЗНАНИ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Появление психологических знаний по времени сопоставимо с рождением человеческой цивилизации: возникает человеческое сообщество и вместе с ним появляются попытки ответить на извечные, волнующие человека вопросы, касающиеся его возможностей и ограничений во взаимодействии с суровой действительностью, его специфики и места в окружающем мире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езультатом такого рода размышлений является возникновение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сихологического познания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, которое, уходя своими корнями в ранние этапы человеческой истории, сопровождает и все дальнейшее ее развитие, вплоть до настоящего времен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7451640" y="6380280"/>
            <a:ext cx="1225800" cy="477720"/>
          </a:xfrm>
          <a:custGeom>
            <a:avLst/>
            <a:gdLst>
              <a:gd name="textAreaLeft" fmla="*/ 30960 w 1225800"/>
              <a:gd name="textAreaRight" fmla="*/ 1194840 w 122580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99" h="21600">
                <a:moveTo>
                  <a:pt x="0" y="0"/>
                </a:moveTo>
                <a:lnTo>
                  <a:pt x="55399" y="0"/>
                </a:lnTo>
                <a:lnTo>
                  <a:pt x="55399" y="21600"/>
                </a:lnTo>
                <a:lnTo>
                  <a:pt x="0" y="21600"/>
                </a:lnTo>
                <a:close/>
              </a:path>
              <a:path fill="lightenLess" w="55399" h="21600">
                <a:moveTo>
                  <a:pt x="0" y="0"/>
                </a:moveTo>
                <a:lnTo>
                  <a:pt x="55399" y="0"/>
                </a:lnTo>
                <a:lnTo>
                  <a:pt x="53999" y="1400"/>
                </a:lnTo>
                <a:lnTo>
                  <a:pt x="1400" y="1400"/>
                </a:lnTo>
                <a:close/>
              </a:path>
              <a:path fill="darken" w="55399" h="21600">
                <a:moveTo>
                  <a:pt x="55399" y="0"/>
                </a:moveTo>
                <a:lnTo>
                  <a:pt x="55399" y="21600"/>
                </a:lnTo>
                <a:lnTo>
                  <a:pt x="53999" y="20200"/>
                </a:lnTo>
                <a:lnTo>
                  <a:pt x="53999" y="1400"/>
                </a:lnTo>
                <a:close/>
              </a:path>
              <a:path fill="darkenLess" w="55399" h="21600">
                <a:moveTo>
                  <a:pt x="55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99" y="20200"/>
                </a:lnTo>
                <a:close/>
              </a:path>
              <a:path fill="lighten" w="55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99" h="21600">
                <a:moveTo>
                  <a:pt x="20693" y="10800"/>
                </a:moveTo>
                <a:lnTo>
                  <a:pt x="34706" y="3794"/>
                </a:lnTo>
                <a:lnTo>
                  <a:pt x="347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404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3"/>
          <p:cNvSpPr/>
          <p:nvPr/>
        </p:nvSpPr>
        <p:spPr>
          <a:xfrm>
            <a:off x="468360" y="1413000"/>
            <a:ext cx="7991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ПСИХОЛОГИЧЕСКОЕ ПОЗНАНИЕ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бъективно происходящее накопление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смысление знаний люде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 психической реа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ак важной составной части развития жизненного процесс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условия совершенствования взаимодействия человека с миро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 самого человека как субъекта психической реа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468360" y="1413000"/>
            <a:ext cx="7991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ПСИХОЛОГИЧЕСКОЕ ЗНАНИЕ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знание человека о себ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как носителе особых психических свойст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и характеристик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субъекте психической деятельност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3"/>
          <p:cNvSpPr/>
          <p:nvPr/>
        </p:nvSpPr>
        <p:spPr>
          <a:xfrm>
            <a:off x="468360" y="1413000"/>
            <a:ext cx="8207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Развитие психологического знани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ак результата творческой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ознавательной деятельности человека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в его целостности и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в его реальной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диалектике</a:t>
            </a: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на разных этапах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ультурной эволюции человечества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 ИСТОРИИ ПСИХОЛОГИ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5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468360" y="1413000"/>
            <a:ext cx="8207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опытки осмыслить процесс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сихологического познания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описать его содержание и структуру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(совокупность взглядов, идей, подходов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направлений и течений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атегорий и понятий)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его институциональные 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ерсонально-личностные аспекты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а также закономерности и этапы развития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МЕТ ИСТОРИИ ПСИХОЛО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азвитие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психологического знания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осуществляется объективно, с непреложной необходимостью в силу его реальной функции в жизнедеятельности человека, в его эволюционном становлени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Знание о психике, следуя за развивающейся жизнью человека и отражая все новые и усложняющиеся стороны его взаимодействия с миром, включается само в это взаимодействие как важный фактор его регуляции, обеспечивая не только адаптивные, приспособительные, но и преобразующе-действенные, активные формы поведения.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азвитие психологического знания происходит в виде различных взаимосвязанных форм (уровней):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"житейские" представления людей о психике, возникающие в их реальной жизненной практике, в разных ее сферах (материальной, производственной деятельности, в бытовой области, в воспитательно-обучающем процессе, в искусстве и т.д.) и основывающиеся на непосредственном отражении разных аспектов бытия и философии "здравого смысла"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вычленяющиеся в рамках мифологии и религии как исторически первых форм познания мира и человека и отражающие канонические требования указанных видов культурного творчества человечества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накопленные в рамках художественно-образного наблюдения за окружающей действительностью в работах художников, архитекторов, писателей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возникающие на определенном этапе развития общества в связи с выделением нового способа реконструкции действительности - науки - и включающие целенаправленный процесс сбора и анализа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психологической фактологии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, логические формы ее объяснения и доказательства, переход от описательной стратегии и методов исследования к объяснительной, т.е. - </a:t>
            </a:r>
            <a:r>
              <a:rPr b="1" i="1" lang="ru-RU" sz="1600" spc="-1" strike="noStrike">
                <a:solidFill>
                  <a:srgbClr val="205ff6"/>
                </a:solidFill>
                <a:latin typeface="Arial"/>
              </a:rPr>
              <a:t>научного знания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. В свою очередь, научные психологические знания, зародившиеся впервые в античном мире, сами проходят длительный путь эволюции - от существования в лоне других наук (философии, истории, естествознания) и до выделения и дальнейшего их развития в рамках самостоятельной научной дисциплины (вторая половина XIX в.)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3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3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2916360" y="1557360"/>
            <a:ext cx="374472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ИСТОРИЯ ПСИХОЛОГИ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2195640" y="3429000"/>
            <a:ext cx="2160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ОБЪЕКТ</a:t>
            </a:r>
            <a:r>
              <a:rPr b="0" i="1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5003640" y="4365720"/>
            <a:ext cx="2087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ПРЕДМЕТ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8" name="AutoShape 11"/>
          <p:cNvSpPr/>
          <p:nvPr/>
        </p:nvSpPr>
        <p:spPr>
          <a:xfrm>
            <a:off x="250920" y="1989000"/>
            <a:ext cx="2233440" cy="2519640"/>
          </a:xfrm>
          <a:custGeom>
            <a:avLst/>
            <a:gdLst>
              <a:gd name="textAreaLeft" fmla="*/ 299160 w 2233440"/>
              <a:gd name="textAreaRight" fmla="*/ 1934280 w 223344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6877080" y="1916280"/>
            <a:ext cx="2016000" cy="381780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668160 h 3817800"/>
              <a:gd name="textAreaBottom" fmla="*/ 2768040 h 38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766764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. СПЕЦИФИКА ПРЕДМЕТНОЙ ОБЛАСТ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ТОРИИ ПСИХОЛОГИИ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ложность и многоаспектность психологического познания как объекта исследования, а также непосредственная связь его осмысления с развитием общенаучных взглядов о человеке и психологических идей, с методологическими и идейными влияниями обусловливают соответственно различные определения предмета истории психологии. В их основе - выделенные и акцентируемые теми или иными авторами стороны или аспекты единого объекта историко-психологического анализа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едостаточная отрефлексированность методологических проблем в истории психологии с одной стороны, и ее принадлежность к науковедческим дисциплинам - с другой, объясняют необходимость и возможность при рассмотрении данного вопроса выходить за рамки собственно истории психологии в область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коведе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В итоге в наиболее общем виде представляется возможным выделить три основных подхода в определении предмета истории науки (в том числе психологии)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759636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ВЫЙ ПОДХОД В ОПРЕДЕЛЕНИИ ПРЕДМЕТА ИСТОРИИ НАУК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Первый подход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в основу изучения кладет результат психологического познания, его внутреннее содержание - собственно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психологическое знание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(его строение, структуру, логико-содержательные аспекты, внутрилогические механизмы развития знания), рассматривая его как самодостаточное и существующее относительно самостоятельно, вне связи с другими сторонами познавательного процесса (социально-культурными и личностными опосредованиями)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Такой подход, акцентирующий внимание в основном на внутренней, логической стороне познания и отвечающий на вопрос "каково содержание знания", может быть назван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логико-научным, или интернальным, подходом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в истории наук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ТОРОЙ ПОДХОД В ОПРЕДЕЛЕНИИ ПРЕДМЕТА ИСТОРИИ НАУК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В ТОМ ЧИСЛЕ ПСИХОЛОГИИ)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кцент на внешней истории развития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научного знан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и попытка вывести из нее и описать на ее основе внутринаучные закономерности порождает второй подход в понимании предмета истории науки - </a:t>
            </a:r>
            <a:r>
              <a:rPr b="1" i="1" lang="ru-RU" sz="1800" spc="-1" strike="noStrike">
                <a:solidFill>
                  <a:srgbClr val="205ff6"/>
                </a:solidFill>
                <a:latin typeface="Arial"/>
              </a:rPr>
              <a:t>экстернальный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На этой основе возникает специальная область науковедения - социальная история науки. История науки рассматривается здесь в социальном контексте, в ее зависимости и связи с развитием организационных и социальных условий и предпосылок. Продуктивность указанного подхода состоит в том, что он выявляет значимые факторы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детерминации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научного знания, отвечая на вопрос "почему наука в определенных социально-исторических и культурных условиях приобретает конкретно-исторические формы". С одной стороны, это отражает одну из существенных характеристик науки - ее социальную природу как компонента общественной структуры и как результата совокупных коллективных усилий, с другой стороны, возникают вопросы относительно уровня детерминационных возможностей, степени и глубины социального воздействия на развитие психологического знания (его направления, структуру, содержание исследуемых проблем)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4:09:22Z</dcterms:created>
  <dc:creator>1</dc:creator>
  <dc:description/>
  <dc:language>en-US</dc:language>
  <cp:lastModifiedBy>LEGION</cp:lastModifiedBy>
  <dcterms:modified xsi:type="dcterms:W3CDTF">2014-11-12T08:17:56Z</dcterms:modified>
  <cp:revision>297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