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DC7D-C486-48EE-B6D7-F2506F10D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BCF-B455-4E84-BA50-EB7202C3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F98-DE45-4D94-9AC9-EBD156DF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F12-2E0F-447D-85DD-D3B2B411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B08-40C1-4B8A-B010-751E6EB0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3DBF-B46B-4069-91C1-D8CC1F4C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1901-5026-44C2-AE8C-69CFA3C4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C54E-3185-45E0-8DBC-33529046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302A-AC34-41A4-B752-D789F1AE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392F-B4F7-4E53-A512-790170A1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31B2-6907-48AB-9EAF-699F7F30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1EA0-9230-4619-9A08-D08666D9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35E-4C6B-46EF-9260-AE915CC1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ED5F-DB64-48F9-BEE7-112D789F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FEE8-DB03-4B12-A329-B148052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4559-B648-49DC-AFDF-4DB8D1E4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B394-A64F-449F-86D0-CAD24A7E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F096-1208-4761-BC27-0315E792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12A-1B05-4D6A-91E6-01A7DE84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6B7-6D2C-4A48-B1AD-87E9E978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EB7-228E-49C1-A72E-A4CA3C0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133-9094-4C98-8134-46605242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F2B-1DB8-42FC-9CBD-7CB2F4C4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89D-719F-45EE-8641-B7CC62E1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849-44CF-4D0C-9812-E2F9C84D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0893-CE1A-4E89-B539-D58C243E431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F1FD-36A8-439C-A975-5438ACB67C4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Национальный исследовательский университет -</a:t>
            </a:r>
            <a:br>
              <a:rPr sz="3000"/>
            </a:b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Высшая Школа Экономики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3090960"/>
            <a:ext cx="799308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1397160"/>
            <a:ext cx="77058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Федеральная программа поддержки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8 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4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9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0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10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7200, 0 млн. руб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оритетные мероприятия поддержки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рограммы поддержки начинающих – гранты на создание бизнес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бизнес-инкубаторов, промышленных и технопарк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Создание гарантийных фондов по кредитованию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нституты развития микрофинансирован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оддержка муниципальных программ развития МП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инципы поддержки МСП через госпрограмм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крыт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вный досту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международное сотрудн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8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сновные достижения в области поддержки МСП в России за 2009-2011 гг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яде регионов установлены льготные арендные ставки при аренде малыми и средними компаниями федерального имущества.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Положительные тенденции развития МСП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нятие закона «О развитии малого и среднего предпринимательства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Больше малых предприятий стало обращаться в банки за кредит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ботает Федеральная программа поддержки развития малого 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зработан ряд ведомственных программ поддержки малого предпринимательст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ются венчурные фонды и бизнес-инкубатор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ны консультативно-совещательные органы при структурах власти всех уровней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долго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оля малого бизнеса в общем ВВП - 3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т общего числа субъектов предпринимательской деятельности до 6 млн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зменение отраслевой структуры МСП, в том числе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средне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не менее 500 бизнес-инкубато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в каждом субъекте РФ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арантийного фонда объемом не менее 1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униципальной инфраструктуры микрофинанс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фонда прямых инвестиций в средние компании (с количеством занятых до 250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aeaea"/>
                </a:solidFill>
                <a:latin typeface="Tahoma"/>
              </a:rPr>
              <a:t>МСП на 1 января  2011 года</a:t>
            </a:r>
            <a:endParaRPr b="1" lang="en-US" sz="3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20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По данным МЭР в Российской Федерации на 1 января 2011 года действуют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,7 млн. юридических лиц; (1,6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,1 млн. индивидуальных предпринимателей; (4,0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феры деятельност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1% - торговл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8% - услуг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2% - строительство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0,5%- обрабатывающее производство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0,75% - сфера науки, научных исследовани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Рост числа малых предприятий в 2009 г. – 9,1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нижение числа малых предприятий в 2010 г. – 3,6% (НИСИПП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щее количество занятых – около 16,9 млн. человек (МЭР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орот малых предприятий – 13,5 трлн. руб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МСП: 21% в структуре ВВП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инновационного МСП около 1%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7840" y="188640"/>
            <a:ext cx="8605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Структура МСП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216000" y="1052640"/>
          <a:ext cx="476568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52640"/>
                    <a:ext cx="476568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1195200" y="91116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лый бизне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148280" y="91116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 +Индивидуальные 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652920" y="4724280"/>
            <a:ext cx="11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652920" y="5084640"/>
            <a:ext cx="117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95640" y="5300640"/>
            <a:ext cx="57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24920" y="5445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24920" y="5661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4448160" y="1141560"/>
          <a:ext cx="4635360" cy="495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8160" y="1141560"/>
                    <a:ext cx="463536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2"/>
          <p:cNvSpPr/>
          <p:nvPr/>
        </p:nvSpPr>
        <p:spPr>
          <a:xfrm>
            <a:off x="4067280" y="5842080"/>
            <a:ext cx="50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Конкурентоспособность и развитие МСП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2 год – 64 место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62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5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63 место (опустилась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63 место (между Уругваем и Шри-Ланкой)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ндексе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IMD (International Institute for Management Development)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сия заняла следующие места (всего 57 государств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55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43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4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1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ритерии МСП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360" y="122400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альный закон «О развитии МСП в Российской Федерации» от 24.07.2007 г. № 209-Ф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ЕР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икропредприятия – не более 15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алые предприятия – от 16 до 10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Средние предприятия – от 101 до 25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граничения по  обороту (установлены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Постановлением Правительства РФ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т 22.07.2008 № 556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предприятия - 6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ые предприятия - 4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е предприятия - 1000 млн. руб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лючевые аспекты госрегулировани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1) Начало осуществления предприниматель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2) Государственный контроль (надзор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3) Налогообложение субъектов малого предприниматель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4) Доступность финансовых услуг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5) Развитие конкуренц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6) Доступ к государственному (муниципальному) имуществ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7) Доступ к государственным/муниципальным заказа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8) Лицензирование отдельных видов деятель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9) Обязательное подтверждение соответствия (сертификация. Декларирование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aeaea"/>
                </a:solidFill>
                <a:latin typeface="Tahoma"/>
              </a:rPr>
              <a:t>Издержки МСП </a:t>
            </a:r>
            <a:br>
              <a:rPr sz="3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(данные мониторинга ОПОРЫ РОССИИ и ВЦИОМ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5 г. 8,5% от выруч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6 г. 9,6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7 г. 6%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8 г. 8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9 г. 6%(отмечено снижение издержек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сновные источники издержек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ые барьеры и коррупц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авоохранительные органы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нуждение к повышению размера заработной платы и др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еобходимые условия для развития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33360"/>
            <a:ext cx="91440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эффективности защиты прав предпринима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участия бизнес-объединений в судебном проце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налогообложения для ведени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персональной ответственности чинов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0:39:45Z</dcterms:created>
  <dc:creator>musihin</dc:creator>
  <dc:description/>
  <dc:language>en-US</dc:language>
  <cp:lastModifiedBy>LEGION</cp:lastModifiedBy>
  <dcterms:modified xsi:type="dcterms:W3CDTF">2016-01-05T12:45:15Z</dcterms:modified>
  <cp:revision>49</cp:revision>
  <dc:subject/>
  <dc:title>Малое и среднее предпринимательство в России</dc:title>
</cp:coreProperties>
</file>