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AD48-B455-4918-9226-104633919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068-5680-4589-9AAB-7C96D2F7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68E-A67A-42A5-A2A9-A2BAAE07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F5D-D6B8-474A-8C4B-B7A2296E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EB0-DB9D-45C4-98AD-0E73377A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D26E-7867-4AB7-88D5-35774500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0460-3AAA-47EE-9205-D85CFE22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5C56-44B9-4E01-99AF-8108C578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6A29-3EBE-4664-B419-B9D53298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A86B-38F7-4B6B-875B-55E68515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905C-F7AF-4369-BFC9-B5E814B9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C48C-4EC3-46EF-B0CB-CFA9D5DA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402-AC25-45DE-BE29-CB94357F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3E53-3306-403A-B8F3-684B4710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BA6D-1055-4B95-AE82-B5EBE48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A27D-C2C0-4740-ACB3-C5914770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5198-EE7E-46E6-A14B-DF7D4E71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2CFA-5F09-4C2F-B091-B471986B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9FD-5A24-4BEF-A26C-5BCDEE09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901-871B-4BEA-B31F-DF424C3C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9B3-E62F-4852-8FAC-E63135E9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DE2-0F89-41C7-B766-BBABB57A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950-1265-46BF-80B1-F043EFB4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4D6-E16D-4A49-A917-6FD16B50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75B-CC92-4D4A-A074-4EC1927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02D-128A-48C6-9D90-E45522D524C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087E-DB07-4DC8-923D-AC30530C1D8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Национальный исследовательский университет -</a:t>
            </a:r>
            <a:br>
              <a:rPr sz="3000"/>
            </a:b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Высшая Школа Экономики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3090960"/>
            <a:ext cx="79930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397160"/>
            <a:ext cx="77058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Федеральная программа поддержки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8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4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9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0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10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7200, 0 млн. руб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оритетные мероприятия поддержки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ограммы поддержки начинающих – гранты на создание бизнес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бизнес-инкубаторов, промышленных и технопарк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Создание гарантийных фондов по кредитованию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ституты развития микрофинансирован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оддержка муниципальных программ развития МП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нципы поддержки МСП через госпрограмм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кры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вный дост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международное сотруд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новные достижения в области поддержки МСП в России за 2009-2011 гг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яде регионов установлены льготные арендные ставки при аренде малыми и средними компаниями федерального имущества.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Положительные тенденции развития МСП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нятие закона «О развитии малого и среднего предпринимательства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Больше малых предприятий стало обращаться в банки за кредит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ботает Федеральная программа поддержки развития малого 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зработан ряд ведомственных программ поддержки малого предпринимательст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ются венчурные фонды и бизнес-инкубато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ны консультативно-совещательные органы при структурах власти всех уровней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долго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оля малого бизнеса в общем ВВП - 3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т общего числа субъектов предпринимательской деятельности до 6 млн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зменение отраслевой структуры МСП, в том числе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средне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не менее 500 бизнес-инкубато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в каждом субъекте РФ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арантийного фонда объемом не менее 1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униципальной инфраструктуры микрофинанс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онда прямых инвестиций в средние компании (с количеством занятых до 250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Tahoma"/>
              </a:rPr>
              <a:t>МСП на 1 января  2011 года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20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По данным МЭР в Российской Федерации на 1 января 2011 года действуют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,7 млн. юридических лиц; (1,6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,1 млн. индивидуальных предпринимателей; (4,0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феры деятельност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1% - торговл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8% - услуг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2% - строительство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0,5%- обрабатывающее производство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0,75% - сфера науки, научных исследован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Рост числа малых предприятий в 2009 г. – 9,1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нижение числа малых предприятий в 2010 г. – 3,6% (НИСИПП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щее количество занятых – около 16,9 млн. человек (МЭР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орот малых предприятий – 13,5 трлн. руб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МСП: 21% в структуре ВВП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инновационного МСП около 1%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7840" y="18864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Структура МСП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16000" y="1052640"/>
          <a:ext cx="476568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52640"/>
                    <a:ext cx="47656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1195200" y="91116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лый бизне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48280" y="91116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 +Индивидуальные 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52920" y="4724280"/>
            <a:ext cx="11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652920" y="5084640"/>
            <a:ext cx="117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95640" y="5300640"/>
            <a:ext cx="57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24920" y="5445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24920" y="5661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4448160" y="1141560"/>
          <a:ext cx="4635360" cy="49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8160" y="1141560"/>
                    <a:ext cx="463536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2"/>
          <p:cNvSpPr/>
          <p:nvPr/>
        </p:nvSpPr>
        <p:spPr>
          <a:xfrm>
            <a:off x="4067280" y="5842080"/>
            <a:ext cx="50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курентоспособность и развитие МСП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2 год – 64 место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62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5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63 место (опустилась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63 место (между Уругваем и Шри-Ланкой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ндексе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IMD (International Institute for Management Development)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сия заняла следующие места (всего 57 государств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55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43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4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1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ритерии МС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360" y="122400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альный закон «О развитии МСП в Российской Федерации» от 24.07.2007 г. № 209-Ф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икропредприятия – не более 15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алые предприятия – от 16 до 10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Средние предприятия – от 101 до 25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граничения по  обороту (установлены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остановлением Правительства РФ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т 22.07.2008 № 556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предприятия - 6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ые предприятия - 4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е предприятия - 1000 млн. руб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лючевые аспекты госрегулировани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) Начало осуществления предприниматель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2) Государственный контроль (надзор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3) Налогообложение субъектов малого предприниматель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4) Доступность финансовых услу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5) Развитие конкурен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6) Доступ к государственному (муниципальному) имуществ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7) Доступ к государственным/муниципальным заказа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8) Лицензирование отдельных видов деятель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9) Обязательное подтверждение соответствия (сертификация. Декларирование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ahoma"/>
              </a:rPr>
              <a:t>Издержки МСП </a:t>
            </a:r>
            <a:br>
              <a:rPr sz="3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(данные мониторинга ОПОРЫ РОССИИ и ВЦИОМ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5 г. 8,5% от выруч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6 г. 9,6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7 г. 6%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8 г. 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9 г. 6%(отмечено снижение издерже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сновные источники издержек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ые барьеры и коррупц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авоохранительные орган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нуждение к повышению размера заработной платы и др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обходимые условия для развития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эффективности защиты прав предпринима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участия бизнес-объединений в судебном проце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налогообложения для ведени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ерсональной ответственности чино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0:39:45Z</dcterms:created>
  <dc:creator>musihin</dc:creator>
  <dc:description/>
  <dc:language>en-US</dc:language>
  <cp:lastModifiedBy>LEGION</cp:lastModifiedBy>
  <dcterms:modified xsi:type="dcterms:W3CDTF">2016-01-05T12:45:15Z</dcterms:modified>
  <cp:revision>49</cp:revision>
  <dc:subject/>
  <dc:title>Малое и среднее предпринимательство в России</dc:title>
</cp:coreProperties>
</file>