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C7EF-7538-4CA3-BA8A-5C967CDE2A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циональный исследовательский университет -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сшая Школа Экономи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подаватель - Крылова Дина Владимировн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идент Межрегионального Общественно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нда «Деловая перспектива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. преподаватель кафедр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Теория и практика взаимодейств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знеса и власти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сква, 10 октября 2011 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ое и среднее предпринимательство в Росси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исследовательский университет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ая Школ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 - Крылова Дина Владимировн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идент Межрегионального Обще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а «Деловая перспекти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преподаватель кафед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еория и практика взаимо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а и вла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сква, 10 октября 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е и среднее предпринимательство в Росс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ая программа поддержки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8 году – 4500, 0 м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9 году – 10500, 0 м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10 году – 17200, 0 м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оритетные мероприятия поддерж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раммы поддержки начинающих – гранты на создание бизнес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ие бизнес-инкубаторов, промышленных и технопарк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гарантийных фондов по кредитованию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е программы – повышение квалификации,  лекции, стажировки, семинары и др.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ы развития микрофинансирова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ие малого предпринимательства в промышленности (кластеры, развитие субконтрактации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ка муниципальных программ развития МП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ая программа поддержки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8 году – 4500, 0 м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9 году – 10500, 0 м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10 году – 17200, 0 м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ритетные мероприятия поддерж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ы поддержки начинающих – гранты на создание бизне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бизнес-инкубаторов, промышленных и технопар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гарантийных фондов по кредитован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е программы – повышение квалификации,  лекции, стажировки, семинары и др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ы развития микрофинанс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го предпринимательства в промышленности (кластеры, развитие субконтракта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муниципальных программ развития М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поддержки МСП через госпрограм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крыт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вный досту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 органов власти всех уровней за обеспечение благоприятных условий для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ое сотрудниче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оддержки МСП через госпрограм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ый досту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ственность органов власти всех уровней за обеспечение благоприятных условий дл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сотрудн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достижения в области поддержки МСП в России за 2009-2011 г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еличен до 60 млн. рублей предельный размер доходов, ограничивающий право перехода организации на упрощенную систему налогообложения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менена обязанность применения контрольно-кассовой техники предпринимателями, которые уплачивают единый налог на вмененный доход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кращено количество проверок малых предприятий - не чаще, чем 3 раза в год, а внеплановая проверка  - только с санкции прокурор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ановлены льготные тарифы на технологическое присоединение к электрическим сетям – для подключения мощности до 15 кВт стоимость присоединения не более 5 МРОТ (550 рублей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ряде регионов установлены льготные арендные ставки при аренде малыми и средними компаниями федерального имуществ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достижения в области поддержки МСП в России за 2009-2011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 до 60 млн. рублей предельный размер доходов, ограничивающий право перехода организации на упрощенную систему налогообложения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нена обязанность применения контрольно-кассовой техники предпринимателями, которые уплачивают единый налог на вмененный доход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о количество проверок малых предприятий - не чаще, чем 3 раза в год, а внеплановая проверка  - только с санкции прокуро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ы льготные тарифы на технологическое присоединение к электрическим сетям – для подключения мощности до 15 кВт стоимость присоединения не более 5 МРОТ (550 рубле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яде регионов установлены льготные арендные ставки при аренде малыми и средними компаниями федерального имущ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ительные тенденции развития МСП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ятие закона «О развитии малого и среднего предпринимательства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ойчивые тенденции легализации малого бизнеса (4 года назад в «тени» находилось более 50% МП. Сейчас – примерно 30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льше малых предприятий стало обращаться в банки за кредит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ет Федеральная программа поддержки развития малого предприниматель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работан ряд ведомственных программ поддержки малого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ются венчурные фонды и бизнес-инкубатор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кратилось число лицензируемых видов деятельности, часть из них заменяется страхованием ответствен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ы консультативно-совещательные органы при структурах власти всех уровне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ительные тенденции развития МС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закона «О развитии малого и среднего предпринимательст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ые тенденции легализации малого бизнеса (4 года назад в «тени» находилось более 50% МП. Сейчас – примерно 30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малых предприятий стало обращаться в банки за креди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ет Федеральная программа поддержки развития малого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 ряд ведомственных программ поддержки мал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ются венчурные фонды и бизнес-инкуба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тилось число лицензируемых видов деятельности, часть из них заменяется страхованием ответств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ы консультативно-совещательные органы при структурах власти всех уровн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ноз развития МСП в РФ на долгосрочную перспектив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оответствие с Концепцией долгосрочного социально-экономического развития Российской Федерации к 2020 году должны быть достигнуты следующие показател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малого бизнеса в общем ВВП - 30%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т общего числа субъектов предпринимательской деятельности до 6 млн.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еличение доли малого и среднего бизнеса в общем количестве действующих субъектов предпринимательства до 80%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еличение доли занятых в сфере малого и среднего бизнеса до 60% населения РФ и до 30 % от числа всего занятого населени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менение отраслевой структуры МСП, в том числе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сокращение относительной доли малых предприятий, занятых в сфере торговли – до 20% (в 2,5 раза), без сокращения их общей численност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рост числа предприятий, занятых в сфере здравоохранении, ЖКХ, информационных услугах, науке – до 50% (в 12 раз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рост компаний, занятых в строительстве и обрабатывающей промышленности – в 4-5 раз (от 130 тысяч до 500 тысяч компаний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 развития МСП в РФ на долгосрочную перспекти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е с Концепцией долгосрочного социально-экономического развития Российской Федерации к 2020 году должны быть достигнуты следующие показат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малого бизнеса в общем ВВП - 30%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общего числа субъектов предпринимательской деятельности до 6 млн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доли малого и среднего бизнеса в общем количестве действующих субъектов предпринимательства до 80%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доли занятых в сфере малого и среднего бизнеса до 60% населения РФ и до 30 % от числа всего занятого населе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отраслевой структуры МСП, в том числ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окращение относительной доли малых предприятий, занятых в сфере торговли – до 20% (в 2,5 раза), без сокращения их общей числ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ост числа предприятий, занятых в сфере здравоохранении, ЖКХ, информационных услугах, науке – до 50% (в 12 раз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ост компаний, занятых в строительстве и обрабатывающей промышленности – в 4-5 раз (от 130 тысяч до 500 тысяч компани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ноз развития МСП в РФ на среднесрочную перспектив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целям, поставленным Правительством Российской Федерации на первом этапе инновационного развития (2008 – 2012 гг.) относятс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не менее 500 бизнес-инкубаторов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личие в каждом субъекте РФ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гарантийного фонда объемом не менее 100 млн. рубл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муниципальной инфраструктуры микрофинансирова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фонда прямых инвестиций в средние компании (с количеством занятых до 250 человек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 развития МСП в РФ на среднесрочную перспекти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целям, поставленным Правительством Российской Федерации на первом этапе инновационного развития (2008 – 2012 гг.)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е менее 500 бизнес-инкубат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в каждом субъекте Р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гарантийного фонда объемом не менее 100 млн.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униципальной инфраструктуры микрофинанс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фонда прямых инвестиций в средние компании (с количеством занятых до 250 человек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СП на 1 января  2011 г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данным МЭР в Российской Федерации на 1 января 2011 года действую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,7 млн. юридических лиц; (1,6 млн. – 1 января 2010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,1 млн. индивидуальных предпринимателей; (4,0 млн. – 1 января 2010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феры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1% - торговл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8% - услуг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% - строительство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,5%- обрабатывающее производство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0,75% - сфера науки, научных исследова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т числа малых предприятий в 2009 г. – 9,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ижение числа малых предприятий в 2010 г. – 3,6% (НИСИПП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ее количество занятых – около 16,9 млн. человек (МЭР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орот малых предприятий – 13,5 тр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МСП: 21% в структуре ВВП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инновационного МСП около 1%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СП на 1 января  2011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анным МЭР в Российской Федерации на 1 января 2011 года действ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7 млн. юридических лиц; (1,6 млн. – 1 января 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,1 млн. индивидуальных предпринимателей; (4,0 млн. – 1 января 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ы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1% - торговл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% -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% - строительство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,5%- обрабатывающее производ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75% - сфера науки, научных исследов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числа малых предприятий в 2009 г. – 9,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числа малых предприятий в 2010 г. – 3,6% (НИСИП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количество занятых – около 16,9 млн. человек (МЭ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 малых предприятий – 13,5 тр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МСП: 21% в структуре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инновационного МСП около 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й бизнес (МБ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Б +Индивидуальные предпринимател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й бизнес (М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Б +Индивидуальные предприним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тоспособность и развитие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ение России в рейтинге Всемирного экономического форума по индексу глобальной конкурентоспособности (всего 133 государства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2 год – 64 место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6 год – 62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7 год – 57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8 год – 51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9 год – 63 место (опустилась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0 год – 63 место (между Уругваем и Шри-Ланкой)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 рейтинге стран БРИК в 2009 году Россия заняла четвертое место (Бразилия – 58 место, Индия - 51, Китай- 27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индексе  IMD (International Institute for Management Development) Россия заняла следующие места (всего 57 государств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6 год – 55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7 год – 43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8 год – 47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9 год – 49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0 год – 51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1 год – 49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оспособность и развитие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ение России в рейтинге Всемирного экономического форума по индексу глобальной конкурентоспособности (всего 133 государства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2 год – 64 мес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6 год – 62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год – 57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од – 51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9 год – 63 место (опустилас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 – 63 место (между Уругваем и Шри-Ланкой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рейтинге стран БРИК в 2009 году Россия заняла четвертое место (Бразилия – 58 место, Индия - 51, Китай- 27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ндексе  IMD (International Institute for Management Development) Россия заняла следующие места (всего 57 государств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6 год – 55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год – 43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од – 47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9 год – 49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 – 51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од – 49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терии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ый закон «О развитии МСП в Российской Федерации» от 24.07.2007 г. № 209-ФЗ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ТЕРИ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кропредприятия – не более 15 челов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е предприятия – от 16 до 100 челов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ние предприятия – от 101 до 250 челов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граничения по  обороту (установлены Постановлением Правительства РФ от 22.07.2008 № 556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кропредприятия - 60 млн. рубл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е предприятия - 400 млн. рубл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ние предприятия - 1000 млн. руб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й закон «О развитии МСП в Российской Федерации» от 24.07.2007 г. № 209-Ф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предприятия – не более 15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предприятия – от 16 до 10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ие предприятия – от 101 до 25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я по  обороту (установлены Постановлением Правительства РФ от 22.07.2008 № 556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предприятия - 60 млн.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предприятия - 400 млн.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ие предприятия - 1000 млн. руб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лючевые аспекты госрегулирования предпринимательской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Начало осуществления предпринимательской де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Государственный контроль (надзор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Налогообложение субъектов малого предприниматель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Доступность финансовых услу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) Развитие конкурен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) Доступ к государственному (муниципальному) имуществ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) Доступ к государственным/муниципальным заказ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) Лицензирование отдельных видов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) Обязательное подтверждение соответствия (сертификация. Декларирование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аспекты госрегулирования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Начало осуществления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Государственный контроль (надзо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Налогообложение субъектов малого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Доступность финансовых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Развитие конкуре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 Доступ к государственному (муниципальному) имуще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 Доступ к государственным/муниципальным заказ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 Лицензирование отдельных видов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) Обязательное подтверждение соответствия (сертификация. Декларирова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держки МСП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данные мониторинга ОПОРЫ РОССИИ и ВЦИОМ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5 г. 8,5% от выруч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6 г. 9,6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7 г. 6%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8 г. 8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9 г. 6%(отмечено снижение издержек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источники издержек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ые барьеры и коррупц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ходы на приобретение контрольно-кассовой техники (ККТ) (проблема решена для плательщиков ЕНВД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охранительные орга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уждение к повышению размера заработной платы и др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ержки МСП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анные мониторинга ОПОРЫ РОССИИ и ВЦИ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5 г. 8,5% от выру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6 г. 9,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7 г. 6%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8 г. 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9 г. 6%(отмечено снижение издерже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источники издерже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барьеры и корруп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ходы на приобретение контрольно-кассовой техники (ККТ) (проблема решена для плательщиков ЕНВ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хранительные орг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уждение к повышению размера заработной платы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благоприятных условий для предпринимательской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институциональной сре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анение избыточных административных огранич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контрольно-надзорой сферы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доступа к объектам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раструктур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недискриминационного доступа к ресурсам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бъектов естественных монопол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коррупционная полити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ступ к финансовым ресурса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налогообложения малого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ступность гос/муниципальных заказ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ка предпринимательской инициативы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благоприятных условий для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институционально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анение избыточных административных огранич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контрольно-надзорой сферы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доступа к объекта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недискриминационного доступа к ресурса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ов естественных монопол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коррупцион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 к финансовым ресурс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налогообложения малого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 гос/муниципальных заказ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предпринимательской инициатив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бходимые условия для развития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вышение эффективности защиты прав предпринимателе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участия бизнес-объединений в судебном процесс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благоприятных условий налогообложения для ведения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репление персональной ответственности чиновник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материально-технической базой (создание бизнес-инкубаторов, кластеров, промпарков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ые условия для развития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эффективности защиты прав предпринима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участия бизнес-объединений в судебном проце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благоприятных условий налогообложения для ведени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ение персональной ответственности чинов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материально-технической базой (создание бизнес-инкубаторов, кластеров, промпарк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B756-5BB5-4064-8772-D7DF3484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FB43-7C48-42DB-B774-F18E61DD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946D-5D07-4D3C-81A5-9086A464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75A5-C033-43A1-A986-E569773F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FE7E-5729-4B84-8F04-6796DA04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2D48-BDCE-43B0-957A-36C651C2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D2C7-7FBE-43C7-A81E-F8757784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CAE0-B216-4067-BE83-02E7F707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B3B0-60A0-441A-A07C-50064257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E121-140B-4695-8F77-FF70D6A1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3F56-944C-4BC7-AD2B-464A915E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8BB3-C8C6-4CD3-991C-3BD536D0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529D-925E-4DB3-A457-BED578EA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B49C-52DD-4D94-BA07-36CD893B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A836-4B2D-45E1-B758-8150AE21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A9AA-20CF-475F-9D89-C9B26805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A6DC-6DE8-4A72-BDA0-28543672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F885-9CC2-4D47-8111-A857CFA6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4409-2EAE-4F1F-A52C-867835C6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5BFF-61E2-41F2-94ED-95CF39E7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2259-451A-49A2-8BEC-11EE3DAF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576B-DE0B-42FB-8BA0-8292040C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063B-9A9D-47D3-B45C-6FA6BD6A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3B59-CC08-4F92-917C-63D8C809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77EF-C41D-4746-A734-98198CDFE02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EC48-BB31-4C13-AB27-85671A08E69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Arial"/>
              </a:rPr>
              <a:t>Национальный исследовательский университет -</a:t>
            </a:r>
            <a:br>
              <a:rPr sz="3000"/>
            </a:br>
            <a:r>
              <a:rPr b="0" lang="ru-RU" sz="3000" spc="-1" strike="noStrike">
                <a:solidFill>
                  <a:srgbClr val="eaeaea"/>
                </a:solidFill>
                <a:latin typeface="Arial"/>
              </a:rPr>
              <a:t>Высшая Школа Экономики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99640" y="3090960"/>
            <a:ext cx="799308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подаватель - Крылова Дина Владимировн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зидент Межрегионального Общественн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нда «Деловая перспектив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. преподаватель кафедр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еория и практика взаимодейств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изнеса и власт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сква, 10 октября 2011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11280" y="1397160"/>
            <a:ext cx="77058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алое и среднее предпринимательство в Росси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Федеральная программа поддержки МСП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Средства федерального бюджета, выделенные на поддержку МП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2008 год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4500, 0 млн. руб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редства федерального бюджета, выделенные на поддержку МП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2009 году –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10500, 0 млн. руб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2010 году –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17200, 0 млн. руб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Приоритетные мероприятия поддержки: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Программы поддержки начинающих – гранты на создание бизнеса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Развитие бизнес-инкубаторов, промышленных и технопарков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Создание гарантийных фондов по кредитованию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Образовательные программы – повышение квалификации,  лекции, стажировки, семинары и др.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Институты развития микрофинансирования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Развитие малого предпринимательства в промышленности (кластеры, развитие субконтрактации)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Поддержка муниципальных программ развития МП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Принципы поддержки МСП через госпрограмм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открыт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равный досту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ответственность органов власти всех уровней за обеспечение благоприятных условий для бизне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международное сотрудниче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864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Основные достижения в области поддержки МСП в России за 2009-2011 гг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532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величен до 60 млн. рублей предельный размер доходов, ограничивающий право перехода организации на упрощенную систему налогообложения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менена обязанность применения контрольно-кассовой техники предпринимателями, которые уплачивают единый налог на вмененный доход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кращено количество проверок малых предприятий - не чаще, чем 3 раза в год, а внеплановая проверка  - только с санкции прокурор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тановлены льготные тарифы на технологическое присоединение к электрическим сетям – для подключения мощности до 15 кВт стоимость присоединения не более 5 МРОТ (550 рублей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яде регионов установлены льготные арендные ставки при аренде малыми и средними компаниями федерального имущества.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Tahoma"/>
              </a:rPr>
              <a:t>Положительные тенденции развития МСП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Принятие закона «О развитии малого и среднего предпринимательства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Устойчивые тенденции легализации малого бизнеса (4 года назад в «тени» находилось более 50% МП. Сейчас – примерно 30%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Больше малых предприятий стало обращаться в банки за кредитами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Работает Федеральная программа поддержки развития малого предпринимательства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Разработан ряд ведомственных программ поддержки малого предпринимательств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Создаются венчурные фонды и бизнес-инкубаторы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Сократилось число лицензируемых видов деятельности, часть из них заменяется страхованием ответственности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Созданы консультативно-совещательные органы при структурах власти всех уровней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Прогноз развития МСП в РФ на долгосрочную перспектив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В соответствие с Концепцией долгосрочного социально-экономического развития Российской Федерации к 2020 году должны быть достигнуты следующие показатели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доля малого бизнеса в общем ВВП - 30%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рост общего числа субъектов предпринимательской деятельности до 6 млн.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увеличение доли малого и среднего бизнеса в общем количестве действующих субъектов предпринимательства до 80%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увеличение доли занятых в сфере малого и среднего бизнеса до 60% населения РФ и до 30 % от числа всего занятого населения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изменение отраслевой структуры МСП, в том числе: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-сокращение относительной доли малых предприятий, занятых в сфере торговли – до 20% (в 2,5 раза), без сокращения их общей численности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-рост числа предприятий, занятых в сфере здравоохранении, ЖКХ, информационных услугах, науке – до 50% (в 12 раз)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-рост компаний, занятых в строительстве и обрабатывающей промышленности – в 4-5 раз (от 130 тысяч до 500 тысяч компаний)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Прогноз развития МСП в РФ на среднесрочную перспектив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 целям, поставленным Правительством Российской Федерации на первом этапе инновационного развития (2008 – 2012 гг.) относя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здание не менее 500 бизнес-инкубатор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в каждом субъекте РФ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гарантийного фонда объемом не менее 100 млн. руб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муниципальной инфраструктуры микрофинансиров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фонда прямых инвестиций в средние компании (с количеством занятых до 250 человек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3640" y="-100440"/>
            <a:ext cx="82263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eaeaea"/>
                </a:solidFill>
                <a:latin typeface="Tahoma"/>
              </a:rPr>
              <a:t>МСП на 1 января  2011 года</a:t>
            </a:r>
            <a:endParaRPr b="1" lang="en-US" sz="35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72036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По данным МЭР в Российской Федерации на 1 января 2011 года действуют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,7 млн. юридических лиц; (1,6 млн. – 1 января 2010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4,1 млн. индивидуальных предпринимателей; (4,0 млн. – 1 января 2010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Сферы деятельност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41% - торговля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8% - услуги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2% - строительство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0,5%- обрабатывающее производство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ahoma"/>
              </a:rPr>
              <a:t>0,75% - сфера науки, научных исследований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Рост числа малых предприятий в 2009 г. – 9,1%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Снижение числа малых предприятий в 2010 г. – 3,6% (НИСИПП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Общее количество занятых – около 16,9 млн. человек (МЭР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Оборот малых предприятий – 13,5 трлн. руб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Доля МСП: 21% в структуре ВВП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Доля инновационного МСП около 1%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7840" y="188640"/>
            <a:ext cx="860580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Tahoma"/>
              </a:rPr>
              <a:t>Структура МСП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216000" y="1052640"/>
          <a:ext cx="4765680" cy="55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052640"/>
                    <a:ext cx="476568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4"/>
          <p:cNvSpPr/>
          <p:nvPr/>
        </p:nvSpPr>
        <p:spPr>
          <a:xfrm>
            <a:off x="1195200" y="911160"/>
            <a:ext cx="24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лый бизне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148280" y="911160"/>
            <a:ext cx="48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Б +Индивидуальные предпринимате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652920" y="4724280"/>
            <a:ext cx="11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4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652920" y="5084640"/>
            <a:ext cx="1173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1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995640" y="5300640"/>
            <a:ext cx="57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1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3724920" y="5445000"/>
            <a:ext cx="1087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3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3724920" y="5661000"/>
            <a:ext cx="1087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3" name="Object 11"/>
          <p:cNvGraphicFramePr/>
          <p:nvPr/>
        </p:nvGraphicFramePr>
        <p:xfrm>
          <a:off x="4448160" y="1141560"/>
          <a:ext cx="4635360" cy="495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8160" y="1141560"/>
                    <a:ext cx="463536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12"/>
          <p:cNvSpPr/>
          <p:nvPr/>
        </p:nvSpPr>
        <p:spPr>
          <a:xfrm>
            <a:off x="4067280" y="5842080"/>
            <a:ext cx="504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Конкурентоспособность и развитие МСП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Положение России в рейтинге Всемирного экономического форума по индексу глобальной конкурентоспособности (всего 133 государства)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2 год – 64 место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6 год – 62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7 год – 57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8 год – 51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9 год – 63 место (опустилась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10 год – 63 место (между Уругваем и Шри-Ланкой) 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В  рейтинге стран БРИК в 2009 году Россия заняла четвертое место (Бразилия – 58 место, Индия - 51, Китай- 27)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индексе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 IMD (International Institute for Management Development)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Россия заняла следующие места (всего 57 государств)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6 год – 55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7 год – 43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8 год – 47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9 год – 49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10 год – 51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11 год – 49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Критерии МСП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360" y="1224000"/>
            <a:ext cx="9144000" cy="6021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едеральный закон «О развитии МСП в Российской Федерации» от 24.07.2007 г. № 209-ФЗ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ИТЕР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Микропредприятия – не более 15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Малые предприятия – от 16 до 100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Средние предприятия – от 101 до 250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Ограничения по  обороту (установлены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Постановлением Правительства РФ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от 22.07.2008 № 556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кропредприятия - 60 млн. руб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лые предприятия - 400 млн. руб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едние предприятия - 1000 млн. руб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Ключевые аспекты госрегулирования предпринимательской деятельн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071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1) Начало осуществления предпринимательской деятельност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2) Государственный контроль (надзор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3) Налогообложение субъектов малого предпринимательств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4) Доступность финансовых услуг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5) Развитие конкуренци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6) Доступ к государственному (муниципальному) имуществу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7) Доступ к государственным/муниципальным заказа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8) Лицензирование отдельных видов деятельност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9) Обязательное подтверждение соответствия (сертификация. Декларирование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eaeaea"/>
                </a:solidFill>
                <a:latin typeface="Tahoma"/>
              </a:rPr>
              <a:t>Издержки МСП </a:t>
            </a:r>
            <a:br>
              <a:rPr sz="3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(данные мониторинга ОПОРЫ РОССИИ и ВЦИОМ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5 г. 8,5% от выручк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6 г. 9,6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7 г. 6%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8 г. 8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9 г. 6%(отмечено снижение издержек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Основные источники издержек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дминистративные барьеры и коррупц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расходы на приобретение контрольно-кассовой техники (ККТ) (проблема решена для плательщиков ЕНВД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авоохранительные органы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инуждение к повышению размера заработной платы и др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оздание благоприятных условий для предпринимательской деятельн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овершенствование институциональной среды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Устранение избыточных административных ограничений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овершенствование контрольно-надзорой сферы 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беспечение доступа к объектам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нфраструктуры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беспечение недискриминационного доступа к ресурсам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убъектов естественных монополий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Антикоррупционная политика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оступ к финансовым ресурсам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овершенствование налогообложения малого        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едпринимательства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оступность гос/муниципальных заказов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оддержка предпринимательской инициативы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Необходимые условия для развития МСП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233360"/>
            <a:ext cx="9144000" cy="56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ышение эффективности защиты прав предпринимател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еспечение участия бизнес-объединений в судебном процес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ние благоприятных условий налогообложения для ведения бизне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репление персональной ответственности чинов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еспечение материально-технической базой (создание бизнес-инкубаторов, кластеров, промпарков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0:39:45Z</dcterms:created>
  <dc:creator>musihin</dc:creator>
  <dc:description/>
  <dc:language>en-US</dc:language>
  <cp:lastModifiedBy>LEGION</cp:lastModifiedBy>
  <dcterms:modified xsi:type="dcterms:W3CDTF">2016-01-05T12:45:15Z</dcterms:modified>
  <cp:revision>49</cp:revision>
  <dc:subject/>
  <dc:title>Малое и среднее предпринимательство в России</dc:title>
</cp:coreProperties>
</file>