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camera.wav" ContentType="audio/x-wav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E629-2275-4CBA-BE47-8DBFAA04B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ЛОВ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indem.ru    fond@indem.ru   206-81-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ценка уровня коррупции как высокого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птимисты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Активная вовлеченность в коррупцию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Избегание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Постараются принять участие в борьбе с коррупцией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участвовать в распространении этического кодек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ы поддержать усиление государственного контроля за расходами всех гражда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"Нельзя допустить, чтобы вся власть попала в одни руки"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отовность голосовать за СПС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ГЛАВНАЯ МЫСЛЬ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я – это сигнал о неэффективност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рузья и враги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3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ейтинг проблем бизнеса (4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ПАСИБО ЗА ВНИМАНИЕ 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ЕЩЕ ИЛЛЮСТРАЦ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ВРП И КОРРУПЦИЯ В РОССИЙСКИХ РЕГИОНАХ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СИТУАЦИЯ В РОССИ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оррупционные рынки –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азные виды регулирования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бщий годовой объем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рынка деловой коррупции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33,5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ля сравнения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Доходная часть федерального бюджета России в 2000 г.: </a:t>
            </a:r>
            <a:br>
              <a:rPr sz="1200"/>
            </a:b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$ 40 миллиардо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Особенности малого и крупного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1 квартиль – до 2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2 квартиль – от 200 000 до 80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3 квартиль – от 800 000 до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4 квартиль – свыше 2 160 000 руб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Квартильное разбиение фирм по месячному обороту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Times New Roman"/>
              </a:rPr>
              <a:t>Успешность бизнеса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57E-F711-4907-BF60-3EF61028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F88-74E3-46CD-837E-347512F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982-5039-44CB-B5C0-D9D51A1C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C33-040A-4067-A817-462FB1CF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B3DB-7A83-4403-8D2B-0B90A7F4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15310-861C-4F30-A9AE-DB2FC160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D0A4-813B-43A2-BC59-147BB514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C56-427C-4A1A-A199-7DBC2163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05F4-C989-4D7A-B1E6-0ADB7BD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CBF9-B094-43DF-A518-36ACF958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6C6A-8782-407B-8961-166BD599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A6F-DC8F-4FC2-B9DA-2414ED34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414-E13C-41C1-9594-13E9F07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7EA6-1061-4416-A5BA-3743693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66FF-CC4D-4887-A164-AC57526A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3565-832C-40A7-A0CD-B6FB1C23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3B96-C299-474F-8044-043817F1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080-B6B1-4E98-AC7F-B0618F8F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543-0132-466A-B736-125258F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331-3848-4BC8-BC5E-5725C0CA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F949-7C31-4CF7-9550-73B2DE7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82E-ADC6-40DB-BCC7-48E0FE07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6F0-C90D-44DA-BFEC-3AB71BC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403-0F6E-4EA4-92C0-FF3903A0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9F00-2F53-4497-8163-995B0EC7B6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0786-80EF-497C-880F-9BF1F0ACE735}" type="slidenum">
              <a:rPr b="0" lang="ru-RU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hyperlink" Target="http://www.indem.ru/" TargetMode="External"/><Relationship Id="rId4" Type="http://schemas.openxmlformats.org/officeDocument/2006/relationships/hyperlink" Target="mailto:fond@indem.ru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6941880" cy="27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ЛОВО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УП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5"/>
          <p:cNvGraphicFramePr/>
          <p:nvPr/>
        </p:nvGraphicFramePr>
        <p:xfrm>
          <a:off x="468360" y="4773600"/>
          <a:ext cx="3025800" cy="17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73600"/>
                    <a:ext cx="302580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8"/>
          <p:cNvSpPr/>
          <p:nvPr/>
        </p:nvSpPr>
        <p:spPr>
          <a:xfrm>
            <a:off x="4643280" y="255600"/>
            <a:ext cx="4249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www.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fond@indem.ru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206-81-7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Picture 9" descr="mone0076"/>
          <p:cNvPicPr/>
          <p:nvPr/>
        </p:nvPicPr>
        <p:blipFill>
          <a:blip r:embed="rId5"/>
          <a:stretch/>
        </p:blipFill>
        <p:spPr>
          <a:xfrm>
            <a:off x="4427640" y="3371760"/>
            <a:ext cx="4338360" cy="31082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259920"/>
            <a:ext cx="71578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ценка уровня коррупции как высо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985080" cy="42861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10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птим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403280" y="1965240"/>
            <a:ext cx="6481800" cy="39798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ктивная вовлеченность в корруп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97440" cy="3797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476280"/>
            <a:ext cx="715788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Избегание корруп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58920" y="2023920"/>
            <a:ext cx="6626160" cy="37576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2040" y="259920"/>
            <a:ext cx="745632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остараются принять участие в борьбе с корруп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5"/>
          <p:cNvGraphicFramePr/>
          <p:nvPr/>
        </p:nvGraphicFramePr>
        <p:xfrm>
          <a:off x="1258920" y="2166840"/>
          <a:ext cx="6553080" cy="34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166840"/>
                    <a:ext cx="6553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385040" cy="18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участвовать в распространении этического код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408720" cy="36086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2040" y="260280"/>
            <a:ext cx="745632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ы поддержать усиление государственного контроля за расходами всех гражд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1258920" y="2349360"/>
          <a:ext cx="6769080" cy="36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349360"/>
                    <a:ext cx="6769080" cy="36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2040" y="-360"/>
            <a:ext cx="7456320" cy="14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"Нельзя допустить, чтобы вся власть попала в одни руки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332000" y="2133720"/>
            <a:ext cx="6624720" cy="37288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188640"/>
            <a:ext cx="715788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Готовность голосовать за СП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971640" y="2133720"/>
          <a:ext cx="7129440" cy="37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7129440" cy="37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835280" y="1844640"/>
          <a:ext cx="5410080" cy="4754520"/>
        </p:xfrm>
        <a:graphic>
          <a:graphicData uri="http://schemas.openxmlformats.org/drawingml/2006/table">
            <a:tbl>
              <a:tblPr/>
              <a:tblGrid>
                <a:gridCol w="419076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упател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ли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 сам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арт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64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вщ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вок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45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уди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3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остранец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7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Журналис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3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уберна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нист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ГЛАВНАЯ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53680" y="1844640"/>
            <a:ext cx="8039880" cy="5205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Коррупция – это сигнал о неэффективности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1372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Друзья и враги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908000" y="1844640"/>
          <a:ext cx="5334120" cy="4754520"/>
        </p:xfrm>
        <a:graphic>
          <a:graphicData uri="http://schemas.openxmlformats.org/drawingml/2006/table">
            <a:tbl>
              <a:tblPr/>
              <a:tblGrid>
                <a:gridCol w="3962520"/>
                <a:gridCol w="1371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курен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3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пута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4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дь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6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кур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лиционе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4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аможен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17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нов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пектор (пожнадзора и т.п.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жни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инспектор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5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логовый полицейский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39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дит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60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0880" y="404640"/>
            <a:ext cx="830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1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1776240"/>
          <a:ext cx="8137440" cy="5062680"/>
        </p:xfrm>
        <a:graphic>
          <a:graphicData uri="http://schemas.openxmlformats.org/drawingml/2006/table">
            <a:tbl>
              <a:tblPr/>
              <a:tblGrid>
                <a:gridCol w="7067520"/>
                <a:gridCol w="1069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й уровень налоговых ставок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9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Запутанность норм налогового права (усложненность порядка взимания налогов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8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бюрократической машин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4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7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тсутствие ясной и четкой экономической политики государств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6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динаковое отношение бюрократии к разным фирмам (при толковании законов и правил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защищенность прав собственност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5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эффективность судебной систем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Дорогие кредит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3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бъективность, коррумпированность судебных решений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70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80880" y="47628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2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50920" y="1844640"/>
          <a:ext cx="8686800" cy="464040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развитость экономической инфраструктур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7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облюдение всех правовых норм требует высоких затрат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4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ащивание власти и бизнес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3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нфля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издержек, связанных с соблюдением правовых нор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цены на энергоносител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8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становленное законом неравномерное распределение налогового бремен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6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честная (несправедливая) конкуренция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59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ысокие транспортные расходы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53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Избирательный подход чиновников налоговых органов к взиманию налогов с разных налогоплательщиков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3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0920" y="1844640"/>
          <a:ext cx="8686800" cy="4724280"/>
        </p:xfrm>
        <a:graphic>
          <a:graphicData uri="http://schemas.openxmlformats.org/drawingml/2006/table">
            <a:tbl>
              <a:tblPr/>
              <a:tblGrid>
                <a:gridCol w="7467480"/>
                <a:gridCol w="121932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головные преступления (хищения, кражи и т.д.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6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олитическая нестабильность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3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Валютное регулирование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92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торговлю с иностранными государствами (экспорт\импорт)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44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определенность исхода коррупционной сдел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2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Уровень выплат криминальным структурам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300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предсказуемость расходов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81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Большие расходы на взятк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77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Государственный контроль над ценам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38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ормы, регулирующие создание коммерческой организации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224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80880" y="549360"/>
            <a:ext cx="830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ейтинг проблем бизнеса (4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205000"/>
          <a:ext cx="8642160" cy="4378320"/>
        </p:xfrm>
        <a:graphic>
          <a:graphicData uri="http://schemas.openxmlformats.org/drawingml/2006/table">
            <a:tbl>
              <a:tblPr/>
              <a:tblGrid>
                <a:gridCol w="5184720"/>
                <a:gridCol w="865080"/>
                <a:gridCol w="863640"/>
                <a:gridCol w="863640"/>
                <a:gridCol w="865080"/>
              </a:tblGrid>
              <a:tr h="52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сказуемость издержек, связанных с соблюдением правовых норм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развитость экономической инфраструктур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ляция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ъективность, коррумпированность судебных решений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сокие транспортные расходы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тоянные проверки и чрезмерные требования контролирующих органов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105"/>
          <p:cNvSpPr/>
          <p:nvPr/>
        </p:nvSpPr>
        <p:spPr>
          <a:xfrm>
            <a:off x="6516720" y="1700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вартил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692280"/>
            <a:ext cx="7157880" cy="15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00"/>
                </a:solidFill>
                <a:latin typeface="Arial"/>
              </a:rPr>
              <a:t>СПАСИБО ЗА ВНИМАНИЕ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2950920" cy="273996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ЕЩЕ ИЛЛЮСТ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2"/>
          <p:cNvGraphicFramePr/>
          <p:nvPr/>
        </p:nvGraphicFramePr>
        <p:xfrm>
          <a:off x="1763640" y="1773360"/>
          <a:ext cx="558972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73360"/>
                    <a:ext cx="558972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32040" y="96840"/>
            <a:ext cx="7456320" cy="13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ВРП И КОРРУПЦИЯ В РОССИЙСКИХ РЕГИОН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000" y="2133720"/>
          <a:ext cx="8496000" cy="4190760"/>
        </p:xfrm>
        <a:graphic>
          <a:graphicData uri="http://schemas.openxmlformats.org/drawingml/2006/table">
            <a:tbl>
              <a:tblPr/>
              <a:tblGrid>
                <a:gridCol w="4464000"/>
                <a:gridCol w="1728720"/>
                <a:gridCol w="23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дикатор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упции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Корреляц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Доверительная вероятность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законода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5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0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пции исполнительной власти в регионе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40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1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гральный индекс объема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8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Оценка гражданами коррум-пированности региональной власт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7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Интенсивность деловой коррупции 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0,36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0,02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СИТУАЦИЯ В РОССИИ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616360" cy="3367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56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оррупционные рынки –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разные виды регул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95280" y="1700280"/>
          <a:ext cx="8353440" cy="4841640"/>
        </p:xfrm>
        <a:graphic>
          <a:graphicData uri="http://schemas.openxmlformats.org/drawingml/2006/table">
            <a:tbl>
              <a:tblPr/>
              <a:tblGrid>
                <a:gridCol w="2089080"/>
                <a:gridCol w="2162160"/>
                <a:gridCol w="2013120"/>
                <a:gridCol w="208908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Вид регулирования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лотность коррупцио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н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ых сделок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Средний размер взяток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(тыс.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$</a:t>
                      </a: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Объем (в %) коррупционного рынка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1368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Нефинансовое контрольное, надзор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53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Фискальное, налогов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83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2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Лицензио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2,3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68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4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аможен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24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5760">
                      <a:solidFill>
                        <a:srgbClr val="292929"/>
                      </a:solidFill>
                    </a:lnB>
                    <a:noFill/>
                  </a:tcPr>
                </a:tc>
              </a:tr>
              <a:tr h="70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Правоохрани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тельное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3,2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0,811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576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292929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92929"/>
                      </a:solidFill>
                    </a:lnL>
                    <a:lnR w="13680">
                      <a:solidFill>
                        <a:srgbClr val="292929"/>
                      </a:solidFill>
                    </a:lnR>
                    <a:lnT w="5760">
                      <a:solidFill>
                        <a:srgbClr val="292929"/>
                      </a:solidFill>
                    </a:lnT>
                    <a:lnB w="13680">
                      <a:solidFill>
                        <a:srgbClr val="29292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549360"/>
            <a:ext cx="7270920" cy="89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бщий годовой объем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рынка деловой корруп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17524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6600"/>
                </a:solidFill>
                <a:latin typeface="Times New Roman Cyr"/>
              </a:rPr>
              <a:t>$ 33,5 миллиардов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Picture 4" descr="1-2"/>
          <p:cNvPicPr/>
          <p:nvPr/>
        </p:nvPicPr>
        <p:blipFill>
          <a:blip r:embed="rId1"/>
          <a:stretch/>
        </p:blipFill>
        <p:spPr>
          <a:xfrm>
            <a:off x="468360" y="2946240"/>
            <a:ext cx="3798720" cy="3475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4495680" y="2860560"/>
            <a:ext cx="4419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Для сравнения</a:t>
            </a:r>
            <a:r>
              <a:rPr b="0" lang="en-US" sz="2800" spc="-1" strike="noStrike" u="sng">
                <a:solidFill>
                  <a:srgbClr val="292929"/>
                </a:solidFill>
                <a:uFillTx/>
                <a:latin typeface="Times New Roman Cyr"/>
              </a:rPr>
              <a:t>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Доходная часть федерального бюджета России в 2000 г.</a:t>
            </a:r>
            <a:r>
              <a:rPr b="0" lang="en-US" sz="2800" spc="-1" strike="noStrike">
                <a:solidFill>
                  <a:srgbClr val="292929"/>
                </a:solidFill>
                <a:latin typeface="Times New Roman Cyr"/>
              </a:rPr>
              <a:t>:</a:t>
            </a:r>
            <a:r>
              <a:rPr b="0" lang="ru-RU" sz="2800" spc="-1" strike="noStrike">
                <a:solidFill>
                  <a:srgbClr val="292929"/>
                </a:solidFill>
                <a:latin typeface="Times New Roman Cyr"/>
              </a:rPr>
              <a:t> </a:t>
            </a:r>
            <a:br>
              <a:rPr sz="2800"/>
            </a:b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$ 40</a:t>
            </a:r>
            <a:r>
              <a:rPr b="1" lang="en-US" sz="3600" spc="-1" strike="noStrike">
                <a:solidFill>
                  <a:srgbClr val="336600"/>
                </a:solidFill>
                <a:latin typeface="Times New Roman Cyr"/>
              </a:rPr>
              <a:t> </a:t>
            </a:r>
            <a:r>
              <a:rPr b="1" lang="ru-RU" sz="3600" spc="-1" strike="noStrike">
                <a:solidFill>
                  <a:srgbClr val="336600"/>
                </a:solidFill>
                <a:latin typeface="Times New Roman Cyr"/>
              </a:rPr>
              <a:t>миллиардов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333360"/>
            <a:ext cx="71578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обенности малого и крупного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3284280"/>
            <a:ext cx="85690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 квартиль – до 2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 квартиль – от 200 000 до 80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3 квартиль – от 800 000 до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4 квартиль – свыше 2 160 000 руб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68360" y="1844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Квартильное разбиение фирм по месячному обороту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475920"/>
            <a:ext cx="71578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пешность бизне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1116000" y="1976400"/>
            <a:ext cx="6840720" cy="38512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9292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2:45:07Z</dcterms:modified>
  <cp:revision>74</cp:revision>
  <dc:subject/>
  <dc:title>PowerPoint Presentation</dc:title>
</cp:coreProperties>
</file>