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1C9D-B370-44B5-8614-B5DECD1806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C2BF-F350-4DC5-B0EF-BAFD5BF2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5F483-B65C-4128-BEB7-6687EC09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EFB4-9517-4231-A914-90084A17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497A3-9710-4AE2-B469-B6F2A6F9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1C37-9EE3-468B-9D45-97B1CA1D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A9AC-D2F6-4B6D-8A40-02A4EFC8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3359-403F-4370-8EA9-12510D45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4CE9-C21C-4571-AF80-E62C0150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B013-55A0-42F0-B0B9-ACFEF02B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8059-1B6F-4D3A-99B7-B8E65FC5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A382-C251-48ED-81AA-1BE3E11A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84B1-5C65-4ED4-931D-EF0CA53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CD3F-3AE7-496B-B913-0EC7293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A017-7211-4793-B129-D41029F0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A826-5595-4D99-A1A4-51F78E72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0344-816E-47E5-A426-B64C2F26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B791-21AB-4AAC-B968-B35B0A27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BB4B-658B-40F3-88E7-91B31734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77F2-9481-4EFE-949C-98A15DE0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0600-1EDC-4F81-9DB8-E5F046B7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8C43-C473-424A-8D17-F419C3CF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2160-E88F-477C-818D-47B8CA80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C383-B1F9-4FDF-B91E-E522531F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578E-F024-4E4F-8622-05E3236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BC0F-B1E5-4964-A19A-559B565BF2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11280" y="630864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Ф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2DFF-F251-4235-8D53-EB0FAC8AE2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708360" y="4851360"/>
            <a:ext cx="1625760" cy="900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пекуля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предпринимате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тремление к процветанию и росту своего дела, а подчиненная цель – рост при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с Вебе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4–1920)- немецкий социолог, экономист и историк культу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Протестантская этика и дух капитализма» (19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Мои документы\Фото\ИРП Слайды\Max_Weber_1894[1].jpg"/>
          <p:cNvPicPr/>
          <p:nvPr/>
        </p:nvPicPr>
        <p:blipFill>
          <a:blip r:embed="rId1"/>
          <a:stretch/>
        </p:blipFill>
        <p:spPr>
          <a:xfrm>
            <a:off x="5211720" y="1981080"/>
            <a:ext cx="291168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 особой роли протестантизма в развитии предприниматель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83-1950) — австрийский и американский экономист, социолог и историк экономической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экономического анализа»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D:\Мои документы\Фото\Free%20Money[1].jpg"/>
          <p:cNvPicPr/>
          <p:nvPr/>
        </p:nvPicPr>
        <p:blipFill>
          <a:blip r:embed="rId1"/>
          <a:stretch/>
        </p:blipFill>
        <p:spPr>
          <a:xfrm>
            <a:off x="5186520" y="1981080"/>
            <a:ext cx="29620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едпринимательство – универсальная общеэкономическая функция любой общественной 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лгаков С. Н. (о. Сергий)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71-1944) - философ, экономист, публицист и богосл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работ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Философия хозяйства» (19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D:\Мои документы\Фото\f5248d8404aa[1].jpg"/>
          <p:cNvPicPr/>
          <p:nvPr/>
        </p:nvPicPr>
        <p:blipFill>
          <a:blip r:embed="rId1"/>
          <a:stretch/>
        </p:blipFill>
        <p:spPr>
          <a:xfrm>
            <a:off x="5176800" y="1981080"/>
            <a:ext cx="298152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39640" y="2133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езис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экономического расцвета необходимо использовать нравственный и воспитательный потенциал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.е. основа хозяйства должна быть духовно-нравств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ган-Барановский М. 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5 – 1919) – экономист, истор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Русская фабрика в прошлом и настоящем» (18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D:\Мои документы\Фото\Baranovskij[1].jpg"/>
          <p:cNvPicPr/>
          <p:nvPr/>
        </p:nvPicPr>
        <p:blipFill>
          <a:blip r:embed="rId1"/>
          <a:stretch/>
        </p:blipFill>
        <p:spPr>
          <a:xfrm>
            <a:off x="5227560" y="1981080"/>
            <a:ext cx="287964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ьный 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 К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87-1971) – юрист, публиц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D:\Мои документы\Фото\Gins[1].jpg"/>
          <p:cNvPicPr/>
          <p:nvPr/>
        </p:nvPicPr>
        <p:blipFill>
          <a:blip r:embed="rId1"/>
          <a:stretch/>
        </p:blipFill>
        <p:spPr>
          <a:xfrm>
            <a:off x="5508720" y="2060640"/>
            <a:ext cx="2457360" cy="3595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оватор в хозя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организующий предприятие за счет собственных или привлеченных средств с целью получ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 со свободной инициативой, желающий самоутвердиться или обрести самосто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который умножает не только свое, но и национальное 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 самом общем смысл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падает с человеческой деятель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чард Кантильо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к. 1680-1734) – банкир, экономист, демог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Очерк о природе торговли вообще» (издан в Лондоне на французском языке в 175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4" descr="377px-Cant[1].jpg"/>
          <p:cNvPicPr/>
          <p:nvPr/>
        </p:nvPicPr>
        <p:blipFill>
          <a:blip r:embed="rId1"/>
          <a:stretch/>
        </p:blipFill>
        <p:spPr>
          <a:xfrm>
            <a:off x="5445000" y="19810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eu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человек, подвергающий себя риску непостоянных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23 – 1790) – шотландский экономист, философ-эти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следование о природе и причинах богатства народов»  (177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4" descr="AdamSmith.jpg"/>
          <p:cNvPicPr/>
          <p:nvPr/>
        </p:nvPicPr>
        <p:blipFill>
          <a:blip r:embed="rId1"/>
          <a:stretch/>
        </p:blipFill>
        <p:spPr>
          <a:xfrm>
            <a:off x="5365800" y="1981080"/>
            <a:ext cx="260352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доктрин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ного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ономического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видимой руки рын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67-1832) – французский экономис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D:\Мои документы\Фото\say.jpg"/>
          <p:cNvPicPr/>
          <p:nvPr/>
        </p:nvPicPr>
        <p:blipFill>
          <a:blip r:embed="rId1"/>
          <a:stretch/>
        </p:blipFill>
        <p:spPr>
          <a:xfrm>
            <a:off x="5200560" y="1981080"/>
            <a:ext cx="2933640" cy="3886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а) соединение факторов производства (капитала и тру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терми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умелость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эффективно функционируют только те предприятия, которые ведутся ум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ер Зомбар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63-1941) - немецкий экономист, социолог, филосо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Современный капитализм»     (1902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D:\Мои документы\Фото\ИРП Слайды\Verner[1].jpg"/>
          <p:cNvPicPr/>
          <p:nvPr/>
        </p:nvPicPr>
        <p:blipFill>
          <a:blip r:embed="rId1"/>
          <a:stretch/>
        </p:blipFill>
        <p:spPr>
          <a:xfrm>
            <a:off x="5025960" y="1981080"/>
            <a:ext cx="328284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7:36:08Z</dcterms:created>
  <dc:creator>Admin</dc:creator>
  <dc:description/>
  <dc:language>en-US</dc:language>
  <cp:lastModifiedBy>LEGION</cp:lastModifiedBy>
  <dcterms:modified xsi:type="dcterms:W3CDTF">2016-01-05T12:44:40Z</dcterms:modified>
  <cp:revision>91</cp:revision>
  <dc:subject/>
  <dc:title>История российского предпринимательства</dc:title>
</cp:coreProperties>
</file>