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38C7-4247-4A94-8236-BBC3A579F9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оссийского        предпринимательст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Введение в историю предпринимательств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ческие подходы к исследованию предпринимательства в западной и российской историограф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солицын Александр Алексееви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э.н., професс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оссийского        предпринимательст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Введение в историю предпринимательств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ческие подходы к исследованию предпринимательства в западной и российской историограф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солицын Александр Алексееви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э.н., професс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л качества, необходимые предпринимателю для успешного ведения дела: 1)Предпринимательский дух;                                       2) Бюргерский (гражданский) ду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предпринимателей (помимо купцов и промышленников), сформировавшиеся на заре капиталистической эпохи: разбойник, феодал-землевладел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ый тип предпринимателя  - спекуля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л качества, необходимые предпринимателю для успешного ведения дела: 1)Предпринимательский дух;                                       2) Бюргерский (гражданский) ду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предпринимателей (помимо купцов и промышленников), сформировавшиеся на заре капиталистической эпохи: разбойник, феодал-землевладел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ый тип предпринимателя  - спекуля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 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о – есть осуществление дальновидного плана, для проведения которого в жизнь требуется длительное сотрудничество нескольких лиц под объединяющим их всех руково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– буржуа, который, если хочет иметь успех, должен осуществлять в единстве функции «завоевателя», «организатора» и «торговц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цель предпринимателя – стремление к процветанию и росту своего дела, а подчиненная цель – рост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 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о – есть осуществление дальновидного плана, для проведения которого в жизнь требуется длительное сотрудничество нескольких лиц под объединяющим их всех руково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– буржуа, который, если хочет иметь успех, должен осуществлять в единстве функции «завоевателя», «организатора» и «торговц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цель предпринимателя – стремление к процветанию и росту своего дела, а подчиненная цель – рост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 Вебер  (1864–1920)- немецкий социолог, экономист и историк куль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Протестантская этика и дух капитализма» (19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 Вебер  (1864–1920)- немецкий социолог, экономист и историк куль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Протестантская этика и дух капитализма» (19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 Вебер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ис об особой роли протестантизма в развитии предпринимательства (европейский капитализм обязан своим происхождением протестантизму как религиозно-этическому комплексу, обеспечивающему воспитание таких черт личности, как трудолюбие, бережливость, честность, расчетлив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ис о движущих силах экспансии капитализма (капиталистический дух – там, где он возникает и оказывает свое воздействие, он добывает необходимые ему денежные ресурсы, но не наоборо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 Вебер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ис об особой роли протестантизма в развитии предпринимательства (европейский капитализм обязан своим происхождением протестантизму как религиозно-этическому комплексу, обеспечивающему воспитание таких черт личности, как трудолюбие, бережливость, честность, расчетлив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ис о движущих силах экспансии капитализма (капиталистический дух – там, где он возникает и оказывает свое воздействие, он добывает необходимые ему денежные ресурсы, но не наоборо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озеф Шумпетер (1883-1950) — австрийский и американский экономист, социолог и историк экономической мыс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История экономического анализа» (195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озеф Шумпетер (1883-1950) — австрийский и американский экономист, социолог и историк экономической мыс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История экономического анализа» (195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озеф Шумпетер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ая деятельность не может рассматриваться как профессия (Предпринимательство – универсальная общеэкономическая функция любой общественной форм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функция предпринимательст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волюционизировани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редприниматель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новых комбинаций (иннов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ждествление предпринимательской функции с менеджментом в самом широком смысле сл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озеф Шумпетер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ая деятельность не может рассматриваться как профессия (Предпринимательство – универсальная общеэкономическая функция любой общественной форм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функция предпринимательст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волюционизировани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редприниматель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новых комбинаций (иннов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ждествление предпринимательской функции с менеджментом в самом широком смысле сл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гаков С. Н. (о. Сергий) - (1871-1944) - философ, экономист, публицист и богосл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боты: «Философия хозяйства» (19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родное хозяйство и религиозная личность» (19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Христианская социология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гаков С. Н. (о. Сергий) - (1871-1944) - философ, экономист, публицист и богосл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боты: «Философия хозяйства» (19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родное хозяйство и религиозная личность» (19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Христианская социология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гаков С.Н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езис: Для экономического расцвета необходимо использовать нравственный и воспитательный потенциал правосла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з благочестия неосуществимо хозяйственное богатство» (т.е. основа хозяйства должна быть духовно-нравствен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трудовой этики, основанной на этике правосла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гаков С.Н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езис: Для экономического расцвета необходимо использовать нравственный и воспитательный потенциал правосла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з благочестия неосуществимо хозяйственное богатство» (т.е. основа хозяйства должна быть духовно-нравствен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трудовой этики, основанной на этике правосла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ган-Барановский М. И. (1865 – 1919) – экономист, истори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Русская фабрика в прошлом и настоящем» (18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ган-Барановский М. И. (1865 – 1919) – экономист, истори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Русская фабрика в прошлом и настоящем» (18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ган-Барановский М.И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тезис – отличие российского промышленного капитализма от западноевропейского заключается: 1) в отсутствии докапиталистической промышленной культуры и 2) в длительном господстве крепостн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развития российского капитализма: отсутствие средней и мелкой промышленной буржуазии способствовало высокой концентрации производства в России; высокие темпы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ган-Барановский М.И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тезис – отличие российского промышленного капитализма от западноевропейского заключается: 1) в отсутствии докапиталистической промышленной культуры и 2) в длительном господстве крепостн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развития российского капитализма: отсутствие средней и мелкой промышленной буржуазии способствовало высокой концентрации производства в России; высокие темпы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етодологические подходы к исследованию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тезис – История предпринимательства – это часть экономической ис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тезис – История предпринимательства - это особая сфера п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предпринимательства – наука о закономерностях и особенностях развития предпринимательства, формах и методах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етодологические подходы к исследованию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тезис – История предпринимательства – это часть экономической ис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тезис – История предпринимательства - это особая сфера п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предпринимательства – наука о закономерностях и особенностях развития предпринимательства, формах и методах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нс Г. К. (1887-1971) – юрист, публиц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едприниматель» (Харбин,194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нс Г. К. (1887-1971) – юрист, публиц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едприниматель» (Харбин,194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нс Г.К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- разновидность хозяина, а не собственника (антрепренер, не имеющий собственности и на чужие деньги организующий спектакли – предпринимате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– новатор в хозяй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ая предпосылка для предпринимательства – предприимчивость (сообразительность, активность, способность предвидения, умение составить план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нс Г.К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- разновидность хозяина, а не собственника (антрепренер, не имеющий собственности и на чужие деньги организующий спектакли – предпринимате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– новатор в хозяй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ая предпосылка для предпринимательства – предприимчивость (сообразительность, активность, способность предвидения, умение составить план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одходы в трактовке понятия «предприниматель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финансиста – человек, организующий предприятие за счет собственных или привлеченных средств с целью получения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сихолога – человек со свободной инициативой, желающий самоутвердиться или обрести 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олитэконома – человек, который умножает не только свое, но и национальное богат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одходы в трактовке понятия «предприниматель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финансиста – человек, организующий предприятие за счет собственных или привлеченных средств с целью получения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сихолога – человек со свободной инициативой, желающий самоутвердиться или обрести 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олитэконома – человек, который умножает не только свое, но и национальное богат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акторы, способствующие развитию предпринимательства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хозяйственное новаторство (креатив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воб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льные факторы (владение капиталом, несение риска, ориентация на извлечение прибыли, готовность к конкуренции, принятие решений, лидерство и т.д.) носят вспомогатель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акторы, способствующие развитию предпринимательства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хозяйственное новаторство (креатив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воб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льные факторы (владение капиталом, несение риска, ориентация на извлечение прибыли, готовность к конкуренции, принятие решений, лидерство и т.д.) носят вспомогатель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стрийская экономиче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о (в самом общем смысле) совпадает с человеческой деятельностью, т.е. в действиях любого человека, направленных на то, чтобы изменить настоящее и достичь своих целей в будущем, содержится элемент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стрийская экономиче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о (в самом общем смысле) совпадает с человеческой деятельностью, т.е. в действиях любого человека, направленных на то, чтобы изменить настоящее и достичь своих целей в будущем, содержится элемент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чард Кантильон (ок. 1680-1734) – банкир, экономист, демогра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лся в Ирландии, работал коммерсантом в Лондоне и банкиром в Париж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Очерк о природе торговли вообще» (издан в Лондоне на французском языке в 1755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чард Кантильон (ок. 1680-1734) – банкир, экономист, демогра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лся в Ирландии, работал коммерсантом в Лондоне и банкиром в Париж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Очерк о природе торговли вообще» (издан в Лондоне на французском языке в 1755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чард Кантильон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богатства – земля и 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в оборот понятие «предприниматель» (entrepreneur) – человек, подвергающий себя риску непостоянных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личительная черта деятельности предпринимателя – риск и неопределенность: (покупает товар по определенной цене, продает – по неопределен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чард Кантильон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богатства – земля и 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в оборот понятие «предприниматель» (entrepreneur) – человек, подвергающий себя риску непостоянных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личительная черта деятельности предпринимателя – риск и неопределенность: (покупает товар по определенной цене, продает – по неопределен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м Смит (1723 – 1790) – шотландский экономист, философ-этик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логики в университете Глазго (с 175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Исследование о природе и причинах богатства народов»  (177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м Смит (1723 – 1790) – шотландский экономист, философ-этик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логики в университете Глазго (с 175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Исследование о природе и причинах богатства народов»  (177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м Смит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доктрину свободн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л предпринимателей с позиции «экономического челове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ая идея – экономика функционирует лучше, если исключить ее регулирование государством (принцип «невидимой руки рынка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м Смит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доктрину свободн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л предпринимателей с позиции «экономического челове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ая идея – экономика функционирует лучше, если исключить ее регулирование государством (принцип «невидимой руки рынка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-Батист Сэй (1767-1832) – французский экономис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политической эконо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-«Трактат политической экономии, или Простое изложение способа, которым образуются, распределяются и потребляются богатства»              (1803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-Батист Сэй (1767-1832) – французский экономис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политической эконо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-«Трактат политической экономии, или Простое изложение способа, которым образуются, распределяются и потребляются богатства»              (1803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-Батист Сэй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л важнейшие функции предпринимателя:                     а) соединение факторов производства (капитала и труд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сбор информации и накопление опы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ринятие решения и организация производстве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термин «умелость» (эффективно функционируют только те предприятия, которые ведутся умел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-Батист Сэй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л важнейшие функции предпринимателя:                     а) соединение факторов производства (капитала и труд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сбор информации и накопление опы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ринятие решения и организация производстве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термин «умелость» (эффективно функционируют только те предприятия, которые ведутся умел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(1863-1941) - немецкий экономист, социолог, философ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Современный капитализм»     (1902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(1863-1941) - немецкий экономист, социолог, философ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Современный капитализм»     (1902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CE0B1-0632-40FD-AAB7-8673EA00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E0F60-7163-4C20-87FF-A3F84AA7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17034-35AF-4DEA-BCDD-4729A226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6B274-AC82-41A8-92BB-5763A68B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041C-58EF-4915-9613-8E37EED2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919B-3B40-4174-8219-74071BFE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4E04-5DC0-4005-BD50-9285162A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1BA3-2175-4985-B00E-619CC7AD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23B9-A36F-4E99-8D0E-DE6FA9EA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EAA5-F6AE-4B17-B93E-78CAF595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4E54-B693-4EF4-9274-8A3C7437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FA306-5C52-48D6-A6D5-FFD5265F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6E13-152D-45C2-8A22-B4A8879E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910F-8D4A-4878-8628-C8706500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4C72-99A7-4D87-939C-C1446AD2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851E-03D4-4BD7-B63E-ADA1C618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FCA2-C048-4041-B840-239C32EC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B1A7D-61C8-46FD-A6BC-9ADCF620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5B917-2CA5-42D7-9435-295FB095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D3F70-EA2E-47C9-BEF2-98AD30DE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340FD-CD8E-4F90-8E86-EBBF5236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90289-F0B9-4B94-9925-8BEC1797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AA427-2074-4267-BBCF-6F9D083A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E18D5-FF9A-4388-80A7-4F0DF0ED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6C93-5545-48D0-895D-40F1CD68B1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7"/>
          <p:cNvSpPr/>
          <p:nvPr/>
        </p:nvSpPr>
        <p:spPr>
          <a:xfrm>
            <a:off x="611280" y="6308640"/>
            <a:ext cx="80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ФП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оссийск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9C66-0CD5-4A17-A5F9-9F90E439A11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рия российского        предпринимательства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1. Введение в историю предпринимательств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ологические подходы к исследованию предпринимательства в западной и российской историографии</a:t>
            </a: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ссолицын Александр Алексеевич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.э.н., профес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708360" y="4851360"/>
            <a:ext cx="1625760" cy="900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и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чества, необходимые предпринимателю для успешного ведения дела: 1)Предпринимательский дух;                                       2) Бюргерский (гражданский) ду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тип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принимателей (помимо купцов и промышленников), сформировавшиеся на заре капиталистической эпохи: разбойник, феодал-землевладел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альный тип предпринимател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спекуля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ринимательств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есть осуществление дальновидного плана, для проведения которого в жизнь требуется длительное сотрудничество нескольких лиц под объединяющим их всех руковод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ринимате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буржуа, который, если хочет иметь успех, должен осуществлять в единстве функции «завоевателя», «организатора» и «торгов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ая цель предпринимател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тремление к процветанию и росту своего дела, а подчиненная цель – рост прибы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с Вебер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864–1920)- немецкий социолог, экономист и историк культур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Протестантская этика и дух капитализма» (19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D:\Мои документы\Фото\ИРП Слайды\Max_Weber_1894[1].jpg"/>
          <p:cNvPicPr/>
          <p:nvPr/>
        </p:nvPicPr>
        <p:blipFill>
          <a:blip r:embed="rId1"/>
          <a:stretch/>
        </p:blipFill>
        <p:spPr>
          <a:xfrm>
            <a:off x="5211720" y="1981080"/>
            <a:ext cx="2911680" cy="38862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с Вебер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з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 особой роли протестантизма в развитии предпринимательст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европейский капитализм обязан своим происхождением протестантизму как религиозно-этическому комплексу, обеспечивающему воспитание таких черт личности, как трудолюбие, бережливость, честность, расчетлив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з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 движущих силах экспансии капитализма (капиталистический дух – там, где он возникает и оказывает свое воздействие, он добывает необходимые ему денежные ресурсы, но не наоборо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озеф Шумпет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83-1950) — австрийский и американский экономист, социолог и историк экономической мыс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История экономического анализа» (19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D:\Мои документы\Фото\Free%20Money[1].jpg"/>
          <p:cNvPicPr/>
          <p:nvPr/>
        </p:nvPicPr>
        <p:blipFill>
          <a:blip r:embed="rId1"/>
          <a:stretch/>
        </p:blipFill>
        <p:spPr>
          <a:xfrm>
            <a:off x="5186520" y="1981080"/>
            <a:ext cx="2962080" cy="38862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озеф Шумпетер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1844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ская деятельность не может рассматриваться как професс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едпринимательство – универсальная общеэкономическая функция любой общественной форм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ая функция предпринимательств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волюционизирование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 предпринимательской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ение новых комбинаций (инновац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ождествление предпринимательской функции с менеджментом в самом широком смысл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лгаков С. Н. (о. Сергий)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71-1944) - философ, экономист, публицист и богослов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работ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Философия хозяйства» (19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ародное хозяйство и религиозная личность» (19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Христианская социология»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D:\Мои документы\Фото\f5248d8404aa[1].jpg"/>
          <p:cNvPicPr/>
          <p:nvPr/>
        </p:nvPicPr>
        <p:blipFill>
          <a:blip r:embed="rId1"/>
          <a:stretch/>
        </p:blipFill>
        <p:spPr>
          <a:xfrm>
            <a:off x="5176800" y="1981080"/>
            <a:ext cx="2981520" cy="38862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лгаков С.Н.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218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539640" y="213372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езис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экономического расцвета необходимо использовать нравственный и воспитательный потенциал правосла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Без благочестия неосуществимо хозяйственное богатство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т.е. основа хозяйства должна быть духовно-нравствен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цепция трудовой этики, основанной на этике правосла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уган-Барановский М. 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865 – 1919) – экономист, историк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Русская фабрика в прошлом и настоящем» (18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D:\Мои документы\Фото\Baranovskij[1].jpg"/>
          <p:cNvPicPr/>
          <p:nvPr/>
        </p:nvPicPr>
        <p:blipFill>
          <a:blip r:embed="rId1"/>
          <a:stretch/>
        </p:blipFill>
        <p:spPr>
          <a:xfrm>
            <a:off x="5227560" y="1981080"/>
            <a:ext cx="2879640" cy="38862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ган-Барановский М.И.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альный тез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тличие российского промышленного капитализма от западноевропейского заключается: 1) в отсутствии докапиталистической промышленной культуры и 2) в длительном господстве крепостного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фика развития российского капитализм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сутствие средней и мелкой промышленной буржуазии способствовало высокой концентрации производства в России; высокие темпы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Методологические подходы к исследованию предприним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0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тезис – История предпринимательства – это часть экономической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тезис – История предпринимательства - это особая сфера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ределени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предпринимательства – наука о закономерностях и особенностях развития предпринимательства, формах и методах предприниматель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нс Г. К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87-1971) – юрист, публиц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редприниматель» (Харбин,1941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D:\Мои документы\Фото\Gins[1].jpg"/>
          <p:cNvPicPr/>
          <p:nvPr/>
        </p:nvPicPr>
        <p:blipFill>
          <a:blip r:embed="rId1"/>
          <a:stretch/>
        </p:blipFill>
        <p:spPr>
          <a:xfrm>
            <a:off x="5508720" y="2060640"/>
            <a:ext cx="2457360" cy="35956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нс Г.К. о предприниматель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зновидность хозяина, а не собственника (антрепренер, не имеющий собственности и на чужие деньги организующий спектакли – предпринимат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оватор в хозяй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ая предпосылка для предпринимательства – предприимчивость (сообразительность, активность, способность предвидения, умение составить план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ременные подходы в трактовке понятия «предприниматель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финансис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еловек, организующий предприятие за счет собственных или привлеченных средств с целью получ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сихоло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еловек со свободной инициативой, желающий самоутвердиться или обрести самосто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олитэконо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еловек, который умножает не только свое, но и национальное богат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сновные факторы, способствующие развитию предпринимательств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онно-хозяйственное новаторство (креатив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еская своб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льные факторы (владение капиталом, несение риска, ориентация на извлечение прибыли, готовность к конкуренции, принятие решений, лидерство и т.д.) носят вспомогатель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стрийская экономическая ш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приниматель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в самом общем смысле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падает с человеческой деятельнос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.е. в действиях любого человека, направленных на то, чтобы изменить настоящее и достичь своих целей в будущем, содержится элемент предприним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чард Кантильо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к. 1680-1734) – банкир, экономист, демогра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лся в Ирландии, работал коммерсантом в Лондоне и банкиром в Пари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руд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Очерк о природе торговли вообще» (издан в Лондоне на французском языке в 1755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одержимое 4" descr="377px-Cant[1].jpg"/>
          <p:cNvPicPr/>
          <p:nvPr/>
        </p:nvPicPr>
        <p:blipFill>
          <a:blip r:embed="rId1"/>
          <a:stretch/>
        </p:blipFill>
        <p:spPr>
          <a:xfrm>
            <a:off x="5445000" y="1981080"/>
            <a:ext cx="2444760" cy="38862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чард Кантильон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0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 богатства – земля и т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л в оборот понятие «предприниматель»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preneu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человек, подвергающий себя риску непостоянных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ичительная черта деятельности предпринимателя – риск и неопределенность: (покупает товар по определенной цене, продает – по неопределен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дам Сми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723 – 1790) – шотландский экономист, философ-эти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 логики в университете Глазго (с 1751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руд 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сследование о природе и причинах богатства народов»  (1776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одержимое 4" descr="AdamSmith.jpg"/>
          <p:cNvPicPr/>
          <p:nvPr/>
        </p:nvPicPr>
        <p:blipFill>
          <a:blip r:embed="rId1"/>
          <a:stretch/>
        </p:blipFill>
        <p:spPr>
          <a:xfrm>
            <a:off x="5365800" y="1981080"/>
            <a:ext cx="2603520" cy="38862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дам Смит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л доктрин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бодного предприним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арактеризовал предпринимателей с пози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экономического чело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ая идея – экономика функционирует лучше, если исключить ее регулирование государством (принцип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невидимой руки рынк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н-Батист Сэ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767-1832) – французский экономис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 политической эконо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руд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Трактат политической экономии, или Простое изложение способа, которым образуются, распределяются и потребляются богатства»              (1803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D:\Мои документы\Фото\say.jpg"/>
          <p:cNvPicPr/>
          <p:nvPr/>
        </p:nvPicPr>
        <p:blipFill>
          <a:blip r:embed="rId1"/>
          <a:stretch/>
        </p:blipFill>
        <p:spPr>
          <a:xfrm>
            <a:off x="5200560" y="1981080"/>
            <a:ext cx="2933640" cy="3886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н-Батист Сэй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ил важнейшие функции предпринимател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а) соединение факторов производства (капитала и труд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бор информации и накопление опы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ринятие решения и организация производствен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л терми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умелость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эффективно функционируют только те предприятия, которые ведутся уме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рнер Зомбар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63-1941) - немецкий экономист, социолог, филосо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труд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Современный капитализм»     (1902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D:\Мои документы\Фото\ИРП Слайды\Verner[1].jpg"/>
          <p:cNvPicPr/>
          <p:nvPr/>
        </p:nvPicPr>
        <p:blipFill>
          <a:blip r:embed="rId1"/>
          <a:stretch/>
        </p:blipFill>
        <p:spPr>
          <a:xfrm>
            <a:off x="5025960" y="1981080"/>
            <a:ext cx="3282840" cy="38862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17:36:08Z</dcterms:created>
  <dc:creator>Admin</dc:creator>
  <dc:description/>
  <dc:language>en-US</dc:language>
  <cp:lastModifiedBy>LEGION</cp:lastModifiedBy>
  <dcterms:modified xsi:type="dcterms:W3CDTF">2016-01-05T12:44:40Z</dcterms:modified>
  <cp:revision>91</cp:revision>
  <dc:subject/>
  <dc:title>История российского предпринимательства</dc:title>
</cp:coreProperties>
</file>