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14D9-C0CC-42F5-B063-DE54FBE070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ИДЕНЦИАЛЬНО: УСТАНОВЛЕНИЕ ПРОГРАММЫ ЗАЩИТЫ КОММЕРЧЕСКИХ ТАЙН B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ю.н. Янушаускайте Кристи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ИС Программа обуч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еров (экспертов) по ИС для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 – 20 августа,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ИДЕНЦИАЛЬНО: УСТАНОВЛЕНИЕ ПРОГРАММЫ ЗАЩИТЫ КОММЕРЧЕСКИХ ТАЙН B КОМП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ю.н. Янушаускайте Кристи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ИС Программа обуч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еров (экспертов) по ИС для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 – 20 августа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ть программу управления коммерческих тай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и, которых компания должна предприня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обучать всех сотрудников в вопросах, связанных с безопасностью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– проявлять должную осмотрительность, нанимая сотрудника вашего конкурента, и в отношении вашего сотрудника, который оставляет комп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 - включать разумные ограничения в письменной форме во все контр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здать программу управления коммерческих тай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и, которых компания должна предприня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- обучать всех сотрудников в вопросах, связанных с безопасностью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– проявлять должную осмотрительность, нанимая сотрудника вашего конкурента, и в отношении вашего сотрудника, который оставляет комп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- включать разумные ограничения в письменной форме во все контра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ть программу управления коммерческих тай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и, которых компания должна предприня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- ограничить доступ к бумажным отче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- отмечать доку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- обеспечивать конфиденциальность в помещении оф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- поддерживать тайну компьюте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- охранять тайну, которая разделена с партне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здать программу управления коммерческих тай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и, которых компания должна предприня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- ограничить доступ к бумажным отчет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 - отмечать докуме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 - обеспечивать конфиденциальность в помещении офи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 - поддерживать тайну компьюте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 - охранять тайну, которая разделена с партнер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ть программу управления коммерческих тайн?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должна была сделать компания A, чтобы ее сотрудник А (позже нанятый конкурирующей компанией O) не взял с ним 'знание', которое было секретным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алуйста объясните возможные схемы защиты такой коммерческой тайны как определенный химический состав, который используются для изготовления ш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здать программу управления коммерческих тайн?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должна была сделать компания A, чтобы ее сотрудник А (позже нанятый конкурирующей компанией O) не взял с ним 'знание', которое было секретным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жалуйста объясните возможные схемы защиты такой коммерческой тайны как определенный химический состав, который используются для изготовления ш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конное завладение коммерческих тайн: определ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праведливое приобретение коммерческой тайны воровством, мошенничеством, принуждением или любыми другими противоправными действ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тение коммерческой тайны, зная (или будучи чрезвычайно небрежным в подвождении знать), что это было незаконно приобретено преж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инно приобретая коммерческую тайну, но используя или разглашая ее после изучения более раннего незаконного приобрет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или разглашение коммерческой тайны в нарушении договорного обяз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конное завладение коммерческих тайн: опреде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праведливое приобретение коммерческой тайны воровством, мошенничеством, принуждением или любыми другими противоправными действ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бретение коммерческой тайны, зная (или будучи чрезвычайно небрежным в подвождении знать), что это было незаконно приобретено преж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инно приобретая коммерческую тайну, но используя или разглашая ее после изучения более раннего незаконного приобре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или разглашение коммерческой тайны в нарушении договорного обяза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коммерческие тайны становятся украденн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трудник А объяснил генеральному директору компании O, что он нашел описание химического состава, используемого для изготовления шин, в мусорном ведре для бумаги в компании A. Он сравнил эту информацию с информацией, которую он мог найти в компьютерах компании A. Генеральный директор компании O был удивлен, как сотрудник А мог получить доступ к такой информации, если он нуждался в пароле. Сотрудник объяснил, что он ‘взял’ этот пароль от своего коллеги, который фактически 'взломал'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прокомментируете такое объясн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коммерческие тайны становятся украденны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трудник А объяснил генеральному директору компании O, что он нашел описание химического состава, используемого для изготовления шин, в мусорном ведре для бумаги в компании A. Он сравнил эту информацию с информацией, которую он мог найти в компьютерах компании A. Генеральный директор компании O был удивлен, как сотрудник А мог получить доступ к такой информации, если он нуждался в пароле. Сотрудник объяснил, что он ‘взял’ этот пароль от своего коллеги, который фактически 'взломал' 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прокомментируете такое объяснени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коммерческих та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ольшинстве стран нет определенных законов о коммерческих тай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установле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гражданским законам (Узбекиста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законам о нечестной конкуренции (например, в Герман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ным правом (во многих стран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ым правом (например, в странах Европейского Союза, США, Росс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коммерческих тай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большинстве стран нет определенных законов о коммерческих тай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установлен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гражданским законам (Узбекиста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законам о нечестной конкуренции (например, в Герман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говорным правом (во многих страна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оловным правом (например, в странах Европейского Союза, США, Росс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установить нарушение коммерческих тай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жде всего, ответить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Действительно ли информация была тай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Были ли предприняты разумные шаги, чтобы поддержать эту информацию в тай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Было ли нарушение прав или конкурентоспособное преимущество, полученное другой компанией или человеком незаконно приобретшим коммерческую тайн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- Было ли неправильное употребление информации, которая была незаконно приобретена или разглашена в нарушении честной практики ведения бизнес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установить нарушение коммерческих тай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жде всего, ответить на 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- Действительно ли информация была тайно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- Были ли предприняты разумные шаги, чтобы поддержать эту информацию в тайн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- Было ли нарушение прав или конкурентоспособное преимущество, полученное другой компанией или человеком незаконно приобретшим коммерческую тайн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- Было ли неправильное употребление информации, которая была незаконно приобретена или разглашена в нарушении честной практики ведения бизнес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юридической защиты: самые обыч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е суда остановить дальнейшее использования и получения вы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ушение незаконно приобретенной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е суда признать убытки (фактическое повреждение, потеря прибыли или несправедливого обогащ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искация и поиск в помещении ответчика, чтобы получить свиде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 юридической защиты: самые обыч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новление суда остановить дальнейшее использования и получения выг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ушение незаконно приобретенной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новление суда признать убытки (фактическое повреждение, потеря прибыли или несправедливого обогащ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искация и поиск в помещении ответчика, чтобы получить свиде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дит коммерческих тайн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ральный директор компании О планирует сделать аудит коммерческих тайн своей компании. Он желает поговорить с отделом кадров и управления об этом. Но сначала он хочет узнать, что точно означает такой 'аудит'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можете помочь генеральному директору и объяснить эт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дит коммерческих тайн комп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ральный директор компании О планирует сделать аудит коммерческих тайн своей компании. Он желает поговорить с отделом кадров и управления об этом. Но сначала он хочет узнать, что точно означает такой 'аудит'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 можете помочь генеральному директору и объяснить э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ый список шаг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Установить существенные коммерческие тайны в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Проверить право компании на данные коммерческие тай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Проверить, чтобы процедуры конфиденциальности  были сопровожде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- Проверить, чтобы  сотрудники компании, консультанты, продавцы, клиенты и другие третьи лица не разглашали коммерческие тайны третьим лиц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ный список шагов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- Установить существенные коммерческие тайны в компа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- Проверить право компании на данные коммерческие тай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- Проверить, чтобы процедуры конфиденциальности  были сопровожд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- Проверить, чтобы  сотрудники компании, консультанты, продавцы, клиенты и другие третьи лица не разглашали коммерческие тайны третьим лиц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'коммерческая тайна'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 и характерные крите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защищать коммерческую тайн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и неудобства защиты коммерческих та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ть программу управления коммерческими тайн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конное завладение коммерческими тайнами: как это запретить и каковы системы защит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е коммерческих тайн: как это установить и каковы средства юридической защит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оводить аудит коммерческих тай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'коммерческая тайна'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 и характерные крите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защищать коммерческую тайн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 и неудобства защиты коммерческих тай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здать программу управления коммерческими тайна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конное завладение коммерческими тайнами: как это запретить и каковы системы защит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ушение коммерческих тайн: как это установить и каковы средства юридической защит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оводить аудит коммерческих тай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АСИБО!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ОПРОСЫ?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!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ОПРОСЫ?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'коммерческая тайна'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трудник А (инженер), который работал в компании A в бизнесе автомобилей, был нанят компанией О, которая изготавливает шины для автомобилей. В течение первой недели работы в компанией О сотрудник улучшил химический состав, который используется для изготовления шин. Генеральный директор компании О спросил сотрудника А, как он сделал это усовершенствование. Сотрудник А сказал, что это знание он имеет от предыдущей компании, где он работал. Генеральный директор был удивлен и спросил, не была ли такая информация секретной. Сотрудник А сказал, что он никогда не слышал не о чем ' секретном'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'коммерческая тайна'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трудник А (инженер), который работал в компании A в бизнесе автомобилей, был нанят компанией О, которая изготавливает шины для автомобилей. В течение первой недели работы в компанией О сотрудник улучшил химический состав, который используется для изготовления шин. Генеральный директор компании О спросил сотрудника А, как он сделал это усовершенствование. Сотрудник А сказал, что это знание он имеет от предыдущей компании, где он работал. Генеральный директор был удивлен и спросил, не была ли такая информация секретной. Сотрудник А сказал, что он никогда не слышал не о чем ' секретном'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ая тайна – это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 (технологическая, коммерческая, финансовая, стратегическая, логистическая, научная, и т.д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является общеизвестной ни для общество, ни для других соответствующих круг бизне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коммерческую ценность ее владельцу из-за факта, что это является секретн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лежит разумным усилиям поддержать тайну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ерческая тайна – это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(технологическая, коммерческая, финансовая, стратегическая, логистическая, научная, и т.д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является общеизвестной ни для общество, ни для других соответствующих круг бизне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коммерческую ценность ее владельцу из-за факта, что это является секретн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лежит разумным усилиям поддержать тайну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рческая тайна” в Узбекском законодательстве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м законодательством защищается информация, составляющая служебную и коммерческую тайну, в случае, когда информация имеет действительную или потенциальную коммерческую ценность в силу неизвестности ее третьим лицам, к ней нет свободного доступа на законном основании и обладатель информации принимает меры к охране ее конфиденциальности (ст. 98 ГК РУз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ерческая тайна” в Узбекском законодательстве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ским законодательством защищается информация, составляющая служебную и коммерческую тайну, в случае, когда информация имеет действительную или потенциальную коммерческую ценность в силу неизвестности ее третьим лицам, к ней нет свободного доступа на законном основании и обладатель информации принимает меры к охране ее конфиденциальности (ст. 98 ГК РУз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нные проце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Химические) формулы: напитки, пища, косметика, лекарства,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ное обеспе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ы и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дуры испыт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етинг, развитие и исследование, стратегические пл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ицательная информация (процессы, которые не работали, и т.д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ки клиентов и информация о клиент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и информация зат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е идеи, методы,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й знаменитый пример: формула напитков Coca-Co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енные процес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Химические) формулы: напитки, пища, косметика, лекарства,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ное обесп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ы и мод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спы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, развитие и исследование, стратегические пл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ицательная информация (процессы, которые не работали, и т.д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ки клиентов и информация о клиен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и информация затр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идеи, методы,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ый знаменитый пример: формула напитков Coca-C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ормула напитков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ca-Co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Формула напитков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ca-C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 и неудобства защиты коммерческих тайн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а и неудобства защиты коммерческих тайн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ть программу управления коммерческих тай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ги, которых компания должна предприня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установить систему идентификации коммерческих тай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развивать политику в области безопасности относительно информации, которая включает информацию о коммерческих тайнах (физический, административный и технический контро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оздать программу управления коммерческих тай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и, которых компания должна предприня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- установить систему идентификации коммерческих тай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- развивать политику в области безопасности относительно информации, которая включает информацию о коммерческих тайнах (физический, административный и технический контрол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A696-5F19-4C1E-8575-36C6A5584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FBF1-BCD9-4B79-80FB-B960A22D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965E-828C-4765-A4A8-4D32F093B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B5A1-FB35-4C22-BCFD-5EC31D456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2189-E15D-4BDC-89FF-82D9E28E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5AD1-66D8-4D29-98E8-1CA2D62B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9D28-995F-45A6-AD1D-0FB2D81D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DE56-EA81-41B5-9475-9B1B2960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A453-B53B-429F-8F8D-5D8FF56E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DDAB-6BD3-4EC0-BCC3-6CA93D5A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4638-0EB9-4A03-B9B5-3E240056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4F35-FC0D-4033-A15A-4129A4F7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91BA-DBF4-4AAE-BF5B-EA3DAD31F243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D1CA-A67D-4BBE-9A2D-CCD4D14FC7EE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3141360"/>
            <a:ext cx="770256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КОНФИДЕНЦИАЛЬНО</a:t>
            </a:r>
            <a:r>
              <a:rPr b="1" lang="en-GB" sz="3200" spc="-1" strike="noStrike">
                <a:solidFill>
                  <a:srgbClr val="003300"/>
                </a:solidFill>
                <a:latin typeface="Arial"/>
              </a:rPr>
              <a:t>:</a:t>
            </a: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УСТАНОВЛЕНИЕ ПРОГРАММЫ ЗАЩИТЫ КОММЕРЧЕСКИХ ТАЙН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 B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КОМПАН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73372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.ю.н. Янушаускайте Кристин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ИС Программа обучени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ренеров (экспертов) по ИС для бизнес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6 – 20 августа, 201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создать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грамму управле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оммерческих тайн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142720" y="1268280"/>
            <a:ext cx="70009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Шаги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которых компания должна предпринять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3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учать всех сотрудников в вопросах, связанных с безопасностью информ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4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являть должную осмотрительность, нанимая сотрудника вашего конкурента, и в отношении вашего сотрудника, который оставляет компан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5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ключать разумные ограничения в письменной форме во все контрак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tradesecrets"/>
          <p:cNvPicPr/>
          <p:nvPr/>
        </p:nvPicPr>
        <p:blipFill>
          <a:blip r:embed="rId1"/>
          <a:stretch/>
        </p:blipFill>
        <p:spPr>
          <a:xfrm>
            <a:off x="4643280" y="4941720"/>
            <a:ext cx="1833840" cy="169236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создать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грамму управле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оммерческих тайн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142720" y="1413000"/>
            <a:ext cx="70009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Шаги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которых компания должна предпринять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6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граничить доступ к бумажным отчет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7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мечать докумен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8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еспечивать конфиденциальность в помещении офи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9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держивать тайну компьютер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0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хранять тайну, которая разделена с партнер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image_2[1]"/>
          <p:cNvPicPr/>
          <p:nvPr/>
        </p:nvPicPr>
        <p:blipFill>
          <a:blip r:embed="rId1"/>
          <a:stretch/>
        </p:blipFill>
        <p:spPr>
          <a:xfrm>
            <a:off x="4067280" y="5229360"/>
            <a:ext cx="2076480" cy="143964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Как создать </a:t>
            </a: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программу управления</a:t>
            </a: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 коммерческих тайн?</a:t>
            </a:r>
            <a:r>
              <a:rPr b="0" lang="ru-RU" sz="3600" spc="-1" strike="noStrike">
                <a:solidFill>
                  <a:srgbClr val="eeece1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1773000"/>
            <a:ext cx="822960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должна была сделать компания A, чтобы ее сотрудник А (позже нанятый конкурирующей компанией O) не взял с ним 'знание', которое было секретным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жалуйста объясните возможные схемы защиты такой коммерческой тайны как определенный химический состав, который используются для изготовления ши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5" descr="Car_Tyres"/>
          <p:cNvPicPr/>
          <p:nvPr/>
        </p:nvPicPr>
        <p:blipFill>
          <a:blip r:embed="rId2"/>
          <a:stretch/>
        </p:blipFill>
        <p:spPr>
          <a:xfrm>
            <a:off x="3276720" y="4797360"/>
            <a:ext cx="2431800" cy="17366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Незаконное завладение</a:t>
            </a:r>
            <a:r>
              <a:rPr b="0" lang="ru-RU" sz="3200" spc="-1" strike="noStrike">
                <a:solidFill>
                  <a:srgbClr val="eeece1"/>
                </a:solidFill>
                <a:latin typeface="Calibri"/>
              </a:rPr>
              <a:t> коммерческих тайн</a:t>
            </a:r>
            <a:r>
              <a:rPr b="0" lang="en-GB" sz="3200" spc="-1" strike="noStrike">
                <a:solidFill>
                  <a:srgbClr val="eeece1"/>
                </a:solidFill>
                <a:latin typeface="Calibri"/>
              </a:rPr>
              <a:t>: определени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773000"/>
            <a:ext cx="822960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справедливое приобретение коммерческой тайн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ровством, мошенничеством, принуждением или любыми другими противоправными действия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обретение коммерческой тайны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ная (или будучи чрезвычайно небрежным в подвождении знать), что это было незаконно приобретено преж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винно приобрета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коммерческую тайну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о используя или разглашая ее после изучения более раннего незаконного приобрет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ование или разглашение коммерческой тайны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нарушении договорного обязатель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915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eece1"/>
                </a:solidFill>
                <a:latin typeface="Calibri"/>
              </a:rPr>
              <a:t>Как коммерческие тайны становятся украденным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539640" y="2060640"/>
            <a:ext cx="8209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трудник А объяснил генеральному директору компании O, что он нашел описание химического состава, используемого для изготовления шин, в мусорном ведре для бумаги в компании A. Он сравнил эту информацию с информацией, которую он мог найти в компьютерах компании A. Генеральный директор компании O был удивлен, как сотрудник А мог получить доступ к такой информации, если он нуждался в пароле. Сотрудник объяснил, что он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я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от пароль от своего коллеги, который фактически 'взломал'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ак Вы прокомментируете такое объясн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Car_Tyres"/>
          <p:cNvPicPr/>
          <p:nvPr/>
        </p:nvPicPr>
        <p:blipFill>
          <a:blip r:embed="rId2"/>
          <a:stretch/>
        </p:blipFill>
        <p:spPr>
          <a:xfrm>
            <a:off x="3348000" y="5454720"/>
            <a:ext cx="2432160" cy="14032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щита коммерческих тай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143080" y="1413000"/>
            <a:ext cx="6532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большинстве стран нет определенных законов о коммерческих тайн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щита установлен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гласно гражданским законам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Узбекиста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гласно законам 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честной конкуренции (например, в Германи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говорным правом (во многих странах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головным правом (например, в странах Европейского Союза, США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Росси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95280" y="404640"/>
            <a:ext cx="6624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установить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нарушение коммерческих тайн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050920" y="1341000"/>
            <a:ext cx="68421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ежде всего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ветить на вопрос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- Действительно ли информация была тайно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 - Были ли предприняты разумные шаги, чтобы поддержать эту информацию в тайне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 - Было ли нарушение прав или конкурентоспособное преимущество, полученное другой компанией или человеком незаконно приобретшим коммерческую тайн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 - Было ли неправильное употребление информации, которая была незаконно приобретена или разглашена в нарушении честной практики ведения бизнес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915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eece1"/>
                </a:solidFill>
                <a:latin typeface="Calibri"/>
              </a:rPr>
              <a:t>Средства юридической защиты</a:t>
            </a:r>
            <a:r>
              <a:rPr b="0" lang="en-GB" sz="4000" spc="-1" strike="noStrike">
                <a:solidFill>
                  <a:srgbClr val="eeece1"/>
                </a:solidFill>
                <a:latin typeface="Calibri"/>
              </a:rPr>
              <a:t>: </a:t>
            </a:r>
            <a:r>
              <a:rPr b="0" lang="fr-CA" sz="4000" spc="-1" strike="noStrike">
                <a:solidFill>
                  <a:srgbClr val="eeece1"/>
                </a:solidFill>
                <a:latin typeface="Calibri"/>
              </a:rPr>
              <a:t>самы</a:t>
            </a:r>
            <a:r>
              <a:rPr b="0" lang="ru-RU" sz="4000" spc="-1" strike="noStrike">
                <a:solidFill>
                  <a:srgbClr val="eeece1"/>
                </a:solidFill>
                <a:latin typeface="Calibri"/>
              </a:rPr>
              <a:t>е</a:t>
            </a:r>
            <a:r>
              <a:rPr b="0" lang="fr-CA" sz="4000" spc="-1" strike="noStrike">
                <a:solidFill>
                  <a:srgbClr val="eeece1"/>
                </a:solidFill>
                <a:latin typeface="Calibri"/>
              </a:rPr>
              <a:t> обычны</a:t>
            </a:r>
            <a:r>
              <a:rPr b="0" lang="ru-RU" sz="4000" spc="-1" strike="noStrike">
                <a:solidFill>
                  <a:srgbClr val="eeece1"/>
                </a:solidFill>
                <a:latin typeface="Calibri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773000"/>
            <a:ext cx="822960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тановление суд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тановить дальнейшее использования и получения выг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рушени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законно приобретенной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дук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тановление суд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знать убытки (фактическое повреждение, потеря прибыли или несправедливого обогащени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нфискация и поис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помещении ответчика, чтобы получить свидетель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915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eece1"/>
                </a:solidFill>
                <a:latin typeface="Calibri"/>
              </a:rPr>
              <a:t>Аудит коммерческих тайн компан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2864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неральный директор компании О планирует сделать аудит коммерческих тайн своей компании. Он желает поговорить с отделом кадров и управления об этом. Но сначала он хочет узнать, что точно означает такой 'аудит'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ы можете помочь генеральному директору и объяснить эт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documents"/>
          <p:cNvPicPr/>
          <p:nvPr/>
        </p:nvPicPr>
        <p:blipFill>
          <a:blip r:embed="rId2"/>
          <a:stretch/>
        </p:blipFill>
        <p:spPr>
          <a:xfrm>
            <a:off x="468360" y="3500280"/>
            <a:ext cx="3600360" cy="2737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lock3"/>
          <p:cNvPicPr/>
          <p:nvPr/>
        </p:nvPicPr>
        <p:blipFill>
          <a:blip r:embed="rId3"/>
          <a:stretch/>
        </p:blipFill>
        <p:spPr>
          <a:xfrm>
            <a:off x="4859280" y="3500280"/>
            <a:ext cx="3456000" cy="273708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915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eece1"/>
                </a:solidFill>
                <a:latin typeface="Calibri"/>
              </a:rPr>
              <a:t>Контрольный список</a:t>
            </a:r>
            <a:r>
              <a:rPr b="0" lang="en-GB" sz="40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eeece1"/>
                </a:solidFill>
                <a:latin typeface="Calibri"/>
              </a:rPr>
              <a:t>шагов</a:t>
            </a:r>
            <a:r>
              <a:rPr b="0" lang="en-GB" sz="4000" spc="-1" strike="noStrike">
                <a:solidFill>
                  <a:srgbClr val="eeece1"/>
                </a:solidFill>
                <a:latin typeface="Calibri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000" y="1773360"/>
            <a:ext cx="8218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- Установить существенные коммерческие тайны в компан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 - Проверить право компании на данные коммерческие тай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 - Проверить, чтобы процедуры конфиденциальности  были сопровожде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 - Проверить, чтобы  сотрудники компании, консультанты, продавцы, клиенты и другие третьи лица не разглашали коммерческие тайны третьим лиц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eece1"/>
                </a:solidFill>
                <a:latin typeface="Calibri"/>
              </a:rPr>
              <a:t>Пл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835280" y="189000"/>
            <a:ext cx="7129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такое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'коммерческая тайн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'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рода и характерные критер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чему защищать коммерческую тайну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имущества и неудобства защиты коммерческих тай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создат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грамму управлен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оммерческими тайнам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законное завладе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оммерческими тайнами: как это запретить и каковы системы защит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рушени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мерческих тайн: как это установить и каковы средства юридической защит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проводит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удит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мерческих тайн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3141360"/>
            <a:ext cx="770256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СПАСИБО!</a:t>
            </a: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ВОПРОСЫ</a:t>
            </a:r>
            <a:r>
              <a:rPr b="1" lang="en-GB" sz="3200" spc="-1" strike="noStrike">
                <a:solidFill>
                  <a:srgbClr val="003300"/>
                </a:solidFill>
                <a:latin typeface="Arial"/>
              </a:rPr>
              <a:t>?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eece1"/>
                </a:solidFill>
                <a:latin typeface="Arial"/>
              </a:rPr>
              <a:t>Что такое 'коммерческая тайна'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700280"/>
            <a:ext cx="822960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трудник А (инженер), который работал в компании 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бизнесе автомобилей, был нанят компанией О, которая изготавливает шины для автомобилей. В течение первой недели работы в компанией О сотрудник улучшил химический состав, который используется для изготовления шин. Генеральный директор компании О спросил сотрудника А, как он сделал это усовершенствование. Сотрудник А сказал, что это знание он имеет от предыдущей компании, где он работал. Генеральный директор был удивлен и спросил, не была ли такая информация секретной. Сотрудник А сказа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он никогда не слышал не о чем ' секретном'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Car_Tyres"/>
          <p:cNvPicPr/>
          <p:nvPr/>
        </p:nvPicPr>
        <p:blipFill>
          <a:blip r:embed="rId2"/>
          <a:stretch/>
        </p:blipFill>
        <p:spPr>
          <a:xfrm>
            <a:off x="971640" y="4941720"/>
            <a:ext cx="2431800" cy="1737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Car_Tyres"/>
          <p:cNvPicPr/>
          <p:nvPr/>
        </p:nvPicPr>
        <p:blipFill>
          <a:blip r:embed="rId3"/>
          <a:stretch/>
        </p:blipFill>
        <p:spPr>
          <a:xfrm>
            <a:off x="6012000" y="4869000"/>
            <a:ext cx="2431800" cy="173664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eece1"/>
                </a:solidFill>
                <a:latin typeface="Arial"/>
              </a:rPr>
              <a:t>Коммерческая тайна – это</a:t>
            </a:r>
            <a:r>
              <a:rPr b="0" lang="en-GB" sz="3600" spc="-1" strike="noStrike">
                <a:solidFill>
                  <a:srgbClr val="eeece1"/>
                </a:solidFill>
                <a:latin typeface="Arial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Информация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технологическая, коммерческая, финансовая, стратегическая, логистическая, научная, и т.д.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Не является общеизвестно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и для общество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и для других соответствующих круг бизнес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меет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коммерческую ценнос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е владельцу из-за факта, что это является секретной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лежит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разумным усилиям поддержа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тайну информ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eece1"/>
                </a:solidFill>
                <a:latin typeface="Arial"/>
              </a:rPr>
              <a:t>“</a:t>
            </a:r>
            <a:r>
              <a:rPr b="0" lang="ru-RU" sz="3600" spc="-1" strike="noStrike">
                <a:solidFill>
                  <a:srgbClr val="eeece1"/>
                </a:solidFill>
                <a:latin typeface="Arial"/>
              </a:rPr>
              <a:t>Коммерческая тайна</a:t>
            </a:r>
            <a:r>
              <a:rPr b="0" lang="en-GB" sz="3600" spc="-1" strike="noStrike">
                <a:solidFill>
                  <a:srgbClr val="eeece1"/>
                </a:solidFill>
                <a:latin typeface="Arial"/>
              </a:rPr>
              <a:t>” </a:t>
            </a:r>
            <a:r>
              <a:rPr b="0" lang="ru-RU" sz="3600" spc="-1" strike="noStrike">
                <a:solidFill>
                  <a:srgbClr val="eeece1"/>
                </a:solidFill>
                <a:latin typeface="Arial"/>
              </a:rPr>
              <a:t>в Узбекском законодательстве</a:t>
            </a:r>
            <a:r>
              <a:rPr b="0" lang="en-GB" sz="3600" spc="-1" strike="noStrike">
                <a:solidFill>
                  <a:srgbClr val="eeece1"/>
                </a:solidFill>
                <a:latin typeface="Arial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ражданским законодательством защищается информация, составляющая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служебную и коммерческую тайну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в случае, когда информация имеет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ействительную или потенциальную коммерческую ценнос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силу неизвестности ее третьим лицам, к ней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т свободного доступ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а законном основании и обладатель информации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нимает меры к охран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е конфиденциальност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ст. 98 ГК РУз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5444640"/>
            <a:ext cx="89647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eece1"/>
                </a:solidFill>
                <a:latin typeface="Calibri"/>
              </a:rPr>
              <a:t>Приме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142720" y="333000"/>
            <a:ext cx="6543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водственные процесс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Химические) формулы: напитки, пища, косметика, лекарства, и т.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граммное обеспеч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екты и моде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цедуры испыт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ркетинг, развитие и исследование, стратегические пла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рицательная информация (процессы, которые не работал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т.д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иски клиентов и информация о клиент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ны и информация затр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вые идеи, методы, понят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buClr>
                <a:srgbClr val="6699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ый знаменитый пример: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формула напитков Coca-Co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5444640"/>
            <a:ext cx="89647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eece1"/>
                </a:solidFill>
                <a:latin typeface="Calibri"/>
              </a:rPr>
              <a:t>Приме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142720" y="333000"/>
            <a:ext cx="6543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Формула напитков Coca-Co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coke460"/>
          <p:cNvPicPr/>
          <p:nvPr/>
        </p:nvPicPr>
        <p:blipFill>
          <a:blip r:embed="rId1"/>
          <a:stretch/>
        </p:blipFill>
        <p:spPr>
          <a:xfrm>
            <a:off x="2195640" y="981000"/>
            <a:ext cx="3743280" cy="2016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coca-cola-two-guys"/>
          <p:cNvPicPr/>
          <p:nvPr/>
        </p:nvPicPr>
        <p:blipFill>
          <a:blip r:embed="rId2"/>
          <a:stretch/>
        </p:blipFill>
        <p:spPr>
          <a:xfrm>
            <a:off x="2195640" y="3174840"/>
            <a:ext cx="4824360" cy="2918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CokeSecretIngredient"/>
          <p:cNvPicPr/>
          <p:nvPr/>
        </p:nvPicPr>
        <p:blipFill>
          <a:blip r:embed="rId3"/>
          <a:stretch/>
        </p:blipFill>
        <p:spPr>
          <a:xfrm>
            <a:off x="6443640" y="907920"/>
            <a:ext cx="2432160" cy="35290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3588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Calibri"/>
              </a:rPr>
              <a:t>Преимущества и неудобства защиты коммерческих тайн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95280" y="1844640"/>
          <a:ext cx="8497800" cy="4938840"/>
        </p:xfrm>
        <a:graphic>
          <a:graphicData uri="http://schemas.openxmlformats.org/drawingml/2006/table">
            <a:tbl>
              <a:tblPr/>
              <a:tblGrid>
                <a:gridCol w="3990960"/>
                <a:gridCol w="4506840"/>
              </a:tblGrid>
              <a:tr h="55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имуще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удобст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 регистрации, меньше затрат, непосредственный эффе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удно поддерживать в течение более длительного пери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9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 необходимости удовлетворить требование новизны или оригинальности, и т.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граниченные возможности защиты, трудное осуществление пра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 необходимости раскры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 возможности остановить других от изобретения того же самого продукта или процес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ограниченное время защи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669900"/>
                        </a:buClr>
                        <a:buFont typeface="Calibri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т защиты тогда, когда информация обнаружена справедливыми и честными средствами, например, обратное проектир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создать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грамму управле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оммерческих тайн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143080" y="1557000"/>
            <a:ext cx="675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Шаги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которых компания должна предпринять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ановить систему идентификации коммерческих тай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2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вать политику в области безопасности относительно информации, которая включает информацию о коммерческих тайнах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зический, административный и технический контроль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secret"/>
          <p:cNvPicPr/>
          <p:nvPr/>
        </p:nvPicPr>
        <p:blipFill>
          <a:blip r:embed="rId1"/>
          <a:stretch/>
        </p:blipFill>
        <p:spPr>
          <a:xfrm>
            <a:off x="3851280" y="4365720"/>
            <a:ext cx="2592360" cy="223200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2T10:48:15Z</dcterms:created>
  <dc:creator> </dc:creator>
  <dc:description/>
  <dc:language>en-US</dc:language>
  <cp:lastModifiedBy>LEGION</cp:lastModifiedBy>
  <dcterms:modified xsi:type="dcterms:W3CDTF">2016-01-05T12:44:33Z</dcterms:modified>
  <cp:revision>43</cp:revision>
  <dc:subject/>
  <dc:title>PRESENTATION  NAME</dc:title>
</cp:coreProperties>
</file>