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85D5-ACCE-4C54-BD92-4C0FE329D6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CA6-F004-4675-A0AF-4FD918FD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1E9-67DA-4EB4-9098-CC6EEB6B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AE0-E279-4CF8-8D02-19C4C5EA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16B-04DD-4402-B473-3B3E1F82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0C21-DE77-431B-813C-8CE282BC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B62B-CE52-4EF5-AD4A-A4E16456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E33C-EEF9-413C-9F6B-C91AD28B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B33A-5E1F-406F-B0E4-19BED625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BF33-F22B-4A6E-A6EE-8A87775F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2697-2371-43A7-971C-93968921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5494-7558-4D19-80A6-EA5B4917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646-5AB0-4C77-AB2E-A268771D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83C6-EEF4-4771-B697-CA2C7DB0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4F5B-BBB3-48D0-849C-B49D9CF7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7890-3C09-42E3-A666-B686399A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32D7-0D5D-4428-86B4-7BBEB9B2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1093-A85E-4801-9BFF-F38A5C5B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5C07-5C80-4B18-97DF-D9DA660F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9BF4B-92AD-4082-8F11-9C926E9F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2E23-FB06-4C49-83DF-64E30B10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EFDB-057E-4ADD-B98F-6B7F1275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3901-EA99-400B-8C80-BBC5C19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D0B-DCF8-41C4-A7FE-BB9B635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0278-7184-4046-A477-8775F5B0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A5BC-4801-4F7F-85F2-8EC2345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CFA5-3A70-46AE-8C0F-F3401C8B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63C3-27E3-4D14-B915-083E72BF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23B6-DB0F-45E9-9B77-99541859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435A-0DE6-48D6-8FD0-C3DEE64F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2578-AEF6-45D8-8269-E473EAC4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95C4-EE12-45DE-B786-DA598708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AD04-BCF5-4D08-A3B9-BC3F0CC0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1541-B98F-4E80-8313-B4B6AC3E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22D-5E0D-417B-BEBC-48A21103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09851-AF74-489D-A71B-3BB0D795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BF93-E3B2-4B3E-8114-DDB155F2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F6CF-CB0B-47D9-BC35-DF1F7FE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5ECA-4EE2-4708-8E93-FF5DD4EB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77CA-F84B-4A0D-B60E-238E0675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EC7C-8AE6-487C-8E58-BFA9A793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A865-8D58-463A-934C-ECC86875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74E4-D8B6-4878-918E-65A44BEA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0E84C-310D-476A-B82C-53B3CC0D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039-504B-497D-BC9A-F028BDAB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FB5-8558-43C4-AFFB-1F256D2B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027-947C-403B-9379-80C2C304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F2A-5A23-4D2C-827D-5F56DD9A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FAE-5F2B-400E-B859-51ADFF8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CC28-D74A-4927-ADAC-81348FE63605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ee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eef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BA34-DAD5-4387-82C9-984202FC5159}" type="slidenum">
              <a:rPr b="0" lang="sv-S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Нашивка 11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Нашивка 11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DEDA-5285-4995-A560-3FC2398D3F02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4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6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67" name="Нашивка 18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168" name="Нашивка 18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Нашивка 19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171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9277-12E2-4089-AA86-C232798E6641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3143160" y="177480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712800" y="706320"/>
            <a:ext cx="7772400" cy="4280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785880" y="283680"/>
            <a:ext cx="825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тимизация операционной деятельности: оттачиваем бизнес-процес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634920" y="6196680"/>
            <a:ext cx="18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03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35" descr=""/>
          <p:cNvPicPr/>
          <p:nvPr/>
        </p:nvPicPr>
        <p:blipFill>
          <a:blip r:embed="rId3"/>
          <a:stretch/>
        </p:blipFill>
        <p:spPr>
          <a:xfrm>
            <a:off x="5357880" y="2273400"/>
            <a:ext cx="923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зработка и первичная оценка мероприятий охватывает и нестандартны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видимые/неочевидные для специалистов финансового управления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варианты сниж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постоянные попытки «латания дыр прошлого»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ый прямоугольник 10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тежи принимаются на грани рентаб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Скругленный прямоугольник 11"/>
          <p:cNvSpPr/>
          <p:nvPr/>
        </p:nvSpPr>
        <p:spPr>
          <a:xfrm>
            <a:off x="3571920" y="178596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аться от платеж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Скругленный прямоугольник 13"/>
          <p:cNvSpPr/>
          <p:nvPr/>
        </p:nvSpPr>
        <p:spPr>
          <a:xfrm>
            <a:off x="114300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стоимость инкасс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Скругленный прямоугольник 14"/>
          <p:cNvSpPr/>
          <p:nvPr/>
        </p:nvSpPr>
        <p:spPr>
          <a:xfrm>
            <a:off x="3571920" y="4714920"/>
            <a:ext cx="19288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втоматизи-р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Скругленный прямоугольник 15"/>
          <p:cNvSpPr/>
          <p:nvPr/>
        </p:nvSpPr>
        <p:spPr>
          <a:xfrm>
            <a:off x="121428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чие издерж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Крест 16"/>
          <p:cNvSpPr/>
          <p:nvPr/>
        </p:nvSpPr>
        <p:spPr>
          <a:xfrm rot="2472600">
            <a:off x="3308040" y="1890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вправо 17"/>
          <p:cNvSpPr/>
          <p:nvPr/>
        </p:nvSpPr>
        <p:spPr>
          <a:xfrm rot="16200000">
            <a:off x="4197240" y="251712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8"/>
          <p:cNvSpPr/>
          <p:nvPr/>
        </p:nvSpPr>
        <p:spPr>
          <a:xfrm rot="5400000">
            <a:off x="4196520" y="42328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Крест 19"/>
          <p:cNvSpPr/>
          <p:nvPr/>
        </p:nvSpPr>
        <p:spPr>
          <a:xfrm rot="2472600">
            <a:off x="3308040" y="4748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Стрелка вправо 20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Крест 21"/>
          <p:cNvSpPr/>
          <p:nvPr/>
        </p:nvSpPr>
        <p:spPr>
          <a:xfrm rot="2472600">
            <a:off x="879120" y="253368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Стрелка вправо 22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Крест 23"/>
          <p:cNvSpPr/>
          <p:nvPr/>
        </p:nvSpPr>
        <p:spPr>
          <a:xfrm rot="2472600">
            <a:off x="950400" y="4176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Скругленный прямоугольник 24"/>
          <p:cNvSpPr/>
          <p:nvPr/>
        </p:nvSpPr>
        <p:spPr>
          <a:xfrm>
            <a:off x="600084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величить комиссию от партне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Стрелка вправо 25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Крест 26"/>
          <p:cNvSpPr/>
          <p:nvPr/>
        </p:nvSpPr>
        <p:spPr>
          <a:xfrm rot="2472600">
            <a:off x="7665840" y="2462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Скругленный прямоугольник 29"/>
          <p:cNvSpPr/>
          <p:nvPr/>
        </p:nvSpPr>
        <p:spPr>
          <a:xfrm>
            <a:off x="600084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рать комиссию с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Стрелка вправо 30"/>
          <p:cNvSpPr/>
          <p:nvPr/>
        </p:nvSpPr>
        <p:spPr>
          <a:xfrm rot="1798200">
            <a:off x="5402160" y="393228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Трапеция 31"/>
          <p:cNvSpPr/>
          <p:nvPr/>
        </p:nvSpPr>
        <p:spPr>
          <a:xfrm rot="10800000">
            <a:off x="7715160" y="3786120"/>
            <a:ext cx="214560" cy="642960"/>
          </a:xfrm>
          <a:custGeom>
            <a:avLst/>
            <a:gdLst/>
            <a:ahLst/>
            <a:rect l="l" t="t" r="r" b="b"/>
            <a:pathLst>
              <a:path w="214313" h="642937">
                <a:moveTo>
                  <a:pt x="0" y="642937"/>
                </a:moveTo>
                <a:lnTo>
                  <a:pt x="53578" y="0"/>
                </a:lnTo>
                <a:lnTo>
                  <a:pt x="160735" y="0"/>
                </a:lnTo>
                <a:lnTo>
                  <a:pt x="214313" y="642937"/>
                </a:lnTo>
                <a:lnTo>
                  <a:pt x="0" y="642937"/>
                </a:lnTo>
                <a:close/>
              </a:path>
            </a:pathLst>
          </a:custGeom>
          <a:solidFill>
            <a:srgbClr val="339933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Овал 32"/>
          <p:cNvSpPr/>
          <p:nvPr/>
        </p:nvSpPr>
        <p:spPr>
          <a:xfrm>
            <a:off x="7715160" y="4572000"/>
            <a:ext cx="214560" cy="200160"/>
          </a:xfrm>
          <a:prstGeom prst="ellipse">
            <a:avLst/>
          </a:prstGeom>
          <a:solidFill>
            <a:srgbClr val="339933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7929720" y="6186600"/>
            <a:ext cx="571320" cy="460440"/>
          </a:xfrm>
          <a:prstGeom prst="rect">
            <a:avLst/>
          </a:prstGeom>
          <a:ln w="0">
            <a:noFill/>
          </a:ln>
        </p:spPr>
      </p:pic>
      <p:sp>
        <p:nvSpPr>
          <p:cNvPr id="373" name="Скругленный прямоугольник 8"/>
          <p:cNvSpPr/>
          <p:nvPr/>
        </p:nvSpPr>
        <p:spPr>
          <a:xfrm>
            <a:off x="100008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роки реал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Скругленный прямоугольник 9"/>
          <p:cNvSpPr/>
          <p:nvPr/>
        </p:nvSpPr>
        <p:spPr>
          <a:xfrm>
            <a:off x="34290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и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59292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ебуем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Скругленный прямоугольник 11"/>
          <p:cNvSpPr/>
          <p:nvPr/>
        </p:nvSpPr>
        <p:spPr>
          <a:xfrm>
            <a:off x="34290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пекти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Скругленный прямоугольник 13"/>
          <p:cNvSpPr/>
          <p:nvPr/>
        </p:nvSpPr>
        <p:spPr>
          <a:xfrm>
            <a:off x="100008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ине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Скругленный прямоугольник 14"/>
          <p:cNvSpPr/>
          <p:nvPr/>
        </p:nvSpPr>
        <p:spPr>
          <a:xfrm>
            <a:off x="1000080" y="3714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асштаб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Скругленный прямоугольник 15"/>
          <p:cNvSpPr/>
          <p:nvPr/>
        </p:nvSpPr>
        <p:spPr>
          <a:xfrm>
            <a:off x="100008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отдач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Скругленный прямоугольник 16"/>
          <p:cNvSpPr/>
          <p:nvPr/>
        </p:nvSpPr>
        <p:spPr>
          <a:xfrm>
            <a:off x="4714920" y="371484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страте-гическим интерес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Скругленный прямоугольник 17"/>
          <p:cNvSpPr/>
          <p:nvPr/>
        </p:nvSpPr>
        <p:spPr>
          <a:xfrm>
            <a:off x="34290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ля в результа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Скругленный прямоугольник 18"/>
          <p:cNvSpPr/>
          <p:nvPr/>
        </p:nvSpPr>
        <p:spPr>
          <a:xfrm>
            <a:off x="59292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пы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Скругленный прямоугольник 19"/>
          <p:cNvSpPr/>
          <p:nvPr/>
        </p:nvSpPr>
        <p:spPr>
          <a:xfrm>
            <a:off x="59292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влеч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0"/>
          <p:cNvSpPr/>
          <p:nvPr/>
        </p:nvSpPr>
        <p:spPr>
          <a:xfrm>
            <a:off x="785880" y="4500720"/>
            <a:ext cx="7929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исят о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нтабельности и оборачиваемости бизнес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запущенности» ситу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арактера угроз (конкуренты, экономическое окружение и т.д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ач, стоящих перед менеджментом и бизнесом в цел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3749760" cy="25066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19"/>
          <p:cNvSpPr/>
          <p:nvPr/>
        </p:nvSpPr>
        <p:spPr>
          <a:xfrm>
            <a:off x="571680" y="164304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4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0"/>
          <p:cNvSpPr/>
          <p:nvPr/>
        </p:nvSpPr>
        <p:spPr>
          <a:xfrm>
            <a:off x="785880" y="17859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ямая заинтересованность всего высшего менедж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785880" y="46432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ная вовлеченность персонала на всех стад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785880" y="4214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«шаг за шагом»: сначала - проекты с быстрой отдач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785880" y="507204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тивация персонала на «участие в успех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785880" y="3786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паганда «экономического мыш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785880" y="22147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ановка амбициозных задач владельц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85880" y="2643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ичие угрозы (конкуренты, рейдер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785880" y="3071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жесткость и готовность идти до кон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Скругленный прямоугольник 20"/>
          <p:cNvSpPr/>
          <p:nvPr/>
        </p:nvSpPr>
        <p:spPr>
          <a:xfrm>
            <a:off x="571680" y="364320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0"/>
          <p:cNvSpPr/>
          <p:nvPr/>
        </p:nvSpPr>
        <p:spPr>
          <a:xfrm>
            <a:off x="1571760" y="15717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чины возникновения неэффективных издерж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Скругленный прямоугольник 21"/>
          <p:cNvSpPr/>
          <p:nvPr/>
        </p:nvSpPr>
        <p:spPr>
          <a:xfrm>
            <a:off x="857160" y="2214720"/>
            <a:ext cx="2500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Скругленный прямоугольник 22"/>
          <p:cNvSpPr/>
          <p:nvPr/>
        </p:nvSpPr>
        <p:spPr>
          <a:xfrm>
            <a:off x="3429000" y="221472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изация 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07" name="Прямая со стрелкой 23"/>
          <p:cNvCxnSpPr/>
          <p:nvPr/>
        </p:nvCxnSpPr>
        <p:spPr>
          <a:xfrm flipH="1">
            <a:off x="2285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8" name="Прямая со стрелкой 24"/>
          <p:cNvCxnSpPr/>
          <p:nvPr/>
        </p:nvCxnSpPr>
        <p:spPr>
          <a:xfrm flipH="1">
            <a:off x="4571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9" name="Прямая со стрелкой 25"/>
          <p:cNvCxnSpPr/>
          <p:nvPr/>
        </p:nvCxnSpPr>
        <p:spPr>
          <a:xfrm flipH="1">
            <a:off x="700056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0" name="Скругленный прямоугольник 26"/>
          <p:cNvSpPr/>
          <p:nvPr/>
        </p:nvSpPr>
        <p:spPr>
          <a:xfrm>
            <a:off x="6072120" y="2214720"/>
            <a:ext cx="18576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Скругленный прямоугольник 27"/>
          <p:cNvSpPr/>
          <p:nvPr/>
        </p:nvSpPr>
        <p:spPr>
          <a:xfrm>
            <a:off x="357120" y="29289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епреднамерен-ный (нехватка квалификации, инертность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Скругленный прямоугольник 28"/>
          <p:cNvSpPr/>
          <p:nvPr/>
        </p:nvSpPr>
        <p:spPr>
          <a:xfrm>
            <a:off x="2357280" y="292896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реднаме-ренный (мо-шенничество, саботаж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3" name="Прямая со стрелкой 29"/>
          <p:cNvCxnSpPr/>
          <p:nvPr/>
        </p:nvCxnSpPr>
        <p:spPr>
          <a:xfrm flipH="1">
            <a:off x="149940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4" name="Прямая со стрелкой 30"/>
          <p:cNvCxnSpPr/>
          <p:nvPr/>
        </p:nvCxnSpPr>
        <p:spPr>
          <a:xfrm flipH="1">
            <a:off x="299952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5" name="Прямая со стрелкой 31"/>
          <p:cNvCxnSpPr/>
          <p:nvPr/>
        </p:nvCxnSpPr>
        <p:spPr>
          <a:xfrm flipH="1">
            <a:off x="149940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6" name="Прямая со стрелкой 32"/>
          <p:cNvCxnSpPr/>
          <p:nvPr/>
        </p:nvCxnSpPr>
        <p:spPr>
          <a:xfrm flipH="1">
            <a:off x="299952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7" name="Прямая со стрелкой 33"/>
          <p:cNvCxnSpPr/>
          <p:nvPr/>
        </p:nvCxnSpPr>
        <p:spPr>
          <a:xfrm flipH="1">
            <a:off x="5214600" y="264312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8" name="Скругленный прямоугольник 34"/>
          <p:cNvSpPr/>
          <p:nvPr/>
        </p:nvSpPr>
        <p:spPr>
          <a:xfrm>
            <a:off x="4286160" y="292896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Скругленный прямоугольник 35"/>
          <p:cNvSpPr/>
          <p:nvPr/>
        </p:nvSpPr>
        <p:spPr>
          <a:xfrm>
            <a:off x="357120" y="4071960"/>
            <a:ext cx="20001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еобучение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мена и мотивация персон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Скругленный прямоугольник 36"/>
          <p:cNvSpPr/>
          <p:nvPr/>
        </p:nvSpPr>
        <p:spPr>
          <a:xfrm>
            <a:off x="2428920" y="4071960"/>
            <a:ext cx="17143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вольнение с привлечением СБ и т.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Правая фигурная скобка 37"/>
          <p:cNvSpPr/>
          <p:nvPr/>
        </p:nvSpPr>
        <p:spPr>
          <a:xfrm rot="5400000">
            <a:off x="4321440" y="1035720"/>
            <a:ext cx="357120" cy="8286840"/>
          </a:xfrm>
          <a:custGeom>
            <a:avLst/>
            <a:gdLst>
              <a:gd name="textAreaLeft" fmla="*/ 0 w 357120"/>
              <a:gd name="textAreaRight" fmla="*/ 128880 w 357120"/>
              <a:gd name="textAreaTop" fmla="*/ 46800 h 8286840"/>
              <a:gd name="textAreaBottom" fmla="*/ 8240040 h 828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90"/>
                </a:cubicBezTo>
                <a:lnTo>
                  <a:pt x="10800" y="10381"/>
                </a:lnTo>
                <a:cubicBezTo>
                  <a:pt x="10800" y="10576"/>
                  <a:pt x="16200" y="10771"/>
                  <a:pt x="21600" y="10771"/>
                </a:cubicBezTo>
                <a:cubicBezTo>
                  <a:pt x="16200" y="10771"/>
                  <a:pt x="10800" y="10966"/>
                  <a:pt x="10800" y="11161"/>
                </a:cubicBezTo>
                <a:lnTo>
                  <a:pt x="10800" y="21210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Прямоугольник 38"/>
          <p:cNvSpPr/>
          <p:nvPr/>
        </p:nvSpPr>
        <p:spPr>
          <a:xfrm>
            <a:off x="428760" y="5357880"/>
            <a:ext cx="80722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ниторинг, организация превентивных мер и профилакт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5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ЛОЖНОСТИ ПРИ РЕАЛИЗАЦИИ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Скругленный прямоугольник 7"/>
          <p:cNvSpPr/>
          <p:nvPr/>
        </p:nvSpPr>
        <p:spPr>
          <a:xfrm>
            <a:off x="357192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хн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Скругленный прямоугольник 8"/>
          <p:cNvSpPr/>
          <p:nvPr/>
        </p:nvSpPr>
        <p:spPr>
          <a:xfrm>
            <a:off x="1000080" y="21430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инан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Скругленный прямоугольник 9"/>
          <p:cNvSpPr/>
          <p:nvPr/>
        </p:nvSpPr>
        <p:spPr>
          <a:xfrm>
            <a:off x="35719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071720" y="4429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сихолог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Стрелка вправо 13"/>
          <p:cNvSpPr/>
          <p:nvPr/>
        </p:nvSpPr>
        <p:spPr>
          <a:xfrm rot="16200000">
            <a:off x="4340160" y="2660040"/>
            <a:ext cx="3920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Стрелка вправо 14"/>
          <p:cNvSpPr/>
          <p:nvPr/>
        </p:nvSpPr>
        <p:spPr>
          <a:xfrm rot="5400000">
            <a:off x="4321800" y="410760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Стрелка вправо 18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600084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юрид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Стрелка вправо 21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Скругленный прямоугольник 23"/>
          <p:cNvSpPr/>
          <p:nvPr/>
        </p:nvSpPr>
        <p:spPr>
          <a:xfrm>
            <a:off x="60721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4"/>
          <p:cNvSpPr/>
          <p:nvPr/>
        </p:nvSpPr>
        <p:spPr>
          <a:xfrm rot="2340000">
            <a:off x="5387760" y="4051440"/>
            <a:ext cx="73980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кругленный прямоугольник 47"/>
          <p:cNvSpPr/>
          <p:nvPr/>
        </p:nvSpPr>
        <p:spPr>
          <a:xfrm>
            <a:off x="1000080" y="1428840"/>
            <a:ext cx="6929640" cy="428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1071720" y="5286240"/>
            <a:ext cx="692928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2" name="Прямая со стрелкой 49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3" name="Прямая со стрелкой 51"/>
          <p:cNvCxnSpPr/>
          <p:nvPr/>
        </p:nvCxnSpPr>
        <p:spPr>
          <a:xfrm flipH="1">
            <a:off x="45003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4" name="Прямая со стрелкой 52"/>
          <p:cNvCxnSpPr/>
          <p:nvPr/>
        </p:nvCxnSpPr>
        <p:spPr>
          <a:xfrm flipH="1">
            <a:off x="70005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5" name="Прямая со стрелкой 53"/>
          <p:cNvCxnSpPr/>
          <p:nvPr/>
        </p:nvCxnSpPr>
        <p:spPr>
          <a:xfrm flipH="1" flipV="1">
            <a:off x="207144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6" name="Прямая со стрелкой 57"/>
          <p:cNvCxnSpPr/>
          <p:nvPr/>
        </p:nvCxnSpPr>
        <p:spPr>
          <a:xfrm flipH="1" flipV="1">
            <a:off x="450036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7" name="Прямая со стрелкой 59"/>
          <p:cNvCxnSpPr/>
          <p:nvPr/>
        </p:nvCxnSpPr>
        <p:spPr>
          <a:xfrm flipH="1" flipV="1">
            <a:off x="6928560" y="185688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pic>
        <p:nvPicPr>
          <p:cNvPr id="452" name="Схема 26" descr=""/>
          <p:cNvPicPr/>
          <p:nvPr/>
        </p:nvPicPr>
        <p:blipFill>
          <a:blip r:embed="rId4"/>
          <a:stretch/>
        </p:blipFill>
        <p:spPr>
          <a:xfrm>
            <a:off x="493560" y="1285920"/>
            <a:ext cx="8339400" cy="462132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456" name="Заголовок 1"/>
          <p:cNvSpPr/>
          <p:nvPr/>
        </p:nvSpPr>
        <p:spPr>
          <a:xfrm>
            <a:off x="714240" y="128592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юбо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опыт и практические наработки успешных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 неуспешны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йте выводы из неудач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е внимание необходимо уделять случаям преднамеренного завыш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мните про затраты, приносящие доход. Зарабатывайте на расхода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5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357640" cy="20718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3"/>
          <a:stretch/>
        </p:blipFill>
        <p:spPr>
          <a:xfrm>
            <a:off x="1920960" y="1249200"/>
            <a:ext cx="5821200" cy="3621240"/>
          </a:xfrm>
          <a:prstGeom prst="rect">
            <a:avLst/>
          </a:prstGeom>
          <a:ln w="0">
            <a:noFill/>
          </a:ln>
        </p:spPr>
      </p:pic>
      <p:sp>
        <p:nvSpPr>
          <p:cNvPr id="462" name="Заголовок 1"/>
          <p:cNvSpPr/>
          <p:nvPr/>
        </p:nvSpPr>
        <p:spPr>
          <a:xfrm>
            <a:off x="642960" y="471492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Если что-то вспомните позже, не постесняйтесь написать на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64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ключев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помогательн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2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аз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здающие продукт (диктуются отраслевыми стандарт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пециаль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ющие продукт уникальным (собственные решени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5" name="Прямоугольник 17"/>
          <p:cNvSpPr/>
          <p:nvPr/>
        </p:nvSpPr>
        <p:spPr>
          <a:xfrm>
            <a:off x="464328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служивающие бизнес (не создающие продукт непо-средственн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8"/>
          <p:cNvSpPr/>
          <p:nvPr/>
        </p:nvSpPr>
        <p:spPr>
          <a:xfrm>
            <a:off x="685800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е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грузка на бизнес (социальные программ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7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38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9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е 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1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2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аких процессах «лежит» стратегия развития бизнеса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каких процессов можно отказаться, а от каких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процессы можно передать на субподряд, а какие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информационного обме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9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перацион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регулярных проце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ные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управления проект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2" name="Прямоугольник 17"/>
          <p:cNvSpPr/>
          <p:nvPr/>
        </p:nvSpPr>
        <p:spPr>
          <a:xfrm>
            <a:off x="464328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бщедоступная информация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(Интернет, гос.статистика, отраслевые СМИ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8"/>
          <p:cNvSpPr/>
          <p:nvPr/>
        </p:nvSpPr>
        <p:spPr>
          <a:xfrm>
            <a:off x="657216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никальная информация (данные кон-курентов, парт-неров, внутри-групповые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4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6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егулярный анал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8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9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разработать систему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и поддерживать ее актуальной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своевременно получать полную достоверную информацию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научиться анализировать ПРОактивно, а не РЕактив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23" descr=""/>
          <p:cNvPicPr/>
          <p:nvPr/>
        </p:nvPicPr>
        <p:blipFill>
          <a:blip r:embed="rId4"/>
          <a:stretch/>
        </p:blipFill>
        <p:spPr>
          <a:xfrm>
            <a:off x="2000160" y="1712880"/>
            <a:ext cx="4857840" cy="257328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24"/>
          <p:cNvSpPr/>
          <p:nvPr/>
        </p:nvSpPr>
        <p:spPr>
          <a:xfrm>
            <a:off x="85716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чень статей зат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трелка углом 25"/>
          <p:cNvSpPr/>
          <p:nvPr/>
        </p:nvSpPr>
        <p:spPr>
          <a:xfrm rot="5400000">
            <a:off x="3585600" y="1057680"/>
            <a:ext cx="599760" cy="1913040"/>
          </a:xfrm>
          <a:custGeom>
            <a:avLst/>
            <a:gdLst/>
            <a:ahLst/>
            <a:rect l="l" t="t" r="r" b="b"/>
            <a:pathLst>
              <a:path w="600075" h="1912937">
                <a:moveTo>
                  <a:pt x="0" y="1912937"/>
                </a:moveTo>
                <a:lnTo>
                  <a:pt x="0" y="337542"/>
                </a:lnTo>
                <a:cubicBezTo>
                  <a:pt x="0" y="192549"/>
                  <a:pt x="117540" y="75009"/>
                  <a:pt x="262533" y="75009"/>
                </a:cubicBezTo>
                <a:lnTo>
                  <a:pt x="450056" y="75009"/>
                </a:lnTo>
                <a:lnTo>
                  <a:pt x="450056" y="0"/>
                </a:lnTo>
                <a:lnTo>
                  <a:pt x="600075" y="150019"/>
                </a:lnTo>
                <a:lnTo>
                  <a:pt x="450056" y="300038"/>
                </a:lnTo>
                <a:lnTo>
                  <a:pt x="450056" y="225028"/>
                </a:lnTo>
                <a:lnTo>
                  <a:pt x="262533" y="225028"/>
                </a:lnTo>
                <a:cubicBezTo>
                  <a:pt x="200393" y="225028"/>
                  <a:pt x="150019" y="275402"/>
                  <a:pt x="150019" y="337542"/>
                </a:cubicBezTo>
                <a:lnTo>
                  <a:pt x="150019" y="1912937"/>
                </a:lnTo>
                <a:lnTo>
                  <a:pt x="0" y="191293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26"/>
          <p:cNvSpPr/>
          <p:nvPr/>
        </p:nvSpPr>
        <p:spPr>
          <a:xfrm>
            <a:off x="857160" y="342900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 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трелка углом 27"/>
          <p:cNvSpPr/>
          <p:nvPr/>
        </p:nvSpPr>
        <p:spPr>
          <a:xfrm rot="10800000">
            <a:off x="2642760" y="3500280"/>
            <a:ext cx="1957320" cy="500400"/>
          </a:xfrm>
          <a:custGeom>
            <a:avLst/>
            <a:gdLst/>
            <a:ahLst/>
            <a:rect l="l" t="t" r="r" b="b"/>
            <a:pathLst>
              <a:path w="1957387" h="500062">
                <a:moveTo>
                  <a:pt x="0" y="5000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1832372" y="62508"/>
                </a:lnTo>
                <a:lnTo>
                  <a:pt x="1832372" y="0"/>
                </a:lnTo>
                <a:lnTo>
                  <a:pt x="1957387" y="125016"/>
                </a:lnTo>
                <a:lnTo>
                  <a:pt x="1832372" y="250031"/>
                </a:lnTo>
                <a:lnTo>
                  <a:pt x="1832372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354211"/>
                  <a:pt x="125016" y="427136"/>
                  <a:pt x="125016" y="500062"/>
                </a:cubicBezTo>
                <a:lnTo>
                  <a:pt x="0" y="500062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трелка углом 28"/>
          <p:cNvSpPr/>
          <p:nvPr/>
        </p:nvSpPr>
        <p:spPr>
          <a:xfrm flipH="1" rot="10800000">
            <a:off x="4642200" y="3500280"/>
            <a:ext cx="2000520" cy="509760"/>
          </a:xfrm>
          <a:custGeom>
            <a:avLst/>
            <a:gdLst/>
            <a:ahLst/>
            <a:rect l="l" t="t" r="r" b="b"/>
            <a:pathLst>
              <a:path w="2000250" h="509587">
                <a:moveTo>
                  <a:pt x="0" y="509587"/>
                </a:moveTo>
                <a:lnTo>
                  <a:pt x="0" y="286643"/>
                </a:lnTo>
                <a:cubicBezTo>
                  <a:pt x="0" y="163514"/>
                  <a:pt x="99815" y="63699"/>
                  <a:pt x="222944" y="63699"/>
                </a:cubicBezTo>
                <a:lnTo>
                  <a:pt x="1872853" y="63698"/>
                </a:lnTo>
                <a:lnTo>
                  <a:pt x="1872853" y="0"/>
                </a:lnTo>
                <a:lnTo>
                  <a:pt x="2000250" y="127397"/>
                </a:lnTo>
                <a:lnTo>
                  <a:pt x="1872853" y="254794"/>
                </a:lnTo>
                <a:lnTo>
                  <a:pt x="1872853" y="191095"/>
                </a:lnTo>
                <a:lnTo>
                  <a:pt x="222944" y="191095"/>
                </a:lnTo>
                <a:cubicBezTo>
                  <a:pt x="170174" y="191095"/>
                  <a:pt x="127396" y="233873"/>
                  <a:pt x="127396" y="286643"/>
                </a:cubicBezTo>
                <a:cubicBezTo>
                  <a:pt x="127396" y="360958"/>
                  <a:pt x="127397" y="435272"/>
                  <a:pt x="127397" y="509587"/>
                </a:cubicBezTo>
                <a:lnTo>
                  <a:pt x="0" y="50958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30"/>
          <p:cNvSpPr/>
          <p:nvPr/>
        </p:nvSpPr>
        <p:spPr>
          <a:xfrm>
            <a:off x="6858000" y="350028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685800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йтинг затрат для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трелка вправо 33"/>
          <p:cNvSpPr/>
          <p:nvPr/>
        </p:nvSpPr>
        <p:spPr>
          <a:xfrm rot="16200000">
            <a:off x="7412040" y="2874600"/>
            <a:ext cx="67788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озможно, уже обновленных по результатам этого этапа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решение заниматься тем, что получается лучше всего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 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решение заниматься тем, что сложилось историческ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Скругленный прямоугольник 17"/>
          <p:cNvSpPr/>
          <p:nvPr/>
        </p:nvSpPr>
        <p:spPr>
          <a:xfrm>
            <a:off x="1357200" y="171468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4572000" y="171468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9"/>
          <p:cNvSpPr/>
          <p:nvPr/>
        </p:nvSpPr>
        <p:spPr>
          <a:xfrm>
            <a:off x="7143840" y="171468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20"/>
          <p:cNvSpPr/>
          <p:nvPr/>
        </p:nvSpPr>
        <p:spPr>
          <a:xfrm>
            <a:off x="1643040" y="242892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21"/>
          <p:cNvSpPr/>
          <p:nvPr/>
        </p:nvSpPr>
        <p:spPr>
          <a:xfrm>
            <a:off x="1643040" y="314316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382320" y="2500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31"/>
          <p:cNvSpPr/>
          <p:nvPr/>
        </p:nvSpPr>
        <p:spPr>
          <a:xfrm>
            <a:off x="1357200" y="385776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35"/>
          <p:cNvSpPr/>
          <p:nvPr/>
        </p:nvSpPr>
        <p:spPr>
          <a:xfrm>
            <a:off x="7143840" y="385776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36"/>
          <p:cNvSpPr/>
          <p:nvPr/>
        </p:nvSpPr>
        <p:spPr>
          <a:xfrm>
            <a:off x="1643040" y="457200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37"/>
          <p:cNvSpPr/>
          <p:nvPr/>
        </p:nvSpPr>
        <p:spPr>
          <a:xfrm>
            <a:off x="1643040" y="528624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38"/>
          <p:cNvSpPr/>
          <p:nvPr/>
        </p:nvSpPr>
        <p:spPr>
          <a:xfrm>
            <a:off x="386280" y="4643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Прямая со стрелкой 40"/>
          <p:cNvCxnSpPr>
            <a:stCxn id="287" idx="2"/>
          </p:cNvCxnSpPr>
          <p:nvPr/>
        </p:nvCxnSpPr>
        <p:spPr>
          <a:xfrm flipH="1">
            <a:off x="2355480" y="2803680"/>
            <a:ext cx="2160" cy="342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stealth" w="med"/>
            <a:tailEnd len="med" type="stealth" w="med"/>
          </a:ln>
        </p:spPr>
      </p:cxnSp>
      <p:sp>
        <p:nvSpPr>
          <p:cNvPr id="296" name="Стрелка вправо 45"/>
          <p:cNvSpPr/>
          <p:nvPr/>
        </p:nvSpPr>
        <p:spPr>
          <a:xfrm>
            <a:off x="3286080" y="2786040"/>
            <a:ext cx="1428840" cy="928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Стрелка вправо 46"/>
          <p:cNvSpPr/>
          <p:nvPr/>
        </p:nvSpPr>
        <p:spPr>
          <a:xfrm>
            <a:off x="5786280" y="2857680"/>
            <a:ext cx="1500480" cy="9284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Стрелка вправо 47"/>
          <p:cNvSpPr/>
          <p:nvPr/>
        </p:nvSpPr>
        <p:spPr>
          <a:xfrm>
            <a:off x="3286080" y="4929120"/>
            <a:ext cx="407196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 и 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Скругленный прямоугольник 22"/>
          <p:cNvSpPr/>
          <p:nvPr/>
        </p:nvSpPr>
        <p:spPr>
          <a:xfrm>
            <a:off x="4572000" y="378612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9"/>
          <p:cNvSpPr/>
          <p:nvPr/>
        </p:nvSpPr>
        <p:spPr>
          <a:xfrm>
            <a:off x="714240" y="1500120"/>
            <a:ext cx="7929720" cy="18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мер ситуации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телефонный разговор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овый перевозчик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чем Вы возите этот груз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аботник транспортного отдела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00 за рей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П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Готов возить з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1100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ТО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к, направление Ваше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(кладет трубку)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тлично! Сэкономил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00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зже оказывается, что НП работает на «упрощенке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ьный эффект от смены оператора =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785880" y="3714840"/>
            <a:ext cx="7929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работники компании должны быть вашими «агентами по снижению издержек на местах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кономически обоснованно вести переговоры с партнер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10" name="Скругленный прямоугольник 8"/>
          <p:cNvSpPr/>
          <p:nvPr/>
        </p:nvSpPr>
        <p:spPr>
          <a:xfrm>
            <a:off x="3071880" y="1428840"/>
            <a:ext cx="285732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571680" y="214308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 от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Прямая со стрелкой 14"/>
          <p:cNvCxnSpPr/>
          <p:nvPr/>
        </p:nvCxnSpPr>
        <p:spPr>
          <a:xfrm flipH="1">
            <a:off x="4498200" y="1785600"/>
            <a:ext cx="252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3" name="Прямоугольник 19"/>
          <p:cNvSpPr/>
          <p:nvPr/>
        </p:nvSpPr>
        <p:spPr>
          <a:xfrm>
            <a:off x="500040" y="200016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работ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ценари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4" name="Прямая со стрелкой 21"/>
          <p:cNvCxnSpPr/>
          <p:nvPr/>
        </p:nvCxnSpPr>
        <p:spPr>
          <a:xfrm flipH="1">
            <a:off x="4498200" y="3071880"/>
            <a:ext cx="2520" cy="216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5" name="Прямоугольник 22"/>
          <p:cNvSpPr/>
          <p:nvPr/>
        </p:nvSpPr>
        <p:spPr>
          <a:xfrm>
            <a:off x="2928960" y="264312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утсорс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4786200" y="214308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нде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2928960" y="214308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инжинир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571680" y="264312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хранение как е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4786200" y="264312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вариан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5716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теря гибк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оугольник 30"/>
          <p:cNvSpPr/>
          <p:nvPr/>
        </p:nvSpPr>
        <p:spPr>
          <a:xfrm>
            <a:off x="500040" y="328608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1"/>
          <p:cNvSpPr/>
          <p:nvPr/>
        </p:nvSpPr>
        <p:spPr>
          <a:xfrm>
            <a:off x="2928960" y="392904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ират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44290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хватка персона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2928960" y="342900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ст зат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5716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жение каче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44290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р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7" name="Прямая со стрелкой 36"/>
          <p:cNvCxnSpPr/>
          <p:nvPr/>
        </p:nvCxnSpPr>
        <p:spPr>
          <a:xfrm flipH="1">
            <a:off x="4500360" y="435744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8" name="Прямоугольник 37"/>
          <p:cNvSpPr/>
          <p:nvPr/>
        </p:nvSpPr>
        <p:spPr>
          <a:xfrm>
            <a:off x="500040" y="4572000"/>
            <a:ext cx="8001000" cy="580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Скругленный прямоугольник 38"/>
          <p:cNvSpPr/>
          <p:nvPr/>
        </p:nvSpPr>
        <p:spPr>
          <a:xfrm>
            <a:off x="2928960" y="5357880"/>
            <a:ext cx="3214800" cy="64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 программы 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0" name="Прямая со стрелкой 42"/>
          <p:cNvCxnSpPr/>
          <p:nvPr/>
        </p:nvCxnSpPr>
        <p:spPr>
          <a:xfrm flipH="1">
            <a:off x="4500360" y="514332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хема 27" descr=""/>
          <p:cNvPicPr/>
          <p:nvPr/>
        </p:nvPicPr>
        <p:blipFill>
          <a:blip r:embed="rId1"/>
          <a:stretch/>
        </p:blipFill>
        <p:spPr>
          <a:xfrm>
            <a:off x="139680" y="1785960"/>
            <a:ext cx="8791560" cy="407196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4" descr=""/>
          <p:cNvPicPr/>
          <p:nvPr/>
        </p:nvPicPr>
        <p:blipFill>
          <a:blip r:embed="rId4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38"/>
          <p:cNvSpPr/>
          <p:nvPr/>
        </p:nvSpPr>
        <p:spPr>
          <a:xfrm>
            <a:off x="571680" y="1643040"/>
            <a:ext cx="1714320" cy="91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Стрелка углом 28"/>
          <p:cNvSpPr/>
          <p:nvPr/>
        </p:nvSpPr>
        <p:spPr>
          <a:xfrm flipH="1" rot="10800000">
            <a:off x="1285920" y="271440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Стрелка углом 39"/>
          <p:cNvSpPr/>
          <p:nvPr/>
        </p:nvSpPr>
        <p:spPr>
          <a:xfrm flipH="1" flipV="1" rot="10800000">
            <a:off x="5572080" y="200016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кругленный прямоугольник 40"/>
          <p:cNvSpPr/>
          <p:nvPr/>
        </p:nvSpPr>
        <p:spPr>
          <a:xfrm>
            <a:off x="6786720" y="1785960"/>
            <a:ext cx="1714320" cy="118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езен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ля принятия реш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3:02Z</dcterms:created>
  <dc:creator>Sergey V. Chadin</dc:creator>
  <dc:description/>
  <dc:language>en-US</dc:language>
  <cp:lastModifiedBy>LEGION</cp:lastModifiedBy>
  <dcterms:modified xsi:type="dcterms:W3CDTF">2016-01-05T12:44:10Z</dcterms:modified>
  <cp:revision>637</cp:revision>
  <dc:subject>Оптимизация операционной деятельности</dc:subject>
  <dc:title>Где теряем деньги?</dc:title>
</cp:coreProperties>
</file>