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6064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9018-29A2-4F7A-AF9C-453103216B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ДОБИТЬСЯ ПРОЗРАЧНОСТИ И КОНТРОЛИРУЕМОСТИ БИЗНЕС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гей Чадин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управляющий «Связной БЕЛ», ГК Связно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мизация операционной деятельности: оттачиваем бизнес-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3 марта 2011, Моск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ДОБИТЬСЯ ПРОЗРАЧНОСТИ И КОНТРОЛИРУЕМОСТИ БИЗНЕС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гей Чадин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управляющий «Связной БЕЛ», ГК Связно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мизация операционной деятельности: оттачиваем бизнес-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3 марта 2011, Моск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B: результаты этап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ние того, что проблемой затрат заняты все подразделения, в том числе «отрабатывая» ее уже на этапе первичных переговоров с партнерами, грамотно защищая экономические интересы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 мероприятий охватывает и нестандартные [невидимые/неочевидные для специалистов финансового управления] варианты снижения затра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непосредственно перечня мероприятий проработаны сопряженные с их реализацией риски, а так же оценены ресурсы для воплощения планов в жизн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активный взгляд на вещи: мероприятия направляются на изменение философии всех сотрудников в части работы с экономической составляющей процессами [vs. РЕактивный взгляд: постоянные попытки «латания дыр прошлого»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Речь может идти как об отдельных этапах, процессах и направлениях, так и о бизнесе в це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B: результаты этап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ние того, что проблемой затрат заняты все подразделения, в том числе «отрабатывая» ее уже на этапе первичных переговоров с партнерами, грамотно защищая экономические интересы компа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 мероприятий охватывает и нестандартные [невидимые/неочевидные для специалистов финансового управления] варианты снижения затра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непосредственно перечня мероприятий проработаны сопряженные с их реализацией риски, а так же оценены ресурсы для воплощения планов в жизнь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активный взгляд на вещи: мероприятия направляются на изменение философии всех сотрудников в части работы с экономической составляющей процессами [vs. РЕактивный взгляд: постоянные попытки «латания дыр прошлого»]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Речь может идти как об отдельных этапах, процессах и направлениях, так и о бизнесе в цело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 Пример: прием платежей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тежи принимаются на грани рентаб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аться от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зить стоимость инкасс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зи-ро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зи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ие издерж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ть комиссию от партн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рать комиссию с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 Пример: прием платежей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тежи принимаются на грани рентабель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аться от платеж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зить стоимость инкасс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зи-рова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зит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ие издерж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ть комиссию от партне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рать комиссию с клиен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ор наиболее перспектив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: критерии отб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и реал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ем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пек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нер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штаб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отдач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ветствие страте-гическим интерес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я в результа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леч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о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ят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абельности и оборачиваемости бизнес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апущенности» ситу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а угроз (конкуренты, экономическое окружение и т.д.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, стоящих перед менеджментом и бизнесом в цел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ор наиболее перспектив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: критерии отбо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и реализ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ем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пектив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штабир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отдачи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ветствие страте-гическим интерес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я в результат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лечен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он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ят о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абельности и оборачиваемости бизнес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апущенности» ситуаци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а угроз (конкуренты, экономическое окружение и т.д.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, стоящих перед менеджментом и бизнесом в цело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s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успех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ланирование и реализация програм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ая заинтересованность всего высшего менеджм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ая вовлеченность персонала на всех стад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шаг за шагом»: сначала - проекты с быстрой отдач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тивация персонала на «участие в успех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аганда «экономического мышления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ка амбициозных задач владельц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угрозы (конкуренты, рейдеры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сткость и готовность идти до кон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l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sh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успех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ланирование и реализация програм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ая заинтересованность всего высшего 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ая вовлеченность персонала на всех стадия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шаг за шагом»: сначала - проекты с быстрой отдач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тивация персонала на «участие в успехе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аганда «экономического мышления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ка амбициозных задач владельц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угрозы (конкуренты, рейдеры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сткость и готовность идти до конц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ll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успех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анализ [промежуточных/окончательных] результа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возникновения неэффективных издерж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й фа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 рис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еднамерен-ный (нехватка квалификации, инертность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наме-ренный (мо-шенничество, саботаж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обучение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мена и мотивация персо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ольнение с привлечением СБ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иторинг, организация превентивных мер и профилак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успех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анализ [промежуточных/окончательных] результа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возникновения неэффективных издерже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й факто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еднамерен-ный (нехватка квалификации, инертность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наме-ренный (мо-шенничество, саботаж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обучение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мена и мотивация персон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ольнение с привлечением СБ и т.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иторинг, организация превентивных мер и профилакти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внедрения мероприят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нижению затрат: технические, финансовые, психологическ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дводные камни и новые р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ЖНОСТИ ПРИ РЕАЛИЗАЦИИ ПРОГРАМ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риди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sh-фак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ll-фак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внедрения мероприят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нижению затрат: технические, финансовые, психологическ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дводные камни и новы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ЖНОСТИ ПРИ РЕАЛИЗАЦИИ ПРОГРАМ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ческ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ридическ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sh-факто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ll-факто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внедрения мероприят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нижению затрат: технические, финансовые, психологическ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«ингредиенты успех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внедрения мероприят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нижению затрат: технические, финансовые, психологическ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«ингредиенты успех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ход на регуляр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ые программы по снижению затрат – результат жесткого руководства, четкого планирования, вовлеченности всего персонала и постоянного мониторинга обратной связ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экономических, у каждого проекта по снижению затрат есть и другие последствия, в том числе социальные. Каждое из таких последствий должно быть просчитано до принятия решений. Стоимость реализации программы и нивелирования ее негативных последствий не должна превышать полезного эфф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[Любой] опыт и практические наработки успешных [и неуспешных] программ должны передаваться на другие проекты. Для этого управление проектами должно осуществляться специальными группами с включением менеджеров, имеющих успешную практ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 к медленной отдаче от усилий. И тем более – к неудачам при реализации проек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айте выводы из неудач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е внимание необходимо уделять случаям преднамеренного завышения затра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 про затраты, приносящие доход. Зарабатывайте на расходах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ход на регуляр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ые программы по снижению затрат – результат жесткого руководства, четкого планирования, вовлеченности всего персонала и постоянного мониторинга обратной связ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экономических, у каждого проекта по снижению затрат есть и другие последствия, в том числе социальные. Каждое из таких последствий должно быть просчитано до принятия решений. Стоимость реализации программы и нивелирования ее негативных последствий не должна превышать полезного эффе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[Любой] опыт и практические наработки успешных [и неуспешных] программ должны передаваться на другие проекты. Для этого управление проектами должно осуществляться специальными группами с включением менеджеров, имеющих успешную практик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 к медленной отдаче от усилий. И тем более – к неудачам при реализации проект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айте выводы из неудач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е внимание необходимо уделять случаям преднамеренного завышения затра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 про затраты, приносящие доход. Зарабатывайте на расходах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ШУ ЗАДАВАТЬ ВО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что-то вспомните позже, не постесняйтесь написать на chadin@maxus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ШУ ЗАДАВАТЬ ВОПРО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что-то вспомните позже, не постесняйтесь написать на chadin@maxus.r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: описание бизнес-процесс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помогатель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зов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ющие продукт (диктуются отраслевыми стандартам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ьн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ающие продукт уникальным (собственные реш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ипов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уживающие бизнес (не создающие продукт непо-средственн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иповые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грузка на бизнес (социальные программы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бизнес-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ких процессах «лежит» стратегия развития бизнес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каких процессов можно отказаться, а от каких нельз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процессы можно передать на субподряд, а какие нельз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: описание бизнес-процессов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помогательные 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зов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ющие продукт (диктуются отраслевыми стандартами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ьн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ающие продукт уникальным (собственные решения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ипов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уживающие бизнес (не создающие продукт непо-средственно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иповые –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грузка на бизнес (социальные программы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бизнес-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ких процессах «лежит» стратегия развития бизнес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каких процессов можно отказаться, а от каких нельз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процессы можно передать на субподряд, а какие нельз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: анализ эффективности бизнес-процесс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K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информационного обм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онн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оказатели эффективности регулярных процес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н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оказатели эффективности управления прое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доступная информация (Интернет, гос.статистика, отраслевые СМИ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никальная информация (данные кон-курентов, парт-неров, внутри-групповые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ярный анали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разработать систему KPI и поддерживать ее актуально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своевременно получать полную достоверную информацию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научиться анализировать ПРОактивно, а не РЕактивн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: анализ эффективности бизнес-процессов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KP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информационного обме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онн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оказатели эффективности регулярных процес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н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оказатели эффективности управления проект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доступная информация (Интернет, гос.статистика, отраслевые СМИ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никальная информация (данные кон-курентов, парт-неров, внутри-групповые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ярный анализ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разработать систему KPI и поддерживать ее актуальной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своевременно получать полную достоверную информацию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научиться анализировать ПРОактивно, а не РЕактивно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: ранжирование затрат для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затраты критически влияют на эффективность бизнеса в целом, а влияние каких минимальн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затраты нужно будет уменьшать своими силами, а какие можно снизить, передав на управление сторонним компания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чень статей затр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требующие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ющие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йтинг затрат для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: ранжирование затрат для измен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затраты критически влияют на эффективность бизнеса в целом, а влияние каких минимально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затраты нужно будет уменьшать своими силами, а какие можно снизить, передав на управление сторонним компаниям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чень статей затра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требующие измен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ющие измен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йтинг затрат для измен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B: результаты этап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ние того, с какими процессами необходимо «расстаться», какие – передать на сторону, а на каких сконцентрировать все усилия для достижения [возможно, уже обновленных по результатам этого этапа]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изация «критериев успеха» - ключевых показателей эффективности процессов, - на основании которых можно отслеживать прогресс, планировать развитие и мотивировать персона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инфраструктуры информационного обеспечения анализа процессов: обмен данными с конкурентами и партнерами, подписка на платные и бесплатные статистические сборники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активный взгляд на вещи: решение заниматься тем, что получается лучше всего [ vs. РЕактивный взгляд: решение заниматься тем, что сложилось исторически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Речь может идти как об отдельных этапах, процессах и направлениях, так и о бизнесе в це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B: результаты этап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ние того, с какими процессами необходимо «расстаться», какие – передать на сторону, а на каких сконцентрировать все усилия для достижения [возможно, уже обновленных по результатам этого этапа]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изация «критериев успеха» - ключевых показателей эффективности процессов, - на основании которых можно отслеживать прогресс, планировать развитие и мотивировать персона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инфраструктуры информационного обеспечения анализа процессов: обмен данными с конкурентами и партнерами, подписка на платные и бесплатные статистические сборники и т.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активный взгляд на вещи: решение заниматься тем, что получается лучше всего [ vs. РЕактивный взгляд: решение заниматься тем, что сложилось исторически]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Речь может идти как об отдельных этапах, процессах и направлениях, так и о бизнесе в цело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 Пример: Отдел актив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ая точка (розниц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активации (офи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тор сотовой связ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ая точка (розниц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тор сотовой связ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и актив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активации (офи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 Пример: Отдел актив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ая точка (розниц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активации (офис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тор сотовой связ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ая точка (розниц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тор сотовой связ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Л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и актив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активации (офис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ривлечение «в команду» всех работ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ситуации (телефонный разговор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й перевозчик: Почем Вы возите этот груз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ник транспортного отдела: По $1200 за рей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П: Готов возить за $11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ТО: Ок, направление Ваше. (кладет трубку) Отлично! Сэкономил $100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же оказывается, что НП работает на «упрощенк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эффект от смены оператора = -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работники компании должны быть вашими «агентами по снижению издержек на местах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ть природу издержек, самостоятельно оценивать их эффективность, различать затраты и инвести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 обоснованно вести переговоры с партнер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ить за своевременным отражением затрат в учете (оперативно передавать документы для учета и добиваться нулевой необоснованной дебиторской задолженности свыше 30 дне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ривлечение «в команду» всех работни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ситуации (телефонный разговор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й перевозчик: Почем Вы возите этот груз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ник транспортного отдела: По $1200 за рей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П: Готов возить за $11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ТО: Ок, направление Ваше. (кладет трубку) Отлично! Сэкономил $100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же оказывается, что НП работает на «упрощенке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эффект от смены оператора = -$1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работники компании должны быть вашими «агентами по снижению издержек на местах»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ть природу издержек, самостоятельно оценивать их эффективность, различать затраты и инвестиц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 обоснованно вести переговоры с партнер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ить за своевременным отражением затрат в учете (оперативно передавать документы для учета и добиваться нулевой необоснованной дебиторской задолженности свыше 30 дне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коллективные мозговые шту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знес-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проц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рабо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ценарие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утсорс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нде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инжинир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хранение как е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вариа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еря гибк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рат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хватка персо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затр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ач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р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ор наиболее приемлемых сценариев с описанием требуемых для реализации ресурсов и вероятности успе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 программы действ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коллективные мозговые штур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знес-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процес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работ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ценарие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утсорсинг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нде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инжиниринг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хранение как е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вариан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еря гибк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рат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хватка персон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затра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аче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ор наиболее приемлемых сценариев с описанием требуемых для реализации ресурсов и вероятности успех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 программы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анжирование и подготовка кратких презентац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зент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инятия ре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анжирование и подготовка кратких презентаций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зент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инятия реш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A86E-ECB3-494E-B32E-47C487BD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F871-6E77-4D5C-B357-51BA2A66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78B3-6D66-4769-AEF7-0FAC41EF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B033-09DF-46BC-9165-AEB22770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2296-053A-4C34-B04B-146EBBD2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2FF4-E9DE-473E-A8C1-BAF77F93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3BBA-F699-4B62-B681-A0B52E05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879F-BCFA-4A85-B053-2047A632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FFD0-EBFD-463D-BEB4-E99F636B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3201-C542-4CBD-8628-555CE1A4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D144-0331-4219-9FEF-91E18FC7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2C8C-5B94-4911-AA10-A0EF15B2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498B-54CB-40D9-9CAC-77FE6592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9712-8BBB-4C2D-9ECF-02E4D792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7871-6CCD-4219-BBC5-3B185DAF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CB70-C74F-43AA-9C4D-AC8E311A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3D73-3490-4FF8-A2AE-35252752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88C5D-9BEA-461B-986E-B298D81B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CBA54-00B8-4049-9E8B-47D9ADDD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27C01-BBB3-4C1A-9718-8BAEDE03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F9998-FF4F-402C-AB8B-CB2A9423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19A25-AEB2-4485-AC82-6EF6C8BD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B13B-FB95-47A5-8EAF-7F0DF12C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78FF9-1B15-46C0-8632-A8C0C426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DEDD2-94E3-40B0-B2D5-5EF050F8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A46E0-FB07-4ACC-B08E-EA3F7759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EB55A-9439-421D-9841-61AB2D96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64674-9755-43CC-8BB7-F0539DB5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551E0-E5DE-4D99-BA44-E9A0E7CF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3433E-8ACC-450B-9DBF-E1238986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239E9-C195-4C89-B57D-A5B568A8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DE16E-0F2D-4776-AEC2-36CD9279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0B97C-6BC6-4D68-9CCC-E0CD8980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3E32-0382-46E4-B4AC-92B02A3E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BABA0-CB93-4BFC-8945-688F177D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5552C-5663-4157-8357-DE837D8F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A983E-29B5-42D5-9047-72B2D1F9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57C89-B466-47FC-803B-C6C4B27F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A2B46-B8C6-4846-9B92-EA4EC524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1740F-B814-4792-ABE8-F867319F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7F3D7-3070-4838-9B38-2936C094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1D2DA-E8F9-40D4-A125-B43D6498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DC688-CF80-47FD-9512-28E47B1B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F015-B9F8-48B7-A3CC-F195FC82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F544-0F8B-4AEC-8E65-94B8C699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09D-CA57-46AA-95EF-8E58DBF1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239-9446-436D-96F2-7A90BD83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472D-1CCE-4D46-8366-19C1451E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AB0A-3E9D-47F9-AD05-57284804372C}" type="slidenum"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66880"/>
              </a:gs>
              <a:gs pos="50000">
                <a:srgbClr val="54abc5"/>
              </a:gs>
              <a:gs pos="100000">
                <a:srgbClr val="06688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2c2c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7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Полилиния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60" name="Прямая соединительная линия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8eef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8eef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B3E7-8D47-4697-B308-DC310AB4F582}" type="slidenum">
              <a:rPr b="0" lang="sv-S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08" name="Нашивка 10"/>
          <p:cNvGrpSpPr/>
          <p:nvPr/>
        </p:nvGrpSpPr>
        <p:grpSpPr>
          <a:xfrm>
            <a:off x="3565440" y="2962440"/>
            <a:ext cx="336600" cy="377640"/>
            <a:chOff x="3565440" y="2962440"/>
            <a:chExt cx="336600" cy="377640"/>
          </a:xfrm>
        </p:grpSpPr>
        <p:pic>
          <p:nvPicPr>
            <p:cNvPr id="109" name="Нашивка 10" descr=""/>
            <p:cNvPicPr/>
            <p:nvPr/>
          </p:nvPicPr>
          <p:blipFill>
            <a:blip r:embed="rId4"/>
            <a:stretch/>
          </p:blipFill>
          <p:spPr>
            <a:xfrm>
              <a:off x="3565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1" name="Нашивка 11"/>
          <p:cNvGrpSpPr/>
          <p:nvPr/>
        </p:nvGrpSpPr>
        <p:grpSpPr>
          <a:xfrm>
            <a:off x="3376440" y="2962440"/>
            <a:ext cx="336600" cy="377640"/>
            <a:chOff x="3376440" y="2962440"/>
            <a:chExt cx="336600" cy="377640"/>
          </a:xfrm>
        </p:grpSpPr>
        <p:pic>
          <p:nvPicPr>
            <p:cNvPr id="112" name="Нашивка 11" descr=""/>
            <p:cNvPicPr/>
            <p:nvPr/>
          </p:nvPicPr>
          <p:blipFill>
            <a:blip r:embed="rId5"/>
            <a:stretch/>
          </p:blipFill>
          <p:spPr>
            <a:xfrm>
              <a:off x="3376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EEDA-F800-439E-BC80-ED3C2555978D}" type="slidenum"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0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6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64" name="Прямоугольный треугольник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6" name="Прямая соединительная линия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67" name="Нашивка 18"/>
          <p:cNvGrpSpPr/>
          <p:nvPr/>
        </p:nvGrpSpPr>
        <p:grpSpPr>
          <a:xfrm>
            <a:off x="8589960" y="4943520"/>
            <a:ext cx="334800" cy="377640"/>
            <a:chOff x="8589960" y="4943520"/>
            <a:chExt cx="334800" cy="377640"/>
          </a:xfrm>
        </p:grpSpPr>
        <p:pic>
          <p:nvPicPr>
            <p:cNvPr id="168" name="Нашивка 18" descr=""/>
            <p:cNvPicPr/>
            <p:nvPr/>
          </p:nvPicPr>
          <p:blipFill>
            <a:blip r:embed="rId6"/>
            <a:stretch/>
          </p:blipFill>
          <p:spPr>
            <a:xfrm>
              <a:off x="8589960" y="494352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0" name="Нашивка 19"/>
          <p:cNvGrpSpPr/>
          <p:nvPr/>
        </p:nvGrpSpPr>
        <p:grpSpPr>
          <a:xfrm>
            <a:off x="8405640" y="4943520"/>
            <a:ext cx="336600" cy="377640"/>
            <a:chOff x="8405640" y="4943520"/>
            <a:chExt cx="336600" cy="377640"/>
          </a:xfrm>
        </p:grpSpPr>
        <p:pic>
          <p:nvPicPr>
            <p:cNvPr id="171" name="Нашивка 19" descr=""/>
            <p:cNvPicPr/>
            <p:nvPr/>
          </p:nvPicPr>
          <p:blipFill>
            <a:blip r:embed="rId7"/>
            <a:stretch/>
          </p:blipFill>
          <p:spPr>
            <a:xfrm>
              <a:off x="8405640" y="494352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E0C3-B905-44B5-8A65-EE3B63A064F3}" type="slidenum"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3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3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3.png"/><Relationship Id="rId3" Type="http://schemas.openxmlformats.org/officeDocument/2006/relationships/image" Target="../media/image34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3.png"/><Relationship Id="rId3" Type="http://schemas.openxmlformats.org/officeDocument/2006/relationships/image" Target="../media/image3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3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3" descr=""/>
          <p:cNvPicPr/>
          <p:nvPr/>
        </p:nvPicPr>
        <p:blipFill>
          <a:blip r:embed="rId1"/>
          <a:stretch/>
        </p:blipFill>
        <p:spPr>
          <a:xfrm>
            <a:off x="3143160" y="1774800"/>
            <a:ext cx="3195720" cy="2397240"/>
          </a:xfrm>
          <a:prstGeom prst="rect">
            <a:avLst/>
          </a:prstGeom>
          <a:ln w="0">
            <a:noFill/>
          </a:ln>
        </p:spPr>
      </p:pic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712800" y="706320"/>
            <a:ext cx="7772400" cy="42800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"/>
          <p:cNvSpPr/>
          <p:nvPr/>
        </p:nvSpPr>
        <p:spPr>
          <a:xfrm>
            <a:off x="785880" y="283680"/>
            <a:ext cx="825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птимизация операционной деятельности: оттачиваем бизнес-процесс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3634920" y="6196680"/>
            <a:ext cx="187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03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арта 2011, Моск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35" descr=""/>
          <p:cNvPicPr/>
          <p:nvPr/>
        </p:nvPicPr>
        <p:blipFill>
          <a:blip r:embed="rId3"/>
          <a:stretch/>
        </p:blipFill>
        <p:spPr>
          <a:xfrm>
            <a:off x="5357880" y="2273400"/>
            <a:ext cx="92376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42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4" descr=""/>
          <p:cNvPicPr/>
          <p:nvPr/>
        </p:nvPicPr>
        <p:blipFill>
          <a:blip r:embed="rId3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44" name="Заголовок 1"/>
          <p:cNvSpPr/>
          <p:nvPr/>
        </p:nvSpPr>
        <p:spPr>
          <a:xfrm>
            <a:off x="714240" y="1357200"/>
            <a:ext cx="76438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нимание того, что проблемой затрат заняты все подразделения, в том числе «отрабатывая» ее уже на этапе первичных переговоров с партнерами, грамотно защищая экономические интересы компан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азработка и первичная оценка мероприятий охватывает и нестандартные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евидимые/неочевидные для специалистов финансового управления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варианты снижения затра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роме непосредственно перечня мероприятий проработаны сопряженные с их реализацией риски, а так же оценены ресурсы для воплощения планов в жиз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активный взгляд на вещи: мероприятия направляются на изменение философии всех сотрудников в части работы с экономической составляющей процессами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vs.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активный взгляд: постоянные попытки «латания дыр прошлого»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P.S.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чь может идти как об отдельных этапах, процессах и направлениях, так и о бизнесе в цел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47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4" descr=""/>
          <p:cNvPicPr/>
          <p:nvPr/>
        </p:nvPicPr>
        <p:blipFill>
          <a:blip r:embed="rId3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49" name="Скругленный прямоугольник 10"/>
          <p:cNvSpPr/>
          <p:nvPr/>
        </p:nvSpPr>
        <p:spPr>
          <a:xfrm>
            <a:off x="3571920" y="3000240"/>
            <a:ext cx="1928880" cy="107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латежи принимаются на грани рентабель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Скругленный прямоугольник 11"/>
          <p:cNvSpPr/>
          <p:nvPr/>
        </p:nvSpPr>
        <p:spPr>
          <a:xfrm>
            <a:off x="3571920" y="1785960"/>
            <a:ext cx="192888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казаться от платеж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Скругленный прямоугольник 13"/>
          <p:cNvSpPr/>
          <p:nvPr/>
        </p:nvSpPr>
        <p:spPr>
          <a:xfrm>
            <a:off x="1143000" y="221472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низить стоимость инкассац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Скругленный прямоугольник 14"/>
          <p:cNvSpPr/>
          <p:nvPr/>
        </p:nvSpPr>
        <p:spPr>
          <a:xfrm>
            <a:off x="3571920" y="4714920"/>
            <a:ext cx="192888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втоматизи-рова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Скругленный прямоугольник 15"/>
          <p:cNvSpPr/>
          <p:nvPr/>
        </p:nvSpPr>
        <p:spPr>
          <a:xfrm>
            <a:off x="1214280" y="385776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низить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чие издерж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Крест 16"/>
          <p:cNvSpPr/>
          <p:nvPr/>
        </p:nvSpPr>
        <p:spPr>
          <a:xfrm rot="2472600">
            <a:off x="3308040" y="1890720"/>
            <a:ext cx="492120" cy="46656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Стрелка вправо 17"/>
          <p:cNvSpPr/>
          <p:nvPr/>
        </p:nvSpPr>
        <p:spPr>
          <a:xfrm rot="16200000">
            <a:off x="4197240" y="2517120"/>
            <a:ext cx="677880" cy="3571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Стрелка вправо 18"/>
          <p:cNvSpPr/>
          <p:nvPr/>
        </p:nvSpPr>
        <p:spPr>
          <a:xfrm rot="5400000">
            <a:off x="4196520" y="423288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Крест 19"/>
          <p:cNvSpPr/>
          <p:nvPr/>
        </p:nvSpPr>
        <p:spPr>
          <a:xfrm rot="2472600">
            <a:off x="3308040" y="4748040"/>
            <a:ext cx="492120" cy="46692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Стрелка вправо 20"/>
          <p:cNvSpPr/>
          <p:nvPr/>
        </p:nvSpPr>
        <p:spPr>
          <a:xfrm rot="12883200">
            <a:off x="2970000" y="273348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Крест 21"/>
          <p:cNvSpPr/>
          <p:nvPr/>
        </p:nvSpPr>
        <p:spPr>
          <a:xfrm rot="2472600">
            <a:off x="879120" y="2533680"/>
            <a:ext cx="492120" cy="46656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Стрелка вправо 22"/>
          <p:cNvSpPr/>
          <p:nvPr/>
        </p:nvSpPr>
        <p:spPr>
          <a:xfrm rot="8661000">
            <a:off x="3023640" y="404784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Крест 23"/>
          <p:cNvSpPr/>
          <p:nvPr/>
        </p:nvSpPr>
        <p:spPr>
          <a:xfrm rot="2472600">
            <a:off x="950400" y="4176720"/>
            <a:ext cx="492120" cy="46656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Скругленный прямоугольник 24"/>
          <p:cNvSpPr/>
          <p:nvPr/>
        </p:nvSpPr>
        <p:spPr>
          <a:xfrm>
            <a:off x="6000840" y="221472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величить комиссию от партнер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Стрелка вправо 25"/>
          <p:cNvSpPr/>
          <p:nvPr/>
        </p:nvSpPr>
        <p:spPr>
          <a:xfrm rot="19574400">
            <a:off x="5398920" y="2730240"/>
            <a:ext cx="679680" cy="35712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Крест 26"/>
          <p:cNvSpPr/>
          <p:nvPr/>
        </p:nvSpPr>
        <p:spPr>
          <a:xfrm rot="2472600">
            <a:off x="7665840" y="2462040"/>
            <a:ext cx="492120" cy="46692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Скругленный прямоугольник 29"/>
          <p:cNvSpPr/>
          <p:nvPr/>
        </p:nvSpPr>
        <p:spPr>
          <a:xfrm>
            <a:off x="6000840" y="385776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брать комиссию с клиент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Стрелка вправо 30"/>
          <p:cNvSpPr/>
          <p:nvPr/>
        </p:nvSpPr>
        <p:spPr>
          <a:xfrm rot="1798200">
            <a:off x="5402160" y="3932280"/>
            <a:ext cx="677880" cy="3571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Трапеция 31"/>
          <p:cNvSpPr/>
          <p:nvPr/>
        </p:nvSpPr>
        <p:spPr>
          <a:xfrm rot="10800000">
            <a:off x="7715160" y="3786120"/>
            <a:ext cx="214560" cy="642960"/>
          </a:xfrm>
          <a:custGeom>
            <a:avLst/>
            <a:gdLst/>
            <a:ahLst/>
            <a:rect l="l" t="t" r="r" b="b"/>
            <a:pathLst>
              <a:path w="214313" h="642937">
                <a:moveTo>
                  <a:pt x="0" y="642937"/>
                </a:moveTo>
                <a:lnTo>
                  <a:pt x="53578" y="0"/>
                </a:lnTo>
                <a:lnTo>
                  <a:pt x="160735" y="0"/>
                </a:lnTo>
                <a:lnTo>
                  <a:pt x="214313" y="642937"/>
                </a:lnTo>
                <a:lnTo>
                  <a:pt x="0" y="642937"/>
                </a:lnTo>
                <a:close/>
              </a:path>
            </a:pathLst>
          </a:custGeom>
          <a:solidFill>
            <a:srgbClr val="339933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Овал 32"/>
          <p:cNvSpPr/>
          <p:nvPr/>
        </p:nvSpPr>
        <p:spPr>
          <a:xfrm>
            <a:off x="7715160" y="4572000"/>
            <a:ext cx="214560" cy="200160"/>
          </a:xfrm>
          <a:prstGeom prst="ellipse">
            <a:avLst/>
          </a:prstGeom>
          <a:solidFill>
            <a:srgbClr val="339933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57200" y="208080"/>
            <a:ext cx="8229600" cy="106668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3"/>
          <a:stretch/>
        </p:blipFill>
        <p:spPr>
          <a:xfrm>
            <a:off x="7929720" y="6186600"/>
            <a:ext cx="571320" cy="460440"/>
          </a:xfrm>
          <a:prstGeom prst="rect">
            <a:avLst/>
          </a:prstGeom>
          <a:ln w="0">
            <a:noFill/>
          </a:ln>
        </p:spPr>
      </p:pic>
      <p:sp>
        <p:nvSpPr>
          <p:cNvPr id="373" name="Скругленный прямоугольник 8"/>
          <p:cNvSpPr/>
          <p:nvPr/>
        </p:nvSpPr>
        <p:spPr>
          <a:xfrm>
            <a:off x="1000080" y="135720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роки реализ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Скругленный прямоугольник 9"/>
          <p:cNvSpPr/>
          <p:nvPr/>
        </p:nvSpPr>
        <p:spPr>
          <a:xfrm>
            <a:off x="3429000" y="135720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ис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Скругленный прямоугольник 10"/>
          <p:cNvSpPr/>
          <p:nvPr/>
        </p:nvSpPr>
        <p:spPr>
          <a:xfrm>
            <a:off x="5929200" y="135720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требуем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есурс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Скругленный прямоугольник 11"/>
          <p:cNvSpPr/>
          <p:nvPr/>
        </p:nvSpPr>
        <p:spPr>
          <a:xfrm>
            <a:off x="3429000" y="214308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ерспектив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азвит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Скругленный прямоугольник 13"/>
          <p:cNvSpPr/>
          <p:nvPr/>
        </p:nvSpPr>
        <p:spPr>
          <a:xfrm>
            <a:off x="1000080" y="292896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эффек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инерг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Скругленный прямоугольник 14"/>
          <p:cNvSpPr/>
          <p:nvPr/>
        </p:nvSpPr>
        <p:spPr>
          <a:xfrm>
            <a:off x="1000080" y="3714840"/>
            <a:ext cx="35006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озмо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масштабирова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Скругленный прямоугольник 15"/>
          <p:cNvSpPr/>
          <p:nvPr/>
        </p:nvSpPr>
        <p:spPr>
          <a:xfrm>
            <a:off x="1000080" y="214308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кор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«отдачи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Скругленный прямоугольник 16"/>
          <p:cNvSpPr/>
          <p:nvPr/>
        </p:nvSpPr>
        <p:spPr>
          <a:xfrm>
            <a:off x="4714920" y="3714840"/>
            <a:ext cx="350028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оответствие страте-гическим интереса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Скругленный прямоугольник 17"/>
          <p:cNvSpPr/>
          <p:nvPr/>
        </p:nvSpPr>
        <p:spPr>
          <a:xfrm>
            <a:off x="3429000" y="292896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доля в результа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Скругленный прямоугольник 18"/>
          <p:cNvSpPr/>
          <p:nvPr/>
        </p:nvSpPr>
        <p:spPr>
          <a:xfrm>
            <a:off x="5929200" y="214308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налич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пы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Скругленный прямоугольник 19"/>
          <p:cNvSpPr/>
          <p:nvPr/>
        </p:nvSpPr>
        <p:spPr>
          <a:xfrm>
            <a:off x="5929200" y="292896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овлечен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ерсона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Прямоугольник 20"/>
          <p:cNvSpPr/>
          <p:nvPr/>
        </p:nvSpPr>
        <p:spPr>
          <a:xfrm>
            <a:off x="785880" y="4500720"/>
            <a:ext cx="79293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висят о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нтабельности и оборачиваемости бизнес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запущенности» ситуаци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характера угроз (конкуренты, экономическое окружение и т.д.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дач, стоящих перед менеджментом и бизнесом в цел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0" descr=""/>
          <p:cNvPicPr/>
          <p:nvPr/>
        </p:nvPicPr>
        <p:blipFill>
          <a:blip r:embed="rId1"/>
          <a:stretch/>
        </p:blipFill>
        <p:spPr>
          <a:xfrm>
            <a:off x="1785960" y="2571840"/>
            <a:ext cx="3749760" cy="2506680"/>
          </a:xfrm>
          <a:prstGeom prst="rect">
            <a:avLst/>
          </a:prstGeom>
          <a:ln w="0">
            <a:noFill/>
          </a:ln>
        </p:spPr>
      </p:pic>
      <p:sp>
        <p:nvSpPr>
          <p:cNvPr id="387" name="Скругленный прямоугольник 19"/>
          <p:cNvSpPr/>
          <p:nvPr/>
        </p:nvSpPr>
        <p:spPr>
          <a:xfrm>
            <a:off x="571680" y="1643040"/>
            <a:ext cx="8001000" cy="1928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sh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ак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Заголовок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389" name="Прямая соединительная линия 6" descr=""/>
          <p:cNvPicPr/>
          <p:nvPr/>
        </p:nvPicPr>
        <p:blipFill>
          <a:blip r:embed="rId3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"/>
          <p:cNvPicPr/>
          <p:nvPr/>
        </p:nvPicPr>
        <p:blipFill>
          <a:blip r:embed="rId4"/>
          <a:stretch/>
        </p:blipFill>
        <p:spPr>
          <a:xfrm>
            <a:off x="8001000" y="607212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10"/>
          <p:cNvSpPr/>
          <p:nvPr/>
        </p:nvSpPr>
        <p:spPr>
          <a:xfrm>
            <a:off x="785880" y="178596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ямая заинтересованность всего высшего менеджмен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Прямоугольник 11"/>
          <p:cNvSpPr/>
          <p:nvPr/>
        </p:nvSpPr>
        <p:spPr>
          <a:xfrm>
            <a:off x="785880" y="464328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ктивная вовлеченность персонала на всех стадия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Прямоугольник 13"/>
          <p:cNvSpPr/>
          <p:nvPr/>
        </p:nvSpPr>
        <p:spPr>
          <a:xfrm>
            <a:off x="785880" y="421488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«шаг за шагом»: сначала - проекты с быстрой отдач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Прямоугольник 14"/>
          <p:cNvSpPr/>
          <p:nvPr/>
        </p:nvSpPr>
        <p:spPr>
          <a:xfrm>
            <a:off x="785880" y="507204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мотивация персонала на «участие в успехе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Прямоугольник 15"/>
          <p:cNvSpPr/>
          <p:nvPr/>
        </p:nvSpPr>
        <p:spPr>
          <a:xfrm>
            <a:off x="785880" y="378612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паганда «экономического мышления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Прямоугольник 16"/>
          <p:cNvSpPr/>
          <p:nvPr/>
        </p:nvSpPr>
        <p:spPr>
          <a:xfrm>
            <a:off x="785880" y="221472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становка амбициозных задач владельц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Прямоугольник 17"/>
          <p:cNvSpPr/>
          <p:nvPr/>
        </p:nvSpPr>
        <p:spPr>
          <a:xfrm>
            <a:off x="785880" y="264312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аличие угрозы (конкуренты, рейдеры и т.п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Прямоугольник 18"/>
          <p:cNvSpPr/>
          <p:nvPr/>
        </p:nvSpPr>
        <p:spPr>
          <a:xfrm>
            <a:off x="785880" y="307188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жесткость и готовность идти до конц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Скругленный прямоугольник 20"/>
          <p:cNvSpPr/>
          <p:nvPr/>
        </p:nvSpPr>
        <p:spPr>
          <a:xfrm>
            <a:off x="571680" y="3643200"/>
            <a:ext cx="8001000" cy="1928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ll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ак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"/>
          <p:cNvPicPr/>
          <p:nvPr/>
        </p:nvPicPr>
        <p:blipFill>
          <a:blip r:embed="rId3"/>
          <a:stretch/>
        </p:blipFill>
        <p:spPr>
          <a:xfrm>
            <a:off x="8001000" y="607212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10"/>
          <p:cNvSpPr/>
          <p:nvPr/>
        </p:nvSpPr>
        <p:spPr>
          <a:xfrm>
            <a:off x="1571760" y="157176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ичины возникновения неэффективных издерже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Скругленный прямоугольник 21"/>
          <p:cNvSpPr/>
          <p:nvPr/>
        </p:nvSpPr>
        <p:spPr>
          <a:xfrm>
            <a:off x="857160" y="2214720"/>
            <a:ext cx="2500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человеческий фактор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Скругленный прямоугольник 22"/>
          <p:cNvSpPr/>
          <p:nvPr/>
        </p:nvSpPr>
        <p:spPr>
          <a:xfrm>
            <a:off x="3429000" y="2214720"/>
            <a:ext cx="25002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ализация риск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07" name="Прямая со стрелкой 23"/>
          <p:cNvCxnSpPr/>
          <p:nvPr/>
        </p:nvCxnSpPr>
        <p:spPr>
          <a:xfrm flipH="1">
            <a:off x="2285640" y="1928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08" name="Прямая со стрелкой 24"/>
          <p:cNvCxnSpPr/>
          <p:nvPr/>
        </p:nvCxnSpPr>
        <p:spPr>
          <a:xfrm flipH="1">
            <a:off x="4571640" y="1928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09" name="Прямая со стрелкой 25"/>
          <p:cNvCxnSpPr/>
          <p:nvPr/>
        </p:nvCxnSpPr>
        <p:spPr>
          <a:xfrm flipH="1">
            <a:off x="7000560" y="1928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10" name="Скругленный прямоугольник 26"/>
          <p:cNvSpPr/>
          <p:nvPr/>
        </p:nvSpPr>
        <p:spPr>
          <a:xfrm>
            <a:off x="6072120" y="2214720"/>
            <a:ext cx="18576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solidFill>
              <a:srgbClr val="26697a"/>
            </a:solidFill>
            <a:prstDash val="sysDash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Скругленный прямоугольник 27"/>
          <p:cNvSpPr/>
          <p:nvPr/>
        </p:nvSpPr>
        <p:spPr>
          <a:xfrm>
            <a:off x="357120" y="2928960"/>
            <a:ext cx="192888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непреднамерен-ный (нехватка квалификации, инертность и т.п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Скругленный прямоугольник 28"/>
          <p:cNvSpPr/>
          <p:nvPr/>
        </p:nvSpPr>
        <p:spPr>
          <a:xfrm>
            <a:off x="2357280" y="2928960"/>
            <a:ext cx="171468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преднаме-ренный (мо-шенничество, саботаж и т.п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13" name="Прямая со стрелкой 29"/>
          <p:cNvCxnSpPr/>
          <p:nvPr/>
        </p:nvCxnSpPr>
        <p:spPr>
          <a:xfrm flipH="1">
            <a:off x="1499400" y="264312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4" name="Прямая со стрелкой 30"/>
          <p:cNvCxnSpPr/>
          <p:nvPr/>
        </p:nvCxnSpPr>
        <p:spPr>
          <a:xfrm flipH="1">
            <a:off x="2999520" y="264312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5" name="Прямая со стрелкой 31"/>
          <p:cNvCxnSpPr/>
          <p:nvPr/>
        </p:nvCxnSpPr>
        <p:spPr>
          <a:xfrm flipH="1">
            <a:off x="1499400" y="378612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6" name="Прямая со стрелкой 32"/>
          <p:cNvCxnSpPr/>
          <p:nvPr/>
        </p:nvCxnSpPr>
        <p:spPr>
          <a:xfrm flipH="1">
            <a:off x="2999520" y="378612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7" name="Прямая со стрелкой 33"/>
          <p:cNvCxnSpPr/>
          <p:nvPr/>
        </p:nvCxnSpPr>
        <p:spPr>
          <a:xfrm flipH="1">
            <a:off x="5214600" y="264312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18" name="Скругленный прямоугольник 34"/>
          <p:cNvSpPr/>
          <p:nvPr/>
        </p:nvSpPr>
        <p:spPr>
          <a:xfrm>
            <a:off x="4286160" y="2928960"/>
            <a:ext cx="18576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solidFill>
              <a:srgbClr val="26697a"/>
            </a:solidFill>
            <a:prstDash val="sysDash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Скругленный прямоугольник 35"/>
          <p:cNvSpPr/>
          <p:nvPr/>
        </p:nvSpPr>
        <p:spPr>
          <a:xfrm>
            <a:off x="357120" y="4071960"/>
            <a:ext cx="200016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переобучение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замена и мотивация персонал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Скругленный прямоугольник 36"/>
          <p:cNvSpPr/>
          <p:nvPr/>
        </p:nvSpPr>
        <p:spPr>
          <a:xfrm>
            <a:off x="2428920" y="4071960"/>
            <a:ext cx="171432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увольнение с привлечением СБ и т.п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Правая фигурная скобка 37"/>
          <p:cNvSpPr/>
          <p:nvPr/>
        </p:nvSpPr>
        <p:spPr>
          <a:xfrm rot="5400000">
            <a:off x="4321440" y="1035720"/>
            <a:ext cx="357120" cy="8286840"/>
          </a:xfrm>
          <a:custGeom>
            <a:avLst/>
            <a:gdLst>
              <a:gd name="textAreaLeft" fmla="*/ 0 w 357120"/>
              <a:gd name="textAreaRight" fmla="*/ 128880 w 357120"/>
              <a:gd name="textAreaTop" fmla="*/ 46800 h 8286840"/>
              <a:gd name="textAreaBottom" fmla="*/ 8240040 h 828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5"/>
                  <a:pt x="10800" y="390"/>
                </a:cubicBezTo>
                <a:lnTo>
                  <a:pt x="10800" y="10381"/>
                </a:lnTo>
                <a:cubicBezTo>
                  <a:pt x="10800" y="10576"/>
                  <a:pt x="16200" y="10771"/>
                  <a:pt x="21600" y="10771"/>
                </a:cubicBezTo>
                <a:cubicBezTo>
                  <a:pt x="16200" y="10771"/>
                  <a:pt x="10800" y="10966"/>
                  <a:pt x="10800" y="11161"/>
                </a:cubicBezTo>
                <a:lnTo>
                  <a:pt x="10800" y="21210"/>
                </a:lnTo>
                <a:cubicBezTo>
                  <a:pt x="10800" y="2140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Прямоугольник 38"/>
          <p:cNvSpPr/>
          <p:nvPr/>
        </p:nvSpPr>
        <p:spPr>
          <a:xfrm>
            <a:off x="428760" y="5357880"/>
            <a:ext cx="80722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мониторинг, организация превентивных мер и профилакти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9" descr=""/>
          <p:cNvPicPr/>
          <p:nvPr/>
        </p:nvPicPr>
        <p:blipFill>
          <a:blip r:embed="rId3"/>
          <a:stretch/>
        </p:blipFill>
        <p:spPr>
          <a:xfrm>
            <a:off x="7786800" y="6216480"/>
            <a:ext cx="928440" cy="479520"/>
          </a:xfrm>
          <a:prstGeom prst="rect">
            <a:avLst/>
          </a:prstGeom>
          <a:ln w="0">
            <a:noFill/>
          </a:ln>
        </p:spPr>
      </p:pic>
      <p:sp>
        <p:nvSpPr>
          <p:cNvPr id="427" name="Скругленный прямоугольник 5"/>
          <p:cNvSpPr/>
          <p:nvPr/>
        </p:nvSpPr>
        <p:spPr>
          <a:xfrm>
            <a:off x="3571920" y="3000240"/>
            <a:ext cx="1928880" cy="107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ЛОЖНОСТИ ПРИ РЕАЛИЗАЦИИ ПРОГРАМ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Скругленный прямоугольник 7"/>
          <p:cNvSpPr/>
          <p:nvPr/>
        </p:nvSpPr>
        <p:spPr>
          <a:xfrm>
            <a:off x="3571920" y="21430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техн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Скругленный прямоугольник 8"/>
          <p:cNvSpPr/>
          <p:nvPr/>
        </p:nvSpPr>
        <p:spPr>
          <a:xfrm>
            <a:off x="1000080" y="214308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финансов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Скругленный прямоугольник 9"/>
          <p:cNvSpPr/>
          <p:nvPr/>
        </p:nvSpPr>
        <p:spPr>
          <a:xfrm>
            <a:off x="3571920" y="44290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эт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Скругленный прямоугольник 10"/>
          <p:cNvSpPr/>
          <p:nvPr/>
        </p:nvSpPr>
        <p:spPr>
          <a:xfrm>
            <a:off x="1071720" y="4429080"/>
            <a:ext cx="20714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сихолог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Стрелка вправо 13"/>
          <p:cNvSpPr/>
          <p:nvPr/>
        </p:nvSpPr>
        <p:spPr>
          <a:xfrm rot="16200000">
            <a:off x="4340160" y="2660040"/>
            <a:ext cx="3920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Стрелка вправо 14"/>
          <p:cNvSpPr/>
          <p:nvPr/>
        </p:nvSpPr>
        <p:spPr>
          <a:xfrm rot="5400000">
            <a:off x="4321800" y="4107600"/>
            <a:ext cx="42876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Стрелка вправо 16"/>
          <p:cNvSpPr/>
          <p:nvPr/>
        </p:nvSpPr>
        <p:spPr>
          <a:xfrm rot="12883200">
            <a:off x="2970000" y="273348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Стрелка вправо 18"/>
          <p:cNvSpPr/>
          <p:nvPr/>
        </p:nvSpPr>
        <p:spPr>
          <a:xfrm rot="8661000">
            <a:off x="3023640" y="404784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Скругленный прямоугольник 20"/>
          <p:cNvSpPr/>
          <p:nvPr/>
        </p:nvSpPr>
        <p:spPr>
          <a:xfrm>
            <a:off x="6000840" y="21430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юрид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Стрелка вправо 21"/>
          <p:cNvSpPr/>
          <p:nvPr/>
        </p:nvSpPr>
        <p:spPr>
          <a:xfrm rot="19574400">
            <a:off x="5398920" y="2730240"/>
            <a:ext cx="679680" cy="35712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Скругленный прямоугольник 23"/>
          <p:cNvSpPr/>
          <p:nvPr/>
        </p:nvSpPr>
        <p:spPr>
          <a:xfrm>
            <a:off x="6072120" y="44290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оциальн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Стрелка вправо 24"/>
          <p:cNvSpPr/>
          <p:nvPr/>
        </p:nvSpPr>
        <p:spPr>
          <a:xfrm rot="2340000">
            <a:off x="5387760" y="4051440"/>
            <a:ext cx="739800" cy="35712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Скругленный прямоугольник 47"/>
          <p:cNvSpPr/>
          <p:nvPr/>
        </p:nvSpPr>
        <p:spPr>
          <a:xfrm>
            <a:off x="1000080" y="1428840"/>
            <a:ext cx="6929640" cy="428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sh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ак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Скругленный прямоугольник 48"/>
          <p:cNvSpPr/>
          <p:nvPr/>
        </p:nvSpPr>
        <p:spPr>
          <a:xfrm>
            <a:off x="1071720" y="5286240"/>
            <a:ext cx="6929280" cy="4287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ll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ак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42" name="Прямая со стрелкой 49"/>
          <p:cNvCxnSpPr/>
          <p:nvPr/>
        </p:nvCxnSpPr>
        <p:spPr>
          <a:xfrm flipH="1">
            <a:off x="1999440" y="5000400"/>
            <a:ext cx="2520" cy="2862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3" name="Прямая со стрелкой 51"/>
          <p:cNvCxnSpPr/>
          <p:nvPr/>
        </p:nvCxnSpPr>
        <p:spPr>
          <a:xfrm flipH="1">
            <a:off x="4500360" y="5000400"/>
            <a:ext cx="2160" cy="2862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4" name="Прямая со стрелкой 52"/>
          <p:cNvCxnSpPr/>
          <p:nvPr/>
        </p:nvCxnSpPr>
        <p:spPr>
          <a:xfrm flipH="1">
            <a:off x="7000560" y="5000400"/>
            <a:ext cx="2160" cy="2862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5" name="Прямая со стрелкой 53"/>
          <p:cNvCxnSpPr/>
          <p:nvPr/>
        </p:nvCxnSpPr>
        <p:spPr>
          <a:xfrm flipH="1" flipV="1">
            <a:off x="2071440" y="1856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6" name="Прямая со стрелкой 57"/>
          <p:cNvCxnSpPr/>
          <p:nvPr/>
        </p:nvCxnSpPr>
        <p:spPr>
          <a:xfrm flipH="1" flipV="1">
            <a:off x="4500360" y="1856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7" name="Прямая со стрелкой 59"/>
          <p:cNvCxnSpPr/>
          <p:nvPr/>
        </p:nvCxnSpPr>
        <p:spPr>
          <a:xfrm flipH="1" flipV="1">
            <a:off x="6928560" y="185688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48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450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"/>
          <p:cNvPicPr/>
          <p:nvPr/>
        </p:nvPicPr>
        <p:blipFill>
          <a:blip r:embed="rId3"/>
          <a:stretch/>
        </p:blipFill>
        <p:spPr>
          <a:xfrm>
            <a:off x="7786800" y="6216480"/>
            <a:ext cx="928440" cy="479520"/>
          </a:xfrm>
          <a:prstGeom prst="rect">
            <a:avLst/>
          </a:prstGeom>
          <a:ln w="0">
            <a:noFill/>
          </a:ln>
        </p:spPr>
      </p:pic>
      <p:pic>
        <p:nvPicPr>
          <p:cNvPr id="452" name="Схема 26" descr=""/>
          <p:cNvPicPr/>
          <p:nvPr/>
        </p:nvPicPr>
        <p:blipFill>
          <a:blip r:embed="rId4"/>
          <a:stretch/>
        </p:blipFill>
        <p:spPr>
          <a:xfrm>
            <a:off x="493560" y="1285920"/>
            <a:ext cx="8339400" cy="4621320"/>
          </a:xfrm>
          <a:prstGeom prst="rect">
            <a:avLst/>
          </a:prstGeom>
          <a:ln w="0">
            <a:noFill/>
          </a:ln>
        </p:spPr>
      </p:pic>
      <p:sp>
        <p:nvSpPr>
          <p:cNvPr id="453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Заголовок 1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36600"/>
          </a:xfrm>
          <a:prstGeom prst="rect">
            <a:avLst/>
          </a:prstGeom>
          <a:ln w="0">
            <a:noFill/>
          </a:ln>
        </p:spPr>
      </p:pic>
      <p:pic>
        <p:nvPicPr>
          <p:cNvPr id="455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456" name="Заголовок 1"/>
          <p:cNvSpPr/>
          <p:nvPr/>
        </p:nvSpPr>
        <p:spPr>
          <a:xfrm>
            <a:off x="714240" y="1285920"/>
            <a:ext cx="79297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Эффективные программы по снижению затрат – результат жесткого руководства, четкого планирования, вовлеченности всего персонала и постоянного мониторинга обратной связ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роме экономических, у каждого проекта по снижению затрат есть и другие последствия, в том числе социальные. Каждое из таких последствий должно быть просчитано до принятия решений. Стоимость реализации программы и нивелирования ее негативных последствий не должна превышать полезного эффект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Любой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опыт и практические наработки успешных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и неуспешных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программ должны передаваться на другие проекты. Для этого управление проектами должно осуществляться специальными группами с включением менеджеров, имеющих успешную практик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Будьте готовы к медленной отдаче от усилий. И тем более – к неудачам при реализации проектов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елайте выводы из неудач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собенное внимание необходимо уделять случаям преднамеренного завышения затра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мните про затраты, приносящие доход. Зарабатывайте на расходах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7" name="Picture 35" descr=""/>
          <p:cNvPicPr/>
          <p:nvPr/>
        </p:nvPicPr>
        <p:blipFill>
          <a:blip r:embed="rId3"/>
          <a:stretch/>
        </p:blipFill>
        <p:spPr>
          <a:xfrm>
            <a:off x="7929720" y="6215040"/>
            <a:ext cx="1009440" cy="428760"/>
          </a:xfrm>
          <a:prstGeom prst="rect">
            <a:avLst/>
          </a:prstGeom>
          <a:ln w="0">
            <a:noFill/>
          </a:ln>
        </p:spPr>
      </p:pic>
      <p:sp>
        <p:nvSpPr>
          <p:cNvPr id="458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6" descr=""/>
          <p:cNvPicPr/>
          <p:nvPr/>
        </p:nvPicPr>
        <p:blipFill>
          <a:blip r:embed="rId1"/>
          <a:stretch/>
        </p:blipFill>
        <p:spPr>
          <a:xfrm>
            <a:off x="3500280" y="2000160"/>
            <a:ext cx="2357640" cy="2071800"/>
          </a:xfrm>
          <a:prstGeom prst="rect">
            <a:avLst/>
          </a:prstGeom>
          <a:ln w="0">
            <a:noFill/>
          </a:ln>
        </p:spPr>
      </p:pic>
      <p:pic>
        <p:nvPicPr>
          <p:cNvPr id="460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461" name="Заголовок 1" descr=""/>
          <p:cNvPicPr/>
          <p:nvPr/>
        </p:nvPicPr>
        <p:blipFill>
          <a:blip r:embed="rId3"/>
          <a:stretch/>
        </p:blipFill>
        <p:spPr>
          <a:xfrm>
            <a:off x="1920960" y="1249200"/>
            <a:ext cx="5821200" cy="3621240"/>
          </a:xfrm>
          <a:prstGeom prst="rect">
            <a:avLst/>
          </a:prstGeom>
          <a:ln w="0">
            <a:noFill/>
          </a:ln>
        </p:spPr>
      </p:pic>
      <p:sp>
        <p:nvSpPr>
          <p:cNvPr id="462" name="Заголовок 1"/>
          <p:cNvSpPr/>
          <p:nvPr/>
        </p:nvSpPr>
        <p:spPr>
          <a:xfrm>
            <a:off x="642960" y="471492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Если что-то вспомните позже, не постесняйтесь написать на 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chadin@maxus.r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3" name="Picture 35" descr=""/>
          <p:cNvPicPr/>
          <p:nvPr/>
        </p:nvPicPr>
        <p:blipFill>
          <a:blip r:embed="rId4"/>
          <a:stretch/>
        </p:blipFill>
        <p:spPr>
          <a:xfrm>
            <a:off x="7929720" y="6215040"/>
            <a:ext cx="1009440" cy="428760"/>
          </a:xfrm>
          <a:prstGeom prst="rect">
            <a:avLst/>
          </a:prstGeom>
          <a:ln w="0">
            <a:noFill/>
          </a:ln>
        </p:spPr>
      </p:pic>
      <p:sp>
        <p:nvSpPr>
          <p:cNvPr id="464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7"/>
          <p:cNvSpPr/>
          <p:nvPr/>
        </p:nvSpPr>
        <p:spPr>
          <a:xfrm>
            <a:off x="500040" y="2071800"/>
            <a:ext cx="40006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ключевые процес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4643280" y="2071800"/>
            <a:ext cx="40006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вспомогательные процес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Прямая со стрелкой 9"/>
          <p:cNvCxnSpPr/>
          <p:nvPr/>
        </p:nvCxnSpPr>
        <p:spPr>
          <a:xfrm>
            <a:off x="157068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32" name="Прямоугольник 11"/>
          <p:cNvSpPr/>
          <p:nvPr/>
        </p:nvSpPr>
        <p:spPr>
          <a:xfrm>
            <a:off x="500040" y="2714760"/>
            <a:ext cx="192888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базов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оздающие продукт (диктуются отраслевыми стандартами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Прямоугольник 13"/>
          <p:cNvSpPr/>
          <p:nvPr/>
        </p:nvSpPr>
        <p:spPr>
          <a:xfrm>
            <a:off x="2571840" y="2714760"/>
            <a:ext cx="192888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пециальн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елающие продукт уникальным (собственные решения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Прямая со стрелкой 16"/>
          <p:cNvCxnSpPr/>
          <p:nvPr/>
        </p:nvCxnSpPr>
        <p:spPr>
          <a:xfrm>
            <a:off x="342792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35" name="Прямоугольник 17"/>
          <p:cNvSpPr/>
          <p:nvPr/>
        </p:nvSpPr>
        <p:spPr>
          <a:xfrm>
            <a:off x="4643280" y="2714760"/>
            <a:ext cx="207180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типов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бслуживающие бизнес (не создающие продукт непо-средственно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Прямоугольник 18"/>
          <p:cNvSpPr/>
          <p:nvPr/>
        </p:nvSpPr>
        <p:spPr>
          <a:xfrm>
            <a:off x="6858000" y="2714760"/>
            <a:ext cx="178596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етипов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–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агрузка на бизнес (социальные программы и т.п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7" name="Прямая со стрелкой 19"/>
          <p:cNvCxnSpPr/>
          <p:nvPr/>
        </p:nvCxnSpPr>
        <p:spPr>
          <a:xfrm>
            <a:off x="578520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38" name="Прямая со стрелкой 20"/>
          <p:cNvCxnSpPr/>
          <p:nvPr/>
        </p:nvCxnSpPr>
        <p:spPr>
          <a:xfrm>
            <a:off x="778572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39" name="Скругленный прямоугольник 21"/>
          <p:cNvSpPr/>
          <p:nvPr/>
        </p:nvSpPr>
        <p:spPr>
          <a:xfrm>
            <a:off x="3143160" y="1500120"/>
            <a:ext cx="285768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все бизнес-процес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0" name="Прямая со стрелкой 31"/>
          <p:cNvCxnSpPr/>
          <p:nvPr/>
        </p:nvCxnSpPr>
        <p:spPr>
          <a:xfrm flipH="1">
            <a:off x="3642480" y="1857240"/>
            <a:ext cx="108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41" name="Прямая со стрелкой 36"/>
          <p:cNvCxnSpPr/>
          <p:nvPr/>
        </p:nvCxnSpPr>
        <p:spPr>
          <a:xfrm flipH="1">
            <a:off x="5500080" y="1857240"/>
            <a:ext cx="108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42" name="Заголовок 1"/>
          <p:cNvSpPr/>
          <p:nvPr/>
        </p:nvSpPr>
        <p:spPr>
          <a:xfrm>
            <a:off x="785880" y="4714920"/>
            <a:ext cx="76438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аиболее важные вопросы на этом этапе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а каких процессах «лежит» стратегия развития бизнеса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 каких процессов можно отказаться, а от каких нельзя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ие процессы можно передать на субподряд, а какие нельзя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23" descr=""/>
          <p:cNvPicPr/>
          <p:nvPr/>
        </p:nvPicPr>
        <p:blipFill>
          <a:blip r:embed="rId3"/>
          <a:stretch/>
        </p:blipFill>
        <p:spPr>
          <a:xfrm>
            <a:off x="7929720" y="6161040"/>
            <a:ext cx="714240" cy="536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7"/>
          <p:cNvSpPr/>
          <p:nvPr/>
        </p:nvSpPr>
        <p:spPr>
          <a:xfrm>
            <a:off x="500040" y="2071800"/>
            <a:ext cx="40006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истема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KP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4643280" y="2071800"/>
            <a:ext cx="40006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истема информационного обме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8" name="Прямая со стрелкой 9"/>
          <p:cNvCxnSpPr/>
          <p:nvPr/>
        </p:nvCxnSpPr>
        <p:spPr>
          <a:xfrm>
            <a:off x="157068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49" name="Прямоугольник 11"/>
          <p:cNvSpPr/>
          <p:nvPr/>
        </p:nvSpPr>
        <p:spPr>
          <a:xfrm>
            <a:off x="500040" y="2714760"/>
            <a:ext cx="192888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операционн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лючевые показатели эффективности регулярных процесс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Прямоугольник 13"/>
          <p:cNvSpPr/>
          <p:nvPr/>
        </p:nvSpPr>
        <p:spPr>
          <a:xfrm>
            <a:off x="2571840" y="2714760"/>
            <a:ext cx="192888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ектные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лючевые показатели эффективности управления проект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1" name="Прямая со стрелкой 16"/>
          <p:cNvCxnSpPr/>
          <p:nvPr/>
        </p:nvCxnSpPr>
        <p:spPr>
          <a:xfrm>
            <a:off x="342792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52" name="Прямоугольник 17"/>
          <p:cNvSpPr/>
          <p:nvPr/>
        </p:nvSpPr>
        <p:spPr>
          <a:xfrm>
            <a:off x="4643280" y="2714760"/>
            <a:ext cx="178596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общедоступная информация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(Интернет, гос.статистика, отраслевые СМИ и т.п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Прямоугольник 18"/>
          <p:cNvSpPr/>
          <p:nvPr/>
        </p:nvSpPr>
        <p:spPr>
          <a:xfrm>
            <a:off x="6572160" y="2714760"/>
            <a:ext cx="207180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никальная информация (данные кон-курентов, парт-неров, внутри-групповые и т.п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4" name="Прямая со стрелкой 19"/>
          <p:cNvCxnSpPr/>
          <p:nvPr/>
        </p:nvCxnSpPr>
        <p:spPr>
          <a:xfrm>
            <a:off x="578520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55" name="Прямая со стрелкой 20"/>
          <p:cNvCxnSpPr/>
          <p:nvPr/>
        </p:nvCxnSpPr>
        <p:spPr>
          <a:xfrm>
            <a:off x="778572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56" name="Скругленный прямоугольник 21"/>
          <p:cNvSpPr/>
          <p:nvPr/>
        </p:nvSpPr>
        <p:spPr>
          <a:xfrm>
            <a:off x="3143160" y="1500120"/>
            <a:ext cx="285768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регулярный анализ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7" name="Прямая со стрелкой 31"/>
          <p:cNvCxnSpPr/>
          <p:nvPr/>
        </p:nvCxnSpPr>
        <p:spPr>
          <a:xfrm flipH="1">
            <a:off x="3642480" y="1857240"/>
            <a:ext cx="108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58" name="Прямая со стрелкой 36"/>
          <p:cNvCxnSpPr/>
          <p:nvPr/>
        </p:nvCxnSpPr>
        <p:spPr>
          <a:xfrm flipH="1">
            <a:off x="5500080" y="1857240"/>
            <a:ext cx="108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59" name="Заголовок 1"/>
          <p:cNvSpPr/>
          <p:nvPr/>
        </p:nvSpPr>
        <p:spPr>
          <a:xfrm>
            <a:off x="785880" y="4714920"/>
            <a:ext cx="76438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аиболее важные вопросы на этом этапе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 разработать систему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KPI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и поддерживать ее актуальной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 своевременно получать полную достоверную информацию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 научиться анализировать ПРОактивно, а не РЕактивно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23" descr=""/>
          <p:cNvPicPr/>
          <p:nvPr/>
        </p:nvPicPr>
        <p:blipFill>
          <a:blip r:embed="rId3"/>
          <a:stretch/>
        </p:blipFill>
        <p:spPr>
          <a:xfrm>
            <a:off x="7929720" y="6161040"/>
            <a:ext cx="714240" cy="53676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264" name="Заголовок 1"/>
          <p:cNvSpPr/>
          <p:nvPr/>
        </p:nvSpPr>
        <p:spPr>
          <a:xfrm>
            <a:off x="785880" y="4714920"/>
            <a:ext cx="76438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аиболее важные вопросы на этом этапе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ие затраты критически влияют на эффективность бизнеса в целом, а влияние каких минимально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ие затраты нужно будет уменьшать своими силами, а какие можно снизить, передав на управление сторонним компаниям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23" descr=""/>
          <p:cNvPicPr/>
          <p:nvPr/>
        </p:nvPicPr>
        <p:blipFill>
          <a:blip r:embed="rId3"/>
          <a:stretch/>
        </p:blipFill>
        <p:spPr>
          <a:xfrm>
            <a:off x="7929720" y="6161040"/>
            <a:ext cx="714240" cy="536760"/>
          </a:xfrm>
          <a:prstGeom prst="rect">
            <a:avLst/>
          </a:prstGeom>
          <a:ln w="0">
            <a:noFill/>
          </a:ln>
        </p:spPr>
      </p:pic>
      <p:pic>
        <p:nvPicPr>
          <p:cNvPr id="266" name="Схема 23" descr=""/>
          <p:cNvPicPr/>
          <p:nvPr/>
        </p:nvPicPr>
        <p:blipFill>
          <a:blip r:embed="rId4"/>
          <a:stretch/>
        </p:blipFill>
        <p:spPr>
          <a:xfrm>
            <a:off x="2000160" y="1712880"/>
            <a:ext cx="4857840" cy="257328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ый прямоугольник 24"/>
          <p:cNvSpPr/>
          <p:nvPr/>
        </p:nvSpPr>
        <p:spPr>
          <a:xfrm>
            <a:off x="857160" y="1643040"/>
            <a:ext cx="171468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еречень статей затра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Стрелка углом 25"/>
          <p:cNvSpPr/>
          <p:nvPr/>
        </p:nvSpPr>
        <p:spPr>
          <a:xfrm rot="5400000">
            <a:off x="3585600" y="1057680"/>
            <a:ext cx="599760" cy="1913040"/>
          </a:xfrm>
          <a:custGeom>
            <a:avLst/>
            <a:gdLst/>
            <a:ahLst/>
            <a:rect l="l" t="t" r="r" b="b"/>
            <a:pathLst>
              <a:path w="600075" h="1912937">
                <a:moveTo>
                  <a:pt x="0" y="1912937"/>
                </a:moveTo>
                <a:lnTo>
                  <a:pt x="0" y="337542"/>
                </a:lnTo>
                <a:cubicBezTo>
                  <a:pt x="0" y="192549"/>
                  <a:pt x="117540" y="75009"/>
                  <a:pt x="262533" y="75009"/>
                </a:cubicBezTo>
                <a:lnTo>
                  <a:pt x="450056" y="75009"/>
                </a:lnTo>
                <a:lnTo>
                  <a:pt x="450056" y="0"/>
                </a:lnTo>
                <a:lnTo>
                  <a:pt x="600075" y="150019"/>
                </a:lnTo>
                <a:lnTo>
                  <a:pt x="450056" y="300038"/>
                </a:lnTo>
                <a:lnTo>
                  <a:pt x="450056" y="225028"/>
                </a:lnTo>
                <a:lnTo>
                  <a:pt x="262533" y="225028"/>
                </a:lnTo>
                <a:cubicBezTo>
                  <a:pt x="200393" y="225028"/>
                  <a:pt x="150019" y="275402"/>
                  <a:pt x="150019" y="337542"/>
                </a:cubicBezTo>
                <a:lnTo>
                  <a:pt x="150019" y="1912937"/>
                </a:lnTo>
                <a:lnTo>
                  <a:pt x="0" y="1912937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Скругленный прямоугольник 26"/>
          <p:cNvSpPr/>
          <p:nvPr/>
        </p:nvSpPr>
        <p:spPr>
          <a:xfrm>
            <a:off x="857160" y="3429000"/>
            <a:ext cx="171468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е требующие измен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Стрелка углом 27"/>
          <p:cNvSpPr/>
          <p:nvPr/>
        </p:nvSpPr>
        <p:spPr>
          <a:xfrm rot="10800000">
            <a:off x="2642760" y="3500280"/>
            <a:ext cx="1957320" cy="500400"/>
          </a:xfrm>
          <a:custGeom>
            <a:avLst/>
            <a:gdLst/>
            <a:ahLst/>
            <a:rect l="l" t="t" r="r" b="b"/>
            <a:pathLst>
              <a:path w="1957387" h="500062">
                <a:moveTo>
                  <a:pt x="0" y="500062"/>
                </a:moveTo>
                <a:lnTo>
                  <a:pt x="0" y="281285"/>
                </a:lnTo>
                <a:cubicBezTo>
                  <a:pt x="0" y="160458"/>
                  <a:pt x="97950" y="62508"/>
                  <a:pt x="218777" y="62508"/>
                </a:cubicBezTo>
                <a:lnTo>
                  <a:pt x="1832372" y="62508"/>
                </a:lnTo>
                <a:lnTo>
                  <a:pt x="1832372" y="0"/>
                </a:lnTo>
                <a:lnTo>
                  <a:pt x="1957387" y="125016"/>
                </a:lnTo>
                <a:lnTo>
                  <a:pt x="1832372" y="250031"/>
                </a:lnTo>
                <a:lnTo>
                  <a:pt x="1832372" y="187523"/>
                </a:lnTo>
                <a:lnTo>
                  <a:pt x="218777" y="187523"/>
                </a:lnTo>
                <a:cubicBezTo>
                  <a:pt x="166994" y="187523"/>
                  <a:pt x="125015" y="229502"/>
                  <a:pt x="125015" y="281285"/>
                </a:cubicBezTo>
                <a:cubicBezTo>
                  <a:pt x="125015" y="354211"/>
                  <a:pt x="125016" y="427136"/>
                  <a:pt x="125016" y="500062"/>
                </a:cubicBezTo>
                <a:lnTo>
                  <a:pt x="0" y="500062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Стрелка углом 28"/>
          <p:cNvSpPr/>
          <p:nvPr/>
        </p:nvSpPr>
        <p:spPr>
          <a:xfrm flipH="1" rot="10800000">
            <a:off x="4642200" y="3500280"/>
            <a:ext cx="2000520" cy="509760"/>
          </a:xfrm>
          <a:custGeom>
            <a:avLst/>
            <a:gdLst/>
            <a:ahLst/>
            <a:rect l="l" t="t" r="r" b="b"/>
            <a:pathLst>
              <a:path w="2000250" h="509587">
                <a:moveTo>
                  <a:pt x="0" y="509587"/>
                </a:moveTo>
                <a:lnTo>
                  <a:pt x="0" y="286643"/>
                </a:lnTo>
                <a:cubicBezTo>
                  <a:pt x="0" y="163514"/>
                  <a:pt x="99815" y="63699"/>
                  <a:pt x="222944" y="63699"/>
                </a:cubicBezTo>
                <a:lnTo>
                  <a:pt x="1872853" y="63698"/>
                </a:lnTo>
                <a:lnTo>
                  <a:pt x="1872853" y="0"/>
                </a:lnTo>
                <a:lnTo>
                  <a:pt x="2000250" y="127397"/>
                </a:lnTo>
                <a:lnTo>
                  <a:pt x="1872853" y="254794"/>
                </a:lnTo>
                <a:lnTo>
                  <a:pt x="1872853" y="191095"/>
                </a:lnTo>
                <a:lnTo>
                  <a:pt x="222944" y="191095"/>
                </a:lnTo>
                <a:cubicBezTo>
                  <a:pt x="170174" y="191095"/>
                  <a:pt x="127396" y="233873"/>
                  <a:pt x="127396" y="286643"/>
                </a:cubicBezTo>
                <a:cubicBezTo>
                  <a:pt x="127396" y="360958"/>
                  <a:pt x="127397" y="435272"/>
                  <a:pt x="127397" y="509587"/>
                </a:cubicBezTo>
                <a:lnTo>
                  <a:pt x="0" y="509587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Скругленный прямоугольник 30"/>
          <p:cNvSpPr/>
          <p:nvPr/>
        </p:nvSpPr>
        <p:spPr>
          <a:xfrm>
            <a:off x="6858000" y="3500280"/>
            <a:ext cx="171468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требующие измен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Скругленный прямоугольник 32"/>
          <p:cNvSpPr/>
          <p:nvPr/>
        </p:nvSpPr>
        <p:spPr>
          <a:xfrm>
            <a:off x="6858000" y="1643040"/>
            <a:ext cx="171468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ейтинг затрат для измен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Стрелка вправо 33"/>
          <p:cNvSpPr/>
          <p:nvPr/>
        </p:nvSpPr>
        <p:spPr>
          <a:xfrm rot="16200000">
            <a:off x="7412040" y="2874600"/>
            <a:ext cx="677880" cy="35748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77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278" name="Заголовок 1"/>
          <p:cNvSpPr/>
          <p:nvPr/>
        </p:nvSpPr>
        <p:spPr>
          <a:xfrm>
            <a:off x="714240" y="1357200"/>
            <a:ext cx="76438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нимание того, с какими процессами необходимо «расстаться», какие – передать на сторону, а на каких сконцентрировать все усилия для достижения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возможно, уже обновленных по результатам этого этапа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стратегических ц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Формализация «критериев успеха» - ключевых показателей эффективности процессов, - на основании которых можно отслеживать прогресс, планировать развитие и мотивировать персона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явление инфраструктуры информационного обеспечения анализа процессов: обмен данными с конкурентами и партнерами, подписка на платные и бесплатные статистические сборники и т.п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активный взгляд на вещи: решение заниматься тем, что получается лучше всего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 vs.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активный взгляд: решение заниматься тем, что сложилось исторически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P.S.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чь может идти как об отдельных этапах, процессах и направлениях, так и о бизнесе в цел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Picture 35" descr=""/>
          <p:cNvPicPr/>
          <p:nvPr/>
        </p:nvPicPr>
        <p:blipFill>
          <a:blip r:embed="rId3"/>
          <a:stretch/>
        </p:blipFill>
        <p:spPr>
          <a:xfrm>
            <a:off x="7929720" y="6215040"/>
            <a:ext cx="1009440" cy="428760"/>
          </a:xfrm>
          <a:prstGeom prst="rect">
            <a:avLst/>
          </a:prstGeom>
          <a:ln w="0">
            <a:noFill/>
          </a:ln>
        </p:spPr>
      </p:pic>
      <p:sp>
        <p:nvSpPr>
          <p:cNvPr id="280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82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5" descr=""/>
          <p:cNvPicPr/>
          <p:nvPr/>
        </p:nvPicPr>
        <p:blipFill>
          <a:blip r:embed="rId3"/>
          <a:stretch/>
        </p:blipFill>
        <p:spPr>
          <a:xfrm>
            <a:off x="7929720" y="6215040"/>
            <a:ext cx="1009440" cy="428760"/>
          </a:xfrm>
          <a:prstGeom prst="rect">
            <a:avLst/>
          </a:prstGeom>
          <a:ln w="0">
            <a:noFill/>
          </a:ln>
        </p:spPr>
      </p:pic>
      <p:sp>
        <p:nvSpPr>
          <p:cNvPr id="284" name="Скругленный прямоугольник 17"/>
          <p:cNvSpPr/>
          <p:nvPr/>
        </p:nvSpPr>
        <p:spPr>
          <a:xfrm>
            <a:off x="1357200" y="1714680"/>
            <a:ext cx="2071800" cy="192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Торговая точка (розниц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Скругленный прямоугольник 18"/>
          <p:cNvSpPr/>
          <p:nvPr/>
        </p:nvSpPr>
        <p:spPr>
          <a:xfrm>
            <a:off x="4572000" y="1714680"/>
            <a:ext cx="1428840" cy="200016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2000160"/>
              <a:gd name="textAreaBottom" fmla="*/ 1930680 h 2000160"/>
            </a:gdLst>
            <a:ahLst/>
            <a:rect l="textAreaLeft" t="textAreaTop" r="textAreaRight" b="textAreaBottom"/>
            <a:pathLst>
              <a:path w="21600" h="30235">
                <a:moveTo>
                  <a:pt x="3600" y="0"/>
                </a:moveTo>
                <a:arcTo wR="3600" hR="3600" stAng="16200000" swAng="-5400000"/>
                <a:lnTo>
                  <a:pt x="0" y="26635"/>
                </a:lnTo>
                <a:arcTo wR="3600" hR="3600" stAng="10800000" swAng="-5400000"/>
                <a:lnTo>
                  <a:pt x="18000" y="30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дел активации (офис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Скругленный прямоугольник 19"/>
          <p:cNvSpPr/>
          <p:nvPr/>
        </p:nvSpPr>
        <p:spPr>
          <a:xfrm>
            <a:off x="7143840" y="1714680"/>
            <a:ext cx="1419120" cy="1928520"/>
          </a:xfrm>
          <a:custGeom>
            <a:avLst/>
            <a:gdLst>
              <a:gd name="textAreaLeft" fmla="*/ 69120 w 1419120"/>
              <a:gd name="textAreaRight" fmla="*/ 1350000 w 1419120"/>
              <a:gd name="textAreaTop" fmla="*/ 69120 h 1928520"/>
              <a:gd name="textAreaBottom" fmla="*/ 1859400 h 1928520"/>
            </a:gdLst>
            <a:ahLst/>
            <a:rect l="textAreaLeft" t="textAreaTop" r="textAreaRight" b="textAreaBottom"/>
            <a:pathLst>
              <a:path w="21600" h="29351">
                <a:moveTo>
                  <a:pt x="3600" y="0"/>
                </a:moveTo>
                <a:arcTo wR="3600" hR="3600" stAng="16200000" swAng="-5400000"/>
                <a:lnTo>
                  <a:pt x="0" y="25751"/>
                </a:lnTo>
                <a:arcTo wR="3600" hR="3600" stAng="10800000" swAng="-5400000"/>
                <a:lnTo>
                  <a:pt x="18000" y="293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ператор сотовой связ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Скругленный прямоугольник 20"/>
          <p:cNvSpPr/>
          <p:nvPr/>
        </p:nvSpPr>
        <p:spPr>
          <a:xfrm>
            <a:off x="1643040" y="2428920"/>
            <a:ext cx="142884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купател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Скругленный прямоугольник 21"/>
          <p:cNvSpPr/>
          <p:nvPr/>
        </p:nvSpPr>
        <p:spPr>
          <a:xfrm>
            <a:off x="1643040" y="3143160"/>
            <a:ext cx="142884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давец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Прямоугольник 29"/>
          <p:cNvSpPr/>
          <p:nvPr/>
        </p:nvSpPr>
        <p:spPr>
          <a:xfrm>
            <a:off x="382320" y="250020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ЫЛ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Скругленный прямоугольник 31"/>
          <p:cNvSpPr/>
          <p:nvPr/>
        </p:nvSpPr>
        <p:spPr>
          <a:xfrm>
            <a:off x="1357200" y="3857760"/>
            <a:ext cx="2071800" cy="192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Торговая точка (розниц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Скругленный прямоугольник 35"/>
          <p:cNvSpPr/>
          <p:nvPr/>
        </p:nvSpPr>
        <p:spPr>
          <a:xfrm>
            <a:off x="7143840" y="3857760"/>
            <a:ext cx="1419120" cy="1928520"/>
          </a:xfrm>
          <a:custGeom>
            <a:avLst/>
            <a:gdLst>
              <a:gd name="textAreaLeft" fmla="*/ 69120 w 1419120"/>
              <a:gd name="textAreaRight" fmla="*/ 1350000 w 1419120"/>
              <a:gd name="textAreaTop" fmla="*/ 69120 h 1928520"/>
              <a:gd name="textAreaBottom" fmla="*/ 1859400 h 1928520"/>
            </a:gdLst>
            <a:ahLst/>
            <a:rect l="textAreaLeft" t="textAreaTop" r="textAreaRight" b="textAreaBottom"/>
            <a:pathLst>
              <a:path w="21600" h="29351">
                <a:moveTo>
                  <a:pt x="3600" y="0"/>
                </a:moveTo>
                <a:arcTo wR="3600" hR="3600" stAng="16200000" swAng="-5400000"/>
                <a:lnTo>
                  <a:pt x="0" y="25751"/>
                </a:lnTo>
                <a:arcTo wR="3600" hR="3600" stAng="10800000" swAng="-5400000"/>
                <a:lnTo>
                  <a:pt x="18000" y="293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ператор сотовой связ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Скругленный прямоугольник 36"/>
          <p:cNvSpPr/>
          <p:nvPr/>
        </p:nvSpPr>
        <p:spPr>
          <a:xfrm>
            <a:off x="1643040" y="4572000"/>
            <a:ext cx="142884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купател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Скругленный прямоугольник 37"/>
          <p:cNvSpPr/>
          <p:nvPr/>
        </p:nvSpPr>
        <p:spPr>
          <a:xfrm>
            <a:off x="1643040" y="5286240"/>
            <a:ext cx="142884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давец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Прямоугольник 38"/>
          <p:cNvSpPr/>
          <p:nvPr/>
        </p:nvSpPr>
        <p:spPr>
          <a:xfrm>
            <a:off x="386280" y="46432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АЛ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Прямая со стрелкой 40"/>
          <p:cNvCxnSpPr>
            <a:stCxn id="287" idx="2"/>
          </p:cNvCxnSpPr>
          <p:nvPr/>
        </p:nvCxnSpPr>
        <p:spPr>
          <a:xfrm flipH="1">
            <a:off x="2355480" y="2803680"/>
            <a:ext cx="2160" cy="342000"/>
          </a:xfrm>
          <a:prstGeom prst="straightConnector1">
            <a:avLst/>
          </a:prstGeom>
          <a:ln w="9360">
            <a:solidFill>
              <a:srgbClr val="3891a7"/>
            </a:solidFill>
            <a:miter/>
            <a:headEnd len="med" type="stealth" w="med"/>
            <a:tailEnd len="med" type="stealth" w="med"/>
          </a:ln>
        </p:spPr>
      </p:cxnSp>
      <p:sp>
        <p:nvSpPr>
          <p:cNvPr id="296" name="Стрелка вправо 45"/>
          <p:cNvSpPr/>
          <p:nvPr/>
        </p:nvSpPr>
        <p:spPr>
          <a:xfrm>
            <a:off x="3286080" y="2786040"/>
            <a:ext cx="1428840" cy="9288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анн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Стрелка вправо 46"/>
          <p:cNvSpPr/>
          <p:nvPr/>
        </p:nvSpPr>
        <p:spPr>
          <a:xfrm>
            <a:off x="5786280" y="2857680"/>
            <a:ext cx="1500480" cy="92844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ктива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Стрелка вправо 47"/>
          <p:cNvSpPr/>
          <p:nvPr/>
        </p:nvSpPr>
        <p:spPr>
          <a:xfrm>
            <a:off x="3286080" y="4929120"/>
            <a:ext cx="4071960" cy="92880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анные и актива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Скругленный прямоугольник 22"/>
          <p:cNvSpPr/>
          <p:nvPr/>
        </p:nvSpPr>
        <p:spPr>
          <a:xfrm>
            <a:off x="4572000" y="3786120"/>
            <a:ext cx="1428840" cy="200016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2000160"/>
              <a:gd name="textAreaBottom" fmla="*/ 1930680 h 2000160"/>
            </a:gdLst>
            <a:ahLst/>
            <a:rect l="textAreaLeft" t="textAreaTop" r="textAreaRight" b="textAreaBottom"/>
            <a:pathLst>
              <a:path w="21600" h="30235">
                <a:moveTo>
                  <a:pt x="3600" y="0"/>
                </a:moveTo>
                <a:arcTo wR="3600" hR="3600" stAng="16200000" swAng="-5400000"/>
                <a:lnTo>
                  <a:pt x="0" y="26635"/>
                </a:lnTo>
                <a:arcTo wR="3600" hR="3600" stAng="10800000" swAng="-5400000"/>
                <a:lnTo>
                  <a:pt x="18000" y="30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дел активации (офис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4" descr=""/>
          <p:cNvPicPr/>
          <p:nvPr/>
        </p:nvPicPr>
        <p:blipFill>
          <a:blip r:embed="rId3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04" name="Скругленный прямоугольник 9"/>
          <p:cNvSpPr/>
          <p:nvPr/>
        </p:nvSpPr>
        <p:spPr>
          <a:xfrm>
            <a:off x="714240" y="1500120"/>
            <a:ext cx="7929720" cy="185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Пример ситуации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(телефонный разговор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овый перевозчик: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Почем Вы возите этот груз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Работник транспортного отдела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По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$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00 за рей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П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Готов возить за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$1100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РТО: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Ок, направление Ваше.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(кладет трубку)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Отлично! Сэкономил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$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100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зже оказывается, что НП работает на «упрощенке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альный эффект от смены оператора = </a:t>
            </a: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$</a:t>
            </a: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Прямоугольник 10"/>
          <p:cNvSpPr/>
          <p:nvPr/>
        </p:nvSpPr>
        <p:spPr>
          <a:xfrm>
            <a:off x="785880" y="3714840"/>
            <a:ext cx="792936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се работники компании должны быть вашими «агентами по снижению издержек на местах»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имать природу издержек, самостоятельно оценивать их эффективность, различать затраты и инвестиц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кономически обоснованно вести переговоры с партнер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ледить за своевременным отражением затрат в учете (оперативно передавать документы для учета и добиваться нулевой необоснованной дебиторской задолженности свыше 30 дней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4" descr=""/>
          <p:cNvPicPr/>
          <p:nvPr/>
        </p:nvPicPr>
        <p:blipFill>
          <a:blip r:embed="rId3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10" name="Скругленный прямоугольник 8"/>
          <p:cNvSpPr/>
          <p:nvPr/>
        </p:nvSpPr>
        <p:spPr>
          <a:xfrm>
            <a:off x="3071880" y="1428840"/>
            <a:ext cx="285732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бизнес-процес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Прямоугольник 11"/>
          <p:cNvSpPr/>
          <p:nvPr/>
        </p:nvSpPr>
        <p:spPr>
          <a:xfrm>
            <a:off x="571680" y="214308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каз от процес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2" name="Прямая со стрелкой 14"/>
          <p:cNvCxnSpPr/>
          <p:nvPr/>
        </p:nvCxnSpPr>
        <p:spPr>
          <a:xfrm flipH="1">
            <a:off x="4498200" y="1785600"/>
            <a:ext cx="2520" cy="214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13" name="Прямоугольник 19"/>
          <p:cNvSpPr/>
          <p:nvPr/>
        </p:nvSpPr>
        <p:spPr>
          <a:xfrm>
            <a:off x="500040" y="2000160"/>
            <a:ext cx="8001000" cy="10674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работ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ценарие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4" name="Прямая со стрелкой 21"/>
          <p:cNvCxnSpPr/>
          <p:nvPr/>
        </p:nvCxnSpPr>
        <p:spPr>
          <a:xfrm flipH="1">
            <a:off x="4498200" y="3071880"/>
            <a:ext cx="2520" cy="2167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15" name="Прямоугольник 22"/>
          <p:cNvSpPr/>
          <p:nvPr/>
        </p:nvSpPr>
        <p:spPr>
          <a:xfrm>
            <a:off x="2928960" y="2643120"/>
            <a:ext cx="178596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утсорсинг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Прямоугольник 23"/>
          <p:cNvSpPr/>
          <p:nvPr/>
        </p:nvSpPr>
        <p:spPr>
          <a:xfrm>
            <a:off x="4786200" y="2143080"/>
            <a:ext cx="19288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тендер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Прямоугольник 24"/>
          <p:cNvSpPr/>
          <p:nvPr/>
        </p:nvSpPr>
        <p:spPr>
          <a:xfrm>
            <a:off x="2928960" y="2143080"/>
            <a:ext cx="178596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инжиниринг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Прямоугольник 25"/>
          <p:cNvSpPr/>
          <p:nvPr/>
        </p:nvSpPr>
        <p:spPr>
          <a:xfrm>
            <a:off x="571680" y="264312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охранение как е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Прямоугольник 26"/>
          <p:cNvSpPr/>
          <p:nvPr/>
        </p:nvSpPr>
        <p:spPr>
          <a:xfrm>
            <a:off x="4786200" y="2643120"/>
            <a:ext cx="19288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ругие вариант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Прямоугольник 29"/>
          <p:cNvSpPr/>
          <p:nvPr/>
        </p:nvSpPr>
        <p:spPr>
          <a:xfrm>
            <a:off x="571680" y="342900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теря гибк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Прямоугольник 30"/>
          <p:cNvSpPr/>
          <p:nvPr/>
        </p:nvSpPr>
        <p:spPr>
          <a:xfrm>
            <a:off x="500040" y="3286080"/>
            <a:ext cx="8001000" cy="10674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оцен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риск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Прямоугольник 31"/>
          <p:cNvSpPr/>
          <p:nvPr/>
        </p:nvSpPr>
        <p:spPr>
          <a:xfrm>
            <a:off x="2928960" y="3929040"/>
            <a:ext cx="142884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иратс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Прямоугольник 32"/>
          <p:cNvSpPr/>
          <p:nvPr/>
        </p:nvSpPr>
        <p:spPr>
          <a:xfrm>
            <a:off x="4429080" y="342900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ехватка персонал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Прямоугольник 33"/>
          <p:cNvSpPr/>
          <p:nvPr/>
        </p:nvSpPr>
        <p:spPr>
          <a:xfrm>
            <a:off x="2928960" y="3429000"/>
            <a:ext cx="142884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ост затра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Прямоугольник 34"/>
          <p:cNvSpPr/>
          <p:nvPr/>
        </p:nvSpPr>
        <p:spPr>
          <a:xfrm>
            <a:off x="571680" y="392904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нижение качест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Прямоугольник 35"/>
          <p:cNvSpPr/>
          <p:nvPr/>
        </p:nvSpPr>
        <p:spPr>
          <a:xfrm>
            <a:off x="4429080" y="392904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ругие рис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27" name="Прямая со стрелкой 36"/>
          <p:cNvCxnSpPr/>
          <p:nvPr/>
        </p:nvCxnSpPr>
        <p:spPr>
          <a:xfrm flipH="1">
            <a:off x="4500360" y="4357440"/>
            <a:ext cx="2160" cy="214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28" name="Прямоугольник 37"/>
          <p:cNvSpPr/>
          <p:nvPr/>
        </p:nvSpPr>
        <p:spPr>
          <a:xfrm>
            <a:off x="500040" y="4572000"/>
            <a:ext cx="8001000" cy="58068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отбор наиболее приемлемых сценариев с описанием требуемых для реализации ресурсов и вероятности успех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Скругленный прямоугольник 38"/>
          <p:cNvSpPr/>
          <p:nvPr/>
        </p:nvSpPr>
        <p:spPr>
          <a:xfrm>
            <a:off x="2928960" y="5357880"/>
            <a:ext cx="3214800" cy="64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ект программы действ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30" name="Прямая со стрелкой 42"/>
          <p:cNvCxnSpPr/>
          <p:nvPr/>
        </p:nvCxnSpPr>
        <p:spPr>
          <a:xfrm flipH="1">
            <a:off x="4500360" y="5143320"/>
            <a:ext cx="2160" cy="214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31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Схема 27" descr=""/>
          <p:cNvPicPr/>
          <p:nvPr/>
        </p:nvPicPr>
        <p:blipFill>
          <a:blip r:embed="rId1"/>
          <a:stretch/>
        </p:blipFill>
        <p:spPr>
          <a:xfrm>
            <a:off x="139680" y="1785960"/>
            <a:ext cx="8791560" cy="4071960"/>
          </a:xfrm>
          <a:prstGeom prst="rect">
            <a:avLst/>
          </a:prstGeom>
          <a:ln w="0">
            <a:noFill/>
          </a:ln>
        </p:spPr>
      </p:pic>
      <p:pic>
        <p:nvPicPr>
          <p:cNvPr id="333" name="Заголовок 1" descr=""/>
          <p:cNvPicPr/>
          <p:nvPr/>
        </p:nvPicPr>
        <p:blipFill>
          <a:blip r:embed="rId2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34" name="Прямая соединительная линия 6" descr=""/>
          <p:cNvPicPr/>
          <p:nvPr/>
        </p:nvPicPr>
        <p:blipFill>
          <a:blip r:embed="rId3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4" descr=""/>
          <p:cNvPicPr/>
          <p:nvPr/>
        </p:nvPicPr>
        <p:blipFill>
          <a:blip r:embed="rId4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36" name="Скругленный прямоугольник 38"/>
          <p:cNvSpPr/>
          <p:nvPr/>
        </p:nvSpPr>
        <p:spPr>
          <a:xfrm>
            <a:off x="571680" y="1643040"/>
            <a:ext cx="1714320" cy="91260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ек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грамм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действ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Стрелка углом 28"/>
          <p:cNvSpPr/>
          <p:nvPr/>
        </p:nvSpPr>
        <p:spPr>
          <a:xfrm flipH="1" rot="10800000">
            <a:off x="1285920" y="2714400"/>
            <a:ext cx="1000080" cy="571320"/>
          </a:xfrm>
          <a:custGeom>
            <a:avLst/>
            <a:gdLst/>
            <a:ahLst/>
            <a:rect l="l" t="t" r="r" b="b"/>
            <a:pathLst>
              <a:path w="1000125" h="571500">
                <a:moveTo>
                  <a:pt x="0" y="571500"/>
                </a:moveTo>
                <a:lnTo>
                  <a:pt x="0" y="326912"/>
                </a:lnTo>
                <a:cubicBezTo>
                  <a:pt x="0" y="212871"/>
                  <a:pt x="92448" y="120423"/>
                  <a:pt x="206489" y="120423"/>
                </a:cubicBezTo>
                <a:lnTo>
                  <a:pt x="857250" y="120424"/>
                </a:lnTo>
                <a:lnTo>
                  <a:pt x="857250" y="0"/>
                </a:lnTo>
                <a:lnTo>
                  <a:pt x="1000125" y="224519"/>
                </a:lnTo>
                <a:lnTo>
                  <a:pt x="857250" y="449039"/>
                </a:lnTo>
                <a:lnTo>
                  <a:pt x="857250" y="328615"/>
                </a:lnTo>
                <a:lnTo>
                  <a:pt x="208192" y="328615"/>
                </a:lnTo>
                <a:lnTo>
                  <a:pt x="208192" y="328615"/>
                </a:lnTo>
                <a:lnTo>
                  <a:pt x="208192" y="571500"/>
                </a:lnTo>
                <a:lnTo>
                  <a:pt x="0" y="571500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Стрелка углом 39"/>
          <p:cNvSpPr/>
          <p:nvPr/>
        </p:nvSpPr>
        <p:spPr>
          <a:xfrm flipH="1" flipV="1" rot="10800000">
            <a:off x="5572080" y="2000160"/>
            <a:ext cx="1000080" cy="571680"/>
          </a:xfrm>
          <a:custGeom>
            <a:avLst/>
            <a:gdLst/>
            <a:ahLst/>
            <a:rect l="l" t="t" r="r" b="b"/>
            <a:pathLst>
              <a:path w="1000125" h="571500">
                <a:moveTo>
                  <a:pt x="0" y="571500"/>
                </a:moveTo>
                <a:lnTo>
                  <a:pt x="0" y="326912"/>
                </a:lnTo>
                <a:cubicBezTo>
                  <a:pt x="0" y="212871"/>
                  <a:pt x="92448" y="120423"/>
                  <a:pt x="206489" y="120423"/>
                </a:cubicBezTo>
                <a:lnTo>
                  <a:pt x="857250" y="120424"/>
                </a:lnTo>
                <a:lnTo>
                  <a:pt x="857250" y="0"/>
                </a:lnTo>
                <a:lnTo>
                  <a:pt x="1000125" y="224519"/>
                </a:lnTo>
                <a:lnTo>
                  <a:pt x="857250" y="449039"/>
                </a:lnTo>
                <a:lnTo>
                  <a:pt x="857250" y="328615"/>
                </a:lnTo>
                <a:lnTo>
                  <a:pt x="208192" y="328615"/>
                </a:lnTo>
                <a:lnTo>
                  <a:pt x="208192" y="328615"/>
                </a:lnTo>
                <a:lnTo>
                  <a:pt x="208192" y="571500"/>
                </a:lnTo>
                <a:lnTo>
                  <a:pt x="0" y="571500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Скругленный прямоугольник 40"/>
          <p:cNvSpPr/>
          <p:nvPr/>
        </p:nvSpPr>
        <p:spPr>
          <a:xfrm>
            <a:off x="6786720" y="1785960"/>
            <a:ext cx="1714320" cy="118260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езентац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для принятия решен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22:43:02Z</dcterms:created>
  <dc:creator>Sergey V. Chadin</dc:creator>
  <dc:description/>
  <dc:language>en-US</dc:language>
  <cp:lastModifiedBy>LEGION</cp:lastModifiedBy>
  <dcterms:modified xsi:type="dcterms:W3CDTF">2016-01-05T12:44:10Z</dcterms:modified>
  <cp:revision>637</cp:revision>
  <dc:subject>Оптимизация операционной деятельности</dc:subject>
  <dc:title>Где теряем деньги?</dc:title>
</cp:coreProperties>
</file>