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48C-0309-4AD9-A38D-84CED1A13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670-E971-448A-958A-5C728515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F8C-0BEF-4F1E-AAF4-151B7B04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036-643F-43B5-954E-1146C400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E41-4A00-4FAF-B309-376EFAC6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6C1-B49A-4AAD-8B95-F71EBCDA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F7A-36AE-4079-8338-6F90082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17E-5B34-4F6C-A942-0774315C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C95-E30D-4ADB-B9FC-606C0503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F24-47A6-486E-A784-858207D1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3FB-2E5A-46B7-A995-3C174C8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79E-EA39-47BD-A5F6-2AB9A166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1A2-C2E9-4F37-A457-887F2685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C6D9-3D05-4822-85C4-87AF71A7F5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ник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класса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ксёнов Григори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547640" y="2708280"/>
            <a:ext cx="75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шевые креди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02" name="_s4100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101"/>
            <p:cNvCxnSpPr>
              <a:stCxn id="106" idx="0"/>
              <a:endCxn id="104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4102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410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ы бизне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0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ционер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7120" y="2214360"/>
            <a:ext cx="8429760" cy="1571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ая на получ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7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55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) И по завершению дела В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учаете свои деньги обратно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о уже с прибыл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каждый раз пункт 1 и 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вторяются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акова формула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) Вы вкладывае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ньги в де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457200" y="274680"/>
            <a:ext cx="8229240" cy="5849280"/>
            <a:chOff x="457200" y="274680"/>
            <a:chExt cx="8229240" cy="5849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680440" y="1504080"/>
              <a:ext cx="1170360" cy="33890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V="1" rot="16200000">
              <a:off x="4833360" y="235116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4"/>
            <p:cNvCxnSpPr>
              <a:stCxn id="72" idx="0"/>
              <a:endCxn id="68" idx="2"/>
            </p:cNvCxnSpPr>
            <p:nvPr/>
          </p:nvCxnSpPr>
          <p:spPr>
            <a:xfrm flipV="1">
              <a:off x="4571280" y="2613600"/>
              <a:ext cx="2520" cy="11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5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3139560" y="235152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6"/>
            <p:cNvCxnSpPr>
              <a:stCxn id="76" idx="0"/>
              <a:endCxn id="68" idx="2"/>
            </p:cNvCxnSpPr>
            <p:nvPr/>
          </p:nvCxnSpPr>
          <p:spPr>
            <a:xfrm flipH="1" flipV="1" rot="5400000">
              <a:off x="2293200" y="1505160"/>
              <a:ext cx="1170360" cy="33872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057"/>
            <p:cNvSpPr/>
            <p:nvPr/>
          </p:nvSpPr>
          <p:spPr>
            <a:xfrm>
              <a:off x="3845520" y="27468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иды бизн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8"/>
            <p:cNvSpPr/>
            <p:nvPr/>
          </p:nvSpPr>
          <p:spPr>
            <a:xfrm>
              <a:off x="457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одств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9"/>
            <p:cNvSpPr/>
            <p:nvPr/>
          </p:nvSpPr>
          <p:spPr>
            <a:xfrm>
              <a:off x="215136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60"/>
            <p:cNvSpPr/>
            <p:nvPr/>
          </p:nvSpPr>
          <p:spPr>
            <a:xfrm>
              <a:off x="384552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61"/>
            <p:cNvSpPr/>
            <p:nvPr/>
          </p:nvSpPr>
          <p:spPr>
            <a:xfrm>
              <a:off x="554004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трах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62"/>
            <p:cNvSpPr/>
            <p:nvPr/>
          </p:nvSpPr>
          <p:spPr>
            <a:xfrm>
              <a:off x="7234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сред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олотое правило торгового бизнес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упил подешевле – продал подоро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а торгового бизне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Diagram 6"/>
          <p:cNvGrpSpPr/>
          <p:nvPr/>
        </p:nvGrpSpPr>
        <p:grpSpPr>
          <a:xfrm>
            <a:off x="2308320" y="1903320"/>
            <a:ext cx="4527360" cy="3921120"/>
            <a:chOff x="2308320" y="1903320"/>
            <a:chExt cx="4527360" cy="3921120"/>
          </a:xfrm>
        </p:grpSpPr>
        <p:sp>
          <p:nvSpPr>
            <p:cNvPr id="86" name="_s3076"/>
            <p:cNvSpPr/>
            <p:nvPr/>
          </p:nvSpPr>
          <p:spPr>
            <a:xfrm flipV="1">
              <a:off x="4119480" y="1903320"/>
              <a:ext cx="905040" cy="784080"/>
            </a:xfrm>
            <a:custGeom>
              <a:avLst/>
              <a:gdLst>
                <a:gd name="textAreaLeft" fmla="*/ 324720 w 905040"/>
                <a:gd name="textAreaRight" fmla="*/ 580320 w 905040"/>
                <a:gd name="textAreaTop" fmla="*/ 281160 h 784080"/>
                <a:gd name="textAreaBottom" fmla="*/ 50292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месленный бизнес порождал торгов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едь производимые товары надо было продавать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077"/>
            <p:cNvSpPr/>
            <p:nvPr/>
          </p:nvSpPr>
          <p:spPr>
            <a:xfrm flipV="1">
              <a:off x="3666960" y="2686680"/>
              <a:ext cx="1810080" cy="784440"/>
            </a:xfrm>
            <a:custGeom>
              <a:avLst/>
              <a:gdLst>
                <a:gd name="textAreaLeft" fmla="*/ 397800 w 1810080"/>
                <a:gd name="textAreaRight" fmla="*/ 1412280 w 1810080"/>
                <a:gd name="textAreaTop" fmla="*/ 172440 h 784440"/>
                <a:gd name="textAreaBottom" fmla="*/ 61200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ое предпринимательство тесно связано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уплей-продажей товар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8"/>
            <p:cNvSpPr/>
            <p:nvPr/>
          </p:nvSpPr>
          <p:spPr>
            <a:xfrm flipV="1">
              <a:off x="3213000" y="3471840"/>
              <a:ext cx="2718000" cy="784080"/>
            </a:xfrm>
            <a:custGeom>
              <a:avLst/>
              <a:gdLst>
                <a:gd name="textAreaLeft" fmla="*/ 471600 w 2718000"/>
                <a:gd name="textAreaRight" fmla="*/ 2246400 w 2718000"/>
                <a:gd name="textAreaTop" fmla="*/ 136080 h 784080"/>
                <a:gd name="textAreaBottom" fmla="*/ 64800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лата труда торгов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79"/>
            <p:cNvSpPr/>
            <p:nvPr/>
          </p:nvSpPr>
          <p:spPr>
            <a:xfrm flipV="1">
              <a:off x="2760480" y="4255200"/>
              <a:ext cx="3622680" cy="784440"/>
            </a:xfrm>
            <a:custGeom>
              <a:avLst/>
              <a:gdLst>
                <a:gd name="textAreaLeft" fmla="*/ 545040 w 3622680"/>
                <a:gd name="textAreaRight" fmla="*/ 3077640 w 3622680"/>
                <a:gd name="textAreaTop" fmla="*/ 118080 h 784440"/>
                <a:gd name="textAreaBottom" fmla="*/ 6663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ставка и хранение тов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080"/>
            <p:cNvSpPr/>
            <p:nvPr/>
          </p:nvSpPr>
          <p:spPr>
            <a:xfrm flipV="1">
              <a:off x="2308320" y="5040360"/>
              <a:ext cx="4527360" cy="784080"/>
            </a:xfrm>
            <a:custGeom>
              <a:avLst/>
              <a:gdLst>
                <a:gd name="textAreaLeft" fmla="*/ 618120 w 4527360"/>
                <a:gd name="textAreaRight" fmla="*/ 3909240 w 4527360"/>
                <a:gd name="textAreaTop" fmla="*/ 106920 h 784080"/>
                <a:gd name="textAreaBottom" fmla="*/ 677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держание торгового поме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28:28Z</dcterms:created>
  <dc:creator>Саша</dc:creator>
  <dc:description/>
  <dc:language>en-US</dc:language>
  <cp:lastModifiedBy>LEGION</cp:lastModifiedBy>
  <dcterms:modified xsi:type="dcterms:W3CDTF">2016-01-05T12:43:54Z</dcterms:modified>
  <cp:revision>12</cp:revision>
  <dc:subject/>
  <dc:title>Виды и формы бизнеса</dc:title>
</cp:coreProperties>
</file>