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 Narrow"/>
              </a:rPr>
              <a:t>Click to move the slide</a:t>
            </a: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5ADE9-6B55-479C-9325-99CA025251B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ЗНАВАТЕЛЬНЫЕ ПРОЦЕССЫ ЧЕЛОВЕ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Times New Roman"/>
              </a:rPr>
              <a:t>Теплова Лидия Ивановна, доцент кафедры педагогики и психологии, ауд.</a:t>
            </a:r>
            <a:r>
              <a:rPr b="0" lang="en-US" sz="1200" spc="-1" strike="noStrike">
                <a:solidFill>
                  <a:srgbClr val="0000ff"/>
                </a:solidFill>
                <a:latin typeface="Times New Roman"/>
              </a:rPr>
              <a:t>430-</a:t>
            </a:r>
            <a:r>
              <a:rPr b="0" lang="ru-RU" sz="1200" spc="-1" strike="noStrike">
                <a:solidFill>
                  <a:srgbClr val="0000ff"/>
                </a:solidFill>
                <a:latin typeface="Times New Roman"/>
              </a:rPr>
              <a:t>б, </a:t>
            </a:r>
            <a:r>
              <a:rPr b="0" lang="en-US" sz="1200" spc="-1" strike="noStrike">
                <a:solidFill>
                  <a:srgbClr val="0000ff"/>
                </a:solidFill>
                <a:latin typeface="Times New Roman"/>
              </a:rPr>
              <a:t>e-mail</a:t>
            </a:r>
            <a:r>
              <a:rPr b="0" lang="ru-RU" sz="1200" spc="-1" strike="noStrike">
                <a:solidFill>
                  <a:srgbClr val="0000ff"/>
                </a:solidFill>
                <a:latin typeface="Times New Roman"/>
              </a:rPr>
              <a:t>:</a:t>
            </a:r>
            <a:r>
              <a:rPr b="0" lang="en-US" sz="1200" spc="-1" strike="noStrike">
                <a:solidFill>
                  <a:srgbClr val="0000ff"/>
                </a:solidFill>
                <a:latin typeface="Times New Roman"/>
              </a:rPr>
              <a:t> teplova@psu.karelia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B5AD0-2CAE-4546-B39A-40A86FEF6C0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Качества вним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Arial"/>
              </a:rPr>
              <a:t>Объем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нимания – число поступающих сигналов или протекающих ассоциаций, которые могут сохраниться в центре ясного сознания, приобретая доминирующий харак-тер. Объем внимания равен 7–9 единица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Arial"/>
              </a:rPr>
              <a:t>Устойчивост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длительность, с которой выделенные элементы могут сохранять свой доминантный характер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Arial"/>
              </a:rPr>
              <a:t>Концентрация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нимания</a:t>
            </a:r>
            <a:r>
              <a:rPr b="0" lang="ru-RU" sz="1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– сосредоточенность субъекта на объекте, сила поглощенности его этим объект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Arial"/>
              </a:rPr>
              <a:t>Распределение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внимания – возможность одновремен-ного выполнения нескольких видов действи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Arial"/>
              </a:rPr>
              <a:t>Переключаемост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способность намеренно переносить внимание с одного объекта на друго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C3861-2148-4293-8F1F-0B530B0ACD7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амять, виды памяти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ономерности памя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Памят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запечатление (запись), сохранение и воспроизведение следов прошлого опы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Виды памя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92A38-F29D-43BF-9F22-FBDC2CB3FA3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ономерности памя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Средний объем механической кратковременной памяти – 5–7 элементов после первого чт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Объем памяти варьируется в зависимости от способа предъявления: люди с доминирующей слуховой памятью лучше запоминают материал озвученный и т.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Качество запоминания зависит от того, какая была поставлена цель, установ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При многократном предъявлении одного и того же материала число удерживаемых элементов постепенно возрастае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 Чем длиннее ряд, тем меньше число удерживаемых в памяти элементов. Так, ряд из 4–5 единиц запоминается на 100 %, а ряд из 9–10 единиц на 40 %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. При запоминании длинного ряда лучше всего по памяти воспроизводятся его начало и конец («эффект края»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0DDB5-6951-4EE8-AEE3-E279D3A3E4A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. При сохранении заученного материала может обнаружится явление ретроактивной интерференции. Оно является результатом взаимодействия таких переменных, как сходство между двумя заданиями и объем заучиваемого материала. Если активность субъекта между заучиванием и припоминанием низка, то мнемический материал сохраняется лучш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. При высокой активности субъекта непроизвольное запоминание может быть более продуктивным, чем произвольное запоминание, если последнее осуществляется на базе менее активной интеллектуальной деятельности субъек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9. Явление реминисценции. Под ним понимают отсроченное воспроизведение мнемических ответов, которые раньше субъект не мог воспроизвести, при условии, что с момента заучивания субъект не занимался дополнительным упражнением в выполнении данного зада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0. Эффект Зейгарник» – особенность непроизвольного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запоминания, которая заключается в том, что прерванная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ятельность запоминается лучше, чем законченная или монотонная, т. к. прерванное намерение сохраняет состояние напряжения нервной систем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3D253-65A9-48AB-973E-C90E442A8FD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00"/>
                </a:solidFill>
                <a:latin typeface="Arial"/>
              </a:rPr>
              <a:t>Мышление, виды мышления. Развитие мышл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Мышление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опосредствованное и обобщенное отражение действительности в ее существенных связях и отношениях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иды мыш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B4582-A9A2-464E-9637-B3BD545B0E6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26ED0-4392-41C4-94E1-2A62E6DBA30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Глубин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является в степени проникновения в сущность явления, процесс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является в умении выделять все существенные признаки понятия 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еть связь поняти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амостоятельност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ражается в умении увидеть новую проблему, поставить новый вопрос 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тем решить задачи своими силами творческий характер мыш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иболее ярко выражается в его самостоятель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Гибкост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является в умении изменять намеченный план действий, если этот план н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довлетворяет условиям, которые обнаруживаются в ходе решения задач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Быстро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является в способности находить правильные, обоснованные решения и реализовывать их в условиях дефицита времен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вопрос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Ощущение. Виды ощущен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Восприятие, свойства восприят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Внимание. Виды внимания, и его основные свой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Память, виды памяти. Закономерности памя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 Мышление, виды мышления. Развитие мыш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. Воображение, виды воображ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7DD8B-2A2E-4B0D-93C9-9890840C5B7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0000"/>
                </a:solidFill>
                <a:latin typeface="Arial"/>
              </a:rPr>
              <a:t>Основные мыслительные процессы и действ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Анализ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мыслительный процесс расчленения сложного объекта на составляющие его части или характеристи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Синтез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мыслительная операция, позволяющая соединять части в цело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Сравнение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установление сходства и различия между объектам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Классификаци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распределение предметов (понятий) на классы согласно наиболее существенным признакам, присущим одним предметам (понятиям) и отличающим их от других предметов (понятий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84182-358D-47FF-8B86-E524820D75A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0000"/>
                </a:solidFill>
                <a:latin typeface="Arial"/>
              </a:rPr>
              <a:t>Основные мыслительные процессы и действ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Умозаключение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форма мышления, при которой на основе нескольких суждений дается определенный вывод. Различают индуктивное, дедуктивное суждение и суждение по аналог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Петр Петрович всегда пьет чай с Федор Федоровичем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Федор Федорович пьет сейчас чай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Пьет ли Петр Петрович сейчас чай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Все металлы пропускают электрический ток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Железо – металл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Пропускает ли оно ток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Композитор: песня = архитектор: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Обобщение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мысленное объединение предметов и явлений по их общим и существенным признака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7CB06-ECD4-4BE3-93DF-1D5C0876D7D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Словесно-логическое мышлени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Тр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характеристики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няти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как логической категории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держание понятия; объем; связи и отношения данного понятия с другими.</a:t>
            </a: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 </a:t>
            </a:r>
            <a:r>
              <a:rPr b="1" lang="ru-RU" sz="1200" spc="-1" strike="noStrike">
                <a:solidFill>
                  <a:srgbClr val="d63eb9"/>
                </a:solidFill>
                <a:latin typeface="Arial"/>
              </a:rPr>
              <a:t>содержанием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понимают совокупность существенных свойств класса предметов. По содержанию понятия бывают простые и сложны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d63eb9"/>
                </a:solidFill>
                <a:latin typeface="Arial"/>
              </a:rPr>
              <a:t>Объем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понятия – это количество объектов, охватываемых данным понятием. Выделяют: единичные понятия (равные единице), общие (более 1), категории (понятия широкой степени общности, например: энергия, материя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d63eb9"/>
                </a:solidFill>
                <a:latin typeface="Arial"/>
              </a:rPr>
              <a:t>Связи и отношени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понятия с другими: различают родовые (понятия, отражающие существенные общие признаки класса предметов и включающие другие понятия меньшей степени общности) и видовые (понятия, подчиненные родовым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3DFEB-1B74-4B50-895C-6E3FF79D8F7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97E2B-8551-4FBC-8828-5FAE0C4A2A6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Глубин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является в степени проникновения в сущность явления, процесс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является в умении выделять все существенные признаки понятия 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еть связь поняти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амостоятельност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ражается в умении увидеть новую проблему, поставить новый вопрос 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тем решить задачи своими силами творческий характер мыш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иболее ярко выражается в его самостоятель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Гибкост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является в умении изменять намеченный план действий, если этот план н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довлетворяет условиям, которые обнаруживаются в ходе решения задач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Быстро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является в способности находить правильные, обоснованные решения и реализовывать их в условиях дефицита времен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ыделяют 4 уровня усвоения понятия (Н. А. Менчинская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1-й уровен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диффузно-рассеянный. На этом уровне у субъекта существует представление о том, что обозначает понятие, но признаки, отличающие данное понятие от других, он назвать не може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2-й уровен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называются признаки, без дифференциации их на существенные и второстепенны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3-й уровен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усваиваются существенные признаки, называ-ются вторичные, но все это связано с единичным образом, который служил опорой при формировании понятия, например: картинка, иллюстрация. Таким образом, понятие как будто усвоено, но признаки не обобщаютс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4-й уровен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понятие усвоено полно и точн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F03F9-5F0E-4187-BC88-95D0766BCCE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ображение, виды воображ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Воображение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форма психического отражения, состоящая в создании образов на основе ранее сформированных представлен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Виды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воображени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●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степени субъектности: произвольное и непроизвольно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●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отношению к возможному будущему: мечты, фантаз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●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степени уникальности: репродуктивное, творческо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BE32F-2BC6-47AE-AEA6-73D87CAE5FF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Основные функции воображ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Представление действительности в образах и составление возможности пользоваться ими, решая задач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Регулирование эмоциональных отношен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Формирование внутреннего плана челове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Планирование и программирование деятель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 Произвольная регуляция познавательных процессов и состояний челове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5418D-4BA4-427D-8E64-008702626B1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Формы синтеза представлений в процессах воображ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Агглютинаци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соединение несоединяемых в реальности качеств, свойств, частей предме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Гиперболизаци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увеличение или уменьшение предмета, изменение качества его част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Заострение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подчеркивание каких-либо признак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Схематизаци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сглаживание различий предметов и выявление черт сходства между ни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Типизаци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выделение существенного, повторяющегося в однородных явлениях и воплощение его в конкретном образ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90F96-3CD8-48BF-8D52-0B690393ED7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просы для самостоятельной рабо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Объясните следующий факт: если человек впервые идет по незнакомой местности, самостоятельно разыскивая дорогу, то он без труда находит ее вторично; если же он идет вместе со спутником, которому дорога хорошо известна, человеку трудно будет самостоятельно проделать этот путь в следующий раз. Почему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Верно ли выражение: «Восприятие – это сумма ощущений?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Ученику предложили найти обобщающее слово к двум следующим понятиям: километр – метр. Чтобы выполнить верно задание, какое мыслительное действие должен произвести ученик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Подумайте, чем отличается память животного от памяти человек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 Ребенку подготовительной группы предложили решить задачу: «Мама съела 3 конфеты, а сын 2. Сколько они съели конфет?» Мальчик отказался решать задачу, мотивируя тем, что так не бывает. Объясните поведение ребен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5660C-AB90-4962-B128-EB25F96AD1B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тера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Выготский Л. С. Психология воображения / Л. С. Выготский. – М., 199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Выготский Л. С. Развитие высших психических функций / Л. С. Выгот-ский. – М., 196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Грановская Р. М. Элементы практической психологии / Р. М. Грановская. – СПб., 199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Грегори Р. Л. Глаз и мозг. Психология зрительного восприятия /Р. Л. Грегори. – М., 1979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 Демидов В. Е. Как мы видим то, что видим / В. Е. Демидов. – М., 198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. Лурия А. Р. Маленькая книжка о большой памяти / А. Р. Лурия. – М., 1968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. Лурия А. Р. Ощущение и восприятие: материалы к курсу по общей психологии / А. Р. Лурия. – М., 197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E614F-CD59-4423-A019-672021142DE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ючевые понят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ff0000"/>
              </a:buClr>
              <a:buSzPct val="120000"/>
              <a:buFont typeface="Arial Unicode MS"/>
              <a:buChar char="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щущ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ff0000"/>
              </a:buClr>
              <a:buSzPct val="120000"/>
              <a:buFont typeface="Arial Unicode MS"/>
              <a:buChar char="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сприят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1049"/>
              </a:spcBef>
              <a:buClr>
                <a:srgbClr val="cc6600"/>
              </a:buClr>
              <a:buSzPct val="120000"/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предмет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1049"/>
              </a:spcBef>
              <a:buClr>
                <a:srgbClr val="cc6600"/>
              </a:buClr>
              <a:buSzPct val="120000"/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констант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1049"/>
              </a:spcBef>
              <a:buClr>
                <a:srgbClr val="cc6600"/>
              </a:buClr>
              <a:buSzPct val="120000"/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целост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ff0000"/>
              </a:buClr>
              <a:buSzPct val="120000"/>
              <a:buFont typeface="Arial Unicode MS"/>
              <a:buChar char="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ним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1049"/>
              </a:spcBef>
              <a:buClr>
                <a:srgbClr val="cc6600"/>
              </a:buClr>
              <a:buSzPct val="120000"/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устойчив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1049"/>
              </a:spcBef>
              <a:buClr>
                <a:srgbClr val="cc6600"/>
              </a:buClr>
              <a:buSzPct val="120000"/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распредел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1049"/>
              </a:spcBef>
              <a:buClr>
                <a:srgbClr val="cc6600"/>
              </a:buClr>
              <a:buSzPct val="120000"/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переключ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ff0000"/>
              </a:buClr>
              <a:buSzPct val="120000"/>
              <a:buFont typeface="Arial Unicode MS"/>
              <a:buChar char="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амя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1049"/>
              </a:spcBef>
              <a:buClr>
                <a:srgbClr val="cc6600"/>
              </a:buClr>
              <a:buSzPct val="120000"/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реминисцен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1049"/>
              </a:spcBef>
              <a:buClr>
                <a:srgbClr val="cc6600"/>
              </a:buClr>
              <a:buSzPct val="120000"/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интерферен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ff0000"/>
              </a:buClr>
              <a:buSzPct val="120000"/>
              <a:buFont typeface="Arial Unicode MS"/>
              <a:buChar char="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ображ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ff0000"/>
              </a:buClr>
              <a:buSzPct val="120000"/>
              <a:buFont typeface="Arial Unicode MS"/>
              <a:buChar char="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ышл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1049"/>
              </a:spcBef>
              <a:buClr>
                <a:srgbClr val="cc6600"/>
              </a:buClr>
              <a:buSzPct val="120000"/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мыслительные процессы и действ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616DE-1B7B-4ADA-9F5E-D53F0E5E209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тера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. Лурия А. Р. Внимание. Память. Материалы к курсу по общей психологии / А. Р. Лурия. – М., 197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9. Петухов В. В. Психология мышления: учебно-методическое пособие / В. В. Петухов. – М., 198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0. Платонов К. К. Занимательная психология / К. К. Платонов. – М., 196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1. Познавательные процессы и способности в обучении / под ред. В. Д. Шадрикова. – М., 199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2. Психология ощущения и восприятия: хрестоматия: учебное пособие для вузов / под ред. Ю. Б. Гиппенрейтер, В. В. Любимова, М. Б. Михалевской. – М., 200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3. Психология памяти: хрестоматия / под ред. Ю. Б. Гиппенрейтер, В. Я. Романова. – М., 200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718C8-E786-4491-8888-F5044AD0770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щущение. Виды ощущений</a:t>
            </a:r>
            <a:br>
              <a:rPr sz="14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Ощущени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отражение отдельных свойств предме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Виды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(модальности) ощущений: обоняние, вкус, осязание, слух,  зрени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тическая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лассификаци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ощущений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8CC9C-FD1F-47F6-B92B-82774FC2270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осприятие.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иды и свойства восприят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Восприятие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целостное отражение предметов в сознании человека при их непосредственном воздействии в данный момент на органы чувств. В акте восприятия присутствует определенное обобще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Ведущие свойства человеческого восприят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Arial"/>
              </a:rPr>
              <a:t>Целостност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образы восприятия представляют собой целостные, законченные, предметно оформленные структур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Arial"/>
              </a:rPr>
              <a:t>Предметност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воспринимается не только комплекс свойств, а оценивается этот комплекс как определенный предмет: «стол», «дом» и т. 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B2FF8-86DC-4BEE-A1D0-0B57CA0ABEC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ff"/>
                </a:solidFill>
                <a:latin typeface="Arial"/>
              </a:rPr>
              <a:t>Осмысленност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понимание вещи одно-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ременно с ее восприятием, восприятие происходит в контексте смысла. Здесь отражается связь восприятия с мышление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Arial"/>
              </a:rPr>
              <a:t>Константност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относительное постоянство формы, ве-личины и цвета предмета, независимо от изменений усло-вий восприят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Arial"/>
              </a:rPr>
              <a:t>Избирательност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преимущественное вычленение одних объектов по сравнению с другими, обусловленное особенностями субъекта восприятия (опытом, интересами, потребностями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Arial"/>
              </a:rPr>
              <a:t>Структурност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свойство, позволяющее воспринимать предметы в совокупности их устойчивых связей и отноше-н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037DA-B3D1-4CE1-816F-E328F8C863B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D022E-E97B-44DA-A95C-F3C6C462EDF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нимание, виды и основные свойства внимания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Внимание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направленность и сосредоточенность человека на определенных объектах при одновременном отвлечении от други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ассификация </a:t>
            </a:r>
            <a:r>
              <a:rPr b="0" lang="ru-RU" sz="1200" spc="-1" strike="noStrike">
                <a:solidFill>
                  <a:srgbClr val="0000ff"/>
                </a:solidFill>
                <a:latin typeface="Arial"/>
              </a:rPr>
              <a:t>видов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внимания (основание: актив-ность личности) (Н. Ф. Добрынин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DDAEC-1A0E-481D-BB73-0FB63FFFC10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ff"/>
                </a:solidFill>
                <a:latin typeface="Arial"/>
              </a:rPr>
              <a:t>Осмысленност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понимание вещи одно-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ременно с ее восприятием, восприятие происходит в контексте смысла. Здесь отражается связь восприятия с мышление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Arial"/>
              </a:rPr>
              <a:t>Константност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относительное постоянство формы, ве-личины и цвета предмета, независимо от изменений усло-вий восприят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Arial"/>
              </a:rPr>
              <a:t>Избирательност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преимущественное вычленение одних объектов по сравнению с другими, обусловленное особенностями субъекта восприятия (опытом, интересами, потребностями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Arial"/>
              </a:rPr>
              <a:t>Структурност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свойство, позволяющее воспринимать предметы в совокупности их устойчивых связей и отноше-н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92EBD-CBED-4228-A5DE-BA18FE85E93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22B71-0F97-446B-8174-E3CE1213C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889308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50560" y="3965040"/>
            <a:ext cx="889308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5C34C-68EE-4756-8111-8E55334F2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07800" y="14126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50560" y="39650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07800" y="39650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FAF40-AE59-48DB-8DAC-BEEBF464E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286344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57640" y="1412640"/>
            <a:ext cx="286344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264720" y="1412640"/>
            <a:ext cx="286344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50560" y="3965040"/>
            <a:ext cx="286344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57640" y="3965040"/>
            <a:ext cx="286344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264720" y="3965040"/>
            <a:ext cx="286344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6726F-68FD-4FDF-98C6-59CB2873F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C3304-7701-4BB4-8437-7A9E91840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250560" y="1412640"/>
            <a:ext cx="8893080" cy="48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C0C24-AC2A-4454-99EE-C9165F26B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889308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9C5BF-85C1-417B-9CD0-D0F348926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433980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07800" y="1412640"/>
            <a:ext cx="433980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3D47D-2B54-4E00-968A-9E1D4A622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B0974-B339-42B0-9242-B8DEE2963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250560" y="0"/>
            <a:ext cx="8893080" cy="70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DB9FD-EFC8-4F9F-B31D-C2A384370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07800" y="1412640"/>
            <a:ext cx="433980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50560" y="39650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E613E-91CC-48DD-92C4-7232EE4C3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50560" y="1412640"/>
            <a:ext cx="8893080" cy="48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929F5-22A4-4550-A2C0-808645A99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433980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07800" y="14126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807800" y="39650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AB412-FB2C-4D56-A989-3A30DAFEE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07800" y="14126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50560" y="3965040"/>
            <a:ext cx="889308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A9384-F0B0-43DD-BFFB-ECEFB9690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889308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250560" y="3965040"/>
            <a:ext cx="889308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AA04F-9BE2-4A79-B84F-A4EB8CA04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07800" y="14126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250560" y="39650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807800" y="39650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C5988-5F0A-4E5D-8952-411FF3D78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286344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57640" y="1412640"/>
            <a:ext cx="286344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264720" y="1412640"/>
            <a:ext cx="286344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250560" y="3965040"/>
            <a:ext cx="286344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57640" y="3965040"/>
            <a:ext cx="286344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264720" y="3965040"/>
            <a:ext cx="286344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41C6B-0061-46E7-ABAB-71198E695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565893-5DA4-4166-BFCD-AD618C5A6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250560" y="1412640"/>
            <a:ext cx="8893080" cy="48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D985A3-9A1A-4298-9985-5DD95F8A9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889308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4433EC-C300-4EAA-8653-F14DCF434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433980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807800" y="1412640"/>
            <a:ext cx="433980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6A2279-68BD-4021-88C9-3940B8CB1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2EB6BD-DDCD-461B-B709-1B03F4B55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889308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F3E23-A8C5-4C68-A00A-692FF1CDA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250560" y="0"/>
            <a:ext cx="8893080" cy="70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F97675-C4C7-4A74-A60C-9AE0FAC53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07800" y="1412640"/>
            <a:ext cx="433980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50560" y="39650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606A92-6680-4D52-AC03-382564353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433980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807800" y="14126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807800" y="39650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E60C4C-2765-4C0C-8979-646D15CA3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07800" y="14126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250560" y="3965040"/>
            <a:ext cx="889308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9CB499-8411-435C-9FBF-16D3E11A0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889308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250560" y="3965040"/>
            <a:ext cx="889308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CD4A35-F7BA-40A7-8FD3-AD03CEEF8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807800" y="14126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250560" y="39650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807800" y="39650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86DA43-3AEE-4B03-9A27-39B2B3A2F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286344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257640" y="1412640"/>
            <a:ext cx="286344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264720" y="1412640"/>
            <a:ext cx="286344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250560" y="3965040"/>
            <a:ext cx="286344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257640" y="3965040"/>
            <a:ext cx="286344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264720" y="3965040"/>
            <a:ext cx="286344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4FB785-7081-4631-A2A8-92AED6C6E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2EA0FB-A2EF-4D98-9BF6-FF42BB753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250560" y="1412640"/>
            <a:ext cx="8893080" cy="48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CDEFA6-4583-4DD8-A02C-CAAE5D5AB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889308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CF243E-ED4B-46F0-8081-BFFB1DCE6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433980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07800" y="1412640"/>
            <a:ext cx="433980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A13A0-4FBE-4A22-B115-5C7D65F2B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433980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807800" y="1412640"/>
            <a:ext cx="433980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51B1C2-9FC7-4C8B-BC23-6706BCF7E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4CB48C-FBF0-4ECD-BE45-86DCF9D00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250560" y="0"/>
            <a:ext cx="8893080" cy="70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0423E5-3A39-426C-8AB7-3D3AF09D0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07800" y="1412640"/>
            <a:ext cx="433980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50560" y="39650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7206D0-BC2E-4D29-A00F-A1AD6D648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433980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807800" y="14126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807800" y="39650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AF4021-E80F-4F92-997F-6E63356FB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807800" y="14126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250560" y="3965040"/>
            <a:ext cx="889308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708E35-E26C-4B87-A40D-0156B412A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889308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250560" y="3965040"/>
            <a:ext cx="889308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23EF7B-C9DD-4569-907B-4B4240C90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807800" y="14126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250560" y="39650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807800" y="39650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55AE2B-C3EE-4D11-A743-0AEE0D986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286344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257640" y="1412640"/>
            <a:ext cx="286344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264720" y="1412640"/>
            <a:ext cx="286344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250560" y="3965040"/>
            <a:ext cx="286344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257640" y="3965040"/>
            <a:ext cx="286344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6264720" y="3965040"/>
            <a:ext cx="286344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BEC76F-ADA6-48BE-8352-0F1968A1E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2B4FED-3A76-4C2D-81CB-F4313FBBD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2ADF4-046E-4435-9CCA-957040212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250560" y="1412640"/>
            <a:ext cx="8893080" cy="48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915BDF-B91F-47B0-8C04-1E001B36E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889308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71484E-97FD-42A2-B1C1-98530C476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433980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7800" y="1412640"/>
            <a:ext cx="433980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EB473C-FFE6-4841-98E6-B25B52AAB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C1BED3-0963-482A-B877-EAEF2CEF9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250560" y="0"/>
            <a:ext cx="8893080" cy="70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8B95D5-F900-4750-809C-2C06DC3BA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07800" y="1412640"/>
            <a:ext cx="433980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250560" y="39650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D73698-1215-40BE-9672-0DEA413C1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433980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07800" y="14126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07800" y="39650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F15564-70C5-450D-89C9-A6040BBFE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07800" y="14126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250560" y="3965040"/>
            <a:ext cx="889308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C7E487-5DA6-418F-8645-581A15305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889308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50560" y="3965040"/>
            <a:ext cx="889308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3C72EE-F228-4FA0-A677-49917FD5D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07800" y="14126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250560" y="39650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07800" y="39650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2CFADC-C8C1-40FA-8377-06CD6FAD7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50560" y="0"/>
            <a:ext cx="8893080" cy="70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07493-26B5-409B-B917-B2E65245D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286344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57640" y="1412640"/>
            <a:ext cx="286344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264720" y="1412640"/>
            <a:ext cx="286344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250560" y="3965040"/>
            <a:ext cx="286344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57640" y="3965040"/>
            <a:ext cx="286344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264720" y="3965040"/>
            <a:ext cx="286344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39B960-89F3-4F5D-8B1C-EF28275DE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07800" y="1412640"/>
            <a:ext cx="433980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50560" y="39650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41959-F2FC-40D4-8B77-ACDEAEB66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433980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07800" y="14126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07800" y="39650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686C0-34BD-4CA4-A6AE-C9D1E75F6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07800" y="1412640"/>
            <a:ext cx="4339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50560" y="3965040"/>
            <a:ext cx="889308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3939D-5A68-4221-998B-36F7505E2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ceb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50560" y="1412640"/>
            <a:ext cx="8893080" cy="4886280"/>
          </a:xfrm>
          <a:prstGeom prst="rect">
            <a:avLst/>
          </a:prstGeom>
          <a:solidFill>
            <a:srgbClr val="bcebe1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71391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0560" y="6453360"/>
            <a:ext cx="8893080" cy="404640"/>
          </a:xfrm>
          <a:prstGeom prst="rect">
            <a:avLst/>
          </a:prstGeom>
          <a:solidFill>
            <a:srgbClr val="f1ffd3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693200" y="6453360"/>
            <a:ext cx="145080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CFEE5-46E5-4EA9-8D12-76958070F605}" type="slidenum"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24"/>
          <p:cNvGrpSpPr/>
          <p:nvPr/>
        </p:nvGrpSpPr>
        <p:grpSpPr>
          <a:xfrm>
            <a:off x="0" y="0"/>
            <a:ext cx="2050560" cy="1289160"/>
            <a:chOff x="0" y="0"/>
            <a:chExt cx="2050560" cy="1289160"/>
          </a:xfrm>
        </p:grpSpPr>
        <p:sp>
          <p:nvSpPr>
            <p:cNvPr id="6" name="AutoShape 17"/>
            <p:cNvSpPr/>
            <p:nvPr/>
          </p:nvSpPr>
          <p:spPr>
            <a:xfrm>
              <a:off x="512640" y="0"/>
              <a:ext cx="1132560" cy="1289160"/>
            </a:xfrm>
            <a:prstGeom prst="diamond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00d2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7" name="AutoShape 19"/>
            <p:cNvSpPr/>
            <p:nvPr/>
          </p:nvSpPr>
          <p:spPr>
            <a:xfrm>
              <a:off x="990720" y="260280"/>
              <a:ext cx="1059840" cy="863640"/>
            </a:xfrm>
            <a:prstGeom prst="diamond">
              <a:avLst/>
            </a:prstGeom>
            <a:solidFill>
              <a:srgbClr val="ffff00">
                <a:alpha val="76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8" name="AutoShape 20"/>
            <p:cNvSpPr/>
            <p:nvPr/>
          </p:nvSpPr>
          <p:spPr>
            <a:xfrm>
              <a:off x="0" y="260280"/>
              <a:ext cx="1059840" cy="863640"/>
            </a:xfrm>
            <a:prstGeom prst="diamond">
              <a:avLst/>
            </a:prstGeom>
            <a:solidFill>
              <a:srgbClr val="ff00ff">
                <a:alpha val="6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sp>
        <p:nvSpPr>
          <p:cNvPr id="9" name="Rectangle 22"/>
          <p:cNvSpPr/>
          <p:nvPr/>
        </p:nvSpPr>
        <p:spPr>
          <a:xfrm>
            <a:off x="2050920" y="1197000"/>
            <a:ext cx="7093080" cy="142920"/>
          </a:xfrm>
          <a:prstGeom prst="rect">
            <a:avLst/>
          </a:prstGeom>
          <a:gradFill rotWithShape="0">
            <a:gsLst>
              <a:gs pos="0">
                <a:srgbClr val="ff33cc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" name="Rectangle 23"/>
          <p:cNvSpPr/>
          <p:nvPr/>
        </p:nvSpPr>
        <p:spPr>
          <a:xfrm>
            <a:off x="0" y="3284640"/>
            <a:ext cx="250920" cy="357336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100000">
                <a:srgbClr val="ccff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ceb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0" y="6165720"/>
            <a:ext cx="9144000" cy="5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0" y="6443280"/>
            <a:ext cx="9144000" cy="414360"/>
          </a:xfrm>
          <a:prstGeom prst="rect">
            <a:avLst/>
          </a:prstGeom>
          <a:solidFill>
            <a:srgbClr val="f1ffd3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100720" y="6453000"/>
            <a:ext cx="10429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438EF-0CDC-4ABE-8653-0E6E5778E6F2}" type="slidenum"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Group 7"/>
          <p:cNvGrpSpPr/>
          <p:nvPr/>
        </p:nvGrpSpPr>
        <p:grpSpPr>
          <a:xfrm>
            <a:off x="0" y="0"/>
            <a:ext cx="2050560" cy="1289160"/>
            <a:chOff x="0" y="0"/>
            <a:chExt cx="2050560" cy="1289160"/>
          </a:xfrm>
        </p:grpSpPr>
        <p:sp>
          <p:nvSpPr>
            <p:cNvPr id="53" name="AutoShape 8"/>
            <p:cNvSpPr/>
            <p:nvPr/>
          </p:nvSpPr>
          <p:spPr>
            <a:xfrm>
              <a:off x="512640" y="0"/>
              <a:ext cx="1132560" cy="1289160"/>
            </a:xfrm>
            <a:prstGeom prst="diamond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00d2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54" name="AutoShape 9"/>
            <p:cNvSpPr/>
            <p:nvPr/>
          </p:nvSpPr>
          <p:spPr>
            <a:xfrm>
              <a:off x="990720" y="260280"/>
              <a:ext cx="1059840" cy="863640"/>
            </a:xfrm>
            <a:prstGeom prst="diamond">
              <a:avLst/>
            </a:prstGeom>
            <a:solidFill>
              <a:srgbClr val="ffff00">
                <a:alpha val="76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55" name="AutoShape 10"/>
            <p:cNvSpPr/>
            <p:nvPr/>
          </p:nvSpPr>
          <p:spPr>
            <a:xfrm>
              <a:off x="0" y="260280"/>
              <a:ext cx="1059840" cy="863640"/>
            </a:xfrm>
            <a:prstGeom prst="diamond">
              <a:avLst/>
            </a:prstGeom>
            <a:solidFill>
              <a:srgbClr val="ff00ff">
                <a:alpha val="6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ceb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47280" y="-360"/>
            <a:ext cx="7596360" cy="1413000"/>
          </a:xfrm>
          <a:prstGeom prst="rect">
            <a:avLst/>
          </a:prstGeom>
          <a:solidFill>
            <a:srgbClr val="bcebe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250560" y="1052640"/>
            <a:ext cx="8893080" cy="5246640"/>
          </a:xfrm>
          <a:prstGeom prst="rect">
            <a:avLst/>
          </a:prstGeom>
          <a:solidFill>
            <a:srgbClr val="bcebe1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71391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250560" y="6308640"/>
            <a:ext cx="8893080" cy="549360"/>
          </a:xfrm>
          <a:prstGeom prst="rect">
            <a:avLst/>
          </a:prstGeom>
          <a:solidFill>
            <a:srgbClr val="b1e1d6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693200" y="6373440"/>
            <a:ext cx="145080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6FD04-DB2F-4B20-9EBE-13CA662B0E19}" type="slidenum"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12"/>
          <p:cNvSpPr/>
          <p:nvPr/>
        </p:nvSpPr>
        <p:spPr>
          <a:xfrm>
            <a:off x="0" y="3284640"/>
            <a:ext cx="250920" cy="357336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100000">
                <a:srgbClr val="ccff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98" name="Group 7"/>
          <p:cNvGrpSpPr/>
          <p:nvPr/>
        </p:nvGrpSpPr>
        <p:grpSpPr>
          <a:xfrm>
            <a:off x="0" y="0"/>
            <a:ext cx="2050560" cy="1289160"/>
            <a:chOff x="0" y="0"/>
            <a:chExt cx="2050560" cy="1289160"/>
          </a:xfrm>
        </p:grpSpPr>
        <p:sp>
          <p:nvSpPr>
            <p:cNvPr id="99" name="AutoShape 8"/>
            <p:cNvSpPr/>
            <p:nvPr/>
          </p:nvSpPr>
          <p:spPr>
            <a:xfrm>
              <a:off x="512640" y="0"/>
              <a:ext cx="1132560" cy="1289160"/>
            </a:xfrm>
            <a:prstGeom prst="diamond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00d2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00" name="AutoShape 9"/>
            <p:cNvSpPr/>
            <p:nvPr/>
          </p:nvSpPr>
          <p:spPr>
            <a:xfrm>
              <a:off x="990720" y="260280"/>
              <a:ext cx="1059840" cy="863640"/>
            </a:xfrm>
            <a:prstGeom prst="diamond">
              <a:avLst/>
            </a:prstGeom>
            <a:gradFill rotWithShape="0">
              <a:gsLst>
                <a:gs pos="0">
                  <a:srgbClr val="ffff00">
                    <a:alpha val="50196"/>
                  </a:srgbClr>
                </a:gs>
                <a:gs pos="100000">
                  <a:srgbClr val="ff9933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01" name="AutoShape 10"/>
            <p:cNvSpPr/>
            <p:nvPr/>
          </p:nvSpPr>
          <p:spPr>
            <a:xfrm>
              <a:off x="0" y="260280"/>
              <a:ext cx="1059840" cy="863640"/>
            </a:xfrm>
            <a:prstGeom prst="diamond">
              <a:avLst/>
            </a:prstGeom>
            <a:gradFill rotWithShape="0">
              <a:gsLst>
                <a:gs pos="0">
                  <a:srgbClr val="ff66ff">
                    <a:alpha val="39215"/>
                  </a:srgbClr>
                </a:gs>
                <a:gs pos="100000">
                  <a:srgbClr val="3333cc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D7929-C966-4566-9347-03E9E00C699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ceb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9" name="Group 13"/>
          <p:cNvGrpSpPr/>
          <p:nvPr/>
        </p:nvGrpSpPr>
        <p:grpSpPr>
          <a:xfrm>
            <a:off x="0" y="0"/>
            <a:ext cx="2484360" cy="1773360"/>
            <a:chOff x="0" y="0"/>
            <a:chExt cx="2484360" cy="1773360"/>
          </a:xfrm>
        </p:grpSpPr>
        <p:sp>
          <p:nvSpPr>
            <p:cNvPr id="180" name="AutoShape 7"/>
            <p:cNvSpPr/>
            <p:nvPr/>
          </p:nvSpPr>
          <p:spPr>
            <a:xfrm>
              <a:off x="620640" y="0"/>
              <a:ext cx="1370160" cy="1773360"/>
            </a:xfrm>
            <a:prstGeom prst="diamond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00d2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81" name="AutoShape 8"/>
            <p:cNvSpPr/>
            <p:nvPr/>
          </p:nvSpPr>
          <p:spPr>
            <a:xfrm>
              <a:off x="1200240" y="358920"/>
              <a:ext cx="1284120" cy="1187280"/>
            </a:xfrm>
            <a:prstGeom prst="diamond">
              <a:avLst/>
            </a:prstGeom>
            <a:solidFill>
              <a:srgbClr val="ffff00">
                <a:alpha val="73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82" name="AutoShape 9"/>
            <p:cNvSpPr/>
            <p:nvPr/>
          </p:nvSpPr>
          <p:spPr>
            <a:xfrm>
              <a:off x="0" y="358920"/>
              <a:ext cx="1284120" cy="1187280"/>
            </a:xfrm>
            <a:prstGeom prst="diamond">
              <a:avLst/>
            </a:prstGeom>
            <a:solidFill>
              <a:srgbClr val="ff00ff">
                <a:alpha val="64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grpSp>
        <p:nvGrpSpPr>
          <p:cNvPr id="183" name="Group 360"/>
          <p:cNvGrpSpPr/>
          <p:nvPr/>
        </p:nvGrpSpPr>
        <p:grpSpPr>
          <a:xfrm>
            <a:off x="539640" y="2565360"/>
            <a:ext cx="7812000" cy="2158560"/>
            <a:chOff x="539640" y="2565360"/>
            <a:chExt cx="7812000" cy="2158560"/>
          </a:xfrm>
        </p:grpSpPr>
        <p:sp>
          <p:nvSpPr>
            <p:cNvPr id="184" name="AutoShape 10"/>
            <p:cNvSpPr/>
            <p:nvPr/>
          </p:nvSpPr>
          <p:spPr>
            <a:xfrm>
              <a:off x="539640" y="2565360"/>
              <a:ext cx="7812000" cy="2158560"/>
            </a:xfrm>
            <a:prstGeom prst="roundRect">
              <a:avLst>
                <a:gd name="adj" fmla="val 38352"/>
              </a:avLst>
            </a:prstGeom>
            <a:gradFill rotWithShape="0">
              <a:gsLst>
                <a:gs pos="0">
                  <a:srgbClr val="33cccc">
                    <a:alpha val="78039"/>
                  </a:srgbClr>
                </a:gs>
                <a:gs pos="100000">
                  <a:srgbClr val="ffff66">
                    <a:alpha val="54117"/>
                  </a:srgbClr>
                </a:gs>
              </a:gsLst>
              <a:lin ang="2700000"/>
            </a:gradFill>
            <a:ln w="93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85" name="Oval 54"/>
            <p:cNvSpPr/>
            <p:nvPr/>
          </p:nvSpPr>
          <p:spPr>
            <a:xfrm>
              <a:off x="1582560" y="3644640"/>
              <a:ext cx="287280" cy="231120"/>
            </a:xfrm>
            <a:prstGeom prst="ellipse">
              <a:avLst/>
            </a:prstGeom>
            <a:gradFill rotWithShape="0">
              <a:gsLst>
                <a:gs pos="0">
                  <a:srgbClr val="ff33cc">
                    <a:alpha val="50196"/>
                  </a:srgbClr>
                </a:gs>
                <a:gs pos="100000">
                  <a:srgbClr val="76185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86" name="Oval 190"/>
            <p:cNvSpPr/>
            <p:nvPr/>
          </p:nvSpPr>
          <p:spPr>
            <a:xfrm>
              <a:off x="2879640" y="3644640"/>
              <a:ext cx="287280" cy="231120"/>
            </a:xfrm>
            <a:prstGeom prst="ellipse">
              <a:avLst/>
            </a:prstGeom>
            <a:solidFill>
              <a:srgbClr val="ff33cc">
                <a:alpha val="55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87" name="Oval 191"/>
            <p:cNvSpPr/>
            <p:nvPr/>
          </p:nvSpPr>
          <p:spPr>
            <a:xfrm>
              <a:off x="4174920" y="3644640"/>
              <a:ext cx="287280" cy="231120"/>
            </a:xfrm>
            <a:prstGeom prst="ellipse">
              <a:avLst/>
            </a:prstGeom>
            <a:solidFill>
              <a:srgbClr val="ff33cc">
                <a:alpha val="5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88" name="Oval 192"/>
            <p:cNvSpPr/>
            <p:nvPr/>
          </p:nvSpPr>
          <p:spPr>
            <a:xfrm>
              <a:off x="5398920" y="3568320"/>
              <a:ext cx="287280" cy="229320"/>
            </a:xfrm>
            <a:prstGeom prst="ellipse">
              <a:avLst/>
            </a:prstGeom>
            <a:solidFill>
              <a:srgbClr val="ff33cc">
                <a:alpha val="65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89" name="Oval 193"/>
            <p:cNvSpPr/>
            <p:nvPr/>
          </p:nvSpPr>
          <p:spPr>
            <a:xfrm>
              <a:off x="6840360" y="3568320"/>
              <a:ext cx="287280" cy="229320"/>
            </a:xfrm>
            <a:prstGeom prst="ellipse">
              <a:avLst/>
            </a:prstGeom>
            <a:solidFill>
              <a:srgbClr val="ff33cc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grpSp>
          <p:nvGrpSpPr>
            <p:cNvPr id="190" name="Group 336"/>
            <p:cNvGrpSpPr/>
            <p:nvPr/>
          </p:nvGrpSpPr>
          <p:grpSpPr>
            <a:xfrm>
              <a:off x="539640" y="2719800"/>
              <a:ext cx="7692480" cy="796680"/>
              <a:chOff x="539640" y="2719800"/>
              <a:chExt cx="7692480" cy="796680"/>
            </a:xfrm>
          </p:grpSpPr>
          <p:sp>
            <p:nvSpPr>
              <p:cNvPr id="191" name="AutoShape 326"/>
              <p:cNvSpPr/>
              <p:nvPr/>
            </p:nvSpPr>
            <p:spPr>
              <a:xfrm>
                <a:off x="1294920" y="2719800"/>
                <a:ext cx="925200" cy="796680"/>
              </a:xfrm>
              <a:prstGeom prst="diamond">
                <a:avLst/>
              </a:prstGeom>
              <a:gradFill rotWithShape="0">
                <a:gsLst>
                  <a:gs pos="0">
                    <a:srgbClr val="33cc33"/>
                  </a:gs>
                  <a:gs pos="100000">
                    <a:srgbClr val="185e18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92" name="AutoShape 327"/>
              <p:cNvSpPr/>
              <p:nvPr/>
            </p:nvSpPr>
            <p:spPr>
              <a:xfrm>
                <a:off x="2086920" y="2719800"/>
                <a:ext cx="960120" cy="796680"/>
              </a:xfrm>
              <a:prstGeom prst="diamond">
                <a:avLst/>
              </a:prstGeom>
              <a:gradFill rotWithShape="0">
                <a:gsLst>
                  <a:gs pos="0">
                    <a:srgbClr val="ff3300">
                      <a:alpha val="63137"/>
                    </a:srgbClr>
                  </a:gs>
                  <a:gs pos="100000">
                    <a:srgbClr val="0066ff">
                      <a:alpha val="60392"/>
                    </a:srgbClr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93" name="AutoShape 328"/>
              <p:cNvSpPr/>
              <p:nvPr/>
            </p:nvSpPr>
            <p:spPr>
              <a:xfrm>
                <a:off x="2807640" y="2719800"/>
                <a:ext cx="960120" cy="796680"/>
              </a:xfrm>
              <a:prstGeom prst="diamond">
                <a:avLst/>
              </a:prstGeom>
              <a:gradFill rotWithShape="0">
                <a:gsLst>
                  <a:gs pos="0">
                    <a:srgbClr val="ff0000">
                      <a:alpha val="53333"/>
                    </a:srgbClr>
                  </a:gs>
                  <a:gs pos="100000">
                    <a:srgbClr val="cc3300">
                      <a:alpha val="53333"/>
                    </a:srgbClr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94" name="AutoShape 329"/>
              <p:cNvSpPr/>
              <p:nvPr/>
            </p:nvSpPr>
            <p:spPr>
              <a:xfrm>
                <a:off x="3671280" y="2719800"/>
                <a:ext cx="960120" cy="796680"/>
              </a:xfrm>
              <a:prstGeom prst="diamond">
                <a:avLst/>
              </a:prstGeom>
              <a:solidFill>
                <a:srgbClr val="ffff00">
                  <a:alpha val="7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95" name="AutoShape 330"/>
              <p:cNvSpPr/>
              <p:nvPr/>
            </p:nvSpPr>
            <p:spPr>
              <a:xfrm>
                <a:off x="4534920" y="2719800"/>
                <a:ext cx="960120" cy="796680"/>
              </a:xfrm>
              <a:prstGeom prst="diamond">
                <a:avLst/>
              </a:prstGeom>
              <a:gradFill rotWithShape="0">
                <a:gsLst>
                  <a:gs pos="0">
                    <a:srgbClr val="cc3300">
                      <a:alpha val="68235"/>
                    </a:srgbClr>
                  </a:gs>
                  <a:gs pos="100000">
                    <a:srgbClr val="ff3300">
                      <a:alpha val="69019"/>
                    </a:srgbClr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96" name="AutoShape 331"/>
              <p:cNvSpPr/>
              <p:nvPr/>
            </p:nvSpPr>
            <p:spPr>
              <a:xfrm>
                <a:off x="539640" y="2719800"/>
                <a:ext cx="888480" cy="769680"/>
              </a:xfrm>
              <a:prstGeom prst="diamond">
                <a:avLst/>
              </a:prstGeom>
              <a:gradFill rotWithShape="0">
                <a:gsLst>
                  <a:gs pos="0">
                    <a:srgbClr val="ff99ff"/>
                  </a:gs>
                  <a:gs pos="100000">
                    <a:srgbClr val="ffffff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97" name="AutoShape 332"/>
              <p:cNvSpPr/>
              <p:nvPr/>
            </p:nvSpPr>
            <p:spPr>
              <a:xfrm>
                <a:off x="5255640" y="2719800"/>
                <a:ext cx="960120" cy="796680"/>
              </a:xfrm>
              <a:prstGeom prst="diamond">
                <a:avLst/>
              </a:prstGeom>
              <a:gradFill rotWithShape="0">
                <a:gsLst>
                  <a:gs pos="0">
                    <a:srgbClr val="ff3300">
                      <a:alpha val="69019"/>
                    </a:srgbClr>
                  </a:gs>
                  <a:gs pos="100000">
                    <a:srgbClr val="33ccff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98" name="AutoShape 333"/>
              <p:cNvSpPr/>
              <p:nvPr/>
            </p:nvSpPr>
            <p:spPr>
              <a:xfrm>
                <a:off x="5974920" y="2719800"/>
                <a:ext cx="960120" cy="796680"/>
              </a:xfrm>
              <a:prstGeom prst="diamond">
                <a:avLst/>
              </a:prstGeom>
              <a:gradFill rotWithShape="0">
                <a:gsLst>
                  <a:gs pos="0">
                    <a:srgbClr val="ffff66">
                      <a:alpha val="72156"/>
                    </a:srgbClr>
                  </a:gs>
                  <a:gs pos="100000">
                    <a:srgbClr val="0000ff">
                      <a:alpha val="74117"/>
                    </a:srgbClr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99" name="AutoShape 334"/>
              <p:cNvSpPr/>
              <p:nvPr/>
            </p:nvSpPr>
            <p:spPr>
              <a:xfrm>
                <a:off x="6624000" y="2719800"/>
                <a:ext cx="960120" cy="796680"/>
              </a:xfrm>
              <a:prstGeom prst="diamond">
                <a:avLst/>
              </a:prstGeom>
              <a:solidFill>
                <a:srgbClr val="33cc33">
                  <a:alpha val="81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00" name="AutoShape 335"/>
              <p:cNvSpPr/>
              <p:nvPr/>
            </p:nvSpPr>
            <p:spPr>
              <a:xfrm>
                <a:off x="7272000" y="2719800"/>
                <a:ext cx="960120" cy="796680"/>
              </a:xfrm>
              <a:prstGeom prst="diamond">
                <a:avLst/>
              </a:prstGeom>
              <a:gradFill rotWithShape="0">
                <a:gsLst>
                  <a:gs pos="0">
                    <a:srgbClr val="ff99ff"/>
                  </a:gs>
                  <a:gs pos="100000">
                    <a:srgbClr val="ffff99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  <p:grpSp>
          <p:nvGrpSpPr>
            <p:cNvPr id="201" name="Group 337"/>
            <p:cNvGrpSpPr/>
            <p:nvPr/>
          </p:nvGrpSpPr>
          <p:grpSpPr>
            <a:xfrm>
              <a:off x="539640" y="3877560"/>
              <a:ext cx="7692480" cy="796680"/>
              <a:chOff x="539640" y="3877560"/>
              <a:chExt cx="7692480" cy="796680"/>
            </a:xfrm>
          </p:grpSpPr>
          <p:sp>
            <p:nvSpPr>
              <p:cNvPr id="202" name="AutoShape 338"/>
              <p:cNvSpPr/>
              <p:nvPr/>
            </p:nvSpPr>
            <p:spPr>
              <a:xfrm>
                <a:off x="1294920" y="3877560"/>
                <a:ext cx="925200" cy="796680"/>
              </a:xfrm>
              <a:prstGeom prst="diamond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cc99ff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03" name="AutoShape 339"/>
              <p:cNvSpPr/>
              <p:nvPr/>
            </p:nvSpPr>
            <p:spPr>
              <a:xfrm>
                <a:off x="2086920" y="3877560"/>
                <a:ext cx="960120" cy="796680"/>
              </a:xfrm>
              <a:prstGeom prst="diamond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cc99ff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04" name="AutoShape 340"/>
              <p:cNvSpPr/>
              <p:nvPr/>
            </p:nvSpPr>
            <p:spPr>
              <a:xfrm>
                <a:off x="2807640" y="3877560"/>
                <a:ext cx="960120" cy="796680"/>
              </a:xfrm>
              <a:prstGeom prst="diamond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cc99ff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05" name="AutoShape 341"/>
              <p:cNvSpPr/>
              <p:nvPr/>
            </p:nvSpPr>
            <p:spPr>
              <a:xfrm>
                <a:off x="3671280" y="3877560"/>
                <a:ext cx="960120" cy="796680"/>
              </a:xfrm>
              <a:prstGeom prst="diamond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cc99ff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06" name="AutoShape 342"/>
              <p:cNvSpPr/>
              <p:nvPr/>
            </p:nvSpPr>
            <p:spPr>
              <a:xfrm>
                <a:off x="4534920" y="3877560"/>
                <a:ext cx="960120" cy="796680"/>
              </a:xfrm>
              <a:prstGeom prst="diamond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cc99ff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07" name="AutoShape 343"/>
              <p:cNvSpPr/>
              <p:nvPr/>
            </p:nvSpPr>
            <p:spPr>
              <a:xfrm>
                <a:off x="539640" y="3877560"/>
                <a:ext cx="888480" cy="769680"/>
              </a:xfrm>
              <a:prstGeom prst="diamond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cc99ff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08" name="AutoShape 344"/>
              <p:cNvSpPr/>
              <p:nvPr/>
            </p:nvSpPr>
            <p:spPr>
              <a:xfrm>
                <a:off x="5255640" y="3877560"/>
                <a:ext cx="960120" cy="796680"/>
              </a:xfrm>
              <a:prstGeom prst="diamond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cc99ff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09" name="AutoShape 345"/>
              <p:cNvSpPr/>
              <p:nvPr/>
            </p:nvSpPr>
            <p:spPr>
              <a:xfrm>
                <a:off x="5974920" y="3877560"/>
                <a:ext cx="960120" cy="796680"/>
              </a:xfrm>
              <a:prstGeom prst="diamond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cc99ff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10" name="AutoShape 346"/>
              <p:cNvSpPr/>
              <p:nvPr/>
            </p:nvSpPr>
            <p:spPr>
              <a:xfrm>
                <a:off x="6624000" y="3877560"/>
                <a:ext cx="960120" cy="796680"/>
              </a:xfrm>
              <a:prstGeom prst="diamond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cc99ff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11" name="AutoShape 347"/>
              <p:cNvSpPr/>
              <p:nvPr/>
            </p:nvSpPr>
            <p:spPr>
              <a:xfrm>
                <a:off x="7272000" y="3877560"/>
                <a:ext cx="960120" cy="796680"/>
              </a:xfrm>
              <a:prstGeom prst="diamond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cc99ff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  <p:sp>
          <p:nvSpPr>
            <p:cNvPr id="212" name="AutoShape 349"/>
            <p:cNvSpPr/>
            <p:nvPr/>
          </p:nvSpPr>
          <p:spPr>
            <a:xfrm>
              <a:off x="1295280" y="3260520"/>
              <a:ext cx="925560" cy="797040"/>
            </a:xfrm>
            <a:prstGeom prst="diamond">
              <a:avLst/>
            </a:prstGeom>
            <a:gradFill rotWithShape="0">
              <a:gsLst>
                <a:gs pos="0">
                  <a:srgbClr val="008000">
                    <a:alpha val="59215"/>
                  </a:srgbClr>
                </a:gs>
                <a:gs pos="100000">
                  <a:srgbClr val="ffff66">
                    <a:alpha val="58039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13" name="AutoShape 350"/>
            <p:cNvSpPr/>
            <p:nvPr/>
          </p:nvSpPr>
          <p:spPr>
            <a:xfrm>
              <a:off x="2087280" y="3260520"/>
              <a:ext cx="960480" cy="797040"/>
            </a:xfrm>
            <a:prstGeom prst="diamond">
              <a:avLst/>
            </a:prstGeom>
            <a:gradFill rotWithShape="0">
              <a:gsLst>
                <a:gs pos="0">
                  <a:srgbClr val="008000">
                    <a:alpha val="59215"/>
                  </a:srgbClr>
                </a:gs>
                <a:gs pos="100000">
                  <a:srgbClr val="ffff66">
                    <a:alpha val="58039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14" name="AutoShape 351"/>
            <p:cNvSpPr/>
            <p:nvPr/>
          </p:nvSpPr>
          <p:spPr>
            <a:xfrm>
              <a:off x="2808000" y="3260520"/>
              <a:ext cx="960480" cy="797040"/>
            </a:xfrm>
            <a:prstGeom prst="diamond">
              <a:avLst/>
            </a:prstGeom>
            <a:gradFill rotWithShape="0">
              <a:gsLst>
                <a:gs pos="0">
                  <a:srgbClr val="008000">
                    <a:alpha val="59215"/>
                  </a:srgbClr>
                </a:gs>
                <a:gs pos="100000">
                  <a:srgbClr val="ffff66">
                    <a:alpha val="58039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15" name="AutoShape 352"/>
            <p:cNvSpPr/>
            <p:nvPr/>
          </p:nvSpPr>
          <p:spPr>
            <a:xfrm>
              <a:off x="3671640" y="3260520"/>
              <a:ext cx="960480" cy="797040"/>
            </a:xfrm>
            <a:prstGeom prst="diamond">
              <a:avLst/>
            </a:prstGeom>
            <a:gradFill rotWithShape="0">
              <a:gsLst>
                <a:gs pos="0">
                  <a:srgbClr val="008000">
                    <a:alpha val="59215"/>
                  </a:srgbClr>
                </a:gs>
                <a:gs pos="100000">
                  <a:srgbClr val="ffff66">
                    <a:alpha val="58039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16" name="AutoShape 353"/>
            <p:cNvSpPr/>
            <p:nvPr/>
          </p:nvSpPr>
          <p:spPr>
            <a:xfrm>
              <a:off x="4535280" y="3260520"/>
              <a:ext cx="960480" cy="797040"/>
            </a:xfrm>
            <a:prstGeom prst="diamond">
              <a:avLst/>
            </a:prstGeom>
            <a:gradFill rotWithShape="0">
              <a:gsLst>
                <a:gs pos="0">
                  <a:srgbClr val="008000">
                    <a:alpha val="59215"/>
                  </a:srgbClr>
                </a:gs>
                <a:gs pos="100000">
                  <a:srgbClr val="ffff66">
                    <a:alpha val="58039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17" name="AutoShape 354"/>
            <p:cNvSpPr/>
            <p:nvPr/>
          </p:nvSpPr>
          <p:spPr>
            <a:xfrm>
              <a:off x="539640" y="3260520"/>
              <a:ext cx="888840" cy="769680"/>
            </a:xfrm>
            <a:prstGeom prst="diamond">
              <a:avLst/>
            </a:prstGeom>
            <a:gradFill rotWithShape="0">
              <a:gsLst>
                <a:gs pos="0">
                  <a:srgbClr val="008000">
                    <a:alpha val="59215"/>
                  </a:srgbClr>
                </a:gs>
                <a:gs pos="100000">
                  <a:srgbClr val="ffff66">
                    <a:alpha val="58039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18" name="AutoShape 355"/>
            <p:cNvSpPr/>
            <p:nvPr/>
          </p:nvSpPr>
          <p:spPr>
            <a:xfrm>
              <a:off x="5256000" y="3260520"/>
              <a:ext cx="960480" cy="797040"/>
            </a:xfrm>
            <a:prstGeom prst="diamond">
              <a:avLst/>
            </a:prstGeom>
            <a:gradFill rotWithShape="0">
              <a:gsLst>
                <a:gs pos="0">
                  <a:srgbClr val="008000">
                    <a:alpha val="59215"/>
                  </a:srgbClr>
                </a:gs>
                <a:gs pos="100000">
                  <a:srgbClr val="ffff66">
                    <a:alpha val="58039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19" name="AutoShape 356"/>
            <p:cNvSpPr/>
            <p:nvPr/>
          </p:nvSpPr>
          <p:spPr>
            <a:xfrm>
              <a:off x="5975280" y="3260520"/>
              <a:ext cx="960480" cy="797040"/>
            </a:xfrm>
            <a:prstGeom prst="diamond">
              <a:avLst/>
            </a:prstGeom>
            <a:gradFill rotWithShape="0">
              <a:gsLst>
                <a:gs pos="0">
                  <a:srgbClr val="008000">
                    <a:alpha val="59215"/>
                  </a:srgbClr>
                </a:gs>
                <a:gs pos="100000">
                  <a:srgbClr val="ffff66">
                    <a:alpha val="58039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20" name="AutoShape 357"/>
            <p:cNvSpPr/>
            <p:nvPr/>
          </p:nvSpPr>
          <p:spPr>
            <a:xfrm>
              <a:off x="6624360" y="3260520"/>
              <a:ext cx="960480" cy="797040"/>
            </a:xfrm>
            <a:prstGeom prst="diamond">
              <a:avLst/>
            </a:prstGeom>
            <a:gradFill rotWithShape="0">
              <a:gsLst>
                <a:gs pos="0">
                  <a:srgbClr val="008000">
                    <a:alpha val="59215"/>
                  </a:srgbClr>
                </a:gs>
                <a:gs pos="100000">
                  <a:srgbClr val="ffff66">
                    <a:alpha val="58039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21" name="AutoShape 358"/>
            <p:cNvSpPr/>
            <p:nvPr/>
          </p:nvSpPr>
          <p:spPr>
            <a:xfrm>
              <a:off x="7272000" y="3260520"/>
              <a:ext cx="960480" cy="797040"/>
            </a:xfrm>
            <a:prstGeom prst="diamond">
              <a:avLst/>
            </a:prstGeom>
            <a:gradFill rotWithShape="0">
              <a:gsLst>
                <a:gs pos="0">
                  <a:srgbClr val="008000">
                    <a:alpha val="59215"/>
                  </a:srgbClr>
                </a:gs>
                <a:gs pos="100000">
                  <a:srgbClr val="ffff66">
                    <a:alpha val="58039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250560" y="1412640"/>
            <a:ext cx="8893080" cy="4886280"/>
          </a:xfrm>
          <a:prstGeom prst="rect">
            <a:avLst/>
          </a:prstGeom>
          <a:solidFill>
            <a:srgbClr val="bcebe1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0" y="6308280"/>
            <a:ext cx="9144000" cy="4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solidFill>
            <a:srgbClr val="b1e1d6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6952C-9815-49D2-A5F2-C497DCBE0344}" type="slidenum"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755640" y="1039320"/>
            <a:ext cx="7772400" cy="1878120"/>
          </a:xfrm>
          <a:prstGeom prst="rect">
            <a:avLst/>
          </a:prstGeom>
          <a:solidFill>
            <a:srgbClr val="d2fffb">
              <a:alpha val="33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 Narrow"/>
              </a:rPr>
              <a:t>ПОЗНАВАТЕЛЬНЫЕ ПРОЦЕССЫ ЧЕЛОВЕКА</a:t>
            </a: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1403280" y="4739760"/>
            <a:ext cx="6400800" cy="1731960"/>
          </a:xfrm>
          <a:prstGeom prst="rect">
            <a:avLst/>
          </a:prstGeom>
          <a:solidFill>
            <a:srgbClr val="bcebe1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Теплова Лидия Ивановна, доцент кафедры педагогики и психологии, ауд.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430-</a:t>
            </a: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б,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e-mail</a:t>
            </a: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: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 teplova@psu.karelia.ru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/>
          </p:nvPr>
        </p:nvSpPr>
        <p:spPr>
          <a:xfrm>
            <a:off x="0" y="333000"/>
            <a:ext cx="914400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 Narrow"/>
              </a:rPr>
              <a:t>Качества внимания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ff"/>
                </a:solidFill>
                <a:latin typeface="Arial Narrow"/>
              </a:rPr>
              <a:t>Объем </a:t>
            </a:r>
            <a:r>
              <a:rPr b="0" lang="ru-RU" sz="3000" spc="-1" strike="noStrike">
                <a:solidFill>
                  <a:srgbClr val="000000"/>
                </a:solidFill>
                <a:latin typeface="Arial Narrow"/>
              </a:rPr>
              <a:t>внимания – число поступающих сигналов или протекающих ассоциаций, которые могут сохраниться в центре ясного сознания, приобретая доминирующий харак-тер. Объем внимания равен 7–9 единицам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ff"/>
                </a:solidFill>
                <a:latin typeface="Arial Narrow"/>
              </a:rPr>
              <a:t>Устойчивость</a:t>
            </a:r>
            <a:r>
              <a:rPr b="0" lang="ru-RU" sz="3000" spc="-1" strike="noStrike">
                <a:solidFill>
                  <a:srgbClr val="000000"/>
                </a:solidFill>
                <a:latin typeface="Arial Narrow"/>
              </a:rPr>
              <a:t> – длительность, с которой выделенные элементы могут сохранять свой доминантный характер</a:t>
            </a:r>
            <a:r>
              <a:rPr b="0" lang="ru-RU" sz="30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ff"/>
                </a:solidFill>
                <a:latin typeface="Arial Narrow"/>
              </a:rPr>
              <a:t>Концентрация </a:t>
            </a:r>
            <a:r>
              <a:rPr b="0" lang="ru-RU" sz="3000" spc="-1" strike="noStrike">
                <a:solidFill>
                  <a:srgbClr val="000000"/>
                </a:solidFill>
                <a:latin typeface="Arial Narrow"/>
              </a:rPr>
              <a:t>внимания</a:t>
            </a:r>
            <a:r>
              <a:rPr b="0" lang="ru-RU" sz="3000" spc="-1" strike="noStrike">
                <a:solidFill>
                  <a:srgbClr val="0000ff"/>
                </a:solidFill>
                <a:latin typeface="Arial Narrow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 Narrow"/>
              </a:rPr>
              <a:t>– сосредоточенность субъекта на объекте, сила поглощенности его этим объектом.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ff"/>
                </a:solidFill>
                <a:latin typeface="Arial Narrow"/>
              </a:rPr>
              <a:t>Распределение</a:t>
            </a:r>
            <a:r>
              <a:rPr b="0" lang="ru-RU" sz="3000" spc="-1" strike="noStrike">
                <a:solidFill>
                  <a:srgbClr val="000000"/>
                </a:solidFill>
                <a:latin typeface="Arial Narrow"/>
              </a:rPr>
              <a:t> внимания – возможность одновремен-ного выполнения нескольких видов действий. 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ff"/>
                </a:solidFill>
                <a:latin typeface="Arial Narrow"/>
              </a:rPr>
              <a:t>Переключаемость</a:t>
            </a:r>
            <a:r>
              <a:rPr b="0" lang="ru-RU" sz="3000" spc="-1" strike="noStrike">
                <a:solidFill>
                  <a:srgbClr val="000000"/>
                </a:solidFill>
                <a:latin typeface="Arial Narrow"/>
              </a:rPr>
              <a:t> – способность намеренно переносить внимание с одного объекта на другой.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nodeType="clickEffect" fill="hold">
                      <p:stCondLst>
                        <p:cond delay="0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" dur="10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2" nodeType="afterEffect" fill="hold" presetClass="entr" presetID="22" presetSubtype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4" dur="1000"/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9" dur="1000"/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4" dur="1000"/>
                                        <p:tgtEl>
                                          <p:spTgt spid="3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9" dur="1000"/>
                                        <p:tgtEl>
                                          <p:spTgt spid="3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4" dur="1000"/>
                                        <p:tgtEl>
                                          <p:spTgt spid="3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03280" y="-360"/>
            <a:ext cx="774072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 Narrow"/>
              </a:rPr>
              <a:t>Память, виды памяти. </a:t>
            </a:r>
            <a:br>
              <a:rPr sz="4000"/>
            </a:br>
            <a:r>
              <a:rPr b="1" lang="ru-RU" sz="4000" spc="-1" strike="noStrike">
                <a:solidFill>
                  <a:srgbClr val="cc0000"/>
                </a:solidFill>
                <a:latin typeface="Arial Narrow"/>
              </a:rPr>
              <a:t>Закономерности памяти</a:t>
            </a: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8893080" cy="4886280"/>
          </a:xfrm>
          <a:prstGeom prst="rect">
            <a:avLst/>
          </a:prstGeom>
          <a:solidFill>
            <a:srgbClr val="bcebe1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Arial Narrow"/>
              </a:rPr>
              <a:t>Память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– </a:t>
            </a:r>
            <a:r>
              <a:rPr b="0" lang="ru-RU" sz="3000" spc="-1" strike="noStrike">
                <a:solidFill>
                  <a:srgbClr val="000000"/>
                </a:solidFill>
                <a:latin typeface="Arial Narrow"/>
              </a:rPr>
              <a:t>запечатление (запись), сохранение и воспроизведение следов прошлого опыта.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Arial Narrow"/>
              </a:rPr>
              <a:t>Виды памяти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0" name="Rectangle 4"/>
          <p:cNvSpPr/>
          <p:nvPr/>
        </p:nvSpPr>
        <p:spPr>
          <a:xfrm>
            <a:off x="395280" y="3068640"/>
            <a:ext cx="8497800" cy="863640"/>
          </a:xfrm>
          <a:prstGeom prst="rect">
            <a:avLst/>
          </a:prstGeom>
          <a:gradFill rotWithShape="0">
            <a:gsLst>
              <a:gs pos="0">
                <a:srgbClr val="3366ff">
                  <a:alpha val="63137"/>
                </a:srgbClr>
              </a:gs>
              <a:gs pos="100000">
                <a:srgbClr val="ff33cc">
                  <a:alpha val="6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по </a:t>
            </a: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характеру психической активности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преобладающей в деятельности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1" name="Line 6"/>
          <p:cNvSpPr/>
          <p:nvPr/>
        </p:nvSpPr>
        <p:spPr>
          <a:xfrm flipH="1">
            <a:off x="611280" y="3933720"/>
            <a:ext cx="287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2" name="Line 7"/>
          <p:cNvSpPr/>
          <p:nvPr/>
        </p:nvSpPr>
        <p:spPr>
          <a:xfrm>
            <a:off x="3059280" y="3933720"/>
            <a:ext cx="72720" cy="57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3" name="Line 9"/>
          <p:cNvSpPr/>
          <p:nvPr/>
        </p:nvSpPr>
        <p:spPr>
          <a:xfrm>
            <a:off x="7380360" y="3933720"/>
            <a:ext cx="0" cy="57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4" name="Rectangle 10"/>
          <p:cNvSpPr/>
          <p:nvPr/>
        </p:nvSpPr>
        <p:spPr>
          <a:xfrm>
            <a:off x="324000" y="4508640"/>
            <a:ext cx="2376360" cy="502920"/>
          </a:xfrm>
          <a:prstGeom prst="rect">
            <a:avLst/>
          </a:prstGeom>
          <a:solidFill>
            <a:srgbClr val="eff4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двигательная</a:t>
            </a: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5" name="Rectangle 12"/>
          <p:cNvSpPr/>
          <p:nvPr/>
        </p:nvSpPr>
        <p:spPr>
          <a:xfrm>
            <a:off x="2843280" y="4508640"/>
            <a:ext cx="2303280" cy="502920"/>
          </a:xfrm>
          <a:prstGeom prst="rect">
            <a:avLst/>
          </a:prstGeom>
          <a:solidFill>
            <a:srgbClr val="eff4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эмоциональная</a:t>
            </a: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6" name="Rectangle 14"/>
          <p:cNvSpPr/>
          <p:nvPr/>
        </p:nvSpPr>
        <p:spPr>
          <a:xfrm>
            <a:off x="3564000" y="5589720"/>
            <a:ext cx="2232000" cy="504720"/>
          </a:xfrm>
          <a:prstGeom prst="rect">
            <a:avLst/>
          </a:prstGeom>
          <a:solidFill>
            <a:srgbClr val="eff4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образная</a:t>
            </a: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7" name="Rectangle 16"/>
          <p:cNvSpPr/>
          <p:nvPr/>
        </p:nvSpPr>
        <p:spPr>
          <a:xfrm>
            <a:off x="5724360" y="4508640"/>
            <a:ext cx="3132360" cy="502920"/>
          </a:xfrm>
          <a:prstGeom prst="rect">
            <a:avLst/>
          </a:prstGeom>
          <a:solidFill>
            <a:srgbClr val="eff4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словесно-логическая</a:t>
            </a: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8" name="Line 18"/>
          <p:cNvSpPr/>
          <p:nvPr/>
        </p:nvSpPr>
        <p:spPr>
          <a:xfrm>
            <a:off x="5292720" y="3933720"/>
            <a:ext cx="0" cy="165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nodeType="clickEffect" fill="hold">
                      <p:stCondLst>
                        <p:cond delay="0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23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5" dur="1000"/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27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9" dur="2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331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2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339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1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343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5" dur="2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347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9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351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3" dur="2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nodeType="afterEffect" fill="hold">
                            <p:stCondLst>
                              <p:cond delay="21000"/>
                            </p:stCondLst>
                            <p:childTnLst>
                              <p:par>
                                <p:cTn id="355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7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nodeType="afterEffect" fill="hold">
                            <p:stCondLst>
                              <p:cond delay="23000"/>
                            </p:stCondLst>
                            <p:childTnLst>
                              <p:par>
                                <p:cTn id="359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1" dur="2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/>
          </p:nvPr>
        </p:nvSpPr>
        <p:spPr>
          <a:xfrm>
            <a:off x="0" y="260280"/>
            <a:ext cx="9144000" cy="61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0" name="Rectangle 6"/>
          <p:cNvSpPr/>
          <p:nvPr/>
        </p:nvSpPr>
        <p:spPr>
          <a:xfrm>
            <a:off x="2627280" y="333360"/>
            <a:ext cx="5761080" cy="574560"/>
          </a:xfrm>
          <a:prstGeom prst="rect">
            <a:avLst/>
          </a:prstGeom>
          <a:gradFill rotWithShape="0">
            <a:gsLst>
              <a:gs pos="0">
                <a:srgbClr val="3366ff">
                  <a:alpha val="63137"/>
                </a:srgbClr>
              </a:gs>
              <a:gs pos="100000">
                <a:srgbClr val="ff33cc">
                  <a:alpha val="6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По характеру цели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1" name="Line 7"/>
          <p:cNvSpPr/>
          <p:nvPr/>
        </p:nvSpPr>
        <p:spPr>
          <a:xfrm flipH="1">
            <a:off x="2916360" y="981000"/>
            <a:ext cx="79200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2" name="Line 8"/>
          <p:cNvSpPr/>
          <p:nvPr/>
        </p:nvSpPr>
        <p:spPr>
          <a:xfrm>
            <a:off x="6732720" y="907920"/>
            <a:ext cx="6476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3" name="Rectangle 9"/>
          <p:cNvSpPr/>
          <p:nvPr/>
        </p:nvSpPr>
        <p:spPr>
          <a:xfrm>
            <a:off x="1187280" y="1413000"/>
            <a:ext cx="2592720" cy="503280"/>
          </a:xfrm>
          <a:prstGeom prst="rect">
            <a:avLst/>
          </a:prstGeom>
          <a:solidFill>
            <a:srgbClr val="e9f6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непроизвольная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4" name="Rectangle 12"/>
          <p:cNvSpPr/>
          <p:nvPr/>
        </p:nvSpPr>
        <p:spPr>
          <a:xfrm>
            <a:off x="5757840" y="1486080"/>
            <a:ext cx="2590920" cy="504720"/>
          </a:xfrm>
          <a:prstGeom prst="rect">
            <a:avLst/>
          </a:prstGeom>
          <a:solidFill>
            <a:srgbClr val="eff4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произвольная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5" name="Rectangle 16"/>
          <p:cNvSpPr/>
          <p:nvPr/>
        </p:nvSpPr>
        <p:spPr>
          <a:xfrm>
            <a:off x="2625840" y="2421000"/>
            <a:ext cx="4680000" cy="576360"/>
          </a:xfrm>
          <a:prstGeom prst="rect">
            <a:avLst/>
          </a:prstGeom>
          <a:gradFill rotWithShape="0">
            <a:gsLst>
              <a:gs pos="0">
                <a:srgbClr val="ff33cc">
                  <a:alpha val="31372"/>
                </a:srgbClr>
              </a:gs>
              <a:gs pos="100000">
                <a:srgbClr val="3366ff">
                  <a:alpha val="3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По степени участия мышления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6" name="Line 18"/>
          <p:cNvSpPr/>
          <p:nvPr/>
        </p:nvSpPr>
        <p:spPr>
          <a:xfrm flipH="1">
            <a:off x="2556000" y="2997360"/>
            <a:ext cx="28728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7" name="Line 19"/>
          <p:cNvSpPr/>
          <p:nvPr/>
        </p:nvSpPr>
        <p:spPr>
          <a:xfrm>
            <a:off x="6948360" y="2997360"/>
            <a:ext cx="287640" cy="50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8" name="Rectangle 20"/>
          <p:cNvSpPr/>
          <p:nvPr/>
        </p:nvSpPr>
        <p:spPr>
          <a:xfrm>
            <a:off x="1187280" y="3429000"/>
            <a:ext cx="2521080" cy="504720"/>
          </a:xfrm>
          <a:prstGeom prst="rect">
            <a:avLst/>
          </a:prstGeom>
          <a:solidFill>
            <a:srgbClr val="eff4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Смысловая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9" name="Rectangle 22"/>
          <p:cNvSpPr/>
          <p:nvPr/>
        </p:nvSpPr>
        <p:spPr>
          <a:xfrm>
            <a:off x="5651640" y="3500280"/>
            <a:ext cx="2592360" cy="505080"/>
          </a:xfrm>
          <a:prstGeom prst="rect">
            <a:avLst/>
          </a:prstGeom>
          <a:solidFill>
            <a:srgbClr val="eff4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Механическая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0" name="Rectangle 26"/>
          <p:cNvSpPr/>
          <p:nvPr/>
        </p:nvSpPr>
        <p:spPr>
          <a:xfrm>
            <a:off x="2556000" y="4292640"/>
            <a:ext cx="4859280" cy="431640"/>
          </a:xfrm>
          <a:prstGeom prst="rect">
            <a:avLst/>
          </a:prstGeom>
          <a:gradFill rotWithShape="0">
            <a:gsLst>
              <a:gs pos="0">
                <a:srgbClr val="ff33cc">
                  <a:alpha val="49019"/>
                </a:srgbClr>
              </a:gs>
              <a:gs pos="100000">
                <a:srgbClr val="3366ff">
                  <a:alpha val="49019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По времени сохранения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1" name="Line 30"/>
          <p:cNvSpPr/>
          <p:nvPr/>
        </p:nvSpPr>
        <p:spPr>
          <a:xfrm flipH="1">
            <a:off x="2268360" y="4724280"/>
            <a:ext cx="50328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2" name="Line 31"/>
          <p:cNvSpPr/>
          <p:nvPr/>
        </p:nvSpPr>
        <p:spPr>
          <a:xfrm>
            <a:off x="6372360" y="4724280"/>
            <a:ext cx="36036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3" name="Rectangle 32"/>
          <p:cNvSpPr/>
          <p:nvPr/>
        </p:nvSpPr>
        <p:spPr>
          <a:xfrm>
            <a:off x="826920" y="5013360"/>
            <a:ext cx="2521080" cy="504720"/>
          </a:xfrm>
          <a:prstGeom prst="rect">
            <a:avLst/>
          </a:prstGeom>
          <a:solidFill>
            <a:srgbClr val="eff4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кратковременная</a:t>
            </a: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4" name="Rectangle 33"/>
          <p:cNvSpPr/>
          <p:nvPr/>
        </p:nvSpPr>
        <p:spPr>
          <a:xfrm>
            <a:off x="5364000" y="5013360"/>
            <a:ext cx="2881440" cy="504720"/>
          </a:xfrm>
          <a:prstGeom prst="rect">
            <a:avLst/>
          </a:prstGeom>
          <a:solidFill>
            <a:srgbClr val="eff4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долговременная</a:t>
            </a: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nodeType="clickEffect" fill="hold">
                      <p:stCondLst>
                        <p:cond delay="0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8" dur="2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2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7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6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78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0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82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4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9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3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95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7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99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1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03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5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0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12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4" dur="1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6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8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2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6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/>
          </p:nvPr>
        </p:nvSpPr>
        <p:spPr>
          <a:xfrm>
            <a:off x="501120" y="1891800"/>
            <a:ext cx="8186760" cy="420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346" name="Group 3"/>
          <p:cNvGrpSpPr/>
          <p:nvPr/>
        </p:nvGrpSpPr>
        <p:grpSpPr>
          <a:xfrm>
            <a:off x="826920" y="333360"/>
            <a:ext cx="7561440" cy="5184720"/>
            <a:chOff x="826920" y="333360"/>
            <a:chExt cx="7561440" cy="5184720"/>
          </a:xfrm>
        </p:grpSpPr>
        <p:sp>
          <p:nvSpPr>
            <p:cNvPr id="347" name="Rectangle 4"/>
            <p:cNvSpPr/>
            <p:nvPr/>
          </p:nvSpPr>
          <p:spPr>
            <a:xfrm>
              <a:off x="2627280" y="333360"/>
              <a:ext cx="5761080" cy="574560"/>
            </a:xfrm>
            <a:prstGeom prst="rect">
              <a:avLst/>
            </a:prstGeom>
            <a:gradFill rotWithShape="0">
              <a:gsLst>
                <a:gs pos="0">
                  <a:srgbClr val="009900">
                    <a:alpha val="63137"/>
                  </a:srgbClr>
                </a:gs>
                <a:gs pos="100000">
                  <a:srgbClr val="ffcc00">
                    <a:alpha val="64313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 Narrow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 Narrow"/>
                </a:rPr>
                <a:t>По характеру цели</a:t>
              </a:r>
              <a:r>
                <a:rPr b="0" lang="ru-RU" sz="2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 Narrow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48" name="Line 5"/>
            <p:cNvSpPr/>
            <p:nvPr/>
          </p:nvSpPr>
          <p:spPr>
            <a:xfrm flipH="1">
              <a:off x="2916360" y="981000"/>
              <a:ext cx="79200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49" name="Line 6"/>
            <p:cNvSpPr/>
            <p:nvPr/>
          </p:nvSpPr>
          <p:spPr>
            <a:xfrm>
              <a:off x="6732720" y="907920"/>
              <a:ext cx="647640" cy="57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50" name="Rectangle 7"/>
            <p:cNvSpPr/>
            <p:nvPr/>
          </p:nvSpPr>
          <p:spPr>
            <a:xfrm>
              <a:off x="1187280" y="1413000"/>
              <a:ext cx="2592720" cy="503280"/>
            </a:xfrm>
            <a:prstGeom prst="rect">
              <a:avLst/>
            </a:prstGeom>
            <a:solidFill>
              <a:srgbClr val="e9f6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 Narrow"/>
                </a:rPr>
                <a:t>непроизвольная</a:t>
              </a: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51" name="Rectangle 8"/>
            <p:cNvSpPr/>
            <p:nvPr/>
          </p:nvSpPr>
          <p:spPr>
            <a:xfrm>
              <a:off x="5757840" y="1486080"/>
              <a:ext cx="2590920" cy="504720"/>
            </a:xfrm>
            <a:prstGeom prst="rect">
              <a:avLst/>
            </a:prstGeom>
            <a:solidFill>
              <a:srgbClr val="eff4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 Narrow"/>
                </a:rPr>
                <a:t>произвольная</a:t>
              </a: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52" name="Rectangle 9"/>
            <p:cNvSpPr/>
            <p:nvPr/>
          </p:nvSpPr>
          <p:spPr>
            <a:xfrm>
              <a:off x="2625840" y="2421000"/>
              <a:ext cx="4680000" cy="576360"/>
            </a:xfrm>
            <a:prstGeom prst="rect">
              <a:avLst/>
            </a:prstGeom>
            <a:gradFill rotWithShape="0">
              <a:gsLst>
                <a:gs pos="0">
                  <a:srgbClr val="009900">
                    <a:alpha val="64313"/>
                  </a:srgbClr>
                </a:gs>
                <a:gs pos="100000">
                  <a:srgbClr val="ffcc00">
                    <a:alpha val="62352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 Narrow"/>
                </a:rPr>
                <a:t>По степени участия мышления</a:t>
              </a: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53" name="Line 10"/>
            <p:cNvSpPr/>
            <p:nvPr/>
          </p:nvSpPr>
          <p:spPr>
            <a:xfrm flipH="1">
              <a:off x="2556000" y="2997360"/>
              <a:ext cx="28728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54" name="Line 11"/>
            <p:cNvSpPr/>
            <p:nvPr/>
          </p:nvSpPr>
          <p:spPr>
            <a:xfrm>
              <a:off x="6948360" y="2997360"/>
              <a:ext cx="287640" cy="50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55" name="Rectangle 12"/>
            <p:cNvSpPr/>
            <p:nvPr/>
          </p:nvSpPr>
          <p:spPr>
            <a:xfrm>
              <a:off x="1187280" y="3429000"/>
              <a:ext cx="2521080" cy="504720"/>
            </a:xfrm>
            <a:prstGeom prst="rect">
              <a:avLst/>
            </a:prstGeom>
            <a:solidFill>
              <a:srgbClr val="eff4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 Narrow"/>
                </a:rPr>
                <a:t>Смысловая</a:t>
              </a: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56" name="Rectangle 13"/>
            <p:cNvSpPr/>
            <p:nvPr/>
          </p:nvSpPr>
          <p:spPr>
            <a:xfrm>
              <a:off x="5651640" y="3500280"/>
              <a:ext cx="2592360" cy="505080"/>
            </a:xfrm>
            <a:prstGeom prst="rect">
              <a:avLst/>
            </a:prstGeom>
            <a:solidFill>
              <a:srgbClr val="eff4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 Narrow"/>
                </a:rPr>
                <a:t>Механическая</a:t>
              </a: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57" name="Rectangle 14"/>
            <p:cNvSpPr/>
            <p:nvPr/>
          </p:nvSpPr>
          <p:spPr>
            <a:xfrm>
              <a:off x="2556000" y="4292640"/>
              <a:ext cx="4859280" cy="431640"/>
            </a:xfrm>
            <a:prstGeom prst="rect">
              <a:avLst/>
            </a:prstGeom>
            <a:gradFill rotWithShape="0">
              <a:gsLst>
                <a:gs pos="0">
                  <a:srgbClr val="009900">
                    <a:alpha val="63137"/>
                  </a:srgbClr>
                </a:gs>
                <a:gs pos="100000">
                  <a:srgbClr val="ffcc00">
                    <a:alpha val="64313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 Narrow"/>
                </a:rPr>
                <a:t>По времени сохранения</a:t>
              </a: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58" name="Line 15"/>
            <p:cNvSpPr/>
            <p:nvPr/>
          </p:nvSpPr>
          <p:spPr>
            <a:xfrm flipH="1">
              <a:off x="2268360" y="4724280"/>
              <a:ext cx="503280" cy="28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59" name="Line 16"/>
            <p:cNvSpPr/>
            <p:nvPr/>
          </p:nvSpPr>
          <p:spPr>
            <a:xfrm>
              <a:off x="6372360" y="4724280"/>
              <a:ext cx="360360" cy="28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60" name="Rectangle 17"/>
            <p:cNvSpPr/>
            <p:nvPr/>
          </p:nvSpPr>
          <p:spPr>
            <a:xfrm>
              <a:off x="826920" y="5013360"/>
              <a:ext cx="2521080" cy="504720"/>
            </a:xfrm>
            <a:prstGeom prst="rect">
              <a:avLst/>
            </a:prstGeom>
            <a:solidFill>
              <a:srgbClr val="eff4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 Narrow"/>
                </a:rPr>
                <a:t>кратковременная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61" name="Rectangle 18"/>
            <p:cNvSpPr/>
            <p:nvPr/>
          </p:nvSpPr>
          <p:spPr>
            <a:xfrm>
              <a:off x="5364000" y="5013360"/>
              <a:ext cx="2881440" cy="504720"/>
            </a:xfrm>
            <a:prstGeom prst="rect">
              <a:avLst/>
            </a:prstGeom>
            <a:solidFill>
              <a:srgbClr val="eff4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 Narrow"/>
                </a:rPr>
                <a:t>долговременная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nodeType="clickEffect" fill="hold">
                      <p:stCondLst>
                        <p:cond delay="0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3" dur="2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 Narrow"/>
              </a:rPr>
              <a:t>Закономерности памяти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4000" y="1341360"/>
            <a:ext cx="845964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indent="0">
              <a:lnSpc>
                <a:spcPct val="85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1. Средний объем механической кратковременной памяти – 5–7 элементов после первого чтения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2. Объем памяти варьируется в зависимости от способа предъявления: люди с доминирующей слуховой памятью лучше запоминают материал озвученный и т.д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3. Качество запоминания зависит от того, какая была поставлена цель, установка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4. При многократном предъявлении одного и того же материала число удерживаемых элементов постепенно возрастает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5. Чем длиннее ряд, тем меньше число удерживаемых в памяти элементов. Так, ряд из 4–5 единиц запоминается на 100 %, а ряд из 9–10 единиц на 40 %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6. При запоминании длинного ряда лучше всего по памяти воспроизводятся его начало и конец («эффект края»)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nodeType="clickEffect" fill="hold">
                      <p:stCondLst>
                        <p:cond delay="0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0" dur="3000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42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4" dur="3000"/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3000"/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450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2" dur="3000"/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454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6" dur="3000"/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nodeType="afterEffect" fill="hold">
                            <p:stCondLst>
                              <p:cond delay="17500"/>
                            </p:stCondLst>
                            <p:childTnLst>
                              <p:par>
                                <p:cTn id="458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0" dur="3000"/>
                                        <p:tgtEl>
                                          <p:spTgt spid="3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6868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indent="0">
              <a:lnSpc>
                <a:spcPct val="85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7. При сохранении заученного материала может обнаружится явление ретроактивной интерференции. Оно является результатом взаимодействия таких переменных, как сходство между двумя заданиями и объем заучиваемого материала. Если активность субъекта между заучиванием и припоминанием низка, то мнемический материал сохраняется лучше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8. При высокой активности субъекта непроизвольное запоминание может быть более продуктивным, чем произвольное запоминание, если последнее осуществляется на базе менее активной интеллектуальной деятельности субъекта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9. Явление реминисценции. Под ним понимают отсроченное воспроизведение мнемических ответов, которые раньше субъект не мог воспроизвести, при условии, что с момента заучивания субъект не занимался дополнительным упражнением в выполнении данного задания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10. Эффект Зейгарник» – особенность непроизвольного</a:t>
            </a:r>
            <a:r>
              <a:rPr b="0" lang="ru-RU" sz="2600" spc="-1" strike="noStrike">
                <a:solidFill>
                  <a:srgbClr val="000000"/>
                </a:solidFill>
                <a:latin typeface="Arial Narrow"/>
              </a:rPr>
              <a:t> запоминания, которая заключается в том, что прерванная </a:t>
            </a: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деятельность запоминается лучше, чем законченная или монотонная, т. к. прерванное намерение сохраняет состояние напряжения нервной системы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nodeType="clickEffect" fill="hold">
                      <p:stCondLst>
                        <p:cond delay="0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7" dur="2000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69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1" dur="2000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73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5" dur="2000"/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4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9" dur="2000"/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Picture 2" descr=""/>
          <p:cNvPicPr/>
          <p:nvPr/>
        </p:nvPicPr>
        <p:blipFill>
          <a:blip r:embed="rId1"/>
          <a:stretch/>
        </p:blipFill>
        <p:spPr>
          <a:xfrm>
            <a:off x="468360" y="115920"/>
            <a:ext cx="6008760" cy="6092640"/>
          </a:xfrm>
          <a:prstGeom prst="rect">
            <a:avLst/>
          </a:prstGeom>
          <a:ln w="0">
            <a:noFill/>
          </a:ln>
        </p:spPr>
      </p:pic>
      <p:sp>
        <p:nvSpPr>
          <p:cNvPr id="366" name="Text Box 3"/>
          <p:cNvSpPr/>
          <p:nvPr/>
        </p:nvSpPr>
        <p:spPr>
          <a:xfrm>
            <a:off x="6372360" y="1936800"/>
            <a:ext cx="25398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Рисунок 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Э. Боринг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7" name="Text Box 4"/>
          <p:cNvSpPr/>
          <p:nvPr/>
        </p:nvSpPr>
        <p:spPr>
          <a:xfrm>
            <a:off x="6304680" y="3571920"/>
            <a:ext cx="2764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Один и тот же элемент, 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включенный в разные 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целостные структуры,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воспринимается по-разному.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nodeType="clickEffect" fill="hold">
                      <p:stCondLst>
                        <p:cond delay="0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6" dur="1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00"/>
                </a:solidFill>
                <a:latin typeface="Arial Narrow"/>
              </a:rPr>
              <a:t>Мышление, виды мышления. Развитие мышления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4000" y="1341360"/>
            <a:ext cx="845964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 Narrow"/>
              </a:rPr>
              <a:t>Мышление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 – опосредствованное и обобщенное отражение действительности в ее существенных связях и отношениях.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Виды мышления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0" name="Oval 4"/>
          <p:cNvSpPr/>
          <p:nvPr/>
        </p:nvSpPr>
        <p:spPr>
          <a:xfrm>
            <a:off x="1042920" y="2852640"/>
            <a:ext cx="7345440" cy="72072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80808"/>
                </a:solidFill>
                <a:latin typeface="Arial Narrow"/>
              </a:rPr>
              <a:t>По развитию в онтогенез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1" name="Rectangle 5"/>
          <p:cNvSpPr/>
          <p:nvPr/>
        </p:nvSpPr>
        <p:spPr>
          <a:xfrm>
            <a:off x="2556000" y="5589720"/>
            <a:ext cx="4608360" cy="4316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Narrow"/>
              </a:rPr>
              <a:t>Наглядно-действенное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2" name="Rectangle 6"/>
          <p:cNvSpPr/>
          <p:nvPr/>
        </p:nvSpPr>
        <p:spPr>
          <a:xfrm>
            <a:off x="2556000" y="4797360"/>
            <a:ext cx="4608360" cy="43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Narrow"/>
              </a:rPr>
              <a:t>Наглядно-образное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3" name="Rectangle 7"/>
          <p:cNvSpPr/>
          <p:nvPr/>
        </p:nvSpPr>
        <p:spPr>
          <a:xfrm>
            <a:off x="2556000" y="3933720"/>
            <a:ext cx="4608360" cy="503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Narrow"/>
              </a:rPr>
              <a:t>Словесно-логическое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4" name="AutoShape 8"/>
          <p:cNvSpPr/>
          <p:nvPr/>
        </p:nvSpPr>
        <p:spPr>
          <a:xfrm>
            <a:off x="1547640" y="3860640"/>
            <a:ext cx="486000" cy="2305080"/>
          </a:xfrm>
          <a:prstGeom prst="upArrow">
            <a:avLst>
              <a:gd name="adj1" fmla="val 50000"/>
              <a:gd name="adj2" fmla="val 118574"/>
            </a:avLst>
          </a:prstGeom>
          <a:solidFill>
            <a:srgbClr val="009900">
              <a:alpha val="5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5" name="Line 9"/>
          <p:cNvSpPr/>
          <p:nvPr/>
        </p:nvSpPr>
        <p:spPr>
          <a:xfrm>
            <a:off x="2843280" y="3500280"/>
            <a:ext cx="0" cy="43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6" name="Line 10"/>
          <p:cNvSpPr/>
          <p:nvPr/>
        </p:nvSpPr>
        <p:spPr>
          <a:xfrm>
            <a:off x="6732720" y="3500280"/>
            <a:ext cx="0" cy="43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nodeType="clickEffect" fill="hold">
                      <p:stCondLst>
                        <p:cond delay="0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3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95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7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99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1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503" nodeType="afterEffect" fill="hold" presetClass="entr" presetID="2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5" dur="1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50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9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51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3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6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9" name="Oval 4"/>
          <p:cNvSpPr/>
          <p:nvPr/>
        </p:nvSpPr>
        <p:spPr>
          <a:xfrm>
            <a:off x="1332000" y="333360"/>
            <a:ext cx="7056360" cy="71928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 Narrow"/>
              </a:rPr>
              <a:t>По средствам действия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0" name="Rectangle 5"/>
          <p:cNvSpPr/>
          <p:nvPr/>
        </p:nvSpPr>
        <p:spPr>
          <a:xfrm>
            <a:off x="826920" y="1446120"/>
            <a:ext cx="2880000" cy="36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Narrow"/>
              </a:rPr>
              <a:t>вербальное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1" name="Rectangle 6"/>
          <p:cNvSpPr/>
          <p:nvPr/>
        </p:nvSpPr>
        <p:spPr>
          <a:xfrm>
            <a:off x="4932360" y="1446120"/>
            <a:ext cx="2879640" cy="36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Narrow"/>
              </a:rPr>
              <a:t>невербальное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2" name="Line 7"/>
          <p:cNvSpPr/>
          <p:nvPr/>
        </p:nvSpPr>
        <p:spPr>
          <a:xfrm>
            <a:off x="2340000" y="98100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3" name="Line 8"/>
          <p:cNvSpPr/>
          <p:nvPr/>
        </p:nvSpPr>
        <p:spPr>
          <a:xfrm>
            <a:off x="6516720" y="105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4" name="Oval 9"/>
          <p:cNvSpPr/>
          <p:nvPr/>
        </p:nvSpPr>
        <p:spPr>
          <a:xfrm>
            <a:off x="1187280" y="2205000"/>
            <a:ext cx="6840720" cy="64764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 Narrow"/>
              </a:rPr>
              <a:t>По степени рефлексии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5" name="Rectangle 10"/>
          <p:cNvSpPr/>
          <p:nvPr/>
        </p:nvSpPr>
        <p:spPr>
          <a:xfrm>
            <a:off x="826920" y="3249720"/>
            <a:ext cx="2880000" cy="36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Narrow"/>
              </a:rPr>
              <a:t>рефлексивное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6" name="Rectangle 11"/>
          <p:cNvSpPr/>
          <p:nvPr/>
        </p:nvSpPr>
        <p:spPr>
          <a:xfrm>
            <a:off x="5329080" y="3249720"/>
            <a:ext cx="2881440" cy="36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Narrow"/>
              </a:rPr>
              <a:t>интуитивное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7" name="Line 12"/>
          <p:cNvSpPr/>
          <p:nvPr/>
        </p:nvSpPr>
        <p:spPr>
          <a:xfrm>
            <a:off x="2340000" y="278136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8" name="Line 13"/>
          <p:cNvSpPr/>
          <p:nvPr/>
        </p:nvSpPr>
        <p:spPr>
          <a:xfrm>
            <a:off x="6443640" y="278136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9" name="Oval 14"/>
          <p:cNvSpPr/>
          <p:nvPr/>
        </p:nvSpPr>
        <p:spPr>
          <a:xfrm>
            <a:off x="826920" y="3860640"/>
            <a:ext cx="7993080" cy="79236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 Narrow"/>
              </a:rPr>
              <a:t>По степени новизны получаемого 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 Narrow"/>
              </a:rPr>
              <a:t>продукта по отношению к знаниям субъекта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Rectangle 15"/>
          <p:cNvSpPr/>
          <p:nvPr/>
        </p:nvSpPr>
        <p:spPr>
          <a:xfrm>
            <a:off x="1042920" y="5013360"/>
            <a:ext cx="3024360" cy="433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Narrow"/>
              </a:rPr>
              <a:t>продуктивное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1" name="Rectangle 16"/>
          <p:cNvSpPr/>
          <p:nvPr/>
        </p:nvSpPr>
        <p:spPr>
          <a:xfrm>
            <a:off x="5580000" y="5013360"/>
            <a:ext cx="3024360" cy="4316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Narrow"/>
              </a:rPr>
              <a:t>репродуктивное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2" name="Line 17"/>
          <p:cNvSpPr/>
          <p:nvPr/>
        </p:nvSpPr>
        <p:spPr>
          <a:xfrm>
            <a:off x="2484360" y="458136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3" name="Line 18"/>
          <p:cNvSpPr/>
          <p:nvPr/>
        </p:nvSpPr>
        <p:spPr>
          <a:xfrm>
            <a:off x="6948360" y="458136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nodeType="clickEffect" fill="hold">
                      <p:stCondLst>
                        <p:cond delay="0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3" dur="1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7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0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32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4" dur="1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7" dur="1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539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1" dur="1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5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55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2" dur="1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5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557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9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5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3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568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0" dur="1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3" dur="1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Line 2"/>
          <p:cNvSpPr/>
          <p:nvPr/>
        </p:nvSpPr>
        <p:spPr>
          <a:xfrm>
            <a:off x="5219640" y="2852640"/>
            <a:ext cx="1584360" cy="158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6" name="Oval 4"/>
          <p:cNvSpPr/>
          <p:nvPr/>
        </p:nvSpPr>
        <p:spPr>
          <a:xfrm>
            <a:off x="1116000" y="260280"/>
            <a:ext cx="7488360" cy="79236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 Narrow"/>
              </a:rPr>
              <a:t>По типу решаемых задач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7" name="Rectangle 5"/>
          <p:cNvSpPr/>
          <p:nvPr/>
        </p:nvSpPr>
        <p:spPr>
          <a:xfrm>
            <a:off x="971640" y="1484280"/>
            <a:ext cx="2879640" cy="36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Narrow"/>
              </a:rPr>
              <a:t>практическое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8" name="Rectangle 6"/>
          <p:cNvSpPr/>
          <p:nvPr/>
        </p:nvSpPr>
        <p:spPr>
          <a:xfrm>
            <a:off x="4932360" y="1486080"/>
            <a:ext cx="2879640" cy="36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Narrow"/>
              </a:rPr>
              <a:t>теоретическое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9" name="Line 7"/>
          <p:cNvSpPr/>
          <p:nvPr/>
        </p:nvSpPr>
        <p:spPr>
          <a:xfrm>
            <a:off x="2484360" y="98100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0" name="Line 8"/>
          <p:cNvSpPr/>
          <p:nvPr/>
        </p:nvSpPr>
        <p:spPr>
          <a:xfrm>
            <a:off x="6659640" y="105264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1" name="Rectangle 9"/>
          <p:cNvSpPr/>
          <p:nvPr/>
        </p:nvSpPr>
        <p:spPr>
          <a:xfrm>
            <a:off x="1763640" y="2349360"/>
            <a:ext cx="6480360" cy="50328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 Narrow"/>
              </a:rPr>
              <a:t>Качества</a:t>
            </a: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Arial Narrow"/>
              </a:rPr>
              <a:t>мышления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2" name="Rectangle 10"/>
          <p:cNvSpPr/>
          <p:nvPr/>
        </p:nvSpPr>
        <p:spPr>
          <a:xfrm>
            <a:off x="611280" y="4365720"/>
            <a:ext cx="2448000" cy="647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Arial Narrow"/>
              </a:rPr>
              <a:t>самостоятельность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3" name="Rectangle 11"/>
          <p:cNvSpPr/>
          <p:nvPr/>
        </p:nvSpPr>
        <p:spPr>
          <a:xfrm>
            <a:off x="3780000" y="4941720"/>
            <a:ext cx="2158920" cy="648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Arial Narrow"/>
              </a:rPr>
              <a:t>критичность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4" name="Rectangle 12"/>
          <p:cNvSpPr/>
          <p:nvPr/>
        </p:nvSpPr>
        <p:spPr>
          <a:xfrm>
            <a:off x="6659640" y="4508640"/>
            <a:ext cx="2484360" cy="649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Arial Narrow"/>
              </a:rPr>
              <a:t>быстрота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5" name="Rectangle 13"/>
          <p:cNvSpPr/>
          <p:nvPr/>
        </p:nvSpPr>
        <p:spPr>
          <a:xfrm>
            <a:off x="611280" y="3357720"/>
            <a:ext cx="2305080" cy="502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Arial Narrow"/>
              </a:rPr>
              <a:t>глубина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6" name="Rectangle 14"/>
          <p:cNvSpPr/>
          <p:nvPr/>
        </p:nvSpPr>
        <p:spPr>
          <a:xfrm>
            <a:off x="6119640" y="3429000"/>
            <a:ext cx="2700360" cy="504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Arial Narrow"/>
              </a:rPr>
              <a:t>гибкость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7" name="Line 15"/>
          <p:cNvSpPr/>
          <p:nvPr/>
        </p:nvSpPr>
        <p:spPr>
          <a:xfrm flipH="1">
            <a:off x="2556000" y="2852640"/>
            <a:ext cx="1295280" cy="151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8" name="Line 16"/>
          <p:cNvSpPr/>
          <p:nvPr/>
        </p:nvSpPr>
        <p:spPr>
          <a:xfrm>
            <a:off x="2195640" y="285264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9" name="Line 17"/>
          <p:cNvSpPr/>
          <p:nvPr/>
        </p:nvSpPr>
        <p:spPr>
          <a:xfrm>
            <a:off x="7308720" y="285264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0" name="Line 18"/>
          <p:cNvSpPr/>
          <p:nvPr/>
        </p:nvSpPr>
        <p:spPr>
          <a:xfrm>
            <a:off x="4500720" y="2852640"/>
            <a:ext cx="0" cy="20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4" dur="indefinite" restart="never" nodeType="tmRoot">
          <p:childTnLst>
            <p:seq>
              <p:cTn id="575" dur="indefinite" nodeType="mainSeq">
                <p:childTnLst>
                  <p:par>
                    <p:cTn id="576" nodeType="clickEffect" fill="hold">
                      <p:stCondLst>
                        <p:cond delay="0"/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0" dur="1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4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7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89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1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4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9" dur="2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0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3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6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608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0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3" dur="1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6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9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2" dur="1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5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8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1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268000" y="-360"/>
            <a:ext cx="6875640" cy="108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 Narrow"/>
              </a:rPr>
              <a:t>Основные вопросы</a:t>
            </a: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324000" y="1628640"/>
            <a:ext cx="8820000" cy="4670640"/>
          </a:xfrm>
          <a:prstGeom prst="rect">
            <a:avLst/>
          </a:prstGeom>
          <a:solidFill>
            <a:srgbClr val="bcebe1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1. Ощущение. Виды ощущений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2. Восприятие, свойства восприятия.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3. Внимание. Виды внимания, и его основные свойства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4. Память, виды памяти. Закономерности памяти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5. Мышление, виды мышления. Развитие мышления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6. Воображение, виды воображения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2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2000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3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2000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7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2000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1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2000"/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25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2000"/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29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2000"/>
                                        <p:tgtEl>
                                          <p:spTgt spid="2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692000" y="-360"/>
            <a:ext cx="745164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0000"/>
                </a:solidFill>
                <a:latin typeface="Arial Narrow"/>
              </a:rPr>
              <a:t>Основные мыслительные процессы и действия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0" y="1196640"/>
            <a:ext cx="91440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5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 Narrow"/>
              </a:rPr>
              <a:t>Анализ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 – мыслительный процесс расчленения сложного объекта на составляющие его части или характеристики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Arial Narrow"/>
              </a:rPr>
              <a:t>Синтез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 – мыслительная операция, позволяющая соединять части в целое.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 Narrow"/>
              </a:rPr>
              <a:t>Сравнение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 – установление сходства и различия между объектами.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 Narrow"/>
              </a:rPr>
              <a:t>Классификация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 – распределение предметов (понятий) на классы согласно наиболее существенным признакам, присущим одним предметам (понятиям) и отличающим их от других предметов (понятий).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0000"/>
                </a:solidFill>
                <a:latin typeface="Arial Narrow"/>
              </a:rPr>
              <a:t>Основные мыслительные процессы и действия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0" y="1628280"/>
            <a:ext cx="914400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5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 Narrow"/>
              </a:rPr>
              <a:t>Умозаключение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 – форма мышления, при которой на основе нескольких суждений дается определенный вывод. Различают индуктивное, дедуктивное суждение и суждение по аналогии.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Петр Петрович всегда пьет чай с Федор Федоровичем.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Федор Федорович пьет сейчас чай.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Пьет ли Петр Петрович сейчас чай?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Все металлы пропускают электрический ток.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Железо – металл.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Пропускает ли оно ток?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Композитор: песня = архитектор:7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 Narrow"/>
              </a:rPr>
              <a:t>Обобщение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 – мысленное объединение предметов и явлений по их общим и существенным признакам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638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 Narrow"/>
              </a:rPr>
              <a:t>Словесно-логическое мышление 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Три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 характеристики </a:t>
            </a: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понятия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 как логической категории: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содержание понятия; объем; связи и отношения данного понятия с другими.</a:t>
            </a:r>
            <a:r>
              <a:rPr b="0" lang="ru-RU" sz="2800" spc="-1" strike="noStrike">
                <a:solidFill>
                  <a:srgbClr val="ff0000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Под </a:t>
            </a:r>
            <a:r>
              <a:rPr b="1" lang="ru-RU" sz="2800" spc="-1" strike="noStrike">
                <a:solidFill>
                  <a:srgbClr val="d63eb9"/>
                </a:solidFill>
                <a:latin typeface="Arial Narrow"/>
              </a:rPr>
              <a:t>содержанием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 понимают совокупность существенных свойств класса предметов. По содержанию понятия бывают простые и сложные.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63eb9"/>
                </a:solidFill>
                <a:latin typeface="Arial Narrow"/>
              </a:rPr>
              <a:t>Объем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 понятия – это количество объектов, охватываемых данным понятием. Выделяют: единичные понятия (равные единице), общие (более 1), категории (понятия широкой степени общности, например: энергия, материя).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63eb9"/>
                </a:solidFill>
                <a:latin typeface="Arial Narrow"/>
              </a:rPr>
              <a:t>Связи и отношения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 понятия с другими: различают родовые (понятия, отражающие существенные общие признаки класса предметов и включающие другие понятия меньшей степени общности) и видовые (понятия, подчиненные родовым)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2" dur="indefinite" restart="never" nodeType="tmRoot">
          <p:childTnLst>
            <p:seq>
              <p:cTn id="633" dur="indefinite" nodeType="mainSeq">
                <p:childTnLst>
                  <p:par>
                    <p:cTn id="634" nodeType="clickEffect" fill="hold">
                      <p:stCondLst>
                        <p:cond delay="0"/>
                      </p:stCondLst>
                      <p:childTnLst>
                        <p:par>
                          <p:cTn id="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8" dur="2000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2" dur="2000"/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6" dur="2000"/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6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0" dur="2000"/>
                                        <p:tgtEl>
                                          <p:spTgt spid="4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6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4" dur="2000"/>
                                        <p:tgtEl>
                                          <p:spTgt spid="4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6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8" dur="2000"/>
                                        <p:tgtEl>
                                          <p:spTgt spid="4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7" name="Line 2"/>
          <p:cNvSpPr/>
          <p:nvPr/>
        </p:nvSpPr>
        <p:spPr>
          <a:xfrm>
            <a:off x="5076720" y="1411200"/>
            <a:ext cx="1727280" cy="165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8" name="Rectangle 9"/>
          <p:cNvSpPr/>
          <p:nvPr/>
        </p:nvSpPr>
        <p:spPr>
          <a:xfrm>
            <a:off x="1549440" y="907920"/>
            <a:ext cx="6480000" cy="50328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Качества мышления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9" name="Rectangle 10"/>
          <p:cNvSpPr/>
          <p:nvPr/>
        </p:nvSpPr>
        <p:spPr>
          <a:xfrm>
            <a:off x="468360" y="2924280"/>
            <a:ext cx="2160720" cy="647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 Narrow"/>
              </a:rPr>
              <a:t>самостоятельность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0" name="Rectangle 11"/>
          <p:cNvSpPr/>
          <p:nvPr/>
        </p:nvSpPr>
        <p:spPr>
          <a:xfrm>
            <a:off x="3637080" y="3500280"/>
            <a:ext cx="2158920" cy="648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 Narrow"/>
              </a:rPr>
              <a:t>критичность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1" name="Rectangle 12"/>
          <p:cNvSpPr/>
          <p:nvPr/>
        </p:nvSpPr>
        <p:spPr>
          <a:xfrm>
            <a:off x="6516720" y="3067200"/>
            <a:ext cx="2484360" cy="649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 Narrow"/>
              </a:rPr>
              <a:t>быстрота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2" name="Rectangle 13"/>
          <p:cNvSpPr/>
          <p:nvPr/>
        </p:nvSpPr>
        <p:spPr>
          <a:xfrm>
            <a:off x="468360" y="1916280"/>
            <a:ext cx="2305080" cy="502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 Narrow"/>
              </a:rPr>
              <a:t>глубина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3" name="Rectangle 14"/>
          <p:cNvSpPr/>
          <p:nvPr/>
        </p:nvSpPr>
        <p:spPr>
          <a:xfrm>
            <a:off x="5977080" y="1987560"/>
            <a:ext cx="2700360" cy="504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 Narrow"/>
              </a:rPr>
              <a:t>гибкость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4" name="Line 15"/>
          <p:cNvSpPr/>
          <p:nvPr/>
        </p:nvSpPr>
        <p:spPr>
          <a:xfrm flipH="1">
            <a:off x="2413080" y="1411200"/>
            <a:ext cx="1295280" cy="151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5" name="Line 16"/>
          <p:cNvSpPr/>
          <p:nvPr/>
        </p:nvSpPr>
        <p:spPr>
          <a:xfrm>
            <a:off x="2052720" y="14112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6" name="Line 17"/>
          <p:cNvSpPr/>
          <p:nvPr/>
        </p:nvSpPr>
        <p:spPr>
          <a:xfrm>
            <a:off x="7165800" y="14112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7" name="Line 18"/>
          <p:cNvSpPr/>
          <p:nvPr/>
        </p:nvSpPr>
        <p:spPr>
          <a:xfrm>
            <a:off x="4356000" y="1413000"/>
            <a:ext cx="0" cy="20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9" dur="indefinite" restart="never" nodeType="tmRoot">
          <p:childTnLst>
            <p:seq>
              <p:cTn id="660" dur="indefinite" nodeType="mainSeq">
                <p:childTnLst>
                  <p:par>
                    <p:cTn id="661" nodeType="clickEffect" fill="hold">
                      <p:stCondLst>
                        <p:cond delay="0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5" dur="1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67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9" dur="1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71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3" dur="2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nodeType="clickEffect" fill="hold">
                      <p:stCondLst>
                        <p:cond delay="indefinite"/>
                      </p:stCondLst>
                      <p:childTnLst>
                        <p:par>
                          <p:cTn id="6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8" dur="1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9" nodeType="with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2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nodeType="clickEffect" fill="hold">
                      <p:stCondLst>
                        <p:cond delay="indefinite"/>
                      </p:stCondLst>
                      <p:childTnLst>
                        <p:par>
                          <p:cTn id="6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6" dur="1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7" nodeType="with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9" dur="2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nodeType="clickEffect" fill="hold">
                      <p:stCondLst>
                        <p:cond delay="indefinite"/>
                      </p:stCondLst>
                      <p:childTnLst>
                        <p:par>
                          <p:cTn id="6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4" dur="1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7" dur="2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nodeType="clickEffect" fill="hold">
                      <p:stCondLst>
                        <p:cond delay="indefinite"/>
                      </p:stCondLst>
                      <p:childTnLst>
                        <p:par>
                          <p:cTn id="6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2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3" nodeType="with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5" dur="2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Выделяют 4 уровня усвоения понятия (Н. А. Менчинская</a:t>
            </a:r>
            <a:r>
              <a:rPr b="1" lang="ru-RU" sz="4000" spc="-1" strike="noStrike">
                <a:solidFill>
                  <a:srgbClr val="000000"/>
                </a:solidFill>
                <a:latin typeface="Arial Narrow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91440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1-й уровень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 – диффузно-рассеянный. На этом уровне у субъекта существует представление о том, что обозначает понятие, но признаки, отличающие данное понятие от других, он назвать не может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2-й уровень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 – называются признаки, без дифференциации их на существенные и второстепенные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3-й уровень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 – усваиваются существенные признаки, называ-ются вторичные, но все это связано с единичным образом, который служил опорой при формировании понятия, например: картинка, иллюстрация. Таким образом, понятие как будто усвоено, но признаки не обобщаются.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4-й уровень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 – понятие усвоено полно и точно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 Narrow"/>
              </a:rPr>
              <a:t>Воображение, виды воображения</a:t>
            </a: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8893080" cy="4886280"/>
          </a:xfrm>
          <a:prstGeom prst="rect">
            <a:avLst/>
          </a:prstGeom>
          <a:solidFill>
            <a:srgbClr val="bcebe1"/>
          </a:solidFill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 Narrow"/>
              </a:rPr>
              <a:t>Воображение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– форма психического отражения, состоящая в создании образов на основе ранее сформированных представлений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 Narrow"/>
              </a:rPr>
              <a:t>Виды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воображения: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● 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По степени субъектности: произвольное и непроизвольное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● 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По отношению к возможному будущему: мечты, фантазии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● 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По степени уникальности: репродуктивное, творческое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/>
          </p:nvPr>
        </p:nvSpPr>
        <p:spPr>
          <a:xfrm>
            <a:off x="0" y="333360"/>
            <a:ext cx="9144000" cy="59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 Narrow"/>
              </a:rPr>
              <a:t>Основные функции воображения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1. Представление действительности в образах и составление возможности пользоваться ими, решая задачи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2. Регулирование эмоциональных отношений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3. Формирование внутреннего плана человека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4. Планирование и программирование деятельности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5. Произвольная регуляция познавательных процессов и состояний человека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/>
          </p:nvPr>
        </p:nvSpPr>
        <p:spPr>
          <a:xfrm>
            <a:off x="250560" y="404280"/>
            <a:ext cx="889308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 Narrow"/>
              </a:rPr>
              <a:t>Формы синтеза представлений в процессах воображения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 Narrow"/>
              </a:rPr>
              <a:t>Агглютинация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 – соединение несоединяемых в реальности качеств, свойств, частей предмета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 Narrow"/>
              </a:rPr>
              <a:t>Гиперболизация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 – увеличение или уменьшение предмета, изменение качества его частей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 Narrow"/>
              </a:rPr>
              <a:t>Заострение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 – подчеркивание каких-либо признаков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 Narrow"/>
              </a:rPr>
              <a:t>Схематизация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 – сглаживание различий предметов и выявление черт сходства между ними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 Narrow"/>
              </a:rPr>
              <a:t>Типизация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 – выделение существенного, повторяющегося в однородных явлениях и воплощение его в конкретном образе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 Narrow"/>
              </a:rPr>
              <a:t>Вопросы для самостоятельной работы</a:t>
            </a: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0" y="1413000"/>
            <a:ext cx="9144000" cy="4968720"/>
          </a:xfrm>
          <a:prstGeom prst="rect">
            <a:avLst/>
          </a:prstGeom>
          <a:solidFill>
            <a:srgbClr val="bcebe1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1. Объясните следующий факт: если человек впервые идет по незнакомой местности, самостоятельно разыскивая дорогу, то он без труда находит ее вторично; если же он идет вместе со спутником, которому дорога хорошо известна, человеку трудно будет самостоятельно проделать этот путь в следующий раз. Почему?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2. Верно ли выражение: «Восприятие – это сумма ощущений?»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3. Ученику предложили найти обобщающее слово к двум следующим понятиям: километр – метр. Чтобы выполнить верно задание, какое мыслительное действие должен произвести ученик?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4. Подумайте, чем отличается память животного от памяти человека?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5. Ребенку подготовительной группы предложили решить задачу: «Мама съела 3 конфеты, а сын 2. Сколько они съели конфет?» Мальчик отказался решать задачу, мотивируя тем, что так не бывает. Объясните поведение ребенка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6" dur="indefinite" restart="never" nodeType="tmRoot">
          <p:childTnLst>
            <p:seq>
              <p:cTn id="707" dur="indefinite" nodeType="mainSeq">
                <p:childTnLst>
                  <p:par>
                    <p:cTn id="708" nodeType="clickEffect" fill="hold">
                      <p:stCondLst>
                        <p:cond delay="0"/>
                      </p:stCondLst>
                      <p:childTnLst>
                        <p:par>
                          <p:cTn id="7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2" dur="2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14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6" dur="2000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718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0" dur="2000"/>
                                        <p:tgtEl>
                                          <p:spTgt spid="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1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722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4" dur="2000"/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5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726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8" dur="2000"/>
                                        <p:tgtEl>
                                          <p:spTgt spid="4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9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730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2" dur="2000"/>
                                        <p:tgtEl>
                                          <p:spTgt spid="4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 Narrow"/>
              </a:rPr>
              <a:t>Литература</a:t>
            </a: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9144000" cy="4886280"/>
          </a:xfrm>
          <a:prstGeom prst="rect">
            <a:avLst/>
          </a:prstGeom>
          <a:solidFill>
            <a:srgbClr val="bcebe1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1. Выготский Л. С. Психология воображения / Л. С. Выготский. – М., 1992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2. Выготский Л. С. Развитие высших психических функций / Л. С. Выгот-ский. – М., 1960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3. Грановская Р. М. Элементы практической психологии / Р. М. Грановская. – СПб., 1997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4. Грегори Р. Л. Глаз и мозг. Психология зрительного восприятия /Р. Л. Грегори. – М., 1979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5. Демидов В. Е. Как мы видим то, что видим / В. Е. Демидов. – М., 1987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6. Лурия А. Р. Маленькая книжка о большой памяти / А. Р. Лурия. – М., 1968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7. Лурия А. Р. Ощущение и восприятие: материалы к курсу по общей психологии / А. Р. Лурия. – М., 1975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3" dur="indefinite" restart="never" nodeType="tmRoot">
          <p:childTnLst>
            <p:seq>
              <p:cTn id="734" dur="indefinite" nodeType="mainSeq">
                <p:childTnLst>
                  <p:par>
                    <p:cTn id="735" nodeType="clickEffect" fill="hold">
                      <p:stCondLst>
                        <p:cond delay="0"/>
                      </p:stCondLst>
                      <p:childTnLst>
                        <p:par>
                          <p:cTn id="7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9" dur="2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3" dur="2000"/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7" dur="2000"/>
                                        <p:tgtEl>
                                          <p:spTgt spid="4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7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1" dur="2000"/>
                                        <p:tgtEl>
                                          <p:spTgt spid="4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2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7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5" dur="2000"/>
                                        <p:tgtEl>
                                          <p:spTgt spid="4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6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9" dur="2000"/>
                                        <p:tgtEl>
                                          <p:spTgt spid="4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0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7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3" dur="2000"/>
                                        <p:tgtEl>
                                          <p:spTgt spid="4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7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7" dur="2000"/>
                                        <p:tgtEl>
                                          <p:spTgt spid="4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 Narrow"/>
              </a:rPr>
              <a:t>Ключевые понятия</a:t>
            </a: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323640" y="1557000"/>
            <a:ext cx="4297320" cy="4599000"/>
          </a:xfrm>
          <a:prstGeom prst="rect">
            <a:avLst/>
          </a:prstGeom>
          <a:solidFill>
            <a:srgbClr val="bcebe1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120000"/>
              <a:buFont typeface="Arial Unicode MS"/>
              <a:buChar char="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Ощущения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120000"/>
              <a:buFont typeface="Arial Unicode MS"/>
              <a:buChar char="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восприятие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6600"/>
              </a:buClr>
              <a:buSzPct val="120000"/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предмет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6600"/>
              </a:buClr>
              <a:buSzPct val="120000"/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констант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6600"/>
              </a:buClr>
              <a:buSzPct val="120000"/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целост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120000"/>
              <a:buFont typeface="Arial Unicode MS"/>
              <a:buChar char="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внимание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6600"/>
              </a:buClr>
              <a:buSzPct val="120000"/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устойчив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6600"/>
              </a:buClr>
              <a:buSzPct val="120000"/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распредел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6600"/>
              </a:buClr>
              <a:buSzPct val="120000"/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переключ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932000" y="1628280"/>
            <a:ext cx="4211640" cy="4599000"/>
          </a:xfrm>
          <a:prstGeom prst="rect">
            <a:avLst/>
          </a:prstGeom>
          <a:solidFill>
            <a:srgbClr val="bcebe1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120000"/>
              <a:buFont typeface="Arial Unicode MS"/>
              <a:buChar char="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память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522360" indent="-65160">
              <a:lnSpc>
                <a:spcPct val="90000"/>
              </a:lnSpc>
              <a:spcBef>
                <a:spcPts val="700"/>
              </a:spcBef>
              <a:buClr>
                <a:srgbClr val="cc6600"/>
              </a:buClr>
              <a:buSzPct val="120000"/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реминисцен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22360" indent="-65160">
              <a:lnSpc>
                <a:spcPct val="90000"/>
              </a:lnSpc>
              <a:spcBef>
                <a:spcPts val="700"/>
              </a:spcBef>
              <a:buClr>
                <a:srgbClr val="cc6600"/>
              </a:buClr>
              <a:buSzPct val="120000"/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интерферен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120000"/>
              <a:buFont typeface="Arial Unicode MS"/>
              <a:buChar char="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воображение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120000"/>
              <a:buFont typeface="Arial Unicode MS"/>
              <a:buChar char="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мышление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522360" indent="-65160">
              <a:lnSpc>
                <a:spcPct val="90000"/>
              </a:lnSpc>
              <a:spcBef>
                <a:spcPts val="700"/>
              </a:spcBef>
              <a:buClr>
                <a:srgbClr val="cc6600"/>
              </a:buClr>
              <a:buSzPct val="120000"/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мыслительные процессы и действ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22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0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" dur="2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200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2000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2000"/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2000"/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2000"/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2000"/>
                                        <p:tgtEl>
                                          <p:spTgt spid="2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" dur="2000"/>
                                        <p:tgtEl>
                                          <p:spTgt spid="2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2000"/>
                                        <p:tgtEl>
                                          <p:spTgt spid="2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2000"/>
                                        <p:tgtEl>
                                          <p:spTgt spid="2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76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22500"/>
                            </p:stCondLst>
                            <p:childTnLst>
                              <p:par>
                                <p:cTn id="80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200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25000"/>
                            </p:stCondLst>
                            <p:childTnLst>
                              <p:par>
                                <p:cTn id="84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" dur="2000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27500"/>
                            </p:stCondLst>
                            <p:childTnLst>
                              <p:par>
                                <p:cTn id="88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" dur="2000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30000"/>
                            </p:stCondLst>
                            <p:childTnLst>
                              <p:par>
                                <p:cTn id="92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" dur="2000"/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32500"/>
                            </p:stCondLst>
                            <p:childTnLst>
                              <p:par>
                                <p:cTn id="96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2000"/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35000"/>
                            </p:stCondLst>
                            <p:childTnLst>
                              <p:par>
                                <p:cTn id="100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2000"/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51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 Narrow"/>
              </a:rPr>
              <a:t>Литература</a:t>
            </a: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108000" y="1412640"/>
            <a:ext cx="9036000" cy="4886280"/>
          </a:xfrm>
          <a:prstGeom prst="rect">
            <a:avLst/>
          </a:prstGeom>
          <a:solidFill>
            <a:srgbClr val="bcebe1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8. Лурия А. Р. Внимание. Память. Материалы к курсу по общей психологии / А. Р. Лурия. – М., 1975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9. Петухов В. В. Психология мышления: учебно-методическое пособие / В. В. Петухов. – М., 1987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10. Платонов К. К. Занимательная психология / К. К. Платонов. – М., 1964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11. Познавательные процессы и способности в обучении / под ред. В. Д. Шадрикова. – М., 1990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12. Психология ощущения и восприятия: хрестоматия: учебное пособие для вузов / под ред. Ю. Б. Гиппенрейтер, В. В. Любимова, М. Б. Михалевской. – М., 2002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13. Психология памяти: хрестоматия / под ред. Ю. Б. Гиппенрейтер, В. Я. Романова. – М., 2002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nodeType="clickEffect" fill="hold">
                      <p:stCondLst>
                        <p:cond delay="0"/>
                      </p:stCondLst>
                      <p:childTnLst>
                        <p:par>
                          <p:cTn id="7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4" dur="2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8" dur="2000"/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2" dur="2000"/>
                                        <p:tgtEl>
                                          <p:spTgt spid="4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7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6" dur="2000"/>
                                        <p:tgtEl>
                                          <p:spTgt spid="4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7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0" dur="2000"/>
                                        <p:tgtEl>
                                          <p:spTgt spid="4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1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7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4" dur="2000"/>
                                        <p:tgtEl>
                                          <p:spTgt spid="4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5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7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8" dur="2000"/>
                                        <p:tgtEl>
                                          <p:spTgt spid="4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16000" y="0"/>
            <a:ext cx="8028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cc0000"/>
                </a:solidFill>
                <a:latin typeface="Arial Narrow"/>
              </a:rPr>
              <a:t>Ощущение. Виды ощущений</a:t>
            </a:r>
            <a:br>
              <a:rPr sz="3600"/>
            </a:br>
            <a:endParaRPr b="1" lang="en-US" sz="40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9144000" cy="4886280"/>
          </a:xfrm>
          <a:prstGeom prst="rect">
            <a:avLst/>
          </a:prstGeom>
          <a:solidFill>
            <a:srgbClr val="bcebe1"/>
          </a:solidFill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 Narrow"/>
              </a:rPr>
              <a:t>Ощущения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– отражение отдельных свойств предмета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 Narrow"/>
              </a:rPr>
              <a:t>Виды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(модальности) ощущений: обоняние, вкус, осязание, слух,  зрение.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Систематическая </a:t>
            </a: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классификация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ощущений: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9" name="Rectangle 6"/>
          <p:cNvSpPr/>
          <p:nvPr/>
        </p:nvSpPr>
        <p:spPr>
          <a:xfrm>
            <a:off x="0" y="3429000"/>
            <a:ext cx="3132000" cy="5032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 Narrow"/>
              </a:rPr>
              <a:t>интроцептивны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0" name="Text Box 8"/>
          <p:cNvSpPr/>
          <p:nvPr/>
        </p:nvSpPr>
        <p:spPr>
          <a:xfrm>
            <a:off x="0" y="3933720"/>
            <a:ext cx="4932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поступают от сигналов из внут-ренней среды организма: кишеч-ника, желудка, кровеносной систе-мы. Обеспечивают регуляцию элементарных влечений.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1" name="Rectangle 9"/>
          <p:cNvSpPr/>
          <p:nvPr/>
        </p:nvSpPr>
        <p:spPr>
          <a:xfrm>
            <a:off x="5870520" y="3429000"/>
            <a:ext cx="3273480" cy="5032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 Narrow"/>
              </a:rPr>
              <a:t>проприоцептивны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2" name="Text Box 11"/>
          <p:cNvSpPr/>
          <p:nvPr/>
        </p:nvSpPr>
        <p:spPr>
          <a:xfrm>
            <a:off x="3059280" y="3860640"/>
            <a:ext cx="6084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поступают из глубоких мышц и суставных поверхностей. Обеспечивают информа-цию о положении тела в пространстве и о положении опорно-двигательного аппара-та, обеспечивают регуляцию движения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3" name="Rectangle 12"/>
          <p:cNvSpPr/>
          <p:nvPr/>
        </p:nvSpPr>
        <p:spPr>
          <a:xfrm>
            <a:off x="2916360" y="4149720"/>
            <a:ext cx="3600360" cy="504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 Narrow"/>
              </a:rPr>
              <a:t>экстрацептивны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4" name="Text Box 15"/>
          <p:cNvSpPr/>
          <p:nvPr/>
        </p:nvSpPr>
        <p:spPr>
          <a:xfrm>
            <a:off x="611280" y="4724280"/>
            <a:ext cx="6985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Осязание, вкус, обоняние, слух, зрение. Обеспе-чивают получение сигналов из внешнего мира и создают основу для сознательного поведения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0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" dur="1000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" dur="1000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15" nodeType="after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1000"/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19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23" nodeType="afterEffect" fill="hold" presetClass="entr" presetID="22" presetSubtype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" dur="2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127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0" dur="1" fill="hold">
                                    <p:stCondLst>
                                      <p:cond delay="500"/>
                                    </p:stCondLst>
                                  </p:cTn>
                                  <p:tgtEl>
                                    <p:spTgt spid="2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132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17500"/>
                            </p:stCondLst>
                            <p:childTnLst>
                              <p:par>
                                <p:cTn id="136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9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2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19500"/>
                            </p:stCondLst>
                            <p:childTnLst>
                              <p:par>
                                <p:cTn id="141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46" dur="1" fill="hold"/>
                                  <p:tgtEl>
                                    <p:spTgt spid="28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Arial Narrow"/>
              </a:rPr>
              <a:t>Восприятие. </a:t>
            </a:r>
            <a:br>
              <a:rPr sz="3600"/>
            </a:br>
            <a:r>
              <a:rPr b="1" lang="ru-RU" sz="3600" spc="-1" strike="noStrike">
                <a:solidFill>
                  <a:srgbClr val="cc0000"/>
                </a:solidFill>
                <a:latin typeface="Arial Narrow"/>
              </a:rPr>
              <a:t>Виды и свойства восприятия</a:t>
            </a:r>
            <a:endParaRPr b="1" lang="en-US" sz="36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0" y="1413000"/>
            <a:ext cx="9144000" cy="4968720"/>
          </a:xfrm>
          <a:prstGeom prst="rect">
            <a:avLst/>
          </a:prstGeom>
          <a:solidFill>
            <a:srgbClr val="bcebe1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Arial Narrow"/>
              </a:rPr>
              <a:t>Восприятие</a:t>
            </a:r>
            <a:r>
              <a:rPr b="0" lang="ru-RU" sz="3000" spc="-1" strike="noStrike">
                <a:solidFill>
                  <a:srgbClr val="000000"/>
                </a:solidFill>
                <a:latin typeface="Arial Narrow"/>
              </a:rPr>
              <a:t> – целостное отражение предметов в сознании человека при их непосредственном воздействии в данный момент на органы чувств. В акте восприятия присутствует определенное обобщение.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indent="0" algn="ctr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ff"/>
                </a:solidFill>
                <a:latin typeface="Arial Narrow"/>
              </a:rPr>
              <a:t>Ведущие свойства человеческого восприятия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ff"/>
                </a:solidFill>
                <a:latin typeface="Arial Narrow"/>
              </a:rPr>
              <a:t>Целостность</a:t>
            </a:r>
            <a:r>
              <a:rPr b="0" lang="ru-RU" sz="3000" spc="-1" strike="noStrike">
                <a:solidFill>
                  <a:srgbClr val="000000"/>
                </a:solidFill>
                <a:latin typeface="Arial Narrow"/>
              </a:rPr>
              <a:t> – образы восприятия представляют собой целостные, законченные, предметно оформленные структуры.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ff"/>
                </a:solidFill>
                <a:latin typeface="Arial Narrow"/>
              </a:rPr>
              <a:t>Предметность</a:t>
            </a:r>
            <a:r>
              <a:rPr b="0" lang="ru-RU" sz="3000" spc="-1" strike="noStrike">
                <a:solidFill>
                  <a:srgbClr val="000000"/>
                </a:solidFill>
                <a:latin typeface="Arial Narrow"/>
              </a:rPr>
              <a:t> – воспринимается не только комплекс свойств, а оценивается этот комплекс как определенный предмет: «стол», «дом» и т. д.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0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" dur="2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5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" dur="2000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59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1" dur="2000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" dur="1000"/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2000"/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/>
          </p:nvPr>
        </p:nvSpPr>
        <p:spPr>
          <a:xfrm>
            <a:off x="0" y="404280"/>
            <a:ext cx="914400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3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ff"/>
                </a:solidFill>
                <a:latin typeface="Arial Narrow"/>
              </a:rPr>
              <a:t>	</a:t>
            </a:r>
            <a:r>
              <a:rPr b="0" lang="ru-RU" sz="3000" spc="-1" strike="noStrike">
                <a:solidFill>
                  <a:srgbClr val="0000ff"/>
                </a:solidFill>
                <a:latin typeface="Arial Narrow"/>
              </a:rPr>
              <a:t>Осмысленность</a:t>
            </a:r>
            <a:r>
              <a:rPr b="0" lang="ru-RU" sz="3000" spc="-1" strike="noStrike">
                <a:solidFill>
                  <a:srgbClr val="000000"/>
                </a:solidFill>
                <a:latin typeface="Arial Narrow"/>
              </a:rPr>
              <a:t> – понимание вещи одно-</a:t>
            </a:r>
            <a:r>
              <a:rPr b="0" lang="ru-RU" sz="3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 Narrow"/>
              </a:rPr>
              <a:t>временно с ее восприятием, восприятие происходит в контексте смысла. Здесь отражается связь восприятия с мышлением.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0"/>
                <a:tab algn="l" pos="233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ff"/>
                </a:solidFill>
                <a:latin typeface="Arial Narrow"/>
              </a:rPr>
              <a:t>Константность</a:t>
            </a:r>
            <a:r>
              <a:rPr b="0" lang="ru-RU" sz="3000" spc="-1" strike="noStrike">
                <a:solidFill>
                  <a:srgbClr val="000000"/>
                </a:solidFill>
                <a:latin typeface="Arial Narrow"/>
              </a:rPr>
              <a:t> – относительное постоянство формы, ве-личины и цвета предмета, независимо от изменений усло-вий восприятия. 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3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ff"/>
                </a:solidFill>
                <a:latin typeface="Arial Narrow"/>
              </a:rPr>
              <a:t>Избирательность</a:t>
            </a:r>
            <a:r>
              <a:rPr b="0" lang="ru-RU" sz="3000" spc="-1" strike="noStrike">
                <a:solidFill>
                  <a:srgbClr val="000000"/>
                </a:solidFill>
                <a:latin typeface="Arial Narrow"/>
              </a:rPr>
              <a:t> – преимущественное вычленение одних объектов по сравнению с другими, обусловленное особенностями субъекта восприятия (опытом, интересами, потребностями).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0"/>
                <a:tab algn="l" pos="233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ff"/>
                </a:solidFill>
                <a:latin typeface="Arial Narrow"/>
              </a:rPr>
              <a:t>Структурность</a:t>
            </a:r>
            <a:r>
              <a:rPr b="0" lang="ru-RU" sz="3000" spc="-1" strike="noStrike">
                <a:solidFill>
                  <a:srgbClr val="000000"/>
                </a:solidFill>
                <a:latin typeface="Arial Narrow"/>
              </a:rPr>
              <a:t> – свойство, позволяющее воспринимать предметы в совокупности их устойчивых связей и отноше-ний.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3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3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0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" dur="2000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" dur="2000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" dur="2000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" dur="2000"/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Picture 2" descr=""/>
          <p:cNvPicPr/>
          <p:nvPr/>
        </p:nvPicPr>
        <p:blipFill>
          <a:blip r:embed="rId1"/>
          <a:stretch/>
        </p:blipFill>
        <p:spPr>
          <a:xfrm>
            <a:off x="900000" y="981000"/>
            <a:ext cx="4464000" cy="2808360"/>
          </a:xfrm>
          <a:prstGeom prst="rect">
            <a:avLst/>
          </a:prstGeom>
          <a:ln w="0">
            <a:noFill/>
          </a:ln>
        </p:spPr>
      </p:pic>
      <p:sp>
        <p:nvSpPr>
          <p:cNvPr id="289" name="Text Box 3"/>
          <p:cNvSpPr/>
          <p:nvPr/>
        </p:nvSpPr>
        <p:spPr>
          <a:xfrm>
            <a:off x="599040" y="5203800"/>
            <a:ext cx="776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00"/>
                </a:solidFill>
                <a:latin typeface="Arial Narrow"/>
              </a:rPr>
              <a:t>Целостное восприятие лица вопреки выпадению ряда элементов его контура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290" name="Group 4"/>
          <p:cNvGrpSpPr/>
          <p:nvPr/>
        </p:nvGrpSpPr>
        <p:grpSpPr>
          <a:xfrm>
            <a:off x="5292720" y="1123920"/>
            <a:ext cx="2752560" cy="2114640"/>
            <a:chOff x="5292720" y="1123920"/>
            <a:chExt cx="2752560" cy="2114640"/>
          </a:xfrm>
        </p:grpSpPr>
        <p:sp>
          <p:nvSpPr>
            <p:cNvPr id="291" name="Freeform 5"/>
            <p:cNvSpPr/>
            <p:nvPr/>
          </p:nvSpPr>
          <p:spPr>
            <a:xfrm>
              <a:off x="5443560" y="1390680"/>
              <a:ext cx="2309760" cy="1847880"/>
            </a:xfrm>
            <a:custGeom>
              <a:avLst/>
              <a:gdLst>
                <a:gd name="textAreaLeft" fmla="*/ 0 w 2309760"/>
                <a:gd name="textAreaRight" fmla="*/ 2310120 w 2309760"/>
                <a:gd name="textAreaTop" fmla="*/ 0 h 1847880"/>
                <a:gd name="textAreaBottom" fmla="*/ 1848240 h 1847880"/>
              </a:gdLst>
              <a:ahLst/>
              <a:rect l="textAreaLeft" t="textAreaTop" r="textAreaRight" b="textAreaBottom"/>
              <a:pathLst>
                <a:path w="1455" h="1164">
                  <a:moveTo>
                    <a:pt x="27" y="36"/>
                  </a:moveTo>
                  <a:cubicBezTo>
                    <a:pt x="34" y="200"/>
                    <a:pt x="0" y="592"/>
                    <a:pt x="87" y="708"/>
                  </a:cubicBezTo>
                  <a:cubicBezTo>
                    <a:pt x="106" y="764"/>
                    <a:pt x="98" y="796"/>
                    <a:pt x="159" y="816"/>
                  </a:cubicBezTo>
                  <a:cubicBezTo>
                    <a:pt x="183" y="876"/>
                    <a:pt x="177" y="883"/>
                    <a:pt x="231" y="924"/>
                  </a:cubicBezTo>
                  <a:cubicBezTo>
                    <a:pt x="245" y="935"/>
                    <a:pt x="265" y="937"/>
                    <a:pt x="279" y="948"/>
                  </a:cubicBezTo>
                  <a:cubicBezTo>
                    <a:pt x="297" y="962"/>
                    <a:pt x="308" y="983"/>
                    <a:pt x="327" y="996"/>
                  </a:cubicBezTo>
                  <a:cubicBezTo>
                    <a:pt x="380" y="1031"/>
                    <a:pt x="481" y="1064"/>
                    <a:pt x="543" y="1080"/>
                  </a:cubicBezTo>
                  <a:cubicBezTo>
                    <a:pt x="588" y="1147"/>
                    <a:pt x="540" y="1095"/>
                    <a:pt x="639" y="1128"/>
                  </a:cubicBezTo>
                  <a:cubicBezTo>
                    <a:pt x="653" y="1133"/>
                    <a:pt x="662" y="1146"/>
                    <a:pt x="675" y="1152"/>
                  </a:cubicBezTo>
                  <a:cubicBezTo>
                    <a:pt x="690" y="1158"/>
                    <a:pt x="707" y="1160"/>
                    <a:pt x="723" y="1164"/>
                  </a:cubicBezTo>
                  <a:cubicBezTo>
                    <a:pt x="760" y="1161"/>
                    <a:pt x="903" y="1156"/>
                    <a:pt x="963" y="1140"/>
                  </a:cubicBezTo>
                  <a:cubicBezTo>
                    <a:pt x="1022" y="1124"/>
                    <a:pt x="1065" y="1083"/>
                    <a:pt x="1119" y="1056"/>
                  </a:cubicBezTo>
                  <a:cubicBezTo>
                    <a:pt x="1174" y="974"/>
                    <a:pt x="1244" y="900"/>
                    <a:pt x="1323" y="840"/>
                  </a:cubicBezTo>
                  <a:cubicBezTo>
                    <a:pt x="1360" y="730"/>
                    <a:pt x="1298" y="901"/>
                    <a:pt x="1371" y="756"/>
                  </a:cubicBezTo>
                  <a:cubicBezTo>
                    <a:pt x="1405" y="689"/>
                    <a:pt x="1431" y="588"/>
                    <a:pt x="1455" y="516"/>
                  </a:cubicBezTo>
                  <a:cubicBezTo>
                    <a:pt x="1444" y="384"/>
                    <a:pt x="1449" y="401"/>
                    <a:pt x="1431" y="300"/>
                  </a:cubicBezTo>
                  <a:cubicBezTo>
                    <a:pt x="1423" y="256"/>
                    <a:pt x="1398" y="200"/>
                    <a:pt x="1395" y="156"/>
                  </a:cubicBezTo>
                  <a:cubicBezTo>
                    <a:pt x="1392" y="104"/>
                    <a:pt x="1395" y="52"/>
                    <a:pt x="1395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92" name="Freeform 6"/>
            <p:cNvSpPr/>
            <p:nvPr/>
          </p:nvSpPr>
          <p:spPr>
            <a:xfrm>
              <a:off x="6915240" y="1371600"/>
              <a:ext cx="361800" cy="272880"/>
            </a:xfrm>
            <a:custGeom>
              <a:avLst/>
              <a:gdLst>
                <a:gd name="textAreaLeft" fmla="*/ 0 w 361800"/>
                <a:gd name="textAreaRight" fmla="*/ 362160 w 361800"/>
                <a:gd name="textAreaTop" fmla="*/ 0 h 272880"/>
                <a:gd name="textAreaBottom" fmla="*/ 273240 h 272880"/>
              </a:gdLst>
              <a:ahLst/>
              <a:rect l="textAreaLeft" t="textAreaTop" r="textAreaRight" b="textAreaBottom"/>
              <a:pathLst>
                <a:path w="228" h="172">
                  <a:moveTo>
                    <a:pt x="0" y="96"/>
                  </a:moveTo>
                  <a:cubicBezTo>
                    <a:pt x="56" y="12"/>
                    <a:pt x="24" y="40"/>
                    <a:pt x="84" y="0"/>
                  </a:cubicBezTo>
                  <a:cubicBezTo>
                    <a:pt x="133" y="49"/>
                    <a:pt x="159" y="97"/>
                    <a:pt x="228" y="120"/>
                  </a:cubicBezTo>
                  <a:cubicBezTo>
                    <a:pt x="184" y="135"/>
                    <a:pt x="147" y="142"/>
                    <a:pt x="108" y="168"/>
                  </a:cubicBezTo>
                  <a:cubicBezTo>
                    <a:pt x="23" y="151"/>
                    <a:pt x="61" y="172"/>
                    <a:pt x="0" y="96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93" name="Freeform 7"/>
            <p:cNvSpPr/>
            <p:nvPr/>
          </p:nvSpPr>
          <p:spPr>
            <a:xfrm>
              <a:off x="6991200" y="1481040"/>
              <a:ext cx="114480" cy="18900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189000"/>
                <a:gd name="textAreaBottom" fmla="*/ 189360 h 189000"/>
              </a:gdLst>
              <a:ahLst/>
              <a:rect l="textAreaLeft" t="textAreaTop" r="textAreaRight" b="textAreaBottom"/>
              <a:pathLst>
                <a:path w="72" h="119">
                  <a:moveTo>
                    <a:pt x="24" y="63"/>
                  </a:moveTo>
                  <a:cubicBezTo>
                    <a:pt x="36" y="51"/>
                    <a:pt x="60" y="44"/>
                    <a:pt x="60" y="27"/>
                  </a:cubicBezTo>
                  <a:cubicBezTo>
                    <a:pt x="60" y="13"/>
                    <a:pt x="38" y="0"/>
                    <a:pt x="24" y="3"/>
                  </a:cubicBezTo>
                  <a:cubicBezTo>
                    <a:pt x="10" y="6"/>
                    <a:pt x="8" y="27"/>
                    <a:pt x="0" y="39"/>
                  </a:cubicBezTo>
                  <a:cubicBezTo>
                    <a:pt x="5" y="48"/>
                    <a:pt x="30" y="119"/>
                    <a:pt x="60" y="111"/>
                  </a:cubicBezTo>
                  <a:cubicBezTo>
                    <a:pt x="72" y="108"/>
                    <a:pt x="68" y="87"/>
                    <a:pt x="72" y="75"/>
                  </a:cubicBezTo>
                  <a:cubicBezTo>
                    <a:pt x="55" y="25"/>
                    <a:pt x="71" y="32"/>
                    <a:pt x="24" y="63"/>
                  </a:cubicBez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94" name="Freeform 8"/>
            <p:cNvSpPr/>
            <p:nvPr/>
          </p:nvSpPr>
          <p:spPr>
            <a:xfrm>
              <a:off x="6354720" y="2487600"/>
              <a:ext cx="557280" cy="217440"/>
            </a:xfrm>
            <a:custGeom>
              <a:avLst/>
              <a:gdLst>
                <a:gd name="textAreaLeft" fmla="*/ 0 w 557280"/>
                <a:gd name="textAreaRight" fmla="*/ 557640 w 557280"/>
                <a:gd name="textAreaTop" fmla="*/ 0 h 217440"/>
                <a:gd name="textAreaBottom" fmla="*/ 217800 h 217440"/>
              </a:gdLst>
              <a:ahLst/>
              <a:rect l="textAreaLeft" t="textAreaTop" r="textAreaRight" b="textAreaBottom"/>
              <a:pathLst>
                <a:path w="351" h="137">
                  <a:moveTo>
                    <a:pt x="29" y="41"/>
                  </a:moveTo>
                  <a:cubicBezTo>
                    <a:pt x="61" y="45"/>
                    <a:pt x="93" y="50"/>
                    <a:pt x="125" y="53"/>
                  </a:cubicBezTo>
                  <a:cubicBezTo>
                    <a:pt x="340" y="70"/>
                    <a:pt x="351" y="0"/>
                    <a:pt x="317" y="101"/>
                  </a:cubicBezTo>
                  <a:cubicBezTo>
                    <a:pt x="0" y="83"/>
                    <a:pt x="187" y="106"/>
                    <a:pt x="29" y="53"/>
                  </a:cubicBezTo>
                  <a:cubicBezTo>
                    <a:pt x="25" y="64"/>
                    <a:pt x="1" y="114"/>
                    <a:pt x="29" y="125"/>
                  </a:cubicBezTo>
                  <a:cubicBezTo>
                    <a:pt x="44" y="131"/>
                    <a:pt x="61" y="117"/>
                    <a:pt x="77" y="113"/>
                  </a:cubicBezTo>
                  <a:cubicBezTo>
                    <a:pt x="89" y="105"/>
                    <a:pt x="100" y="95"/>
                    <a:pt x="113" y="89"/>
                  </a:cubicBezTo>
                  <a:cubicBezTo>
                    <a:pt x="128" y="83"/>
                    <a:pt x="147" y="85"/>
                    <a:pt x="161" y="77"/>
                  </a:cubicBezTo>
                  <a:cubicBezTo>
                    <a:pt x="183" y="65"/>
                    <a:pt x="201" y="45"/>
                    <a:pt x="221" y="29"/>
                  </a:cubicBezTo>
                  <a:cubicBezTo>
                    <a:pt x="225" y="41"/>
                    <a:pt x="223" y="57"/>
                    <a:pt x="233" y="65"/>
                  </a:cubicBezTo>
                  <a:cubicBezTo>
                    <a:pt x="246" y="75"/>
                    <a:pt x="297" y="82"/>
                    <a:pt x="281" y="77"/>
                  </a:cubicBezTo>
                  <a:cubicBezTo>
                    <a:pt x="245" y="65"/>
                    <a:pt x="209" y="53"/>
                    <a:pt x="173" y="41"/>
                  </a:cubicBezTo>
                  <a:cubicBezTo>
                    <a:pt x="161" y="37"/>
                    <a:pt x="149" y="33"/>
                    <a:pt x="137" y="29"/>
                  </a:cubicBezTo>
                  <a:cubicBezTo>
                    <a:pt x="125" y="25"/>
                    <a:pt x="101" y="17"/>
                    <a:pt x="101" y="17"/>
                  </a:cubicBezTo>
                  <a:cubicBezTo>
                    <a:pt x="36" y="60"/>
                    <a:pt x="36" y="94"/>
                    <a:pt x="101" y="137"/>
                  </a:cubicBezTo>
                  <a:cubicBezTo>
                    <a:pt x="150" y="118"/>
                    <a:pt x="196" y="93"/>
                    <a:pt x="245" y="77"/>
                  </a:cubicBezTo>
                  <a:cubicBezTo>
                    <a:pt x="289" y="92"/>
                    <a:pt x="275" y="100"/>
                    <a:pt x="293" y="65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95" name="Freeform 9"/>
            <p:cNvSpPr/>
            <p:nvPr/>
          </p:nvSpPr>
          <p:spPr>
            <a:xfrm>
              <a:off x="7667640" y="1773360"/>
              <a:ext cx="377640" cy="642960"/>
            </a:xfrm>
            <a:custGeom>
              <a:avLst/>
              <a:gdLst>
                <a:gd name="textAreaLeft" fmla="*/ 0 w 377640"/>
                <a:gd name="textAreaRight" fmla="*/ 378000 w 377640"/>
                <a:gd name="textAreaTop" fmla="*/ 0 h 642960"/>
                <a:gd name="textAreaBottom" fmla="*/ 643320 h 642960"/>
              </a:gdLst>
              <a:ahLst/>
              <a:rect l="textAreaLeft" t="textAreaTop" r="textAreaRight" b="textAreaBottom"/>
              <a:pathLst>
                <a:path w="238" h="405">
                  <a:moveTo>
                    <a:pt x="130" y="0"/>
                  </a:moveTo>
                  <a:cubicBezTo>
                    <a:pt x="224" y="94"/>
                    <a:pt x="192" y="51"/>
                    <a:pt x="238" y="120"/>
                  </a:cubicBezTo>
                  <a:cubicBezTo>
                    <a:pt x="220" y="174"/>
                    <a:pt x="206" y="175"/>
                    <a:pt x="154" y="192"/>
                  </a:cubicBezTo>
                  <a:cubicBezTo>
                    <a:pt x="142" y="204"/>
                    <a:pt x="122" y="212"/>
                    <a:pt x="118" y="228"/>
                  </a:cubicBezTo>
                  <a:cubicBezTo>
                    <a:pt x="105" y="279"/>
                    <a:pt x="134" y="340"/>
                    <a:pt x="106" y="384"/>
                  </a:cubicBezTo>
                  <a:cubicBezTo>
                    <a:pt x="92" y="405"/>
                    <a:pt x="34" y="360"/>
                    <a:pt x="34" y="360"/>
                  </a:cubicBezTo>
                  <a:cubicBezTo>
                    <a:pt x="4" y="315"/>
                    <a:pt x="0" y="334"/>
                    <a:pt x="34" y="3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96" name="Freeform 10"/>
            <p:cNvSpPr/>
            <p:nvPr/>
          </p:nvSpPr>
          <p:spPr>
            <a:xfrm>
              <a:off x="5292720" y="1413000"/>
              <a:ext cx="584280" cy="183960"/>
            </a:xfrm>
            <a:custGeom>
              <a:avLst/>
              <a:gdLst>
                <a:gd name="textAreaLeft" fmla="*/ 0 w 584280"/>
                <a:gd name="textAreaRight" fmla="*/ 584280 w 584280"/>
                <a:gd name="textAreaTop" fmla="*/ 0 h 183960"/>
                <a:gd name="textAreaBottom" fmla="*/ 184320 h 183960"/>
              </a:gdLst>
              <a:ahLst/>
              <a:rect l="textAreaLeft" t="textAreaTop" r="textAreaRight" b="textAreaBottom"/>
              <a:pathLst>
                <a:path w="368" h="116">
                  <a:moveTo>
                    <a:pt x="0" y="12"/>
                  </a:moveTo>
                  <a:cubicBezTo>
                    <a:pt x="88" y="16"/>
                    <a:pt x="179" y="0"/>
                    <a:pt x="264" y="24"/>
                  </a:cubicBezTo>
                  <a:cubicBezTo>
                    <a:pt x="368" y="54"/>
                    <a:pt x="224" y="93"/>
                    <a:pt x="216" y="96"/>
                  </a:cubicBezTo>
                  <a:cubicBezTo>
                    <a:pt x="212" y="95"/>
                    <a:pt x="58" y="77"/>
                    <a:pt x="48" y="72"/>
                  </a:cubicBezTo>
                  <a:cubicBezTo>
                    <a:pt x="37" y="66"/>
                    <a:pt x="40" y="48"/>
                    <a:pt x="36" y="36"/>
                  </a:cubicBezTo>
                  <a:cubicBezTo>
                    <a:pt x="76" y="23"/>
                    <a:pt x="116" y="13"/>
                    <a:pt x="156" y="0"/>
                  </a:cubicBezTo>
                  <a:cubicBezTo>
                    <a:pt x="172" y="24"/>
                    <a:pt x="188" y="48"/>
                    <a:pt x="204" y="72"/>
                  </a:cubicBezTo>
                  <a:cubicBezTo>
                    <a:pt x="212" y="84"/>
                    <a:pt x="180" y="36"/>
                    <a:pt x="180" y="36"/>
                  </a:cubicBezTo>
                  <a:cubicBezTo>
                    <a:pt x="152" y="40"/>
                    <a:pt x="116" y="28"/>
                    <a:pt x="96" y="48"/>
                  </a:cubicBezTo>
                  <a:cubicBezTo>
                    <a:pt x="82" y="62"/>
                    <a:pt x="91" y="97"/>
                    <a:pt x="108" y="108"/>
                  </a:cubicBezTo>
                  <a:cubicBezTo>
                    <a:pt x="120" y="116"/>
                    <a:pt x="122" y="82"/>
                    <a:pt x="132" y="72"/>
                  </a:cubicBezTo>
                  <a:cubicBezTo>
                    <a:pt x="138" y="66"/>
                    <a:pt x="148" y="64"/>
                    <a:pt x="156" y="6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97" name="Freeform 11"/>
            <p:cNvSpPr/>
            <p:nvPr/>
          </p:nvSpPr>
          <p:spPr>
            <a:xfrm>
              <a:off x="5429160" y="1123920"/>
              <a:ext cx="609840" cy="115920"/>
            </a:xfrm>
            <a:custGeom>
              <a:avLst/>
              <a:gdLst>
                <a:gd name="textAreaLeft" fmla="*/ 0 w 609840"/>
                <a:gd name="textAreaRight" fmla="*/ 610200 w 609840"/>
                <a:gd name="textAreaTop" fmla="*/ 0 h 115920"/>
                <a:gd name="textAreaBottom" fmla="*/ 116280 h 115920"/>
              </a:gdLst>
              <a:ahLst/>
              <a:rect l="textAreaLeft" t="textAreaTop" r="textAreaRight" b="textAreaBottom"/>
              <a:pathLst>
                <a:path w="384" h="73">
                  <a:moveTo>
                    <a:pt x="0" y="60"/>
                  </a:moveTo>
                  <a:cubicBezTo>
                    <a:pt x="79" y="13"/>
                    <a:pt x="119" y="21"/>
                    <a:pt x="204" y="0"/>
                  </a:cubicBezTo>
                  <a:cubicBezTo>
                    <a:pt x="224" y="4"/>
                    <a:pt x="246" y="3"/>
                    <a:pt x="264" y="12"/>
                  </a:cubicBezTo>
                  <a:cubicBezTo>
                    <a:pt x="279" y="20"/>
                    <a:pt x="285" y="40"/>
                    <a:pt x="300" y="48"/>
                  </a:cubicBezTo>
                  <a:cubicBezTo>
                    <a:pt x="345" y="73"/>
                    <a:pt x="351" y="72"/>
                    <a:pt x="384" y="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98" name="Freeform 12"/>
            <p:cNvSpPr/>
            <p:nvPr/>
          </p:nvSpPr>
          <p:spPr>
            <a:xfrm>
              <a:off x="6553080" y="1133640"/>
              <a:ext cx="666720" cy="128520"/>
            </a:xfrm>
            <a:custGeom>
              <a:avLst/>
              <a:gdLst>
                <a:gd name="textAreaLeft" fmla="*/ 0 w 666720"/>
                <a:gd name="textAreaRight" fmla="*/ 667080 w 666720"/>
                <a:gd name="textAreaTop" fmla="*/ 0 h 128520"/>
                <a:gd name="textAreaBottom" fmla="*/ 128880 h 128520"/>
              </a:gdLst>
              <a:ahLst/>
              <a:rect l="textAreaLeft" t="textAreaTop" r="textAreaRight" b="textAreaBottom"/>
              <a:pathLst>
                <a:path w="420" h="81">
                  <a:moveTo>
                    <a:pt x="0" y="30"/>
                  </a:moveTo>
                  <a:cubicBezTo>
                    <a:pt x="90" y="0"/>
                    <a:pt x="136" y="9"/>
                    <a:pt x="240" y="18"/>
                  </a:cubicBezTo>
                  <a:cubicBezTo>
                    <a:pt x="252" y="30"/>
                    <a:pt x="262" y="45"/>
                    <a:pt x="276" y="54"/>
                  </a:cubicBezTo>
                  <a:cubicBezTo>
                    <a:pt x="317" y="81"/>
                    <a:pt x="345" y="43"/>
                    <a:pt x="384" y="30"/>
                  </a:cubicBezTo>
                  <a:cubicBezTo>
                    <a:pt x="396" y="34"/>
                    <a:pt x="420" y="42"/>
                    <a:pt x="420" y="4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sp>
        <p:nvSpPr>
          <p:cNvPr id="299" name="Text Box 13"/>
          <p:cNvSpPr/>
          <p:nvPr/>
        </p:nvSpPr>
        <p:spPr>
          <a:xfrm>
            <a:off x="5076720" y="3573360"/>
            <a:ext cx="359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Arial Narrow"/>
              </a:rPr>
              <a:t>Несформированная целостность. Таким может быть рисунок ребенка</a:t>
            </a: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0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1" nodeType="after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8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0" nodeType="after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2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692000" y="0"/>
            <a:ext cx="7451640" cy="151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Arial Narrow"/>
              </a:rPr>
              <a:t>Внимание, виды и основные свойства внимания</a:t>
            </a:r>
            <a:br>
              <a:rPr sz="3600"/>
            </a:br>
            <a:endParaRPr b="1" lang="en-US" sz="3600" spc="-1" strike="noStrike">
              <a:solidFill>
                <a:srgbClr val="cc0000"/>
              </a:solidFill>
              <a:latin typeface="Arial Narrow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0" y="1557000"/>
            <a:ext cx="8964720" cy="4824360"/>
          </a:xfrm>
          <a:prstGeom prst="rect">
            <a:avLst/>
          </a:prstGeom>
          <a:solidFill>
            <a:srgbClr val="bcebe1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Arial Narrow"/>
              </a:rPr>
              <a:t>Внимание</a:t>
            </a:r>
            <a:r>
              <a:rPr b="0" lang="ru-RU" sz="3000" spc="-1" strike="noStrike">
                <a:solidFill>
                  <a:srgbClr val="000000"/>
                </a:solidFill>
                <a:latin typeface="Arial Narrow"/>
              </a:rPr>
              <a:t> – направленность и сосредоточенность человека на определенных объектах при одновременном отвлечении от других.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 Narrow"/>
              </a:rPr>
              <a:t>Классификация </a:t>
            </a:r>
            <a:r>
              <a:rPr b="0" lang="ru-RU" sz="3000" spc="-1" strike="noStrike">
                <a:solidFill>
                  <a:srgbClr val="0000ff"/>
                </a:solidFill>
                <a:latin typeface="Arial Narrow"/>
              </a:rPr>
              <a:t>видов</a:t>
            </a:r>
            <a:r>
              <a:rPr b="0" lang="ru-RU" sz="3000" spc="-1" strike="noStrike">
                <a:solidFill>
                  <a:srgbClr val="000000"/>
                </a:solidFill>
                <a:latin typeface="Arial Narrow"/>
              </a:rPr>
              <a:t> внимания (основание: актив-ность личности) (Н. Ф. Добрынин).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2" name="Text Box 9"/>
          <p:cNvSpPr/>
          <p:nvPr/>
        </p:nvSpPr>
        <p:spPr>
          <a:xfrm>
            <a:off x="9000" y="4797360"/>
            <a:ext cx="308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 Narrow"/>
              </a:rPr>
              <a:t>НЕПРОИЗВОЛЬНОЕ</a:t>
            </a: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3" name="Text Box 12"/>
          <p:cNvSpPr/>
          <p:nvPr/>
        </p:nvSpPr>
        <p:spPr>
          <a:xfrm>
            <a:off x="2995200" y="4076640"/>
            <a:ext cx="268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Arial Narrow"/>
              </a:rPr>
              <a:t>ПРОИЗВОЛЬНОЕ</a:t>
            </a: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304" name="Group 18"/>
          <p:cNvGrpSpPr/>
          <p:nvPr/>
        </p:nvGrpSpPr>
        <p:grpSpPr>
          <a:xfrm>
            <a:off x="539640" y="3933360"/>
            <a:ext cx="8604360" cy="2089440"/>
            <a:chOff x="539640" y="3933360"/>
            <a:chExt cx="8604360" cy="2089440"/>
          </a:xfrm>
        </p:grpSpPr>
        <p:sp>
          <p:nvSpPr>
            <p:cNvPr id="305" name="Line 7"/>
            <p:cNvSpPr/>
            <p:nvPr/>
          </p:nvSpPr>
          <p:spPr>
            <a:xfrm flipV="1">
              <a:off x="539640" y="5230800"/>
              <a:ext cx="0" cy="79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06" name="Line 8"/>
            <p:cNvSpPr/>
            <p:nvPr/>
          </p:nvSpPr>
          <p:spPr>
            <a:xfrm>
              <a:off x="539640" y="5230800"/>
              <a:ext cx="2592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07" name="Line 10"/>
            <p:cNvSpPr/>
            <p:nvPr/>
          </p:nvSpPr>
          <p:spPr>
            <a:xfrm flipV="1">
              <a:off x="3132000" y="4510080"/>
              <a:ext cx="0" cy="7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08" name="Line 11"/>
            <p:cNvSpPr/>
            <p:nvPr/>
          </p:nvSpPr>
          <p:spPr>
            <a:xfrm>
              <a:off x="3132000" y="4510080"/>
              <a:ext cx="2519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09" name="Line 14"/>
            <p:cNvSpPr/>
            <p:nvPr/>
          </p:nvSpPr>
          <p:spPr>
            <a:xfrm flipV="1">
              <a:off x="5580000" y="3933360"/>
              <a:ext cx="0" cy="57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10" name="Line 15"/>
            <p:cNvSpPr/>
            <p:nvPr/>
          </p:nvSpPr>
          <p:spPr>
            <a:xfrm>
              <a:off x="5580000" y="3933720"/>
              <a:ext cx="356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sp>
        <p:nvSpPr>
          <p:cNvPr id="311" name="Text Box 16"/>
          <p:cNvSpPr/>
          <p:nvPr/>
        </p:nvSpPr>
        <p:spPr>
          <a:xfrm>
            <a:off x="5421960" y="3500280"/>
            <a:ext cx="371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rial Narrow"/>
              </a:rPr>
              <a:t>ПОСЛЕПРОИЗВОЛЬНОЕ</a:t>
            </a: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2" name="Text Box 17"/>
          <p:cNvSpPr/>
          <p:nvPr/>
        </p:nvSpPr>
        <p:spPr>
          <a:xfrm>
            <a:off x="592200" y="5680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3" name="Rectangle 22"/>
          <p:cNvSpPr/>
          <p:nvPr/>
        </p:nvSpPr>
        <p:spPr>
          <a:xfrm>
            <a:off x="611280" y="5229360"/>
            <a:ext cx="7272360" cy="1152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внимание человека непосредственно привлекается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либо сильным, либо новым, либо интересным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раздражителем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4" name="Rectangle 24"/>
          <p:cNvSpPr/>
          <p:nvPr/>
        </p:nvSpPr>
        <p:spPr>
          <a:xfrm>
            <a:off x="1547640" y="4508640"/>
            <a:ext cx="7272360" cy="18000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свойственно только человеку, относится к высшим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психическим функциям. Процесс формирования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произвольного внимания описал Л. С. Выготский: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указательный </a:t>
            </a:r>
            <a:r>
              <a:rPr b="1" lang="ru-RU" sz="2800" spc="-1" strike="noStrike">
                <a:solidFill>
                  <a:srgbClr val="ff0000"/>
                </a:solidFill>
                <a:latin typeface="Arial Narrow"/>
              </a:rPr>
              <a:t>жест + слово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Arial Narrow"/>
              </a:rPr>
              <a:t>=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 выделение предмета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из остальных, фиксация</a:t>
            </a: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5" name="Rectangle 26"/>
          <p:cNvSpPr/>
          <p:nvPr/>
        </p:nvSpPr>
        <p:spPr>
          <a:xfrm>
            <a:off x="1116000" y="3933720"/>
            <a:ext cx="7812000" cy="18734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свойственно только человеку; возникает на основе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устойчивого произвольного внимания и интереса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к объекту, после чего внимание становится похожим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на непроизвольное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0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after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1000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21" nodeType="afterEffect" fill="hold" presetClass="entr" presetID="22" presetSubtype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3" dur="1000"/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3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2000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2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2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7" dur="2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2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8" dur="2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61" dur="1" fill="hold"/>
                                  <p:tgtEl>
                                    <p:spTgt spid="31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/>
          </p:nvPr>
        </p:nvSpPr>
        <p:spPr>
          <a:xfrm>
            <a:off x="0" y="404280"/>
            <a:ext cx="9144000" cy="5977080"/>
          </a:xfrm>
          <a:prstGeom prst="rect">
            <a:avLst/>
          </a:prstGeom>
          <a:solidFill>
            <a:srgbClr val="bcebe1"/>
          </a:solidFill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3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ff"/>
                </a:solidFill>
                <a:latin typeface="Arial Narrow"/>
              </a:rPr>
              <a:t>	</a:t>
            </a:r>
            <a:r>
              <a:rPr b="0" lang="ru-RU" sz="3000" spc="-1" strike="noStrike">
                <a:solidFill>
                  <a:srgbClr val="0000ff"/>
                </a:solidFill>
                <a:latin typeface="Arial Narrow"/>
              </a:rPr>
              <a:t>Осмысленность</a:t>
            </a:r>
            <a:r>
              <a:rPr b="0" lang="ru-RU" sz="3000" spc="-1" strike="noStrike">
                <a:solidFill>
                  <a:srgbClr val="000000"/>
                </a:solidFill>
                <a:latin typeface="Arial Narrow"/>
              </a:rPr>
              <a:t> – понимание вещи одно-</a:t>
            </a:r>
            <a:r>
              <a:rPr b="0" lang="ru-RU" sz="3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 Narrow"/>
              </a:rPr>
              <a:t>временно с ее восприятием, восприятие происходит в контексте смысла. Здесь отражается связь восприятия с мышлением.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0"/>
                <a:tab algn="l" pos="233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ff"/>
                </a:solidFill>
                <a:latin typeface="Arial Narrow"/>
              </a:rPr>
              <a:t>Константность</a:t>
            </a:r>
            <a:r>
              <a:rPr b="0" lang="ru-RU" sz="3000" spc="-1" strike="noStrike">
                <a:solidFill>
                  <a:srgbClr val="000000"/>
                </a:solidFill>
                <a:latin typeface="Arial Narrow"/>
              </a:rPr>
              <a:t> – относительное постоянство формы, ве-личины и цвета предмета, независимо от изменений усло-вий восприятия. 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3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ff"/>
                </a:solidFill>
                <a:latin typeface="Arial Narrow"/>
              </a:rPr>
              <a:t>Избирательность</a:t>
            </a:r>
            <a:r>
              <a:rPr b="0" lang="ru-RU" sz="3000" spc="-1" strike="noStrike">
                <a:solidFill>
                  <a:srgbClr val="000000"/>
                </a:solidFill>
                <a:latin typeface="Arial Narrow"/>
              </a:rPr>
              <a:t> – преимущественное вычленение одних объектов по сравнению с другими, обусловленное особенностями субъекта восприятия (опытом, интересами, потребностями).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0"/>
                <a:tab algn="l" pos="233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ff"/>
                </a:solidFill>
                <a:latin typeface="Arial Narrow"/>
              </a:rPr>
              <a:t>Структурность</a:t>
            </a:r>
            <a:r>
              <a:rPr b="0" lang="ru-RU" sz="3000" spc="-1" strike="noStrike">
                <a:solidFill>
                  <a:srgbClr val="000000"/>
                </a:solidFill>
                <a:latin typeface="Arial Narrow"/>
              </a:rPr>
              <a:t> – свойство, позволяющее воспринимать предметы в совокупности их устойчивых связей и отноше-ний.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3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36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nodeType="clickEffect" fill="hold">
                      <p:stCondLst>
                        <p:cond delay="0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8" dur="2000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3" dur="2000"/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8" dur="2000"/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3" dur="2000"/>
                                        <p:tgtEl>
                                          <p:spTgt spid="3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6T11:36:44Z</dcterms:created>
  <dc:creator>Лидия</dc:creator>
  <dc:description/>
  <dc:language>en-US</dc:language>
  <cp:lastModifiedBy>LEGION</cp:lastModifiedBy>
  <dcterms:modified xsi:type="dcterms:W3CDTF">2014-11-12T07:31:13Z</dcterms:modified>
  <cp:revision>87</cp:revision>
  <dc:subject/>
  <dc:title>Слайд 1</dc:title>
</cp:coreProperties>
</file>