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Narrow"/>
              </a:rPr>
              <a:t>Click to move the slide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C293-1793-4E5A-9C60-8C55C546F1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НАВАТЕЛЬНЫЕ ПРОЦЕССЫ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Теплова Лидия Ивановна, доцент кафедры педагогики и психологии, ауд.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430-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б, 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e-mail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 teplova@psu.kareli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9203-D4AD-445C-80F9-A72A1EA95B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ачества вним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Объе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ния – число поступающих сигналов или протекающих ассоциаций, которые могут сохраниться в центре ясного сознания, приобретая доминирующий харак-тер. Объем внимания равен 7–9 единиц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Устойчив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длительность, с которой выделенные элементы могут сохранять свой доминантный характе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Концентрац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ния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сосредоточенность субъекта на объекте, сила поглощенности его этим объек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Распредел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нимания – возможность одновремен-ного выполнения нескольких видов действ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Переключаем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пособность намеренно переносить внимание с одного объекта на друг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E149-B970-4158-A286-AA774346C7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мять, виды памят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мерности памя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амя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запечатление (запись), сохранение и воспроизведение следов прошлого опы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иды памя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D5EE-DCC5-40AE-B7D1-58DB5E814E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мерности памя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редний объем механической кратковременной памяти – 5–7 элементов после первого чт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ъем памяти варьируется в зависимости от способа предъявления: люди с доминирующей слуховой памятью лучше запоминают материал озвученный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ачество запоминания зависит от того, какая была поставлена цель, установ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ри многократном предъявлении одного и того же материала число удерживаемых элементов постепенно возраст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Чем длиннее ряд, тем меньше число удерживаемых в памяти элементов. Так, ряд из 4–5 единиц запоминается на 100 %, а ряд из 9–10 единиц на 40 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При запоминании длинного ряда лучше всего по памяти воспроизводятся его начало и конец («эффект края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C630-51F4-47DB-8972-C229FA5203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При сохранении заученного материала может обнаружится явление ретроактивной интерференции. Оно является результатом взаимодействия таких переменных, как сходство между двумя заданиями и объем заучиваемого материала. Если активность субъекта между заучиванием и припоминанием низка, то мнемический материал сохраняется лучш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При высокой активности субъекта непроизвольное запоминание может быть более продуктивным, чем произвольное запоминание, если последнее осуществляется на базе менее активной интеллектуальной деятельности субъ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Явление реминисценции. Под ним понимают отсроченное воспроизведение мнемических ответов, которые раньше субъект не мог воспроизвести, при условии, что с момента заучивания субъект не занимался дополнительным упражнением в выполнении данного за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Эффект Зейгарник» – особенность непроизвольног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апоминания, которая заключается в том, что прерван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запоминается лучше, чем законченная или монотонная, т. к. прерванное намерение сохраняет состояние напряжения нервной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A530-D9DB-4F5A-892F-4F4AF0F2BA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Мышление, виды мышления. Развитие 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ышл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посредствованное и обобщенное отражение действительности в ее существенных связях и отношени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иды мыш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F0B8-5C3E-483F-A2D3-4F116FEE5F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0A06-9204-4F36-9F2B-06087C37BE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убин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степени проникновения в сущность явления, процес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умении выделять все существенные признаки понятия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еть связь пон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жается в умении увидеть новую проблему, поставить новый вопрос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ем решить задачи своими силами творческий характер мыш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ярко выражается в его самосто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бк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умении изменять намеченный план действий, если этот план н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летворяет условиям, которые обнаруживаются в ходе решения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ыстр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способности находить правильные, обоснованные решения и реализовывать их в условиях дефицит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вопро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щущение. Виды ощущ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осприятие, свойства восприя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нимание. Виды внимания, и его основные сво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амять, виды памяти. Закономерности памя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Мышление, виды мышления. Развитие мыш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Воображение, виды вообра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A324-A416-48BE-9210-520206BA37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Основные мыслительные процессы и 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Анализ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мыслительный процесс расчленения сложного объекта на составляющие его части или характерис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интез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мыслительная операция, позволяющая соединять части в цело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равн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установление сходства и различия между объек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лассифик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распределение предметов (понятий) на классы согласно наиболее существенным признакам, присущим одним предметам (понятиям) и отличающим их от других предметов (понятий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6D6F-C16A-4CDB-8350-311910F664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Основные мыслительные процессы и 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Умозаключ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форма мышления, при которой на основе нескольких суждений дается определенный вывод. Различают индуктивное, дедуктивное суждение и суждение по аналог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етр Петрович всегда пьет чай с Федор Федоровиче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едор Федорович пьет сейчас ча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ьет ли Петр Петрович сейчас чай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се металлы пропускают электрический то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Железо – метал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пускает ли оно ток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мпозитор: песня = архитектор: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бобщ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мысленное объединение предметов и явлений по их общим и существенным призна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DEB9-42F3-416A-BF7E-FD953CE155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ловесно-логическое мышл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р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арактеристик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нят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к логической категори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понятия; объем; связи и отношения данного понятия с другими.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lang="ru-RU" sz="1200" spc="-1" strike="noStrike">
                <a:solidFill>
                  <a:srgbClr val="d63eb9"/>
                </a:solidFill>
                <a:latin typeface="Arial"/>
              </a:rPr>
              <a:t>содержани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нимают совокупность существенных свойств класса предметов. По содержанию понятия бывают простые и сложн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63eb9"/>
                </a:solidFill>
                <a:latin typeface="Arial"/>
              </a:rPr>
              <a:t>Объ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нятия – это количество объектов, охватываемых данным понятием. Выделяют: единичные понятия (равные единице), общие (более 1), категории (понятия широкой степени общности, например: энергия, материя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63eb9"/>
                </a:solidFill>
                <a:latin typeface="Arial"/>
              </a:rPr>
              <a:t>Связи и отнош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нятия с другими: различают родовые (понятия, отражающие существенные общие признаки класса предметов и включающие другие понятия меньшей степени общности) и видовые (понятия, подчиненные родовы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30A5-3914-4539-A277-02500DD45D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6D56-DFD9-4EC6-9D9E-7EBC64E380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убин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степени проникновения в сущность явления, процес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умении выделять все существенные признаки понятия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еть связь пон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жается в умении увидеть новую проблему, поставить новый вопрос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ем решить задачи своими силами творческий характер мыш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ярко выражается в его самосто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бк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умении изменять намеченный план действий, если этот план н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летворяет условиям, которые обнаруживаются в ходе решения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ыстр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способности находить правильные, обоснованные решения и реализовывать их в условиях дефицит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деляют 4 уровня усвоения понятия (Н. А. Менчинска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-й уровен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диффузно-рассеянный. На этом уровне у субъекта существует представление о том, что обозначает понятие, но признаки, отличающие данное понятие от других, он назвать не мож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-й уровен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называются признаки, без дифференциации их на существенные и второстепен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-й уровен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усваиваются существенные признаки, называ-ются вторичные, но все это связано с единичным образом, который служил опорой при формировании понятия, например: картинка, иллюстрация. Таким образом, понятие как будто усвоено, но признаки не обобщают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-й уровен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нятие усвоено полно и точ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95FD-1287-4FEB-8F00-42B0157588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ображение, виды вооб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оображ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форма психического отражения, состоящая в создании образов на основе ранее сформированных представл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Ви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оображ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тепени субъектности: произвольное и непроизволь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тношению к возможному будущему: мечты, фантаз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тепени уникальности: репродуктивное, творческ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5C3E-B3D0-4137-989D-4613EFEFA7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Основные функции вооб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редставление действительности в образах и составление возможности пользоваться ими, решая за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Регулирование эмоциональны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Формирование внутреннего плана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ланирование и программирование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роизвольная регуляция познавательных процессов и состояний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03ED-001A-41C7-8C7E-0FAAFF985B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Формы синтеза представлений в процессах вооб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Агглютин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оединение несоединяемых в реальности качеств, свойств, частей предм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Гиперболиз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увеличение или уменьшение предмета, изменение качества его ча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Заостр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дчеркивание каких-либо призна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Схематиз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глаживание различий предметов и выявление черт сходства между н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Типиз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выделение существенного, повторяющегося в однородных явлениях и воплощение его в конкретном образ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21FE-70C3-4E32-889D-6CD2C0CE03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стоятельной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ъясните следующий факт: если человек впервые идет по незнакомой местности, самостоятельно разыскивая дорогу, то он без труда находит ее вторично; если же он идет вместе со спутником, которому дорога хорошо известна, человеку трудно будет самостоятельно проделать этот путь в следующий раз.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ерно ли выражение: «Восприятие – это сумма ощущений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Ученику предложили найти обобщающее слово к двум следующим понятиям: километр – метр. Чтобы выполнить верно задание, какое мыслительное действие должен произвести ученик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одумайте, чем отличается память животного от памяти челове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Ребенку подготовительной группы предложили решить задачу: «Мама съела 3 конфеты, а сын 2. Сколько они съели конфет?» Мальчик отказался решать задачу, мотивируя тем, что так не бывает. Объясните поведение реб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D63F-BE77-4644-A7D9-C65D02365D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Выготский Л. С. Психология воображения / Л. С. Выготский. – М., 199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ыготский Л. С. Развитие высших психических функций / Л. С. Выгот-ский. – М., 196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Грановская Р. М. Элементы практической психологии / Р. М. Грановская. – СПб., 19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Грегори Р. Л. Глаз и мозг. Психология зрительного восприятия /Р. Л. Грегори. – М., 197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Демидов В. Е. Как мы видим то, что видим / В. Е. Демидов. – М.,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Лурия А. Р. Маленькая книжка о большой памяти / А. Р. Лурия. – М., 196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Лурия А. Р. Ощущение и восприятие: материалы к курсу по общей психологии / А. Р. Лурия. – М., 197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AEC2-B3A2-4905-B1DE-46857F27A8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евые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щу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рия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едме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констан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целос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стойч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аспре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ере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м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еминисц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нтерфер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ш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мыслительные процессы и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93FB-0A33-41A3-A843-5F62B8981D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Лурия А. Р. Внимание. Память. Материалы к курсу по общей психологии / А. Р. Лурия. – М., 197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Петухов В. В. Психология мышления: учебно-методическое пособие / В. В. Петухов. – М.,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Платонов К. К. Занимательная психология / К. К. Платонов. – М., 196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Познавательные процессы и способности в обучении / под ред. В. Д. Шадрикова. – М., 199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 Психология ощущения и восприятия: хрестоматия: учебное пособие для вузов / под ред. Ю. Б. Гиппенрейтер, В. В. Любимова, М. Б. Михалевской. – М.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. Психология памяти: хрестоматия / под ред. Ю. Б. Гиппенрейтер, В. Я. Романова. – М.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F90F-36A0-4F1D-83AF-9850B42556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щущение. Виды ощущений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щущ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тражение отдельных свойств предм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Ви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модальности) ощущений: обоняние, вкус, осязание, слух,  зр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ческа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лассифик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щущ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8529-5CD5-4F9E-A6E1-DDDE9F365B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сприятие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ды и свойства воспри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осприят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целостное отражение предметов в сознании человека при их непосредственном воздействии в данный момент на органы чувств. В акте восприятия присутствует определенное обобщ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едущие свойства человеческого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Целост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бразы восприятия представляют собой целостные, законченные, предметно оформленные 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Предмет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воспринимается не только комплекс свойств, а оценивается этот комплекс как определенный предмет: «стол», «дом» и т. 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BD6E-5019-4029-9AA8-721AEF3F00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Осмыслен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нимание вещи одно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о с ее восприятием, восприятие происходит в контексте смысла. Здесь отражается связь восприятия с мышл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Констант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тносительное постоянство формы, ве-личины и цвета предмета, независимо от изменений усло-вий восприя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збира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реимущественное вычленение одних объектов по сравнению с другими, обусловленное особенностями субъекта восприятия (опытом, интересами, потребностям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Структур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войство, позволяющее воспринимать предметы в совокупности их устойчивых связей и отноше-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5C27-1EB6-4DF6-BA8D-80D731C0F3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EC66-F6D1-4781-8E37-A910B960B1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имание, виды и основные свойства внимания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ним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направленность и сосредоточенность человека на определенных объектах при одновременном отвлечении от друг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вид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нимания (основание: актив-ность личности) (Н. Ф. Добрыни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360C-58F4-4335-9F96-4E1154CF7D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Осмыслен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нимание вещи одно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о с ее восприятием, восприятие происходит в контексте смысла. Здесь отражается связь восприятия с мышл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Констант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тносительное постоянство формы, ве-личины и цвета предмета, независимо от изменений усло-вий восприя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збира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реимущественное вычленение одних объектов по сравнению с другими, обусловленное особенностями субъекта восприятия (опытом, интересами, потребностям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Структур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войство, позволяющее воспринимать предметы в совокупности их устойчивых связей и отноше-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B3CC-F710-4E91-B50E-4DD19782A4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EB7C-16F3-4319-9A25-DFF9BEB26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580C-4A61-4289-961B-DABDBE96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D284-1154-43FE-8ECA-3DA245D29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5056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5764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6472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ADA4-A0B0-4D8E-96B9-7393F8785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CDE6-97FF-45FE-9318-471121A0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2F26-4C8F-4E82-94CA-FF9EBE8C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DAB0-88E2-429A-BC4A-9BFE5C09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AEE1-F232-4787-AB00-7B447374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966C-B056-43A4-BADB-2154BCE0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A7FC-15DE-4875-97A7-D2376E46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6FC0-8B93-48EE-9D5D-C4923CE0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2E43-2A87-401C-A432-8E8CC4F0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4185-F87D-40CF-8BC4-F5F46711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3098-FA46-4B61-8944-9A5C7D1F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48B3-CC9F-43F6-BEEF-B675179C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3742-AE29-41B7-86CA-FBDD57FCF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5056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5764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26472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23F7-5665-4604-B84D-D54F91E43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6CCDC-E5E3-4760-A69F-128FB831A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8B73A-F16E-4B16-9DAC-AA627373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6440B-FB7D-49B0-A457-495889F0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28898-D087-432F-A5FA-15692FD9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5094F-F525-4246-942A-A5A2623C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E552-65F9-4E32-9C0B-195FEB9F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3D9F6-D45C-4DD6-8075-6C222CDA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37E38-92D7-42DB-BEA6-A8E0E8FB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4DF60-4E45-46EC-82A9-C6FE74B1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E4F12-E5E2-45F1-AB8C-6AE6A5CD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B9CDE-68F4-45DC-BDE8-79E9AB71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47624-BD19-439A-AE36-D9714C5F3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5056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5764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26472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76CAC-FA16-4D3A-B169-7A9E3421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3A059-A91F-4A3C-85CC-7927089FB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4D55E-0895-4F7C-AA0E-1A791D57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3ACC4-8309-47DE-B127-383EF2C4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9E43-912C-4665-89EC-F7EFAA26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64830-4455-4CCD-AF0A-51FC45DC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053AA-9806-40DC-A5E6-65782C11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2AB0D-4D77-48A5-8395-F19BC71B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BF58F-885C-4CBD-B128-2708B1BD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DEE4F-CE4F-4A5F-870A-3B5AE2CE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C9D47-6FFD-40E4-8DD7-7954E77A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B2F00-22D7-428C-8A34-5E6DD459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4439A-2FEC-49D7-A987-ED13FDAE2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25056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5764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26472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B010C-6114-4FDE-9FC1-92D1F238B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D0847-AE9B-4576-97D6-D22A6AD34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C831-F3AA-4DDA-8789-D6F7E6C5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CF012-906D-4D03-B701-30C795C7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97714-7EA5-4C3B-9B2B-DCE608B4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20F42-DFB7-40DF-97D0-C9793561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49D49-9D76-48EC-9F9E-B1A33CD0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B3994-AAC7-4A35-AA46-0DC72DA2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3A5C7-3240-4021-B027-30FCBDC8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A0D0A-3E9C-4D1A-99E8-6193FBD1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9A523-C17B-4877-9027-E3A1FE88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D6182-658D-4CFF-8B4E-961E1CF8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7FC3F-2B2E-4597-81C2-633095B0E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F9C2-A78D-491E-9A85-0E8C11EC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25056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5764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26472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F9E03-52B6-4702-9236-CB704C86A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2589-DEF3-492E-9FEC-8BADCA12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3153-3C3B-4131-9F3D-3F08184F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8C71-092F-4921-AF63-9BE8E2C1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b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7139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0560" y="6453360"/>
            <a:ext cx="8893080" cy="404640"/>
          </a:xfrm>
          <a:prstGeom prst="rect">
            <a:avLst/>
          </a:prstGeom>
          <a:solidFill>
            <a:srgbClr val="f1ffd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93200" y="6453360"/>
            <a:ext cx="14508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339B-C0D5-4829-9139-91BA2438EC34}" type="slidenum"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24"/>
          <p:cNvGrpSpPr/>
          <p:nvPr/>
        </p:nvGrpSpPr>
        <p:grpSpPr>
          <a:xfrm>
            <a:off x="0" y="0"/>
            <a:ext cx="2050560" cy="1289160"/>
            <a:chOff x="0" y="0"/>
            <a:chExt cx="2050560" cy="1289160"/>
          </a:xfrm>
        </p:grpSpPr>
        <p:sp>
          <p:nvSpPr>
            <p:cNvPr id="6" name="AutoShape 17"/>
            <p:cNvSpPr/>
            <p:nvPr/>
          </p:nvSpPr>
          <p:spPr>
            <a:xfrm>
              <a:off x="512640" y="0"/>
              <a:ext cx="1132560" cy="1289160"/>
            </a:xfrm>
            <a:prstGeom prst="diamond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d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" name="AutoShape 19"/>
            <p:cNvSpPr/>
            <p:nvPr/>
          </p:nvSpPr>
          <p:spPr>
            <a:xfrm>
              <a:off x="990720" y="260280"/>
              <a:ext cx="1059840" cy="863640"/>
            </a:xfrm>
            <a:prstGeom prst="diamond">
              <a:avLst/>
            </a:prstGeom>
            <a:solidFill>
              <a:srgbClr val="ffff00">
                <a:alpha val="7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" name="AutoShape 20"/>
            <p:cNvSpPr/>
            <p:nvPr/>
          </p:nvSpPr>
          <p:spPr>
            <a:xfrm>
              <a:off x="0" y="260280"/>
              <a:ext cx="1059840" cy="863640"/>
            </a:xfrm>
            <a:prstGeom prst="diamond">
              <a:avLst/>
            </a:prstGeom>
            <a:solidFill>
              <a:srgbClr val="ff00ff">
                <a:alpha val="6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9" name="Rectangle 22"/>
          <p:cNvSpPr/>
          <p:nvPr/>
        </p:nvSpPr>
        <p:spPr>
          <a:xfrm>
            <a:off x="2050920" y="1197000"/>
            <a:ext cx="7093080" cy="142920"/>
          </a:xfrm>
          <a:prstGeom prst="rect">
            <a:avLst/>
          </a:prstGeom>
          <a:gradFill rotWithShape="0">
            <a:gsLst>
              <a:gs pos="0">
                <a:srgbClr val="ff33cc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Rectangle 23"/>
          <p:cNvSpPr/>
          <p:nvPr/>
        </p:nvSpPr>
        <p:spPr>
          <a:xfrm>
            <a:off x="0" y="3284640"/>
            <a:ext cx="250920" cy="35733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b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0" y="6165720"/>
            <a:ext cx="914400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0" y="6443280"/>
            <a:ext cx="9144000" cy="414360"/>
          </a:xfrm>
          <a:prstGeom prst="rect">
            <a:avLst/>
          </a:prstGeom>
          <a:solidFill>
            <a:srgbClr val="f1ffd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00720" y="6453000"/>
            <a:ext cx="1042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4557-2BD5-45E4-A238-7787F0F9D390}" type="slidenum"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7"/>
          <p:cNvGrpSpPr/>
          <p:nvPr/>
        </p:nvGrpSpPr>
        <p:grpSpPr>
          <a:xfrm>
            <a:off x="0" y="0"/>
            <a:ext cx="2050560" cy="1289160"/>
            <a:chOff x="0" y="0"/>
            <a:chExt cx="2050560" cy="1289160"/>
          </a:xfrm>
        </p:grpSpPr>
        <p:sp>
          <p:nvSpPr>
            <p:cNvPr id="53" name="AutoShape 8"/>
            <p:cNvSpPr/>
            <p:nvPr/>
          </p:nvSpPr>
          <p:spPr>
            <a:xfrm>
              <a:off x="512640" y="0"/>
              <a:ext cx="1132560" cy="1289160"/>
            </a:xfrm>
            <a:prstGeom prst="diamond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d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4" name="AutoShape 9"/>
            <p:cNvSpPr/>
            <p:nvPr/>
          </p:nvSpPr>
          <p:spPr>
            <a:xfrm>
              <a:off x="990720" y="260280"/>
              <a:ext cx="1059840" cy="863640"/>
            </a:xfrm>
            <a:prstGeom prst="diamond">
              <a:avLst/>
            </a:prstGeom>
            <a:solidFill>
              <a:srgbClr val="ffff00">
                <a:alpha val="7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" name="AutoShape 10"/>
            <p:cNvSpPr/>
            <p:nvPr/>
          </p:nvSpPr>
          <p:spPr>
            <a:xfrm>
              <a:off x="0" y="260280"/>
              <a:ext cx="1059840" cy="863640"/>
            </a:xfrm>
            <a:prstGeom prst="diamond">
              <a:avLst/>
            </a:prstGeom>
            <a:solidFill>
              <a:srgbClr val="ff00ff">
                <a:alpha val="6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b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141300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250560" y="1052640"/>
            <a:ext cx="8893080" cy="524664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7139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50560" y="6308640"/>
            <a:ext cx="8893080" cy="549360"/>
          </a:xfrm>
          <a:prstGeom prst="rect">
            <a:avLst/>
          </a:prstGeom>
          <a:solidFill>
            <a:srgbClr val="b1e1d6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693200" y="6373440"/>
            <a:ext cx="1450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CB35-3206-4343-9677-8ACDA43918F6}" type="slidenum"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0" y="3284640"/>
            <a:ext cx="250920" cy="35733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98" name="Group 7"/>
          <p:cNvGrpSpPr/>
          <p:nvPr/>
        </p:nvGrpSpPr>
        <p:grpSpPr>
          <a:xfrm>
            <a:off x="0" y="0"/>
            <a:ext cx="2050560" cy="1289160"/>
            <a:chOff x="0" y="0"/>
            <a:chExt cx="2050560" cy="1289160"/>
          </a:xfrm>
        </p:grpSpPr>
        <p:sp>
          <p:nvSpPr>
            <p:cNvPr id="99" name="AutoShape 8"/>
            <p:cNvSpPr/>
            <p:nvPr/>
          </p:nvSpPr>
          <p:spPr>
            <a:xfrm>
              <a:off x="512640" y="0"/>
              <a:ext cx="1132560" cy="1289160"/>
            </a:xfrm>
            <a:prstGeom prst="diamond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d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0" name="AutoShape 9"/>
            <p:cNvSpPr/>
            <p:nvPr/>
          </p:nvSpPr>
          <p:spPr>
            <a:xfrm>
              <a:off x="990720" y="260280"/>
              <a:ext cx="1059840" cy="863640"/>
            </a:xfrm>
            <a:prstGeom prst="diamond">
              <a:avLst/>
            </a:prstGeom>
            <a:gradFill rotWithShape="0">
              <a:gsLst>
                <a:gs pos="0">
                  <a:srgbClr val="ffff00">
                    <a:alpha val="50196"/>
                  </a:srgbClr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1" name="AutoShape 10"/>
            <p:cNvSpPr/>
            <p:nvPr/>
          </p:nvSpPr>
          <p:spPr>
            <a:xfrm>
              <a:off x="0" y="260280"/>
              <a:ext cx="1059840" cy="863640"/>
            </a:xfrm>
            <a:prstGeom prst="diamond">
              <a:avLst/>
            </a:prstGeom>
            <a:gradFill rotWithShape="0">
              <a:gsLst>
                <a:gs pos="0">
                  <a:srgbClr val="ff66ff">
                    <a:alpha val="39215"/>
                  </a:srgbClr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2598-39A2-414C-9CF9-9C8BC0FE64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b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13"/>
          <p:cNvGrpSpPr/>
          <p:nvPr/>
        </p:nvGrpSpPr>
        <p:grpSpPr>
          <a:xfrm>
            <a:off x="0" y="0"/>
            <a:ext cx="2484360" cy="1773360"/>
            <a:chOff x="0" y="0"/>
            <a:chExt cx="2484360" cy="1773360"/>
          </a:xfrm>
        </p:grpSpPr>
        <p:sp>
          <p:nvSpPr>
            <p:cNvPr id="180" name="AutoShape 7"/>
            <p:cNvSpPr/>
            <p:nvPr/>
          </p:nvSpPr>
          <p:spPr>
            <a:xfrm>
              <a:off x="620640" y="0"/>
              <a:ext cx="1370160" cy="1773360"/>
            </a:xfrm>
            <a:prstGeom prst="diamond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d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1" name="AutoShape 8"/>
            <p:cNvSpPr/>
            <p:nvPr/>
          </p:nvSpPr>
          <p:spPr>
            <a:xfrm>
              <a:off x="1200240" y="358920"/>
              <a:ext cx="1284120" cy="1187280"/>
            </a:xfrm>
            <a:prstGeom prst="diamond">
              <a:avLst/>
            </a:prstGeom>
            <a:solidFill>
              <a:srgbClr val="ffff00">
                <a:alpha val="7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2" name="AutoShape 9"/>
            <p:cNvSpPr/>
            <p:nvPr/>
          </p:nvSpPr>
          <p:spPr>
            <a:xfrm>
              <a:off x="0" y="358920"/>
              <a:ext cx="1284120" cy="1187280"/>
            </a:xfrm>
            <a:prstGeom prst="diamond">
              <a:avLst/>
            </a:prstGeom>
            <a:solidFill>
              <a:srgbClr val="ff00ff">
                <a:alpha val="6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83" name="Group 360"/>
          <p:cNvGrpSpPr/>
          <p:nvPr/>
        </p:nvGrpSpPr>
        <p:grpSpPr>
          <a:xfrm>
            <a:off x="539640" y="2565360"/>
            <a:ext cx="7812000" cy="2158560"/>
            <a:chOff x="539640" y="2565360"/>
            <a:chExt cx="7812000" cy="2158560"/>
          </a:xfrm>
        </p:grpSpPr>
        <p:sp>
          <p:nvSpPr>
            <p:cNvPr id="184" name="AutoShape 10"/>
            <p:cNvSpPr/>
            <p:nvPr/>
          </p:nvSpPr>
          <p:spPr>
            <a:xfrm>
              <a:off x="539640" y="2565360"/>
              <a:ext cx="7812000" cy="2158560"/>
            </a:xfrm>
            <a:prstGeom prst="roundRect">
              <a:avLst>
                <a:gd name="adj" fmla="val 38352"/>
              </a:avLst>
            </a:prstGeom>
            <a:gradFill rotWithShape="0">
              <a:gsLst>
                <a:gs pos="0">
                  <a:srgbClr val="33cccc">
                    <a:alpha val="78039"/>
                  </a:srgbClr>
                </a:gs>
                <a:gs pos="100000">
                  <a:srgbClr val="ffff66">
                    <a:alpha val="54117"/>
                  </a:srgbClr>
                </a:gs>
              </a:gsLst>
              <a:lin ang="27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5" name="Oval 54"/>
            <p:cNvSpPr/>
            <p:nvPr/>
          </p:nvSpPr>
          <p:spPr>
            <a:xfrm>
              <a:off x="1582560" y="3644640"/>
              <a:ext cx="287280" cy="231120"/>
            </a:xfrm>
            <a:prstGeom prst="ellipse">
              <a:avLst/>
            </a:prstGeom>
            <a:gradFill rotWithShape="0">
              <a:gsLst>
                <a:gs pos="0">
                  <a:srgbClr val="ff33cc">
                    <a:alpha val="50196"/>
                  </a:srgbClr>
                </a:gs>
                <a:gs pos="100000">
                  <a:srgbClr val="7618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6" name="Oval 190"/>
            <p:cNvSpPr/>
            <p:nvPr/>
          </p:nvSpPr>
          <p:spPr>
            <a:xfrm>
              <a:off x="2879640" y="3644640"/>
              <a:ext cx="287280" cy="231120"/>
            </a:xfrm>
            <a:prstGeom prst="ellipse">
              <a:avLst/>
            </a:prstGeom>
            <a:solidFill>
              <a:srgbClr val="ff33cc">
                <a:alpha val="5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7" name="Oval 191"/>
            <p:cNvSpPr/>
            <p:nvPr/>
          </p:nvSpPr>
          <p:spPr>
            <a:xfrm>
              <a:off x="4174920" y="3644640"/>
              <a:ext cx="287280" cy="231120"/>
            </a:xfrm>
            <a:prstGeom prst="ellipse">
              <a:avLst/>
            </a:prstGeom>
            <a:solidFill>
              <a:srgbClr val="ff33cc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8" name="Oval 192"/>
            <p:cNvSpPr/>
            <p:nvPr/>
          </p:nvSpPr>
          <p:spPr>
            <a:xfrm>
              <a:off x="5398920" y="3568320"/>
              <a:ext cx="287280" cy="229320"/>
            </a:xfrm>
            <a:prstGeom prst="ellipse">
              <a:avLst/>
            </a:prstGeom>
            <a:solidFill>
              <a:srgbClr val="ff33cc">
                <a:alpha val="6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9" name="Oval 193"/>
            <p:cNvSpPr/>
            <p:nvPr/>
          </p:nvSpPr>
          <p:spPr>
            <a:xfrm>
              <a:off x="6840360" y="3568320"/>
              <a:ext cx="287280" cy="229320"/>
            </a:xfrm>
            <a:prstGeom prst="ellipse">
              <a:avLst/>
            </a:prstGeom>
            <a:solidFill>
              <a:srgbClr val="ff33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90" name="Group 336"/>
            <p:cNvGrpSpPr/>
            <p:nvPr/>
          </p:nvGrpSpPr>
          <p:grpSpPr>
            <a:xfrm>
              <a:off x="539640" y="2719800"/>
              <a:ext cx="7692480" cy="796680"/>
              <a:chOff x="539640" y="2719800"/>
              <a:chExt cx="7692480" cy="796680"/>
            </a:xfrm>
          </p:grpSpPr>
          <p:sp>
            <p:nvSpPr>
              <p:cNvPr id="191" name="AutoShape 326"/>
              <p:cNvSpPr/>
              <p:nvPr/>
            </p:nvSpPr>
            <p:spPr>
              <a:xfrm>
                <a:off x="1294920" y="2719800"/>
                <a:ext cx="925200" cy="796680"/>
              </a:xfrm>
              <a:prstGeom prst="diamond">
                <a:avLst/>
              </a:prstGeom>
              <a:gradFill rotWithShape="0">
                <a:gsLst>
                  <a:gs pos="0">
                    <a:srgbClr val="33cc33"/>
                  </a:gs>
                  <a:gs pos="100000">
                    <a:srgbClr val="185e1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2" name="AutoShape 327"/>
              <p:cNvSpPr/>
              <p:nvPr/>
            </p:nvSpPr>
            <p:spPr>
              <a:xfrm>
                <a:off x="208692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3300">
                      <a:alpha val="63137"/>
                    </a:srgbClr>
                  </a:gs>
                  <a:gs pos="100000">
                    <a:srgbClr val="0066ff">
                      <a:alpha val="60392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3" name="AutoShape 328"/>
              <p:cNvSpPr/>
              <p:nvPr/>
            </p:nvSpPr>
            <p:spPr>
              <a:xfrm>
                <a:off x="280764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0000">
                      <a:alpha val="53333"/>
                    </a:srgbClr>
                  </a:gs>
                  <a:gs pos="100000">
                    <a:srgbClr val="cc3300">
                      <a:alpha val="53333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4" name="AutoShape 329"/>
              <p:cNvSpPr/>
              <p:nvPr/>
            </p:nvSpPr>
            <p:spPr>
              <a:xfrm>
                <a:off x="3671280" y="2719800"/>
                <a:ext cx="960120" cy="796680"/>
              </a:xfrm>
              <a:prstGeom prst="diamond">
                <a:avLst/>
              </a:prstGeom>
              <a:solidFill>
                <a:srgbClr val="ffff00">
                  <a:alpha val="7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5" name="AutoShape 330"/>
              <p:cNvSpPr/>
              <p:nvPr/>
            </p:nvSpPr>
            <p:spPr>
              <a:xfrm>
                <a:off x="453492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cc3300">
                      <a:alpha val="68235"/>
                    </a:srgbClr>
                  </a:gs>
                  <a:gs pos="100000">
                    <a:srgbClr val="ff3300">
                      <a:alpha val="69019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6" name="AutoShape 331"/>
              <p:cNvSpPr/>
              <p:nvPr/>
            </p:nvSpPr>
            <p:spPr>
              <a:xfrm>
                <a:off x="539640" y="2719800"/>
                <a:ext cx="888480" cy="769680"/>
              </a:xfrm>
              <a:prstGeom prst="diamond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7" name="AutoShape 332"/>
              <p:cNvSpPr/>
              <p:nvPr/>
            </p:nvSpPr>
            <p:spPr>
              <a:xfrm>
                <a:off x="525564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3300">
                      <a:alpha val="69019"/>
                    </a:srgbClr>
                  </a:gs>
                  <a:gs pos="100000">
                    <a:srgbClr val="33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8" name="AutoShape 333"/>
              <p:cNvSpPr/>
              <p:nvPr/>
            </p:nvSpPr>
            <p:spPr>
              <a:xfrm>
                <a:off x="597492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ff66">
                      <a:alpha val="72156"/>
                    </a:srgbClr>
                  </a:gs>
                  <a:gs pos="100000">
                    <a:srgbClr val="0000ff">
                      <a:alpha val="74117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9" name="AutoShape 334"/>
              <p:cNvSpPr/>
              <p:nvPr/>
            </p:nvSpPr>
            <p:spPr>
              <a:xfrm>
                <a:off x="6624000" y="2719800"/>
                <a:ext cx="960120" cy="796680"/>
              </a:xfrm>
              <a:prstGeom prst="diamond">
                <a:avLst/>
              </a:prstGeom>
              <a:solidFill>
                <a:srgbClr val="33cc33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0" name="AutoShape 335"/>
              <p:cNvSpPr/>
              <p:nvPr/>
            </p:nvSpPr>
            <p:spPr>
              <a:xfrm>
                <a:off x="727200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ff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201" name="Group 337"/>
            <p:cNvGrpSpPr/>
            <p:nvPr/>
          </p:nvGrpSpPr>
          <p:grpSpPr>
            <a:xfrm>
              <a:off x="539640" y="3877560"/>
              <a:ext cx="7692480" cy="796680"/>
              <a:chOff x="539640" y="3877560"/>
              <a:chExt cx="7692480" cy="796680"/>
            </a:xfrm>
          </p:grpSpPr>
          <p:sp>
            <p:nvSpPr>
              <p:cNvPr id="202" name="AutoShape 338"/>
              <p:cNvSpPr/>
              <p:nvPr/>
            </p:nvSpPr>
            <p:spPr>
              <a:xfrm>
                <a:off x="1294920" y="3877560"/>
                <a:ext cx="92520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3" name="AutoShape 339"/>
              <p:cNvSpPr/>
              <p:nvPr/>
            </p:nvSpPr>
            <p:spPr>
              <a:xfrm>
                <a:off x="208692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4" name="AutoShape 340"/>
              <p:cNvSpPr/>
              <p:nvPr/>
            </p:nvSpPr>
            <p:spPr>
              <a:xfrm>
                <a:off x="280764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5" name="AutoShape 341"/>
              <p:cNvSpPr/>
              <p:nvPr/>
            </p:nvSpPr>
            <p:spPr>
              <a:xfrm>
                <a:off x="367128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6" name="AutoShape 342"/>
              <p:cNvSpPr/>
              <p:nvPr/>
            </p:nvSpPr>
            <p:spPr>
              <a:xfrm>
                <a:off x="453492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7" name="AutoShape 343"/>
              <p:cNvSpPr/>
              <p:nvPr/>
            </p:nvSpPr>
            <p:spPr>
              <a:xfrm>
                <a:off x="539640" y="3877560"/>
                <a:ext cx="888480" cy="769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8" name="AutoShape 344"/>
              <p:cNvSpPr/>
              <p:nvPr/>
            </p:nvSpPr>
            <p:spPr>
              <a:xfrm>
                <a:off x="525564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9" name="AutoShape 345"/>
              <p:cNvSpPr/>
              <p:nvPr/>
            </p:nvSpPr>
            <p:spPr>
              <a:xfrm>
                <a:off x="597492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0" name="AutoShape 346"/>
              <p:cNvSpPr/>
              <p:nvPr/>
            </p:nvSpPr>
            <p:spPr>
              <a:xfrm>
                <a:off x="662400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1" name="AutoShape 347"/>
              <p:cNvSpPr/>
              <p:nvPr/>
            </p:nvSpPr>
            <p:spPr>
              <a:xfrm>
                <a:off x="727200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212" name="AutoShape 349"/>
            <p:cNvSpPr/>
            <p:nvPr/>
          </p:nvSpPr>
          <p:spPr>
            <a:xfrm>
              <a:off x="1295280" y="3260520"/>
              <a:ext cx="92556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3" name="AutoShape 350"/>
            <p:cNvSpPr/>
            <p:nvPr/>
          </p:nvSpPr>
          <p:spPr>
            <a:xfrm>
              <a:off x="208728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4" name="AutoShape 351"/>
            <p:cNvSpPr/>
            <p:nvPr/>
          </p:nvSpPr>
          <p:spPr>
            <a:xfrm>
              <a:off x="280800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5" name="AutoShape 352"/>
            <p:cNvSpPr/>
            <p:nvPr/>
          </p:nvSpPr>
          <p:spPr>
            <a:xfrm>
              <a:off x="367164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6" name="AutoShape 353"/>
            <p:cNvSpPr/>
            <p:nvPr/>
          </p:nvSpPr>
          <p:spPr>
            <a:xfrm>
              <a:off x="453528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7" name="AutoShape 354"/>
            <p:cNvSpPr/>
            <p:nvPr/>
          </p:nvSpPr>
          <p:spPr>
            <a:xfrm>
              <a:off x="539640" y="3260520"/>
              <a:ext cx="888840" cy="76968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8" name="AutoShape 355"/>
            <p:cNvSpPr/>
            <p:nvPr/>
          </p:nvSpPr>
          <p:spPr>
            <a:xfrm>
              <a:off x="525600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9" name="AutoShape 356"/>
            <p:cNvSpPr/>
            <p:nvPr/>
          </p:nvSpPr>
          <p:spPr>
            <a:xfrm>
              <a:off x="597528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0" name="AutoShape 357"/>
            <p:cNvSpPr/>
            <p:nvPr/>
          </p:nvSpPr>
          <p:spPr>
            <a:xfrm>
              <a:off x="662436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1" name="AutoShape 358"/>
            <p:cNvSpPr/>
            <p:nvPr/>
          </p:nvSpPr>
          <p:spPr>
            <a:xfrm>
              <a:off x="727200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0" y="6308280"/>
            <a:ext cx="914400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solidFill>
            <a:srgbClr val="b1e1d6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12A3-666C-4AC2-9127-8F99B7964C62}" type="slidenum"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55640" y="1039320"/>
            <a:ext cx="7772400" cy="1878120"/>
          </a:xfrm>
          <a:prstGeom prst="rect">
            <a:avLst/>
          </a:prstGeom>
          <a:solidFill>
            <a:srgbClr val="d2fffb">
              <a:alpha val="33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ПОЗНАВАТЕЛЬНЫЕ ПРОЦЕССЫ ЧЕЛОВЕКА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403280" y="4739760"/>
            <a:ext cx="6400800" cy="173196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Теплова Лидия Ивановна, доцент кафедры педагогики и психологии, ауд.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430-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б,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-mail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teplova@psu.karelia.ru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Качества вниман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Объем 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внимания – число поступающих сигналов или протекающих ассоциаций, которые могут сохраниться в центре ясного сознания, приобретая доминирующий харак-тер. Объем внимания равен 7–9 единицам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Устойчив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длительность, с которой выделенные элементы могут сохранять свой доминантный характер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Концентрация 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внимания</a:t>
            </a: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– сосредоточенность субъекта на объекте, сила поглощенности его этим объектом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Распределение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внимания – возможность одновремен-ного выполнения нескольких видов действий. 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Переключаем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способность намеренно переносить внимание с одного объекта на другой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10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10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1000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000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7407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Память, виды памяти.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Закономерности памяти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 Narrow"/>
              </a:rPr>
              <a:t>Память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запечатление (запись), сохранение и воспроизведение следов прошлого опыта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 Narrow"/>
              </a:rPr>
              <a:t>Виды памяти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395280" y="3068640"/>
            <a:ext cx="8497800" cy="863640"/>
          </a:xfrm>
          <a:prstGeom prst="rect">
            <a:avLst/>
          </a:prstGeom>
          <a:gradFill rotWithShape="0">
            <a:gsLst>
              <a:gs pos="0">
                <a:srgbClr val="3366ff">
                  <a:alpha val="63137"/>
                </a:srgbClr>
              </a:gs>
              <a:gs pos="100000">
                <a:srgbClr val="ff33cc">
                  <a:alpha val="6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характеру психической активности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еобладающей в деятельности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1" name="Line 6"/>
          <p:cNvSpPr/>
          <p:nvPr/>
        </p:nvSpPr>
        <p:spPr>
          <a:xfrm flipH="1">
            <a:off x="611280" y="3933720"/>
            <a:ext cx="287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2" name="Line 7"/>
          <p:cNvSpPr/>
          <p:nvPr/>
        </p:nvSpPr>
        <p:spPr>
          <a:xfrm>
            <a:off x="3059280" y="3933720"/>
            <a:ext cx="7272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Line 9"/>
          <p:cNvSpPr/>
          <p:nvPr/>
        </p:nvSpPr>
        <p:spPr>
          <a:xfrm>
            <a:off x="7380360" y="393372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Rectangle 10"/>
          <p:cNvSpPr/>
          <p:nvPr/>
        </p:nvSpPr>
        <p:spPr>
          <a:xfrm>
            <a:off x="324000" y="4508640"/>
            <a:ext cx="2376360" cy="5029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двигательн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2843280" y="4508640"/>
            <a:ext cx="2303280" cy="5029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эмоциональн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3564000" y="5589720"/>
            <a:ext cx="2232000" cy="5047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бразн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7" name="Rectangle 16"/>
          <p:cNvSpPr/>
          <p:nvPr/>
        </p:nvSpPr>
        <p:spPr>
          <a:xfrm>
            <a:off x="5724360" y="4508640"/>
            <a:ext cx="3132360" cy="5029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ловесно-логическ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Line 18"/>
          <p:cNvSpPr/>
          <p:nvPr/>
        </p:nvSpPr>
        <p:spPr>
          <a:xfrm>
            <a:off x="5292720" y="393372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2627280" y="333360"/>
            <a:ext cx="5761080" cy="574560"/>
          </a:xfrm>
          <a:prstGeom prst="rect">
            <a:avLst/>
          </a:prstGeom>
          <a:gradFill rotWithShape="0">
            <a:gsLst>
              <a:gs pos="0">
                <a:srgbClr val="3366ff">
                  <a:alpha val="63137"/>
                </a:srgbClr>
              </a:gs>
              <a:gs pos="100000">
                <a:srgbClr val="ff33cc">
                  <a:alpha val="6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о характеру цели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Line 7"/>
          <p:cNvSpPr/>
          <p:nvPr/>
        </p:nvSpPr>
        <p:spPr>
          <a:xfrm flipH="1">
            <a:off x="2916360" y="981000"/>
            <a:ext cx="792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2" name="Line 8"/>
          <p:cNvSpPr/>
          <p:nvPr/>
        </p:nvSpPr>
        <p:spPr>
          <a:xfrm>
            <a:off x="6732720" y="90792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3" name="Rectangle 9"/>
          <p:cNvSpPr/>
          <p:nvPr/>
        </p:nvSpPr>
        <p:spPr>
          <a:xfrm>
            <a:off x="1187280" y="1413000"/>
            <a:ext cx="2592720" cy="503280"/>
          </a:xfrm>
          <a:prstGeom prst="rect">
            <a:avLst/>
          </a:prstGeom>
          <a:solidFill>
            <a:srgbClr val="e9f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непроизвольна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4" name="Rectangle 12"/>
          <p:cNvSpPr/>
          <p:nvPr/>
        </p:nvSpPr>
        <p:spPr>
          <a:xfrm>
            <a:off x="5757840" y="1486080"/>
            <a:ext cx="2590920" cy="5047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роизвольна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5" name="Rectangle 16"/>
          <p:cNvSpPr/>
          <p:nvPr/>
        </p:nvSpPr>
        <p:spPr>
          <a:xfrm>
            <a:off x="2625840" y="2421000"/>
            <a:ext cx="4680000" cy="576360"/>
          </a:xfrm>
          <a:prstGeom prst="rect">
            <a:avLst/>
          </a:prstGeom>
          <a:gradFill rotWithShape="0">
            <a:gsLst>
              <a:gs pos="0">
                <a:srgbClr val="ff33cc">
                  <a:alpha val="31372"/>
                </a:srgbClr>
              </a:gs>
              <a:gs pos="100000">
                <a:srgbClr val="3366ff">
                  <a:alpha val="3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о степени участия мышлени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6" name="Line 18"/>
          <p:cNvSpPr/>
          <p:nvPr/>
        </p:nvSpPr>
        <p:spPr>
          <a:xfrm flipH="1">
            <a:off x="2556000" y="2997360"/>
            <a:ext cx="287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7" name="Line 19"/>
          <p:cNvSpPr/>
          <p:nvPr/>
        </p:nvSpPr>
        <p:spPr>
          <a:xfrm>
            <a:off x="6948360" y="2997360"/>
            <a:ext cx="28764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8" name="Rectangle 20"/>
          <p:cNvSpPr/>
          <p:nvPr/>
        </p:nvSpPr>
        <p:spPr>
          <a:xfrm>
            <a:off x="1187280" y="3429000"/>
            <a:ext cx="2521080" cy="5047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Смыслова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9" name="Rectangle 22"/>
          <p:cNvSpPr/>
          <p:nvPr/>
        </p:nvSpPr>
        <p:spPr>
          <a:xfrm>
            <a:off x="5651640" y="3500280"/>
            <a:ext cx="2592360" cy="50508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Механическа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0" name="Rectangle 26"/>
          <p:cNvSpPr/>
          <p:nvPr/>
        </p:nvSpPr>
        <p:spPr>
          <a:xfrm>
            <a:off x="2556000" y="4292640"/>
            <a:ext cx="4859280" cy="431640"/>
          </a:xfrm>
          <a:prstGeom prst="rect">
            <a:avLst/>
          </a:prstGeom>
          <a:gradFill rotWithShape="0">
            <a:gsLst>
              <a:gs pos="0">
                <a:srgbClr val="ff33cc">
                  <a:alpha val="49019"/>
                </a:srgbClr>
              </a:gs>
              <a:gs pos="100000">
                <a:srgbClr val="3366ff">
                  <a:alpha val="49019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о времени сохранени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Line 30"/>
          <p:cNvSpPr/>
          <p:nvPr/>
        </p:nvSpPr>
        <p:spPr>
          <a:xfrm flipH="1">
            <a:off x="2268360" y="472428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2" name="Line 31"/>
          <p:cNvSpPr/>
          <p:nvPr/>
        </p:nvSpPr>
        <p:spPr>
          <a:xfrm>
            <a:off x="6372360" y="4724280"/>
            <a:ext cx="360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Rectangle 32"/>
          <p:cNvSpPr/>
          <p:nvPr/>
        </p:nvSpPr>
        <p:spPr>
          <a:xfrm>
            <a:off x="826920" y="5013360"/>
            <a:ext cx="2521080" cy="5047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ратковременн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4" name="Rectangle 33"/>
          <p:cNvSpPr/>
          <p:nvPr/>
        </p:nvSpPr>
        <p:spPr>
          <a:xfrm>
            <a:off x="5364000" y="5013360"/>
            <a:ext cx="2881440" cy="5047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долговременн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501120" y="1891800"/>
            <a:ext cx="818676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46" name="Group 3"/>
          <p:cNvGrpSpPr/>
          <p:nvPr/>
        </p:nvGrpSpPr>
        <p:grpSpPr>
          <a:xfrm>
            <a:off x="826920" y="333360"/>
            <a:ext cx="7561440" cy="5184720"/>
            <a:chOff x="826920" y="333360"/>
            <a:chExt cx="7561440" cy="5184720"/>
          </a:xfrm>
        </p:grpSpPr>
        <p:sp>
          <p:nvSpPr>
            <p:cNvPr id="347" name="Rectangle 4"/>
            <p:cNvSpPr/>
            <p:nvPr/>
          </p:nvSpPr>
          <p:spPr>
            <a:xfrm>
              <a:off x="2627280" y="333360"/>
              <a:ext cx="5761080" cy="574560"/>
            </a:xfrm>
            <a:prstGeom prst="rect">
              <a:avLst/>
            </a:prstGeom>
            <a:gradFill rotWithShape="0">
              <a:gsLst>
                <a:gs pos="0">
                  <a:srgbClr val="009900">
                    <a:alpha val="63137"/>
                  </a:srgbClr>
                </a:gs>
                <a:gs pos="100000">
                  <a:srgbClr val="ffcc00">
                    <a:alpha val="64313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Narrow"/>
                </a:rPr>
                <a:t>По характеру цели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8" name="Line 5"/>
            <p:cNvSpPr/>
            <p:nvPr/>
          </p:nvSpPr>
          <p:spPr>
            <a:xfrm flipH="1">
              <a:off x="2916360" y="981000"/>
              <a:ext cx="792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9" name="Line 6"/>
            <p:cNvSpPr/>
            <p:nvPr/>
          </p:nvSpPr>
          <p:spPr>
            <a:xfrm>
              <a:off x="6732720" y="907920"/>
              <a:ext cx="64764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0" name="Rectangle 7"/>
            <p:cNvSpPr/>
            <p:nvPr/>
          </p:nvSpPr>
          <p:spPr>
            <a:xfrm>
              <a:off x="1187280" y="1413000"/>
              <a:ext cx="2592720" cy="503280"/>
            </a:xfrm>
            <a:prstGeom prst="rect">
              <a:avLst/>
            </a:prstGeom>
            <a:solidFill>
              <a:srgbClr val="e9f6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непроизвольна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1" name="Rectangle 8"/>
            <p:cNvSpPr/>
            <p:nvPr/>
          </p:nvSpPr>
          <p:spPr>
            <a:xfrm>
              <a:off x="5757840" y="1486080"/>
              <a:ext cx="2590920" cy="504720"/>
            </a:xfrm>
            <a:prstGeom prst="rect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произвольна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2" name="Rectangle 9"/>
            <p:cNvSpPr/>
            <p:nvPr/>
          </p:nvSpPr>
          <p:spPr>
            <a:xfrm>
              <a:off x="2625840" y="2421000"/>
              <a:ext cx="4680000" cy="576360"/>
            </a:xfrm>
            <a:prstGeom prst="rect">
              <a:avLst/>
            </a:prstGeom>
            <a:gradFill rotWithShape="0">
              <a:gsLst>
                <a:gs pos="0">
                  <a:srgbClr val="009900">
                    <a:alpha val="64313"/>
                  </a:srgbClr>
                </a:gs>
                <a:gs pos="100000">
                  <a:srgbClr val="ffcc00">
                    <a:alpha val="6235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Narrow"/>
                </a:rPr>
                <a:t>По степени участия мышлени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3" name="Line 10"/>
            <p:cNvSpPr/>
            <p:nvPr/>
          </p:nvSpPr>
          <p:spPr>
            <a:xfrm flipH="1">
              <a:off x="2556000" y="2997360"/>
              <a:ext cx="28728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4" name="Line 11"/>
            <p:cNvSpPr/>
            <p:nvPr/>
          </p:nvSpPr>
          <p:spPr>
            <a:xfrm>
              <a:off x="6948360" y="2997360"/>
              <a:ext cx="28764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5" name="Rectangle 12"/>
            <p:cNvSpPr/>
            <p:nvPr/>
          </p:nvSpPr>
          <p:spPr>
            <a:xfrm>
              <a:off x="1187280" y="3429000"/>
              <a:ext cx="2521080" cy="504720"/>
            </a:xfrm>
            <a:prstGeom prst="rect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Смыслова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6" name="Rectangle 13"/>
            <p:cNvSpPr/>
            <p:nvPr/>
          </p:nvSpPr>
          <p:spPr>
            <a:xfrm>
              <a:off x="5651640" y="3500280"/>
              <a:ext cx="2592360" cy="505080"/>
            </a:xfrm>
            <a:prstGeom prst="rect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Механическа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7" name="Rectangle 14"/>
            <p:cNvSpPr/>
            <p:nvPr/>
          </p:nvSpPr>
          <p:spPr>
            <a:xfrm>
              <a:off x="2556000" y="4292640"/>
              <a:ext cx="4859280" cy="431640"/>
            </a:xfrm>
            <a:prstGeom prst="rect">
              <a:avLst/>
            </a:prstGeom>
            <a:gradFill rotWithShape="0">
              <a:gsLst>
                <a:gs pos="0">
                  <a:srgbClr val="009900">
                    <a:alpha val="63137"/>
                  </a:srgbClr>
                </a:gs>
                <a:gs pos="100000">
                  <a:srgbClr val="ffcc00">
                    <a:alpha val="64313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Narrow"/>
                </a:rPr>
                <a:t>По времени сохранени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8" name="Line 15"/>
            <p:cNvSpPr/>
            <p:nvPr/>
          </p:nvSpPr>
          <p:spPr>
            <a:xfrm flipH="1">
              <a:off x="2268360" y="4724280"/>
              <a:ext cx="50328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9" name="Line 16"/>
            <p:cNvSpPr/>
            <p:nvPr/>
          </p:nvSpPr>
          <p:spPr>
            <a:xfrm>
              <a:off x="6372360" y="4724280"/>
              <a:ext cx="360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0" name="Rectangle 17"/>
            <p:cNvSpPr/>
            <p:nvPr/>
          </p:nvSpPr>
          <p:spPr>
            <a:xfrm>
              <a:off x="826920" y="5013360"/>
              <a:ext cx="2521080" cy="504720"/>
            </a:xfrm>
            <a:prstGeom prst="rect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кратковременна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1" name="Rectangle 18"/>
            <p:cNvSpPr/>
            <p:nvPr/>
          </p:nvSpPr>
          <p:spPr>
            <a:xfrm>
              <a:off x="5364000" y="5013360"/>
              <a:ext cx="2881440" cy="504720"/>
            </a:xfrm>
            <a:prstGeom prst="rect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долговременна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Закономерности памяти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459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1. Средний объем механической кратковременной памяти – 5–7 элементов после первого чтения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2. Объем памяти варьируется в зависимости от способа предъявления: люди с доминирующей слуховой памятью лучше запоминают материал озвученный и т.д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3. Качество запоминания зависит от того, какая была поставлена цель, установка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4. При многократном предъявлении одного и того же материала число удерживаемых элементов постепенно возрастает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5. Чем длиннее ряд, тем меньше число удерживаемых в памяти элементов. Так, ряд из 4–5 единиц запоминается на 100 %, а ряд из 9–10 единиц на 40 %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6. При запоминании длинного ряда лучше всего по памяти воспроизводятся его начало и конец («эффект края»)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3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3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3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5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3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30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45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30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6868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7. При сохранении заученного материала может обнаружится явление ретроактивной интерференции. Оно является результатом взаимодействия таких переменных, как сходство между двумя заданиями и объем заучиваемого материала. Если активность субъекта между заучиванием и припоминанием низка, то мнемический материал сохраняется лучше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8. При высокой активности субъекта непроизвольное запоминание может быть более продуктивным, чем произвольное запоминание, если последнее осуществляется на базе менее активной интеллектуальной деятельности субъекта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9. Явление реминисценции. Под ним понимают отсроченное воспроизведение мнемических ответов, которые раньше субъект не мог воспроизвести, при условии, что с момента заучивания субъект не занимался дополнительным упражнением в выполнении данного задания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0. Эффект Зейгарник» – особенность непроизвольного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запоминания, которая заключается в том, что прерванная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деятельность запоминается лучше, чем законченная или монотонная, т. к. прерванное намерение сохраняет состояние напряжения нервной системы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2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2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2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6008760" cy="609264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3"/>
          <p:cNvSpPr/>
          <p:nvPr/>
        </p:nvSpPr>
        <p:spPr>
          <a:xfrm>
            <a:off x="6372360" y="1936800"/>
            <a:ext cx="2539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Рисунок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Э. Боринг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304680" y="3571920"/>
            <a:ext cx="276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Один и тот же элемент,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ключенный в разные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целостные структуры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оспринимается по-разному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 Narrow"/>
              </a:rPr>
              <a:t>Мышление, виды мышления. Развитие мышления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459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Мышление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опосредствованное и обобщенное отражение действительности в ее существенных связях и отношениях.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Виды мышлен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0" name="Oval 4"/>
          <p:cNvSpPr/>
          <p:nvPr/>
        </p:nvSpPr>
        <p:spPr>
          <a:xfrm>
            <a:off x="1042920" y="2852640"/>
            <a:ext cx="7345440" cy="7207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Arial Narrow"/>
              </a:rPr>
              <a:t>По развитию в онтогенез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2556000" y="5589720"/>
            <a:ext cx="460836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Наглядно-действен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2556000" y="4797360"/>
            <a:ext cx="460836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Наглядно-образ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2556000" y="3933720"/>
            <a:ext cx="4608360" cy="50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Словесно-логическ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4" name="AutoShape 8"/>
          <p:cNvSpPr/>
          <p:nvPr/>
        </p:nvSpPr>
        <p:spPr>
          <a:xfrm>
            <a:off x="1547640" y="3860640"/>
            <a:ext cx="486000" cy="2305080"/>
          </a:xfrm>
          <a:prstGeom prst="upArrow">
            <a:avLst>
              <a:gd name="adj1" fmla="val 50000"/>
              <a:gd name="adj2" fmla="val 118574"/>
            </a:avLst>
          </a:prstGeom>
          <a:solidFill>
            <a:srgbClr val="00990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5" name="Line 9"/>
          <p:cNvSpPr/>
          <p:nvPr/>
        </p:nvSpPr>
        <p:spPr>
          <a:xfrm>
            <a:off x="2843280" y="35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6" name="Line 10"/>
          <p:cNvSpPr/>
          <p:nvPr/>
        </p:nvSpPr>
        <p:spPr>
          <a:xfrm>
            <a:off x="6732720" y="35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0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03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9" name="Oval 4"/>
          <p:cNvSpPr/>
          <p:nvPr/>
        </p:nvSpPr>
        <p:spPr>
          <a:xfrm>
            <a:off x="1332000" y="333360"/>
            <a:ext cx="7056360" cy="719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о средствам действ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826920" y="1446120"/>
            <a:ext cx="288000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вербаль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4932360" y="1446120"/>
            <a:ext cx="287964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невербаль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2" name="Line 7"/>
          <p:cNvSpPr/>
          <p:nvPr/>
        </p:nvSpPr>
        <p:spPr>
          <a:xfrm>
            <a:off x="2340000" y="98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3" name="Line 8"/>
          <p:cNvSpPr/>
          <p:nvPr/>
        </p:nvSpPr>
        <p:spPr>
          <a:xfrm>
            <a:off x="6516720" y="10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4" name="Oval 9"/>
          <p:cNvSpPr/>
          <p:nvPr/>
        </p:nvSpPr>
        <p:spPr>
          <a:xfrm>
            <a:off x="1187280" y="2205000"/>
            <a:ext cx="6840720" cy="6476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о степени рефлексии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5" name="Rectangle 10"/>
          <p:cNvSpPr/>
          <p:nvPr/>
        </p:nvSpPr>
        <p:spPr>
          <a:xfrm>
            <a:off x="826920" y="3249720"/>
            <a:ext cx="288000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рефлексив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6" name="Rectangle 11"/>
          <p:cNvSpPr/>
          <p:nvPr/>
        </p:nvSpPr>
        <p:spPr>
          <a:xfrm>
            <a:off x="5329080" y="3249720"/>
            <a:ext cx="288144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интуитив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Line 12"/>
          <p:cNvSpPr/>
          <p:nvPr/>
        </p:nvSpPr>
        <p:spPr>
          <a:xfrm>
            <a:off x="2340000" y="2781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8" name="Line 13"/>
          <p:cNvSpPr/>
          <p:nvPr/>
        </p:nvSpPr>
        <p:spPr>
          <a:xfrm>
            <a:off x="6443640" y="2781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Oval 14"/>
          <p:cNvSpPr/>
          <p:nvPr/>
        </p:nvSpPr>
        <p:spPr>
          <a:xfrm>
            <a:off x="826920" y="3860640"/>
            <a:ext cx="7993080" cy="7923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о степени новизны получаемого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родукта по отношению к знаниям субъекта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Rectangle 15"/>
          <p:cNvSpPr/>
          <p:nvPr/>
        </p:nvSpPr>
        <p:spPr>
          <a:xfrm>
            <a:off x="1042920" y="5013360"/>
            <a:ext cx="3024360" cy="433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продуктив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1" name="Rectangle 16"/>
          <p:cNvSpPr/>
          <p:nvPr/>
        </p:nvSpPr>
        <p:spPr>
          <a:xfrm>
            <a:off x="5580000" y="5013360"/>
            <a:ext cx="302436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репродуктив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2" name="Line 17"/>
          <p:cNvSpPr/>
          <p:nvPr/>
        </p:nvSpPr>
        <p:spPr>
          <a:xfrm>
            <a:off x="2484360" y="458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3" name="Line 18"/>
          <p:cNvSpPr/>
          <p:nvPr/>
        </p:nvSpPr>
        <p:spPr>
          <a:xfrm>
            <a:off x="6948360" y="458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3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6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Line 2"/>
          <p:cNvSpPr/>
          <p:nvPr/>
        </p:nvSpPr>
        <p:spPr>
          <a:xfrm>
            <a:off x="5219640" y="2852640"/>
            <a:ext cx="1584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6" name="Oval 4"/>
          <p:cNvSpPr/>
          <p:nvPr/>
        </p:nvSpPr>
        <p:spPr>
          <a:xfrm>
            <a:off x="1116000" y="260280"/>
            <a:ext cx="7488360" cy="7923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о типу решаемых задач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971640" y="1484280"/>
            <a:ext cx="287964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практическ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4932360" y="1486080"/>
            <a:ext cx="287964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теоретическ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9" name="Line 7"/>
          <p:cNvSpPr/>
          <p:nvPr/>
        </p:nvSpPr>
        <p:spPr>
          <a:xfrm>
            <a:off x="2484360" y="981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0" name="Line 8"/>
          <p:cNvSpPr/>
          <p:nvPr/>
        </p:nvSpPr>
        <p:spPr>
          <a:xfrm>
            <a:off x="6659640" y="105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1763640" y="2349360"/>
            <a:ext cx="6480360" cy="503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Качества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мышления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2" name="Rectangle 10"/>
          <p:cNvSpPr/>
          <p:nvPr/>
        </p:nvSpPr>
        <p:spPr>
          <a:xfrm>
            <a:off x="611280" y="4365720"/>
            <a:ext cx="244800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самостоятельность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3" name="Rectangle 11"/>
          <p:cNvSpPr/>
          <p:nvPr/>
        </p:nvSpPr>
        <p:spPr>
          <a:xfrm>
            <a:off x="3780000" y="4941720"/>
            <a:ext cx="2158920" cy="64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критичность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4" name="Rectangle 12"/>
          <p:cNvSpPr/>
          <p:nvPr/>
        </p:nvSpPr>
        <p:spPr>
          <a:xfrm>
            <a:off x="6659640" y="4508640"/>
            <a:ext cx="2484360" cy="64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быстрота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5" name="Rectangle 13"/>
          <p:cNvSpPr/>
          <p:nvPr/>
        </p:nvSpPr>
        <p:spPr>
          <a:xfrm>
            <a:off x="611280" y="3357720"/>
            <a:ext cx="2305080" cy="502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глубина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6" name="Rectangle 14"/>
          <p:cNvSpPr/>
          <p:nvPr/>
        </p:nvSpPr>
        <p:spPr>
          <a:xfrm>
            <a:off x="6119640" y="3429000"/>
            <a:ext cx="270036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гибкость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7" name="Line 15"/>
          <p:cNvSpPr/>
          <p:nvPr/>
        </p:nvSpPr>
        <p:spPr>
          <a:xfrm flipH="1">
            <a:off x="2556000" y="2852640"/>
            <a:ext cx="129528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8" name="Line 16"/>
          <p:cNvSpPr/>
          <p:nvPr/>
        </p:nvSpPr>
        <p:spPr>
          <a:xfrm>
            <a:off x="2195640" y="2852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9" name="Line 17"/>
          <p:cNvSpPr/>
          <p:nvPr/>
        </p:nvSpPr>
        <p:spPr>
          <a:xfrm>
            <a:off x="7308720" y="285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0" name="Line 18"/>
          <p:cNvSpPr/>
          <p:nvPr/>
        </p:nvSpPr>
        <p:spPr>
          <a:xfrm>
            <a:off x="4500720" y="285264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0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87564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Основные вопросы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820000" cy="467064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1. Ощущение. Виды ощущений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2. Восприятие, свойства восприятия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3. Внимание. Виды внимания, и его основные свойств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4. Память, виды памяти. Закономерности памяти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5. Мышление, виды мышления. Развитие мышления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6. Воображение, виды воображения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692000" y="-360"/>
            <a:ext cx="74516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 Narrow"/>
              </a:rPr>
              <a:t>Основные мыслительные процессы и действия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Анализ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мыслительный процесс расчленения сложного объекта на составляющие его части или характеристики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Синтез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мыслительная операция, позволяющая соединять части в целое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Сравнение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установление сходства и различия между объектами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Классификац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распределение предметов (понятий) на классы согласно наиболее существенным признакам, присущим одним предметам (понятиям) и отличающим их от других предметов (понятий)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 Narrow"/>
              </a:rPr>
              <a:t>Основные мыслительные процессы и действия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Умозаключение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форма мышления, при которой на основе нескольких суждений дается определенный вывод. Различают индуктивное, дедуктивное суждение и суждение по аналогии.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етр Петрович всегда пьет чай с Федор Федоровичем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Федор Федорович пьет сейчас чай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ьет ли Петр Петрович сейчас чай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се металлы пропускают электрический ток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Железо – металл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ропускает ли оно ток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Композитор: песня = архитектор:7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Обобщение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мысленное объединение предметов и явлений по их общим и существенным признакам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Словесно-логическое мышление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Три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характеристики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онят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как логической категории: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одержание понятия; объем; связи и отношения данного понятия с другими.</a:t>
            </a: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д </a:t>
            </a:r>
            <a:r>
              <a:rPr b="1" lang="ru-RU" sz="2800" spc="-1" strike="noStrike">
                <a:solidFill>
                  <a:srgbClr val="d63eb9"/>
                </a:solidFill>
                <a:latin typeface="Arial Narrow"/>
              </a:rPr>
              <a:t>содержанием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понимают совокупность существенных свойств класса предметов. По содержанию понятия бывают простые и сложные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3eb9"/>
                </a:solidFill>
                <a:latin typeface="Arial Narrow"/>
              </a:rPr>
              <a:t>Объем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понятия – это количество объектов, охватываемых данным понятием. Выделяют: единичные понятия (равные единице), общие (более 1), категории (понятия широкой степени общности, например: энергия, материя)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3eb9"/>
                </a:solidFill>
                <a:latin typeface="Arial Narrow"/>
              </a:rPr>
              <a:t>Связи и отношен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понятия с другими: различают родовые (понятия, отражающие существенные общие признаки класса предметов и включающие другие понятия меньшей степени общности) и видовые (понятия, подчиненные родовым)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2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20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20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20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20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2000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7" name="Line 2"/>
          <p:cNvSpPr/>
          <p:nvPr/>
        </p:nvSpPr>
        <p:spPr>
          <a:xfrm>
            <a:off x="5076720" y="1411200"/>
            <a:ext cx="172728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8" name="Rectangle 9"/>
          <p:cNvSpPr/>
          <p:nvPr/>
        </p:nvSpPr>
        <p:spPr>
          <a:xfrm>
            <a:off x="1549440" y="907920"/>
            <a:ext cx="6480000" cy="503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Качества мышления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9" name="Rectangle 10"/>
          <p:cNvSpPr/>
          <p:nvPr/>
        </p:nvSpPr>
        <p:spPr>
          <a:xfrm>
            <a:off x="468360" y="2924280"/>
            <a:ext cx="216072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самостоятельность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0" name="Rectangle 11"/>
          <p:cNvSpPr/>
          <p:nvPr/>
        </p:nvSpPr>
        <p:spPr>
          <a:xfrm>
            <a:off x="3637080" y="3500280"/>
            <a:ext cx="2158920" cy="64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критичность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1" name="Rectangle 12"/>
          <p:cNvSpPr/>
          <p:nvPr/>
        </p:nvSpPr>
        <p:spPr>
          <a:xfrm>
            <a:off x="6516720" y="3067200"/>
            <a:ext cx="2484360" cy="64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быстрот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2" name="Rectangle 13"/>
          <p:cNvSpPr/>
          <p:nvPr/>
        </p:nvSpPr>
        <p:spPr>
          <a:xfrm>
            <a:off x="468360" y="1916280"/>
            <a:ext cx="2305080" cy="502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глубин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3" name="Rectangle 14"/>
          <p:cNvSpPr/>
          <p:nvPr/>
        </p:nvSpPr>
        <p:spPr>
          <a:xfrm>
            <a:off x="5977080" y="1987560"/>
            <a:ext cx="270036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гибкость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4" name="Line 15"/>
          <p:cNvSpPr/>
          <p:nvPr/>
        </p:nvSpPr>
        <p:spPr>
          <a:xfrm flipH="1">
            <a:off x="2413080" y="1411200"/>
            <a:ext cx="129528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5" name="Line 16"/>
          <p:cNvSpPr/>
          <p:nvPr/>
        </p:nvSpPr>
        <p:spPr>
          <a:xfrm>
            <a:off x="2052720" y="14112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6" name="Line 17"/>
          <p:cNvSpPr/>
          <p:nvPr/>
        </p:nvSpPr>
        <p:spPr>
          <a:xfrm>
            <a:off x="7165800" y="14112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7" name="Line 18"/>
          <p:cNvSpPr/>
          <p:nvPr/>
        </p:nvSpPr>
        <p:spPr>
          <a:xfrm>
            <a:off x="4356000" y="141300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Выделяют 4 уровня усвоения понятия (Н. А. Менчинская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1-й уровень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диффузно-рассеянный. На этом уровне у субъекта существует представление о том, что обозначает понятие, но признаки, отличающие данное понятие от других, он назвать не может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2-й уровень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называются признаки, без дифференциации их на существенные и второстепенные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3-й уровень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усваиваются существенные признаки, называ-ются вторичные, но все это связано с единичным образом, который служил опорой при формировании понятия, например: картинка, иллюстрация. Таким образом, понятие как будто усвоено, но признаки не обобщаются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4-й уровень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понятие усвоено полно и точно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Воображение, виды воображения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Воображение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форма психического отражения, состоящая в создании образов на основе ранее сформированных представлений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Виды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оображения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●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 степени субъектности: произвольное и непроизвольное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●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 отношению к возможному будущему: мечты, фантазии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●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 степени уникальности: репродуктивное, творческое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Основные функции воображен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1. Представление действительности в образах и составление возможности пользоваться ими, решая задачи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2. Регулирование эмоциональных отношений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3. Формирование внутреннего плана человек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4. Планирование и программирование деятельности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5. Произвольная регуляция познавательных процессов и состояний человек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893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Формы синтеза представлений в процессах воображения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Агглютинац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соединение несоединяемых в реальности качеств, свойств, частей предмета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Гиперболизац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увеличение или уменьшение предмета, изменение качества его частей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Заострение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подчеркивание каких-либо признаков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Схематизац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сглаживание различий предметов и выявление черт сходства между ними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Типизац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выделение существенного, повторяющегося в однородных явлениях и воплощение его в конкретном образе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Вопросы для самостоятельной работы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96872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. Объясните следующий факт: если человек впервые идет по незнакомой местности, самостоятельно разыскивая дорогу, то он без труда находит ее вторично; если же он идет вместе со спутником, которому дорога хорошо известна, человеку трудно будет самостоятельно проделать этот путь в следующий раз. Почему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2. Верно ли выражение: «Восприятие – это сумма ощущений?»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3. Ученику предложили найти обобщающее слово к двум следующим понятиям: километр – метр. Чтобы выполнить верно задание, какое мыслительное действие должен произвести ученик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4. Подумайте, чем отличается память животного от памяти человека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5. Ребенку подготовительной группы предложили решить задачу: «Мама съела 3 конфеты, а сын 2. Сколько они съели конфет?» Мальчик отказался решать задачу, мотивируя тем, что так не бывает. Объясните поведение ребенка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0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1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2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20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2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20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20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3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20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Литература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. Выготский Л. С. Психология воображения / Л. С. Выготский. – М., 1992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2. Выготский Л. С. Развитие высших психических функций / Л. С. Выгот-ский. – М., 1960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3. Грановская Р. М. Элементы практической психологии / Р. М. Грановская. – СПб., 1997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4. Грегори Р. Л. Глаз и мозг. Психология зрительного восприятия /Р. Л. Грегори. – М., 1979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5. Демидов В. Е. Как мы видим то, что видим / В. Е. Демидов. – М., 1987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6. Лурия А. Р. Маленькая книжка о большой памяти / А. Р. Лурия. – М., 1968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7. Лурия А. Р. Ощущение и восприятие: материалы к курсу по общей психологии / А. Р. Лурия. – М., 1975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0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2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20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20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20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2000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2000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2000"/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Ключевые понятия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4297320" cy="459900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щущен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осприят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едме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констан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целос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нима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стойч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аспре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ере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32000" y="1628280"/>
            <a:ext cx="4211640" cy="459900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амять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22360" indent="-6516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еминисц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6516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нтерфер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оображе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мышле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22360" indent="-6516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мыслительные процессы и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2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2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0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20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2000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2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0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Литература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903600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8. Лурия А. Р. Внимание. Память. Материалы к курсу по общей психологии / А. Р. Лурия. – М., 1975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9. Петухов В. В. Психология мышления: учебно-методическое пособие / В. В. Петухов. – М., 1987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0. Платонов К. К. Занимательная психология / К. К. Платонов. – М., 1964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1. Познавательные процессы и способности в обучении / под ред. В. Д. Шадрикова. – М., 1990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2. Психология ощущения и восприятия: хрестоматия: учебное пособие для вузов / под ред. Ю. Б. Гиппенрейтер, В. В. Любимова, М. Б. Михалевской. – М., 2002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3. Психология памяти: хрестоматия / под ред. Ю. Б. Гиппенрейтер, В. Я. Романова. – М., 2002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2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20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20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20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2000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2000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8028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Ощущение. Виды ощущений</a:t>
            </a:r>
            <a:br>
              <a:rPr sz="3600"/>
            </a:b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Ощуще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отражение отдельных свойств предмет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Виды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(модальности) ощущений: обоняние, вкус, осязание, слух,  зрение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истематическая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классификац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ощущений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0" y="3429000"/>
            <a:ext cx="3132000" cy="503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интроцептив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0" y="3933720"/>
            <a:ext cx="493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ступают от сигналов из внут-ренней среды организма: кишеч-ника, желудка, кровеносной систе-мы. Обеспечивают регуляцию элементарных влечений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5870520" y="3429000"/>
            <a:ext cx="3273480" cy="503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проприоцептив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3059280" y="3860640"/>
            <a:ext cx="608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ступают из глубоких мышц и суставных поверхностей. Обеспечивают информа-цию о положении тела в пространстве и о положении опорно-двигательного аппара-та, обеспечивают регуляцию движения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3" name="Rectangle 12"/>
          <p:cNvSpPr/>
          <p:nvPr/>
        </p:nvSpPr>
        <p:spPr>
          <a:xfrm>
            <a:off x="2916360" y="4149720"/>
            <a:ext cx="3600360" cy="504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экстрацептив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Text Box 15"/>
          <p:cNvSpPr/>
          <p:nvPr/>
        </p:nvSpPr>
        <p:spPr>
          <a:xfrm>
            <a:off x="611280" y="4724280"/>
            <a:ext cx="69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сязание, вкус, обоняние, слух, зрение. Обеспе-чивают получение сигналов из внешнего мира и создают основу для сознательного поведения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6" dur="1" fill="hold"/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 Narrow"/>
              </a:rPr>
              <a:t>Восприятие. </a:t>
            </a:r>
            <a:br>
              <a:rPr sz="3600"/>
            </a:br>
            <a:r>
              <a:rPr b="1" lang="ru-RU" sz="3600" spc="-1" strike="noStrike">
                <a:solidFill>
                  <a:srgbClr val="cc0000"/>
                </a:solidFill>
                <a:latin typeface="Arial Narrow"/>
              </a:rPr>
              <a:t>Виды и свойства восприятия</a:t>
            </a:r>
            <a:endParaRPr b="1" lang="en-US" sz="36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96872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 Narrow"/>
              </a:rPr>
              <a:t>Восприятие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целостное отражение предметов в сознании человека при их непосредственном воздействии в данный момент на органы чувств. В акте восприятия присутствует определенное обобщение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 Narrow"/>
              </a:rPr>
              <a:t>Ведущие свойства человеческого восприятия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Целост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образы восприятия представляют собой целостные, законченные, предметно оформленные структуры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Предмет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воспринимается не только комплекс свойств, а оценивается этот комплекс как определенный предмет: «стол», «дом» и т. д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1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20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Осмыслен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понимание вещи одно-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временно с ее восприятием, восприятие происходит в контексте смысла. Здесь отражается связь восприятия с мышлением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Констант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относительное постоянство формы, ве-личины и цвета предмета, независимо от изменений усло-вий восприятия. 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Избиратель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преимущественное вычленение одних объектов по сравнению с другими, обусловленное особенностями субъекта восприятия (опытом, интересами, потребностями)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Структур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свойство, позволяющее воспринимать предметы в совокупности их устойчивых связей и отноше-ний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2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20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4464000" cy="280836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3"/>
          <p:cNvSpPr/>
          <p:nvPr/>
        </p:nvSpPr>
        <p:spPr>
          <a:xfrm>
            <a:off x="599040" y="5203800"/>
            <a:ext cx="77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 Narrow"/>
              </a:rPr>
              <a:t>Целостное восприятие лица вопреки выпадению ряда элементов его контур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90" name="Group 4"/>
          <p:cNvGrpSpPr/>
          <p:nvPr/>
        </p:nvGrpSpPr>
        <p:grpSpPr>
          <a:xfrm>
            <a:off x="5292720" y="1123920"/>
            <a:ext cx="2752560" cy="2114640"/>
            <a:chOff x="5292720" y="1123920"/>
            <a:chExt cx="2752560" cy="2114640"/>
          </a:xfrm>
        </p:grpSpPr>
        <p:sp>
          <p:nvSpPr>
            <p:cNvPr id="291" name="Freeform 5"/>
            <p:cNvSpPr/>
            <p:nvPr/>
          </p:nvSpPr>
          <p:spPr>
            <a:xfrm>
              <a:off x="5443560" y="1390680"/>
              <a:ext cx="2309760" cy="1847880"/>
            </a:xfrm>
            <a:custGeom>
              <a:avLst/>
              <a:gdLst>
                <a:gd name="textAreaLeft" fmla="*/ 0 w 2309760"/>
                <a:gd name="textAreaRight" fmla="*/ 2310120 w 2309760"/>
                <a:gd name="textAreaTop" fmla="*/ 0 h 1847880"/>
                <a:gd name="textAreaBottom" fmla="*/ 1848240 h 1847880"/>
              </a:gdLst>
              <a:ahLst/>
              <a:rect l="textAreaLeft" t="textAreaTop" r="textAreaRight" b="textAreaBottom"/>
              <a:pathLst>
                <a:path w="1455" h="1164">
                  <a:moveTo>
                    <a:pt x="27" y="36"/>
                  </a:moveTo>
                  <a:cubicBezTo>
                    <a:pt x="34" y="200"/>
                    <a:pt x="0" y="592"/>
                    <a:pt x="87" y="708"/>
                  </a:cubicBezTo>
                  <a:cubicBezTo>
                    <a:pt x="106" y="764"/>
                    <a:pt x="98" y="796"/>
                    <a:pt x="159" y="816"/>
                  </a:cubicBezTo>
                  <a:cubicBezTo>
                    <a:pt x="183" y="876"/>
                    <a:pt x="177" y="883"/>
                    <a:pt x="231" y="924"/>
                  </a:cubicBezTo>
                  <a:cubicBezTo>
                    <a:pt x="245" y="935"/>
                    <a:pt x="265" y="937"/>
                    <a:pt x="279" y="948"/>
                  </a:cubicBezTo>
                  <a:cubicBezTo>
                    <a:pt x="297" y="962"/>
                    <a:pt x="308" y="983"/>
                    <a:pt x="327" y="996"/>
                  </a:cubicBezTo>
                  <a:cubicBezTo>
                    <a:pt x="380" y="1031"/>
                    <a:pt x="481" y="1064"/>
                    <a:pt x="543" y="1080"/>
                  </a:cubicBezTo>
                  <a:cubicBezTo>
                    <a:pt x="588" y="1147"/>
                    <a:pt x="540" y="1095"/>
                    <a:pt x="639" y="1128"/>
                  </a:cubicBezTo>
                  <a:cubicBezTo>
                    <a:pt x="653" y="1133"/>
                    <a:pt x="662" y="1146"/>
                    <a:pt x="675" y="1152"/>
                  </a:cubicBezTo>
                  <a:cubicBezTo>
                    <a:pt x="690" y="1158"/>
                    <a:pt x="707" y="1160"/>
                    <a:pt x="723" y="1164"/>
                  </a:cubicBezTo>
                  <a:cubicBezTo>
                    <a:pt x="760" y="1161"/>
                    <a:pt x="903" y="1156"/>
                    <a:pt x="963" y="1140"/>
                  </a:cubicBezTo>
                  <a:cubicBezTo>
                    <a:pt x="1022" y="1124"/>
                    <a:pt x="1065" y="1083"/>
                    <a:pt x="1119" y="1056"/>
                  </a:cubicBezTo>
                  <a:cubicBezTo>
                    <a:pt x="1174" y="974"/>
                    <a:pt x="1244" y="900"/>
                    <a:pt x="1323" y="840"/>
                  </a:cubicBezTo>
                  <a:cubicBezTo>
                    <a:pt x="1360" y="730"/>
                    <a:pt x="1298" y="901"/>
                    <a:pt x="1371" y="756"/>
                  </a:cubicBezTo>
                  <a:cubicBezTo>
                    <a:pt x="1405" y="689"/>
                    <a:pt x="1431" y="588"/>
                    <a:pt x="1455" y="516"/>
                  </a:cubicBezTo>
                  <a:cubicBezTo>
                    <a:pt x="1444" y="384"/>
                    <a:pt x="1449" y="401"/>
                    <a:pt x="1431" y="300"/>
                  </a:cubicBezTo>
                  <a:cubicBezTo>
                    <a:pt x="1423" y="256"/>
                    <a:pt x="1398" y="200"/>
                    <a:pt x="1395" y="156"/>
                  </a:cubicBezTo>
                  <a:cubicBezTo>
                    <a:pt x="1392" y="104"/>
                    <a:pt x="1395" y="52"/>
                    <a:pt x="139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2" name="Freeform 6"/>
            <p:cNvSpPr/>
            <p:nvPr/>
          </p:nvSpPr>
          <p:spPr>
            <a:xfrm>
              <a:off x="6915240" y="1371600"/>
              <a:ext cx="361800" cy="2728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228" h="172">
                  <a:moveTo>
                    <a:pt x="0" y="96"/>
                  </a:moveTo>
                  <a:cubicBezTo>
                    <a:pt x="56" y="12"/>
                    <a:pt x="24" y="40"/>
                    <a:pt x="84" y="0"/>
                  </a:cubicBezTo>
                  <a:cubicBezTo>
                    <a:pt x="133" y="49"/>
                    <a:pt x="159" y="97"/>
                    <a:pt x="228" y="120"/>
                  </a:cubicBezTo>
                  <a:cubicBezTo>
                    <a:pt x="184" y="135"/>
                    <a:pt x="147" y="142"/>
                    <a:pt x="108" y="168"/>
                  </a:cubicBezTo>
                  <a:cubicBezTo>
                    <a:pt x="23" y="151"/>
                    <a:pt x="61" y="172"/>
                    <a:pt x="0" y="9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3" name="Freeform 7"/>
            <p:cNvSpPr/>
            <p:nvPr/>
          </p:nvSpPr>
          <p:spPr>
            <a:xfrm>
              <a:off x="6991200" y="1481040"/>
              <a:ext cx="114480" cy="18900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72" h="119">
                  <a:moveTo>
                    <a:pt x="24" y="63"/>
                  </a:moveTo>
                  <a:cubicBezTo>
                    <a:pt x="36" y="51"/>
                    <a:pt x="60" y="44"/>
                    <a:pt x="60" y="27"/>
                  </a:cubicBezTo>
                  <a:cubicBezTo>
                    <a:pt x="60" y="13"/>
                    <a:pt x="38" y="0"/>
                    <a:pt x="24" y="3"/>
                  </a:cubicBezTo>
                  <a:cubicBezTo>
                    <a:pt x="10" y="6"/>
                    <a:pt x="8" y="27"/>
                    <a:pt x="0" y="39"/>
                  </a:cubicBezTo>
                  <a:cubicBezTo>
                    <a:pt x="5" y="48"/>
                    <a:pt x="30" y="119"/>
                    <a:pt x="60" y="111"/>
                  </a:cubicBezTo>
                  <a:cubicBezTo>
                    <a:pt x="72" y="108"/>
                    <a:pt x="68" y="87"/>
                    <a:pt x="72" y="75"/>
                  </a:cubicBezTo>
                  <a:cubicBezTo>
                    <a:pt x="55" y="25"/>
                    <a:pt x="71" y="32"/>
                    <a:pt x="24" y="6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4" name="Freeform 8"/>
            <p:cNvSpPr/>
            <p:nvPr/>
          </p:nvSpPr>
          <p:spPr>
            <a:xfrm>
              <a:off x="6354720" y="2487600"/>
              <a:ext cx="557280" cy="21744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351" h="137">
                  <a:moveTo>
                    <a:pt x="29" y="41"/>
                  </a:moveTo>
                  <a:cubicBezTo>
                    <a:pt x="61" y="45"/>
                    <a:pt x="93" y="50"/>
                    <a:pt x="125" y="53"/>
                  </a:cubicBezTo>
                  <a:cubicBezTo>
                    <a:pt x="340" y="70"/>
                    <a:pt x="351" y="0"/>
                    <a:pt x="317" y="101"/>
                  </a:cubicBezTo>
                  <a:cubicBezTo>
                    <a:pt x="0" y="83"/>
                    <a:pt x="187" y="106"/>
                    <a:pt x="29" y="53"/>
                  </a:cubicBezTo>
                  <a:cubicBezTo>
                    <a:pt x="25" y="64"/>
                    <a:pt x="1" y="114"/>
                    <a:pt x="29" y="125"/>
                  </a:cubicBezTo>
                  <a:cubicBezTo>
                    <a:pt x="44" y="131"/>
                    <a:pt x="61" y="117"/>
                    <a:pt x="77" y="113"/>
                  </a:cubicBezTo>
                  <a:cubicBezTo>
                    <a:pt x="89" y="105"/>
                    <a:pt x="100" y="95"/>
                    <a:pt x="113" y="89"/>
                  </a:cubicBezTo>
                  <a:cubicBezTo>
                    <a:pt x="128" y="83"/>
                    <a:pt x="147" y="85"/>
                    <a:pt x="161" y="77"/>
                  </a:cubicBezTo>
                  <a:cubicBezTo>
                    <a:pt x="183" y="65"/>
                    <a:pt x="201" y="45"/>
                    <a:pt x="221" y="29"/>
                  </a:cubicBezTo>
                  <a:cubicBezTo>
                    <a:pt x="225" y="41"/>
                    <a:pt x="223" y="57"/>
                    <a:pt x="233" y="65"/>
                  </a:cubicBezTo>
                  <a:cubicBezTo>
                    <a:pt x="246" y="75"/>
                    <a:pt x="297" y="82"/>
                    <a:pt x="281" y="77"/>
                  </a:cubicBezTo>
                  <a:cubicBezTo>
                    <a:pt x="245" y="65"/>
                    <a:pt x="209" y="53"/>
                    <a:pt x="173" y="41"/>
                  </a:cubicBezTo>
                  <a:cubicBezTo>
                    <a:pt x="161" y="37"/>
                    <a:pt x="149" y="33"/>
                    <a:pt x="137" y="29"/>
                  </a:cubicBezTo>
                  <a:cubicBezTo>
                    <a:pt x="125" y="25"/>
                    <a:pt x="101" y="17"/>
                    <a:pt x="101" y="17"/>
                  </a:cubicBezTo>
                  <a:cubicBezTo>
                    <a:pt x="36" y="60"/>
                    <a:pt x="36" y="94"/>
                    <a:pt x="101" y="137"/>
                  </a:cubicBezTo>
                  <a:cubicBezTo>
                    <a:pt x="150" y="118"/>
                    <a:pt x="196" y="93"/>
                    <a:pt x="245" y="77"/>
                  </a:cubicBezTo>
                  <a:cubicBezTo>
                    <a:pt x="289" y="92"/>
                    <a:pt x="275" y="100"/>
                    <a:pt x="293" y="6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5" name="Freeform 9"/>
            <p:cNvSpPr/>
            <p:nvPr/>
          </p:nvSpPr>
          <p:spPr>
            <a:xfrm>
              <a:off x="7667640" y="1773360"/>
              <a:ext cx="377640" cy="64296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642960"/>
                <a:gd name="textAreaBottom" fmla="*/ 643320 h 642960"/>
              </a:gdLst>
              <a:ahLst/>
              <a:rect l="textAreaLeft" t="textAreaTop" r="textAreaRight" b="textAreaBottom"/>
              <a:pathLst>
                <a:path w="238" h="405">
                  <a:moveTo>
                    <a:pt x="130" y="0"/>
                  </a:moveTo>
                  <a:cubicBezTo>
                    <a:pt x="224" y="94"/>
                    <a:pt x="192" y="51"/>
                    <a:pt x="238" y="120"/>
                  </a:cubicBezTo>
                  <a:cubicBezTo>
                    <a:pt x="220" y="174"/>
                    <a:pt x="206" y="175"/>
                    <a:pt x="154" y="192"/>
                  </a:cubicBezTo>
                  <a:cubicBezTo>
                    <a:pt x="142" y="204"/>
                    <a:pt x="122" y="212"/>
                    <a:pt x="118" y="228"/>
                  </a:cubicBezTo>
                  <a:cubicBezTo>
                    <a:pt x="105" y="279"/>
                    <a:pt x="134" y="340"/>
                    <a:pt x="106" y="384"/>
                  </a:cubicBezTo>
                  <a:cubicBezTo>
                    <a:pt x="92" y="405"/>
                    <a:pt x="34" y="360"/>
                    <a:pt x="34" y="360"/>
                  </a:cubicBezTo>
                  <a:cubicBezTo>
                    <a:pt x="4" y="315"/>
                    <a:pt x="0" y="334"/>
                    <a:pt x="34" y="3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6" name="Freeform 10"/>
            <p:cNvSpPr/>
            <p:nvPr/>
          </p:nvSpPr>
          <p:spPr>
            <a:xfrm>
              <a:off x="5292720" y="1413000"/>
              <a:ext cx="584280" cy="183960"/>
            </a:xfrm>
            <a:custGeom>
              <a:avLst/>
              <a:gdLst>
                <a:gd name="textAreaLeft" fmla="*/ 0 w 584280"/>
                <a:gd name="textAreaRight" fmla="*/ 584280 w 5842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68" h="116">
                  <a:moveTo>
                    <a:pt x="0" y="12"/>
                  </a:moveTo>
                  <a:cubicBezTo>
                    <a:pt x="88" y="16"/>
                    <a:pt x="179" y="0"/>
                    <a:pt x="264" y="24"/>
                  </a:cubicBezTo>
                  <a:cubicBezTo>
                    <a:pt x="368" y="54"/>
                    <a:pt x="224" y="93"/>
                    <a:pt x="216" y="96"/>
                  </a:cubicBezTo>
                  <a:cubicBezTo>
                    <a:pt x="212" y="95"/>
                    <a:pt x="58" y="77"/>
                    <a:pt x="48" y="72"/>
                  </a:cubicBezTo>
                  <a:cubicBezTo>
                    <a:pt x="37" y="66"/>
                    <a:pt x="40" y="48"/>
                    <a:pt x="36" y="36"/>
                  </a:cubicBezTo>
                  <a:cubicBezTo>
                    <a:pt x="76" y="23"/>
                    <a:pt x="116" y="13"/>
                    <a:pt x="156" y="0"/>
                  </a:cubicBezTo>
                  <a:cubicBezTo>
                    <a:pt x="172" y="24"/>
                    <a:pt x="188" y="48"/>
                    <a:pt x="204" y="72"/>
                  </a:cubicBezTo>
                  <a:cubicBezTo>
                    <a:pt x="212" y="84"/>
                    <a:pt x="180" y="36"/>
                    <a:pt x="180" y="36"/>
                  </a:cubicBezTo>
                  <a:cubicBezTo>
                    <a:pt x="152" y="40"/>
                    <a:pt x="116" y="28"/>
                    <a:pt x="96" y="48"/>
                  </a:cubicBezTo>
                  <a:cubicBezTo>
                    <a:pt x="82" y="62"/>
                    <a:pt x="91" y="97"/>
                    <a:pt x="108" y="108"/>
                  </a:cubicBezTo>
                  <a:cubicBezTo>
                    <a:pt x="120" y="116"/>
                    <a:pt x="122" y="82"/>
                    <a:pt x="132" y="72"/>
                  </a:cubicBezTo>
                  <a:cubicBezTo>
                    <a:pt x="138" y="66"/>
                    <a:pt x="148" y="64"/>
                    <a:pt x="156" y="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7" name="Freeform 11"/>
            <p:cNvSpPr/>
            <p:nvPr/>
          </p:nvSpPr>
          <p:spPr>
            <a:xfrm>
              <a:off x="5429160" y="1123920"/>
              <a:ext cx="609840" cy="11592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384" h="73">
                  <a:moveTo>
                    <a:pt x="0" y="60"/>
                  </a:moveTo>
                  <a:cubicBezTo>
                    <a:pt x="79" y="13"/>
                    <a:pt x="119" y="21"/>
                    <a:pt x="204" y="0"/>
                  </a:cubicBezTo>
                  <a:cubicBezTo>
                    <a:pt x="224" y="4"/>
                    <a:pt x="246" y="3"/>
                    <a:pt x="264" y="12"/>
                  </a:cubicBezTo>
                  <a:cubicBezTo>
                    <a:pt x="279" y="20"/>
                    <a:pt x="285" y="40"/>
                    <a:pt x="300" y="48"/>
                  </a:cubicBezTo>
                  <a:cubicBezTo>
                    <a:pt x="345" y="73"/>
                    <a:pt x="351" y="72"/>
                    <a:pt x="384" y="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8" name="Freeform 12"/>
            <p:cNvSpPr/>
            <p:nvPr/>
          </p:nvSpPr>
          <p:spPr>
            <a:xfrm>
              <a:off x="6553080" y="1133640"/>
              <a:ext cx="666720" cy="12852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420" h="81">
                  <a:moveTo>
                    <a:pt x="0" y="30"/>
                  </a:moveTo>
                  <a:cubicBezTo>
                    <a:pt x="90" y="0"/>
                    <a:pt x="136" y="9"/>
                    <a:pt x="240" y="18"/>
                  </a:cubicBezTo>
                  <a:cubicBezTo>
                    <a:pt x="252" y="30"/>
                    <a:pt x="262" y="45"/>
                    <a:pt x="276" y="54"/>
                  </a:cubicBezTo>
                  <a:cubicBezTo>
                    <a:pt x="317" y="81"/>
                    <a:pt x="345" y="43"/>
                    <a:pt x="384" y="30"/>
                  </a:cubicBezTo>
                  <a:cubicBezTo>
                    <a:pt x="396" y="34"/>
                    <a:pt x="420" y="42"/>
                    <a:pt x="420" y="4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299" name="Text Box 13"/>
          <p:cNvSpPr/>
          <p:nvPr/>
        </p:nvSpPr>
        <p:spPr>
          <a:xfrm>
            <a:off x="5076720" y="3573360"/>
            <a:ext cx="35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 Narrow"/>
              </a:rPr>
              <a:t>Несформированная целостность. Таким может быть рисунок ребенка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 Narrow"/>
              </a:rPr>
              <a:t>Внимание, виды и основные свойства внимания</a:t>
            </a:r>
            <a:br>
              <a:rPr sz="3600"/>
            </a:br>
            <a:endParaRPr b="1" lang="en-US" sz="36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964720" cy="482436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 Narrow"/>
              </a:rPr>
              <a:t>Внимание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направленность и сосредоточенность человека на определенных объектах при одновременном отвлечении от других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Классификация </a:t>
            </a: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видов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внимания (основание: актив-ность личности) (Н. Ф. Добрынин)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9000" y="4797360"/>
            <a:ext cx="30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НЕПРОИЗВОЛЬНОЕ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Text Box 12"/>
          <p:cNvSpPr/>
          <p:nvPr/>
        </p:nvSpPr>
        <p:spPr>
          <a:xfrm>
            <a:off x="2995200" y="4076640"/>
            <a:ext cx="26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 Narrow"/>
              </a:rPr>
              <a:t>ПРОИЗВОЛЬНОЕ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04" name="Group 18"/>
          <p:cNvGrpSpPr/>
          <p:nvPr/>
        </p:nvGrpSpPr>
        <p:grpSpPr>
          <a:xfrm>
            <a:off x="539640" y="3933360"/>
            <a:ext cx="8604360" cy="2089440"/>
            <a:chOff x="539640" y="3933360"/>
            <a:chExt cx="8604360" cy="2089440"/>
          </a:xfrm>
        </p:grpSpPr>
        <p:sp>
          <p:nvSpPr>
            <p:cNvPr id="305" name="Line 7"/>
            <p:cNvSpPr/>
            <p:nvPr/>
          </p:nvSpPr>
          <p:spPr>
            <a:xfrm flipV="1">
              <a:off x="539640" y="523080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6" name="Line 8"/>
            <p:cNvSpPr/>
            <p:nvPr/>
          </p:nvSpPr>
          <p:spPr>
            <a:xfrm>
              <a:off x="539640" y="523080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7" name="Line 10"/>
            <p:cNvSpPr/>
            <p:nvPr/>
          </p:nvSpPr>
          <p:spPr>
            <a:xfrm flipV="1">
              <a:off x="3132000" y="451008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8" name="Line 11"/>
            <p:cNvSpPr/>
            <p:nvPr/>
          </p:nvSpPr>
          <p:spPr>
            <a:xfrm>
              <a:off x="3132000" y="4510080"/>
              <a:ext cx="25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9" name="Line 14"/>
            <p:cNvSpPr/>
            <p:nvPr/>
          </p:nvSpPr>
          <p:spPr>
            <a:xfrm flipV="1">
              <a:off x="5580000" y="3933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0" name="Line 15"/>
            <p:cNvSpPr/>
            <p:nvPr/>
          </p:nvSpPr>
          <p:spPr>
            <a:xfrm>
              <a:off x="5580000" y="3933720"/>
              <a:ext cx="356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311" name="Text Box 16"/>
          <p:cNvSpPr/>
          <p:nvPr/>
        </p:nvSpPr>
        <p:spPr>
          <a:xfrm>
            <a:off x="5421960" y="3500280"/>
            <a:ext cx="37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 Narrow"/>
              </a:rPr>
              <a:t>ПОСЛЕПРОИЗВОЛЬНОЕ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592200" y="568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3" name="Rectangle 22"/>
          <p:cNvSpPr/>
          <p:nvPr/>
        </p:nvSpPr>
        <p:spPr>
          <a:xfrm>
            <a:off x="611280" y="5229360"/>
            <a:ext cx="7272360" cy="115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внимание человека непосредственно привлекается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либо сильным, либо новым, либо интересным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аздражителем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4" name="Rectangle 24"/>
          <p:cNvSpPr/>
          <p:nvPr/>
        </p:nvSpPr>
        <p:spPr>
          <a:xfrm>
            <a:off x="1547640" y="4508640"/>
            <a:ext cx="7272360" cy="1800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войственно только человеку, относится к высшим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сихическим функциям. Процесс формирования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оизвольного внимания описал Л. С. Выготский: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казательный </a:t>
            </a: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жест + слово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выделение предмет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з остальных, фиксаци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5" name="Rectangle 26"/>
          <p:cNvSpPr/>
          <p:nvPr/>
        </p:nvSpPr>
        <p:spPr>
          <a:xfrm>
            <a:off x="1116000" y="3933720"/>
            <a:ext cx="7812000" cy="1873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войственно только человеку; возникает на основе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стойчивого произвольного внимания и интереса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к объекту, после чего внимание становится похожим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на непроизвольное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3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2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1" dur="1" fill="hold"/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Осмыслен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понимание вещи одно-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временно с ее восприятием, восприятие происходит в контексте смысла. Здесь отражается связь восприятия с мышлением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Констант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относительное постоянство формы, ве-личины и цвета предмета, независимо от изменений усло-вий восприятия. 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Избиратель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преимущественное вычленение одних объектов по сравнению с другими, обусловленное особенностями субъекта восприятия (опытом, интересами, потребностями)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Структур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свойство, позволяющее воспринимать предметы в совокупности их устойчивых связей и отноше-ний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2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2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2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20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11:36:44Z</dcterms:created>
  <dc:creator>Лидия</dc:creator>
  <dc:description/>
  <dc:language>en-US</dc:language>
  <cp:lastModifiedBy>LEGION</cp:lastModifiedBy>
  <dcterms:modified xsi:type="dcterms:W3CDTF">2014-11-12T07:31:13Z</dcterms:modified>
  <cp:revision>87</cp:revision>
  <dc:subject/>
  <dc:title>Слайд 1</dc:title>
</cp:coreProperties>
</file>