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9AC6-BD95-4C26-96B6-5364042425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A8A-6A14-48C6-8168-79734124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1CB-0200-4981-BF03-BB4682A6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C85-779D-4003-9A89-B7FE64D7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5A9-1852-406B-804B-ADF87EEC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651B-1DBD-4D98-A392-5FACDAFA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46A2-315F-456D-9EC8-9BDAF1AD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D265-F869-44F9-8127-C5C3A85B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04DF-A2A6-4050-9CC4-3D7AEBA3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3371-49CC-44B3-8387-887B395F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3FD5-1C6C-4016-A9B2-729C1D52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67BF-818A-4994-AC4A-5653199B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0FF-EDB1-4912-A715-F5ECF816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FEFD-A512-4E9A-9A1D-B2F46755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5BBE-49C4-4775-8092-C8B45323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437C-292C-488F-8A80-6613DD79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0995-B666-4432-A894-27CF2F7F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2C9A-6C07-48F6-AB59-C3AC17AC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17F-128D-4E5C-A68C-05E02295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636-3516-47F0-A4B4-896089E1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5AF-C944-4A42-8AE3-44ACD04E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71F-2E2D-4238-AD36-6E686ACB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F0C-D6A3-42D2-8006-B3AC7564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154-3F94-4782-BF65-3CD965FE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265-A0D2-4341-97D5-E1E2FB6E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5347-ABCD-410B-ABBF-EEFC061988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3A6A-F976-49CB-8A13-9C3023368B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2339640"/>
            <a:ext cx="8134200" cy="1730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едприятия и предпринимательство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51280" y="4060440"/>
            <a:ext cx="492912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лное товари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оммандитное товари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бщество с ограниченной ответственн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кционерн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лассификация предприятий по родам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редители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ые формы предпри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нимательская дея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ПРИНИМАТЕЛЬСК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3" descr="C:\Documents and Settings\Первый\Local Settings\Temporary Internet Files\Content.IE5\GTC6DXZP\MM900283568[1].gif"/>
          <p:cNvPicPr/>
          <p:nvPr/>
        </p:nvPicPr>
        <p:blipFill>
          <a:blip r:embed="rId1"/>
          <a:stretch/>
        </p:blipFill>
        <p:spPr>
          <a:xfrm>
            <a:off x="1258920" y="1989000"/>
            <a:ext cx="122724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Содержимое 2"/>
          <p:cNvSpPr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539640" y="386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Прибыль     +     удовлетворения потре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648320" y="2362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8" name="Прямая со стрелкой 6"/>
          <p:cNvCxnSpPr/>
          <p:nvPr/>
        </p:nvCxnSpPr>
        <p:spPr>
          <a:xfrm>
            <a:off x="2209680" y="2666520"/>
            <a:ext cx="1829520" cy="2520"/>
          </a:xfrm>
          <a:prstGeom prst="straightConnector1">
            <a:avLst/>
          </a:prstGeom>
          <a:ln w="38160">
            <a:solidFill>
              <a:srgbClr val="c1bcfc"/>
            </a:solidFill>
            <a:miter/>
            <a:tailEnd len="med" type="arrow" w="med"/>
          </a:ln>
        </p:spPr>
      </p:cxnSp>
      <p:sp>
        <p:nvSpPr>
          <p:cNvPr id="219" name="TextBox 7"/>
          <p:cNvSpPr/>
          <p:nvPr/>
        </p:nvSpPr>
        <p:spPr>
          <a:xfrm>
            <a:off x="236232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0" name="Багетная рамка 8"/>
          <p:cNvGrpSpPr/>
          <p:nvPr/>
        </p:nvGrpSpPr>
        <p:grpSpPr>
          <a:xfrm>
            <a:off x="4145040" y="1994040"/>
            <a:ext cx="2700360" cy="1096920"/>
            <a:chOff x="4145040" y="1994040"/>
            <a:chExt cx="2700360" cy="1096920"/>
          </a:xfrm>
        </p:grpSpPr>
        <p:pic>
          <p:nvPicPr>
            <p:cNvPr id="221" name="Багетная рамка 8" descr=""/>
            <p:cNvPicPr/>
            <p:nvPr/>
          </p:nvPicPr>
          <p:blipFill>
            <a:blip r:embed="rId2"/>
            <a:stretch/>
          </p:blipFill>
          <p:spPr>
            <a:xfrm>
              <a:off x="4145040" y="1994040"/>
              <a:ext cx="27003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321080" y="2146320"/>
              <a:ext cx="234324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TextBox 9"/>
          <p:cNvSpPr/>
          <p:nvPr/>
        </p:nvSpPr>
        <p:spPr>
          <a:xfrm>
            <a:off x="4427640" y="2349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Выноска со стрелкой вправо 13"/>
          <p:cNvSpPr/>
          <p:nvPr/>
        </p:nvSpPr>
        <p:spPr>
          <a:xfrm rot="16200000">
            <a:off x="3714840" y="1942920"/>
            <a:ext cx="1523880" cy="8305560"/>
          </a:xfrm>
          <a:prstGeom prst="rightArrowCallout">
            <a:avLst>
              <a:gd name="adj1" fmla="val -21526"/>
              <a:gd name="adj2" fmla="val 25006"/>
              <a:gd name="adj3" fmla="val 25000"/>
              <a:gd name="adj4" fmla="val 64977"/>
            </a:avLst>
          </a:prstGeom>
          <a:solidFill>
            <a:srgbClr val="f1f0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3352680" y="6019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БИЗНЕ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24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силу обособленности предприятия самостоятель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изводственной деятельности (что и сколько производить, как производи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оммерческой деятельности (что и сколько продавать, покупать, распределя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представляет соб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име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реди качественных параметров классификации предприятий можно назвать следу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собственности (частные или государственны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 и содержание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ртимент выпускаемой продук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ы и методы ведения конкурентной борьб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 вхождения в различные союзы и объеди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чредители пред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Имущественный комплекс пред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Организационные формы предприят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0824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о с ограниченной ответстве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ционерное об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9:58:16Z</dcterms:created>
  <dc:creator>света</dc:creator>
  <dc:description/>
  <dc:language>en-US</dc:language>
  <cp:lastModifiedBy>LEGION</cp:lastModifiedBy>
  <dcterms:modified xsi:type="dcterms:W3CDTF">2016-01-05T12:46:42Z</dcterms:modified>
  <cp:revision>23</cp:revision>
  <dc:subject/>
  <dc:title>Предприятия и предпринимательство</dc:title>
</cp:coreProperties>
</file>