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82B0-B258-43B1-8A30-981FB9E9DF0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 и предприниматель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подготовила преподаватель «Омского государственного колледжа управления и профессиональных технологий» Лебедкова Наталья Васил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я и предприниматель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зентацию подготовила преподаватель «Омского государственного колледжа управления и профессиональных технологий» Лебедкова Наталья Васильев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е 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е товарищество (общество с неограниченной ответственностью) представляет собой форму организации предприятия, основанную на личном участие партнеров (товарищей) в его делах. По российскому законодательству полное товарищество – объединение нескольких граждан и/или юридических лиц для совместной хозяйственной деятельности на основании договора между ними. Главная отличительная черта полного товарищества заключается в том, что все его участники несут как совместную (имуществом товарищества), так и раздельную (личным имуществом) Ответственность по обязательствам предприятия. Полное товарищество действует под фирменным наименованием, которое содержит имена товари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ное товари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ное товарищество (общество с неограниченной ответственностью) представляет собой форму организации предприятия, основанную на личном участие партнеров (товарищей) в его делах. По российскому законодательству полное товарищество – объединение нескольких граждан и/или юридических лиц для совместной хозяйственной деятельности на основании договора между ними. Главная отличительная черта полного товарищества заключается в том, что все его участники несут как совместную (имуществом товарищества), так и раздельную (личным имуществом) Ответственность по обязательствам предприятия. Полное товарищество действует под фирменным наименованием, которое содержит имена товарище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. Полное товарищество создается и действует на основании учредительного договора, который подписывается всеми его участниками. После подачи соответствующего заявления полное товарищество подлежит государственной регист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. Как свидетельствует мировой опыт, полное товарищество является наиболее простой формой предприятия и больше всего подходит для организации мелких фирм. Полное товарищество мобильно, максимально свободно в решениях и действиях. Структура органов управления в рамках товарищества определяется самими партнерами. Большую роль играет личное доверие партнеров друг к д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. Полное товарищество создается и действует на основании учредительного договора, который подписывается всеми его участниками. После подачи соответствующего заявления полное товарищество подлежит государственной регистр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имущества. Как свидетельствует мировой опыт, полное товарищество является наиболее простой формой предприятия и больше всего подходит для организации мелких фирм. Полное товарищество мобильно, максимально свободно в решениях и действиях. Структура органов управления в рамках товарищества определяется самими партнерами. Большую роль играет личное доверие партнеров друг к другу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андитное 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андитное товарищество (товарищество на вере) представляет собой форму организации предприятия, в которой личное участие партнеров в делах с участием капитальными средствами. Основная черта товарищества на вере – наличие двух типов участников: коммандитистов и полных товарищ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мандитное товари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мандитное товарищество (товарищество на вере) представляет собой форму организации предприятия, в которой личное участие партнеров в делах с участием капитальными средствами. Основная черта товарищества на вере – наличие двух типов участников: коммандитистов и полных товарище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. Товарищество на вере действует под фирменным наименованием, в котором указаны имена полных товарищей. Обычно в случае включения в наименование имени коммандитиста последний становится полным товарищем, неограниченно ответственным по обязательствам товари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андитное товарищество создается и действует на основании учредительного договора, который подписывается всеми полными товарищами. После проверке договора уполномоченными государственными органами товарищество на вере подлежит регист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. Товарищество на вере действует под фирменным наименованием, в котором указаны имена полных товарищей. Обычно в случае включения в наименование имени коммандитиста последний становится полным товарищем, неограниченно ответственным по обязательствам товарище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мандитное товарищество создается и действует на основании учредительного договора, который подписывается всеми полными товарищами. После проверке договора уполномоченными государственными органами товарищество на вере подлежит регистр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. Выбор этой формы организации предприятия наиболее предпочтителен в тех случаях, когда перед учредителями возникает необходимость разделения финансового контроля над предприятием (осуществляемого коммандитистами) и управленческого контроля (осуществляемого полными товарищами).Появление новых интересов не изменяет формы товарищества на вере, что следует рассматривать как реальную возможность привлечения дополнительных финансовых средств для деятельности предприятия без дополнительных формаль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имущества. Выбор этой формы организации предприятия наиболее предпочтителен в тех случаях, когда перед учредителями возникает необходимость разделения финансового контроля над предприятием (осуществляемого коммандитистами) и управленческого контроля (осуществляемого полными товарищами).Появление новых интересов не изменяет формы товарищества на вере, что следует рассматривать как реальную возможность привлечения дополнительных финансовых средств для деятельности предприятия без дополнительных формальносте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 с ограниченной ответствен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 с ограниченной ответственностью (ООО) признается учрежденное одним или несколькими лицами общество, уставный капитал которого разделен на определенные доли. Предприятие в форме ООО полностью отвечает по своим обязательствам всем имуществом. Участники общества не отвечают по его обязательствам и несут риск убытков, связанных с деятельностью общества, только в пределах внесенных вкла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щество с ограниченной ответственность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щество с ограниченной ответственностью (ООО) признается учрежденное одним или несколькими лицами общество, уставный капитал которого разделен на определенные доли. Предприятие в форме ООО полностью отвечает по своим обязательствам всем имуществом. Участники общества не отвечают по его обязательствам и несут риск убытков, связанных с деятельностью общества, только в пределах внесенных вклад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. Общество с ограниченной ответственностью может быть учреждено одним или несколькими лицами. Число участников ООО не должно превышать предела, установленного законом; в противном случае общество с ограниченной ответственностью подлежит преобразованию в акционерное обще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. Выбор общества с ограниченной ответственностью в качестве формы организации предприятия позволяет ограничить риск участников величиной вклада в уставной капитал. Преимуществом следует считать и то, что для образования общества с ограниченной ответственностью обычно необходим меньший капитал, чем для организации акционерных обществ (кроме того, число участников общества с ограниченной ответственностью не может быть слишком большим). Следует отметить и более простую, чем для акционерных обществ, систему отчетности. Общество с ограниченной ответственностью – оптимальная форма организации предприятий средней величины, в том числе семейных объедин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. Общество с ограниченной ответственностью может быть учреждено одним или несколькими лицами. Число участников ООО не должно превышать предела, установленного законом; в противном случае общество с ограниченной ответственностью подлежит преобразованию в акционерное общество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имущества. Выбор общества с ограниченной ответственностью в качестве формы организации предприятия позволяет ограничить риск участников величиной вклада в уставной капитал. Преимуществом следует считать и то, что для образования общества с ограниченной ответственностью обычно необходим меньший капитал, чем для организации акционерных обществ (кроме того, число участников общества с ограниченной ответственностью не может быть слишком большим). Следует отметить и более простую, чем для акционерных обществ, систему отчетности. Общество с ограниченной ответственностью – оптимальная форма организации предприятий средней величины, в том числе семейных объединени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ым обществом (АО) признается предприятие, уставный капитал которого разделен на определенное число акций – ценных бумаг, свидетельствующих о вложении определенной суммы средств в капитал АО и дающих права на получение части прибыли в виде дивиден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кционерным обществом (АО) признается предприятие, уставный капитал которого разделен на определенное число акций – ценных бумаг, свидетельствующих о вложении определенной суммы средств в капитал АО и дающих права на получение части прибыли в виде дивиденд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. Учредителями АО могут быть как юридические, так и физические лица. АО может быть создано одним лицом или состоять из одного лица в случае приобретения всех акций одним акционером общества. Учредители АО заключают между собой договор и утверждают устав АО. Содержание устава регламентируется национальным законодатель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. Главные преимущества АО как формы предприятий известны:  это возможность привлечения дополнительных средств через выпуск акций и ограничение риска вкладчика в уставный капитал. Положительным моментом является и упрощенный порядок выхода из состава акционеров. Как показывает практика, АО является наиболее подходящей формой для крупных предприятий с долгосрочными ц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. Учредителями АО могут быть как юридические, так и физические лица. АО может быть создано одним лицом или состоять из одного лица в случае приобретения всех акций одним акционером общества. Учредители АО заключают между собой договор и утверждают устав АО. Содержание устава регламентируется национальным законодательство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имущества. Главные преимущества АО как формы предприятий известны:  это возможность привлечения дополнительных средств через выпуск акций и ограничение риска вкладчика в уставный капитал. Положительным моментом является и упрощенный порядок выхода из состава акционеров. Как показывает практика, АО является наиболее подходящей формой для крупных предприятий с долгосрочными целя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предприятий по родам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онно предприятия различаются по родам деятельности, которую, по определению К.Кларка, можно классифицировать по трем сектор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ый сектор, включающий аграрное производство, рыболовство, сырьевую, энергетическую и лесную промышлен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ичный сектор, объединяющий все виды промышлен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чный сектор, охватывающий сферу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ассификация предприятий по родам деятельност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радиционно предприятия различаются по родам деятельности, которую, по определению К.Кларка, можно классифицировать по трем секторам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вичный сектор, включающий аграрное производство, рыболовство, сырьевую, энергетическую и лесную промышленность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торичный сектор, объединяющий все виды промышленной деятельност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ретичный сектор, охватывающий сферу услуг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редители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енный комплекс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е формы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ение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ассификация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редители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мущественный комплекс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онные формы предприят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нимательская деятель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самостоятельная, осуществляемая на свой риск деятельность, направленная на систематическое получение прибыли от пользования имуществом, продажи товаров, выполнения работ или оказания услуг лицами, зарегистрированными в установленном законом порядке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. 1 ст. 2 ГК Р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НИМАТЕЛЬСКАЯ ДЕЯТЕЛЬ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"самостоятельная, осуществляемая на свой риск деятельность, направленная на систематическое получение прибыли от пользования имуществом, продажи товаров, выполнения работ или оказания услуг лицами, зарегистрированными в установленном законом порядке"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п. 1 ст. 2 ГК РФ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    +     удовлетворения потреб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нимател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быль     +     удовлетворения потребносте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уе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ИЗНЕ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е создается для производства необходимых обществу материальных благ, для  предоставления разнообразных услуг населению. Непосредственным стимулом для организации производства, основания предприятия является перспектива получить прибыль и употребить ее для удовлетворения соответствующих потребностей. Иначе говоря, заданием всех производственных, научно-исследовательских, коммерческих предприятий является удовлетворение общественных потребностей в продукции, работах, услугах и реализация на основе полученной прибыли социальных и экономических интересов членов трудового коллектива и собственника имущества предпри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опыта работы процветающих фирм в развитых странах приводит к выводу, что их стабильно высокие результаты определяются обеспечением взаимодействия технологических, организационных и социальных элементов производства, которое достигается благодаря реализации новой концепции развития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е создается для производства необходимых обществу материальных благ, для  предоставления разнообразных услуг населению. Непосредственным стимулом для организации производства, основания предприятия является перспектива получить прибыль и употребить ее для удовлетворения соответствующих потребностей. Иначе говоря, заданием всех производственных, научно-исследовательских, коммерческих предприятий является удовлетворение общественных потребностей в продукции, работах, услугах и реализация на основе полученной прибыли социальных и экономических интересов членов трудового коллектива и собственника имущества предприят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ализ опыта работы процветающих фирм в развитых странах приводит к выводу, что их стабильно высокие результаты определяются обеспечением взаимодействия технологических, организационных и социальных элементов производства, которое достигается благодаря реализации новой концепции развития экономик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фронов Н.А.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и. – М., 2006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ет-источн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allbest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inventech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тератур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афронов Н.А. Экономи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и. – М., 2006 г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тернет-источник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allbest.r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inventech.r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е - это самостоятельный хозяйствующий субъект, созданный для производства продукции, выполнения работ и оказания услуг с целью удовлетворения общественных потребностей и получения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е - это самостоятельный хозяйствующий субъект, созданный для производства продукции, выполнения работ и оказания услуг с целью удовлетворения общественных потребностей и получения прибыл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лу обособленности предприятия самостоятель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изводственной деятельности (что и сколько производить, как производи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ммерческой деятельности (что и сколько продавать, покупать, распределя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спределении производственного продукта (что идет на собственные нужды, а сколько на обмен и накопление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силу обособленности предприятия самостоятельн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производственной деятельности (что и сколько производить, как производить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коммерческой деятельности (что и сколько продавать, покупать, распределять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распределении производственного продукта (что идет на собственные нужды, а сколько на обмен и накопление и т.д.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е представляет собой производственно-технологическое, организационное и экономическое единство. Организационно оно является производственной единицей. Как правило, это завод, фабрика, шахта, электростанция, предприятие транспорта, связи, капитальное строительство, совхоз, оно может включать и несколько заводов или фабрик (комбинат, производственное объединение, концерн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е имеет собственное название, фирменный знак (марку), самостоятельный баланс, расчетный счет в банке. Оно несет имущественную ответственность по своим обязательствам, т.е. является юридическим лицом. Часто в хозяйственной практике используется понятие "фирма". Как правило, фирма представляет собой объединение однородных или смешанных пред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е представляет собой производственно-технологическое, организационное и экономическое единство. Организационно оно является производственной единицей. Как правило, это завод, фабрика, шахта, электростанция, предприятие транспорта, связи, капитальное строительство, совхоз, оно может включать и несколько заводов или фабрик (комбинат, производственное объединение, концерн и т.д.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е имеет собственное название, фирменный знак (марку), самостоятельный баланс, расчетный счет в банке. Оно несет имущественную ответственность по своим обязательствам, т.е. является юридическим лицом. Часто в хозяйственной практике используется понятие "фирма". Как правило, фирма представляет собой объединение однородных или смешанных предприяти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качественных параметров классификации предприятий можно назвать следу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 собственности (частные или государственны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 и содержание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сортимент выпускаемой продук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и методы ведения конкурентной борьб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вхождения в различные союзы и объеди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о-правовые формы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еди качественных параметров классификации предприятий можно назвать следующ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ип собственности (частные или государственные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арактер и содержание деятельност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ссортимент выпускаемой продук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особы и методы ведения конкурентной борьб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особ вхождения в различные союзы и объедине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онно-правовые формы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редители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е может создаваться одним или несколькими частными лицами, другими предприятиями или государ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редители должны осуществить предусмотренные законом действия по его организации, включая образование имущества предприятия, его государственную регистрацию, получение лицензии на осуществление избранной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начально имущество предприятия создается за счет имущества, переданного ему учредителями в виде вкладов (взносов, паев). Вкладываться могут денежные средства, материальные ценности и другие виды иму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о имущество предприятия обособленно и существует независимо от имущества его учредителей и участников (лиц, не имеющих отношения к учреждению предприятия и только вносящих свою долю в его имущества) и работников, занятых на предприятии. По своим обязательствам предприятие несет ответственность своим имуще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редители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е может создаваться одним или несколькими частными лицами, другими предприятиями или государство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редители должны осуществить предусмотренные законом действия по его организации, включая образование имущества предприятия, его государственную регистрацию, получение лицензии на осуществление избранной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воначально имущество предприятия создается за счет имущества, переданного ему учредителями в виде вкладов (взносов, паев). Вкладываться могут денежные средства, материальные ценности и другие виды имущества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ычно имущество предприятия обособленно и существует независимо от имущества его учредителей и участников (лиц, не имеющих отношения к учреждению предприятия и только вносящих свою долю в его имущества) и работников, занятых на предприятии. По своим обязательствам предприятие несет ответственность своим имущество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енный комплекс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енный комплекс предприятия включает все виды имущества, которые необходимы для осуществления предпринимательской деятельности. Наряду с привычными материально-вещественными элементами – зданиями, сооружениями, земельными участками, машинами, оборудованием, сырьем, полуфабрикатами, готовыми изделиями, наличными денежными средствами – в нем содержатся и нематериальные элементы, представленные совокупностью имущественных прав и обязанностей. Обычно в хозяйственной практике подобные элементы обозначаются как права промышленной, финансовой и коммерческой собственности. К финансовой собственности относят денежные бумаги (облигации, векселя, чеки и т.д.) и документы, выражающие право участия в разного рода обществах и компаниях (акции). К коммерческой собственности относятся товара распорядительные документы, выражающие права на получения товара (коносаменты, накладные, складские свидетельства и т.п.). К промышленной собственности относятся промышленные образцы, товарные знаки, знаки обслуживания, фирменное наименование и другие средства индивидуализации юридического лица, продукции, выпускаемых товаров или оказываемых услуг. К имуществу предприятия в современных условиях относят и особые не материально-вещественные элементы, такие как сложившаяся репутация предприятия, его деловые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мущественный комплекс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мущественный комплекс предприятия включает все виды имущества, которые необходимы для осуществления предпринимательской деятельности. Наряду с привычными материально-вещественными элементами – зданиями, сооружениями, земельными участками, машинами, оборудованием, сырьем, полуфабрикатами, готовыми изделиями, наличными денежными средствами – в нем содержатся и нематериальные элементы, представленные совокупностью имущественных прав и обязанностей. Обычно в хозяйственной практике подобные элементы обозначаются как права промышленной, финансовой и коммерческой собственности. К финансовой собственности относят денежные бумаги (облигации, векселя, чеки и т.д.) и документы, выражающие право участия в разного рода обществах и компаниях (акции). К коммерческой собственности относятся товара распорядительные документы, выражающие права на получения товара (коносаменты, накладные, складские свидетельства и т.п.). К промышленной собственности относятся промышленные образцы, товарные знаки, знаки обслуживания, фирменное наименование и другие средства индивидуализации юридического лица, продукции, выпускаемых товаров или оказываемых услуг. К имуществу предприятия в современных условиях относят и особые не материально-вещественные элементы, такие как сложившаяся репутация предприятия, его деловые связ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е формы предприят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е 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андитное 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 с ограниченной ответствен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онные формы предприятий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ное товари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мандитное товари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щество с ограниченной ответственность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C97C-F82F-4466-AB41-D9F8CC171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0D4E-0F59-437A-8BB8-C4118EC3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146D-D827-4949-9F69-B7B6F34B3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6371-9269-4983-BB37-B32770AE3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3AFE-8039-47B0-BE64-DA322E6C2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0858-7D7D-49A7-9DA3-43928687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9C7E-8921-48BB-8A99-0C73D381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F99F-698B-4EEE-8D18-DC449892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8060-C8EB-43BB-9942-37C1CE1B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BA85-F691-4DAC-A5E6-37958E27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B578-7E7C-4D36-A65A-3F1F4FEA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531F-3B4D-4B13-B278-BFF1EAA5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843A-85D0-4DF3-893C-0FF97590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9A08-EBA0-420F-A0B5-EE8ED0CC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27AF-2C53-401B-A183-B08BDF3E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1972-7E58-4BAC-AFAA-02ABCE410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38DD-97B6-4B31-9BD1-7F639DE4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31E5-68CF-4818-9A41-3863B28D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14EE-77DE-4FA7-91AF-0B355F53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D65F-CCF2-4901-ADA8-9D13A7C2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7677-1F2F-487C-AB49-A789482F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0C1E-5409-41F2-ABD8-D709B198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8EB2-FD48-41A3-A62B-2AC054B0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8354-ED4A-4C2D-93A5-F5497698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5209-235C-444D-8181-4904FB2C23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A8A7-57BB-4203-AD0A-20221C30D8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0920" y="2339640"/>
            <a:ext cx="8134200" cy="1730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редприятия и предпринимательство</a:t>
            </a:r>
            <a:br>
              <a:rPr sz="48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851280" y="4060440"/>
            <a:ext cx="4929120" cy="24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зентацию подготовила преподаватель «Омского государственного колледжа управления и профессиональных технологий» Лебедкова Наталья Васильев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олное товарищ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лное товарищество (общество с неограниченной ответственностью) представляет собой форму организации предприятия, основанную на личном участие партнеров (товарищей) в его делах. По российскому законодательству полное товарищество – объединение нескольких граждан и/или юридических лиц для совместной хозяйственной деятельности на основании договора между ними. Главная отличительная черта полного товарищества заключается в том, что все его участники несут как совместную (имуществом товарищества), так и раздельную (личным имуществом) Ответственность по обязательствам предприятия. Полное товарищество действует под фирменным наименованием, которое содержит имена товарищей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5280" y="105228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рганизация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ное товарищество создается и действует на основании учредительного договора, который подписывается всеми его участниками. После подачи соответствующего заявления полное товарищество подлежит государственной регистрац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еимуществ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ак свидетельствует мировой опыт, полное товарищество является наиболее простой формой предприятия и больше всего подходит для организации мелких фирм. Полное товарищество мобильно, максимально свободно в решениях и действиях. Структура органов управления в рамках товарищества определяется самими партнерами. Большую роль играет личное доверие партнеров друг к друг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Коммандитное товарищ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мандитное товарищество (товарищество на вере) представляет собой форму организации предприятия, в которой личное участие партнеров в делах с участием капитальными средствами. Основная черта товарищества на вере – наличие двух типов участников: коммандитистов и полных товарищей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рганизация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Товарищество на вере действует под фирменным наименованием, в котором указаны имена полных товарищей. Обычно в случае включения в наименование имени коммандитиста последний становится полным товарищем, неограниченно ответственным по обязательствам товарищест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ммандитное товарищество создается и действует на основании учредительного договора, который подписывается всеми полными товарищами. После проверке договора уполномоченными государственными органами товарищество на вере подлежит регистрац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еимущества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ыбор этой формы организации предприятия наиболее предпочтителен в тех случаях, когда перед учредителями возникает необходимость разделения финансового контроля над предприятием (осуществляемого коммандитистами) и управленческого контроля (осуществляемого полными товарищами).Появление новых интересов не изменяет формы товарищества на вере, что следует рассматривать как реальную возможность привлечения дополнительных финансовых средств для деятельности предприятия без дополнительных формальност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Общество с ограниченной ответственност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щество с ограниченной ответственностью (ООО) признается учрежденное одним или несколькими лицами общество, уставный капитал которого разделен на определенные доли. Предприятие в форме ООО полностью отвечает по своим обязательствам всем имуществом. Участники общества не отвечают по его обязательствам и несут риск убытков, связанных с деятельностью общества, только в пределах внесенных вклад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рганизация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щество с ограниченной ответственностью может быть учреждено одним или несколькими лицами. Число участников ООО не должно превышать предела, установленного законом; в противном случае общество с ограниченной ответственностью подлежит преобразованию в акционерное общество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еимущества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бор общества с ограниченной ответственностью в качестве формы организации предприятия позволяет ограничить риск участников величиной вклада в уставной капитал. Преимуществом следует считать и то, что для образования общества с ограниченной ответственностью обычно необходим меньший капитал, чем для организации акционерных обществ (кроме того, число участников общества с ограниченной ответственностью не может быть слишком большим). Следует отметить и более простую, чем для акционерных обществ, систему отчетности. Общество с ограниченной ответственностью – оптимальная форма организации предприятий средней величины, в том числе семейных объединени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Акционерное общ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кционерным обществом (АО) признается предприятие, уставный капитал которого разделен на определенное число акций – ценных бумаг, свидетельствующих о вложении определенной суммы средств в капитал АО и дающих права на получение части прибыли в виде дивиденд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рганизация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редителями АО могут быть как юридические, так и физические лица. АО может быть создано одним лицом или состоять из одного лица в случае приобретения всех акций одним акционером общества. Учредители АО заключают между собой договор и утверждают устав АО. Содержание устава регламентируется национальным законодательство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еимущества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авные преимущества АО как формы предприятий известны:  это возможность привлечения дополнительных средств через выпуск акций и ограничение риска вкладчика в уставный капитал. Положительным моментом является и упрощенный порядок выхода из состава акционеров. Как показывает практика, АО является наиболее подходящей формой для крупных предприятий с долгосрочными цел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лассификация предприятий по родам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адиционно предприятия различаются по родам деятельности, которую, по определению К.Кларка, можно классифицировать по трем секторам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вичный сектор, включающий аграрное производство, рыболовство, сырьевую, энергетическую и лесную промышленность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торичный сектор, объединяющий все виды промышленной деятельно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етичный сектор, охватывающий сферу услу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ение предприя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ассификация предприя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редители предприя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ущественный комплекс предприя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ационные формы предприят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принимательская деятель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ЕДПРИНИМАТЕЛЬСКАЯ ДЕЯТЕ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"самостоятельная, осуществляемая на свой риск деятельность, направленная на систематическое получение прибыли от пользования имуществом, продажи товаров, выполнения работ или оказания услуг лицами, зарегистрированными в установленном законом порядке"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п. 1 ст. 2 ГК РФ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дпринима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4" name="Picture 3" descr="C:\Documents and Settings\Первый\Local Settings\Temporary Internet Files\Content.IE5\GTC6DXZP\MM900283568[1].gif"/>
          <p:cNvPicPr/>
          <p:nvPr/>
        </p:nvPicPr>
        <p:blipFill>
          <a:blip r:embed="rId1"/>
          <a:stretch/>
        </p:blipFill>
        <p:spPr>
          <a:xfrm>
            <a:off x="1258920" y="1989000"/>
            <a:ext cx="1227240" cy="1371600"/>
          </a:xfrm>
          <a:prstGeom prst="rect">
            <a:avLst/>
          </a:prstGeom>
          <a:ln w="0">
            <a:noFill/>
          </a:ln>
        </p:spPr>
      </p:pic>
      <p:sp>
        <p:nvSpPr>
          <p:cNvPr id="215" name="Содержимое 2"/>
          <p:cNvSpPr/>
          <p:nvPr/>
        </p:nvSpPr>
        <p:spPr>
          <a:xfrm>
            <a:off x="45720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Box 12"/>
          <p:cNvSpPr/>
          <p:nvPr/>
        </p:nvSpPr>
        <p:spPr>
          <a:xfrm>
            <a:off x="539640" y="3860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Прибыль     +     удовлетворения потребнос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TextBox 9"/>
          <p:cNvSpPr/>
          <p:nvPr/>
        </p:nvSpPr>
        <p:spPr>
          <a:xfrm>
            <a:off x="4648320" y="2362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18" name="Прямая со стрелкой 6"/>
          <p:cNvCxnSpPr/>
          <p:nvPr/>
        </p:nvCxnSpPr>
        <p:spPr>
          <a:xfrm>
            <a:off x="2209680" y="2666520"/>
            <a:ext cx="1829520" cy="2520"/>
          </a:xfrm>
          <a:prstGeom prst="straightConnector1">
            <a:avLst/>
          </a:prstGeom>
          <a:ln w="38160">
            <a:solidFill>
              <a:srgbClr val="c1bcfc"/>
            </a:solidFill>
            <a:miter/>
            <a:tailEnd len="med" type="arrow" w="med"/>
          </a:ln>
        </p:spPr>
      </p:cxnSp>
      <p:sp>
        <p:nvSpPr>
          <p:cNvPr id="219" name="TextBox 7"/>
          <p:cNvSpPr/>
          <p:nvPr/>
        </p:nvSpPr>
        <p:spPr>
          <a:xfrm>
            <a:off x="2362320" y="2133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уе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0" name="Багетная рамка 8"/>
          <p:cNvGrpSpPr/>
          <p:nvPr/>
        </p:nvGrpSpPr>
        <p:grpSpPr>
          <a:xfrm>
            <a:off x="4145040" y="1994040"/>
            <a:ext cx="2700360" cy="1096920"/>
            <a:chOff x="4145040" y="1994040"/>
            <a:chExt cx="2700360" cy="1096920"/>
          </a:xfrm>
        </p:grpSpPr>
        <p:pic>
          <p:nvPicPr>
            <p:cNvPr id="221" name="Багетная рамка 8" descr=""/>
            <p:cNvPicPr/>
            <p:nvPr/>
          </p:nvPicPr>
          <p:blipFill>
            <a:blip r:embed="rId2"/>
            <a:stretch/>
          </p:blipFill>
          <p:spPr>
            <a:xfrm>
              <a:off x="4145040" y="1994040"/>
              <a:ext cx="27003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4321080" y="2146320"/>
              <a:ext cx="2343240" cy="7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3" name="TextBox 9"/>
          <p:cNvSpPr/>
          <p:nvPr/>
        </p:nvSpPr>
        <p:spPr>
          <a:xfrm>
            <a:off x="4427640" y="2349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Выноска со стрелкой вправо 13"/>
          <p:cNvSpPr/>
          <p:nvPr/>
        </p:nvSpPr>
        <p:spPr>
          <a:xfrm rot="16200000">
            <a:off x="3714840" y="1942920"/>
            <a:ext cx="1523880" cy="8305560"/>
          </a:xfrm>
          <a:prstGeom prst="rightArrowCallout">
            <a:avLst>
              <a:gd name="adj1" fmla="val -21526"/>
              <a:gd name="adj2" fmla="val 25006"/>
              <a:gd name="adj3" fmla="val 25000"/>
              <a:gd name="adj4" fmla="val 64977"/>
            </a:avLst>
          </a:prstGeom>
          <a:solidFill>
            <a:srgbClr val="f1f0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TextBox 14"/>
          <p:cNvSpPr/>
          <p:nvPr/>
        </p:nvSpPr>
        <p:spPr>
          <a:xfrm>
            <a:off x="3352680" y="60199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БИЗНЕ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248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приятие создается для производства необходимых обществу материальных благ, для  предоставления разнообразных услуг населению. Непосредственным стимулом для организации производства, основания предприятия является перспектива получить прибыль и употребить ее для удовлетворения соответствующих потребностей. Иначе говоря, заданием всех производственных, научно-исследовательских, коммерческих предприятий является удовлетворение общественных потребностей в продукции, работах, услугах и реализация на основе полученной прибыли социальных и экономических интересов членов трудового коллектива и собственника имущества предприяти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нализ опыта работы процветающих фирм в развитых странах приводит к выводу, что их стабильно высокие результаты определяются обеспечением взаимодействия технологических, организационных и социальных элементов производства, которое достигается благодаря реализации новой концепции развития экономик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афронов Н.А. Экономи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рганизации. – М., 2006 г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тернет-источник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ww.allbest.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www.inventech.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приятие - это самостоятельный хозяйствующий субъект, созданный для производства продукции, выполнения работ и оказания услуг с целью удовлетворения общественных потребностей и получения прибыл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 силу обособленности предприятия самостоятель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роизводственной деятельности (что и сколько производить, как производить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коммерческой деятельности (что и сколько продавать, покупать, распределять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распределении производственного продукта (что идет на собственные нужды, а сколько на обмен и накопление и т.д.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6600ff"/>
                </a:solidFill>
                <a:latin typeface="Times New Roman"/>
              </a:rPr>
              <a:t>Предприятие представляет соб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оизводственно-технологическое, организационное и экономическое единство. Организационно оно является производственной единицей. Как правило, это завод, фабрика, шахта, электростанция, предприятие транспорта, связи, капитальное строительство, совхоз, оно может включать и несколько заводов или фабрик (комбинат, производственное объединение, концерн и т.д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6600ff"/>
                </a:solidFill>
                <a:latin typeface="Times New Roman"/>
              </a:rPr>
              <a:t>Предприятие име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бственное название, фирменный знак (марку), самостоятельный баланс, расчетный счет в банке. Оно несет имущественную ответственность по своим обязательствам, т.е. является юридическим лицом. Часто в хозяйственной практике используется понятие "фирма". Как правило, фирма представляет собой объединение однородных или смешанных предприят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реди качественных параметров классификации предприятий можно назвать следующ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 собственности (частные или государственные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арактер и содержание деятельност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ссортимент выпускаемой продукц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особы и методы ведения конкурентной борьб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особ вхождения в различные союзы и объедине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онно-правовые формы предпринимательской деятель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Учредители предпри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приятие может создаваться одним или несколькими частными лицами, другими предприятиями или государств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редители должны осуществить предусмотренные законом действия по его организации, включая образование имущества предприятия, его государственную регистрацию, получение лицензии на осуществление избранной предпринимательской деятель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воначально имущество предприятия создается за счет имущества, переданного ему учредителями в виде вкладов (взносов, паев). Вкладываться могут денежные средства, материальные ценности и другие виды имуществ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ычно имущество предприятия обособленно и существует независимо от имущества его учредителей и участников (лиц, не имеющих отношения к учреждению предприятия и только вносящих свою долю в его имущества) и работников, занятых на предприятии. По своим обязательствам предприятие несет ответственность своим имуществом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Имущественный комплекс предпри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ущественный комплекс предприятия включает все виды имущества, которые необходимы для осуществления предпринимательской деятельности. Наряду с привычными материально-вещественными элементами – зданиями, сооружениями, земельными участками, машинами, оборудованием, сырьем, полуфабрикатами, готовыми изделиями, наличными денежными средствами – в нем содержатся и нематериальные элементы, представленные совокупностью имущественных прав и обязанностей. Обычно в хозяйственной практике подобные элементы обозначаются как права промышленной, финансовой и коммерческой собственности. К финансовой собственности относят денежные бумаги (облигации, векселя, чеки и т.д.) и документы, выражающие право участия в разного рода обществах и компаниях (акции). К коммерческой собственности относятся товара распорядительные документы, выражающие права на получения товара (коносаменты, накладные, складские свидетельства и т.п.). К промышленной собственности относятся промышленные образцы, товарные знаки, знаки обслуживания, фирменное наименование и другие средства индивидуализации юридического лица, продукции, выпускаемых товаров или оказываемых услуг. К имуществу предприятия в современных условиях относят и особые не материально-вещественные элементы, такие как сложившаяся репутация предприятия, его деловые связ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Организационные формы предприят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208240"/>
            <a:ext cx="822960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ное товарище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мандитное товарище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ество с ограниченной ответственность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ционерное обще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09:58:16Z</dcterms:created>
  <dc:creator>света</dc:creator>
  <dc:description/>
  <dc:language>en-US</dc:language>
  <cp:lastModifiedBy>LEGION</cp:lastModifiedBy>
  <dcterms:modified xsi:type="dcterms:W3CDTF">2016-01-05T12:46:42Z</dcterms:modified>
  <cp:revision>23</cp:revision>
  <dc:subject/>
  <dc:title>Предприятия и предпринимательство</dc:title>
</cp:coreProperties>
</file>