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CB45-B222-4030-86D8-981BDEF87B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пуренко А.Ю., тезисы по материалам статьи, 19.03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пуренко А.Ю., тезисы по материалам статьи, 19.03.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т макроэкономических антикризисных мер (1992-199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ат макроэкономических антикризисных мер (1992-1995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тановление институтов и «формальной» государственной политики (1995-199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Становление институтов и «формальной» государственной политики (1995-199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середины 1990-х гг. – первые попытки осмысления сложившейся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Концепция «выживания» или «естественного отбора» МС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держивается РСПП и блоком «хозяйственников» в правительств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онцепция МСП как «двигателя прогресса» - обсуждается лишь в экспертном со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середины 1990-х гг. – первые попытки осмысления сложившейся полит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Концепция «выживания» или «естественного отбора» МС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оддерживается РСПП и блоком «хозяйственников» в правительств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онцепция МСП как «двигателя прогресса» - обсуждается лишь в экспертном сообще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зис и его преодоление (1998 г.-200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и механизмы гос. политики разваливаются на глаза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П – нелюбимое дитя правительства и политических пар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ризис и его преодоление (1998 г.-2001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и механизмы гос. политики разваливаются на глазах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– нелюбимое дитя правительства и политических пар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регулирование (2002-20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онцепции МСП как «двигателя прогрес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ерегулирование (2002-2004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онцепции МСП как «двигателя прогресс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едомственная программа поддержки и развития МСП на 2005-200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ы написали, как правиль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ЭРТ – сделало как над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управляющий орган не соз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МСП не проинформ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публичный мониторинг не вед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вопрос о критериях эффективности повис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Ведомственная программа поддержки и развития МСП на 2005-2008 г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ты написали, как правильн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МЭРТ – сделало как над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управляющий орган не созд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МСП не проинформиров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публичный мониторинг не веде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вопрос о критериях эффективности повис в воздух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ризис (2008 г.-…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неясна, упор - на так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Кризис (2008 г.-…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я неясна, упор - на такти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ких условиях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аких условиях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 понятно, почему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та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нереализуемы на основе господства ныне доминирующих в России типов предпринимательст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юда понятно, почему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такой полит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нереализуемы на основе господства ныне доминирующих в России типов предпринимательств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эта стат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эта статья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написана для сборника в Edward Elgar – отсюда известная опис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побудил еще раз оценить тренды последних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тья написана для сборника в Edward Elgar – отсюда известная описа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зис побудил еще раз оценить тренды последних 20 л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лог: возникновение альтернативных субъектов экономики (конец 1980-х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здание кооперативов и малых предприятий как прообразов предприниматель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никновение двухсекторной модели в рамках «экономики дефици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воначальное накопление: ползучая прив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ролог: возникновение альтернативных субъектов экономики (конец 1980-х гг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оздание кооперативов и малых предприятий как прообразов предпринимательских фи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возникновение двухсекторной модели в рамках «экономики дефицит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ервоначальное накопление: ползучая приватиз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легализация предпринимательства, массовое «уличное предприниматель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ватизация и формирование квазичастн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разование огромных ниш на рынках при низких барьерах в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сформированность правовой среды для деятельности част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лабость правовой защиты со стороны государства, криминальный рэк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легализация предпринимательства, массовое «уличное предпринимательств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риватизация и формирование квазичастного предприниматель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бразование огромных ниш на рынках при низких барьерах вх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сформированность правовой среды для деятельности частн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лабость правовой защиты со стороны государства, криминальный рэк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аживание хозяйственных связей в предпринимательском сек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ст спроса на потребительские товары вследствие роста до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кращение бартера вследствие роста монетизаци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нижение интенсивности вывода активов в сегменте приватизированны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ссовый уход предприятий от налогооб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вершение формирования интегрированных бизнес-групп и на их базе – олигарх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алаживание хозяйственных связей в предпринимательском сектор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ост спроса на потребительские товары вследствие роста доходов на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бартера вследствие роста монетизации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нижение интенсивности вывода активов в сегменте приватизированных пред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массовый уход предприятий от налогооблож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завершение формирования интегрированных бизнес-групп и на их базе – олигарха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становление малого предпринимательства и его устойчив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явление и рост российских «газел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вое качество коррупции влияет на бизнес-стратегии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восстановление малого предпринимательства и его устойчивый ро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явление и рост российских «газелей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овое качество коррупции влияет на бизнес-стратегии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структивное, непроизводительное и производительное предпринимательство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е (добавленная стоимость включает прибыль) – все ост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структивное, непроизводительное и производительное предпринимательство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ительное (добавленная стоимость включает прибыль) – все ост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(William Baumol, 1990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юм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(William Baumol, 1990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EA17-4136-472C-90B4-268BC9F6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4198-644F-4616-88D0-AEED346F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5BC9-4A91-4A3F-8C46-3D48CF4C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16D9-E187-4711-85AD-251FF2D7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1329-2C2C-40EF-8BBB-F8F9C240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7A75-38CD-4B83-97BC-439E5FEA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0B65-2665-4CF0-BFAE-56A44847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2BE6-4A55-4837-B940-E1309133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7593-3899-4FAE-9B9B-F2E9168A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5C26-48BC-4754-ABDE-2C84BAA5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EE30-D9E4-45E8-A3AD-A2F0FE53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83EA-578E-435E-B89F-64B07DAB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B530-ECAB-4932-9B23-2C50C466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B983-32C4-4C66-85F3-63961B2C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DC53-05AE-42B4-A030-2A9C3BEF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DF9D-E89E-413B-BA13-B9F58038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B198-CD9F-4E56-A49F-F6CB7472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DD30-78E5-4865-81B9-BB8422F0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95C7-D06A-48BD-86C1-DB1C64FC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72B0-715F-440F-A0CC-287F727D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C883-BEDF-4F24-A5D9-09E818D4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6F55-7B0D-4BB0-9309-BF0BD1F7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DC0B3-E768-45E9-9184-57A06184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9720-C0E6-4558-AB7F-F0DE28D9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EAAF-8578-4C98-A8E2-F5477FB03B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E372-22B5-428C-96E0-53D1D04910A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18560" cy="2547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пуренко А.Ю., тезисы по материалам статьи, 19.03.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ат макроэкономических антикризисных мер (1992-1995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тановление институтов и «формальной» государственной политики (1995-1998 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середины 1990-х гг. – первые попытки осмысления сложившейся полит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Концепция «выживания» или «естественного отбора» М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оддерживается РСПП и блоком «хозяйственников» в правительств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. Концепция МСП как «двигателя прогресса»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бсуждается лишь в экспертном сообще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Кризис и его преодоление (1998 г.-2001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итуты и механизмы гос. политики разваливаются на глазах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СП – нелюбимое дитя правительства и политических пар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Дерегулирование (2002-2004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. Концепции МСП как «двигателя прогресс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Ведомственная программа поддержки и развития МСП на 2005-2008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рты написали, как правиль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МЭРТ – сделало как над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управляющий орган не созд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МСП не проинформиров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публичный мониторинг не вед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вопрос о критериях эффективности повис в воздух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. Кризис (2008 г.-…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тегия неясна, упор - на такти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аких условия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сюда понятно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чем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ак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и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реализуем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 основе господства ныне доминирующих в России типов предпринимательств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труктура презент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Зачем эта статья?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тья написана для сборника 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Elgar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сюда известная описа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зис побудил еще раз оценить тренды последних 20 л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Пролог: возникновение альтернативных субъектов экономики (конец 1980-х гг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оздание кооперативов и малых предприятий как прообразов предпринимательских фир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озникновение двухсекторной модели в рамках «экономики дефицит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ервоначальное накопление: ползучая приватиз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легализация предпринимательства, массовое «уличное предпринимательств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ватизация и формирование квазичастного предприниматель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бразование огромных ниш на рынках при низких барьерах вх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сформированность правовой среды для деятельности частного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лабость правовой защиты со стороны государства, криминальный рэк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аживание хозяйственных связей в предпринимательском секто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ост спроса на потребительские товары вследствие роста доходов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сокращение бартера вследствие роста монетизации эконом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нижение интенсивности вывода активов в сегменте приватизированных предприя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ассовый уход предприятий от налогообло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завершение формирования интегрированных бизнес-групп и на их базе – олигарх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осстановление малого предпринимательства и его устойчивый 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явление и рост российских «газелей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овое качество коррупции влияет на бизнес-стратегии предпринима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Деструктивное, непроизводительное и производительное предпринимательство в Росси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водительное (добавленная стоимость включает прибыль) – </a:t>
            </a:r>
            <a:r>
              <a:rPr b="0" i="1" lang="ru-RU" sz="2800" spc="-1" strike="noStrike">
                <a:solidFill>
                  <a:srgbClr val="dfdef6"/>
                </a:solidFill>
                <a:latin typeface="Arial"/>
              </a:rPr>
              <a:t>все оста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езюм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illiam Baumol, 199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4" descr="pic"/>
          <p:cNvPicPr/>
          <p:nvPr/>
        </p:nvPicPr>
        <p:blipFill>
          <a:blip r:embed="rId3"/>
          <a:stretch/>
        </p:blipFill>
        <p:spPr>
          <a:xfrm>
            <a:off x="7524720" y="189000"/>
            <a:ext cx="1438200" cy="1557360"/>
          </a:xfrm>
          <a:prstGeom prst="rect">
            <a:avLst/>
          </a:prstGeom>
          <a:ln w="0">
            <a:noFill/>
          </a:ln>
        </p:spPr>
      </p:pic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7:29Z</dcterms:created>
  <dc:creator>пользователь</dc:creator>
  <dc:description/>
  <dc:language>en-US</dc:language>
  <cp:lastModifiedBy>LEGION</cp:lastModifiedBy>
  <dcterms:modified xsi:type="dcterms:W3CDTF">2016-01-05T12:46:51Z</dcterms:modified>
  <cp:revision>9</cp:revision>
  <dc:subject/>
  <dc:title>Развитие предпринимательства и политика в отношении предпринимательства в России (1990-2000-е гг</dc:title>
</cp:coreProperties>
</file>