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C7ED-AB25-4D97-A2DC-2E8F35EF79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регулирование (2002-20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 написали, как правиль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ЭРТ – сделало как над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управляющий орган не соз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МСП не проинформ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публичный мониторинг не вед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зис (2008 г.-…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неясна, упор - на так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9634-7D1C-426C-8400-193974C2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5FF3-1725-42D7-9A91-AB2321E5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7021-D831-43B7-B706-80F8099B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FEA6-D194-43D9-BDEC-CC2D5199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42F8-47CF-43B0-8BE5-FE6A26E2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3329-8793-4A41-949D-7996BB06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5731-6A2E-4593-87E9-61CED744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8E00-DF0C-44E0-8CEE-3495AE23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F9F4-A4AA-4D4B-BB0B-77CA332A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B770-9FB6-4629-B04A-EAA134E6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E5B4-C099-42B2-AB2C-670A76DB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1474-5248-4A53-BA4B-90C6FF19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3442-DD88-4184-BE6E-BEFB8058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5964-C64D-4B54-9AB4-52D9764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903F-F4BF-40E0-9631-BDD102D1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8D4E-FE96-432E-B709-6D327D1B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7F8C-7656-4E8D-9E95-D9BDCF3F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1885-F0B4-4E40-9B44-D21B07CE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700E-7505-40A9-A5FC-F2369DEE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89F3-B026-45B8-8208-41388FCD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C48D-FA78-4A09-A79E-B8DED443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E616-81DD-4129-814E-870881D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C9A8-7057-4766-9A8F-AA5CBFD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5280-FF6E-4331-B763-FEEBD639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FCF9-6D31-43EF-8528-46FEE78F06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241D-B2FD-49C9-83F7-2BD55C15F3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18560" cy="254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суждается лишь в экспертном сообще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аки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юда понятно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реализуе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основе господства ныне доминирующих в России типов предпринимательств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труктура презент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чем эта статья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Elgar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юда известная опис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</a:t>
            </a: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все оста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illiam Baumol, 199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pic"/>
          <p:cNvPicPr/>
          <p:nvPr/>
        </p:nvPicPr>
        <p:blipFill>
          <a:blip r:embed="rId3"/>
          <a:stretch/>
        </p:blipFill>
        <p:spPr>
          <a:xfrm>
            <a:off x="7524720" y="189000"/>
            <a:ext cx="1438200" cy="1557360"/>
          </a:xfrm>
          <a:prstGeom prst="rect">
            <a:avLst/>
          </a:prstGeom>
          <a:ln w="0">
            <a:noFill/>
          </a:ln>
        </p:spPr>
      </p:pic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7:29Z</dcterms:created>
  <dc:creator>пользователь</dc:creator>
  <dc:description/>
  <dc:language>en-US</dc:language>
  <cp:lastModifiedBy>LEGION</cp:lastModifiedBy>
  <dcterms:modified xsi:type="dcterms:W3CDTF">2016-01-05T12:46:51Z</dcterms:modified>
  <cp:revision>9</cp:revision>
  <dc:subject/>
  <dc:title>Развитие предпринимательства и политика в отношении предпринимательства в России (1990-2000-е гг</dc:title>
</cp:coreProperties>
</file>