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44C8EEA-A90C-498D-BB66-53BC982C66CA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6. Цель как объективная системная катег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е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исследования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ерархия целей хозяй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6. Цель как объективная системная категор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змерение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ы исследования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ерархия целей хозяйственной систе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етоды исследования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. Методы исследования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Иерархия целей хозяй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. Сущност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Реализация (воплощение) сущностн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Прикладно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оверхностный (внешний)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. Иерархия целей хозяйственной систе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0. Сущностны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Реализация (воплощение) сущностного уровн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Прикладной 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. Поверхностный (внешний) уровен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1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ова В.Н., Денисов А.А. Теория систем и системный анализ. М.: Юрайт,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лов Н.М.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лкова В.Н., Денисов А.А. Теория систем и системный анализ. М.: Юрайт, 2010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ветлов Н.М.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. Анализ содержания категории «цель»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. Целесообразность и поведение систе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Измерение целесообра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. Измерение целесообраз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ль как объективная общесистемная категория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© Н.М. Светлов, 20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1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F88-0822-48D3-8881-D0D193B7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80B-6436-4C06-A466-3A1A0151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FA3-BA31-43A2-B380-90F16E66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D6F-D0DC-4B7D-94B1-C3C184DF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B36B-2CB4-4BE3-8555-50A3ECE1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14BF-2DEA-4516-B477-08069616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C9F0-D2E2-46D3-B852-DE4CCADD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0E05-277B-416F-A3FE-9B0A5E1C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938A-BEE9-44DC-B47A-B1AA47B0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7A42-AFE5-462E-81FD-A927FA88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EB94-4466-4AEA-B168-8BBC3BD7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A83-0B10-485E-BD3B-53C3860B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04CF-F835-4A5D-990F-801EB8AF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5E0A-65AF-45BA-8F49-2F634308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969E-691B-4804-9BDB-F8033351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12AF-F441-4B23-8FB3-FE373620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CFEF-3F70-451E-B3CF-FA78CFCC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302-7B17-4B64-9630-58FC6E8E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D6C-B120-41CB-A832-8A19F37A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0E9-4846-4E43-A91D-243A8AA6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1A8-E6EE-40E0-A318-B5F233A1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CE2-F24B-4D78-80F4-210293B6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788-4BB2-4DDF-80C8-2FA4813E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66E-DF35-4FAB-AB7E-6269722F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8f8f8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C2BA-9B4E-45D5-9584-C5818F2BE5F1}" type="slidenum">
              <a:rPr b="0" lang="ru-RU" sz="1400" spc="-1" strike="noStrike">
                <a:solidFill>
                  <a:srgbClr val="f8f8f8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f8f8f8"/>
                </a:solidFill>
                <a:latin typeface="Tahoma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9" descr=""/>
          <p:cNvPicPr/>
          <p:nvPr/>
        </p:nvPicPr>
        <p:blipFill>
          <a:blip r:embed="rId2"/>
          <a:stretch/>
        </p:blipFill>
        <p:spPr>
          <a:xfrm>
            <a:off x="0" y="-4680"/>
            <a:ext cx="108576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3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4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5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77777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0DF9-6726-4EE0-8A71-E5D372F496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d4d4d"/>
                </a:solidFill>
                <a:latin typeface="Tahoma"/>
              </a:rPr>
              <a:t>Лекция </a:t>
            </a:r>
            <a:r>
              <a:rPr b="0" lang="en-US" sz="2500" spc="-1" strike="noStrike">
                <a:solidFill>
                  <a:srgbClr val="4d4d4d"/>
                </a:solidFill>
                <a:latin typeface="Tahoma"/>
              </a:rPr>
              <a:t>6</a:t>
            </a:r>
            <a:r>
              <a:rPr b="0" lang="ru-RU" sz="2500" spc="-1" strike="noStrike">
                <a:solidFill>
                  <a:srgbClr val="4d4d4d"/>
                </a:solidFill>
                <a:latin typeface="Tahoma"/>
              </a:rPr>
              <a:t>. </a:t>
            </a:r>
            <a:r>
              <a:rPr b="1" lang="ru-RU" sz="3200" spc="-1" strike="noStrike">
                <a:solidFill>
                  <a:srgbClr val="4d4d4d"/>
                </a:solidFill>
                <a:latin typeface="Tahoma"/>
              </a:rPr>
              <a:t>Цель как объективная системная категория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70000" y="2641680"/>
            <a:ext cx="777240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одержание лек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содержания категории «цель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есообразность и поведение систе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рение целесообраз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ы исследования целесообраз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ерархия целей хозяйственной систем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548080" y="6119640"/>
            <a:ext cx="3860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4. Методы исследования целесообразности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50" name="Содержимое 5" descr=""/>
          <p:cNvPicPr/>
          <p:nvPr/>
        </p:nvPicPr>
        <p:blipFill>
          <a:blip r:embed="rId1"/>
          <a:stretch/>
        </p:blipFill>
        <p:spPr>
          <a:xfrm>
            <a:off x="633240" y="1944720"/>
            <a:ext cx="78822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984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5. Иерархия целей хозяйственной системы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53" name="Содержимое 4" descr=""/>
          <p:cNvPicPr/>
          <p:nvPr/>
        </p:nvPicPr>
        <p:blipFill>
          <a:blip r:embed="rId1"/>
          <a:stretch/>
        </p:blipFill>
        <p:spPr>
          <a:xfrm>
            <a:off x="-6480" y="1407960"/>
            <a:ext cx="9064800" cy="52610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684360" y="1592280"/>
            <a:ext cx="4859280" cy="118908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. Сущност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684360" y="2852640"/>
            <a:ext cx="8028000" cy="118908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Реализация (воплощение) сущностного уров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108000" y="4041720"/>
            <a:ext cx="8893080" cy="118764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икладно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оугольник 10"/>
          <p:cNvSpPr/>
          <p:nvPr/>
        </p:nvSpPr>
        <p:spPr>
          <a:xfrm>
            <a:off x="108000" y="5265720"/>
            <a:ext cx="8172360" cy="1187640"/>
          </a:xfrm>
          <a:prstGeom prst="rect">
            <a:avLst/>
          </a:prstGeom>
          <a:solidFill>
            <a:srgbClr val="b2b2b2">
              <a:alpha val="35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Поверхностный (внешний)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Нижний колонтитул 4"/>
          <p:cNvSpPr/>
          <p:nvPr/>
        </p:nvSpPr>
        <p:spPr>
          <a:xfrm>
            <a:off x="2556000" y="649296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олкова В.Н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Денисов А.А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Теория систем и системный анализ. М.: Юрайт, 201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4d4d4d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Светлов Н.М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Системный анализ целей аграрного производства: Лекция по курсу «Системный анализ» для студентов специальностей «Математические методы в экономике» и «Прикладная информатика в  экономике АПК» сельскохозяйственных вузов: Изд. 2-е, испр. и доп. / МСХА им. К.А. Тимирязева. М., 200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116000" y="1486080"/>
            <a:ext cx="6114960" cy="47145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 rot="16200000">
            <a:off x="-2579040" y="276768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158920" y="169920"/>
            <a:ext cx="6114960" cy="6688080"/>
          </a:xfrm>
          <a:prstGeom prst="rect">
            <a:avLst/>
          </a:prstGeom>
          <a:ln w="0">
            <a:noFill/>
          </a:ln>
        </p:spPr>
      </p:pic>
      <p:sp>
        <p:nvSpPr>
          <p:cNvPr id="133" name="Нижний колонтитул 4"/>
          <p:cNvSpPr/>
          <p:nvPr/>
        </p:nvSpPr>
        <p:spPr>
          <a:xfrm rot="16200000">
            <a:off x="6856560" y="402444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934920" y="2060640"/>
            <a:ext cx="7439040" cy="411300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1. Анализ содержания категории «цель»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224000" y="1882800"/>
            <a:ext cx="6912000" cy="43466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2. Целесообразность и поведение систем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18648" t="0" r="0" b="0"/>
          <a:stretch/>
        </p:blipFill>
        <p:spPr>
          <a:xfrm>
            <a:off x="1368360" y="1989000"/>
            <a:ext cx="7056360" cy="40086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2. Целесообразность и поведение систем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4920" y="1916280"/>
            <a:ext cx="7861320" cy="4249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Tahoma"/>
              </a:rPr>
              <a:t>3. Измерение целесообразности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0" t="0" r="0" b="6323"/>
          <a:stretch/>
        </p:blipFill>
        <p:spPr>
          <a:xfrm>
            <a:off x="1079640" y="1736640"/>
            <a:ext cx="7524720" cy="451476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4"/>
          <p:cNvSpPr/>
          <p:nvPr/>
        </p:nvSpPr>
        <p:spPr>
          <a:xfrm>
            <a:off x="254808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b2b2b2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11T10:08:48Z</dcterms:modified>
  <cp:revision>248</cp:revision>
  <dc:subject/>
  <dc:title>Цель как объективная системная категория</dc:title>
</cp:coreProperties>
</file>