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04B3B9A-79D8-47D8-BA27-2691C399A2AE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кция 6. Цель как объективная системная категор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ние лек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одержания категории «цел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есообразность и поведение 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рение целесообраз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ы исследования целесообраз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ерархия целей хозяйственной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Лекция 6. Цель как объективная системная категори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одержание лекции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Анализ содержания категории «цель»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есообразность и поведение систе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змерение целесообразн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етоды исследования целесообразн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ерархия целей хозяйственной системы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Методы исследования целесообраз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4. Методы исследования целесообразн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0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Иерархия целей хозяйственной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. Сущност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Реализация (воплощение) сущностного уровн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Прикладно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оверхностный (внешний)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5. Иерархия целей хозяйственной системы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0. Сущностный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уровень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. Реализация (воплощение) сущностного уровн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2. Прикладной уровень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3. Поверхностный (внешний) уровень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1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ова В.Н., Денисов А.А. Теория систем и системный анализ. М.: Юрайт, 20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етлов Н.М. Системный анализ целей аграрного производства: Лекция по курсу «Системный анализ» для студентов специальностей «Математические методы в экономике» и «Прикладная информатика в  экономике АПК» сельскохозяйственных вузов: Изд. 2-е, испр. и доп. / МСХА им. К.А. Тимирязева. М., 20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олкова В.Н., Денисов А.А. Теория систем и системный анализ. М.: Юрайт, 2010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ветлов Н.М. Системный анализ целей аграрного производства: Лекция по курсу «Системный анализ» для студентов специальностей «Математические методы в экономике» и «Прикладная информатика в  экономике АПК» сельскохозяйственных вузов: Изд. 2-е, испр. и доп. / МСХА им. К.А. Тимирязева. М., 2003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2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Анализ содержания категории «цел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. Анализ содержания категории «цель»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3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Анализ содержания категории «цел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. Анализ содержания категории «цель»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4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Анализ содержания категории «цел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. Анализ содержания категории «цель»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5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Анализ содержания категории «цел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. Анализ содержания категории «цель»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6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Целесообразность и поведение 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2. Целесообразность и поведение систе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7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Целесообразность и поведение 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2. Целесообразность и поведение систе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8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Измерение целесообраз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3. Измерение целесообразн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9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7939-BCC8-46BD-9F16-D1738337E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15AF-C30E-4BFB-A4AA-88766C5B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4E49-79A0-43E3-930E-395222A67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D234-E374-44D1-B532-5C4058ABE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613F-A323-44BF-A463-48FF7454F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7DA7-FA05-4035-8DAB-D6A6DC12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9FA3-BF7E-4B88-B69A-BBFC61DA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225D-598C-4FC0-8337-E53EFB44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73AC-E185-45B2-827D-4AB4938A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6489-C024-4FD6-A155-DD72D499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7AB6-912A-44B8-80F0-486593F6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E296-E6A1-41A5-B0FB-0CF5CC33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E8C1-A7C5-4620-B29F-ABA3C22D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DB55-EC48-40B9-AB6F-787FE3F5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9840-6061-44AF-B245-EA68817C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AEB5-3010-4358-B674-C4508A7E0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FD83-DEB8-4070-9272-4BDC1C66A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02E0-2589-4A46-BA37-201CC648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3231-95D7-40FA-892D-0E0CF240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2680-5ED2-43BF-BDDB-B422AAC6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A778-FCD9-49C7-99BB-FED9503A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8D0E-68A2-4914-97BD-F1D93219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9E35-0495-4120-A807-B61D94A0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0D00-EB67-4826-B6EE-BC2D1E45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2640" y="624852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f8f8f8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f8f8f8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9A8D-4B21-4B67-9B43-C69A76221F7E}" type="slidenum">
              <a:rPr b="0" lang="ru-RU" sz="1400" spc="-1" strike="noStrike">
                <a:solidFill>
                  <a:srgbClr val="f8f8f8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f8f8f8"/>
                </a:solidFill>
                <a:latin typeface="Tahoma"/>
              </a:rPr>
              <a:t>/2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d4d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77777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4d4d4d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39" descr=""/>
          <p:cNvPicPr/>
          <p:nvPr/>
        </p:nvPicPr>
        <p:blipFill>
          <a:blip r:embed="rId2"/>
          <a:stretch/>
        </p:blipFill>
        <p:spPr>
          <a:xfrm>
            <a:off x="0" y="-4680"/>
            <a:ext cx="1085760" cy="688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43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8f8f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4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45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d4d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77777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4d4d4d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907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2123640" y="6248520"/>
            <a:ext cx="597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AA94-9C65-4610-99DD-417B28E820F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58752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d4d4d"/>
                </a:solidFill>
                <a:latin typeface="Tahoma"/>
              </a:rPr>
              <a:t>Лекция </a:t>
            </a:r>
            <a:r>
              <a:rPr b="0" lang="en-US" sz="2500" spc="-1" strike="noStrike">
                <a:solidFill>
                  <a:srgbClr val="4d4d4d"/>
                </a:solidFill>
                <a:latin typeface="Tahoma"/>
              </a:rPr>
              <a:t>6</a:t>
            </a:r>
            <a:r>
              <a:rPr b="0" lang="ru-RU" sz="2500" spc="-1" strike="noStrike">
                <a:solidFill>
                  <a:srgbClr val="4d4d4d"/>
                </a:solidFill>
                <a:latin typeface="Tahoma"/>
              </a:rPr>
              <a:t>. </a:t>
            </a:r>
            <a:r>
              <a:rPr b="1" lang="ru-RU" sz="3200" spc="-1" strike="noStrike">
                <a:solidFill>
                  <a:srgbClr val="4d4d4d"/>
                </a:solidFill>
                <a:latin typeface="Tahoma"/>
              </a:rPr>
              <a:t>Цель как объективная системная категория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70000" y="2641680"/>
            <a:ext cx="7772400" cy="31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Содержание лекц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4d4d4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нализ содержания категории «цель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4d4d4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Целесообразность и поведение систе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4d4d4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змерение целесообразност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4d4d4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тоды исследования целесообразност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4d4d4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ерархия целей хозяйственной систем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4d4d4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Нижний колонтитул 4"/>
          <p:cNvSpPr/>
          <p:nvPr/>
        </p:nvSpPr>
        <p:spPr>
          <a:xfrm>
            <a:off x="2548080" y="6119640"/>
            <a:ext cx="38606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4. Методы исследования целесообразности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50" name="Содержимое 5" descr=""/>
          <p:cNvPicPr/>
          <p:nvPr/>
        </p:nvPicPr>
        <p:blipFill>
          <a:blip r:embed="rId1"/>
          <a:stretch/>
        </p:blipFill>
        <p:spPr>
          <a:xfrm>
            <a:off x="633240" y="1944720"/>
            <a:ext cx="7882200" cy="4114800"/>
          </a:xfrm>
          <a:prstGeom prst="rect">
            <a:avLst/>
          </a:prstGeom>
          <a:ln w="0">
            <a:noFill/>
          </a:ln>
        </p:spPr>
      </p:pic>
      <p:sp>
        <p:nvSpPr>
          <p:cNvPr id="151" name="Нижний колонтитул 4"/>
          <p:cNvSpPr/>
          <p:nvPr/>
        </p:nvSpPr>
        <p:spPr>
          <a:xfrm>
            <a:off x="254808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9840"/>
            <a:ext cx="7772400" cy="12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5. Иерархия целей хозяйственной системы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53" name="Содержимое 4" descr=""/>
          <p:cNvPicPr/>
          <p:nvPr/>
        </p:nvPicPr>
        <p:blipFill>
          <a:blip r:embed="rId1"/>
          <a:stretch/>
        </p:blipFill>
        <p:spPr>
          <a:xfrm>
            <a:off x="-6480" y="1407960"/>
            <a:ext cx="9064800" cy="526104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7"/>
          <p:cNvSpPr/>
          <p:nvPr/>
        </p:nvSpPr>
        <p:spPr>
          <a:xfrm>
            <a:off x="684360" y="1592280"/>
            <a:ext cx="4859280" cy="1189080"/>
          </a:xfrm>
          <a:prstGeom prst="rect">
            <a:avLst/>
          </a:prstGeom>
          <a:solidFill>
            <a:srgbClr val="b2b2b2">
              <a:alpha val="35000"/>
            </a:srgbClr>
          </a:solidFill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0. Сущностны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ровен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Прямоугольник 8"/>
          <p:cNvSpPr/>
          <p:nvPr/>
        </p:nvSpPr>
        <p:spPr>
          <a:xfrm>
            <a:off x="684360" y="2852640"/>
            <a:ext cx="8028000" cy="1189080"/>
          </a:xfrm>
          <a:prstGeom prst="rect">
            <a:avLst/>
          </a:prstGeom>
          <a:solidFill>
            <a:srgbClr val="b2b2b2">
              <a:alpha val="35000"/>
            </a:srgbClr>
          </a:solidFill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Реализация (воплощение) сущностного уровн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Прямоугольник 9"/>
          <p:cNvSpPr/>
          <p:nvPr/>
        </p:nvSpPr>
        <p:spPr>
          <a:xfrm>
            <a:off x="108000" y="4041720"/>
            <a:ext cx="8893080" cy="1187640"/>
          </a:xfrm>
          <a:prstGeom prst="rect">
            <a:avLst/>
          </a:prstGeom>
          <a:solidFill>
            <a:srgbClr val="b2b2b2">
              <a:alpha val="35000"/>
            </a:srgbClr>
          </a:solidFill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Прикладной уровен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Прямоугольник 10"/>
          <p:cNvSpPr/>
          <p:nvPr/>
        </p:nvSpPr>
        <p:spPr>
          <a:xfrm>
            <a:off x="108000" y="5265720"/>
            <a:ext cx="8172360" cy="1187640"/>
          </a:xfrm>
          <a:prstGeom prst="rect">
            <a:avLst/>
          </a:prstGeom>
          <a:solidFill>
            <a:srgbClr val="b2b2b2">
              <a:alpha val="35000"/>
            </a:srgbClr>
          </a:solidFill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 Поверхностный (внешний) уровен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Нижний колонтитул 4"/>
          <p:cNvSpPr/>
          <p:nvPr/>
        </p:nvSpPr>
        <p:spPr>
          <a:xfrm>
            <a:off x="2556000" y="649296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Литература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4d4d4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Волкова В.Н.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Денисов А.А.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Теория систем и системный анализ. М.: Юрайт, 2010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4d4d4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Светлов Н.М.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Системный анализ целей аграрного производства: Лекция по курсу «Системный анализ» для студентов специальностей «Математические методы в экономике» и «Прикладная информатика в  экономике АПК» сельскохозяйственных вузов: Изд. 2-е, испр. и доп. / МСХА им. К.А. Тимирязева. М., 200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Нижний колонтитул 4"/>
          <p:cNvSpPr/>
          <p:nvPr/>
        </p:nvSpPr>
        <p:spPr>
          <a:xfrm>
            <a:off x="254808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1. Анализ содержания категории «цель»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1116000" y="1486080"/>
            <a:ext cx="6114960" cy="4714560"/>
          </a:xfrm>
          <a:prstGeom prst="rect">
            <a:avLst/>
          </a:prstGeom>
          <a:ln w="0">
            <a:noFill/>
          </a:ln>
        </p:spPr>
      </p:pic>
      <p:sp>
        <p:nvSpPr>
          <p:cNvPr id="130" name="Нижний колонтитул 4"/>
          <p:cNvSpPr/>
          <p:nvPr/>
        </p:nvSpPr>
        <p:spPr>
          <a:xfrm>
            <a:off x="254808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 rot="16200000">
            <a:off x="-2579040" y="276768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1. Анализ содержания категории «цель»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158920" y="169920"/>
            <a:ext cx="6114960" cy="6688080"/>
          </a:xfrm>
          <a:prstGeom prst="rect">
            <a:avLst/>
          </a:prstGeom>
          <a:ln w="0">
            <a:noFill/>
          </a:ln>
        </p:spPr>
      </p:pic>
      <p:sp>
        <p:nvSpPr>
          <p:cNvPr id="133" name="Нижний колонтитул 4"/>
          <p:cNvSpPr/>
          <p:nvPr/>
        </p:nvSpPr>
        <p:spPr>
          <a:xfrm rot="16200000">
            <a:off x="6856560" y="402444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1. Анализ содержания категории «цель»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934920" y="2060640"/>
            <a:ext cx="7439040" cy="4113000"/>
          </a:xfrm>
          <a:prstGeom prst="rect">
            <a:avLst/>
          </a:prstGeom>
          <a:ln w="0">
            <a:noFill/>
          </a:ln>
        </p:spPr>
      </p:pic>
      <p:sp>
        <p:nvSpPr>
          <p:cNvPr id="136" name="Нижний колонтитул 4"/>
          <p:cNvSpPr/>
          <p:nvPr/>
        </p:nvSpPr>
        <p:spPr>
          <a:xfrm>
            <a:off x="254808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1. Анализ содержания категории «цель»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224000" y="1882800"/>
            <a:ext cx="6912000" cy="434664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4"/>
          <p:cNvSpPr/>
          <p:nvPr/>
        </p:nvSpPr>
        <p:spPr>
          <a:xfrm>
            <a:off x="254808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2. Целесообразность и поведение систем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rcRect l="18648" t="0" r="0" b="0"/>
          <a:stretch/>
        </p:blipFill>
        <p:spPr>
          <a:xfrm>
            <a:off x="1368360" y="1989000"/>
            <a:ext cx="7056360" cy="4008600"/>
          </a:xfrm>
          <a:prstGeom prst="rect">
            <a:avLst/>
          </a:prstGeom>
          <a:ln w="0">
            <a:noFill/>
          </a:ln>
        </p:spPr>
      </p:pic>
      <p:sp>
        <p:nvSpPr>
          <p:cNvPr id="142" name="Нижний колонтитул 4"/>
          <p:cNvSpPr/>
          <p:nvPr/>
        </p:nvSpPr>
        <p:spPr>
          <a:xfrm>
            <a:off x="254808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2. Целесообразность и поведение систем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934920" y="1916280"/>
            <a:ext cx="7861320" cy="4249440"/>
          </a:xfrm>
          <a:prstGeom prst="rect">
            <a:avLst/>
          </a:prstGeom>
          <a:ln w="0">
            <a:noFill/>
          </a:ln>
        </p:spPr>
      </p:pic>
      <p:sp>
        <p:nvSpPr>
          <p:cNvPr id="145" name="Нижний колонтитул 4"/>
          <p:cNvSpPr/>
          <p:nvPr/>
        </p:nvSpPr>
        <p:spPr>
          <a:xfrm>
            <a:off x="254808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3. Измерение целесообразности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rcRect l="0" t="0" r="0" b="6323"/>
          <a:stretch/>
        </p:blipFill>
        <p:spPr>
          <a:xfrm>
            <a:off x="1079640" y="1736640"/>
            <a:ext cx="7524720" cy="4514760"/>
          </a:xfrm>
          <a:prstGeom prst="rect">
            <a:avLst/>
          </a:prstGeom>
          <a:ln w="0">
            <a:noFill/>
          </a:ln>
        </p:spPr>
      </p:pic>
      <p:sp>
        <p:nvSpPr>
          <p:cNvPr id="148" name="Нижний колонтитул 4"/>
          <p:cNvSpPr/>
          <p:nvPr/>
        </p:nvSpPr>
        <p:spPr>
          <a:xfrm>
            <a:off x="254808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17:48:52Z</dcterms:created>
  <dc:creator>Н. Светлов</dc:creator>
  <dc:description/>
  <dc:language>en-US</dc:language>
  <cp:lastModifiedBy>LEGION</cp:lastModifiedBy>
  <dcterms:modified xsi:type="dcterms:W3CDTF">2016-01-11T10:08:48Z</dcterms:modified>
  <cp:revision>248</cp:revision>
  <dc:subject/>
  <dc:title>Цель как объективная системная категория</dc:title>
</cp:coreProperties>
</file>