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05BA-AABF-4AD8-B752-113C487B267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. Экономическая деятельность и условия её эффектив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организационной структуры фир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ая (линей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условия применения данной структур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жная (линейно –штабна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– постановка целей деятельности и определение путей их дости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г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е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-5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госроч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-20 л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есяц, кварта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ство – создание условий для деятельности по реализации планов, принятие управленческих ре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туац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(анг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arket – рынок; продавать, сб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 – деятельность по  изучению, формированию и удовлетворению потребительского спроса на рын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олог – экономист – социолог; специалист по изучению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ый принцип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ь то, что можно прод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принци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ие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действие на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пы изуче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гментация – основной метод маркет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мографическая сегмен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итерии сегментации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роникнов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лекательность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– денежное выражение стоимости това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упое следование за конкурен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ятие слив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никнов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ый (расчет издерже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ратно - маркетинг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 менеджмента. Основы маркет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стимулирования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ышение качества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уск новых товаров,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ижение цен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нового вы узнали на урок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важен для вас данный урок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лайте выводы по уро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стигли ли мы целе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§ 6, зад. 1-3 стр. 78 устно, записи в тетр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вторить §§ 1-5, подготовиться к проверочной рабо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обсу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это наука или искус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научиться бизнес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мология пон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 англ. ) management – 1) заведование, управлен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равление, дирекция, администр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1) наука и искусство управлен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 – наемный специалист по управлен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п – менеджеры крупных компа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высшего зве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руководители организаций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среднего зве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заместители руководителя, начальни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и произво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стера, бригадир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1A3B-87A4-45F0-A8EF-9C922ACA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8110-BF35-41DF-856E-6EBC6BC2C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D32-7844-4CE6-B11F-7E1F3B93B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EE008-E9F6-4E6F-9BBC-3EE14C18A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F2EAA-E787-4800-87E7-FC80359A9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02E8-C9EA-4C35-AC0F-8912B61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77C7D-D6A5-4407-84ED-2D3E9172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7EC0-A916-4BDB-AA5D-4D4865A0E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E23A-4B91-4E93-8846-245E23B8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157B8-833F-4E9B-B709-12B6F606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8029A-476A-436C-A5A7-AB7936FE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693C-F897-4CE3-B3B6-779B3E629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C7617-36E7-4358-A463-F4276516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7C1C-F809-439E-BB9F-37BE063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4AEA-562C-4164-8242-D4767C3FB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28BB-A07F-4B58-BDA6-5497744A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B9BA9-CB8D-4AD4-B274-2A1E635EB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A48B-44BF-4B39-9144-B1076ACA5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449-ECBE-4940-9EF8-064E8916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6BB9-C18E-43CB-B388-45BC2BB14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D981-94EA-4F69-81D0-DE3E80D9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4D0B-412B-488C-BC45-01455D73B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F1C7-EC8E-448C-9976-3E668513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4397-938A-414B-B3F3-72BA42D9E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2A41B-90FF-4555-B614-E8E58788117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2898-D12C-4CF5-883D-F8E92D08BCA3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ru-RU" sz="5400" spc="-1" strike="noStrike">
                <a:solidFill>
                  <a:srgbClr val="0000ff"/>
                </a:solidFill>
                <a:latin typeface="Times New Roman"/>
              </a:rPr>
              <a:t>Экономическое развитие. Экономическая деятельность и условия её эффективности.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Функци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Организац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Руководств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ff"/>
                </a:solidFill>
                <a:latin typeface="Arial"/>
              </a:rPr>
              <a:t>Контрол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2411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Организация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определение структуры фирмы, распределение заданий между отдельными группами людей и координация их деятельн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иды организационной структуры фир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548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Простая (линейна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Arial"/>
              </a:rPr>
              <a:t>Каковы условия применения данной структу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4"/>
          <p:cNvSpPr/>
          <p:nvPr/>
        </p:nvSpPr>
        <p:spPr>
          <a:xfrm>
            <a:off x="4716360" y="2276640"/>
            <a:ext cx="1656000" cy="914400"/>
          </a:xfrm>
          <a:prstGeom prst="hexagon">
            <a:avLst>
              <a:gd name="adj" fmla="val 45276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5"/>
          <p:cNvSpPr/>
          <p:nvPr/>
        </p:nvSpPr>
        <p:spPr>
          <a:xfrm flipH="1">
            <a:off x="3563640" y="2781360"/>
            <a:ext cx="115236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"/>
          <p:cNvSpPr/>
          <p:nvPr/>
        </p:nvSpPr>
        <p:spPr>
          <a:xfrm flipH="1">
            <a:off x="4571640" y="3213000"/>
            <a:ext cx="57636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5940360" y="3213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8"/>
          <p:cNvSpPr/>
          <p:nvPr/>
        </p:nvSpPr>
        <p:spPr>
          <a:xfrm>
            <a:off x="6372360" y="2781360"/>
            <a:ext cx="1224000" cy="107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5580000" y="321300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0"/>
          <p:cNvSpPr/>
          <p:nvPr/>
        </p:nvSpPr>
        <p:spPr>
          <a:xfrm>
            <a:off x="2771640" y="3933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4"/>
          <p:cNvSpPr/>
          <p:nvPr/>
        </p:nvSpPr>
        <p:spPr>
          <a:xfrm>
            <a:off x="4067280" y="4508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5"/>
          <p:cNvSpPr/>
          <p:nvPr/>
        </p:nvSpPr>
        <p:spPr>
          <a:xfrm>
            <a:off x="6084720" y="45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6"/>
          <p:cNvSpPr/>
          <p:nvPr/>
        </p:nvSpPr>
        <p:spPr>
          <a:xfrm>
            <a:off x="7308720" y="3860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7"/>
          <p:cNvSpPr/>
          <p:nvPr/>
        </p:nvSpPr>
        <p:spPr>
          <a:xfrm>
            <a:off x="5076720" y="364500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8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8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340000" y="475920"/>
            <a:ext cx="662472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ложная (линейно –штабна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4427640" y="1341360"/>
            <a:ext cx="2136600" cy="935280"/>
          </a:xfrm>
          <a:prstGeom prst="roundRect">
            <a:avLst>
              <a:gd name="adj" fmla="val 1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Руководит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5"/>
          <p:cNvSpPr/>
          <p:nvPr/>
        </p:nvSpPr>
        <p:spPr>
          <a:xfrm flipH="1">
            <a:off x="3924000" y="2276640"/>
            <a:ext cx="86364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364000" y="2276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940360" y="2276640"/>
            <a:ext cx="863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3132000" y="285264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4859280" y="31417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0"/>
          <p:cNvSpPr/>
          <p:nvPr/>
        </p:nvSpPr>
        <p:spPr>
          <a:xfrm>
            <a:off x="6516720" y="278136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1"/>
          <p:cNvSpPr/>
          <p:nvPr/>
        </p:nvSpPr>
        <p:spPr>
          <a:xfrm>
            <a:off x="219564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2"/>
          <p:cNvSpPr/>
          <p:nvPr/>
        </p:nvSpPr>
        <p:spPr>
          <a:xfrm>
            <a:off x="349236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478800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00720" y="458136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7524720" y="4508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6"/>
          <p:cNvSpPr/>
          <p:nvPr/>
        </p:nvSpPr>
        <p:spPr>
          <a:xfrm>
            <a:off x="4211640" y="558972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17"/>
          <p:cNvSpPr/>
          <p:nvPr/>
        </p:nvSpPr>
        <p:spPr>
          <a:xfrm>
            <a:off x="5580000" y="5516640"/>
            <a:ext cx="914400" cy="914400"/>
          </a:xfrm>
          <a:prstGeom prst="octagon">
            <a:avLst>
              <a:gd name="adj" fmla="val 2928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18"/>
          <p:cNvSpPr/>
          <p:nvPr/>
        </p:nvSpPr>
        <p:spPr>
          <a:xfrm flipH="1">
            <a:off x="2700360" y="3500280"/>
            <a:ext cx="50472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19"/>
          <p:cNvSpPr/>
          <p:nvPr/>
        </p:nvSpPr>
        <p:spPr>
          <a:xfrm>
            <a:off x="3924360" y="378936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"/>
          <p:cNvSpPr/>
          <p:nvPr/>
        </p:nvSpPr>
        <p:spPr>
          <a:xfrm>
            <a:off x="4140360" y="3357720"/>
            <a:ext cx="576000" cy="22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1"/>
          <p:cNvSpPr/>
          <p:nvPr/>
        </p:nvSpPr>
        <p:spPr>
          <a:xfrm>
            <a:off x="4140360" y="3357720"/>
            <a:ext cx="936360" cy="12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2"/>
          <p:cNvSpPr/>
          <p:nvPr/>
        </p:nvSpPr>
        <p:spPr>
          <a:xfrm>
            <a:off x="5364000" y="407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5651640" y="4076640"/>
            <a:ext cx="433080" cy="14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4"/>
          <p:cNvSpPr/>
          <p:nvPr/>
        </p:nvSpPr>
        <p:spPr>
          <a:xfrm>
            <a:off x="5940360" y="3645000"/>
            <a:ext cx="865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5"/>
          <p:cNvSpPr/>
          <p:nvPr/>
        </p:nvSpPr>
        <p:spPr>
          <a:xfrm flipH="1">
            <a:off x="6877080" y="3716280"/>
            <a:ext cx="71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8"/>
          <p:cNvSpPr/>
          <p:nvPr/>
        </p:nvSpPr>
        <p:spPr>
          <a:xfrm>
            <a:off x="7164360" y="3716280"/>
            <a:ext cx="64764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8c0039"/>
                </a:solidFill>
                <a:uFillTx/>
                <a:latin typeface="Arial"/>
              </a:rPr>
              <a:t>Планирование</a:t>
            </a:r>
            <a:r>
              <a:rPr b="0" lang="ru-RU" sz="2800" spc="-1" strike="noStrike">
                <a:solidFill>
                  <a:srgbClr val="8c0039"/>
                </a:solidFill>
                <a:latin typeface="Arial"/>
              </a:rPr>
              <a:t> – постановка целей деятельности и определение путей их достижения</a:t>
            </a:r>
            <a:endParaRPr b="0" lang="en-US" sz="2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3708360" y="1989000"/>
            <a:ext cx="35276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Планир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2340000" y="3357720"/>
            <a:ext cx="208764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ратк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-2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6732720" y="3357720"/>
            <a:ext cx="2089080" cy="7920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е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-5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564000" y="4653000"/>
            <a:ext cx="177804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лгосроч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-20 л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6227640" y="4653000"/>
            <a:ext cx="1944720" cy="914400"/>
          </a:xfrm>
          <a:prstGeom prst="rect">
            <a:avLst/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ператив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месяц, кварта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0"/>
          <p:cNvSpPr/>
          <p:nvPr/>
        </p:nvSpPr>
        <p:spPr>
          <a:xfrm flipH="1">
            <a:off x="3348000" y="2924280"/>
            <a:ext cx="151128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"/>
          <p:cNvSpPr/>
          <p:nvPr/>
        </p:nvSpPr>
        <p:spPr>
          <a:xfrm>
            <a:off x="6084720" y="2924280"/>
            <a:ext cx="136692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2"/>
          <p:cNvSpPr/>
          <p:nvPr/>
        </p:nvSpPr>
        <p:spPr>
          <a:xfrm flipH="1">
            <a:off x="4427280" y="2924280"/>
            <a:ext cx="86508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3"/>
          <p:cNvSpPr/>
          <p:nvPr/>
        </p:nvSpPr>
        <p:spPr>
          <a:xfrm>
            <a:off x="5651640" y="2924280"/>
            <a:ext cx="144144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2438280" y="620280"/>
            <a:ext cx="6400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c0039"/>
                </a:solidFill>
                <a:uFillTx/>
                <a:latin typeface="Arial"/>
              </a:rPr>
              <a:t>Руководство</a:t>
            </a: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 – создание условий для деятельности по реализации планов, принятие управленческих решен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7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8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8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438280" y="476280"/>
            <a:ext cx="64008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Ситуац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Работник организации, которому было дано важное производственное задание, не выполнил порученного в срок. Каковы ваши действия, как руководителя организации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2438280" y="692280"/>
            <a:ext cx="6400800" cy="54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00ff"/>
                </a:solidFill>
                <a:uFillTx/>
                <a:latin typeface="Arial"/>
              </a:rPr>
              <a:t>Контроль</a:t>
            </a:r>
            <a:r>
              <a:rPr b="0" lang="ru-RU" sz="4000" spc="-1" strike="noStrike">
                <a:solidFill>
                  <a:srgbClr val="0000ff"/>
                </a:solidFill>
                <a:latin typeface="Arial"/>
              </a:rPr>
              <a:t> – проверка деятельности фирмы, её сотрудников, с целью корректировки действий для достижения целей, реализации план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38280" y="1599840"/>
            <a:ext cx="6400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аркетинг (анг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market –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рынок; продавать, сбыв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На основе этимологии понятия самостоятельно дайте его определ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2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4" dur="8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инг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деятельность по  изучению, формированию и удовлетворению потребительского спроса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аркетолог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– экономист – социолог; специалист по изучению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2" dur="8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знать особенности экономического развития стран мира, основные проблемы экономики и пути их решения, способы повышения эффективности хозяйственной деятельност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уметь составлять публичные выступления на основе мультимедиапрезентаций, работать в группе, налаживать эффективное взаимодейств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инципы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Главный принцип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изводить то, что можно прод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ругие принцип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Изучение ры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оздействие на ры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8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3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8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Этапы изуче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бор информации о ценах, состоянии спроса и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Анализ информа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нятие решения о производстве товаров и услу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3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5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0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1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7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8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9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Сегментация – основной метод маркетинг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Ге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емографическая сегмент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сихографическая сегментация (изучение мотиваци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еденческая сегментация (изучение отношения к товарам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10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10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10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Задание:</a:t>
            </a:r>
            <a:br>
              <a:rPr sz="3600"/>
            </a:br>
            <a:r>
              <a:rPr b="0" i="1" lang="ru-RU" sz="3600" spc="-1" strike="noStrike">
                <a:solidFill>
                  <a:srgbClr val="0000ff"/>
                </a:solidFill>
                <a:latin typeface="Arial"/>
              </a:rPr>
              <a:t>На основе текста на стр. 73-74 учебника определите содержание критериев сегментации рынка. К какому сегменту вы бы отнесли себя, как потребител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1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2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8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438280" y="1600200"/>
          <a:ext cx="6400800" cy="372888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81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478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Критерии сегментации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1600200"/>
          <a:ext cx="6400800" cy="4260960"/>
        </p:xfrm>
        <a:graphic>
          <a:graphicData uri="http://schemas.openxmlformats.org/drawingml/2006/table">
            <a:tbl>
              <a:tblPr/>
              <a:tblGrid>
                <a:gridCol w="1600200"/>
                <a:gridCol w="1600200"/>
                <a:gridCol w="1600200"/>
                <a:gridCol w="1600200"/>
              </a:tblGrid>
              <a:tr h="1471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Географи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Демографи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сихографи-чес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веденчес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ая сегмента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9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лимат мес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риродные ресурс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лотность насел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аличие гор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П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Возра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азмер семь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Уровень дох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Род занят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тиль жиз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Личные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Индивидуальное отношение к товар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нова-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Но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Обыкновен-ны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Консервато-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buClr>
                          <a:srgbClr val="e4005c"/>
                        </a:buClr>
                        <a:buSzPct val="70000"/>
                        <a:buFont typeface="Wingdings" charset="2"/>
                        <a:buChar char="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Суперконсер-вато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роникновение на рынок и разработка стратегии сбы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Методы проникнов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ривлекательность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пособы распространения (каналы сбыта)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ообраз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Цена – денежное выражение стоимости това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9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0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6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7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3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4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1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2" dur="8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ценообраз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Глупое следование за конкурент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ятие сли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роникнов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ый (расчет издерж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Затратно - маркетингов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8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9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0" dur="8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6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7" dur="8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6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7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8" dur="8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ff"/>
                </a:solidFill>
                <a:latin typeface="Arial"/>
              </a:rPr>
              <a:t>Задание: Самостоятельно определите и запишите методы стимулирования рын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0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1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2" dur="8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836280"/>
            <a:ext cx="7631280" cy="482436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ff"/>
                </a:solidFill>
                <a:latin typeface="Times New Roman"/>
              </a:rPr>
              <a:t>Основные принципы менеджмента. Основы маркетинга.</a:t>
            </a:r>
            <a:endParaRPr b="0" lang="en-US" sz="6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Методы стимулирования рынк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Рекла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Акции по привлечению внимания к товару, услуг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Повышение качества прод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Выпуск новых товаров, услу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Снижение цен и д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7" dur="2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2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3" dur="2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Рефлекс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то нового вы узнали на урок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Чем важен для вас данный урок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делайте выводы по уро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Составьте предложения с понятиями «менеджмент», «менеджер», «маркетинг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Достигли ли мы цел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8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8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nodeType="clickEffect" fill="hold">
                      <p:stCondLst>
                        <p:cond delay="indefinite"/>
                      </p:stCondLst>
                      <p:childTnLst>
                        <p:par>
                          <p:cTn id="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9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0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dur="8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6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7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8" dur="8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, зад. 1-3 стр. 78 устно, записи в тетра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овторить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§§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1-5, подготовиться к проверочной рабо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9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c0039"/>
                </a:solidFill>
                <a:latin typeface="Arial"/>
              </a:rPr>
              <a:t>Цели  урока</a:t>
            </a:r>
            <a:endParaRPr b="0" lang="en-US" sz="4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нать и уметь оперировать понятиями «менеджмент», «менеджер», «маркетинг», «цена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уметь характеризовать основные функции менеджмента, главные принципы маркетинга, методы рыночного цено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Вопросы для обсуж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Бизнес – это наука или искусство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Можно ли научиться бизнесу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8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8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Этимология поня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( англ. 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) management – 1)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заведование, управлени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2) обращение, умение (владеть инструментом, работать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3) правление, дирекция, администр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ff"/>
                </a:solidFill>
                <a:latin typeface="Arial"/>
              </a:rPr>
              <a:t>Задание: на основе этимологии составьте определение понятия менедж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 – это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Понятие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мент 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– 1) наука и искусство управления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2) особая деятельность по управлению предприятием (организацией, фирмой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3) группа людей, профессионально занимающихся управл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ff"/>
                </a:solidFill>
                <a:uFillTx/>
                <a:latin typeface="Arial"/>
              </a:rPr>
              <a:t>Менеджер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 – наемный специалист по управлен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c0039"/>
                </a:solidFill>
                <a:latin typeface="Arial"/>
              </a:rPr>
              <a:t>Уровни менеджмент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10920" y="1197000"/>
            <a:ext cx="64278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63"/>
          <p:cNvSpPr/>
          <p:nvPr/>
        </p:nvSpPr>
        <p:spPr>
          <a:xfrm>
            <a:off x="3276720" y="1628640"/>
            <a:ext cx="4680000" cy="914400"/>
          </a:xfrm>
          <a:prstGeom prst="downArrowCallout">
            <a:avLst>
              <a:gd name="adj1" fmla="val 127965"/>
              <a:gd name="adj2" fmla="val 127953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Топ – менеджеры крупных комп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64"/>
          <p:cNvSpPr/>
          <p:nvPr/>
        </p:nvSpPr>
        <p:spPr>
          <a:xfrm>
            <a:off x="3203640" y="2852640"/>
            <a:ext cx="5111640" cy="865440"/>
          </a:xfrm>
          <a:prstGeom prst="downArrowCallout">
            <a:avLst>
              <a:gd name="adj1" fmla="val 147674"/>
              <a:gd name="adj2" fmla="val 147660"/>
              <a:gd name="adj3" fmla="val 16667"/>
              <a:gd name="adj4" fmla="val 74481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высше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руководители организаци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5"/>
          <p:cNvSpPr/>
          <p:nvPr/>
        </p:nvSpPr>
        <p:spPr>
          <a:xfrm>
            <a:off x="3203640" y="4005360"/>
            <a:ext cx="5184720" cy="1224000"/>
          </a:xfrm>
          <a:prstGeom prst="downArrowCallout">
            <a:avLst>
              <a:gd name="adj1" fmla="val 105907"/>
              <a:gd name="adj2" fmla="val 105897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среднего зв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(заместители руководителя, начальни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подразделений и производст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6"/>
          <p:cNvSpPr/>
          <p:nvPr/>
        </p:nvSpPr>
        <p:spPr>
          <a:xfrm>
            <a:off x="2987640" y="5445000"/>
            <a:ext cx="5472000" cy="914400"/>
          </a:xfrm>
          <a:prstGeom prst="downArrowCallout">
            <a:avLst>
              <a:gd name="adj1" fmla="val 149620"/>
              <a:gd name="adj2" fmla="val 149606"/>
              <a:gd name="adj3" fmla="val 16667"/>
              <a:gd name="adj4" fmla="val 66667"/>
            </a:avLst>
          </a:prstGeom>
          <a:solidFill>
            <a:srgbClr val="c58b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енеджеры низового звена (начальники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мастера, бригадиры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1:08:03Z</dcterms:created>
  <dc:creator>User</dc:creator>
  <dc:description/>
  <dc:language>en-US</dc:language>
  <cp:lastModifiedBy>LEGION</cp:lastModifiedBy>
  <dcterms:modified xsi:type="dcterms:W3CDTF">2016-01-11T10:03:31Z</dcterms:modified>
  <cp:revision>11</cp:revision>
  <dc:subject/>
  <dc:title>Экономическое развитие</dc:title>
</cp:coreProperties>
</file>