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3391-1511-461C-B5B6-146C91D921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353-C8C0-4273-8AEA-002D77CA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2E3-8DEC-479A-8B41-A6CA8FF9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CAA-92D1-4272-B937-3C3D33D8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EC2-5AAC-4CC0-9406-533D125C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F78B-43DB-40CE-B0E5-7ADF3AA8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6A5A-F30D-49DE-9A28-9B106332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962F-1637-47C4-945D-54021A8F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1193-CFFA-44F6-9AD4-FE6DE1C4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6E6F-05A8-4A2C-8284-348C2388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5BE1-FF55-46B5-AE11-D436E5EE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0614-D86C-4768-B64E-E48A9A9A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3C1-922E-4578-9786-0B376FD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621C-1648-49BB-8FED-A1495FF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9478-85A5-44A1-A643-5B8A416F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46DE-6155-4D4E-A367-A5BED50A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C2CE-9EB4-4F2B-B197-DAFAD6BD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C6F6-20F1-46B8-8BC1-5C110C1B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C98-1F32-4C7E-87B0-9FC07A3E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C09-2152-4A9D-8C77-3CA4646E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AE0-B143-4CFD-B022-EA20C5F0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48F-FFA1-4809-AD1A-B2D4B3F5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8F3-A677-4583-854B-11F16E2E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2DC-DC42-45A5-90B5-3A4CA2AD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37B-2F5A-48FE-91DD-75FE232C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23FC-5AA0-4BB7-98C0-22043D4CDB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6574-C3FC-4E62-8840-7ED059EBFC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Экономическое развитие. Экономическая деятельность и условия её эффективности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ункци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рганиз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Руковод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онтро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Организация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иды организационной структуры фир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5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стая (линей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вы условия применения данной струк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716360" y="2276640"/>
            <a:ext cx="1656000" cy="914400"/>
          </a:xfrm>
          <a:prstGeom prst="hexagon">
            <a:avLst>
              <a:gd name="adj" fmla="val 45276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3563640" y="2781360"/>
            <a:ext cx="1152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4571640" y="3213000"/>
            <a:ext cx="576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5940360" y="3213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6372360" y="2781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580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2771640" y="3933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067280" y="4508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084720" y="45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7308720" y="3860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5076720" y="3645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40000" y="475920"/>
            <a:ext cx="66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ожная (линейно –штаб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27640" y="1341360"/>
            <a:ext cx="2136600" cy="935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H="1">
            <a:off x="3924000" y="227664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364000" y="227664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940360" y="2276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3132000" y="2852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4859280" y="3141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6516720" y="27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19564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349236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478800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630072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752472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4211640" y="558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5580000" y="551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2700360" y="3500280"/>
            <a:ext cx="504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392436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4140360" y="3357720"/>
            <a:ext cx="576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3357720"/>
            <a:ext cx="93636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5364000" y="40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5651640" y="4076640"/>
            <a:ext cx="43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"/>
          <p:cNvSpPr/>
          <p:nvPr/>
        </p:nvSpPr>
        <p:spPr>
          <a:xfrm>
            <a:off x="5940360" y="364500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 flipH="1">
            <a:off x="6877080" y="3716280"/>
            <a:ext cx="71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7164360" y="371628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c0039"/>
                </a:solidFill>
                <a:uFillTx/>
                <a:latin typeface="Arial"/>
              </a:rPr>
              <a:t>Планирование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 – постановка целей деятельности и определение путей их достижен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708360" y="1989000"/>
            <a:ext cx="35276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340000" y="3357720"/>
            <a:ext cx="208764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тк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732720" y="3357720"/>
            <a:ext cx="208908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е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000" y="4653000"/>
            <a:ext cx="17780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г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-2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227640" y="4653000"/>
            <a:ext cx="194472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ер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есяц, ква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3348000" y="2924280"/>
            <a:ext cx="1511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6084720" y="2924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4427280" y="2924280"/>
            <a:ext cx="865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5651640" y="2924280"/>
            <a:ext cx="14414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Руководство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– создание условий для деятельности по реализации планов, принятие управленчески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Ситуа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Контроль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ркетинг (анг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rket –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ынок; продавать, с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деятельность по  изучению, формированию и удовлетворению потребительского спроса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олог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экономист – социолог; специалист по изучению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инципы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Главный принцип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изводить то, что можно пр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руг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здействие на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Этапы изуче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ализ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егментация – основной метод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е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м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Задание:</a:t>
            </a:r>
            <a:br>
              <a:rPr sz="3600"/>
            </a:b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438280" y="1600200"/>
          <a:ext cx="6400800" cy="37288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438280" y="1600200"/>
          <a:ext cx="6400800" cy="42609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7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лимат мес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родные 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отность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личие г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мер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ровень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од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тиль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ндивидуальное отношение к тов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нова-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ыкновен-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нсервато-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консер-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етоды про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влекательность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а – денежное выражение стоимости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лупое следование за конкур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ятие сли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никнов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ый (расчет издерж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о - маркетинг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Times New Roman"/>
              </a:rPr>
              <a:t>Основные принципы менеджмента. Основы маркетинга.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екл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вышение качества прод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ыпуск новых товаров,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ижение цен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м важен для вас данный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делайте выводы по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остигли ли мы ц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, зад. 1-3 стр. 78 устно, записи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-5, подготовиться к провероч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изнес – это наука или искус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ожно ли научиться бизнес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( англ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management – 1)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едование, упр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) правление, дирекция, админис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– 1) наука и искусство управл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ер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наемный специалист по у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Уровн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0920" y="1197000"/>
            <a:ext cx="6427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3"/>
          <p:cNvSpPr/>
          <p:nvPr/>
        </p:nvSpPr>
        <p:spPr>
          <a:xfrm>
            <a:off x="3276720" y="1628640"/>
            <a:ext cx="4680000" cy="914400"/>
          </a:xfrm>
          <a:prstGeom prst="downArrowCallout">
            <a:avLst>
              <a:gd name="adj1" fmla="val 127965"/>
              <a:gd name="adj2" fmla="val 127953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п – менеджеры крупных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4"/>
          <p:cNvSpPr/>
          <p:nvPr/>
        </p:nvSpPr>
        <p:spPr>
          <a:xfrm>
            <a:off x="3203640" y="2852640"/>
            <a:ext cx="5111640" cy="86544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74481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высшего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руководители организ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5"/>
          <p:cNvSpPr/>
          <p:nvPr/>
        </p:nvSpPr>
        <p:spPr>
          <a:xfrm>
            <a:off x="3203640" y="4005360"/>
            <a:ext cx="5184720" cy="1224000"/>
          </a:xfrm>
          <a:prstGeom prst="downArrowCallout">
            <a:avLst>
              <a:gd name="adj1" fmla="val 105907"/>
              <a:gd name="adj2" fmla="val 105897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среднего зв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заместители руководителя, началь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разделений и производ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6"/>
          <p:cNvSpPr/>
          <p:nvPr/>
        </p:nvSpPr>
        <p:spPr>
          <a:xfrm>
            <a:off x="2987640" y="5445000"/>
            <a:ext cx="5472000" cy="914400"/>
          </a:xfrm>
          <a:prstGeom prst="downArrowCallout">
            <a:avLst>
              <a:gd name="adj1" fmla="val 149620"/>
              <a:gd name="adj2" fmla="val 149606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астера, бригади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8:03Z</dcterms:created>
  <dc:creator>User</dc:creator>
  <dc:description/>
  <dc:language>en-US</dc:language>
  <cp:lastModifiedBy>LEGION</cp:lastModifiedBy>
  <dcterms:modified xsi:type="dcterms:W3CDTF">2016-01-11T10:03:31Z</dcterms:modified>
  <cp:revision>11</cp:revision>
  <dc:subject/>
  <dc:title>Экономическое развитие</dc:title>
</cp:coreProperties>
</file>