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бный курс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организационными изменения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кция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 и школы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кции чита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подаватель Высшей Школы Бизнес-Информа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чикин Арсен Николае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к слушател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можно противопоставить изменениям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«сейчас», а не «прежде»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олы управ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Школы управл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колы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чное управ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ческая (административная) ш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кола человеческих отнош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ка управления, или количественный мет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спользование научного анализа для определения лучших способов выполнения задания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еобходимость отбора работников, лучше всего подходящих для выполнения задач и обеспечения их обучения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жность обеспечения работников ресурсами. Необходимыми для эффективного выполнения их задач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жность и правильное использование материального стимулирования для повышения производительности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деление планирования и обдумывания от самой работ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Использование научного анализа для определения лучших способов выполнения зада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еобходимость отбора работников, лучше всего подходящих для выполнения задач и обеспечения их обуч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ажность обеспечения работников ресурсами. Необходимыми для эффективного выполнения их задач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ажность и правильное использование материального стимулирования для повышения производительнос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деление планирования и обдумывания от самой рабо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спользование научного анализа для определения лучших способов выполнения задания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еобходимость отбора работников, лучше всего подходящих для выполнения задач и обеспечения их обучения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жность обеспечения работников ресурсами. Необходимыми для эффективного выполнения их задач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жность и правильное использование материального стимулирования для повышения производительности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деление планирования и обдумывания от самой работы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принципов управления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писание функций управления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истематизация подхода к управлению всей организацией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витие принципов управл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писание функций управл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Систематизация подхода к управлению всей организаци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принципов управл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писание функций управл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истематизация подхода к управлению всей орга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нение приемов межличностными отношениями для повышения степени удовлетворенности работников и производительности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нение выводов наук о человеческом поведении к управлению и формированию организации таким образом, что бы каждый работник мог быть полностью использован в соответствии с его потенциало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рименение приемов межличностными отношениями для повышения степени удовлетворенности работников и производительнос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рименение выводов наук о человеческом поведении к управлению и формированию организации таким образом, что бы каждый работник мог быть полностью использован в соответствии с его потенциал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нение приемов межличностными отношениями для повышения степени удовлетворенности работников и производитель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нение выводов наук о человеческом поведении к управлению и формированию организации таким образом, что бы каждый работник мог быть полностью использован в соответствии с его потенциал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глубление понимания сложны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ческих проблем благодар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работке и применению моделей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количественных методо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нятия решений в сложных ситуациях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глубление понимания сложных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ческих проблем благодар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работке и применению моделе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витие количественных методов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ринятия решений в сложных ситуация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глубление понимания сложных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ческих проблем благодаря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работке и применению моделей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количественных методов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нятия решений в сложных ситуациях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кий и эмоциональный факторы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кита управления изменения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рта и этапы теории измен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Боязнь перемен – нич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равнению с ощущение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ой никчемности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нерал Эрик Шинсе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а объединенного комитета начальников штабов ВС СШ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умать и действовать инач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моции (род информации или ...)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Человеческий и эмоциональный факторы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те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дежная система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рощения монст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Три кита управления изменения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Увидеть – прочувствовать-изменит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оанализировать – продумать – изменит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етоды изменения повед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амма кур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рта и этапы теории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альные и неформальные признаки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и фазы Soft System Methodology (SSM)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тегии измен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лософия 6 сиг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инжиниринг бизне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арта теории измен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ральный дух и увере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подавлена или чрезмерно акти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ятие решения о начале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ажда перемен достигает критической м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ини Даниэль Дак, Монстр перемен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деры начинают разрабатывать план и механизмы обмена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 от продолжения программы перем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 результ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Что-то идет не так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фликты, разногласия, промахи и маленькие успех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ение перспектив, стратегия и план находят понимание в коллекти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ст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верка на проч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стижение ц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ини Даниэль Да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арта теории измен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шение людям ощущения необходимости перем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команды реформато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ение перспектив и определение страте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аганда новой концепции будуще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условий для широкого участия сотрудников в преобразова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ие скорых результа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репление достигнутых успехов и углубленных перем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оренение изменений в корпоративной культу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8 этапов процесса изменений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он П.Котт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терии оценки за кур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7 баллов – активное участие в обсуждении, заданы интересные вопросы. Посещаемость – 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 баллов – участие в обсуждении, заданы вопросы. Посещаемость – 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 баллов – внимательное прослушивание, без участия в обсуждении, вопросы не заданы. Посещаемость – 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посещаемости &lt; 100% , но &gt; 50% сумма баллов снижается на 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к слушател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организации изменяютс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ительно ли руководители сталкиваются с проблемами новых трансформаци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подразумевается под изменениям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ше мнение о формулировке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Изменения - такая большая проблем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Если внешний мир меняется быстрее вас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 крах вашего бизнеса уже на горизонт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ек Вэл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рость означает укороченный цикл для программ обучения, реструктуризации компаний, разработки и внедрения новых товаров и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рость стимулирует переход к стилю мышления, основанному на инновациях и рис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Экономические и социальные силы, вызывающие кардинальные перемены в организац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изация рынков и конкурентной борьб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я в технолог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ая экономическ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е рынков в передовых стран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шение коммунистических режи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Экономические и социальные силы, вызывающие кардинальные перемены в организац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изация рынков и конкурентной борьб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е опас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стрение конкурен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растание темпов деловой жиз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е перспект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рупнение рын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кращение числа барь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1CA7-20AD-4A63-95E0-55F4F51B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706C-1971-40D2-B35C-34125EAD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334D-BA98-408F-ABD3-2A0A2832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F72F-E08B-4242-846F-47C5E665D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A1B9-0006-476C-9F15-3ADF66D0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6B8F-D7B7-45DF-954E-255DE6E1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72E3-6BB3-4172-8D63-DED8316A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A0A4-4E4B-49A7-B94A-EB0E3FB3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F3A2-49A9-4DCF-B3FD-B891E63A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C16B-D517-4C69-8BCC-3889B0AC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8F11-4A64-435E-9BFF-3374380B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A647-E3FC-456D-9898-4E5498C6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847774-7914-4E26-947D-B46A059471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838080" y="1066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 Unicode MS"/>
              </a:rPr>
              <a:t>Учебный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 Unicode MS"/>
              </a:rPr>
              <a:t>курс</a:t>
            </a:r>
            <a:br>
              <a:rPr sz="2700"/>
            </a:br>
            <a:br>
              <a:rPr sz="2700"/>
            </a:br>
            <a:r>
              <a:rPr b="1" lang="en-GB" sz="3500" spc="-1" strike="noStrike">
                <a:solidFill>
                  <a:srgbClr val="000000"/>
                </a:solidFill>
                <a:latin typeface="Times New Roman"/>
              </a:rPr>
              <a:t>Управление организационными изменениями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</a:rPr>
              <a:t>Лекц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Управление изменениями и школы управления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екции читает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реподаватель Высшей Школы Бизнес-Информатики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Чичикин Арсен Николаевич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"/>
          <p:cNvSpPr/>
          <p:nvPr/>
        </p:nvSpPr>
        <p:spPr>
          <a:xfrm>
            <a:off x="571680" y="428760"/>
            <a:ext cx="8157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849240" y="1722600"/>
            <a:ext cx="7543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Вопросы к слушателям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Что можно противопоставить изменениям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Почему «сейчас», а не «прежде»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785880" y="1801800"/>
            <a:ext cx="7839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Школы управ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учное управ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Классическая (административная) шко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Школа человеческих отнош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ука управления, или количественный мет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571680" y="428760"/>
            <a:ext cx="8157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179280" y="1484280"/>
            <a:ext cx="871380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учное управ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вклад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Использование научного анализа для определения лучших способов выполнения задания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Необходимость отбора работников, лучше всего подходящих для выполнения задач и обеспечения их обучения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Важность обеспечения работников ресурсами. Необходимыми для эффективного выполнения их задач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Важность и правильное использование материального стимулирования для повышения производительности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Разделение планирования и обдумывания от самой работы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00040" y="428760"/>
            <a:ext cx="8158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642960" y="1801800"/>
            <a:ext cx="7981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Классическая (административная) шко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вклад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азвитие принципов управле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Описание функций управле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Систематизация подхода к управлению всей организаци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39640" y="549360"/>
            <a:ext cx="8158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"/>
          <p:cNvSpPr/>
          <p:nvPr/>
        </p:nvSpPr>
        <p:spPr>
          <a:xfrm>
            <a:off x="428760" y="1571760"/>
            <a:ext cx="84294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Школа человеческих отнош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применение приемов межличностными отношениями для повышения степени удовлетворенности работников и производительнос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Применение выводов наук о человеческом поведении к управлению и формированию организации таким образом, что бы каждый работник мог быть полностью использован в соответствии с его потенциал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539640" y="549360"/>
            <a:ext cx="8158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ука управления, или количественный мет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вклад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Углубление понимания сложных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управленческих проблем благодаря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азработке и применению моделе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азвитие количественных методов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инятия решений в сложных ситуация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539640" y="549360"/>
            <a:ext cx="8158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539640" y="692280"/>
            <a:ext cx="80852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95280" y="2017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Человеческий и эмоциональный факторы измен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Три кита управления изменениям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Карта и этапы теории изменени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«Боязнь перемен – ничт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по сравнению с ощущение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собственной никчемност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Генерал Эрик Шинсек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Глава объединенного комитета начальников штабов ВС СШ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Думать и действовать инач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Эмоции (род информации или ...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57200" y="2746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Человеческий и эмоциональный факторы измен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1154160" y="1730520"/>
            <a:ext cx="7238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Стратег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дежная система управ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Укрощения монст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468360" y="404640"/>
            <a:ext cx="82296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2800"/>
            </a:b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Три кита управления изменениями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1154160" y="1730520"/>
            <a:ext cx="7238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«Увидеть – прочувствовать-изменить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«Проанализировать – продумать – изменить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68360" y="404640"/>
            <a:ext cx="82296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2800"/>
            </a:b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Методы изменения поведения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468360" y="4762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ограмма кур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911160" y="1268280"/>
            <a:ext cx="72723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Карта и этапы теории измене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Формальные и неформальные признаки систе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инципы и фазы Soft System Methodology (SSM)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Стратегии изменени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Философия 6 сиг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еинжиниринг бизне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457200" y="2746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Карта теории изменений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3"/>
          <p:cNvSpPr/>
          <p:nvPr/>
        </p:nvSpPr>
        <p:spPr>
          <a:xfrm>
            <a:off x="457200" y="5867280"/>
            <a:ext cx="82296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4"/>
          <p:cNvSpPr/>
          <p:nvPr/>
        </p:nvSpPr>
        <p:spPr>
          <a:xfrm flipV="1">
            <a:off x="457200" y="1674360"/>
            <a:ext cx="1440" cy="419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 rot="16200000">
            <a:off x="-1644480" y="3549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Моральный дух и уверен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886200" y="5867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457200" y="4800600"/>
            <a:ext cx="137160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8"/>
          <p:cNvSpPr/>
          <p:nvPr/>
        </p:nvSpPr>
        <p:spPr>
          <a:xfrm flipV="1">
            <a:off x="1828800" y="4493880"/>
            <a:ext cx="990720" cy="3078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2819520" y="4495680"/>
            <a:ext cx="761760" cy="6098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0"/>
          <p:cNvSpPr/>
          <p:nvPr/>
        </p:nvSpPr>
        <p:spPr>
          <a:xfrm flipV="1">
            <a:off x="3581280" y="4113360"/>
            <a:ext cx="1143000" cy="993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4724280" y="4114800"/>
            <a:ext cx="22860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12"/>
          <p:cNvSpPr/>
          <p:nvPr/>
        </p:nvSpPr>
        <p:spPr>
          <a:xfrm flipV="1">
            <a:off x="4952880" y="3656160"/>
            <a:ext cx="533520" cy="4600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5486400" y="3657600"/>
            <a:ext cx="22860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14"/>
          <p:cNvSpPr/>
          <p:nvPr/>
        </p:nvSpPr>
        <p:spPr>
          <a:xfrm flipV="1">
            <a:off x="5715000" y="3274560"/>
            <a:ext cx="380880" cy="3841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15"/>
          <p:cNvSpPr/>
          <p:nvPr/>
        </p:nvSpPr>
        <p:spPr>
          <a:xfrm>
            <a:off x="6095880" y="3276720"/>
            <a:ext cx="38124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6477120" y="3657600"/>
            <a:ext cx="15228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6629400" y="3657600"/>
            <a:ext cx="45720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18"/>
          <p:cNvSpPr/>
          <p:nvPr/>
        </p:nvSpPr>
        <p:spPr>
          <a:xfrm>
            <a:off x="7086600" y="4191120"/>
            <a:ext cx="15228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19"/>
          <p:cNvSpPr/>
          <p:nvPr/>
        </p:nvSpPr>
        <p:spPr>
          <a:xfrm flipV="1">
            <a:off x="7238880" y="3656160"/>
            <a:ext cx="762120" cy="5364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20"/>
          <p:cNvSpPr/>
          <p:nvPr/>
        </p:nvSpPr>
        <p:spPr>
          <a:xfrm flipV="1">
            <a:off x="8001000" y="2055600"/>
            <a:ext cx="609480" cy="16030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7238880" y="4191120"/>
            <a:ext cx="685800" cy="1295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533520" y="1905120"/>
            <a:ext cx="1447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Организация подавлена или чрезмерно актив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1752480" y="2971800"/>
            <a:ext cx="13114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Принятие решения о начале изменен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24"/>
          <p:cNvSpPr/>
          <p:nvPr/>
        </p:nvSpPr>
        <p:spPr>
          <a:xfrm>
            <a:off x="1752480" y="3962520"/>
            <a:ext cx="1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25"/>
          <p:cNvSpPr/>
          <p:nvPr/>
        </p:nvSpPr>
        <p:spPr>
          <a:xfrm>
            <a:off x="2666880" y="1447920"/>
            <a:ext cx="1828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Жажда перемен достигает критической масс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26"/>
          <p:cNvSpPr/>
          <p:nvPr/>
        </p:nvSpPr>
        <p:spPr>
          <a:xfrm>
            <a:off x="2971800" y="28195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27"/>
          <p:cNvSpPr/>
          <p:nvPr/>
        </p:nvSpPr>
        <p:spPr>
          <a:xfrm>
            <a:off x="3581280" y="2819520"/>
            <a:ext cx="18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28"/>
          <p:cNvSpPr/>
          <p:nvPr/>
        </p:nvSpPr>
        <p:spPr>
          <a:xfrm>
            <a:off x="685800" y="3200400"/>
            <a:ext cx="990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6260400" y="5943600"/>
            <a:ext cx="23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Джини Даниэль Дак, Монстр перемен, 200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1600200" y="510552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Лидеры начинают разрабатывать план и механизмы обмена информацие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7620120" y="4495680"/>
            <a:ext cx="1523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Отказ от продолжения программы перемен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7308720" y="2057400"/>
            <a:ext cx="130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Получен результ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6095880" y="31240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«Что-то идет не так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5410080" y="3657600"/>
            <a:ext cx="1524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Конфликты, разногласия, промахи и маленькие успех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267080" y="1905120"/>
            <a:ext cx="245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Видение перспектив, стратегия и план находят понимание в коллектив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36"/>
          <p:cNvSpPr/>
          <p:nvPr/>
        </p:nvSpPr>
        <p:spPr>
          <a:xfrm>
            <a:off x="4191120" y="2971800"/>
            <a:ext cx="2590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37"/>
          <p:cNvSpPr/>
          <p:nvPr/>
        </p:nvSpPr>
        <p:spPr>
          <a:xfrm>
            <a:off x="5105520" y="2971800"/>
            <a:ext cx="14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1154160" y="1801800"/>
            <a:ext cx="754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Засто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Подготов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Реализац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Проверка на прочност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Достижение цел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Джини Даниэль Да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468360" y="4762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Карта теории изменений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407880" y="17305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Внушение людям ощущения необходимости переме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Создание команды реформато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Видение перспектив и определение стратег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Пропаганда новой концепции будуще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Создание условий для широкого участия сотрудников в преобразовани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Times New Roman"/>
              </a:rPr>
              <a:t>Получение скорых результа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996633"/>
                </a:solidFill>
                <a:latin typeface="Times New Roman"/>
              </a:rPr>
              <a:t>Закрепление достигнутых успехов и углубленных переме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Укоренение изменений в корпоративной культур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79280" y="404640"/>
            <a:ext cx="845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8 этапов процесса изменений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786720" y="576900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Джон П.Котте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560520" y="4092480"/>
            <a:ext cx="8153280" cy="180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560520" y="4473720"/>
            <a:ext cx="8153280" cy="14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560520" y="5159520"/>
            <a:ext cx="8153280" cy="14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250920" y="404640"/>
            <a:ext cx="86868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Критерии оценки за кур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79520" y="17305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17 баллов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активное участие в обсуждении, заданы интересные вопросы. Посещаемость – 10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14 баллов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участие в обсуждении, заданы вопросы. Посещаемость – 10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11 баллов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внимательное прослушивание, без участия в обсуждении, вопросы не заданы. Посещаемость – 10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и посещаемости &lt; 100% , но &gt; 50% сумма баллов снижается на 3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395280" y="47628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95280" y="1801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Вопросы к слушателям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Почему организации изменяютс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Действительно ли руководители сталкиваются с проблемами новых трансформаций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"/>
          <p:cNvSpPr/>
          <p:nvPr/>
        </p:nvSpPr>
        <p:spPr>
          <a:xfrm>
            <a:off x="395280" y="549360"/>
            <a:ext cx="8302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154160" y="1874880"/>
            <a:ext cx="7086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Что подразумевается под изменениями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"/>
          <p:cNvSpPr/>
          <p:nvPr/>
        </p:nvSpPr>
        <p:spPr>
          <a:xfrm>
            <a:off x="395280" y="620640"/>
            <a:ext cx="8302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468360" y="1946160"/>
            <a:ext cx="82296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Ваше мнение о формулировке: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Изменения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такая большая проблема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395280" y="620640"/>
            <a:ext cx="81583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24000" y="1641600"/>
            <a:ext cx="85341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«Если внешний мир меняется быстрее вас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то крах вашего бизнеса уже на горизонте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Джек Вэл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Скорость означает укороченный цикл для программ обучения, реструктуризации компаний, разработки и внедрения новых товаров и услу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Скорость стимулирует переход к стилю мышления, основанному на инновациях и риск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250920" y="476280"/>
            <a:ext cx="83739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4000"/>
            </a:b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Экономические и социальные силы, вызывающие кардинальные перемены в организаци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95280" y="2030400"/>
            <a:ext cx="853452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Глобализация рынков и конкурентной борьб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зменения в технология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Международная экономическая интеграц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Развитие рынков в передовых страна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рушение коммунистических режим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395280" y="404640"/>
            <a:ext cx="830268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4000"/>
            </a:b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Экономические и социальные силы, вызывающие кардинальные перемены в организаци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68360" y="2103480"/>
            <a:ext cx="853452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Глобализация рынков и конкурентной борьб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Новые опас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Обострение конкурен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арастание темпов деловой жиз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Новые перспектив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крупнение рын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Сокращение числа барье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uprov</dc:creator>
  <dc:description/>
  <dc:language>en-US</dc:language>
  <cp:lastModifiedBy>LEGION</cp:lastModifiedBy>
  <dcterms:modified xsi:type="dcterms:W3CDTF">2016-01-11T10:04:41Z</dcterms:modified>
  <cp:revision>6</cp:revision>
  <dc:subject/>
  <dc:title>Учебный курс Управление организационными изменениями</dc:title>
</cp:coreProperties>
</file>