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курс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оды изменения повед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манды реформ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новой концепции буду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е скорых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8 этапов процесса изменен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оценки за ку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 баллов – активное участие в обсуждении, заданы интересные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 баллов – участие в обсуждении, заданы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баллов – внимательное прослушивание, без участия в обсуждении, вопросы не задан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Изменения - такая большая проблем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технолог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экономическ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рынков в передовых стра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шение коммунистических режи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опас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астание темпов деловой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упнение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числа барь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8DF-E819-4A79-91E2-EC66D0B7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034-E184-4104-8995-9B6CADDB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304-4BC7-40CA-BB87-8FF01473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4BE-3768-49E2-AED1-97CA0C54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C0B-E3ED-4C52-A4A7-B600317F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9C0-7043-463E-A2B1-83AFC5DF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2AC-C133-462E-B8D0-BF9D0E3E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F94-51D5-4CCA-B379-D70D2457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916-47F1-4242-A4A6-FB1E2053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4D7-37EB-49BA-A0C6-61FBDA85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8B4-B53A-4A90-AD0D-3EFF5879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04E-8145-45FB-9838-FB776F64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C44433-B817-465D-ADE9-07DD33413C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8380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Учеб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курс</a:t>
            </a:r>
            <a:br>
              <a:rPr sz="2700"/>
            </a:br>
            <a:br>
              <a:rPr sz="2700"/>
            </a:b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</a:rPr>
              <a:t>Лекц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49240" y="172260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785880" y="1801800"/>
            <a:ext cx="7839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79280" y="1484280"/>
            <a:ext cx="8713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Использование научного анализа для определения лучших способов выполнения зада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Разделение планирования и обдумывания от самой работ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00040" y="4287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642960" y="1801800"/>
            <a:ext cx="798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принципов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писание функций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истематизация подхода к управлению всей организаци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28760" y="1571760"/>
            <a:ext cx="8429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глубление понимания сложных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правленческих проблем благодар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работке и применению модел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количественных методов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ятия решений в сложных ситуац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539640" y="692280"/>
            <a:ext cx="808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5280" y="2017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тоды изменения повед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68360" y="476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11160" y="1268280"/>
            <a:ext cx="727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457200" y="5867280"/>
            <a:ext cx="82296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457200" y="1674360"/>
            <a:ext cx="1440" cy="419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 rot="16200000">
            <a:off x="-164448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86200" y="586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57200" y="4800600"/>
            <a:ext cx="1371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V="1">
            <a:off x="1828800" y="4493880"/>
            <a:ext cx="990720" cy="307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819520" y="4495680"/>
            <a:ext cx="761760" cy="6098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3581280" y="4113360"/>
            <a:ext cx="1143000" cy="993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724280" y="41148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V="1">
            <a:off x="4952880" y="3656160"/>
            <a:ext cx="533520" cy="460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486400" y="36576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5715000" y="3274560"/>
            <a:ext cx="380880" cy="3841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095880" y="3276720"/>
            <a:ext cx="3812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477120" y="365760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629400" y="365760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7086600" y="419112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7238880" y="3656160"/>
            <a:ext cx="762120" cy="536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8001000" y="2055600"/>
            <a:ext cx="609480" cy="1603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7238880" y="41911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3520" y="1905120"/>
            <a:ext cx="144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752480" y="2971800"/>
            <a:ext cx="13114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17524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666880" y="14479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2971800" y="28195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581280" y="281952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85800" y="32004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6260400" y="5943600"/>
            <a:ext cx="23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1600200" y="51055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7620120" y="449568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7308720" y="2057400"/>
            <a:ext cx="13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095880" y="3124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410080" y="3657600"/>
            <a:ext cx="1524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267080" y="1905120"/>
            <a:ext cx="24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4191120" y="2971800"/>
            <a:ext cx="259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37"/>
          <p:cNvSpPr/>
          <p:nvPr/>
        </p:nvSpPr>
        <p:spPr>
          <a:xfrm>
            <a:off x="5105520" y="29718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154160" y="18018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68360" y="476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407880" y="1730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команды реформ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Пропаганда новой концепции будуще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Times New Roman"/>
              </a:rPr>
              <a:t>Получение скорых результ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79280" y="404640"/>
            <a:ext cx="845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 этапов процесса изменений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86720" y="57690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60520" y="4092480"/>
            <a:ext cx="8153280" cy="1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560520" y="44737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60520" y="51595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50920" y="404640"/>
            <a:ext cx="8686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Критерии оценки за кур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79520" y="1730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7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активное участие в обсуждении, заданы интересные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4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участие в обсуждении, заданы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1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внимательное прослушивание, без участия в обсуждении, вопросы не задан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95280" y="476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395280" y="549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54160" y="187488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395280" y="620640"/>
            <a:ext cx="8302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68360" y="194616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Измен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такая большая проблем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95280" y="620640"/>
            <a:ext cx="8158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1641600"/>
            <a:ext cx="85341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0920" y="476280"/>
            <a:ext cx="83739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03040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менения в технолог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еждународная экономическая интег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витие рынков в передовых стран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рушение коммунистических режи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95280" y="404640"/>
            <a:ext cx="8302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210348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острение конкурен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растание темпов деловой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перспектив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крупнение рын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окращение числа барье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uprov</dc:creator>
  <dc:description/>
  <dc:language>en-US</dc:language>
  <cp:lastModifiedBy>LEGION</cp:lastModifiedBy>
  <dcterms:modified xsi:type="dcterms:W3CDTF">2016-01-11T10:04:41Z</dcterms:modified>
  <cp:revision>6</cp:revision>
  <dc:subject/>
  <dc:title>Учебный курс Управление организационными изменениями</dc:title>
</cp:coreProperties>
</file>