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83C9-06AC-4393-B3D3-2630271BC38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CE65-2546-4955-9EFD-AAF3E2F4800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абунская В. А.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: Теория. Методы. Диагностика. Коррекция: Учеб. пособие для студ. высш. учеб. заведений / В. А. Лабунская, Ю. А. Менджерицкая, Е. Д. Бре-ус. — М.: Издательский центр «Академия», 2001. — 288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-7695-0694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ено затрудненное общение в координатах различных отраслей современной психологии (в плане культурно-психологическом, социально-педагогическом и психофизическом). Проанализированы факторы затрудненного общения, феномен субъекта затрудненного общения. Особое внимание уделено рассмотрению причин затрудненного профессионального 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ига может быть полезна практическим, психологам, научным работникам, интересующимся этими пробле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F9E3-6B59-4FD7-833A-839F479AD55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мендик Д.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: учеб. пособие для студ. высш. учеб. заведений / Д. М. Рамендик, О. В. Одинцова. — М.: Изда­тельский центр «Академия», 2008. — 192 с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258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м пособии представлены материалы социально-психологической экспресс-диагностики поведения специалиста сферы социально-культурного сервиса и туризма в процессе взаимодействия с партнерами по общению, его функционально-эмоционального состояния и профессионально-важных качеств. Подробно освещаются вопросы делового общения и этикета. Особое внимание уделяется индивидуальным особенностям поведения человека в конфликтной ситуации, методам разрешения подобных ситу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узов, обучающихся по специальности «Социально-культурный сервис и туризм», преподавателей, психологов, менеджеров, специалистов индустрии сервиса и гостеприим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4968-D811-46C6-B092-0CA6369988F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и педагог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астенин В.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и педагогика : учеб. пособие для студ. высш. учеб. заведений / В. А. Сластенин, В. П. Каширин. — 7-е изд., стер. — М. : Издательский центр «Академия», 2008. — 480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5044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ое пособие знакомит студентов непедагогических специальностей с современной отечественной и зарубежной психологией и педагогикой; рассматриваются, в частности, такие вопросы, как психология личности, малых групп общения, конфликтных отношений, психологические проблемы адаптации специалиста, теоретико-методологические основы педагогики, воспитание и обучение в педагогическом процессе, поддержание психического здоровья, регулирование межличностных отношений; особое внимание уделяется педагогике и психологии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пециалистам разных отраслей, прежде всего тем, кому предстоит работать с люд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BC42-40AA-4DDA-9F04-501008CF35F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аретян А. 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: Толпа, слухи, политические и рекламные кампании: Учеб. пособие для студ. высш. учеб. заведений. — 2-е изд., перераб. / Акоп Погосович Назаретян. — М.: Издательский центр «Акаде­мия», 2005. - 160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-7695-2120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обии раскрыты феноменология и закономерности стихийного массового поведения: реакции толпы, массовая паника, распространение слухов, механизмы формирования общественного мнения. Рассмотрены способы управления этими явлениями, в частности технологии ведения рекламных кампаний. Материал представлен в лекционной форме, доступной для широкого круга чит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психологам, политологам, сотрудникам охранных агентств, офицерам МЧС, МВД и ФСБ, специалистам по связям с обществ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EC92-AA98-4CDF-9512-216ADDCF223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: учеб. пособие для студ. высш. учеб. заведений / [Л.С.Подымова, Л.И.Духова, Е.А. Ларина, О.А.Шиян] ; под ред. В.А.Сластёнина. — 4-е изд., стер. — М. : Издательский центр «Академия», 2008. — 224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62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содержит разнообразные психологические и педагогические материалы, позволяющие постичь особенности профессиональной деятельности педагога, познать себя. Для анализа и иллюстрации предлагаются педагогические ситуации, этюды, художественные и научно-популярные тексты, детские сочинения, тесты, иг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ен педагогам-практ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5D77-A90B-4ECD-8003-91D7CAFC30F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ит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лиева Н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риятия: учеб. пособие для студ. высш. учеб. заведений / Н.З.Алиева. — М.: Издательский центр «Академия», 2008. — 208 с, [8] с. цв. ил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2772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ены вопросы физической природы света, преобразования его в цвет, физиология цветового зрения, основы колориметрии и систематики цветов. Освещены современные научные представления о зрительном восприятии образов, цвета, движения, пространства, а также законы зрительного восприятия, его неоднозначности, неопределенности, парадоксы, иллюзии, использование законов и иллюзий зрительного восприятия в моделировании, дизайне, художественном проектировании, рекламе, брендин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«Технология и конструирование изделий легкой промышленности». Может быть рекомендовано студентам направлений «Художественное проектирование изделий текстильной и легкой промышленности», «Дизай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C853-698A-4E59-9CBE-0FF9FBD0858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социальный подх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иценко Л. 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циальный подход : учеб. пособие для студ. высш. учеб. заведений / Л.И.Гриценко. — 2-е изд., стер. — М. : Издательский центр «Академия», 2008. — 240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786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обии изложены основы личностно-социальной концепции воспитания, в которой приоритетными являются идеи и традиции отечественной педагогики, рассматриваемые через призму современных научных теорий; воспитание трактуется как целостный процесс, объединяющий социализацию личности и развитие ее индивидуальности в гуманном организованном сообществе (коллективе). Представлены технологические решения реализации идей и принципов данной концеп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но школьным педагогам, преподавателям вузов, научным работникам и всем интересующимся вопросами восп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FEAF-8E47-4490-92AB-46BD540208D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История психоло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рцинковская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рия психологии : учебник для студ. высш. учеб. заведений / Т. Д. Марцинковская. - 8-е изд., испр. и доп. - М. : Издательский центр «Академия», 2008. - 544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3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ике раскрываются общие закономерности и характеризуются этапы формирования предмета психологической науки, показаны динамика и логика развития психологических концепций, дана панорама различных взглядов на законы, управляющие поведением человека и процессом познания им внешнего мира, законы становления его личности. История психологической науки раскрывается в контексте общей истории культуры. Впервые предлагается обзор состояния отечественной психологии в конц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нача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ен всем читателям, интересующимся проблемами психологии и истории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DC4B-319A-4668-9030-F3379EAB3BC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рактикум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о общей психолог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озиев В. 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ктикум по общей психологии : учеб. пособие для студ. высш. учеб. заведений / В. Б.Хозиев. — 4-е изд., стер. — М. : Издательский центр «Академия», 2008. — 272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08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е пособие включены экспериментальные задания, выполнение которых требует творческого осмысления проблемных ситуаций, видоизменения методик, средств представления результатов, процедур обработки данных и т.д. Внелабораторный характер предлагаемых заданий, их приближение к актуальным проблемам бытия, культуры, образования должны способствовать, по замыслу автора, формированию у будущих специалистов зрелой профессиональной поз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и специальностям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C802-E789-4DCA-BF6C-2EAE7CFEBE0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ухова Н.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 : учеб. пособие для студ. высш. учеб. заведений / Н.Г.Осухова. — 3-е изд., стер. — М. : Издательский центр «Академия», 2008. — 288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54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посвящено одной из наиболее актуальных проблем нашего времени — восстановлению и поддержке психического здоровья людей, перенесших глубокую душевную травму. Его особенность — психотерапевтическая направленность. Рассмотрены закономерности переживания кризиса, «спровоцированного» трудными и экстремальными ситуациями, и основные подходы к оказанию психологической помощи человеку в этот период. Представлена авторская модель психологического сопровождения в кризисной ситуации, а также конкретные психотехники для различных этапов оказания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психолого-педагогических вузов. Будет полезна практическим работникам помогающих профессий: психологам, социальным работникам, педагогам, сотрудникам служб социально-психологической помощи насе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E446-7913-4201-9834-1ED48444C4C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 : учеб. пособие для студ. высш. учеб. заведений / [В. Н. Непопалов, В. Ф. Сопов, А. В. Родионов и др.; под ред. А. Н. Блеера]. — М.: Издательский центр «Академия», 2008. — 25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8ВN 978-5-7695-3869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м пособии систематизированы результаты научных исследований и обобщен практический опыт, связанный с психофизиологическими особенностями поведения человека в экстремальных условиях деятельности, в том числе при выполнении специфических задач сотрудниками различных подразделений силовых ведомств России. Показано, как практика спорта высших достижений, трансформированная в стройную систему многолетней подготовки высококвалифицированных спортсменов, может быть с успехом адаптирована к конкретным условиям профессиональной деятельности в экстремаль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учреждений высшего профессионального образования. Будет полезно всем, чья деятельность проходит в экстремаль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06E5-F7B0-447B-A132-8A34A365509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родитель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вчарова Р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родительства: Учеб. пособие для студ. высш. учеб. заведений. — М.: Издательский центр «Академия», 2005. — 368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-7695-1916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м пособии изложены теоретические основы психологии родительства, описаны факторы, определяющие формирование родительской позиции, и возможные уровни ее развития. В частности, обсуждаются проблемы готовности к материнству и отцовству, пути подготовки молодых родителей к рождению ребенка. Анализируются типы семейного воспитания, особенности воспитания в полных и неполных семьях, тендерные различия родительских стилей воспитания. Рассмотрены технологии пси­хологического сопровождения родительства, его диагностика и корре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емейным консультантам, детским психологам, социальным работникам, социальным педагог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04C9-98D6-4B1B-80FE-1B4A2EAE685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тровский А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: учебник для студ. высш. учеб. заведений / А.В.Петровский, М.Г.Ярошевский. - 8-е изд., стер. - М. : Издательский центр «Академия», 2008. - 512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5149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оящий учебник является продолжением цикла учебников для вузов, вышедших под редакцией А.В.Петровского, - «Общая психология» (1970, 1976, 1977, 1986) и «Введение в психологию» (1995, 1996, 1997), удостоенных в 1997 г. премии Правительства Российской Федерации в области образования. В книге раскрываются предмет, методы, исторический путь развития, а также категории психологии, психические процессы и индивидуально-психологические особенности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педагогическим специальност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9B85-386E-4910-8875-D8B5A278BE3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мендик Д 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: Учебное пособие. - М.: ФОРУМ: ИНФРА-М, 2008. -176 с. - (Профессиональное образование)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91134-072-8 (Издательство «ФОРУМ»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16-002900-9 (ИНФРА-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ига посвящена тренингу личностного роста, включенному в учебный процесс в качестве одного из специальных предметов. В ней кратко изложены теоретические основы тренинга, его этические и организационные принципы, описаны отличия тренинга личностного роста от других форм группового психологического воздействия. Отдельная глава посвящена методам диагностики и развития памяти, приемам саморегуляции и расслабления. Книга может быть использована как учащимися, в программу обучения которых входит тренинг личностного роста, так и всеми, кого интересуют вопросы психологического развития взрослы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33C9-D32F-433A-849C-CB03F32456B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Основные формы страх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иман 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формы страха : исследование в области глубинной психологии : учеб. пособие для студ. высш. учеб. заве­дений / пер. с нем. Э. Л. Гушанского. — 2-е изд., стер. — М.: Издательский центр «Академия», 2007. — 192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137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ига известного немецкого психолога и психотерапевта Фрица Римана (1902—1979) выдержала 36 изданий в Германии. В ней рассказано о страхах в человеческом существовании, их проявлении у разных людей, в том числе у шизоидных, депрессивных, истерических личностей и лич­ностей с навязчивостями. Материал для книги дала богатая психоаналитическая практика ав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клинических психологов и психотерапевтов, психиатров, а также для всех интересующихся проблемами личностного самосовершенств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1672-D2CF-4770-9B90-013F013AE27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A18-478A-4517-84B0-23366C29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F5EC-DA45-4420-96D0-9E50B6D3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587-90EA-49D1-A59D-48AFCC65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80B-0817-488F-9C28-BDF54A91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B496-0AC4-4EA6-A643-73D3E1C2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8C44-496D-4659-95A2-DE9A7ED3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6D26-7638-4B62-BB5C-F14A61A0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90B2-1011-4E71-A1E2-53E6619C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AA3F-5F22-4E7F-95F6-8A2D8531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0AC8-BF42-4757-8E96-2F3D199C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7096-F548-4A1D-9E1A-450F33B4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4C57-28FE-473F-820A-34C39D26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0647-9A97-4437-81F4-377624A9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AD48-9C50-4BC8-9395-6BAB0E28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273B-BAFA-415F-A9EF-55A74BDA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4736-9B8E-4EA9-9D4A-F6A520CA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F66D-3CD6-4C47-A842-8BF8C6B8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1A2E-61D6-478F-A4F4-6CC277F3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F71A-B73A-442D-AAB1-773FECB8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5759-5925-437D-9D92-006A4317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1E26-645B-422D-846F-652033E6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25C3-4385-49F8-95CF-DE7A8AEE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DE25-D362-46BA-8A13-FFD172E2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7289-3C86-4A98-8C22-447D3272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B63A-36E7-4E25-9793-43D1B15821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20B2-558F-4437-9F13-B9891C136C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16360" y="1827360"/>
            <a:ext cx="396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абунская В. А. и др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: Теория. Методы. Диагностика. Коррекция: Учеб. пособие для студ. высш. учеб. заведений / В. А. Лабунская, Ю. А. Менджерицкая, Е. Д. Бре-ус. — М.: Издательский центр «Академия», 2001. — 288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-7695-0694-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смотрено затрудненное общение в координатах различных отраслей современной психологии (в плане культурно-психологическом, социально-педагогическом и психофизическом). Проанализированы факторы затрудненного общения, феномен субъекта затрудненного общения. Особое внимание уделено рассмотрению причин затрудненного профессионального общ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нига может быть полезна практическим, психологам, научным работникам, интересующимся этими проблемам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7" descr="Психол"/>
          <p:cNvPicPr/>
          <p:nvPr/>
        </p:nvPicPr>
        <p:blipFill>
          <a:blip r:embed="rId1"/>
          <a:stretch/>
        </p:blipFill>
        <p:spPr>
          <a:xfrm>
            <a:off x="1187280" y="1827360"/>
            <a:ext cx="3097440" cy="41148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355640" y="1827360"/>
            <a:ext cx="43275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мендик Д. 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: учеб. пособие для студ. высш. учеб. заведений / Д. М. Рамендик, О. В. Одинцова. — М.: Изда­тельский центр «Академия», 2008. — 192 с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258-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м пособии представлены материалы социально-психологической экспресс-диагностики поведения специалиста сферы социально-культурного сервиса и туризма в процессе взаимодействия с партнерами по общению, его функционально-эмоционального состояния и профессионально-важных качеств. Подробно освещаются вопросы делового общения и этикета. Особое внимание уделяется индивидуальным особенностям поведения человека в конфликтной ситуации, методам разрешения подобных ситуац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узов, обучающихся по специальности «Социально-культурный сервис и туризм», преподавателей, психологов, менеджеров, специалистов индустрии сервиса и гостеприимств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7" descr="Психол"/>
          <p:cNvPicPr/>
          <p:nvPr/>
        </p:nvPicPr>
        <p:blipFill>
          <a:blip r:embed="rId1"/>
          <a:stretch/>
        </p:blipFill>
        <p:spPr>
          <a:xfrm>
            <a:off x="1187280" y="1827360"/>
            <a:ext cx="2880000" cy="4114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и педагогик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00360" y="1827000"/>
            <a:ext cx="418284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ластенин В. 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и педагогика : учеб. пособие для студ. высш. учеб. заведений / В. А. Сластенин, В. П. Каширин. — 7-е изд., стер. — М. : Издательский центр «Академия», 2008. — 480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5044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ебное пособие знакомит студентов непедагогических специальностей с современной отечественной и зарубежной психологией и педагогикой; рассматриваются, в частности, такие вопросы, как психология личности, малых групп общения, конфликтных отношений, психологические проблемы адаптации специалиста, теоретико-методологические основы педагогики, воспитание и обучение в педагогическом процессе, поддержание психического здоровья, регулирование межличностных отношений; особое внимание уделяется педагогике и психологии профессиональной деятельност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пециалистам разных отраслей, прежде всего тем, кому предстоит работать с людь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7" descr="Психология и пед"/>
          <p:cNvPicPr/>
          <p:nvPr/>
        </p:nvPicPr>
        <p:blipFill>
          <a:blip r:embed="rId1"/>
          <a:stretch/>
        </p:blipFill>
        <p:spPr>
          <a:xfrm>
            <a:off x="1187280" y="1827360"/>
            <a:ext cx="280836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55640" y="1827360"/>
            <a:ext cx="432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заретян А. П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: Толпа, слухи, политические и рекламные кампании: Учеб. пособие для студ. высш. учеб. заведений. — 2-е изд., перераб. / Акоп Погосович Назаретян. — М.: Издательский центр «Акаде­мия», 2005. - 160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-7695-2120-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особии раскрыты феноменология и закономерности стихийного массового поведения: реакции толпы, массовая паника, распространение слухов, механизмы формирования общественного мнения. Рассмотрены способы управления этими явлениями, в частности технологии ведения рекламных кампаний. Материал представлен в лекционной форме, доступной для широкого круга читателе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психологам, политологам, сотрудникам охранных агентств, офицерам МЧС, МВД и ФСБ, специалистам по связям с общественностью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7" descr="Псих"/>
          <p:cNvPicPr/>
          <p:nvPr/>
        </p:nvPicPr>
        <p:blipFill>
          <a:blip r:embed="rId1"/>
          <a:stretch/>
        </p:blipFill>
        <p:spPr>
          <a:xfrm>
            <a:off x="1187280" y="1827360"/>
            <a:ext cx="2953080" cy="411480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1640" y="1827360"/>
            <a:ext cx="411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: учеб. пособие для студ. высш. учеб. заведений / [Л.С.Подымова, Л.И.Духова, Е.А. Ларина, О.А.Шиян] ; под ред. В.А.Сластёнина. — 4-е изд., стер. — М. : Издательский центр «Академия», 2008. — 224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62-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содержит разнообразные психологические и педагогические материалы, позволяющие постичь особенности профессиональной деятельности педагога, познать себя. Для анализа и иллюстрации предлагаются педагогические ситуации, этюды, художественные и научно-популярные тексты, детские сочинения, тесты, игр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ен педагогам-практика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7" descr="психолого"/>
          <p:cNvPicPr/>
          <p:nvPr/>
        </p:nvPicPr>
        <p:blipFill>
          <a:blip r:embed="rId1"/>
          <a:stretch/>
        </p:blipFill>
        <p:spPr>
          <a:xfrm>
            <a:off x="1187280" y="1827360"/>
            <a:ext cx="309744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ита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7640" y="1827360"/>
            <a:ext cx="425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лиева Н.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риятия: учеб. пособие для студ. высш. учеб. заведений / Н.З.Алиева. — М.: Издательский центр «Академия», 2008. — 208 с, [8] с. цв. ил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2772-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смотрены вопросы физической природы света, преобразования его в цвет, физиология цветового зрения, основы колориметрии и систематики цветов. Освещены современные научные представления о зрительном восприятии образов, цвета, движения, пространства, а также законы зрительного восприятия, его неоднозначности, неопределенности, парадоксы, иллюзии, использование законов и иллюзий зрительного восприятия в моделировании, дизайне, художественном проектировании, рекламе, брендинг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«Технология и конструирование изделий легкой промышленности». Может быть рекомендовано студентам направлений «Художественное проектирование изделий текстильной и легкой промышленности», «Дизайн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7" descr="Физика цв"/>
          <p:cNvPicPr/>
          <p:nvPr/>
        </p:nvPicPr>
        <p:blipFill>
          <a:blip r:embed="rId1"/>
          <a:stretch/>
        </p:blipFill>
        <p:spPr>
          <a:xfrm>
            <a:off x="1116000" y="1827360"/>
            <a:ext cx="302436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6920" y="301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социальный подход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7640" y="1827000"/>
            <a:ext cx="42559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риценко Л. 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циальный подход : учеб. пособие для студ. высш. учеб. заведений / Л.И.Гриценко. — 2-е изд., стер. — М. : Издательский центр «Академия», 2008. — 240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786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особии изложены основы личностно-социальной концепции воспитания, в которой приоритетными являются идеи и традиции отечественной педагогики, рассматриваемые через призму современных научных теорий; воспитание трактуется как целостный процесс, объединяющий социализацию личности и развитие ее индивидуальности в гуманном организованном сообществе (коллективе). Представлены технологические решения реализации идей и принципов данной концепц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но школьным педагогам, преподавателям вузов, научным работникам и всем интересующимся вопросами воспитания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7" descr="Теория и мет"/>
          <p:cNvPicPr/>
          <p:nvPr/>
        </p:nvPicPr>
        <p:blipFill>
          <a:blip r:embed="rId1"/>
          <a:stretch/>
        </p:blipFill>
        <p:spPr>
          <a:xfrm>
            <a:off x="1042920" y="1844640"/>
            <a:ext cx="286380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История психологии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2920" y="182736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арцинковская Т.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стория психологии : учебник для студ. высш. учеб. заведений / Т. Д. Марцинковская. - 8-е изд., испр. и доп. - М. : Издательский центр «Академия», 2008. - 544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30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ике раскрываются общие закономерности и характеризуются этапы формирования предмета психологической науки, показаны динамика и логика развития психологических концепций, дана панорама различных взглядов на законы, управляющие поведением человека и процессом познания им внешнего мира, законы становления его личности. История психологической науки раскрывается в контексте общей истории культуры. Впервые предлагается обзор состояния отечественной психологии в конц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IX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начал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ен всем читателям, интересующимся проблемами психологии и истории нау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7" descr="История психологии"/>
          <p:cNvPicPr/>
          <p:nvPr/>
        </p:nvPicPr>
        <p:blipFill>
          <a:blip r:embed="rId1"/>
          <a:stretch/>
        </p:blipFill>
        <p:spPr>
          <a:xfrm>
            <a:off x="1187280" y="1827360"/>
            <a:ext cx="324036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рактикум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о общей психологии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00360" y="1827360"/>
            <a:ext cx="4182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зиев В. Б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актикум по общей психологии : учеб. пособие для студ. высш. учеб. заведений / В. Б.Хозиев. — 4-е изд., стер. — М. : Издательский центр «Академия», 2008. — 272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08-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е пособие включены экспериментальные задания, выполнение которых требует творческого осмысления проблемных ситуаций, видоизменения методик, средств представления результатов, процедур обработки данных и т.д. Внелабораторный характер предлагаемых заданий, их приближение к актуальным проблемам бытия, культуры, образования должны способствовать, по замыслу автора, формированию у будущих специалистов зрелой профессиональной позиц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и специальностям психолог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7" descr="Практ"/>
          <p:cNvPicPr/>
          <p:nvPr/>
        </p:nvPicPr>
        <p:blipFill>
          <a:blip r:embed="rId1"/>
          <a:stretch/>
        </p:blipFill>
        <p:spPr>
          <a:xfrm>
            <a:off x="1258920" y="1827360"/>
            <a:ext cx="2952720" cy="41148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301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40360" y="1773360"/>
            <a:ext cx="4471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ухова Н.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 : учеб. пособие для студ. высш. учеб. заведений / Н.Г.Осухова. — 3-е изд., стер. — М. : Издательский центр «Академия», 2008. — 288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54-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обие посвящено одной из наиболее актуальных проблем нашего времени — восстановлению и поддержке психического здоровья людей, перенесших глубокую душевную травму. Его особенность — психотерапевтическая направленность. Рассмотрены закономерности переживания кризиса, «спровоцированного» трудными и экстремальными ситуациями, и основные подходы к оказанию психологической помощи человеку в этот период. Представлена авторская модель психологического сопровождения в кризисной ситуации, а также конкретные психотехники для различных этапов оказания помощ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психолого-педагогических вузов. Будет полезна практическим работникам помогающих профессий: психологам, социальным работникам, педагогам, сотрудникам служб социально-психологической помощи населению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7" descr="Психол"/>
          <p:cNvPicPr/>
          <p:nvPr/>
        </p:nvPicPr>
        <p:blipFill>
          <a:blip r:embed="rId1"/>
          <a:stretch/>
        </p:blipFill>
        <p:spPr>
          <a:xfrm>
            <a:off x="971640" y="1773360"/>
            <a:ext cx="295272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87640" y="1827000"/>
            <a:ext cx="38955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 : учеб. пособие для студ. высш. учеб. заведений / [В. Н. Непопалов, В. Ф. Сопов, А. В. Родионов и др.; под ред. А. Н. Блеера]. — М.: Издательский центр «Академия», 2008. — 256 с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I8ВN 978-5-7695-3869-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м пособии систематизированы результаты научных исследований и обобщен практический опыт, связанный с психофизиологическими особенностями поведения человека в экстремальных условиях деятельности, в том числе при выполнении специфических задач сотрудниками различных подразделений силовых ведомств России. Показано, как практика спорта высших достижений, трансформированная в стройную систему многолетней подготовки высококвалифицированных спортсменов, может быть с успехом адаптирована к конкретным условиям профессиональной деятельности в экстремальных услов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учреждений высшего профессионального образования. Будет полезно всем, чья деятельность проходит в экстремальных услов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7" descr="Психология деят"/>
          <p:cNvPicPr/>
          <p:nvPr/>
        </p:nvPicPr>
        <p:blipFill>
          <a:blip r:embed="rId1"/>
          <a:stretch/>
        </p:blipFill>
        <p:spPr>
          <a:xfrm>
            <a:off x="1258920" y="1827360"/>
            <a:ext cx="316872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родительств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27640" y="1827360"/>
            <a:ext cx="425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вчарова Р. 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родительства: Учеб. пособие для студ. высш. учеб. заведений. — М.: Издательский центр «Академия», 2005. — 368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-7695-1916-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м пособии изложены теоретические основы психологии родительства, описаны факторы, определяющие формирование родительской позиции, и возможные уровни ее развития. В частности, обсуждаются проблемы готовности к материнству и отцовству, пути подготовки молодых родителей к рождению ребенка. Анализируются типы семейного воспитания, особенности воспитания в полных и неполных семьях, тендерные различия родительских стилей воспитания. Рассмотрены технологии пси­хологического сопровождения родительства, его диагностика и коррекц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емейным консультантам, детским психологам, социальным работникам, социальным педагогам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7" descr="Психология род"/>
          <p:cNvPicPr/>
          <p:nvPr/>
        </p:nvPicPr>
        <p:blipFill>
          <a:blip r:embed="rId1"/>
          <a:stretch/>
        </p:blipFill>
        <p:spPr>
          <a:xfrm>
            <a:off x="1116000" y="1827360"/>
            <a:ext cx="295128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58920" y="1827360"/>
            <a:ext cx="38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тровский А. 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: учебник для студ. высш. учеб. заведений / А.В.Петровский, М.Г.Ярошевский. - 8-е изд., стер. - М. : Издательский центр «Академия», 2008. - 512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5149-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тоящий учебник является продолжением цикла учебников для вузов, вышедших под редакцией А.В.Петровского, - «Общая психология» (1970, 1976, 1977, 1986) и «Введение в психологию» (1995, 1996, 1997), удостоенных в 1997 г. премии Правительства Российской Федерации в области образования. В книге раскрываются предмет, методы, исторический путь развития, а также категории психологии, психические процессы и индивидуально-психологические особенности личност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педагогическим специальностям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7" descr="Психология"/>
          <p:cNvPicPr/>
          <p:nvPr/>
        </p:nvPicPr>
        <p:blipFill>
          <a:blip r:embed="rId1"/>
          <a:stretch/>
        </p:blipFill>
        <p:spPr>
          <a:xfrm>
            <a:off x="1332000" y="1827360"/>
            <a:ext cx="2879640" cy="41148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1640" y="1827360"/>
            <a:ext cx="411156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мендик Д .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: Учебное пособие. - М.: ФОРУМ: ИНФРА-М, 2008. -176 с. - (Профессиональное образование)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91134-072-8 (Издательство «ФОРУМ»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16-002900-9 (ИНФРА-М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нига посвящена тренингу личностного роста, включенному в учебный процесс в качестве одного из специальных предметов. В ней кратко изложены теоретические основы тренинга, его этические и организационные принципы, описаны отличия тренинга личностного роста от других форм группового психологического воздействия. Отдельная глава посвящена методам диагностики и развития памяти, приемам саморегуляции и расслабления. Книга может быть использована как учащимися, в программу обучения которых входит тренинг личностного роста, так и всеми, кого интересуют вопросы психологического развития взрослых люде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7" descr="Тренииг личностного роста"/>
          <p:cNvPicPr/>
          <p:nvPr/>
        </p:nvPicPr>
        <p:blipFill>
          <a:blip r:embed="rId1"/>
          <a:stretch/>
        </p:blipFill>
        <p:spPr>
          <a:xfrm>
            <a:off x="1258920" y="1827360"/>
            <a:ext cx="295272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Основные формы страх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1640" y="1827360"/>
            <a:ext cx="411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иман Ф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новные формы страха : исследование в области глубинной психологии : учеб. пособие для студ. высш. учеб. заве­дений / пер. с нем. Э. Л. Гушанского. — 2-е изд., стер. — М.: Издательский центр «Академия», 2007. — 192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137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нига известного немецкого психолога и психотерапевта Фрица Римана (1902—1979) выдержала 36 изданий в Германии. В ней рассказано о страхах в человеческом существовании, их проявлении у разных людей, в том числе у шизоидных, депрессивных, истерических личностей и лич­ностей с навязчивостями. Материал для книги дала богатая психоаналитическая практика автор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клинических психологов и психотерапевтов, психиатров, а также для всех интересующихся проблемами личностного самосовершенствования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Основные формы страха"/>
          <p:cNvPicPr/>
          <p:nvPr/>
        </p:nvPicPr>
        <p:blipFill>
          <a:blip r:embed="rId1"/>
          <a:stretch/>
        </p:blipFill>
        <p:spPr>
          <a:xfrm>
            <a:off x="1187280" y="1827360"/>
            <a:ext cx="302436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3:42:00Z</dcterms:created>
  <dc:creator>student</dc:creator>
  <dc:description/>
  <dc:language>en-US</dc:language>
  <cp:lastModifiedBy>LEGION</cp:lastModifiedBy>
  <dcterms:modified xsi:type="dcterms:W3CDTF">2014-11-12T08:33:12Z</dcterms:modified>
  <cp:revision>15</cp:revision>
  <dc:subject/>
  <dc:title>Психология</dc:title>
</cp:coreProperties>
</file>