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DEF5-5361-4556-B465-BE635FB4B1C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A76D-B36A-4A57-939A-5E9B4883E50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затрудненного общ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абунская В. А.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затрудненного общения: Теория. Методы. Диагностика. Коррекция: Учеб. пособие для студ. высш. учеб. заведений / В. А. Лабунская, Ю. А. Менджерицкая, Е. Д. Бре-ус. — М.: Издательский центр «Академия», 2001. — 288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-7695-0694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ено затрудненное общение в координатах различных отраслей современной психологии (в плане культурно-психологическом, социально-педагогическом и психофизическом). Проанализированы факторы затрудненного общения, феномен субъекта затрудненного общения. Особое внимание уделено рассмотрению причин затрудненного профессионального 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нига может быть полезна практическим, психологам, научным работникам, интересующимся этими пробле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AF3D-DFF8-428C-83FF-3833E62B9C4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ческий практику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мендик Д.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й практикум: учеб. пособие для студ. высш. учеб. заведений / Д. М. Рамендик, О. В. Одинцова. — М.: Изда­тельский центр «Академия», 2008. — 192 с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258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ом пособии представлены материалы социально-психологической экспресс-диагностики поведения специалиста сферы социально-культурного сервиса и туризма в процессе взаимодействия с партнерами по общению, его функционально-эмоционального состояния и профессионально-важных качеств. Подробно освещаются вопросы делового общения и этикета. Особое внимание уделяется индивидуальным особенностям поведения человека в конфликтной ситуации, методам разрешения подобных ситу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узов, обучающихся по специальности «Социально-культурный сервис и туризм», преподавателей, психологов, менеджеров, специалистов индустрии сервиса и гостеприим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F53D-DCB1-4D15-979B-953CC240F985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и педагог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астенин В.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и педагогика : учеб. пособие для студ. высш. учеб. заведений / В. А. Сластенин, В. П. Каширин. — 7-е изд., стер. — М. : Издательский центр «Академия», 2008. — 480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5044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ое пособие знакомит студентов непедагогических специальностей с современной отечественной и зарубежной психологией и педагогикой; рассматриваются, в частности, такие вопросы, как психология личности, малых групп общения, конфликтных отношений, психологические проблемы адаптации специалиста, теоретико-методологические основы педагогики, воспитание и обучение в педагогическом процессе, поддержание психического здоровья, регулирование межличностных отношений; особое внимание уделяется педагогике и психологии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специалистам разных отраслей, прежде всего тем, кому предстоит работать с людь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352B-D74D-4F60-943D-7136183A87D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стихийного массового п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заретян А. 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стихийного массового поведения: Толпа, слухи, политические и рекламные кампании: Учеб. пособие для студ. высш. учеб. заведений. — 2-е изд., перераб. / Акоп Погосович Назаретян. — М.: Издательский центр «Акаде­мия», 2005. - 160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-7695-2120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собии раскрыты феноменология и закономерности стихийного массового поведения: реакции толпы, массовая паника, распространение слухов, механизмы формирования общественного мнения. Рассмотрены способы управления этими явлениями, в частности технологии ведения рекламных кампаний. Материал представлен в лекционной форме, доступной для широкого круга чит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психологам, политологам, сотрудникам охранных агентств, офицерам МЧС, МВД и ФСБ, специалистам по связям с обществен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6DFC-0A12-4BBD-8C97-94126802B83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 : учеб. пособие для студ. высш. учеб. заведений / [Л.С.Подымова, Л.И.Духова, Е.А. Ларина, О.А.Шиян] ; под ред. В.А.Сластёнина. — 4-е изд., стер. — М. : Издательский центр «Академия», 2008. — 224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862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 содержит разнообразные психологические и педагогические материалы, позволяющие постичь особенности профессиональной деятельности педагога, познать себя. Для анализа и иллюстрации предлагаются педагогические ситуации, этюды, художественные и научно-популярные тексты, детские сочинения, тесты, иг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педагогических учебных заведений. Может быть полезен педагогам-практи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F9D1-0CA6-4910-8211-C1939900546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Физика цвета и психология зрительного воспит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лиева Н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зика цвета и психология зрительного восприятия: учеб. пособие для студ. высш. учеб. заведений / Н.З.Алиева. — М.: Издательский центр «Академия», 2008. — 208 с, [8] с. цв. ил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2772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ены вопросы физической природы света, преобразования его в цвет, физиология цветового зрения, основы колориметрии и систематики цветов. Освещены современные научные представления о зрительном восприятии образов, цвета, движения, пространства, а также законы зрительного восприятия, его неоднозначности, неопределенности, парадоксы, иллюзии, использование законов и иллюзий зрительного восприятия в моделировании, дизайне, художественном проектировании, рекламе, брендин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направлению «Технология и конструирование изделий легкой промышленности». Может быть рекомендовано студентам направлений «Художественное проектирование изделий текстильной и легкой промышленности», «Дизай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5869-96DD-4314-8BFE-A34E7E8BB79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еория и методика воспитания : личностно-социальный подх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иценко Л. 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ория и методика воспитания : личностно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циальный подход : учеб. пособие для студ. высш. учеб. заведений / Л.И.Гриценко. — 2-е изд., стер. — М. : Издательский центр «Академия», 2008. — 240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786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собии изложены основы личностно-социальной концепции воспитания, в которой приоритетными являются идеи и традиции отечественной педагогики, рассматриваемые через призму современных научных теорий; воспитание трактуется как целостный процесс, объединяющий социализацию личности и развитие ее индивидуальности в гуманном организованном сообществе (коллективе). Представлены технологические решения реализации идей и принципов данной концеп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педагогических учебных заведений. Может быть полезно школьным педагогам, преподавателям вузов, научным работникам и всем интересующимся вопросами воспи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710B-DBF7-4B64-96FC-3F61455239F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История психоло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рцинковская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рия психологии : учебник для студ. высш. учеб. заведений / Т. Д. Марцинковская. - 8-е изд., испр. и доп. - М. : Издательский центр «Академия», 2008. - 544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830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ике раскрываются общие закономерности и характеризуются этапы формирования предмета психологической науки, показаны динамика и логика развития психологических концепций, дана панорама различных взглядов на законы, управляющие поведением человека и процессом познания им внешнего мира, законы становления его личности. История психологической науки раскрывается в контексте общей истории культуры. Впервые предлагается обзор состояния отечественной психологии в конц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нача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ен всем читателям, интересующимся проблемами психологии и истории на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ACCF-6849-4F1E-821B-A1880ADC502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рактикум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о общей психолог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озиев В. 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ктикум по общей психологии : учеб. пособие для студ. высш. учеб. заведений / В. Б.Хозиев. — 4-е изд., стер. — М. : Издательский центр «Академия», 2008. — 272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808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ое пособие включены экспериментальные задания, выполнение которых требует творческого осмысления проблемных ситуаций, видоизменения методик, средств представления результатов, процедур обработки данных и т.д. Внелабораторный характер предлагаемых заданий, их приближение к актуальным проблемам бытия, культуры, образования должны способствовать, по замыслу автора, формированию у будущих специалистов зрелой профессиональной поз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направлению и специальностям псих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2B1E-7909-404D-846C-B6AA9925BEA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ческая помощь в трудных и экстремальных ситуация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ухова Н.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ая помощь в трудных и экстремальных ситуациях : учеб. пособие для студ. высш. учеб. заведений / Н.Г.Осухова. — 3-е изд., стер. — М. : Издательский центр «Академия», 2008. — 288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854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обие посвящено одной из наиболее актуальных проблем нашего времени — восстановлению и поддержке психического здоровья людей, перенесших глубокую душевную травму. Его особенность — психотерапевтическая направленность. Рассмотрены закономерности переживания кризиса, «спровоцированного» трудными и экстремальными ситуациями, и основные подходы к оказанию психологической помощи человеку в этот период. Представлена авторская модель психологического сопровождения в кризисной ситуации, а также конкретные психотехники для различных этапов оказания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психолого-педагогических вузов. Будет полезна практическим работникам помогающих профессий: психологам, социальным работникам, педагогам, сотрудникам служб социально-психологической помощи насе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BB7C-3E1C-4A73-8A83-9DFA7CF6CCA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деятельности в экстремальных условия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деятельности в экстремальных условиях : учеб. пособие для студ. высш. учеб. заведений / [В. Н. Непопалов, В. Ф. Сопов, А. В. Родионов и др.; под ред. А. Н. Блеера]. — М.: Издательский центр «Академия», 2008. — 25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8ВN 978-5-7695-3869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ом пособии систематизированы результаты научных исследований и обобщен практический опыт, связанный с психофизиологическими особенностями поведения человека в экстремальных условиях деятельности, в том числе при выполнении специфических задач сотрудниками различных подразделений силовых ведомств России. Показано, как практика спорта высших достижений, трансформированная в стройную систему многолетней подготовки высококвалифицированных спортсменов, может быть с успехом адаптирована к конкретным условиям профессиональной деятельности в экстремальны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учреждений высшего профессионального образования. Будет полезно всем, чья деятельность проходит в экстремальны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0723-EBEB-49B3-A49B-5A7EBB136E8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родитель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вчарова Р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родительства: Учеб. пособие для студ. высш. учеб. заведений. — М.: Издательский центр «Академия», 2005. — 368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-7695-1916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ом пособии изложены теоретические основы психологии родительства, описаны факторы, определяющие формирование родительской позиции, и возможные уровни ее развития. В частности, обсуждаются проблемы готовности к материнству и отцовству, пути подготовки молодых родителей к рождению ребенка. Анализируются типы семейного воспитания, особенности воспитания в полных и неполных семьях, тендерные различия родительских стилей воспитания. Рассмотрены технологии пси­хологического сопровождения родительства, его диагностика и коррек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семейным консультантам, детским психологам, социальным работникам, социальным педагог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938B-D980-448D-8BAD-E0C916F952B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тровский А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: учебник для студ. высш. учеб. заведений / А.В.Петровский, М.Г.Ярошевский. - 8-е изд., стер. - М. : Издательский центр «Академия», 2008. - 512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5149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оящий учебник является продолжением цикла учебников для вузов, вышедших под редакцией А.В.Петровского, - «Общая психология» (1970, 1976, 1977, 1986) и «Введение в психологию» (1995, 1996, 1997), удостоенных в 1997 г. премии Правительства Российской Федерации в области образования. В книге раскрываются предмет, методы, исторический путь развития, а также категории психологии, психические процессы и индивидуально-психологические особенности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педагогическим специальност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5F30-2882-4982-9C15-B36297132165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ренинг личностного ро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мендик Д .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нинг личностного роста: Учебное пособие. - М.: ФОРУМ: ИНФРА-М, 2008. -176 с. - (Профессиональное образование)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91134-072-8 (Издательство «ФОРУМ»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16-002900-9 (ИНФРА-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нига посвящена тренингу личностного роста, включенному в учебный процесс в качестве одного из специальных предметов. В ней кратко изложены теоретические основы тренинга, его этические и организационные принципы, описаны отличия тренинга личностного роста от других форм группового психологического воздействия. Отдельная глава посвящена методам диагностики и развития памяти, приемам саморегуляции и расслабления. Книга может быть использована как учащимися, в программу обучения которых входит тренинг личностного роста, так и всеми, кого интересуют вопросы психологического развития взрослы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C44F-84A0-4B98-AE5A-20C17F70A7B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Основные формы страх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иман 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ые формы страха : исследование в области глубинной психологии : учеб. пособие для студ. высш. учеб. заве­дений / пер. с нем. Э. Л. Гушанского. — 2-е изд., стер. — М.: Издательский центр «Академия», 2007. — 192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137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нига известного немецкого психолога и психотерапевта Фрица Римана (1902—1979) выдержала 36 изданий в Германии. В ней рассказано о страхах в человеческом существовании, их проявлении у разных людей, в том числе у шизоидных, депрессивных, истерических личностей и лич­ностей с навязчивостями. Материал для книги дала богатая психоаналитическая практика ав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клинических психологов и психотерапевтов, психиатров, а также для всех интересующихся проблемами личностного самосовершенств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D2D3-4F1B-422F-857B-3F114E2F491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7BE3-036B-43CF-8D89-02F82CDF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D045-79F6-4137-9EEE-2361534F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F7AD-9F17-42C0-A7C6-7C341D93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E890-6975-436D-BEA5-E11B0FE95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DA9D-BF54-4697-8A70-091780BF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51C5-0288-46DE-812A-630BCA1E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C75F-7C02-4FCD-9B71-9F71A370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623D-0401-4C9E-8E87-BB60B469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6194-36F9-4F96-A106-A66A5F83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4DAE-C6AE-4090-9E17-EAFB0EAE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F0CF-363A-48DC-AA26-CF8647B2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9A81-D21F-4695-A006-012ACC0E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10B1-4B05-49E5-98C1-ED3D369D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AD9C-48CD-4B8D-A5D8-63012178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203E-A012-4BF1-B9FF-69D65DD1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9D09-B627-420A-92C8-C1922556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D6DC-F0FB-4B1C-848A-D48360AF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11E7-26ED-47E9-8C91-BAEEE136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83EE-7434-44BB-9BB1-8D5FD677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0F4D-C0B1-4E65-B74B-0A66900A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FDFF-F298-4BBD-9A73-88531013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BCB2-9EF9-4F9F-80AC-56F700EE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0D2F-5A71-473C-83D0-BACC7505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085A-6259-4C91-A8B5-17BB9651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092D-2C70-4FAE-885D-38408EFC40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EC0C-8935-43A5-90C6-BF345F430D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затрудненного обще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716360" y="1827360"/>
            <a:ext cx="396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абунская В. А. и др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затрудненного общения: Теория. Методы. Диагностика. Коррекция: Учеб. пособие для студ. высш. учеб. заведений / В. А. Лабунская, Ю. А. Менджерицкая, Е. Д. Бре-ус. — М.: Издательский центр «Академия», 2001. — 288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-7695-0694-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смотрено затрудненное общение в координатах различных отраслей современной психологии (в плане культурно-психологическом, социально-педагогическом и психофизическом). Проанализированы факторы затрудненного общения, феномен субъекта затрудненного общения. Особое внимание уделено рассмотрению причин затрудненного профессионального общ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нига может быть полезна практическим, психологам, научным работникам, интересующимся этими проблемам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7" descr="Психол"/>
          <p:cNvPicPr/>
          <p:nvPr/>
        </p:nvPicPr>
        <p:blipFill>
          <a:blip r:embed="rId1"/>
          <a:stretch/>
        </p:blipFill>
        <p:spPr>
          <a:xfrm>
            <a:off x="1187280" y="1827360"/>
            <a:ext cx="3097440" cy="41148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ческий практикум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355640" y="1827360"/>
            <a:ext cx="432756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мендик Д. 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ческий практикум: учеб. пособие для студ. высш. учеб. заведений / Д. М. Рамендик, О. В. Одинцова. — М.: Изда­тельский центр «Академия», 2008. — 192 с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258-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ом пособии представлены материалы социально-психологической экспресс-диагностики поведения специалиста сферы социально-культурного сервиса и туризма в процессе взаимодействия с партнерами по общению, его функционально-эмоционального состояния и профессионально-важных качеств. Подробно освещаются вопросы делового общения и этикета. Особое внимание уделяется индивидуальным особенностям поведения человека в конфликтной ситуации, методам разрешения подобных ситуац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узов, обучающихся по специальности «Социально-культурный сервис и туризм», преподавателей, психологов, менеджеров, специалистов индустрии сервиса и гостеприимств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7" descr="Психол"/>
          <p:cNvPicPr/>
          <p:nvPr/>
        </p:nvPicPr>
        <p:blipFill>
          <a:blip r:embed="rId1"/>
          <a:stretch/>
        </p:blipFill>
        <p:spPr>
          <a:xfrm>
            <a:off x="1187280" y="1827360"/>
            <a:ext cx="2880000" cy="41148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и педагогик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00360" y="1827000"/>
            <a:ext cx="4182840" cy="43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ластенин В. 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и педагогика : учеб. пособие для студ. высш. учеб. заведений / В. А. Сластенин, В. П. Каширин. — 7-е изд., стер. — М. : Издательский центр «Академия», 2008. — 480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5044-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ебное пособие знакомит студентов непедагогических специальностей с современной отечественной и зарубежной психологией и педагогикой; рассматриваются, в частности, такие вопросы, как психология личности, малых групп общения, конфликтных отношений, психологические проблемы адаптации специалиста, теоретико-методологические основы педагогики, воспитание и обучение в педагогическом процессе, поддержание психического здоровья, регулирование межличностных отношений; особое внимание уделяется педагогике и психологии профессиональной деятельност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специалистам разных отраслей, прежде всего тем, кому предстоит работать с людьм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7" descr="Психология и пед"/>
          <p:cNvPicPr/>
          <p:nvPr/>
        </p:nvPicPr>
        <p:blipFill>
          <a:blip r:embed="rId1"/>
          <a:stretch/>
        </p:blipFill>
        <p:spPr>
          <a:xfrm>
            <a:off x="1187280" y="1827360"/>
            <a:ext cx="280836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8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стихийного массового поведе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55640" y="1827360"/>
            <a:ext cx="432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заретян А. П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стихийного массового поведения: Толпа, слухи, политические и рекламные кампании: Учеб. пособие для студ. высш. учеб. заведений. — 2-е изд., перераб. / Акоп Погосович Назаретян. — М.: Издательский центр «Акаде­мия», 2005. - 160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-7695-2120-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особии раскрыты феноменология и закономерности стихийного массового поведения: реакции толпы, массовая паника, распространение слухов, механизмы формирования общественного мнения. Рассмотрены способы управления этими явлениями, в частности технологии ведения рекламных кампаний. Материал представлен в лекционной форме, доступной для широкого круга читателе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психологам, политологам, сотрудникам охранных агентств, офицерам МЧС, МВД и ФСБ, специалистам по связям с общественностью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7" descr="Псих"/>
          <p:cNvPicPr/>
          <p:nvPr/>
        </p:nvPicPr>
        <p:blipFill>
          <a:blip r:embed="rId1"/>
          <a:stretch/>
        </p:blipFill>
        <p:spPr>
          <a:xfrm>
            <a:off x="1187280" y="1827360"/>
            <a:ext cx="2953080" cy="411480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1640" y="1827360"/>
            <a:ext cx="411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 : учеб. пособие для студ. высш. учеб. заведений / [Л.С.Подымова, Л.И.Духова, Е.А. Ларина, О.А.Шиян] ; под ред. В.А.Сластёнина. — 4-е изд., стер. — М. : Издательский центр «Академия», 2008. — 224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862-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 содержит разнообразные психологические и педагогические материалы, позволяющие постичь особенности профессиональной деятельности педагога, познать себя. Для анализа и иллюстрации предлагаются педагогические ситуации, этюды, художественные и научно-популярные тексты, детские сочинения, тесты, игр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педагогических учебных заведений. Может быть полезен педагогам-практика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7" descr="психолого"/>
          <p:cNvPicPr/>
          <p:nvPr/>
        </p:nvPicPr>
        <p:blipFill>
          <a:blip r:embed="rId1"/>
          <a:stretch/>
        </p:blipFill>
        <p:spPr>
          <a:xfrm>
            <a:off x="1187280" y="1827360"/>
            <a:ext cx="309744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Физика цвета и психология зрительного воспита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7640" y="1827360"/>
            <a:ext cx="425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лиева Н.3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изика цвета и психология зрительного восприятия: учеб. пособие для студ. высш. учеб. заведений / Н.З.Алиева. — М.: Издательский центр «Академия», 2008. — 208 с, [8] с. цв. ил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2772-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смотрены вопросы физической природы света, преобразования его в цвет, физиология цветового зрения, основы колориметрии и систематики цветов. Освещены современные научные представления о зрительном восприятии образов, цвета, движения, пространства, а также законы зрительного восприятия, его неоднозначности, неопределенности, парадоксы, иллюзии, использование законов и иллюзий зрительного восприятия в моделировании, дизайне, художественном проектировании, рекламе, брендинг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направлению «Технология и конструирование изделий легкой промышленности». Может быть рекомендовано студентам направлений «Художественное проектирование изделий текстильной и легкой промышленности», «Дизайн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7" descr="Физика цв"/>
          <p:cNvPicPr/>
          <p:nvPr/>
        </p:nvPicPr>
        <p:blipFill>
          <a:blip r:embed="rId1"/>
          <a:stretch/>
        </p:blipFill>
        <p:spPr>
          <a:xfrm>
            <a:off x="1116000" y="1827360"/>
            <a:ext cx="302436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86920" y="301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Теория и методика воспитания : личностно-социальный подход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7640" y="1827000"/>
            <a:ext cx="425592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риценко Л. 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еория и методика воспитания : личностно-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циальный подход : учеб. пособие для студ. высш. учеб. заведений / Л.И.Гриценко. — 2-е изд., стер. — М. : Издательский центр «Академия», 2008. — 240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786-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особии изложены основы личностно-социальной концепции воспитания, в которой приоритетными являются идеи и традиции отечественной педагогики, рассматриваемые через призму современных научных теорий; воспитание трактуется как целостный процесс, объединяющий социализацию личности и развитие ее индивидуальности в гуманном организованном сообществе (коллективе). Представлены технологические решения реализации идей и принципов данной концепц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педагогических учебных заведений. Может быть полезно школьным педагогам, преподавателям вузов, научным работникам и всем интересующимся вопросами воспитания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7" descr="Теория и мет"/>
          <p:cNvPicPr/>
          <p:nvPr/>
        </p:nvPicPr>
        <p:blipFill>
          <a:blip r:embed="rId1"/>
          <a:stretch/>
        </p:blipFill>
        <p:spPr>
          <a:xfrm>
            <a:off x="1042920" y="1844640"/>
            <a:ext cx="2863800" cy="41148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История психологии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2920" y="182736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арцинковская Т.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стория психологии : учебник для студ. высш. учеб. заведений / Т. Д. Марцинковская. - 8-е изд., испр. и доп. - М. : Издательский центр «Академия», 2008. - 544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830-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ике раскрываются общие закономерности и характеризуются этапы формирования предмета психологической науки, показаны динамика и логика развития психологических концепций, дана панорама различных взглядов на законы, управляющие поведением человека и процессом познания им внешнего мира, законы становления его личности. История психологической науки раскрывается в контексте общей истории культуры. Впервые предлагается обзор состояния отечественной психологии в конц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IX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начал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ен всем читателям, интересующимся проблемами психологии и истории нау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7" descr="История психологии"/>
          <p:cNvPicPr/>
          <p:nvPr/>
        </p:nvPicPr>
        <p:blipFill>
          <a:blip r:embed="rId1"/>
          <a:stretch/>
        </p:blipFill>
        <p:spPr>
          <a:xfrm>
            <a:off x="1187280" y="1827360"/>
            <a:ext cx="324036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рактикум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о общей психологии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00360" y="1827360"/>
            <a:ext cx="4182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зиев В. Б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актикум по общей психологии : учеб. пособие для студ. высш. учеб. заведений / В. Б.Хозиев. — 4-е изд., стер. — М. : Издательский центр «Академия», 2008. — 272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808-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ое пособие включены экспериментальные задания, выполнение которых требует творческого осмысления проблемных ситуаций, видоизменения методик, средств представления результатов, процедур обработки данных и т.д. Внелабораторный характер предлагаемых заданий, их приближение к актуальным проблемам бытия, культуры, образования должны способствовать, по замыслу автора, формированию у будущих специалистов зрелой профессиональной позиц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направлению и специальностям психолог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7" descr="Практ"/>
          <p:cNvPicPr/>
          <p:nvPr/>
        </p:nvPicPr>
        <p:blipFill>
          <a:blip r:embed="rId1"/>
          <a:stretch/>
        </p:blipFill>
        <p:spPr>
          <a:xfrm>
            <a:off x="1258920" y="1827360"/>
            <a:ext cx="2952720" cy="41148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301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ческая помощь в трудных и экстремальных ситуациях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40360" y="1773360"/>
            <a:ext cx="44719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ухова Н. 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ческая помощь в трудных и экстремальных ситуациях : учеб. пособие для студ. высш. учеб. заведений / Н.Г.Осухова. — 3-е изд., стер. — М. : Издательский центр «Академия», 2008. — 288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854-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обие посвящено одной из наиболее актуальных проблем нашего времени — восстановлению и поддержке психического здоровья людей, перенесших глубокую душевную травму. Его особенность — психотерапевтическая направленность. Рассмотрены закономерности переживания кризиса, «спровоцированного» трудными и экстремальными ситуациями, и основные подходы к оказанию психологической помощи человеку в этот период. Представлена авторская модель психологического сопровождения в кризисной ситуации, а также конкретные психотехники для различных этапов оказания помощ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психолого-педагогических вузов. Будет полезна практическим работникам помогающих профессий: психологам, социальным работникам, педагогам, сотрудникам служб социально-психологической помощи населению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7" descr="Психол"/>
          <p:cNvPicPr/>
          <p:nvPr/>
        </p:nvPicPr>
        <p:blipFill>
          <a:blip r:embed="rId1"/>
          <a:stretch/>
        </p:blipFill>
        <p:spPr>
          <a:xfrm>
            <a:off x="971640" y="1773360"/>
            <a:ext cx="295272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деятельности в экстремальных условиях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87640" y="1827000"/>
            <a:ext cx="38955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деятельности в экстремальных условиях : учеб. пособие для студ. высш. учеб. заведений / [В. Н. Непопалов, В. Ф. Сопов, А. В. Родионов и др.; под ред. А. Н. Блеера]. — М.: Издательский центр «Академия», 2008. — 256 с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I8ВN 978-5-7695-3869-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ом пособии систематизированы результаты научных исследований и обобщен практический опыт, связанный с психофизиологическими особенностями поведения человека в экстремальных условиях деятельности, в том числе при выполнении специфических задач сотрудниками различных подразделений силовых ведомств России. Показано, как практика спорта высших достижений, трансформированная в стройную систему многолетней подготовки высококвалифицированных спортсменов, может быть с успехом адаптирована к конкретным условиям профессиональной деятельности в экстремальных услови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учреждений высшего профессионального образования. Будет полезно всем, чья деятельность проходит в экстремальных услови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7" descr="Психология деят"/>
          <p:cNvPicPr/>
          <p:nvPr/>
        </p:nvPicPr>
        <p:blipFill>
          <a:blip r:embed="rId1"/>
          <a:stretch/>
        </p:blipFill>
        <p:spPr>
          <a:xfrm>
            <a:off x="1258920" y="1827360"/>
            <a:ext cx="316872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родительств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27640" y="1827360"/>
            <a:ext cx="425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вчарова Р. 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родительства: Учеб. пособие для студ. высш. учеб. заведений. — М.: Издательский центр «Академия», 2005. — 368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-7695-1916-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ом пособии изложены теоретические основы психологии родительства, описаны факторы, определяющие формирование родительской позиции, и возможные уровни ее развития. В частности, обсуждаются проблемы готовности к материнству и отцовству, пути подготовки молодых родителей к рождению ребенка. Анализируются типы семейного воспитания, особенности воспитания в полных и неполных семьях, тендерные различия родительских стилей воспитания. Рассмотрены технологии пси­хологического сопровождения родительства, его диагностика и коррекц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семейным консультантам, детским психологам, социальным работникам, социальным педагогам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7" descr="Психология род"/>
          <p:cNvPicPr/>
          <p:nvPr/>
        </p:nvPicPr>
        <p:blipFill>
          <a:blip r:embed="rId1"/>
          <a:stretch/>
        </p:blipFill>
        <p:spPr>
          <a:xfrm>
            <a:off x="1116000" y="1827360"/>
            <a:ext cx="2951280" cy="41148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858920" y="1827360"/>
            <a:ext cx="38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тровский А. 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: учебник для студ. высш. учеб. заведений / А.В.Петровский, М.Г.Ярошевский. - 8-е изд., стер. - М. : Издательский центр «Академия», 2008. - 512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5149-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тоящий учебник является продолжением цикла учебников для вузов, вышедших под редакцией А.В.Петровского, - «Общая психология» (1970, 1976, 1977, 1986) и «Введение в психологию» (1995, 1996, 1997), удостоенных в 1997 г. премии Правительства Российской Федерации в области образования. В книге раскрываются предмет, методы, исторический путь развития, а также категории психологии, психические процессы и индивидуально-психологические особенности личност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педагогическим специальностям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7" descr="Психология"/>
          <p:cNvPicPr/>
          <p:nvPr/>
        </p:nvPicPr>
        <p:blipFill>
          <a:blip r:embed="rId1"/>
          <a:stretch/>
        </p:blipFill>
        <p:spPr>
          <a:xfrm>
            <a:off x="1332000" y="1827360"/>
            <a:ext cx="2879640" cy="41148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Тренинг личностного рост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1640" y="1827360"/>
            <a:ext cx="411156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мендик Д .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ренинг личностного роста: Учебное пособие. - М.: ФОРУМ: ИНФРА-М, 2008. -176 с. - (Профессиональное образование)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91134-072-8 (Издательство «ФОРУМ»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16-002900-9 (ИНФРА-М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нига посвящена тренингу личностного роста, включенному в учебный процесс в качестве одного из специальных предметов. В ней кратко изложены теоретические основы тренинга, его этические и организационные принципы, описаны отличия тренинга личностного роста от других форм группового психологического воздействия. Отдельная глава посвящена методам диагностики и развития памяти, приемам саморегуляции и расслабления. Книга может быть использована как учащимися, в программу обучения которых входит тренинг личностного роста, так и всеми, кого интересуют вопросы психологического развития взрослых люде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7" descr="Тренииг личностного роста"/>
          <p:cNvPicPr/>
          <p:nvPr/>
        </p:nvPicPr>
        <p:blipFill>
          <a:blip r:embed="rId1"/>
          <a:stretch/>
        </p:blipFill>
        <p:spPr>
          <a:xfrm>
            <a:off x="1258920" y="1827360"/>
            <a:ext cx="295272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Основные формы страх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1640" y="1827360"/>
            <a:ext cx="411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иман Ф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новные формы страха : исследование в области глубинной психологии : учеб. пособие для студ. высш. учеб. заве­дений / пер. с нем. Э. Л. Гушанского. — 2-е изд., стер. — М.: Издательский центр «Академия», 2007. — 192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137-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нига известного немецкого психолога и психотерапевта Фрица Римана (1902—1979) выдержала 36 изданий в Германии. В ней рассказано о страхах в человеческом существовании, их проявлении у разных людей, в том числе у шизоидных, депрессивных, истерических личностей и лич­ностей с навязчивостями. Материал для книги дала богатая психоаналитическая практика автор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клинических психологов и психотерапевтов, психиатров, а также для всех интересующихся проблемами личностного самосовершенствования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Основные формы страха"/>
          <p:cNvPicPr/>
          <p:nvPr/>
        </p:nvPicPr>
        <p:blipFill>
          <a:blip r:embed="rId1"/>
          <a:stretch/>
        </p:blipFill>
        <p:spPr>
          <a:xfrm>
            <a:off x="1187280" y="1827360"/>
            <a:ext cx="3024360" cy="41148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3:42:00Z</dcterms:created>
  <dc:creator>student</dc:creator>
  <dc:description/>
  <dc:language>en-US</dc:language>
  <cp:lastModifiedBy>LEGION</cp:lastModifiedBy>
  <dcterms:modified xsi:type="dcterms:W3CDTF">2014-11-12T08:33:12Z</dcterms:modified>
  <cp:revision>15</cp:revision>
  <dc:subject/>
  <dc:title>Психология</dc:title>
</cp:coreProperties>
</file>