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0.png" ContentType="image/png"/>
  <Override PartName="/ppt/media/image23.png" ContentType="image/png"/>
  <Override PartName="/ppt/media/image18.gif" ContentType="image/gif"/>
  <Override PartName="/ppt/media/image22.png" ContentType="image/png"/>
  <Override PartName="/ppt/media/image17.gif" ContentType="image/gif"/>
  <Override PartName="/ppt/media/image28.png" ContentType="image/png"/>
  <Override PartName="/ppt/media/image5.png" ContentType="image/png"/>
  <Override PartName="/ppt/media/image30.png" ContentType="image/png"/>
  <Override PartName="/ppt/media/image9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gif" ContentType="image/gif"/>
  <Override PartName="/ppt/media/image19.png" ContentType="image/png"/>
  <Override PartName="/ppt/media/image2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cc"/>
                </a:solidFill>
                <a:latin typeface="Century Gothic"/>
              </a:rPr>
              <a:t>Click to move the slide</a:t>
            </a:r>
            <a:endParaRPr b="0" lang="en-US" sz="54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9E535-1343-4524-B604-2A276FD512DB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ОРИЯ ОРГАН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ование научного знания в менеджмент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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отников Михаил Вячеславович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сква, 200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ТЕОРИЯ ОРГАНИЗАЦИИ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Использование научного знания в менеджменте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 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Плотников Михаил Вячеславович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	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	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	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Москва, 2005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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блемы: как и зачем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попытке решить проблему следует прежде всего обеспечить максимально широкий взгляд на ситуацию – на влияющие силы и факторы, а также их взаимосвяз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Проблемы: как и зачем?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При попытке решить проблему следует прежде всего обеспечить максимально широкий взгляд на ситуацию – на влияющие силы и факторы, а также их взаимосвязи.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блемы: как и зачем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удно понять, что делать, если не знаешь почему и зачем? Правильно поставленная, т.е. системно описанная, проблема дает ответа на оба этих вопрос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Проблемы: как и зачем?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Трудно понять, что делать, если не знаешь почему и зачем? Правильно поставленная, т.е. системно описанная, проблема дает ответа на оба этих вопроса.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блемы: как и зачем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нако не следует забывать задаваться и другими вопросами: а почему именно так? Как иначе? И Зачем мне решать эту проблему?.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Проблемы: как и зачем?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Однако не следует забывать задаваться и другими вопросами: а почему именно так? Как иначе? И Зачем мне решать эту проблему?...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решать проблемы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ним из наиболее действенных способов решения проблем является индуктивный синтез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у синтеза составляет попытка преодолеть объективное логическое противоречие проблемы за счет предложения новой формулировки, в которой противоборствующие стороны становятся конгруэнтны (т.е. не противоречащими друг другу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Как решать проблемы?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Одним из наиболее действенных способов решения проблем является индуктивный синтез.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Основу синтеза составляет попытка преодолеть объективное логическое противоречие проблемы за счет предложения новой формулировки, в которой противоборствующие стороны становятся конгруэнтны (т.е. не противоречащими друг другу).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синте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ществует несколько принципиально различных подходов к устранению логического противоречия в процессе синтез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мпириче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алектиче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ерменевтиче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афориче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итиче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Методы синтеза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Существует несколько принципиально различных подходов к устранению логического противоречия в процессе синтеза: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 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эмпирический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 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диалектический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 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герменевтический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 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метафорический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 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критический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синте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мпирический синтез основывается на практической деятельности и, прежде всего, эксперимент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утем проб и ошибок мы ищем такой вариант практики, который как минимум не противоречит обоим положениям теор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правило, это достигается за счет поиска и более точного описания необходимых услов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Методы синтеза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Эмпирический синтез основывается на практической деятельности и, прежде всего, эксперименте.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Путем проб и ошибок мы ищем такой вариант практики, который как минимум не противоречит обоим положениям теории.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Как правило, это достигается за счет поиска и более точного описания необходимых условий.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синте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р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зис: Сотрудники действуют исходя из личных интерес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титезис: Люди в значительной мере подчиняются нормам группы, которой они принадлежа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нтез: Сотрудники будут формулировать личные интересы, конгруэнтные целям организации, если они понимают, принимают и разделяют эти цели (повышаем значимость «роли сотрудника»: пробуем провести широкую пропаганду видения и целей организации, выражаем признание за достижение даже незначительных результатов, подчеркиваем значимость общности и дисциплины, критикуем и наказываем отступников, вовлекаем в организационную жизнь друзей и родственников – а потом выдвигаем организационные требования, которые рассматриваются как личностно значимы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Методы синтеза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Пример: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Тезис: Сотрудники действуют исходя из личных интересов.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Антитезис: Люди в значительной мере подчиняются нормам группы, которой они принадлежат.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Синтез: Сотрудники будут формулировать личные интересы, конгруэнтные целям организации, если они понимают, принимают и разделяют эти цели (повышаем значимость «роли сотрудника»: пробуем провести широкую пропаганду видения и целей организации, выражаем признание за достижение даже незначительных результатов, подчеркиваем значимость общности и дисциплины, критикуем и наказываем отступников, вовлекаем в организационную жизнь друзей и родственников – а потом выдвигаем организационные требования, которые рассматриваются как личностно значимые)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синте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алектический синтез основывается на поиске новой точки зрения, прежде всего нового уровня агрегирования зн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астные теории верны для частных случаев, а значит и противоречие их также ситуационно обусловлено. Следовательно, для снятия противоречия необходимо сформулировать теорию для более общего класса явл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оны диалектик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Единство и борьба противоположност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Отрицание отриц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Переход количества в качеств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Методы синтеза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Диалектический синтез основывается на поиске новой точки зрения, прежде всего нового уровня агрегирования знания.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Частные теории верны для частных случаев, а значит и противоречие их также ситуационно обусловлено. Следовательно, для снятия противоречия необходимо сформулировать теорию для более общего класса явлений.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Законы диалектики: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1. Единство и борьба противоположностей.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2. Отрицание отрицания.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3. Переход количества в качество.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синте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р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зис: Сотрудники действуют исходя из личных интерес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титезис: Люди в значительной мере подчиняются нормам группы, которой они принадлежа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нтез: Поведение сотрудников в организации определяется множеством различных нередко разнонаправленных сил (единство и борьба). Нормы групп, в которых человек не чувствует собственной причастности имеют второстепенное значение по отношению к личным интересам (отрицание отрицания). Если сотрудник достаточно долго будет демонстрировать одну линию поведения (подкрепляемую удовлетворением личных интересов), то в итоге поведение станет разделяемой нормой, а значит личное вознаграждение станет менее значимым в сравнении со стремлением сохранять традиции организации (переход количества в качество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Методы синтеза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Пример: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Тезис: Сотрудники действуют исходя из личных интересов.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Антитезис: Люди в значительной мере подчиняются нормам группы, которой они принадлежат.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Синтез: Поведение сотрудников в организации определяется множеством различных нередко разнонаправленных сил (единство и борьба). Нормы групп, в которых человек не чувствует собственной причастности имеют второстепенное значение по отношению к личным интересам (отрицание отрицания). Если сотрудник достаточно долго будет демонстрировать одну линию поведения (подкрепляемую удовлетворением личных интересов), то в итоге поведение станет разделяемой нормой, а значит личное вознаграждение станет менее значимым в сравнении со стремлением сохранять традиции организации (переход количества в качество).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синте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ерменевтический синтез направлен на предложение максимально широкой объясняющей конструкции, учитывающей все возможные интерес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авная задача герменевтики – поместить противоречие в объяснимые рам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Методы синтеза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Герменевтический синтез направлен на предложение максимально широкой объясняющей конструкции, учитывающей все возможные интересы.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Главная задача герменевтики – поместить противоречие в объяснимые рамки.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Тема 2. Теория позн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see the world in a grain of sand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Heaven in a wild flower 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ld Infinity in the palm of your hand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Eternity in an hour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lliam Blak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entury Gothic"/>
              </a:rPr>
              <a:t>Тема 2. Теория познания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entury Gothic"/>
              </a:rPr>
              <a:t>To see the world in a grain of sand,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entury Gothic"/>
              </a:rPr>
              <a:t>And Heaven in a wild flower –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entury Gothic"/>
              </a:rPr>
              <a:t>Hold Infinity in the palm of your hand,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entury Gothic"/>
              </a:rPr>
              <a:t>And Eternity in an hour…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entury Gothic"/>
              </a:rPr>
              <a:t>William Blake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синте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р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зис: Сотрудники действуют исходя из личных интерес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титезис: Люди в значительной мере подчиняются нормам группы, которой они принадлежа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нтез: Мотивы поведения сотрудников организации различны: они определяются как личными интересами, так и групповыми нормами. Следовательно, хорошая мотивационная программа должна сочетать в себе индивидуальные вознаграждения и подкрепление ( в первую очередь нематериальное – через социальное одобрение) неформальных групповых взаимоотнош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Методы синтеза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Пример: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Тезис: Сотрудники действуют исходя из личных интересов.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Антитезис: Люди в значительной мере подчиняются нормам группы, которой они принадлежат.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Синтез: Мотивы поведения сотрудников организации различны: они определяются как личными интересами, так и групповыми нормами. Следовательно, хорошая мотивационная программа должна сочетать в себе индивидуальные вознаграждения и подкрепление ( в первую очередь нематериальное – через социальное одобрение) неформальных групповых взаимоотношений.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синте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афорический синте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олагает выбор образа ситуации – метафоры – и попытку решить противоречие на метафоре, а затем перенести его в реальн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этом мы можем не получать синтеза на теоретическом уровне, но при этом довольно четко представлять себе что дела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Методы синтеза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Метафорический синтез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Предполагает выбор образа ситуации – метафоры – и попытку решить противоречие на метафоре, а затем перенести его в реальность.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При этом мы можем не получать синтеза на теоретическом уровне, но при этом довольно четко представлять себе что делать.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синте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р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зис: Сотрудники действуют исходя из личных интерес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титезис: Люди в значительной мере подчиняются нормам группы, которой они принадлежа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нтез: Поведение сотрудников в организации похоже на поведение детей в детском саду. Если мы хотим лучше управлять группой маленьких детей, мы должны научиться привлекать их внимание, следить за тем, чтобы они были сытые, здоровые и чтобы у каждого было чем заняться. Следовательно в организации мы должны понять какие групповые нормы лично привлекают сотрудников, обеспечивать удовлетворенность гигиенических факторов и достаточную (но не чрезмерную) рабочую нагрузк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Методы синтеза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Пример: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Тезис: Сотрудники действуют исходя из личных интересов.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Антитезис: Люди в значительной мере подчиняются нормам группы, которой они принадлежат.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Синтез: Поведение сотрудников в организации похоже на поведение детей в детском саду. Если мы хотим лучше управлять группой маленьких детей, мы должны научиться привлекать их внимание, следить за тем, чтобы они были сытые, здоровые и чтобы у каждого было чем заняться. Следовательно в организации мы должны понять какие групповые нормы лично привлекают сотрудников, обеспечивать удовлетворенность гигиенических факторов и достаточную (но не чрезмерную) рабочую нагрузку. 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синте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итический синте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зируется на попытке поиска принципиально новой точки зрения, исходя из которой противоречие становится малозначимы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т метод исходит из того, что существует множество социальных, а не логических решений пробле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Методы синтеза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Критический синтез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базируется на попытке поиска принципиально новой точки зрения, исходя из которой противоречие становится малозначимым.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Этот метод исходит из того, что существует множество социальных, а не логических решений проблемы.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синте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р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зис: Сотрудники действуют исходя из личных интерес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титезис: Люди в значительной мере подчиняются нормам группы, которой они принадлежа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нтез: Установить с людьми (или аутсорсинг-партнерами) контрактные отношения, предусматривающие сдельную оплату и меру ответственности за выполнение или невыполнение работы. В этом случае нас вообще не интересуют мотивы исполнителей – мы ориентируемся на расценки рын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Методы синтеза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Пример: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Тезис: Сотрудники действуют исходя из личных интересов.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Антитезис: Люди в значительной мере подчиняются нормам группы, которой они принадлежат.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Синтез: Установить с людьми (или аутсорсинг-партнерами) контрактные отношения, предусматривающие сдельную оплату и меру ответственности за выполнение или невыполнение работы. В этом случае нас вообще не интересуют мотивы исполнителей – мы ориентируемся на расценки рынка.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изучать группы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следование имеет смысл только при наличии пробле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: какие следствия практики противопоставлять друг другу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вет: Только те, которые уже противоречат друг другу – «не умножайте сущностей»…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Как изучать группы?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Исследование имеет смысл только при наличии проблемы.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Вопрос: какие следствия практики противопоставлять друг другу?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Ответ: Только те, которые уже противоречат друг другу – «не умножайте сущностей»… 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изучать группы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активное исследование: проблема уже есть, цель – решить её как можно скоре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активное исследование: проблемы еще нет, но велика вероятность того, что она возникнет. Цель – найти наиболее эффективный способ или наибольше количество способов решения, чтобы реализовать его при необходимости, с учетом возможных услов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Как изучать группы?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Реактивное исследование: проблема уже есть, цель – решить её как можно скорее.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Проактивное исследование: проблемы еще нет, но велика вероятность того, что она возникнет. Цель – найти наиболее эффективный способ или наибольше количество способов решения, чтобы реализовать его при необходимости, с учетом возможных условий.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изучать группы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активное исследование требует в основном мыслительной работы: попробуйте применить несколько методов синтеза, а затем вторично синтезировать полученные реш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Как изучать группы?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Реактивное исследование требует в основном мыслительной работы: попробуйте применить несколько методов синтеза, а затем вторично синтезировать полученные решения.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изучать группы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активное исследование предполагает поиск дополнительной информации – во внешних источниках или за счет экспериментального моделирования ситуации. Например, если вы хотите понять как управлять сотрудником в случае его повышения – попробуйте создать подобную ситуацию – дайте ему соответствующее задание и поместите в соответствующее окружение. Пронаблюдайте следствия, а затем попробуйте синтезировать их с его поведением на предыдущей должн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Как изучать группы?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Проактивное исследование предполагает поиск дополнительной информации – во внешних источниках или за счет экспериментального моделирования ситуации. Например, если вы хотите понять как управлять сотрудником в случае его повышения – попробуйте создать подобную ситуацию – дайте ему соответствующее задание и поместите в соответствующее окружение. Пронаблюдайте следствия, а затем попробуйте синтезировать их с его поведением на предыдущей должности. 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Ваши вопро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3366"/>
                </a:solidFill>
                <a:latin typeface="Century Gothic"/>
              </a:rPr>
              <a:t>Ваши вопросы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неджмент – наук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ория позн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вни зн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учные теор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олог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ктические зн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сультант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ет директор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бственник, СЕ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местители по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неджеры среднего и низового зве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ение, общая стратегия, SMAR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ны и бюджеты, такт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ндарты и нор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итика, новый взгля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зоры (диаграммы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четы (в числах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блюд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бл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зульта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Менеджмент – наука?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Теория познания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Уровни знания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Научные теории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Методология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Практические знания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Консультант,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совет директоров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Собственник, СЕО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Заместители по…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Менеджеры среднего и низового звена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Видение, общая стратегия, SMARTER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Планы и бюджеты, тактика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Стандарты и нормы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Критика, новый взгляд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Обзоры (диаграммы)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Отчеты (в числах)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Наблюдения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Проблемы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Результаты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ОРИЯ ОРГАН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ование научного знания в менеджмент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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отников Михаил Вячеславович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сква, 200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ТЕОРИЯ ОРГАНИЗАЦИИ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Использование научного знания в менеджменте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 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Плотников Михаил Вячеславович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	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	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	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Москва, 2005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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ще немного пробл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 3. Философия и теория орган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и основные философские проблемы, связанные с организациям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начение организаций в жизни человека и общ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ика взаимоотнош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следование организац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Еще немного проблем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Тема 3. Философия и теория организации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Три основные философские проблемы, связанные с организациями: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Значение организаций в жизни человека и общества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Этика взаимоотношений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Исследование организаций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начение организац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ждый из нас состоит членом какой-либо организац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ловек как личность всецело является продуктом обществ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ловек открыт суггест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ультура общества и программ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чность, идентичность и индивидуальност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формирование и деструкц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Значение организаций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каждый из нас состоит членом какой-либо организации;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человек как личность всецело является продуктом общества;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человек открыт суггестии;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культура общества и программа;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личность, идентичность и индивидуальность;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реформирование и деструкция.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ика взаимоотнош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Мы в ответе за тех, кого приручили…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ласть и иерарх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ах и зависим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ма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нипуля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ические дилемм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Этика взаимоотношений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«Мы в ответе за тех, кого приручили…»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Власть и иерархия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Страх и зависимость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Обман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Манипуляция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Этические дилеммы 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следование организац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отношение части и целого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блема уровня агрегирова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онное научени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Исследование организаций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соотношение части и целого;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проблема уровня агрегирования;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организационное научение;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Ваши вопро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3366"/>
                </a:solidFill>
                <a:latin typeface="Century Gothic"/>
              </a:rPr>
              <a:t>Ваши вопросы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 4. Организация в фокусе научного исслед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и фундаментальные науки, изучающие организаци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олог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сихолог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Тема 4. Организация в фокусе научного исследования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Три фундаментальные науки, изучающие организации: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Социология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Психология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Экономика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категори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ие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пределение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распредел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ественного благ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Экономика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Основные категории: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создание,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распределение,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перераспределение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общественного блага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сихолог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категори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ведени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тив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учени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флекс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флексия (мышление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еативн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Психология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Основные категории: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поведение;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мотивы;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научение;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рефлексы;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рефлексия (мышление);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креативность.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олог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категори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уктур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заимодействие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ношения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лияние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ледств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Социология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Основные категории: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структура,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взаимодействие,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отношения,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влияние,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последствия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блемы: как и зачем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блема – объективное логическое противоречие – несоответствие действительного и желаемого (субъективно мнимого) состояния объек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т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оч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Проблемы: как и зачем?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Проблема – объективное логическое противоречие – несоответствие действительного и желаемого (субъективно мнимого) состояния объекта.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Есть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	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	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	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	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	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	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	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Хочу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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я в социоло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я – это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уппа люде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сс организовыва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зультат – организованное состоя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Организация в социологии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Организация – это: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Группа людей;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Процесс организовывания;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Результат – организованное состояние.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я в социоло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вни понима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уктур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ультур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атег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Организация в социологии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Уровни понимания 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Структура;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Культура;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Стратегии.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Организация в социоло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3366"/>
                </a:solidFill>
                <a:latin typeface="Century Gothic"/>
              </a:rPr>
              <a:t>Организация в социологии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я в социоло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стер Барнар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совместные действия и коопераци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я - это такой вид кооперации людей, который отличается от других социальных групп сознательностью, предсказуемостью и целенаправленность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Организация в социологии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Честер Барнард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(совместные действия и кооперация)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организация - это такой вид кооперации людей, который отличается от других социальных групп сознательностью, предсказуемостью и целенаправленностью.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я в социоло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. Саймон и Д. Марч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организм и координаци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я - это сложный биологический организм со специфической структурой и централизованной системой координ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Организация в социологии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Г. Саймон и Д. Марч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(организм и координация)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организация - это сложный биологический организм со специфической структурой и централизованной системой координации.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я в социоло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. Блау и У. Скот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формализованная структур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я - это группа людей, обладающих специфической формализованной структур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Организация в социологии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П. Блау и У. Скотт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(формализованная структура)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организация - это группа людей, обладающих специфической формализованной структурой.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я в социоло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. Этцио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сознательное членство и действи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я - это социальные объединения (или человеческие группы), сознательно конструируемые и реконструируемые для достижения специфических цел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Организация в социологии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А. Этциони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(сознательное членство и действие)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организация - это социальные объединения (или человеческие группы), сознательно конструируемые и реконструируемые для достижения специфических целей. 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я в социоло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ше определение организаци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Организация в социологии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Ваше определение организации: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…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Ваши вопро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3366"/>
                </a:solidFill>
                <a:latin typeface="Century Gothic"/>
              </a:rPr>
              <a:t>Ваши вопросы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блемы: как и зачем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шение проблемы состоит в устранении противоречия, которое может заключаться как в достижении желаемого состояния, так и в переосмыслении оценки действительног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ход №1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ход №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Проблемы: как и зачем?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Решение проблемы состоит в устранении противоречия, которое может заключаться как в достижении желаемого состояния, так и в переосмыслении оценки действительного.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Подход №1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	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	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	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	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	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Подход №2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!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блемы: как и зачем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ервом случае ключевыми становятся вопросы о целях и средствах их достижения: чего конкретно я хочу и как этого достичь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дея (образ)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ед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Проблемы: как и зачем?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В первом случае ключевыми становятся вопросы о целях и средствах их достижения: чего конкретно я хочу и как этого достичь?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Идея (образ)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	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	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Цель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	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	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Средства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блемы: как и зачем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 втором случае вопрос более личный – а зачем вообще мне это (желаемое состояние) надо? Какие есть альтернативы? Как это сделает меня счастливее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терпретации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льтернатив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изнен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оян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желани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це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Проблемы: как и зачем?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Во втором случае вопрос более личный – а зачем вообще мне это (желаемое состояние) надо? Какие есть альтернативы? Как это сделает меня счастливее? 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Интерпретации 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	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Альтернативы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	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	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Жизненные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состояния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	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	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    желаний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	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	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      цели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блемы: как и зачем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УСЛОВИЯ и ЦЕЛЬ: Надо $10000, а есть только 5 рубл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ВОПРОС: Что делать? Кто виноват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ИНСТРУКЦИЮ: Надо продать машину… Что потом?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АЛЬТЕРНАТИВУ:  Или $10000 или уговорить кредиторов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ожда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ОБЪЕКТИВНОЕ ПРОТИВОРЕЧИЕ субъективных позиций сторон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едитор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терес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учить деньги?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вивать свой бизне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БЛЕМА: УДОВЛЕТВОРЕНИЕ ИНТЕРЕСОВ КРЕДИТОР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зици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$10000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т дене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формулировать проблемы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Проблемы: как и зачем?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 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Как УСЛОВИЯ и ЦЕЛЬ: Надо $10000, а есть только 5 рублей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 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Как ВОПРОС: Что делать? Кто виноват?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 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Как ИНСТРУКЦИЮ: Надо продать машину… Что потом?..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 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Как АЛЬТЕРНАТИВУ:  Или $10000 или уговорить кредиторов 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	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	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	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подождать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 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Как ОБЪЕКТИВНОЕ ПРОТИВОРЕЧИЕ субъективных позиций сторон: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	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	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Кредиторы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	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	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	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Мы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Интересы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	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Получить деньги?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	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Развивать свой бизнес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ПРОБЛЕМА: УДОВЛЕТВОРЕНИЕ ИНТЕРЕСОВ КРЕДИТОРОВ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Позиции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	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$10000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	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	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	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Нет денег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	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Как формулировать проблемы?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блемы: как и зачем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блемы не существуют изолированно от контекста. Наоборот, всякая проблема включает множество исходных условий и возможных следствий. Решение проблемы во многом зависит от её формулировк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Проблемы: как и зачем?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Проблемы не существуют изолированно от контекста. Наоборот, всякая проблема включает множество исходных условий и возможных следствий. Решение проблемы во многом зависит от её формулировки. 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B2283-01CE-4698-A5C9-09E29303B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4A391-2831-4304-892B-697CD0662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4B5ED-5054-4C43-8073-BFA699387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0F7FA-B77B-4DC0-9897-91D56B5C2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CDECA-97A1-4611-9429-49B1F3FDD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A3D9E-4C97-45E4-91CF-57C0E6F2D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ACFE4-1D58-43D1-B963-48178C5EB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A5062-54F4-48C6-9997-8C69A283A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250E2-8AB9-461F-AC65-006657FC7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E049C-71BC-42CA-9F90-A3998E121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F4F24-05AB-41CA-B6EE-8A84387DE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B8385-59D1-44D9-B220-7893884B5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2CD71-41CB-4F74-B4D5-18E290AD9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B03F5-CAEE-464C-8CC5-8107E96F9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FC6D6-30FB-4E28-8CC8-8CA788A46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4BF83-59A0-415A-88C1-EC843E36F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853B8-AB3E-4153-97EE-7306465DD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B9F13-BF39-4436-8614-A0FA5D56F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076EA-75B9-4D97-81DE-FFFBFE801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50A02-D8B9-43E9-920B-B1BC30C09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31826-8B9E-45DB-AA3B-AE9F6CC15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FBAF4-C2A5-4A55-97B2-52C51F294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1339E-4064-4495-984B-886338E99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0778E-044A-43B1-8B82-E6702D6AA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Century Gothic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Century Gothic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Century Gothic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Century Gothic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cc"/>
                </a:solidFill>
                <a:latin typeface="Century Gothic"/>
              </a:rPr>
              <a:t>Click to edit the title text format</a:t>
            </a:r>
            <a:endParaRPr b="0" lang="en-US" sz="54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5540F-3FA2-4C89-B29A-B43ACB3E53DD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Text Box 14"/>
          <p:cNvSpPr/>
          <p:nvPr/>
        </p:nvSpPr>
        <p:spPr>
          <a:xfrm>
            <a:off x="5883840" y="0"/>
            <a:ext cx="335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6699"/>
                </a:solidFill>
                <a:latin typeface="Century Gothic"/>
              </a:rPr>
              <a:t>2005 </a:t>
            </a:r>
            <a:r>
              <a:rPr b="1" lang="ru-RU" sz="1800" spc="-1" strike="noStrike">
                <a:solidFill>
                  <a:srgbClr val="666699"/>
                </a:solidFill>
                <a:latin typeface="Symbol"/>
                <a:ea typeface="Symbol"/>
              </a:rPr>
              <a:t></a:t>
            </a:r>
            <a:r>
              <a:rPr b="1" lang="ru-RU" sz="1800" spc="-1" strike="noStrike">
                <a:solidFill>
                  <a:srgbClr val="666699"/>
                </a:solidFill>
                <a:latin typeface="Century Gothic"/>
              </a:rPr>
              <a:t> Плотников Михаил</a:t>
            </a:r>
            <a:endParaRPr b="0" lang="en-US" sz="18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50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Century Gothic"/>
              </a:endParaRPr>
            </a:p>
          </p:txBody>
        </p:sp>
        <p:sp>
          <p:nvSpPr>
            <p:cNvPr id="51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Century Gothic"/>
              </a:endParaRPr>
            </a:p>
          </p:txBody>
        </p:sp>
      </p:grpSp>
      <p:grpSp>
        <p:nvGrpSpPr>
          <p:cNvPr id="52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3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Century Gothic"/>
              </a:endParaRPr>
            </a:p>
          </p:txBody>
        </p:sp>
        <p:sp>
          <p:nvSpPr>
            <p:cNvPr id="54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Century Gothic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cc"/>
                </a:solidFill>
                <a:latin typeface="Century Gothic"/>
              </a:rPr>
              <a:t>Click to edit the title text format</a:t>
            </a:r>
            <a:endParaRPr b="0" lang="en-US" sz="54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001B2-1268-44CA-B372-9C7A6447F414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1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3366"/>
                </a:solidFill>
                <a:latin typeface="Century Gothic"/>
              </a:rPr>
              <a:t>ТЕОРИЯ ОРГАНИЗАЦИИ</a:t>
            </a:r>
            <a:endParaRPr b="0" lang="en-US" sz="48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673520" y="2927160"/>
            <a:ext cx="4013280" cy="1293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cc"/>
                </a:solidFill>
                <a:latin typeface="Century Gothic"/>
              </a:rPr>
              <a:t>Использование научного знания в менеджменте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105" name="Rectangle 4"/>
          <p:cNvSpPr/>
          <p:nvPr/>
        </p:nvSpPr>
        <p:spPr>
          <a:xfrm>
            <a:off x="3635280" y="4724280"/>
            <a:ext cx="5113440" cy="86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cc"/>
                </a:solidFill>
                <a:latin typeface="Symbol"/>
                <a:ea typeface="Symbol"/>
              </a:rPr>
              <a:t></a:t>
            </a:r>
            <a:r>
              <a:rPr b="0" lang="ru-RU" sz="2000" spc="-1" strike="noStrike">
                <a:solidFill>
                  <a:srgbClr val="0066cc"/>
                </a:solidFill>
                <a:latin typeface="Century Gothic"/>
              </a:rPr>
              <a:t> </a:t>
            </a:r>
            <a:r>
              <a:rPr b="0" lang="ru-RU" sz="2000" spc="-1" strike="noStrike">
                <a:solidFill>
                  <a:srgbClr val="0066cc"/>
                </a:solidFill>
                <a:latin typeface="Century Gothic"/>
              </a:rPr>
              <a:t>Плотников Михаил Вячеславович</a:t>
            </a:r>
            <a:endParaRPr b="0" lang="en-US" sz="2000" spc="-1" strike="noStrike">
              <a:solidFill>
                <a:srgbClr val="003366"/>
              </a:solidFill>
              <a:latin typeface="Century Gothic"/>
            </a:endParaRPr>
          </a:p>
          <a:p>
            <a:pPr>
              <a:spcBef>
                <a:spcPts val="499"/>
              </a:spcBef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cc"/>
                </a:solidFill>
                <a:latin typeface="Century Gothic"/>
              </a:rPr>
              <a:t>	</a:t>
            </a:r>
            <a:r>
              <a:rPr b="0" lang="ru-RU" sz="2000" spc="-1" strike="noStrike">
                <a:solidFill>
                  <a:srgbClr val="0066cc"/>
                </a:solidFill>
                <a:latin typeface="Century Gothic"/>
              </a:rPr>
              <a:t>	</a:t>
            </a:r>
            <a:r>
              <a:rPr b="0" lang="ru-RU" sz="2000" spc="-1" strike="noStrike">
                <a:solidFill>
                  <a:srgbClr val="0066cc"/>
                </a:solidFill>
                <a:latin typeface="Century Gothic"/>
              </a:rPr>
              <a:t>	</a:t>
            </a:r>
            <a:r>
              <a:rPr b="0" lang="ru-RU" sz="2000" spc="-1" strike="noStrike">
                <a:solidFill>
                  <a:srgbClr val="0066cc"/>
                </a:solidFill>
                <a:latin typeface="Century Gothic"/>
              </a:rPr>
              <a:t>Москва, 2005</a:t>
            </a:r>
            <a:endParaRPr b="0" lang="en-US" sz="20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106" name="Rectangle 5"/>
          <p:cNvSpPr/>
          <p:nvPr/>
        </p:nvSpPr>
        <p:spPr>
          <a:xfrm>
            <a:off x="3492360" y="4221000"/>
            <a:ext cx="136692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57000"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0" spc="-1" strike="noStrike">
                <a:solidFill>
                  <a:srgbClr val="0066cc"/>
                </a:solidFill>
                <a:latin typeface="Animals 1"/>
                <a:ea typeface="Animals 1"/>
              </a:rPr>
              <a:t></a:t>
            </a:r>
            <a:endParaRPr b="0" lang="en-US" sz="120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Century Gothic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700" spc="-1" strike="noStrike">
                <a:solidFill>
                  <a:srgbClr val="0066cc"/>
                </a:solidFill>
                <a:latin typeface="Century Gothic"/>
              </a:rPr>
              <a:t>Проблемы: как и зачем?</a:t>
            </a:r>
            <a:endParaRPr b="0" lang="en-US" sz="47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8089920" cy="41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При попытке решить проблему следует прежде всего обеспечить максимально широкий взгляд на ситуацию – на влияющие силы и факторы, а также их взаимосвязи.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pic>
        <p:nvPicPr>
          <p:cNvPr id="185" name="Picture 4" descr="dino_anim"/>
          <p:cNvPicPr/>
          <p:nvPr/>
        </p:nvPicPr>
        <p:blipFill>
          <a:blip r:embed="rId1"/>
          <a:stretch/>
        </p:blipFill>
        <p:spPr>
          <a:xfrm flipH="1">
            <a:off x="6862320" y="4929120"/>
            <a:ext cx="2073240" cy="1928880"/>
          </a:xfrm>
          <a:prstGeom prst="rect">
            <a:avLst/>
          </a:prstGeom>
          <a:ln w="0">
            <a:noFill/>
          </a:ln>
        </p:spPr>
      </p:pic>
      <p:sp>
        <p:nvSpPr>
          <p:cNvPr id="186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Century Gothic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700" spc="-1" strike="noStrike">
                <a:solidFill>
                  <a:srgbClr val="0066cc"/>
                </a:solidFill>
                <a:latin typeface="Century Gothic"/>
              </a:rPr>
              <a:t>Проблемы: как и зачем?</a:t>
            </a:r>
            <a:endParaRPr b="0" lang="en-US" sz="47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8089920" cy="41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Трудно понять, что делать, если не знаешь почему и зачем? Правильно поставленная, т.е. системно описанная, проблема дает ответа на оба этих вопроса.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189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Century Gothic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700" spc="-1" strike="noStrike">
                <a:solidFill>
                  <a:srgbClr val="0066cc"/>
                </a:solidFill>
                <a:latin typeface="Century Gothic"/>
              </a:rPr>
              <a:t>Проблемы: как и зачем?</a:t>
            </a:r>
            <a:endParaRPr b="0" lang="en-US" sz="47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8089920" cy="41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Однако не следует забывать задаваться и другими вопросами: а почему именно так? Как иначе? И Зачем мне решать эту проблему?...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pic>
        <p:nvPicPr>
          <p:cNvPr id="192" name="Picture 4" descr="bottle"/>
          <p:cNvPicPr/>
          <p:nvPr/>
        </p:nvPicPr>
        <p:blipFill>
          <a:blip r:embed="rId1"/>
          <a:stretch/>
        </p:blipFill>
        <p:spPr>
          <a:xfrm>
            <a:off x="4083120" y="5253120"/>
            <a:ext cx="1218960" cy="1114200"/>
          </a:xfrm>
          <a:prstGeom prst="rect">
            <a:avLst/>
          </a:prstGeom>
          <a:ln w="0">
            <a:noFill/>
          </a:ln>
        </p:spPr>
      </p:pic>
      <p:sp>
        <p:nvSpPr>
          <p:cNvPr id="193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Century Gothic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2" descr="b23"/>
          <p:cNvPicPr/>
          <p:nvPr/>
        </p:nvPicPr>
        <p:blipFill>
          <a:blip r:embed="rId1"/>
          <a:stretch/>
        </p:blipFill>
        <p:spPr>
          <a:xfrm>
            <a:off x="5786280" y="2381400"/>
            <a:ext cx="3532320" cy="390996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66cc"/>
                </a:solidFill>
                <a:latin typeface="Century Gothic"/>
              </a:rPr>
              <a:t>Как решать проблемы?</a:t>
            </a:r>
            <a:endParaRPr b="0" lang="en-US" sz="48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5789880" cy="40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Century Gothic"/>
              </a:rPr>
              <a:t>Одним из наиболее действенных способов решения проблем является </a:t>
            </a:r>
            <a:r>
              <a:rPr b="1" i="1" lang="ru-RU" sz="2400" spc="-1" strike="noStrike">
                <a:solidFill>
                  <a:srgbClr val="003366"/>
                </a:solidFill>
                <a:latin typeface="Century Gothic"/>
              </a:rPr>
              <a:t>индуктивный синтез</a:t>
            </a:r>
            <a:r>
              <a:rPr b="0" lang="ru-RU" sz="2400" spc="-1" strike="noStrike">
                <a:solidFill>
                  <a:srgbClr val="003366"/>
                </a:solidFill>
                <a:latin typeface="Century Gothic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  <a:p>
            <a:pPr marL="332640" indent="-33264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Century Gothic"/>
              </a:rPr>
              <a:t>Основу синтеза составляет попытка преодолеть объективное логическое противоречие проблемы за счет предложения новой формулировки, в которой противоборствующие стороны становятся конгруэнтны (т.е. не противоречащими друг другу).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197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Century Gothic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66cc"/>
                </a:solidFill>
                <a:latin typeface="Century Gothic"/>
              </a:rPr>
              <a:t>Методы синтеза</a:t>
            </a:r>
            <a:endParaRPr b="0" lang="en-US" sz="5400" spc="-1" strike="noStrike">
              <a:solidFill>
                <a:srgbClr val="0066cc"/>
              </a:solidFill>
              <a:latin typeface="Century Gothic"/>
            </a:endParaRPr>
          </a:p>
        </p:txBody>
      </p:sp>
      <p:pic>
        <p:nvPicPr>
          <p:cNvPr id="199" name="Picture 3" descr="679"/>
          <p:cNvPicPr/>
          <p:nvPr/>
        </p:nvPicPr>
        <p:blipFill>
          <a:blip r:embed="rId1"/>
          <a:stretch/>
        </p:blipFill>
        <p:spPr>
          <a:xfrm>
            <a:off x="5286240" y="2421000"/>
            <a:ext cx="4073760" cy="364176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56167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Century Gothic"/>
              </a:rPr>
              <a:t>Существует несколько принципиально различных подходов к устранению логического противоречия в процессе синтеза: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  <a:p>
            <a:pPr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Century Gothic"/>
              </a:rPr>
              <a:t> </a:t>
            </a:r>
            <a:r>
              <a:rPr b="0" lang="ru-RU" sz="2400" spc="-1" strike="noStrike">
                <a:solidFill>
                  <a:srgbClr val="003366"/>
                </a:solidFill>
                <a:latin typeface="Century Gothic"/>
              </a:rPr>
              <a:t>эмпирический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  <a:p>
            <a:pPr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Century Gothic"/>
              </a:rPr>
              <a:t> </a:t>
            </a:r>
            <a:r>
              <a:rPr b="0" lang="ru-RU" sz="2400" spc="-1" strike="noStrike">
                <a:solidFill>
                  <a:srgbClr val="003366"/>
                </a:solidFill>
                <a:latin typeface="Century Gothic"/>
              </a:rPr>
              <a:t>диалектический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  <a:p>
            <a:pPr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Century Gothic"/>
              </a:rPr>
              <a:t> </a:t>
            </a:r>
            <a:r>
              <a:rPr b="0" lang="ru-RU" sz="2400" spc="-1" strike="noStrike">
                <a:solidFill>
                  <a:srgbClr val="003366"/>
                </a:solidFill>
                <a:latin typeface="Century Gothic"/>
              </a:rPr>
              <a:t>герменевтический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  <a:p>
            <a:pPr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Century Gothic"/>
              </a:rPr>
              <a:t> </a:t>
            </a:r>
            <a:r>
              <a:rPr b="0" lang="ru-RU" sz="2400" spc="-1" strike="noStrike">
                <a:solidFill>
                  <a:srgbClr val="003366"/>
                </a:solidFill>
                <a:latin typeface="Century Gothic"/>
              </a:rPr>
              <a:t>метафорический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  <a:p>
            <a:pPr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Century Gothic"/>
              </a:rPr>
              <a:t> </a:t>
            </a:r>
            <a:r>
              <a:rPr b="0" lang="ru-RU" sz="2400" spc="-1" strike="noStrike">
                <a:solidFill>
                  <a:srgbClr val="003366"/>
                </a:solidFill>
                <a:latin typeface="Century Gothic"/>
              </a:rPr>
              <a:t>критический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201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Century Gothic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2" descr="047"/>
          <p:cNvPicPr/>
          <p:nvPr/>
        </p:nvPicPr>
        <p:blipFill>
          <a:blip r:embed="rId1"/>
          <a:stretch/>
        </p:blipFill>
        <p:spPr>
          <a:xfrm>
            <a:off x="6027840" y="2357280"/>
            <a:ext cx="3116160" cy="338616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66cc"/>
                </a:solidFill>
                <a:latin typeface="Century Gothic"/>
              </a:rPr>
              <a:t>Методы синтеза</a:t>
            </a:r>
            <a:endParaRPr b="0" lang="en-US" sz="54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561672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cc"/>
                </a:solidFill>
                <a:latin typeface="Century Gothic"/>
              </a:rPr>
              <a:t>Эмпирический синтез</a:t>
            </a:r>
            <a:r>
              <a:rPr b="0" lang="ru-RU" sz="2400" spc="-1" strike="noStrike">
                <a:solidFill>
                  <a:srgbClr val="003366"/>
                </a:solidFill>
                <a:latin typeface="Century Gothic"/>
              </a:rPr>
              <a:t> основывается на практической деятельности и, прежде всего, эксперименте.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Century Gothic"/>
              </a:rPr>
              <a:t>Путем проб и ошибок мы ищем такой вариант практики, который как минимум не противоречит обоим положениям теории.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Century Gothic"/>
              </a:rPr>
              <a:t>Как правило, это достигается за счет поиска и более точного описания необходимых условий.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205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Century Gothic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2" descr="082"/>
          <p:cNvPicPr/>
          <p:nvPr/>
        </p:nvPicPr>
        <p:blipFill>
          <a:blip r:embed="rId1"/>
          <a:stretch/>
        </p:blipFill>
        <p:spPr>
          <a:xfrm>
            <a:off x="5796000" y="3054240"/>
            <a:ext cx="3400560" cy="352584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66cc"/>
                </a:solidFill>
                <a:latin typeface="Century Gothic"/>
              </a:rPr>
              <a:t>Методы синтеза</a:t>
            </a:r>
            <a:endParaRPr b="0" lang="en-US" sz="54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561672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66cc"/>
                </a:solidFill>
                <a:latin typeface="Century Gothic"/>
              </a:rPr>
              <a:t>Пример:</a:t>
            </a:r>
            <a:endParaRPr b="0" lang="en-US" sz="1700" spc="-1" strike="noStrike">
              <a:solidFill>
                <a:srgbClr val="003366"/>
              </a:solidFill>
              <a:latin typeface="Century Gothic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003366"/>
                </a:solidFill>
                <a:latin typeface="Century Gothic"/>
              </a:rPr>
              <a:t>Тезис:</a:t>
            </a:r>
            <a:r>
              <a:rPr b="0" lang="ru-RU" sz="1700" spc="-1" strike="noStrike">
                <a:solidFill>
                  <a:srgbClr val="003366"/>
                </a:solidFill>
                <a:latin typeface="Century Gothic"/>
              </a:rPr>
              <a:t> Сотрудники действуют исходя из личных интересов.</a:t>
            </a:r>
            <a:endParaRPr b="0" lang="en-US" sz="1700" spc="-1" strike="noStrike">
              <a:solidFill>
                <a:srgbClr val="003366"/>
              </a:solidFill>
              <a:latin typeface="Century Gothic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003366"/>
                </a:solidFill>
                <a:latin typeface="Century Gothic"/>
              </a:rPr>
              <a:t>Антитезис:</a:t>
            </a:r>
            <a:r>
              <a:rPr b="0" lang="ru-RU" sz="1700" spc="-1" strike="noStrike">
                <a:solidFill>
                  <a:srgbClr val="003366"/>
                </a:solidFill>
                <a:latin typeface="Century Gothic"/>
              </a:rPr>
              <a:t> Люди в значительной мере подчиняются нормам группы, которой они принадлежат.</a:t>
            </a:r>
            <a:endParaRPr b="0" lang="en-US" sz="1700" spc="-1" strike="noStrike">
              <a:solidFill>
                <a:srgbClr val="003366"/>
              </a:solidFill>
              <a:latin typeface="Century Gothic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003366"/>
                </a:solidFill>
                <a:latin typeface="Century Gothic"/>
              </a:rPr>
              <a:t>Синтез:</a:t>
            </a:r>
            <a:r>
              <a:rPr b="0" lang="ru-RU" sz="1700" spc="-1" strike="noStrike">
                <a:solidFill>
                  <a:srgbClr val="003366"/>
                </a:solidFill>
                <a:latin typeface="Century Gothic"/>
              </a:rPr>
              <a:t> Сотрудники будут формулировать личные интересы, конгруэнтные целям организации, </a:t>
            </a:r>
            <a:r>
              <a:rPr b="0" i="1" lang="ru-RU" sz="1700" spc="-1" strike="noStrike">
                <a:solidFill>
                  <a:srgbClr val="003366"/>
                </a:solidFill>
                <a:latin typeface="Century Gothic"/>
              </a:rPr>
              <a:t>если</a:t>
            </a:r>
            <a:r>
              <a:rPr b="0" lang="ru-RU" sz="1700" spc="-1" strike="noStrike">
                <a:solidFill>
                  <a:srgbClr val="003366"/>
                </a:solidFill>
                <a:latin typeface="Century Gothic"/>
              </a:rPr>
              <a:t> они понимают, принимают и разделяют эти цели (повышаем значимость «роли сотрудника»: пробуем провести широкую пропаганду видения и целей организации, выражаем признание за достижение даже незначительных результатов, подчеркиваем значимость общности и дисциплины, критикуем и наказываем отступников, вовлекаем в организационную жизнь друзей и родственников – а потом выдвигаем организационные требования, которые рассматриваются как личностно значимые)</a:t>
            </a:r>
            <a:endParaRPr b="0" lang="en-US" sz="17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209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Century Gothic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2" descr="733"/>
          <p:cNvPicPr/>
          <p:nvPr/>
        </p:nvPicPr>
        <p:blipFill>
          <a:blip r:embed="rId1"/>
          <a:stretch/>
        </p:blipFill>
        <p:spPr>
          <a:xfrm>
            <a:off x="5997600" y="2529000"/>
            <a:ext cx="3146400" cy="276516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66cc"/>
                </a:solidFill>
                <a:latin typeface="Century Gothic"/>
              </a:rPr>
              <a:t>Методы синтеза</a:t>
            </a:r>
            <a:endParaRPr b="0" lang="en-US" sz="54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585792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cc"/>
                </a:solidFill>
                <a:latin typeface="Century Gothic"/>
              </a:rPr>
              <a:t>Диалектический синтез</a:t>
            </a:r>
            <a:r>
              <a:rPr b="0" lang="ru-RU" sz="2000" spc="-1" strike="noStrike">
                <a:solidFill>
                  <a:srgbClr val="003366"/>
                </a:solidFill>
                <a:latin typeface="Century Gothic"/>
              </a:rPr>
              <a:t> основывается на поиске новой точки зрения, прежде всего нового уровня агрегирования знания.</a:t>
            </a:r>
            <a:endParaRPr b="0" lang="en-US" sz="2000" spc="-1" strike="noStrike">
              <a:solidFill>
                <a:srgbClr val="003366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Century Gothic"/>
              </a:rPr>
              <a:t>Частные теории верны для частных случаев, а значит и противоречие их также ситуационно обусловлено. Следовательно, для снятия противоречия необходимо сформулировать теорию для более общего класса явлений.</a:t>
            </a:r>
            <a:endParaRPr b="0" lang="en-US" sz="2000" spc="-1" strike="noStrike">
              <a:solidFill>
                <a:srgbClr val="003366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66"/>
                </a:solidFill>
                <a:latin typeface="Century Gothic"/>
              </a:rPr>
              <a:t>Законы диалектики:</a:t>
            </a:r>
            <a:endParaRPr b="0" lang="en-US" sz="2000" spc="-1" strike="noStrike">
              <a:solidFill>
                <a:srgbClr val="003366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Century Gothic"/>
              </a:rPr>
              <a:t>1. Единство и борьба противоположностей.</a:t>
            </a:r>
            <a:endParaRPr b="0" lang="en-US" sz="2000" spc="-1" strike="noStrike">
              <a:solidFill>
                <a:srgbClr val="003366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Century Gothic"/>
              </a:rPr>
              <a:t>2. Отрицание отрицания.</a:t>
            </a:r>
            <a:endParaRPr b="0" lang="en-US" sz="2000" spc="-1" strike="noStrike">
              <a:solidFill>
                <a:srgbClr val="003366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Century Gothic"/>
              </a:rPr>
              <a:t>3. Переход количества в качество.</a:t>
            </a:r>
            <a:endParaRPr b="0" lang="en-US" sz="20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213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Century Gothic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66cc"/>
                </a:solidFill>
                <a:latin typeface="Century Gothic"/>
              </a:rPr>
              <a:t>Методы синтеза</a:t>
            </a:r>
            <a:endParaRPr b="0" lang="en-US" sz="54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830592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cc"/>
                </a:solidFill>
                <a:latin typeface="Century Gothic"/>
              </a:rPr>
              <a:t>Пример:</a:t>
            </a:r>
            <a:endParaRPr b="0" lang="en-US" sz="2000" spc="-1" strike="noStrike">
              <a:solidFill>
                <a:srgbClr val="003366"/>
              </a:solidFill>
              <a:latin typeface="Century Gothic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66"/>
                </a:solidFill>
                <a:latin typeface="Century Gothic"/>
              </a:rPr>
              <a:t>Тезис:</a:t>
            </a:r>
            <a:r>
              <a:rPr b="0" lang="ru-RU" sz="2000" spc="-1" strike="noStrike">
                <a:solidFill>
                  <a:srgbClr val="003366"/>
                </a:solidFill>
                <a:latin typeface="Century Gothic"/>
              </a:rPr>
              <a:t> Сотрудники действуют исходя из личных интересов.</a:t>
            </a:r>
            <a:endParaRPr b="0" lang="en-US" sz="2000" spc="-1" strike="noStrike">
              <a:solidFill>
                <a:srgbClr val="003366"/>
              </a:solidFill>
              <a:latin typeface="Century Gothic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66"/>
                </a:solidFill>
                <a:latin typeface="Century Gothic"/>
              </a:rPr>
              <a:t>Антитезис:</a:t>
            </a:r>
            <a:r>
              <a:rPr b="0" lang="ru-RU" sz="2000" spc="-1" strike="noStrike">
                <a:solidFill>
                  <a:srgbClr val="003366"/>
                </a:solidFill>
                <a:latin typeface="Century Gothic"/>
              </a:rPr>
              <a:t> Люди в значительной мере подчиняются нормам группы, которой они принадлежат.</a:t>
            </a:r>
            <a:endParaRPr b="0" lang="en-US" sz="2000" spc="-1" strike="noStrike">
              <a:solidFill>
                <a:srgbClr val="003366"/>
              </a:solidFill>
              <a:latin typeface="Century Gothic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66"/>
                </a:solidFill>
                <a:latin typeface="Century Gothic"/>
              </a:rPr>
              <a:t>Синтез:</a:t>
            </a:r>
            <a:r>
              <a:rPr b="0" lang="ru-RU" sz="2000" spc="-1" strike="noStrike">
                <a:solidFill>
                  <a:srgbClr val="003366"/>
                </a:solidFill>
                <a:latin typeface="Century Gothic"/>
              </a:rPr>
              <a:t> Поведение сотрудников в организации определяется множеством различных нередко разнонаправленных сил (единство и борьба). Нормы групп, в которых человек не чувствует собственной причастности имеют второстепенное значение по отношению к личным интересам (отрицание отрицания). Если сотрудник достаточно долго будет демонстрировать одну линию поведения (подкрепляемую удовлетворением личных интересов), то в итоге поведение станет разделяемой нормой, а значит личное вознаграждение станет менее значимым в сравнении со стремлением сохранять традиции организации (переход количества в качество).</a:t>
            </a:r>
            <a:endParaRPr b="0" lang="en-US" sz="20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216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Century Gothic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66cc"/>
                </a:solidFill>
                <a:latin typeface="Century Gothic"/>
              </a:rPr>
              <a:t>Методы синтеза</a:t>
            </a:r>
            <a:endParaRPr b="0" lang="en-US" sz="54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585792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cc"/>
                </a:solidFill>
                <a:latin typeface="Century Gothic"/>
              </a:rPr>
              <a:t>Герменевтический синтез</a:t>
            </a:r>
            <a:r>
              <a:rPr b="0" lang="ru-RU" sz="2400" spc="-1" strike="noStrike">
                <a:solidFill>
                  <a:srgbClr val="003366"/>
                </a:solidFill>
                <a:latin typeface="Century Gothic"/>
              </a:rPr>
              <a:t> направлен на предложение максимально широкой объясняющей конструкции, учитывающей все возможные интересы.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Century Gothic"/>
              </a:rPr>
              <a:t>Главная задача герменевтики – поместить противоречие в объяснимые рамки.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</p:txBody>
      </p:sp>
      <p:pic>
        <p:nvPicPr>
          <p:cNvPr id="219" name="Picture 4" descr="b73"/>
          <p:cNvPicPr/>
          <p:nvPr/>
        </p:nvPicPr>
        <p:blipFill>
          <a:blip r:embed="rId1"/>
          <a:stretch/>
        </p:blipFill>
        <p:spPr>
          <a:xfrm>
            <a:off x="5505480" y="2465280"/>
            <a:ext cx="3638520" cy="2895840"/>
          </a:xfrm>
          <a:prstGeom prst="rect">
            <a:avLst/>
          </a:prstGeom>
          <a:ln w="0">
            <a:noFill/>
          </a:ln>
        </p:spPr>
      </p:pic>
      <p:sp>
        <p:nvSpPr>
          <p:cNvPr id="220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Century Gothic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109" name="Text Box 4"/>
          <p:cNvSpPr/>
          <p:nvPr/>
        </p:nvSpPr>
        <p:spPr>
          <a:xfrm>
            <a:off x="395280" y="1911240"/>
            <a:ext cx="82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Century Gothic"/>
              </a:rPr>
              <a:t>Тема </a:t>
            </a:r>
            <a:r>
              <a:rPr b="1" lang="en-US" sz="2400" spc="-1" strike="noStrike">
                <a:solidFill>
                  <a:srgbClr val="003366"/>
                </a:solidFill>
                <a:latin typeface="Century Gothic"/>
              </a:rPr>
              <a:t>2</a:t>
            </a:r>
            <a:r>
              <a:rPr b="1" lang="ru-RU" sz="2400" spc="-1" strike="noStrike">
                <a:solidFill>
                  <a:srgbClr val="003366"/>
                </a:solidFill>
                <a:latin typeface="Century Gothic"/>
              </a:rPr>
              <a:t>. Теория познания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110" name="Text Box 6"/>
          <p:cNvSpPr/>
          <p:nvPr/>
        </p:nvSpPr>
        <p:spPr>
          <a:xfrm>
            <a:off x="930240" y="2570040"/>
            <a:ext cx="762804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entury Gothic"/>
              </a:rPr>
              <a:t>To see the world in a grain of sand,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entury Gothic"/>
              </a:rPr>
              <a:t>And Heaven in a wild flower –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entury Gothic"/>
              </a:rPr>
              <a:t>Hold Infinity in the palm of your hand,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entury Gothic"/>
              </a:rPr>
              <a:t>And Eternity in an hour…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66"/>
                </a:solidFill>
                <a:latin typeface="Century Gothic"/>
              </a:rPr>
              <a:t>William Blake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Century Gothic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2" descr="092"/>
          <p:cNvPicPr/>
          <p:nvPr/>
        </p:nvPicPr>
        <p:blipFill>
          <a:blip r:embed="rId1"/>
          <a:stretch/>
        </p:blipFill>
        <p:spPr>
          <a:xfrm>
            <a:off x="5862600" y="2492280"/>
            <a:ext cx="3281400" cy="379728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66cc"/>
                </a:solidFill>
                <a:latin typeface="Century Gothic"/>
              </a:rPr>
              <a:t>Методы синтеза</a:t>
            </a:r>
            <a:endParaRPr b="0" lang="en-US" sz="54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561672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cc"/>
                </a:solidFill>
                <a:latin typeface="Century Gothic"/>
              </a:rPr>
              <a:t>Пример:</a:t>
            </a:r>
            <a:endParaRPr b="0" lang="en-US" sz="2000" spc="-1" strike="noStrike">
              <a:solidFill>
                <a:srgbClr val="003366"/>
              </a:solidFill>
              <a:latin typeface="Century Gothic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66"/>
                </a:solidFill>
                <a:latin typeface="Century Gothic"/>
              </a:rPr>
              <a:t>Тезис:</a:t>
            </a:r>
            <a:r>
              <a:rPr b="0" lang="ru-RU" sz="2000" spc="-1" strike="noStrike">
                <a:solidFill>
                  <a:srgbClr val="003366"/>
                </a:solidFill>
                <a:latin typeface="Century Gothic"/>
              </a:rPr>
              <a:t> Сотрудники действуют исходя из личных интересов.</a:t>
            </a:r>
            <a:endParaRPr b="0" lang="en-US" sz="2000" spc="-1" strike="noStrike">
              <a:solidFill>
                <a:srgbClr val="003366"/>
              </a:solidFill>
              <a:latin typeface="Century Gothic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66"/>
                </a:solidFill>
                <a:latin typeface="Century Gothic"/>
              </a:rPr>
              <a:t>Антитезис:</a:t>
            </a:r>
            <a:r>
              <a:rPr b="0" lang="ru-RU" sz="2000" spc="-1" strike="noStrike">
                <a:solidFill>
                  <a:srgbClr val="003366"/>
                </a:solidFill>
                <a:latin typeface="Century Gothic"/>
              </a:rPr>
              <a:t> Люди в значительной мере подчиняются нормам группы, которой они принадлежат.</a:t>
            </a:r>
            <a:endParaRPr b="0" lang="en-US" sz="2000" spc="-1" strike="noStrike">
              <a:solidFill>
                <a:srgbClr val="003366"/>
              </a:solidFill>
              <a:latin typeface="Century Gothic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66"/>
                </a:solidFill>
                <a:latin typeface="Century Gothic"/>
              </a:rPr>
              <a:t>Синтез:</a:t>
            </a:r>
            <a:r>
              <a:rPr b="0" lang="ru-RU" sz="2000" spc="-1" strike="noStrike">
                <a:solidFill>
                  <a:srgbClr val="003366"/>
                </a:solidFill>
                <a:latin typeface="Century Gothic"/>
              </a:rPr>
              <a:t> Мотивы поведения сотрудников организации различны: они определяются как личными интересами, так и групповыми нормами. Следовательно, хорошая мотивационная программа должна сочетать в себе индивидуальные вознаграждения и подкрепление ( в первую очередь нематериальное – через социальное одобрение) неформальных групповых взаимоотношений.</a:t>
            </a:r>
            <a:endParaRPr b="0" lang="en-US" sz="20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224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Century Gothic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2" descr="016"/>
          <p:cNvPicPr/>
          <p:nvPr/>
        </p:nvPicPr>
        <p:blipFill>
          <a:blip r:embed="rId1"/>
          <a:stretch/>
        </p:blipFill>
        <p:spPr>
          <a:xfrm>
            <a:off x="5437080" y="2519280"/>
            <a:ext cx="3706920" cy="389088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66cc"/>
                </a:solidFill>
                <a:latin typeface="Century Gothic"/>
              </a:rPr>
              <a:t>Методы синтеза</a:t>
            </a:r>
            <a:endParaRPr b="0" lang="en-US" sz="54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511488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cc"/>
                </a:solidFill>
                <a:latin typeface="Century Gothic"/>
              </a:rPr>
              <a:t>Метафорический синтез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Century Gothic"/>
              </a:rPr>
              <a:t>Предполагает выбор образа ситуации – метафоры – и попытку решить противоречие на метафоре, а затем перенести его в реальность.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Century Gothic"/>
              </a:rPr>
              <a:t>При этом мы можем не получать синтеза на теоретическом уровне, но при этом довольно четко представлять себе что делать.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228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Century Gothic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2" descr="007"/>
          <p:cNvPicPr/>
          <p:nvPr/>
        </p:nvPicPr>
        <p:blipFill>
          <a:blip r:embed="rId1"/>
          <a:stretch/>
        </p:blipFill>
        <p:spPr>
          <a:xfrm>
            <a:off x="6046920" y="2359080"/>
            <a:ext cx="3286080" cy="243828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66cc"/>
                </a:solidFill>
                <a:latin typeface="Century Gothic"/>
              </a:rPr>
              <a:t>Методы синтеза</a:t>
            </a:r>
            <a:endParaRPr b="0" lang="en-US" sz="54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537552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cc"/>
                </a:solidFill>
                <a:latin typeface="Century Gothic"/>
              </a:rPr>
              <a:t>Пример:</a:t>
            </a:r>
            <a:endParaRPr b="0" lang="en-US" sz="1800" spc="-1" strike="noStrike">
              <a:solidFill>
                <a:srgbClr val="003366"/>
              </a:solidFill>
              <a:latin typeface="Century Gothic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3366"/>
                </a:solidFill>
                <a:latin typeface="Century Gothic"/>
              </a:rPr>
              <a:t>Тезис:</a:t>
            </a:r>
            <a:r>
              <a:rPr b="0" lang="ru-RU" sz="1800" spc="-1" strike="noStrike">
                <a:solidFill>
                  <a:srgbClr val="003366"/>
                </a:solidFill>
                <a:latin typeface="Century Gothic"/>
              </a:rPr>
              <a:t> Сотрудники действуют исходя из личных интересов.</a:t>
            </a:r>
            <a:endParaRPr b="0" lang="en-US" sz="1800" spc="-1" strike="noStrike">
              <a:solidFill>
                <a:srgbClr val="003366"/>
              </a:solidFill>
              <a:latin typeface="Century Gothic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3366"/>
                </a:solidFill>
                <a:latin typeface="Century Gothic"/>
              </a:rPr>
              <a:t>Антитезис:</a:t>
            </a:r>
            <a:r>
              <a:rPr b="0" lang="ru-RU" sz="1800" spc="-1" strike="noStrike">
                <a:solidFill>
                  <a:srgbClr val="003366"/>
                </a:solidFill>
                <a:latin typeface="Century Gothic"/>
              </a:rPr>
              <a:t> Люди в значительной мере подчиняются нормам группы, которой они принадлежат.</a:t>
            </a:r>
            <a:endParaRPr b="0" lang="en-US" sz="1800" spc="-1" strike="noStrike">
              <a:solidFill>
                <a:srgbClr val="003366"/>
              </a:solidFill>
              <a:latin typeface="Century Gothic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3366"/>
                </a:solidFill>
                <a:latin typeface="Century Gothic"/>
              </a:rPr>
              <a:t>Синтез:</a:t>
            </a:r>
            <a:r>
              <a:rPr b="0" lang="ru-RU" sz="1800" spc="-1" strike="noStrike">
                <a:solidFill>
                  <a:srgbClr val="003366"/>
                </a:solidFill>
                <a:latin typeface="Century Gothic"/>
              </a:rPr>
              <a:t> Поведение сотрудников в организации похоже на поведение детей в детском саду. Если мы хотим лучше управлять группой маленьких детей, мы должны научиться привлекать их внимание, следить за тем, чтобы они были сытые, здоровые и чтобы у каждого было чем заняться. Следовательно в организации мы должны понять какие групповые нормы лично привлекают сотрудников, обеспечивать удовлетворенность гигиенических факторов и достаточную (но не чрезмерную) рабочую нагрузку. </a:t>
            </a:r>
            <a:endParaRPr b="0" lang="en-US" sz="1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232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Century Gothic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2" descr="428"/>
          <p:cNvPicPr/>
          <p:nvPr/>
        </p:nvPicPr>
        <p:blipFill>
          <a:blip r:embed="rId1"/>
          <a:stretch/>
        </p:blipFill>
        <p:spPr>
          <a:xfrm>
            <a:off x="6146640" y="2338560"/>
            <a:ext cx="3102120" cy="356076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66cc"/>
                </a:solidFill>
                <a:latin typeface="Century Gothic"/>
              </a:rPr>
              <a:t>Методы синтеза</a:t>
            </a:r>
            <a:endParaRPr b="0" lang="en-US" sz="54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585792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cc"/>
                </a:solidFill>
                <a:latin typeface="Century Gothic"/>
              </a:rPr>
              <a:t>Критический синтез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Century Gothic"/>
              </a:rPr>
              <a:t>базируется на попытке поиска принципиально новой точки зрения, исходя из которой противоречие становится малозначимым.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Century Gothic"/>
              </a:rPr>
              <a:t>Этот метод исходит из того, что существует множество социальных, а не логических решений проблемы.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236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Century Gothic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2" descr="152"/>
          <p:cNvPicPr/>
          <p:nvPr/>
        </p:nvPicPr>
        <p:blipFill>
          <a:blip r:embed="rId1"/>
          <a:stretch/>
        </p:blipFill>
        <p:spPr>
          <a:xfrm>
            <a:off x="5829480" y="2411280"/>
            <a:ext cx="3314520" cy="331488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66cc"/>
                </a:solidFill>
                <a:latin typeface="Century Gothic"/>
              </a:rPr>
              <a:t>Методы синтеза</a:t>
            </a:r>
            <a:endParaRPr b="0" lang="en-US" sz="54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561672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cc"/>
                </a:solidFill>
                <a:latin typeface="Century Gothic"/>
              </a:rPr>
              <a:t>Пример:</a:t>
            </a:r>
            <a:endParaRPr b="0" lang="en-US" sz="2000" spc="-1" strike="noStrike">
              <a:solidFill>
                <a:srgbClr val="003366"/>
              </a:solidFill>
              <a:latin typeface="Century Gothic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66"/>
                </a:solidFill>
                <a:latin typeface="Century Gothic"/>
              </a:rPr>
              <a:t>Тезис:</a:t>
            </a:r>
            <a:r>
              <a:rPr b="0" lang="ru-RU" sz="2000" spc="-1" strike="noStrike">
                <a:solidFill>
                  <a:srgbClr val="003366"/>
                </a:solidFill>
                <a:latin typeface="Century Gothic"/>
              </a:rPr>
              <a:t> Сотрудники действуют исходя из личных интересов.</a:t>
            </a:r>
            <a:endParaRPr b="0" lang="en-US" sz="2000" spc="-1" strike="noStrike">
              <a:solidFill>
                <a:srgbClr val="003366"/>
              </a:solidFill>
              <a:latin typeface="Century Gothic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66"/>
                </a:solidFill>
                <a:latin typeface="Century Gothic"/>
              </a:rPr>
              <a:t>Антитезис:</a:t>
            </a:r>
            <a:r>
              <a:rPr b="0" lang="ru-RU" sz="2000" spc="-1" strike="noStrike">
                <a:solidFill>
                  <a:srgbClr val="003366"/>
                </a:solidFill>
                <a:latin typeface="Century Gothic"/>
              </a:rPr>
              <a:t> Люди в значительной мере подчиняются нормам группы, которой они принадлежат.</a:t>
            </a:r>
            <a:endParaRPr b="0" lang="en-US" sz="2000" spc="-1" strike="noStrike">
              <a:solidFill>
                <a:srgbClr val="003366"/>
              </a:solidFill>
              <a:latin typeface="Century Gothic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66"/>
                </a:solidFill>
                <a:latin typeface="Century Gothic"/>
              </a:rPr>
              <a:t>Синтез:</a:t>
            </a:r>
            <a:r>
              <a:rPr b="0" lang="ru-RU" sz="2000" spc="-1" strike="noStrike">
                <a:solidFill>
                  <a:srgbClr val="003366"/>
                </a:solidFill>
                <a:latin typeface="Century Gothic"/>
              </a:rPr>
              <a:t> Установить с людьми (или аутсорсинг-партнерами) контрактные отношения, предусматривающие сдельную оплату и меру ответственности за выполнение или невыполнение работы. В этом случае нас вообще не интересуют мотивы исполнителей – мы ориентируемся на расценки рынка.</a:t>
            </a:r>
            <a:endParaRPr b="0" lang="en-US" sz="20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240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Century Gothic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66cc"/>
                </a:solidFill>
                <a:latin typeface="Century Gothic"/>
              </a:rPr>
              <a:t>Как изучать группы?</a:t>
            </a:r>
            <a:endParaRPr b="0" lang="en-US" sz="54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Century Gothic"/>
              </a:rPr>
              <a:t>Исследование имеет смысл только при наличии проблемы.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Century Gothic"/>
              </a:rPr>
              <a:t>Вопрос: какие следствия практики противопоставлять друг другу?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Century Gothic"/>
              </a:rPr>
              <a:t>Ответ: Только те, которые уже противоречат друг другу – «не умножайте сущностей»… 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243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Century Gothic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66cc"/>
                </a:solidFill>
                <a:latin typeface="Century Gothic"/>
              </a:rPr>
              <a:t>Как изучать группы?</a:t>
            </a:r>
            <a:endParaRPr b="0" lang="en-US" sz="54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0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66"/>
                </a:solidFill>
                <a:latin typeface="Century Gothic"/>
              </a:rPr>
              <a:t>Реактивное исследование:</a:t>
            </a:r>
            <a:r>
              <a:rPr b="0" lang="ru-RU" sz="2400" spc="-1" strike="noStrike">
                <a:solidFill>
                  <a:srgbClr val="003366"/>
                </a:solidFill>
                <a:latin typeface="Century Gothic"/>
              </a:rPr>
              <a:t> проблема уже есть, цель – решить её как можно скорее.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66"/>
                </a:solidFill>
                <a:latin typeface="Century Gothic"/>
              </a:rPr>
              <a:t>Проактивное исследование:</a:t>
            </a:r>
            <a:r>
              <a:rPr b="0" lang="ru-RU" sz="2400" spc="-1" strike="noStrike">
                <a:solidFill>
                  <a:srgbClr val="003366"/>
                </a:solidFill>
                <a:latin typeface="Century Gothic"/>
              </a:rPr>
              <a:t> проблемы еще нет, но велика вероятность того, что она возникнет. Цель – найти наиболее эффективный способ или наибольше количество способов решения, чтобы реализовать его при необходимости, с учетом возможных условий.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246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Century Gothic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66cc"/>
                </a:solidFill>
                <a:latin typeface="Century Gothic"/>
              </a:rPr>
              <a:t>Как изучать группы?</a:t>
            </a:r>
            <a:endParaRPr b="0" lang="en-US" sz="54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5031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Century Gothic"/>
              </a:rPr>
              <a:t>Реактивное исследование требует в основном мыслительной работы: попробуйте применить несколько методов синтеза, а затем вторично синтезировать полученные решения.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</p:txBody>
      </p:sp>
      <p:pic>
        <p:nvPicPr>
          <p:cNvPr id="249" name="Picture 4" descr="750"/>
          <p:cNvPicPr/>
          <p:nvPr/>
        </p:nvPicPr>
        <p:blipFill>
          <a:blip r:embed="rId1"/>
          <a:stretch/>
        </p:blipFill>
        <p:spPr>
          <a:xfrm>
            <a:off x="5943600" y="2313000"/>
            <a:ext cx="3200400" cy="3305160"/>
          </a:xfrm>
          <a:prstGeom prst="rect">
            <a:avLst/>
          </a:prstGeom>
          <a:ln w="0">
            <a:noFill/>
          </a:ln>
        </p:spPr>
      </p:pic>
      <p:sp>
        <p:nvSpPr>
          <p:cNvPr id="250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Century Gothic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66cc"/>
                </a:solidFill>
                <a:latin typeface="Century Gothic"/>
              </a:rPr>
              <a:t>Как изучать группы?</a:t>
            </a:r>
            <a:endParaRPr b="0" lang="en-US" sz="54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5031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Century Gothic"/>
              </a:rPr>
              <a:t>Проактивное исследование предполагает поиск дополнительной информации – во внешних источниках или за счет экспериментального моделирования ситуации. Например, если вы хотите понять как управлять сотрудником в случае его повышения – попробуйте создать подобную ситуацию – дайте ему соответствующее задание и поместите в соответствующее окружение. Пронаблюдайте следствия, а затем попробуйте синтезировать их с его поведением на предыдущей должности. </a:t>
            </a:r>
            <a:endParaRPr b="0" lang="en-US" sz="2000" spc="-1" strike="noStrike">
              <a:solidFill>
                <a:srgbClr val="003366"/>
              </a:solidFill>
              <a:latin typeface="Century Gothic"/>
            </a:endParaRPr>
          </a:p>
        </p:txBody>
      </p:sp>
      <p:pic>
        <p:nvPicPr>
          <p:cNvPr id="253" name="Picture 4" descr="109"/>
          <p:cNvPicPr/>
          <p:nvPr/>
        </p:nvPicPr>
        <p:blipFill>
          <a:blip r:embed="rId1"/>
          <a:stretch/>
        </p:blipFill>
        <p:spPr>
          <a:xfrm>
            <a:off x="5586480" y="2565360"/>
            <a:ext cx="3557520" cy="2851200"/>
          </a:xfrm>
          <a:prstGeom prst="rect">
            <a:avLst/>
          </a:prstGeom>
          <a:ln w="0">
            <a:noFill/>
          </a:ln>
        </p:spPr>
      </p:pic>
      <p:sp>
        <p:nvSpPr>
          <p:cNvPr id="254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Century Gothic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66cc"/>
                </a:solidFill>
                <a:latin typeface="Century Gothic"/>
              </a:rPr>
              <a:t>Ваши вопросы</a:t>
            </a:r>
            <a:endParaRPr b="0" lang="en-US" sz="5400" spc="-1" strike="noStrike">
              <a:solidFill>
                <a:srgbClr val="0066cc"/>
              </a:solidFill>
              <a:latin typeface="Century Gothic"/>
            </a:endParaRPr>
          </a:p>
        </p:txBody>
      </p:sp>
      <p:pic>
        <p:nvPicPr>
          <p:cNvPr id="256" name="Picture 3" descr="160"/>
          <p:cNvPicPr/>
          <p:nvPr/>
        </p:nvPicPr>
        <p:blipFill>
          <a:blip r:embed="rId1"/>
          <a:stretch/>
        </p:blipFill>
        <p:spPr>
          <a:xfrm>
            <a:off x="2216160" y="2338560"/>
            <a:ext cx="4513320" cy="4338360"/>
          </a:xfrm>
          <a:prstGeom prst="rect">
            <a:avLst/>
          </a:prstGeom>
          <a:ln w="0">
            <a:noFill/>
          </a:ln>
        </p:spPr>
      </p:pic>
      <p:sp>
        <p:nvSpPr>
          <p:cNvPr id="257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Century Gothic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66cc"/>
                </a:solidFill>
                <a:latin typeface="Century Gothic"/>
              </a:rPr>
              <a:t>Менеджмент – наука?</a:t>
            </a:r>
            <a:endParaRPr b="0" lang="en-US" sz="48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7720" y="2441520"/>
            <a:ext cx="2406600" cy="7653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txBody>
          <a:bodyPr anchor="t">
            <a:normAutofit fontScale="92000"/>
          </a:bodyPr>
          <a:p>
            <a:pPr marL="31536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6699"/>
                </a:solidFill>
                <a:latin typeface="Century Gothic"/>
              </a:rPr>
              <a:t>Теория познания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395280" y="1911240"/>
            <a:ext cx="82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Century Gothic"/>
              </a:rPr>
              <a:t>Уровни знания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115" name="Rectangle 5"/>
          <p:cNvSpPr/>
          <p:nvPr/>
        </p:nvSpPr>
        <p:spPr>
          <a:xfrm>
            <a:off x="835200" y="3424320"/>
            <a:ext cx="2449440" cy="7650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6699"/>
                </a:solidFill>
                <a:latin typeface="Century Gothic"/>
              </a:rPr>
              <a:t>Научные теории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116" name="Rectangle 6"/>
          <p:cNvSpPr/>
          <p:nvPr/>
        </p:nvSpPr>
        <p:spPr>
          <a:xfrm>
            <a:off x="835200" y="4440240"/>
            <a:ext cx="2477880" cy="7650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6699"/>
                </a:solidFill>
                <a:latin typeface="Century Gothic"/>
              </a:rPr>
              <a:t>Методология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117" name="Rectangle 7"/>
          <p:cNvSpPr/>
          <p:nvPr/>
        </p:nvSpPr>
        <p:spPr>
          <a:xfrm>
            <a:off x="865080" y="5405400"/>
            <a:ext cx="2449800" cy="10479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6699"/>
                </a:solidFill>
                <a:latin typeface="Century Gothic"/>
              </a:rPr>
              <a:t>Практические знания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118" name="Rectangle 8"/>
          <p:cNvSpPr/>
          <p:nvPr/>
        </p:nvSpPr>
        <p:spPr>
          <a:xfrm>
            <a:off x="4811760" y="2428920"/>
            <a:ext cx="3892680" cy="7221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294840" indent="-2948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entury Gothic"/>
              </a:rPr>
              <a:t>Консультант,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  <a:p>
            <a:pPr marL="294840" indent="-2948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entury Gothic"/>
              </a:rPr>
              <a:t>совет директоров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119" name="Rectangle 9"/>
          <p:cNvSpPr/>
          <p:nvPr/>
        </p:nvSpPr>
        <p:spPr>
          <a:xfrm>
            <a:off x="4808520" y="3611520"/>
            <a:ext cx="3906720" cy="43668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entury Gothic"/>
              </a:rPr>
              <a:t>Собственник, СЕО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120" name="Rectangle 10"/>
          <p:cNvSpPr/>
          <p:nvPr/>
        </p:nvSpPr>
        <p:spPr>
          <a:xfrm>
            <a:off x="4808520" y="4613400"/>
            <a:ext cx="3921120" cy="45072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entury Gothic"/>
              </a:rPr>
              <a:t>Заместители по…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121" name="Rectangle 11"/>
          <p:cNvSpPr/>
          <p:nvPr/>
        </p:nvSpPr>
        <p:spPr>
          <a:xfrm>
            <a:off x="4838760" y="5635800"/>
            <a:ext cx="3906720" cy="70452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entury Gothic"/>
              </a:rPr>
              <a:t>Менеджеры среднего и низового звена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122" name="Line 12"/>
          <p:cNvSpPr/>
          <p:nvPr/>
        </p:nvSpPr>
        <p:spPr>
          <a:xfrm>
            <a:off x="6429240" y="4043520"/>
            <a:ext cx="0" cy="571320"/>
          </a:xfrm>
          <a:prstGeom prst="line">
            <a:avLst/>
          </a:prstGeom>
          <a:ln w="381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123" name="Text Box 13"/>
          <p:cNvSpPr/>
          <p:nvPr/>
        </p:nvSpPr>
        <p:spPr>
          <a:xfrm>
            <a:off x="3840120" y="4000680"/>
            <a:ext cx="246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Century Gothic"/>
              </a:rPr>
              <a:t>Видение, общая стратегия, </a:t>
            </a:r>
            <a:r>
              <a:rPr b="0" lang="en-US" sz="1800" spc="-1" strike="noStrike">
                <a:solidFill>
                  <a:srgbClr val="003366"/>
                </a:solidFill>
                <a:latin typeface="Century Gothic"/>
              </a:rPr>
              <a:t>SMARTER</a:t>
            </a:r>
            <a:endParaRPr b="0" lang="en-US" sz="1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124" name="Line 14"/>
          <p:cNvSpPr/>
          <p:nvPr/>
        </p:nvSpPr>
        <p:spPr>
          <a:xfrm>
            <a:off x="6416640" y="5073480"/>
            <a:ext cx="0" cy="571680"/>
          </a:xfrm>
          <a:prstGeom prst="line">
            <a:avLst/>
          </a:prstGeom>
          <a:ln w="381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125" name="Text Box 15"/>
          <p:cNvSpPr/>
          <p:nvPr/>
        </p:nvSpPr>
        <p:spPr>
          <a:xfrm>
            <a:off x="3244680" y="5087880"/>
            <a:ext cx="350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Century Gothic"/>
              </a:rPr>
              <a:t>Планы и бюджеты, тактика</a:t>
            </a:r>
            <a:endParaRPr b="0" lang="en-US" sz="1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126" name="Text Box 16"/>
          <p:cNvSpPr/>
          <p:nvPr/>
        </p:nvSpPr>
        <p:spPr>
          <a:xfrm>
            <a:off x="3262320" y="5835600"/>
            <a:ext cx="162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Century Gothic"/>
              </a:rPr>
              <a:t>Стандарты и нормы</a:t>
            </a:r>
            <a:endParaRPr b="0" lang="en-US" sz="1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127" name="Line 17"/>
          <p:cNvSpPr/>
          <p:nvPr/>
        </p:nvSpPr>
        <p:spPr>
          <a:xfrm>
            <a:off x="6404040" y="6357960"/>
            <a:ext cx="0" cy="485640"/>
          </a:xfrm>
          <a:prstGeom prst="line">
            <a:avLst/>
          </a:prstGeom>
          <a:ln w="381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128" name="Line 18"/>
          <p:cNvSpPr/>
          <p:nvPr/>
        </p:nvSpPr>
        <p:spPr>
          <a:xfrm>
            <a:off x="6415200" y="3200400"/>
            <a:ext cx="0" cy="414360"/>
          </a:xfrm>
          <a:prstGeom prst="line">
            <a:avLst/>
          </a:prstGeom>
          <a:ln w="381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129" name="Text Box 19"/>
          <p:cNvSpPr/>
          <p:nvPr/>
        </p:nvSpPr>
        <p:spPr>
          <a:xfrm>
            <a:off x="3745080" y="3144960"/>
            <a:ext cx="270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Century Gothic"/>
              </a:rPr>
              <a:t>Критика, новый взгляд</a:t>
            </a:r>
            <a:endParaRPr b="0" lang="en-US" sz="1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130" name="Line 20"/>
          <p:cNvSpPr/>
          <p:nvPr/>
        </p:nvSpPr>
        <p:spPr>
          <a:xfrm flipV="1">
            <a:off x="6558120" y="4043160"/>
            <a:ext cx="0" cy="5713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131" name="Text Box 21"/>
          <p:cNvSpPr/>
          <p:nvPr/>
        </p:nvSpPr>
        <p:spPr>
          <a:xfrm>
            <a:off x="6519960" y="4119480"/>
            <a:ext cx="30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entury Gothic"/>
              </a:rPr>
              <a:t>Обзоры (диаграммы)</a:t>
            </a:r>
            <a:endParaRPr b="0" lang="en-US" sz="1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132" name="Text Box 22"/>
          <p:cNvSpPr/>
          <p:nvPr/>
        </p:nvSpPr>
        <p:spPr>
          <a:xfrm>
            <a:off x="6564240" y="5121360"/>
            <a:ext cx="221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entury Gothic"/>
              </a:rPr>
              <a:t>Отчеты (в числах)</a:t>
            </a:r>
            <a:endParaRPr b="0" lang="en-US" sz="1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133" name="Line 23"/>
          <p:cNvSpPr/>
          <p:nvPr/>
        </p:nvSpPr>
        <p:spPr>
          <a:xfrm flipV="1">
            <a:off x="6545160" y="5059080"/>
            <a:ext cx="0" cy="5713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134" name="Line 24"/>
          <p:cNvSpPr/>
          <p:nvPr/>
        </p:nvSpPr>
        <p:spPr>
          <a:xfrm flipH="1" flipV="1">
            <a:off x="6573600" y="6343560"/>
            <a:ext cx="14040" cy="48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135" name="Line 25"/>
          <p:cNvSpPr/>
          <p:nvPr/>
        </p:nvSpPr>
        <p:spPr>
          <a:xfrm flipV="1">
            <a:off x="6545160" y="3144960"/>
            <a:ext cx="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136" name="Text Box 26"/>
          <p:cNvSpPr/>
          <p:nvPr/>
        </p:nvSpPr>
        <p:spPr>
          <a:xfrm>
            <a:off x="6608880" y="6408720"/>
            <a:ext cx="221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entury Gothic"/>
              </a:rPr>
              <a:t>Наблюдения</a:t>
            </a:r>
            <a:endParaRPr b="0" lang="en-US" sz="1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137" name="Text Box 27"/>
          <p:cNvSpPr/>
          <p:nvPr/>
        </p:nvSpPr>
        <p:spPr>
          <a:xfrm>
            <a:off x="6595920" y="3195720"/>
            <a:ext cx="221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entury Gothic"/>
              </a:rPr>
              <a:t>Проблемы</a:t>
            </a:r>
            <a:endParaRPr b="0" lang="en-US" sz="1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138" name="Line 28"/>
          <p:cNvSpPr/>
          <p:nvPr/>
        </p:nvSpPr>
        <p:spPr>
          <a:xfrm flipV="1">
            <a:off x="4451400" y="6297120"/>
            <a:ext cx="396720" cy="1800"/>
          </a:xfrm>
          <a:prstGeom prst="line">
            <a:avLst/>
          </a:prstGeom>
          <a:ln w="381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139" name="Text Box 29"/>
          <p:cNvSpPr/>
          <p:nvPr/>
        </p:nvSpPr>
        <p:spPr>
          <a:xfrm>
            <a:off x="4861080" y="6438960"/>
            <a:ext cx="153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Century Gothic"/>
              </a:rPr>
              <a:t>Результаты</a:t>
            </a:r>
            <a:endParaRPr b="0" lang="en-US" sz="1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Century Gothic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3366"/>
                </a:solidFill>
                <a:latin typeface="Century Gothic"/>
              </a:rPr>
              <a:t>ТЕОРИЯ ОРГАНИЗАЦИИ</a:t>
            </a:r>
            <a:endParaRPr b="0" lang="en-US" sz="48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673520" y="2927160"/>
            <a:ext cx="4013280" cy="1293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cc"/>
                </a:solidFill>
                <a:latin typeface="Century Gothic"/>
              </a:rPr>
              <a:t>Использование научного знания в менеджменте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260" name="Rectangle 4"/>
          <p:cNvSpPr/>
          <p:nvPr/>
        </p:nvSpPr>
        <p:spPr>
          <a:xfrm>
            <a:off x="3635280" y="4724280"/>
            <a:ext cx="5113440" cy="86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cc"/>
                </a:solidFill>
                <a:latin typeface="Symbol"/>
                <a:ea typeface="Symbol"/>
              </a:rPr>
              <a:t></a:t>
            </a:r>
            <a:r>
              <a:rPr b="0" lang="ru-RU" sz="2000" spc="-1" strike="noStrike">
                <a:solidFill>
                  <a:srgbClr val="0066cc"/>
                </a:solidFill>
                <a:latin typeface="Century Gothic"/>
              </a:rPr>
              <a:t> </a:t>
            </a:r>
            <a:r>
              <a:rPr b="0" lang="ru-RU" sz="2000" spc="-1" strike="noStrike">
                <a:solidFill>
                  <a:srgbClr val="0066cc"/>
                </a:solidFill>
                <a:latin typeface="Century Gothic"/>
              </a:rPr>
              <a:t>Плотников Михаил Вячеславович</a:t>
            </a:r>
            <a:endParaRPr b="0" lang="en-US" sz="2000" spc="-1" strike="noStrike">
              <a:solidFill>
                <a:srgbClr val="003366"/>
              </a:solidFill>
              <a:latin typeface="Century Gothic"/>
            </a:endParaRPr>
          </a:p>
          <a:p>
            <a:pPr>
              <a:spcBef>
                <a:spcPts val="499"/>
              </a:spcBef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cc"/>
                </a:solidFill>
                <a:latin typeface="Century Gothic"/>
              </a:rPr>
              <a:t>	</a:t>
            </a:r>
            <a:r>
              <a:rPr b="0" lang="ru-RU" sz="2000" spc="-1" strike="noStrike">
                <a:solidFill>
                  <a:srgbClr val="0066cc"/>
                </a:solidFill>
                <a:latin typeface="Century Gothic"/>
              </a:rPr>
              <a:t>	</a:t>
            </a:r>
            <a:r>
              <a:rPr b="0" lang="ru-RU" sz="2000" spc="-1" strike="noStrike">
                <a:solidFill>
                  <a:srgbClr val="0066cc"/>
                </a:solidFill>
                <a:latin typeface="Century Gothic"/>
              </a:rPr>
              <a:t>	</a:t>
            </a:r>
            <a:r>
              <a:rPr b="0" lang="ru-RU" sz="2000" spc="-1" strike="noStrike">
                <a:solidFill>
                  <a:srgbClr val="0066cc"/>
                </a:solidFill>
                <a:latin typeface="Century Gothic"/>
              </a:rPr>
              <a:t>Москва, 2005</a:t>
            </a:r>
            <a:endParaRPr b="0" lang="en-US" sz="20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261" name="Rectangle 5"/>
          <p:cNvSpPr/>
          <p:nvPr/>
        </p:nvSpPr>
        <p:spPr>
          <a:xfrm>
            <a:off x="3492360" y="4221000"/>
            <a:ext cx="136692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57000"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0" spc="-1" strike="noStrike">
                <a:solidFill>
                  <a:srgbClr val="0066cc"/>
                </a:solidFill>
                <a:latin typeface="Animals 1"/>
                <a:ea typeface="Animals 1"/>
              </a:rPr>
              <a:t></a:t>
            </a:r>
            <a:endParaRPr b="0" lang="en-US" sz="120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262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Century Gothic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66cc"/>
                </a:solidFill>
                <a:latin typeface="Century Gothic"/>
              </a:rPr>
              <a:t>Еще немного проблем</a:t>
            </a:r>
            <a:endParaRPr b="0" lang="en-US" sz="48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264" name="Text Box 3"/>
          <p:cNvSpPr/>
          <p:nvPr/>
        </p:nvSpPr>
        <p:spPr>
          <a:xfrm>
            <a:off x="395280" y="1911240"/>
            <a:ext cx="82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Century Gothic"/>
              </a:rPr>
              <a:t>Тема 3. Философия и теория организации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265" name="Text Box 5"/>
          <p:cNvSpPr/>
          <p:nvPr/>
        </p:nvSpPr>
        <p:spPr>
          <a:xfrm>
            <a:off x="941400" y="2611440"/>
            <a:ext cx="7085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266" name="Text Box 6"/>
          <p:cNvSpPr/>
          <p:nvPr/>
        </p:nvSpPr>
        <p:spPr>
          <a:xfrm>
            <a:off x="803160" y="2575080"/>
            <a:ext cx="8105760" cy="35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6120" indent="-276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Century Gothic"/>
              </a:rPr>
              <a:t>Три основные философские проблемы, связанные с организациями: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marL="276120" indent="-276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marL="276120" indent="-276120">
              <a:buClr>
                <a:srgbClr val="003366"/>
              </a:buClr>
              <a:buSzPct val="75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Century Gothic"/>
              </a:rPr>
              <a:t>Значение организаций в жизни человека и общества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  <a:p>
            <a:pPr marL="276120" indent="-276120">
              <a:buClr>
                <a:srgbClr val="003366"/>
              </a:buClr>
              <a:buSzPct val="75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  <a:p>
            <a:pPr marL="276120" indent="-276120">
              <a:buClr>
                <a:srgbClr val="003366"/>
              </a:buClr>
              <a:buSzPct val="75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Century Gothic"/>
              </a:rPr>
              <a:t>Этика взаимоотношений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  <a:p>
            <a:pPr marL="276120" indent="-276120">
              <a:buClr>
                <a:srgbClr val="003366"/>
              </a:buClr>
              <a:buSzPct val="75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  <a:p>
            <a:pPr marL="276120" indent="-276120">
              <a:buClr>
                <a:srgbClr val="003366"/>
              </a:buClr>
              <a:buSzPct val="75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Century Gothic"/>
              </a:rPr>
              <a:t>Исследование организаций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267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Century Gothic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66cc"/>
                </a:solidFill>
                <a:latin typeface="Century Gothic"/>
              </a:rPr>
              <a:t>Значение организаций</a:t>
            </a:r>
            <a:endParaRPr b="0" lang="en-US" sz="48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Century Gothic"/>
              </a:rPr>
              <a:t>каждый из нас состоит членом какой-либо организации;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Century Gothic"/>
              </a:rPr>
              <a:t>человек как личность всецело является продуктом общества;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Century Gothic"/>
              </a:rPr>
              <a:t>человек открыт суггестии;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Century Gothic"/>
              </a:rPr>
              <a:t>культура общества и программа;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Century Gothic"/>
              </a:rPr>
              <a:t>личность, идентичность и индивидуальность;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Century Gothic"/>
              </a:rPr>
              <a:t>реформирование и деструкция.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270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Century Gothic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 txBox="1"/>
          <p:nvPr/>
        </p:nvSpPr>
        <p:spPr>
          <a:xfrm>
            <a:off x="834120" y="10609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66cc"/>
                </a:solidFill>
                <a:latin typeface="Century Gothic"/>
              </a:rPr>
              <a:t>Этика взаимоотношений</a:t>
            </a:r>
            <a:endParaRPr b="0" lang="en-US" sz="48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Century Gothic"/>
              </a:rPr>
              <a:t>«Мы в ответе за тех, кого приручили…»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Century Gothic"/>
              </a:rPr>
              <a:t>Власть и иерархия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Century Gothic"/>
              </a:rPr>
              <a:t>Страх и зависимость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Century Gothic"/>
              </a:rPr>
              <a:t>Обман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Century Gothic"/>
              </a:rPr>
              <a:t>Манипуляция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Century Gothic"/>
              </a:rPr>
              <a:t>Этические дилеммы 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273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Century Gothic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4120" y="10609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66cc"/>
                </a:solidFill>
                <a:latin typeface="Century Gothic"/>
              </a:rPr>
              <a:t>Исследование организаций</a:t>
            </a:r>
            <a:endParaRPr b="0" lang="en-US" sz="48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Century Gothic"/>
              </a:rPr>
              <a:t>соотношение части и целого;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Century Gothic"/>
              </a:rPr>
              <a:t>проблема уровня агрегирования;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Century Gothic"/>
              </a:rPr>
              <a:t>организационное научение;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276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Century Gothic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66cc"/>
                </a:solidFill>
                <a:latin typeface="Century Gothic"/>
              </a:rPr>
              <a:t>Ваши вопросы</a:t>
            </a:r>
            <a:endParaRPr b="0" lang="en-US" sz="5400" spc="-1" strike="noStrike">
              <a:solidFill>
                <a:srgbClr val="0066cc"/>
              </a:solidFill>
              <a:latin typeface="Century Gothic"/>
            </a:endParaRPr>
          </a:p>
        </p:txBody>
      </p:sp>
      <p:pic>
        <p:nvPicPr>
          <p:cNvPr id="278" name="Picture 3" descr="160"/>
          <p:cNvPicPr/>
          <p:nvPr/>
        </p:nvPicPr>
        <p:blipFill>
          <a:blip r:embed="rId1"/>
          <a:stretch/>
        </p:blipFill>
        <p:spPr>
          <a:xfrm>
            <a:off x="2216160" y="2338560"/>
            <a:ext cx="4513320" cy="4338360"/>
          </a:xfrm>
          <a:prstGeom prst="rect">
            <a:avLst/>
          </a:prstGeom>
          <a:ln w="0">
            <a:noFill/>
          </a:ln>
        </p:spPr>
      </p:pic>
      <p:sp>
        <p:nvSpPr>
          <p:cNvPr id="279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Century Gothic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281" name="Text Box 3"/>
          <p:cNvSpPr/>
          <p:nvPr/>
        </p:nvSpPr>
        <p:spPr>
          <a:xfrm>
            <a:off x="395280" y="1911240"/>
            <a:ext cx="919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Century Gothic"/>
              </a:rPr>
              <a:t>Тема 4. Организация в фокусе научного исследования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282" name="Text Box 4"/>
          <p:cNvSpPr/>
          <p:nvPr/>
        </p:nvSpPr>
        <p:spPr>
          <a:xfrm>
            <a:off x="941400" y="2611440"/>
            <a:ext cx="7085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283" name="Text Box 5"/>
          <p:cNvSpPr/>
          <p:nvPr/>
        </p:nvSpPr>
        <p:spPr>
          <a:xfrm>
            <a:off x="803160" y="2575080"/>
            <a:ext cx="8105760" cy="320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6120" indent="-276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Century Gothic"/>
              </a:rPr>
              <a:t>Три фундаментальные науки, изучающие организации: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marL="276120" indent="-276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marL="276120" indent="-276120">
              <a:buClr>
                <a:srgbClr val="003366"/>
              </a:buClr>
              <a:buSzPct val="75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Century Gothic"/>
              </a:rPr>
              <a:t>Социология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  <a:p>
            <a:pPr marL="276120" indent="-276120">
              <a:buClr>
                <a:srgbClr val="003366"/>
              </a:buClr>
              <a:buSzPct val="75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  <a:p>
            <a:pPr marL="276120" indent="-276120">
              <a:buClr>
                <a:srgbClr val="003366"/>
              </a:buClr>
              <a:buSzPct val="75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Century Gothic"/>
              </a:rPr>
              <a:t>Психология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  <a:p>
            <a:pPr marL="276120" indent="-276120">
              <a:buClr>
                <a:srgbClr val="003366"/>
              </a:buClr>
              <a:buSzPct val="75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  <a:p>
            <a:pPr marL="276120" indent="-276120">
              <a:buClr>
                <a:srgbClr val="003366"/>
              </a:buClr>
              <a:buSzPct val="75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Century Gothic"/>
              </a:rPr>
              <a:t>Экономика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284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Century Gothic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66cc"/>
                </a:solidFill>
                <a:latin typeface="Century Gothic"/>
              </a:rPr>
              <a:t>Экономика</a:t>
            </a:r>
            <a:endParaRPr b="0" lang="en-US" sz="54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5375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Century Gothic"/>
              </a:rPr>
              <a:t>Основные категории: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Century Gothic"/>
              </a:rPr>
              <a:t>создание,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Century Gothic"/>
              </a:rPr>
              <a:t>распределение,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Century Gothic"/>
              </a:rPr>
              <a:t>перераспределение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Century Gothic"/>
              </a:rPr>
              <a:t>общественного блага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</p:txBody>
      </p:sp>
      <p:pic>
        <p:nvPicPr>
          <p:cNvPr id="287" name="Picture 6" descr="138"/>
          <p:cNvPicPr/>
          <p:nvPr/>
        </p:nvPicPr>
        <p:blipFill>
          <a:blip r:embed="rId1"/>
          <a:stretch/>
        </p:blipFill>
        <p:spPr>
          <a:xfrm>
            <a:off x="5302080" y="3057480"/>
            <a:ext cx="3841920" cy="3336840"/>
          </a:xfrm>
          <a:prstGeom prst="rect">
            <a:avLst/>
          </a:prstGeom>
          <a:ln w="0">
            <a:noFill/>
          </a:ln>
        </p:spPr>
      </p:pic>
      <p:sp>
        <p:nvSpPr>
          <p:cNvPr id="288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Century Gothic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66cc"/>
                </a:solidFill>
                <a:latin typeface="Century Gothic"/>
              </a:rPr>
              <a:t>Психология</a:t>
            </a:r>
            <a:endParaRPr b="0" lang="en-US" sz="54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5375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Century Gothic"/>
              </a:rPr>
              <a:t>Основные категории: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Century Gothic"/>
              </a:rPr>
              <a:t>поведение;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Century Gothic"/>
              </a:rPr>
              <a:t>мотивы;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Century Gothic"/>
              </a:rPr>
              <a:t>научение;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Century Gothic"/>
              </a:rPr>
              <a:t>рефлексы;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Century Gothic"/>
              </a:rPr>
              <a:t>рефлексия (мышление);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Century Gothic"/>
              </a:rPr>
              <a:t>креативность.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</p:txBody>
      </p:sp>
      <p:pic>
        <p:nvPicPr>
          <p:cNvPr id="291" name="Picture 17" descr="046"/>
          <p:cNvPicPr/>
          <p:nvPr/>
        </p:nvPicPr>
        <p:blipFill>
          <a:blip r:embed="rId1"/>
          <a:stretch/>
        </p:blipFill>
        <p:spPr>
          <a:xfrm>
            <a:off x="6257880" y="2863800"/>
            <a:ext cx="2379600" cy="3994200"/>
          </a:xfrm>
          <a:prstGeom prst="rect">
            <a:avLst/>
          </a:prstGeom>
          <a:ln w="0">
            <a:noFill/>
          </a:ln>
        </p:spPr>
      </p:pic>
      <p:sp>
        <p:nvSpPr>
          <p:cNvPr id="292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Century Gothic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66cc"/>
                </a:solidFill>
                <a:latin typeface="Century Gothic"/>
              </a:rPr>
              <a:t>Социология</a:t>
            </a:r>
            <a:endParaRPr b="0" lang="en-US" sz="54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Century Gothic"/>
              </a:rPr>
              <a:t>Основные категории: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Century Gothic"/>
              </a:rPr>
              <a:t>структура,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Century Gothic"/>
              </a:rPr>
              <a:t>взаимодействие,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Century Gothic"/>
              </a:rPr>
              <a:t>отношения,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Century Gothic"/>
              </a:rPr>
              <a:t>влияние,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Century Gothic"/>
              </a:rPr>
              <a:t>последствия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</p:txBody>
      </p:sp>
      <p:grpSp>
        <p:nvGrpSpPr>
          <p:cNvPr id="295" name="Diagram 6"/>
          <p:cNvGrpSpPr/>
          <p:nvPr/>
        </p:nvGrpSpPr>
        <p:grpSpPr>
          <a:xfrm>
            <a:off x="4886640" y="2494800"/>
            <a:ext cx="3138120" cy="2703600"/>
            <a:chOff x="4886640" y="2494800"/>
            <a:chExt cx="3138120" cy="2703600"/>
          </a:xfrm>
        </p:grpSpPr>
        <p:sp>
          <p:nvSpPr>
            <p:cNvPr id="296" name="_s1028"/>
            <p:cNvSpPr/>
            <p:nvPr/>
          </p:nvSpPr>
          <p:spPr>
            <a:xfrm>
              <a:off x="4886640" y="3251520"/>
              <a:ext cx="1947600" cy="1946880"/>
            </a:xfrm>
            <a:prstGeom prst="donut">
              <a:avLst>
                <a:gd name="adj" fmla="val 16666"/>
              </a:avLst>
            </a:prstGeom>
            <a:solidFill>
              <a:srgbClr val="0066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Century Gothic"/>
              </a:endParaRPr>
            </a:p>
          </p:txBody>
        </p:sp>
        <p:sp>
          <p:nvSpPr>
            <p:cNvPr id="297" name="_s1029"/>
            <p:cNvSpPr/>
            <p:nvPr/>
          </p:nvSpPr>
          <p:spPr>
            <a:xfrm>
              <a:off x="7505640" y="3359160"/>
              <a:ext cx="519120" cy="432000"/>
            </a:xfrm>
            <a:noFill/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Century Gothic"/>
                </a:rPr>
                <a:t>Общество</a:t>
              </a:r>
              <a:endParaRPr b="0" lang="en-US" sz="1800" spc="-1" strike="noStrike">
                <a:solidFill>
                  <a:srgbClr val="003366"/>
                </a:solidFill>
                <a:latin typeface="Century Gothic"/>
              </a:endParaRPr>
            </a:p>
          </p:txBody>
        </p:sp>
        <p:sp>
          <p:nvSpPr>
            <p:cNvPr id="298" name="_s1030"/>
            <p:cNvSpPr/>
            <p:nvPr/>
          </p:nvSpPr>
          <p:spPr>
            <a:xfrm>
              <a:off x="5211000" y="3575880"/>
              <a:ext cx="1298160" cy="1297800"/>
            </a:xfrm>
            <a:prstGeom prst="donut">
              <a:avLst>
                <a:gd name="adj" fmla="val 25000"/>
              </a:avLst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Century Gothic"/>
              </a:endParaRPr>
            </a:p>
          </p:txBody>
        </p:sp>
        <p:sp>
          <p:nvSpPr>
            <p:cNvPr id="299" name="_s1031"/>
            <p:cNvSpPr/>
            <p:nvPr/>
          </p:nvSpPr>
          <p:spPr>
            <a:xfrm>
              <a:off x="7505640" y="2927160"/>
              <a:ext cx="519120" cy="432000"/>
            </a:xfrm>
            <a:noFill/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Century Gothic"/>
                </a:rPr>
                <a:t>Организация</a:t>
              </a:r>
              <a:endParaRPr b="0" lang="en-US" sz="1800" spc="-1" strike="noStrike">
                <a:solidFill>
                  <a:srgbClr val="003366"/>
                </a:solidFill>
                <a:latin typeface="Century Gothic"/>
              </a:endParaRPr>
            </a:p>
          </p:txBody>
        </p:sp>
        <p:sp>
          <p:nvSpPr>
            <p:cNvPr id="300" name="_s1032"/>
            <p:cNvSpPr/>
            <p:nvPr/>
          </p:nvSpPr>
          <p:spPr>
            <a:xfrm>
              <a:off x="5535720" y="3900600"/>
              <a:ext cx="649080" cy="6487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Century Gothic"/>
              </a:endParaRPr>
            </a:p>
          </p:txBody>
        </p:sp>
        <p:sp>
          <p:nvSpPr>
            <p:cNvPr id="301" name="_s1033"/>
            <p:cNvSpPr/>
            <p:nvPr/>
          </p:nvSpPr>
          <p:spPr>
            <a:xfrm>
              <a:off x="7505640" y="2494800"/>
              <a:ext cx="519120" cy="432000"/>
            </a:xfrm>
            <a:noFill/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Century Gothic"/>
                </a:rPr>
                <a:t>Человек</a:t>
              </a:r>
              <a:endParaRPr b="0" lang="en-US" sz="1800" spc="-1" strike="noStrike">
                <a:solidFill>
                  <a:srgbClr val="003366"/>
                </a:solidFill>
                <a:latin typeface="Century Gothic"/>
              </a:endParaRPr>
            </a:p>
          </p:txBody>
        </p:sp>
      </p:grpSp>
      <p:grpSp>
        <p:nvGrpSpPr>
          <p:cNvPr id="302" name="Group 17"/>
          <p:cNvGrpSpPr/>
          <p:nvPr/>
        </p:nvGrpSpPr>
        <p:grpSpPr>
          <a:xfrm>
            <a:off x="3763800" y="4762440"/>
            <a:ext cx="1724040" cy="1743120"/>
            <a:chOff x="3763800" y="4762440"/>
            <a:chExt cx="1724040" cy="1743120"/>
          </a:xfrm>
        </p:grpSpPr>
        <p:sp>
          <p:nvSpPr>
            <p:cNvPr id="303" name="Oval 14"/>
            <p:cNvSpPr/>
            <p:nvPr/>
          </p:nvSpPr>
          <p:spPr>
            <a:xfrm>
              <a:off x="3763800" y="4762440"/>
              <a:ext cx="1724040" cy="1743120"/>
            </a:xfrm>
            <a:prstGeom prst="ellipse">
              <a:avLst/>
            </a:prstGeom>
            <a:solidFill>
              <a:srgbClr val="0066cc">
                <a:alpha val="30000"/>
              </a:srgbClr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Century Gothic"/>
              </a:endParaRPr>
            </a:p>
          </p:txBody>
        </p:sp>
        <p:sp>
          <p:nvSpPr>
            <p:cNvPr id="304" name="Oval 15"/>
            <p:cNvSpPr/>
            <p:nvPr/>
          </p:nvSpPr>
          <p:spPr>
            <a:xfrm>
              <a:off x="4124160" y="5141880"/>
              <a:ext cx="984240" cy="966960"/>
            </a:xfrm>
            <a:prstGeom prst="ellipse">
              <a:avLst/>
            </a:prstGeom>
            <a:solidFill>
              <a:srgbClr val="ffcc00">
                <a:alpha val="30000"/>
              </a:srgbClr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Century Gothic"/>
              </a:endParaRPr>
            </a:p>
          </p:txBody>
        </p:sp>
        <p:sp>
          <p:nvSpPr>
            <p:cNvPr id="305" name="Oval 16"/>
            <p:cNvSpPr/>
            <p:nvPr/>
          </p:nvSpPr>
          <p:spPr>
            <a:xfrm>
              <a:off x="4400280" y="5433840"/>
              <a:ext cx="466920" cy="432000"/>
            </a:xfrm>
            <a:prstGeom prst="ellipse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Century Gothic"/>
              </a:endParaRPr>
            </a:p>
          </p:txBody>
        </p:sp>
      </p:grpSp>
      <p:sp>
        <p:nvSpPr>
          <p:cNvPr id="306" name="Місце для нижнього колонтитула 2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Century Gothic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2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2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2.2248E-006 L 0.10677 -0.18772 E">
                                      <p:cBhvr>
                                        <p:cTn id="329" dur="2000" fill="hold"/>
                                        <p:tgtEl>
                                          <p:spTgt spid="3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959"/>
          <p:cNvPicPr/>
          <p:nvPr/>
        </p:nvPicPr>
        <p:blipFill>
          <a:blip r:embed="rId1"/>
          <a:stretch/>
        </p:blipFill>
        <p:spPr>
          <a:xfrm>
            <a:off x="5848200" y="3421080"/>
            <a:ext cx="3295800" cy="28987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700" spc="-1" strike="noStrike">
                <a:solidFill>
                  <a:srgbClr val="0066cc"/>
                </a:solidFill>
                <a:latin typeface="Century Gothic"/>
              </a:rPr>
              <a:t>Проблемы: как и зачем?</a:t>
            </a:r>
            <a:endParaRPr b="0" lang="en-US" sz="4700" spc="-1" strike="noStrike">
              <a:solidFill>
                <a:srgbClr val="0066cc"/>
              </a:solidFill>
              <a:latin typeface="Century Gothic"/>
            </a:endParaRPr>
          </a:p>
        </p:txBody>
      </p:sp>
      <p:pic>
        <p:nvPicPr>
          <p:cNvPr id="143" name="Picture 4" descr="055"/>
          <p:cNvPicPr/>
          <p:nvPr/>
        </p:nvPicPr>
        <p:blipFill>
          <a:blip r:embed="rId2"/>
          <a:stretch/>
        </p:blipFill>
        <p:spPr>
          <a:xfrm>
            <a:off x="747720" y="3751200"/>
            <a:ext cx="2543040" cy="2667240"/>
          </a:xfrm>
          <a:prstGeom prst="rect">
            <a:avLst/>
          </a:prstGeom>
          <a:ln w="0">
            <a:noFill/>
          </a:ln>
        </p:spPr>
      </p:pic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874800" y="2362320"/>
            <a:ext cx="7656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cc"/>
                </a:solidFill>
                <a:latin typeface="Century Gothic"/>
              </a:rPr>
              <a:t>Проблема</a:t>
            </a:r>
            <a:r>
              <a:rPr b="0" lang="ru-RU" sz="2400" spc="-1" strike="noStrike">
                <a:solidFill>
                  <a:srgbClr val="003366"/>
                </a:solidFill>
                <a:latin typeface="Century Gothic"/>
              </a:rPr>
              <a:t> – объективное логическое противоречие – несоответствие действительного и желаемого (субъективно мнимого) состояния объекта.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Century Gothic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cc"/>
                </a:solidFill>
                <a:latin typeface="Century Gothic"/>
              </a:rPr>
              <a:t>Есть</a:t>
            </a:r>
            <a:r>
              <a:rPr b="1" lang="ru-RU" sz="2000" spc="-1" strike="noStrike">
                <a:solidFill>
                  <a:srgbClr val="0066cc"/>
                </a:solidFill>
                <a:latin typeface="Century Gothic"/>
              </a:rPr>
              <a:t>	</a:t>
            </a:r>
            <a:r>
              <a:rPr b="1" lang="ru-RU" sz="2000" spc="-1" strike="noStrike">
                <a:solidFill>
                  <a:srgbClr val="0066cc"/>
                </a:solidFill>
                <a:latin typeface="Century Gothic"/>
              </a:rPr>
              <a:t>	</a:t>
            </a:r>
            <a:r>
              <a:rPr b="1" lang="ru-RU" sz="2000" spc="-1" strike="noStrike">
                <a:solidFill>
                  <a:srgbClr val="0066cc"/>
                </a:solidFill>
                <a:latin typeface="Century Gothic"/>
              </a:rPr>
              <a:t>	</a:t>
            </a:r>
            <a:r>
              <a:rPr b="1" lang="ru-RU" sz="2000" spc="-1" strike="noStrike">
                <a:solidFill>
                  <a:srgbClr val="0066cc"/>
                </a:solidFill>
                <a:latin typeface="Century Gothic"/>
              </a:rPr>
              <a:t>	</a:t>
            </a:r>
            <a:r>
              <a:rPr b="1" lang="ru-RU" sz="2000" spc="-1" strike="noStrike">
                <a:solidFill>
                  <a:srgbClr val="0066cc"/>
                </a:solidFill>
                <a:latin typeface="Century Gothic"/>
              </a:rPr>
              <a:t>	</a:t>
            </a:r>
            <a:r>
              <a:rPr b="1" lang="ru-RU" sz="2000" spc="-1" strike="noStrike">
                <a:solidFill>
                  <a:srgbClr val="0066cc"/>
                </a:solidFill>
                <a:latin typeface="Century Gothic"/>
              </a:rPr>
              <a:t>	</a:t>
            </a:r>
            <a:r>
              <a:rPr b="1" lang="ru-RU" sz="2000" spc="-1" strike="noStrike">
                <a:solidFill>
                  <a:srgbClr val="0066cc"/>
                </a:solidFill>
                <a:latin typeface="Century Gothic"/>
              </a:rPr>
              <a:t>	</a:t>
            </a:r>
            <a:r>
              <a:rPr b="1" lang="ru-RU" sz="2000" spc="-1" strike="noStrike">
                <a:solidFill>
                  <a:srgbClr val="0066cc"/>
                </a:solidFill>
                <a:latin typeface="Century Gothic"/>
              </a:rPr>
              <a:t>Хочу</a:t>
            </a:r>
            <a:endParaRPr b="0" lang="en-US" sz="20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145" name="WordArt 6"/>
          <p:cNvSpPr txBox="1"/>
          <p:nvPr/>
        </p:nvSpPr>
        <p:spPr>
          <a:xfrm>
            <a:off x="3876840" y="4245120"/>
            <a:ext cx="1699920" cy="1465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entury Gothic"/>
              </a:rPr>
              <a:t>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entury Gothic"/>
              <a:ea typeface="Century Gothic"/>
            </a:endParaRPr>
          </a:p>
        </p:txBody>
      </p:sp>
      <p:sp>
        <p:nvSpPr>
          <p:cNvPr id="146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Century Gothic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5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 txBox="1"/>
          <p:nvPr/>
        </p:nvSpPr>
        <p:spPr>
          <a:xfrm>
            <a:off x="834120" y="107856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66cc"/>
                </a:solidFill>
                <a:latin typeface="Century Gothic"/>
              </a:rPr>
              <a:t>Организация в социологии</a:t>
            </a:r>
            <a:endParaRPr b="0" lang="en-US" sz="48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Century Gothic"/>
              </a:rPr>
              <a:t>Организация – это:</a:t>
            </a:r>
            <a:endParaRPr b="0" lang="en-US" sz="32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Century Gothic"/>
              </a:rPr>
              <a:t>Группа людей;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Century Gothic"/>
              </a:rPr>
              <a:t>Процесс организовывания;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Century Gothic"/>
              </a:rPr>
              <a:t>Результат – организованное состояние.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309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Century Gothic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834120" y="107856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66cc"/>
                </a:solidFill>
                <a:latin typeface="Century Gothic"/>
              </a:rPr>
              <a:t>Организация в социологии</a:t>
            </a:r>
            <a:endParaRPr b="0" lang="en-US" sz="48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/>
          </p:nvPr>
        </p:nvSpPr>
        <p:spPr>
          <a:xfrm>
            <a:off x="3096720" y="2361960"/>
            <a:ext cx="5434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Century Gothic"/>
              </a:rPr>
              <a:t>Уровни понимания </a:t>
            </a:r>
            <a:endParaRPr b="0" lang="en-US" sz="32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Century Gothic"/>
              </a:rPr>
              <a:t>Структура;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Century Gothic"/>
              </a:rPr>
              <a:t>Культура;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Century Gothic"/>
              </a:rPr>
              <a:t>Стратегии.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312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Century Gothic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834120" y="107856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66cc"/>
                </a:solidFill>
                <a:latin typeface="Century Gothic"/>
              </a:rPr>
              <a:t>Организация в социологии</a:t>
            </a:r>
            <a:endParaRPr b="0" lang="en-US" sz="4800" spc="-1" strike="noStrike">
              <a:solidFill>
                <a:srgbClr val="0066cc"/>
              </a:solidFill>
              <a:latin typeface="Century Gothic"/>
            </a:endParaRPr>
          </a:p>
        </p:txBody>
      </p:sp>
      <p:graphicFrame>
        <p:nvGraphicFramePr>
          <p:cNvPr id="314" name=""/>
          <p:cNvGraphicFramePr/>
          <p:nvPr/>
        </p:nvGraphicFramePr>
        <p:xfrm>
          <a:off x="838080" y="2362320"/>
          <a:ext cx="7693200" cy="3724200"/>
        </p:xfrm>
        <a:graphic>
          <a:graphicData uri="http://schemas.openxmlformats.org/drawingml/2006/table">
            <a:tbl>
              <a:tblPr/>
              <a:tblGrid>
                <a:gridCol w="1924200"/>
                <a:gridCol w="1922400"/>
                <a:gridCol w="1924200"/>
                <a:gridCol w="1922400"/>
              </a:tblGrid>
              <a:tr h="931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Century Gothic"/>
                        </a:rPr>
                        <a:t>Организация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Century Gothic"/>
                        </a:rPr>
                        <a:t>Структура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Century Gothic"/>
                        </a:rPr>
                        <a:t>Культура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Century Gothic"/>
                        </a:rPr>
                        <a:t>Стратегия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Century Gothic"/>
                        </a:rPr>
                        <a:t>Группа людей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Century Gothic"/>
                        </a:rPr>
                        <a:t>Состав и </a:t>
                      </a: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Century Gothic"/>
                        </a:rPr>
                        <a:t>background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Century Gothic"/>
                        </a:rPr>
                        <a:t>Ценности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Century Gothic"/>
                        </a:rPr>
                        <a:t>Цели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932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Century Gothic"/>
                        </a:rPr>
                        <a:t>Процесс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Century Gothic"/>
                        </a:rPr>
                        <a:t>Тактика управления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Century Gothic"/>
                        </a:rPr>
                        <a:t>Стиль управления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Century Gothic"/>
                        </a:rPr>
                        <a:t>Школа стратегии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Century Gothic"/>
                        </a:rPr>
                        <a:t>Состояние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Century Gothic"/>
                        </a:rPr>
                        <a:t>Иерархия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Century Gothic"/>
                        </a:rPr>
                        <a:t>Нормы и традиции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Century Gothic"/>
                        </a:rPr>
                        <a:t>Change management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5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Century Gothic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834120" y="107856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66cc"/>
                </a:solidFill>
                <a:latin typeface="Century Gothic"/>
              </a:rPr>
              <a:t>Организация в социологии</a:t>
            </a:r>
            <a:endParaRPr b="0" lang="en-US" sz="48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entury Gothic"/>
              </a:rPr>
              <a:t>Честер Барнард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Century Gothic"/>
              </a:rPr>
              <a:t>(совместные действия и кооперация)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Century Gothic"/>
              </a:rPr>
              <a:t>организация</a:t>
            </a:r>
            <a:r>
              <a:rPr b="0" lang="ru-RU" sz="2800" spc="-1" strike="noStrike">
                <a:solidFill>
                  <a:srgbClr val="003366"/>
                </a:solidFill>
                <a:latin typeface="Century Gothic"/>
              </a:rPr>
              <a:t> - это такой вид кооперации людей, который отличается от других социальных групп сознательностью, предсказуемостью и целенаправленностью.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318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Century Gothic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834120" y="107856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66cc"/>
                </a:solidFill>
                <a:latin typeface="Century Gothic"/>
              </a:rPr>
              <a:t>Организация в социологии</a:t>
            </a:r>
            <a:endParaRPr b="0" lang="en-US" sz="48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entury Gothic"/>
              </a:rPr>
              <a:t>Г. Саймон и Д. Марч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Century Gothic"/>
              </a:rPr>
              <a:t>(организм и координация)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Century Gothic"/>
              </a:rPr>
              <a:t>организация</a:t>
            </a:r>
            <a:r>
              <a:rPr b="0" lang="ru-RU" sz="2800" spc="-1" strike="noStrike">
                <a:solidFill>
                  <a:srgbClr val="003366"/>
                </a:solidFill>
                <a:latin typeface="Century Gothic"/>
              </a:rPr>
              <a:t> - это сложный биологический организм со специфической структурой и централизованной системой координации.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321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Century Gothic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834120" y="107856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66cc"/>
                </a:solidFill>
                <a:latin typeface="Century Gothic"/>
              </a:rPr>
              <a:t>Организация в социологии</a:t>
            </a:r>
            <a:endParaRPr b="0" lang="en-US" sz="48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entury Gothic"/>
              </a:rPr>
              <a:t>П. Блау и У. Скотт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Century Gothic"/>
              </a:rPr>
              <a:t>(формализованная структура)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Century Gothic"/>
              </a:rPr>
              <a:t>организация</a:t>
            </a:r>
            <a:r>
              <a:rPr b="0" lang="ru-RU" sz="2800" spc="-1" strike="noStrike">
                <a:solidFill>
                  <a:srgbClr val="003366"/>
                </a:solidFill>
                <a:latin typeface="Century Gothic"/>
              </a:rPr>
              <a:t> - это группа людей, обладающих специфической формализованной структурой.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324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Century Gothic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834120" y="107856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66cc"/>
                </a:solidFill>
                <a:latin typeface="Century Gothic"/>
              </a:rPr>
              <a:t>Организация в социологии</a:t>
            </a:r>
            <a:endParaRPr b="0" lang="en-US" sz="48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entury Gothic"/>
              </a:rPr>
              <a:t>А. Этциони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Century Gothic"/>
              </a:rPr>
              <a:t>(сознательное членство и действие)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Century Gothic"/>
              </a:rPr>
              <a:t>организация</a:t>
            </a:r>
            <a:r>
              <a:rPr b="0" lang="ru-RU" sz="2800" spc="-1" strike="noStrike">
                <a:solidFill>
                  <a:srgbClr val="003366"/>
                </a:solidFill>
                <a:latin typeface="Century Gothic"/>
              </a:rPr>
              <a:t> - это социальные объединения (или человеческие группы), сознательно конструируемые и реконструируемые для достижения специфических целей. 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327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Century Gothic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 txBox="1"/>
          <p:nvPr/>
        </p:nvSpPr>
        <p:spPr>
          <a:xfrm>
            <a:off x="834120" y="107856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66cc"/>
                </a:solidFill>
                <a:latin typeface="Century Gothic"/>
              </a:rPr>
              <a:t>Организация в социологии</a:t>
            </a:r>
            <a:endParaRPr b="0" lang="en-US" sz="48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/>
          </p:nvPr>
        </p:nvSpPr>
        <p:spPr>
          <a:xfrm>
            <a:off x="838080" y="2552760"/>
            <a:ext cx="7693200" cy="35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entury Gothic"/>
              </a:rPr>
              <a:t>Ваше определение организации: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Century Gothic"/>
              </a:rPr>
              <a:t>…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330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Century Gothic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66cc"/>
                </a:solidFill>
                <a:latin typeface="Century Gothic"/>
              </a:rPr>
              <a:t>Ваши вопросы</a:t>
            </a:r>
            <a:endParaRPr b="0" lang="en-US" sz="5400" spc="-1" strike="noStrike">
              <a:solidFill>
                <a:srgbClr val="0066cc"/>
              </a:solidFill>
              <a:latin typeface="Century Gothic"/>
            </a:endParaRPr>
          </a:p>
        </p:txBody>
      </p:sp>
      <p:pic>
        <p:nvPicPr>
          <p:cNvPr id="332" name="Picture 3" descr="160"/>
          <p:cNvPicPr/>
          <p:nvPr/>
        </p:nvPicPr>
        <p:blipFill>
          <a:blip r:embed="rId1"/>
          <a:stretch/>
        </p:blipFill>
        <p:spPr>
          <a:xfrm>
            <a:off x="2216160" y="2338560"/>
            <a:ext cx="4513320" cy="4338360"/>
          </a:xfrm>
          <a:prstGeom prst="rect">
            <a:avLst/>
          </a:prstGeom>
          <a:ln w="0">
            <a:noFill/>
          </a:ln>
        </p:spPr>
      </p:pic>
      <p:sp>
        <p:nvSpPr>
          <p:cNvPr id="333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Century Gothic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" descr="049"/>
          <p:cNvPicPr/>
          <p:nvPr/>
        </p:nvPicPr>
        <p:blipFill>
          <a:blip r:embed="rId1"/>
          <a:stretch/>
        </p:blipFill>
        <p:spPr>
          <a:xfrm>
            <a:off x="861840" y="3660840"/>
            <a:ext cx="1946520" cy="30211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3" descr="051"/>
          <p:cNvPicPr/>
          <p:nvPr/>
        </p:nvPicPr>
        <p:blipFill>
          <a:blip r:embed="rId2"/>
          <a:stretch/>
        </p:blipFill>
        <p:spPr>
          <a:xfrm>
            <a:off x="6330960" y="3240000"/>
            <a:ext cx="2352600" cy="331488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700" spc="-1" strike="noStrike">
                <a:solidFill>
                  <a:srgbClr val="0066cc"/>
                </a:solidFill>
                <a:latin typeface="Century Gothic"/>
              </a:rPr>
              <a:t>Проблемы: как и зачем?</a:t>
            </a:r>
            <a:endParaRPr b="0" lang="en-US" sz="47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976320" y="2362320"/>
            <a:ext cx="75549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Century Gothic"/>
              </a:rPr>
              <a:t>Решение проблемы состоит в </a:t>
            </a:r>
            <a:r>
              <a:rPr b="1" i="1" lang="ru-RU" sz="2400" spc="-1" strike="noStrike">
                <a:solidFill>
                  <a:srgbClr val="003366"/>
                </a:solidFill>
                <a:latin typeface="Century Gothic"/>
              </a:rPr>
              <a:t>устранении противоречия</a:t>
            </a:r>
            <a:r>
              <a:rPr b="0" lang="ru-RU" sz="2400" spc="-1" strike="noStrike">
                <a:solidFill>
                  <a:srgbClr val="003366"/>
                </a:solidFill>
                <a:latin typeface="Century Gothic"/>
              </a:rPr>
              <a:t>, которое может заключаться как в достижении желаемого состояния, так и в переосмыслении оценки действительного.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Century Gothic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cc"/>
                </a:solidFill>
                <a:latin typeface="Century Gothic"/>
              </a:rPr>
              <a:t>Подход №1</a:t>
            </a:r>
            <a:r>
              <a:rPr b="1" lang="ru-RU" sz="2000" spc="-1" strike="noStrike">
                <a:solidFill>
                  <a:srgbClr val="0066cc"/>
                </a:solidFill>
                <a:latin typeface="Century Gothic"/>
              </a:rPr>
              <a:t>	</a:t>
            </a:r>
            <a:r>
              <a:rPr b="1" lang="ru-RU" sz="2000" spc="-1" strike="noStrike">
                <a:solidFill>
                  <a:srgbClr val="0066cc"/>
                </a:solidFill>
                <a:latin typeface="Century Gothic"/>
              </a:rPr>
              <a:t>	</a:t>
            </a:r>
            <a:r>
              <a:rPr b="1" lang="ru-RU" sz="2000" spc="-1" strike="noStrike">
                <a:solidFill>
                  <a:srgbClr val="0066cc"/>
                </a:solidFill>
                <a:latin typeface="Century Gothic"/>
              </a:rPr>
              <a:t>	</a:t>
            </a:r>
            <a:r>
              <a:rPr b="1" lang="ru-RU" sz="2000" spc="-1" strike="noStrike">
                <a:solidFill>
                  <a:srgbClr val="0066cc"/>
                </a:solidFill>
                <a:latin typeface="Century Gothic"/>
              </a:rPr>
              <a:t>	</a:t>
            </a:r>
            <a:r>
              <a:rPr b="1" lang="ru-RU" sz="2000" spc="-1" strike="noStrike">
                <a:solidFill>
                  <a:srgbClr val="0066cc"/>
                </a:solidFill>
                <a:latin typeface="Century Gothic"/>
              </a:rPr>
              <a:t>	</a:t>
            </a:r>
            <a:r>
              <a:rPr b="1" lang="ru-RU" sz="2000" spc="-1" strike="noStrike">
                <a:solidFill>
                  <a:srgbClr val="0066cc"/>
                </a:solidFill>
                <a:latin typeface="Century Gothic"/>
              </a:rPr>
              <a:t>Подход №2</a:t>
            </a:r>
            <a:endParaRPr b="0" lang="en-US" sz="20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151" name="WordArt 6"/>
          <p:cNvSpPr txBox="1"/>
          <p:nvPr/>
        </p:nvSpPr>
        <p:spPr>
          <a:xfrm>
            <a:off x="4429080" y="4503600"/>
            <a:ext cx="457200" cy="1465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ahoma"/>
              </a:rPr>
              <a:t>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ahoma"/>
              <a:ea typeface="Tahoma"/>
            </a:endParaRPr>
          </a:p>
        </p:txBody>
      </p:sp>
      <p:sp>
        <p:nvSpPr>
          <p:cNvPr id="152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Century Gothic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2" descr="049"/>
          <p:cNvPicPr/>
          <p:nvPr/>
        </p:nvPicPr>
        <p:blipFill>
          <a:blip r:embed="rId1"/>
          <a:stretch/>
        </p:blipFill>
        <p:spPr>
          <a:xfrm>
            <a:off x="7867800" y="330120"/>
            <a:ext cx="1012680" cy="157176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700" spc="-1" strike="noStrike">
                <a:solidFill>
                  <a:srgbClr val="0066cc"/>
                </a:solidFill>
                <a:latin typeface="Century Gothic"/>
              </a:rPr>
              <a:t>Проблемы: как и зачем?</a:t>
            </a:r>
            <a:endParaRPr b="0" lang="en-US" sz="47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894800" cy="420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Century Gothic"/>
              </a:rPr>
              <a:t>В первом случае ключевыми становятся вопросы о </a:t>
            </a:r>
            <a:r>
              <a:rPr b="1" i="1" lang="ru-RU" sz="2400" spc="-1" strike="noStrike">
                <a:solidFill>
                  <a:srgbClr val="003366"/>
                </a:solidFill>
                <a:latin typeface="Century Gothic"/>
              </a:rPr>
              <a:t>целях</a:t>
            </a:r>
            <a:r>
              <a:rPr b="0" lang="ru-RU" sz="2400" spc="-1" strike="noStrike">
                <a:solidFill>
                  <a:srgbClr val="003366"/>
                </a:solidFill>
                <a:latin typeface="Century Gothic"/>
              </a:rPr>
              <a:t> и </a:t>
            </a:r>
            <a:r>
              <a:rPr b="1" i="1" lang="ru-RU" sz="2400" spc="-1" strike="noStrike">
                <a:solidFill>
                  <a:srgbClr val="003366"/>
                </a:solidFill>
                <a:latin typeface="Century Gothic"/>
              </a:rPr>
              <a:t>средствах</a:t>
            </a:r>
            <a:r>
              <a:rPr b="0" lang="ru-RU" sz="2400" spc="-1" strike="noStrike">
                <a:solidFill>
                  <a:srgbClr val="003366"/>
                </a:solidFill>
                <a:latin typeface="Century Gothic"/>
              </a:rPr>
              <a:t> их достижения: чего конкретно я хочу и как этого достичь?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cc"/>
                </a:solidFill>
                <a:latin typeface="Century Gothic"/>
              </a:rPr>
              <a:t>Идея (образ)</a:t>
            </a:r>
            <a:r>
              <a:rPr b="1" lang="ru-RU" sz="2400" spc="-1" strike="noStrike">
                <a:solidFill>
                  <a:srgbClr val="0066cc"/>
                </a:solidFill>
                <a:latin typeface="Century Gothic"/>
              </a:rPr>
              <a:t>	</a:t>
            </a:r>
            <a:r>
              <a:rPr b="1" lang="ru-RU" sz="2400" spc="-1" strike="noStrike">
                <a:solidFill>
                  <a:srgbClr val="0066cc"/>
                </a:solidFill>
                <a:latin typeface="Century Gothic"/>
              </a:rPr>
              <a:t>	</a:t>
            </a:r>
            <a:r>
              <a:rPr b="1" lang="ru-RU" sz="2400" spc="-1" strike="noStrike">
                <a:solidFill>
                  <a:srgbClr val="0066cc"/>
                </a:solidFill>
                <a:latin typeface="Century Gothic"/>
              </a:rPr>
              <a:t>Цель</a:t>
            </a:r>
            <a:r>
              <a:rPr b="1" lang="ru-RU" sz="2400" spc="-1" strike="noStrike">
                <a:solidFill>
                  <a:srgbClr val="0066cc"/>
                </a:solidFill>
                <a:latin typeface="Century Gothic"/>
              </a:rPr>
              <a:t>	</a:t>
            </a:r>
            <a:r>
              <a:rPr b="1" lang="ru-RU" sz="2400" spc="-1" strike="noStrike">
                <a:solidFill>
                  <a:srgbClr val="0066cc"/>
                </a:solidFill>
                <a:latin typeface="Century Gothic"/>
              </a:rPr>
              <a:t>	</a:t>
            </a:r>
            <a:r>
              <a:rPr b="1" lang="ru-RU" sz="2400" spc="-1" strike="noStrike">
                <a:solidFill>
                  <a:srgbClr val="0066cc"/>
                </a:solidFill>
                <a:latin typeface="Century Gothic"/>
              </a:rPr>
              <a:t>Средства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</p:txBody>
      </p:sp>
      <p:pic>
        <p:nvPicPr>
          <p:cNvPr id="156" name="Picture 5" descr="433"/>
          <p:cNvPicPr/>
          <p:nvPr/>
        </p:nvPicPr>
        <p:blipFill>
          <a:blip r:embed="rId2"/>
          <a:stretch/>
        </p:blipFill>
        <p:spPr>
          <a:xfrm>
            <a:off x="3591000" y="3863880"/>
            <a:ext cx="2619360" cy="24098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6" descr="809"/>
          <p:cNvPicPr/>
          <p:nvPr/>
        </p:nvPicPr>
        <p:blipFill>
          <a:blip r:embed="rId3"/>
          <a:stretch/>
        </p:blipFill>
        <p:spPr>
          <a:xfrm>
            <a:off x="5965920" y="4060800"/>
            <a:ext cx="2098440" cy="2255760"/>
          </a:xfrm>
          <a:prstGeom prst="rect">
            <a:avLst/>
          </a:prstGeom>
          <a:ln w="9360">
            <a:solidFill>
              <a:srgbClr val="cc99ff"/>
            </a:solidFill>
            <a:miter/>
          </a:ln>
        </p:spPr>
      </p:pic>
      <p:pic>
        <p:nvPicPr>
          <p:cNvPr id="158" name="Picture 7" descr="959"/>
          <p:cNvPicPr/>
          <p:nvPr/>
        </p:nvPicPr>
        <p:blipFill>
          <a:blip r:embed="rId4"/>
          <a:stretch/>
        </p:blipFill>
        <p:spPr>
          <a:xfrm>
            <a:off x="750960" y="3719520"/>
            <a:ext cx="2778120" cy="24447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8" descr="526"/>
          <p:cNvPicPr/>
          <p:nvPr/>
        </p:nvPicPr>
        <p:blipFill>
          <a:blip r:embed="rId5"/>
          <a:stretch/>
        </p:blipFill>
        <p:spPr>
          <a:xfrm>
            <a:off x="6053040" y="3517920"/>
            <a:ext cx="2498760" cy="2557440"/>
          </a:xfrm>
          <a:prstGeom prst="rect">
            <a:avLst/>
          </a:prstGeom>
          <a:ln w="3240">
            <a:solidFill>
              <a:srgbClr val="cc99ff"/>
            </a:solidFill>
            <a:miter/>
          </a:ln>
        </p:spPr>
      </p:pic>
      <p:pic>
        <p:nvPicPr>
          <p:cNvPr id="160" name="Picture 9" descr="b15"/>
          <p:cNvPicPr/>
          <p:nvPr/>
        </p:nvPicPr>
        <p:blipFill>
          <a:blip r:embed="rId6"/>
          <a:stretch/>
        </p:blipFill>
        <p:spPr>
          <a:xfrm>
            <a:off x="5823000" y="3457440"/>
            <a:ext cx="3321000" cy="1955880"/>
          </a:xfrm>
          <a:prstGeom prst="rect">
            <a:avLst/>
          </a:prstGeom>
          <a:ln w="3240">
            <a:solidFill>
              <a:srgbClr val="cc99ff"/>
            </a:solidFill>
            <a:miter/>
          </a:ln>
        </p:spPr>
      </p:pic>
      <p:sp>
        <p:nvSpPr>
          <p:cNvPr id="161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Century Gothic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2" descr="051"/>
          <p:cNvPicPr/>
          <p:nvPr/>
        </p:nvPicPr>
        <p:blipFill>
          <a:blip r:embed="rId1"/>
          <a:stretch/>
        </p:blipFill>
        <p:spPr>
          <a:xfrm>
            <a:off x="7780320" y="297000"/>
            <a:ext cx="1468440" cy="206820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700" spc="-1" strike="noStrike">
                <a:solidFill>
                  <a:srgbClr val="0066cc"/>
                </a:solidFill>
                <a:latin typeface="Century Gothic"/>
              </a:rPr>
              <a:t>Проблемы: как и зачем?</a:t>
            </a:r>
            <a:endParaRPr b="0" lang="en-US" sz="47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830592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Century Gothic"/>
              </a:rPr>
              <a:t>Во втором случае вопрос более личный – а зачем вообще мне это (желаемое состояние) надо? Какие есть альтернативы? Как это сделает меня счастливее? </a:t>
            </a:r>
            <a:endParaRPr b="0" lang="en-US" sz="2000" spc="-1" strike="noStrike">
              <a:solidFill>
                <a:srgbClr val="003366"/>
              </a:solidFill>
              <a:latin typeface="Century Gothic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Century Gothic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Century Gothic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Century Gothic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Century Gothic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Century Gothic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Century Gothic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Century Gothic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cc"/>
                </a:solidFill>
                <a:latin typeface="Century Gothic"/>
              </a:rPr>
              <a:t>Интерпретации </a:t>
            </a:r>
            <a:r>
              <a:rPr b="1" lang="ru-RU" sz="1800" spc="-1" strike="noStrike">
                <a:solidFill>
                  <a:srgbClr val="0066cc"/>
                </a:solidFill>
                <a:latin typeface="Century Gothic"/>
              </a:rPr>
              <a:t>	</a:t>
            </a:r>
            <a:r>
              <a:rPr b="1" lang="ru-RU" sz="1800" spc="-1" strike="noStrike">
                <a:solidFill>
                  <a:srgbClr val="0066cc"/>
                </a:solidFill>
                <a:latin typeface="Century Gothic"/>
              </a:rPr>
              <a:t>Альтернативы</a:t>
            </a:r>
            <a:r>
              <a:rPr b="1" lang="ru-RU" sz="1800" spc="-1" strike="noStrike">
                <a:solidFill>
                  <a:srgbClr val="0066cc"/>
                </a:solidFill>
                <a:latin typeface="Century Gothic"/>
              </a:rPr>
              <a:t>	</a:t>
            </a:r>
            <a:r>
              <a:rPr b="1" lang="ru-RU" sz="1800" spc="-1" strike="noStrike">
                <a:solidFill>
                  <a:srgbClr val="0066cc"/>
                </a:solidFill>
                <a:latin typeface="Century Gothic"/>
              </a:rPr>
              <a:t>	</a:t>
            </a:r>
            <a:r>
              <a:rPr b="1" lang="ru-RU" sz="1800" spc="-1" strike="noStrike">
                <a:solidFill>
                  <a:srgbClr val="0066cc"/>
                </a:solidFill>
                <a:latin typeface="Century Gothic"/>
              </a:rPr>
              <a:t>Жизненные</a:t>
            </a:r>
            <a:endParaRPr b="0" lang="en-US" sz="1800" spc="-1" strike="noStrike">
              <a:solidFill>
                <a:srgbClr val="003366"/>
              </a:solidFill>
              <a:latin typeface="Century Gothic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cc"/>
                </a:solidFill>
                <a:latin typeface="Century Gothic"/>
              </a:rPr>
              <a:t>состояния</a:t>
            </a:r>
            <a:r>
              <a:rPr b="1" lang="ru-RU" sz="1800" spc="-1" strike="noStrike">
                <a:solidFill>
                  <a:srgbClr val="0066cc"/>
                </a:solidFill>
                <a:latin typeface="Century Gothic"/>
              </a:rPr>
              <a:t>	</a:t>
            </a:r>
            <a:r>
              <a:rPr b="1" lang="ru-RU" sz="1800" spc="-1" strike="noStrike">
                <a:solidFill>
                  <a:srgbClr val="0066cc"/>
                </a:solidFill>
                <a:latin typeface="Century Gothic"/>
              </a:rPr>
              <a:t>	</a:t>
            </a:r>
            <a:r>
              <a:rPr b="1" lang="ru-RU" sz="1800" spc="-1" strike="noStrike">
                <a:solidFill>
                  <a:srgbClr val="0066cc"/>
                </a:solidFill>
                <a:latin typeface="Century Gothic"/>
              </a:rPr>
              <a:t>    желаний</a:t>
            </a:r>
            <a:r>
              <a:rPr b="1" lang="ru-RU" sz="1800" spc="-1" strike="noStrike">
                <a:solidFill>
                  <a:srgbClr val="0066cc"/>
                </a:solidFill>
                <a:latin typeface="Century Gothic"/>
              </a:rPr>
              <a:t>	</a:t>
            </a:r>
            <a:r>
              <a:rPr b="1" lang="ru-RU" sz="1800" spc="-1" strike="noStrike">
                <a:solidFill>
                  <a:srgbClr val="0066cc"/>
                </a:solidFill>
                <a:latin typeface="Century Gothic"/>
              </a:rPr>
              <a:t>	</a:t>
            </a:r>
            <a:r>
              <a:rPr b="1" lang="ru-RU" sz="1800" spc="-1" strike="noStrike">
                <a:solidFill>
                  <a:srgbClr val="0066cc"/>
                </a:solidFill>
                <a:latin typeface="Century Gothic"/>
              </a:rPr>
              <a:t>      цели</a:t>
            </a:r>
            <a:endParaRPr b="0" lang="en-US" sz="1800" spc="-1" strike="noStrike">
              <a:solidFill>
                <a:srgbClr val="003366"/>
              </a:solidFill>
              <a:latin typeface="Century Gothic"/>
            </a:endParaRPr>
          </a:p>
        </p:txBody>
      </p:sp>
      <p:pic>
        <p:nvPicPr>
          <p:cNvPr id="165" name="Picture 5" descr="055"/>
          <p:cNvPicPr/>
          <p:nvPr/>
        </p:nvPicPr>
        <p:blipFill>
          <a:blip r:embed="rId2"/>
          <a:stretch/>
        </p:blipFill>
        <p:spPr>
          <a:xfrm>
            <a:off x="785880" y="3316320"/>
            <a:ext cx="1504800" cy="1579680"/>
          </a:xfrm>
          <a:prstGeom prst="rect">
            <a:avLst/>
          </a:prstGeom>
          <a:ln w="9360">
            <a:solidFill>
              <a:srgbClr val="cc99ff"/>
            </a:solidFill>
            <a:miter/>
          </a:ln>
        </p:spPr>
      </p:pic>
      <p:pic>
        <p:nvPicPr>
          <p:cNvPr id="166" name="Picture 6" descr="227"/>
          <p:cNvPicPr/>
          <p:nvPr/>
        </p:nvPicPr>
        <p:blipFill>
          <a:blip r:embed="rId3"/>
          <a:stretch/>
        </p:blipFill>
        <p:spPr>
          <a:xfrm>
            <a:off x="1185840" y="3697200"/>
            <a:ext cx="1522440" cy="1908360"/>
          </a:xfrm>
          <a:prstGeom prst="rect">
            <a:avLst/>
          </a:prstGeom>
          <a:ln w="9360">
            <a:solidFill>
              <a:srgbClr val="cc99ff"/>
            </a:solidFill>
            <a:miter/>
          </a:ln>
        </p:spPr>
      </p:pic>
      <p:pic>
        <p:nvPicPr>
          <p:cNvPr id="167" name="Picture 7" descr="146"/>
          <p:cNvPicPr/>
          <p:nvPr/>
        </p:nvPicPr>
        <p:blipFill>
          <a:blip r:embed="rId4"/>
          <a:stretch/>
        </p:blipFill>
        <p:spPr>
          <a:xfrm>
            <a:off x="1503360" y="3875040"/>
            <a:ext cx="1311120" cy="2104920"/>
          </a:xfrm>
          <a:prstGeom prst="rect">
            <a:avLst/>
          </a:prstGeom>
          <a:ln w="9360">
            <a:solidFill>
              <a:srgbClr val="cc99ff"/>
            </a:solidFill>
            <a:miter/>
          </a:ln>
        </p:spPr>
      </p:pic>
      <p:pic>
        <p:nvPicPr>
          <p:cNvPr id="168" name="Picture 8" descr="959"/>
          <p:cNvPicPr/>
          <p:nvPr/>
        </p:nvPicPr>
        <p:blipFill>
          <a:blip r:embed="rId5"/>
          <a:stretch/>
        </p:blipFill>
        <p:spPr>
          <a:xfrm>
            <a:off x="3665520" y="3352680"/>
            <a:ext cx="1743120" cy="1533600"/>
          </a:xfrm>
          <a:prstGeom prst="rect">
            <a:avLst/>
          </a:prstGeom>
          <a:ln w="9360">
            <a:solidFill>
              <a:srgbClr val="cc99ff"/>
            </a:solidFill>
            <a:miter/>
          </a:ln>
        </p:spPr>
      </p:pic>
      <p:pic>
        <p:nvPicPr>
          <p:cNvPr id="169" name="Picture 9" descr="972"/>
          <p:cNvPicPr/>
          <p:nvPr/>
        </p:nvPicPr>
        <p:blipFill>
          <a:blip r:embed="rId6"/>
          <a:stretch/>
        </p:blipFill>
        <p:spPr>
          <a:xfrm>
            <a:off x="3537000" y="3479760"/>
            <a:ext cx="2124000" cy="2040120"/>
          </a:xfrm>
          <a:prstGeom prst="rect">
            <a:avLst/>
          </a:prstGeom>
          <a:ln w="9360">
            <a:solidFill>
              <a:srgbClr val="cc99ff"/>
            </a:solidFill>
            <a:miter/>
          </a:ln>
        </p:spPr>
      </p:pic>
      <p:pic>
        <p:nvPicPr>
          <p:cNvPr id="170" name="Picture 10" descr="610"/>
          <p:cNvPicPr/>
          <p:nvPr/>
        </p:nvPicPr>
        <p:blipFill>
          <a:blip r:embed="rId7"/>
          <a:stretch/>
        </p:blipFill>
        <p:spPr>
          <a:xfrm>
            <a:off x="3298680" y="3686040"/>
            <a:ext cx="2443320" cy="2286000"/>
          </a:xfrm>
          <a:prstGeom prst="rect">
            <a:avLst/>
          </a:prstGeom>
          <a:ln w="9360">
            <a:solidFill>
              <a:srgbClr val="cc99ff"/>
            </a:solidFill>
            <a:miter/>
          </a:ln>
        </p:spPr>
      </p:pic>
      <p:pic>
        <p:nvPicPr>
          <p:cNvPr id="171" name="Picture 11" descr="015"/>
          <p:cNvPicPr/>
          <p:nvPr/>
        </p:nvPicPr>
        <p:blipFill>
          <a:blip r:embed="rId8"/>
          <a:stretch/>
        </p:blipFill>
        <p:spPr>
          <a:xfrm>
            <a:off x="5800680" y="3305160"/>
            <a:ext cx="3308400" cy="2073240"/>
          </a:xfrm>
          <a:prstGeom prst="rect">
            <a:avLst/>
          </a:prstGeom>
          <a:ln w="9360">
            <a:solidFill>
              <a:srgbClr val="cc99ff"/>
            </a:solidFill>
            <a:miter/>
          </a:ln>
        </p:spPr>
      </p:pic>
      <p:pic>
        <p:nvPicPr>
          <p:cNvPr id="172" name="Picture 12" descr="011"/>
          <p:cNvPicPr/>
          <p:nvPr/>
        </p:nvPicPr>
        <p:blipFill>
          <a:blip r:embed="rId9"/>
          <a:stretch/>
        </p:blipFill>
        <p:spPr>
          <a:xfrm>
            <a:off x="5999040" y="3340080"/>
            <a:ext cx="2800440" cy="2604960"/>
          </a:xfrm>
          <a:prstGeom prst="rect">
            <a:avLst/>
          </a:prstGeom>
          <a:ln w="9360">
            <a:solidFill>
              <a:srgbClr val="cc99ff"/>
            </a:solidFill>
            <a:miter/>
          </a:ln>
        </p:spPr>
      </p:pic>
      <p:pic>
        <p:nvPicPr>
          <p:cNvPr id="173" name="Picture 13" descr="a27"/>
          <p:cNvPicPr/>
          <p:nvPr/>
        </p:nvPicPr>
        <p:blipFill>
          <a:blip r:embed="rId10"/>
          <a:stretch/>
        </p:blipFill>
        <p:spPr>
          <a:xfrm>
            <a:off x="5921280" y="3543480"/>
            <a:ext cx="3029040" cy="2428560"/>
          </a:xfrm>
          <a:prstGeom prst="rect">
            <a:avLst/>
          </a:prstGeom>
          <a:ln w="9360">
            <a:solidFill>
              <a:srgbClr val="cc99ff"/>
            </a:solidFill>
            <a:miter/>
          </a:ln>
        </p:spPr>
      </p:pic>
      <p:sp>
        <p:nvSpPr>
          <p:cNvPr id="174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Century Gothic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700" spc="-1" strike="noStrike">
                <a:solidFill>
                  <a:srgbClr val="0066cc"/>
                </a:solidFill>
                <a:latin typeface="Century Gothic"/>
              </a:rPr>
              <a:t>Проблемы: как и зачем?</a:t>
            </a:r>
            <a:endParaRPr b="0" lang="en-US" sz="47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80726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Как </a:t>
            </a: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УСЛОВИЯ</a:t>
            </a: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 и </a:t>
            </a: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ЦЕЛЬ</a:t>
            </a: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: Надо 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$10</a:t>
            </a: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00</a:t>
            </a: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, а есть только 5 рублей</a:t>
            </a:r>
            <a:endParaRPr b="0" lang="en-US" sz="2000" spc="-1" strike="noStrike">
              <a:solidFill>
                <a:srgbClr val="003366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Как </a:t>
            </a: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ВОПРОС</a:t>
            </a: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: Что делать? Кто виноват?</a:t>
            </a:r>
            <a:endParaRPr b="0" lang="en-US" sz="2000" spc="-1" strike="noStrike">
              <a:solidFill>
                <a:srgbClr val="003366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Как </a:t>
            </a: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ИНСТРУКЦИЮ</a:t>
            </a: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: Надо продать машину… Что потом?..</a:t>
            </a:r>
            <a:endParaRPr b="0" lang="en-US" sz="2000" spc="-1" strike="noStrike">
              <a:solidFill>
                <a:srgbClr val="003366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Как </a:t>
            </a: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АЛЬТЕРНАТИВУ</a:t>
            </a: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:  Или 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$10</a:t>
            </a: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00</a:t>
            </a: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 или уговорить кредиторов </a:t>
            </a: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подождать</a:t>
            </a:r>
            <a:endParaRPr b="0" lang="en-US" sz="2000" spc="-1" strike="noStrike">
              <a:solidFill>
                <a:srgbClr val="003366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Как </a:t>
            </a: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ОБЪЕКТИВНОЕ ПРОТИВОРЕЧИЕ</a:t>
            </a: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 субъективных позиций сторон:</a:t>
            </a:r>
            <a:endParaRPr b="0" lang="en-US" sz="2000" spc="-1" strike="noStrike">
              <a:solidFill>
                <a:srgbClr val="003366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Кредиторы</a:t>
            </a: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Мы</a:t>
            </a:r>
            <a:endParaRPr b="0" lang="en-US" sz="2000" spc="-1" strike="noStrike">
              <a:solidFill>
                <a:srgbClr val="003366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Интересы</a:t>
            </a: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ru-RU" sz="2000" spc="-1" strike="noStrike">
                <a:solidFill>
                  <a:srgbClr val="cc99ff"/>
                </a:solidFill>
                <a:latin typeface="Century Gothic"/>
              </a:rPr>
              <a:t>Получить деньги?</a:t>
            </a: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Развивать свой бизнес</a:t>
            </a:r>
            <a:endParaRPr b="0" lang="en-US" sz="2000" spc="-1" strike="noStrike">
              <a:solidFill>
                <a:srgbClr val="003366"/>
              </a:solidFill>
              <a:latin typeface="Century Gothic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cc"/>
                </a:solidFill>
                <a:latin typeface="Century Gothic"/>
              </a:rPr>
              <a:t>ПРОБЛЕМА: УДОВЛЕТВОРЕНИЕ ИНТЕРЕСОВ КРЕДИТОРОВ</a:t>
            </a:r>
            <a:endParaRPr b="0" lang="en-US" sz="2000" spc="-1" strike="noStrike">
              <a:solidFill>
                <a:srgbClr val="003366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Позиции</a:t>
            </a: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$10000</a:t>
            </a: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ru-RU" sz="2000" spc="-1" strike="noStrike">
                <a:solidFill>
                  <a:srgbClr val="ff0000"/>
                </a:solidFill>
                <a:latin typeface="Century Gothic"/>
              </a:rPr>
              <a:t>Нет денег</a:t>
            </a:r>
            <a:endParaRPr b="0" lang="en-US" sz="2000" spc="-1" strike="noStrike">
              <a:solidFill>
                <a:srgbClr val="003366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Gothic"/>
              </a:rPr>
              <a:t>	</a:t>
            </a:r>
            <a:endParaRPr b="0" lang="en-US" sz="16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177" name="Text Box 4"/>
          <p:cNvSpPr/>
          <p:nvPr/>
        </p:nvSpPr>
        <p:spPr>
          <a:xfrm>
            <a:off x="395280" y="1911240"/>
            <a:ext cx="82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Как формулировать проблемы?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178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Century Gothic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700" spc="-1" strike="noStrike">
                <a:solidFill>
                  <a:srgbClr val="0066cc"/>
                </a:solidFill>
                <a:latin typeface="Century Gothic"/>
              </a:rPr>
              <a:t>Проблемы: как и зачем?</a:t>
            </a:r>
            <a:endParaRPr b="0" lang="en-US" sz="47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8089920" cy="41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Проблемы не существуют изолированно от контекста. Наоборот, всякая проблема включает множество исходных условий и возможных следствий. Решение проблемы во многом зависит от её формулировки. 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pic>
        <p:nvPicPr>
          <p:cNvPr id="181" name="Picture 4" descr="BDOGRUN"/>
          <p:cNvPicPr/>
          <p:nvPr/>
        </p:nvPicPr>
        <p:blipFill>
          <a:blip r:embed="rId1"/>
          <a:stretch/>
        </p:blipFill>
        <p:spPr>
          <a:xfrm flipH="1">
            <a:off x="6279840" y="5783400"/>
            <a:ext cx="3406680" cy="596880"/>
          </a:xfrm>
          <a:prstGeom prst="rect">
            <a:avLst/>
          </a:prstGeom>
          <a:ln w="0">
            <a:noFill/>
          </a:ln>
        </p:spPr>
      </p:pic>
      <p:sp>
        <p:nvSpPr>
          <p:cNvPr id="182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Century Gothic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1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1T20:14:55Z</dcterms:created>
  <dc:creator>Plotnikov</dc:creator>
  <dc:description/>
  <dc:language>en-US</dc:language>
  <cp:lastModifiedBy>LEGION</cp:lastModifiedBy>
  <dcterms:modified xsi:type="dcterms:W3CDTF">2016-01-11T10:03:47Z</dcterms:modified>
  <cp:revision>74</cp:revision>
  <dc:subject/>
  <dc:title></dc:title>
</cp:coreProperties>
</file>