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move the slide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E93E-4850-4D9F-B285-C2DF21BF51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реш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диалек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рицание отриц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ход количества в ка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ма 2. 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ee the world in a grain of s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ven in a wild flower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Infinity in the palm of your h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Eternity in an hou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Тема 2. 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нау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 дире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, С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и п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ние, общая стратегия, SM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ы и бюджеты, т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и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, новый взгл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(диаграм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 (в числ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мент – наука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ные теор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актические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онсультант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вет дирек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бственник, СЕ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местители по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идение, общая стратегия, SMARTER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зоры (диаграммы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четы (в числах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блюде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немного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ще немного проблем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открыт сугге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общества и програм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ирование и дестр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сть и иерарх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 и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диле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части и цел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уровня агрег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го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(мыш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а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ст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Хочу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рганизов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поним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стер Барн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стер Барнар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аймон и Д. Мар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рганизм и координ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. Саймон и Д. Мар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Блау и У. Ско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ормализованная структу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. Блау и У. Скотт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Этци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. Этцион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 определен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аше определен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1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2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!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я (образ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дея (образ)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Цел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ред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жел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претации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льтернатив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Жизненны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стояния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желаний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  цел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ж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деньги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$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формулиров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ожда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дитор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ес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лучить деньги?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звивать свой бизнес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зиции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$10000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ет денег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формулиров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9FE-C049-4E1F-9D84-49D3DD2C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22C-1353-4F2A-808B-C4BECBA7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D92-6E68-44FB-8017-E77CB0E1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A3F-9475-4435-81A7-65B3BC32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DCD2-1F7C-48EA-8A86-EAF34075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BB3B-5D5A-4231-B42B-0E15A370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2DD8-0B0A-45B5-ACA5-1A7AA854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ACE1-18DD-43A8-9AE5-F30265B7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A732-8977-4319-981D-999F10FB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6F70-F9F5-496A-80E4-E5958823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A84F-B217-422E-9CDD-DFFAB785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179-E7D4-43B4-BCC8-76220FDD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D9D4-F693-4F8C-B131-D7F1ACE7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F3BE-0619-4345-A055-8E2F80AA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5D6B-3F7F-482D-A739-45862D20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3145-52C7-49A2-9F10-E8F9D36E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A4F3-9E06-435D-B1A7-2DAEBCD4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043-FFD9-4E33-A966-CBDDB072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9F1-5D75-4CFE-BE23-AE09D25C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8F6-54BD-4D3B-9622-248C1DE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583-80DE-46F4-84DF-59B41E3D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69A-DB3C-4D51-9A8D-3D8F173B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B95-05E4-427C-965B-7E3ED991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D48-E084-48BD-A262-ECC596EF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3AF0-8CD0-49DF-A9E9-DD53F3FA5A5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5883840" y="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2005 </a:t>
            </a:r>
            <a:r>
              <a:rPr b="1" lang="ru-RU" sz="1800" spc="-1" strike="noStrike">
                <a:solidFill>
                  <a:srgbClr val="666699"/>
                </a:solidFill>
                <a:latin typeface="Symbol"/>
                <a:ea typeface="Symbol"/>
              </a:rPr>
              <a:t></a:t>
            </a: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 Плотников Михаил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15C1-6212-46EB-927D-F14D78001ED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5" name="Picture 4" descr="dino_anim"/>
          <p:cNvPicPr/>
          <p:nvPr/>
        </p:nvPicPr>
        <p:blipFill>
          <a:blip r:embed="rId1"/>
          <a:stretch/>
        </p:blipFill>
        <p:spPr>
          <a:xfrm flipH="1">
            <a:off x="6862320" y="4929120"/>
            <a:ext cx="2073240" cy="192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92" name="Picture 4" descr="bottle"/>
          <p:cNvPicPr/>
          <p:nvPr/>
        </p:nvPicPr>
        <p:blipFill>
          <a:blip r:embed="rId1"/>
          <a:stretch/>
        </p:blipFill>
        <p:spPr>
          <a:xfrm>
            <a:off x="4083120" y="5253120"/>
            <a:ext cx="1218960" cy="11142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b23"/>
          <p:cNvPicPr/>
          <p:nvPr/>
        </p:nvPicPr>
        <p:blipFill>
          <a:blip r:embed="rId1"/>
          <a:stretch/>
        </p:blipFill>
        <p:spPr>
          <a:xfrm>
            <a:off x="5786280" y="2381400"/>
            <a:ext cx="3532320" cy="390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Как решать проблемы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898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индуктивны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99" name="Picture 3" descr="679"/>
          <p:cNvPicPr/>
          <p:nvPr/>
        </p:nvPicPr>
        <p:blipFill>
          <a:blip r:embed="rId1"/>
          <a:stretch/>
        </p:blipFill>
        <p:spPr>
          <a:xfrm>
            <a:off x="5286240" y="2421000"/>
            <a:ext cx="4073760" cy="3641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047"/>
          <p:cNvPicPr/>
          <p:nvPr/>
        </p:nvPicPr>
        <p:blipFill>
          <a:blip r:embed="rId1"/>
          <a:stretch/>
        </p:blipFill>
        <p:spPr>
          <a:xfrm>
            <a:off x="6027840" y="2357280"/>
            <a:ext cx="3116160" cy="3386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Эмпир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основывается на практической деятельности и, прежде всего, эксперимент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82"/>
          <p:cNvPicPr/>
          <p:nvPr/>
        </p:nvPicPr>
        <p:blipFill>
          <a:blip r:embed="rId1"/>
          <a:stretch/>
        </p:blipFill>
        <p:spPr>
          <a:xfrm>
            <a:off x="5796000" y="3054240"/>
            <a:ext cx="3400560" cy="3525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будут формулировать личные интересы, конгруэнтные целям организации, </a:t>
            </a:r>
            <a:r>
              <a:rPr b="0" i="1" lang="ru-RU" sz="1700" spc="-1" strike="noStrike">
                <a:solidFill>
                  <a:srgbClr val="003366"/>
                </a:solidFill>
                <a:latin typeface="Century Gothic"/>
              </a:rPr>
              <a:t>если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733"/>
          <p:cNvPicPr/>
          <p:nvPr/>
        </p:nvPicPr>
        <p:blipFill>
          <a:blip r:embed="rId1"/>
          <a:stretch/>
        </p:blipFill>
        <p:spPr>
          <a:xfrm>
            <a:off x="5997600" y="2529000"/>
            <a:ext cx="3146400" cy="2765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Диалектический синтез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основывается на поиске новой точки зрения, прежде всего нового уровня агрегирования зн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Герменевт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направлен на предложение максимально широкой объясняющей конструкции, учитывающей все возможные интерес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19" name="Picture 4" descr="b73"/>
          <p:cNvPicPr/>
          <p:nvPr/>
        </p:nvPicPr>
        <p:blipFill>
          <a:blip r:embed="rId1"/>
          <a:stretch/>
        </p:blipFill>
        <p:spPr>
          <a:xfrm>
            <a:off x="5505480" y="2465280"/>
            <a:ext cx="3638520" cy="28958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</a:t>
            </a:r>
            <a:r>
              <a:rPr b="1" lang="en-US" sz="2400" spc="-1" strike="noStrike">
                <a:solidFill>
                  <a:srgbClr val="003366"/>
                </a:solidFill>
                <a:latin typeface="Century Gothic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. 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30240" y="2570040"/>
            <a:ext cx="7628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92"/>
          <p:cNvPicPr/>
          <p:nvPr/>
        </p:nvPicPr>
        <p:blipFill>
          <a:blip r:embed="rId1"/>
          <a:stretch/>
        </p:blipFill>
        <p:spPr>
          <a:xfrm>
            <a:off x="5862600" y="2492280"/>
            <a:ext cx="3281400" cy="379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016"/>
          <p:cNvPicPr/>
          <p:nvPr/>
        </p:nvPicPr>
        <p:blipFill>
          <a:blip r:embed="rId1"/>
          <a:stretch/>
        </p:blipFill>
        <p:spPr>
          <a:xfrm>
            <a:off x="5437080" y="2519280"/>
            <a:ext cx="3706920" cy="389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1148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Метафор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007"/>
          <p:cNvPicPr/>
          <p:nvPr/>
        </p:nvPicPr>
        <p:blipFill>
          <a:blip r:embed="rId1"/>
          <a:stretch/>
        </p:blipFill>
        <p:spPr>
          <a:xfrm>
            <a:off x="6046920" y="2359080"/>
            <a:ext cx="3286080" cy="2438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428"/>
          <p:cNvPicPr/>
          <p:nvPr/>
        </p:nvPicPr>
        <p:blipFill>
          <a:blip r:embed="rId1"/>
          <a:stretch/>
        </p:blipFill>
        <p:spPr>
          <a:xfrm>
            <a:off x="6146640" y="2338560"/>
            <a:ext cx="3102120" cy="3560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Крит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52"/>
          <p:cNvPicPr/>
          <p:nvPr/>
        </p:nvPicPr>
        <p:blipFill>
          <a:blip r:embed="rId1"/>
          <a:stretch/>
        </p:blipFill>
        <p:spPr>
          <a:xfrm>
            <a:off x="5829480" y="241128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а уже есть, цель – решить её как можно скоре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49" name="Picture 4" descr="750"/>
          <p:cNvPicPr/>
          <p:nvPr/>
        </p:nvPicPr>
        <p:blipFill>
          <a:blip r:embed="rId1"/>
          <a:stretch/>
        </p:blipFill>
        <p:spPr>
          <a:xfrm>
            <a:off x="5943600" y="2313000"/>
            <a:ext cx="3200400" cy="33051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53" name="Picture 4" descr="109"/>
          <p:cNvPicPr/>
          <p:nvPr/>
        </p:nvPicPr>
        <p:blipFill>
          <a:blip r:embed="rId1"/>
          <a:stretch/>
        </p:blipFill>
        <p:spPr>
          <a:xfrm>
            <a:off x="5586480" y="2565360"/>
            <a:ext cx="3557520" cy="285120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56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Менеджмент – наука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441520"/>
            <a:ext cx="2406600" cy="765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35200" y="3424320"/>
            <a:ext cx="244944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Научные теор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35200" y="4440240"/>
            <a:ext cx="247788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Метод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65080" y="5405400"/>
            <a:ext cx="2449800" cy="10479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Практические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811760" y="2428920"/>
            <a:ext cx="3892680" cy="722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Консультант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вет директоров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808520" y="3611520"/>
            <a:ext cx="3906720" cy="436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бственник, СЕО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808520" y="4613400"/>
            <a:ext cx="3921120" cy="45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Заместители по…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838760" y="5635800"/>
            <a:ext cx="3906720" cy="704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енеджеры среднего и низового звен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429240" y="4043520"/>
            <a:ext cx="0" cy="571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40120" y="40006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Видение, общая стратегия, </a:t>
            </a:r>
            <a:r>
              <a:rPr b="0" lang="en-US" sz="1800" spc="-1" strike="noStrike">
                <a:solidFill>
                  <a:srgbClr val="003366"/>
                </a:solidFill>
                <a:latin typeface="Century Gothic"/>
              </a:rPr>
              <a:t>SMARTER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6416640" y="5073480"/>
            <a:ext cx="0" cy="571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244680" y="50878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262320" y="583560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404040" y="6357960"/>
            <a:ext cx="0" cy="48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6415200" y="3200400"/>
            <a:ext cx="0" cy="414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745080" y="314496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6558120" y="404316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519960" y="41194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бзоры (диаграммы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6564240" y="51213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тчеты (в числах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6545160" y="505908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4" name="Line 24"/>
          <p:cNvSpPr/>
          <p:nvPr/>
        </p:nvSpPr>
        <p:spPr>
          <a:xfrm flipH="1" flipV="1">
            <a:off x="6573600" y="6343560"/>
            <a:ext cx="14040" cy="4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5" name="Line 25"/>
          <p:cNvSpPr/>
          <p:nvPr/>
        </p:nvSpPr>
        <p:spPr>
          <a:xfrm flipV="1">
            <a:off x="6545160" y="314496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608880" y="6408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Наблюдения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6595920" y="3195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Пробле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4451400" y="6297120"/>
            <a:ext cx="396720" cy="18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4861080" y="64389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Еще немного проблем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03160" y="2575080"/>
            <a:ext cx="8105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Значе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Этика взаимоотношен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Исследова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78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95280" y="1911240"/>
            <a:ext cx="91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803160" y="2575080"/>
            <a:ext cx="8105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Экономик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87" name="Picture 6" descr="138"/>
          <p:cNvPicPr/>
          <p:nvPr/>
        </p:nvPicPr>
        <p:blipFill>
          <a:blip r:embed="rId1"/>
          <a:stretch/>
        </p:blipFill>
        <p:spPr>
          <a:xfrm>
            <a:off x="5302080" y="3057480"/>
            <a:ext cx="3841920" cy="333684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Псих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91" name="Picture 17" descr="046"/>
          <p:cNvPicPr/>
          <p:nvPr/>
        </p:nvPicPr>
        <p:blipFill>
          <a:blip r:embed="rId1"/>
          <a:stretch/>
        </p:blipFill>
        <p:spPr>
          <a:xfrm>
            <a:off x="6257880" y="2863800"/>
            <a:ext cx="2379600" cy="39942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Соци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grpSp>
        <p:nvGrpSpPr>
          <p:cNvPr id="295" name="Diagram 6"/>
          <p:cNvGrpSpPr/>
          <p:nvPr/>
        </p:nvGrpSpPr>
        <p:grpSpPr>
          <a:xfrm>
            <a:off x="4886640" y="2494800"/>
            <a:ext cx="3138120" cy="2703600"/>
            <a:chOff x="4886640" y="2494800"/>
            <a:chExt cx="3138120" cy="2703600"/>
          </a:xfrm>
        </p:grpSpPr>
        <p:sp>
          <p:nvSpPr>
            <p:cNvPr id="296" name="_s1028"/>
            <p:cNvSpPr/>
            <p:nvPr/>
          </p:nvSpPr>
          <p:spPr>
            <a:xfrm>
              <a:off x="4886640" y="3251520"/>
              <a:ext cx="1947600" cy="1946880"/>
            </a:xfrm>
            <a:prstGeom prst="donut">
              <a:avLst>
                <a:gd name="adj" fmla="val 16666"/>
              </a:avLst>
            </a:prstGeom>
            <a:solidFill>
              <a:srgbClr val="0066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7" name="_s1029"/>
            <p:cNvSpPr/>
            <p:nvPr/>
          </p:nvSpPr>
          <p:spPr>
            <a:xfrm>
              <a:off x="7505640" y="3359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бщество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8" name="_s1030"/>
            <p:cNvSpPr/>
            <p:nvPr/>
          </p:nvSpPr>
          <p:spPr>
            <a:xfrm>
              <a:off x="5211000" y="3575880"/>
              <a:ext cx="1298160" cy="1297800"/>
            </a:xfrm>
            <a:prstGeom prst="donut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9" name="_s1031"/>
            <p:cNvSpPr/>
            <p:nvPr/>
          </p:nvSpPr>
          <p:spPr>
            <a:xfrm>
              <a:off x="7505640" y="2927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рганизация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0" name="_s1032"/>
            <p:cNvSpPr/>
            <p:nvPr/>
          </p:nvSpPr>
          <p:spPr>
            <a:xfrm>
              <a:off x="5535720" y="3900600"/>
              <a:ext cx="649080" cy="64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1" name="_s1033"/>
            <p:cNvSpPr/>
            <p:nvPr/>
          </p:nvSpPr>
          <p:spPr>
            <a:xfrm>
              <a:off x="7505640" y="249480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Человек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3763800" y="4762440"/>
            <a:ext cx="1724040" cy="1743120"/>
            <a:chOff x="3763800" y="4762440"/>
            <a:chExt cx="1724040" cy="1743120"/>
          </a:xfrm>
        </p:grpSpPr>
        <p:sp>
          <p:nvSpPr>
            <p:cNvPr id="303" name="Oval 14"/>
            <p:cNvSpPr/>
            <p:nvPr/>
          </p:nvSpPr>
          <p:spPr>
            <a:xfrm>
              <a:off x="3763800" y="4762440"/>
              <a:ext cx="1724040" cy="1743120"/>
            </a:xfrm>
            <a:prstGeom prst="ellipse">
              <a:avLst/>
            </a:prstGeom>
            <a:solidFill>
              <a:srgbClr val="0066cc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4124160" y="5141880"/>
              <a:ext cx="984240" cy="966960"/>
            </a:xfrm>
            <a:prstGeom prst="ellipse">
              <a:avLst/>
            </a:prstGeom>
            <a:solidFill>
              <a:srgbClr val="ffcc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4400280" y="5433840"/>
              <a:ext cx="466920" cy="432000"/>
            </a:xfrm>
            <a:prstGeom prst="ellipse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30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48E-006 L 0.10677 -0.18772 E">
                                      <p:cBhvr>
                                        <p:cTn id="32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959"/>
          <p:cNvPicPr/>
          <p:nvPr/>
        </p:nvPicPr>
        <p:blipFill>
          <a:blip r:embed="rId1"/>
          <a:stretch/>
        </p:blipFill>
        <p:spPr>
          <a:xfrm>
            <a:off x="5848200" y="3421080"/>
            <a:ext cx="3295800" cy="289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43" name="Picture 4" descr="055"/>
          <p:cNvPicPr/>
          <p:nvPr/>
        </p:nvPicPr>
        <p:blipFill>
          <a:blip r:embed="rId2"/>
          <a:stretch/>
        </p:blipFill>
        <p:spPr>
          <a:xfrm>
            <a:off x="747720" y="3751200"/>
            <a:ext cx="2543040" cy="2667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74800" y="2362320"/>
            <a:ext cx="765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Проблема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Есть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Хочу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3876840" y="4245120"/>
            <a:ext cx="16999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096720" y="2361960"/>
            <a:ext cx="543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рганизац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атег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Группа люде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ав и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нност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Процес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Тактика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иль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Школа стратег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Иерарх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Нормы и тради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Change manage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Честер Барнард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. Саймон и Д. Марч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ложный биологический организм со специфической структурой и централизованной системой координац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. Блау и У. Скотт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группа людей, обладающих специфической формализованной структурой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. Этциони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552760"/>
            <a:ext cx="76932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ше определен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332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49"/>
          <p:cNvPicPr/>
          <p:nvPr/>
        </p:nvPicPr>
        <p:blipFill>
          <a:blip r:embed="rId1"/>
          <a:stretch/>
        </p:blipFill>
        <p:spPr>
          <a:xfrm>
            <a:off x="861840" y="3660840"/>
            <a:ext cx="1946520" cy="302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051"/>
          <p:cNvPicPr/>
          <p:nvPr/>
        </p:nvPicPr>
        <p:blipFill>
          <a:blip r:embed="rId2"/>
          <a:stretch/>
        </p:blipFill>
        <p:spPr>
          <a:xfrm>
            <a:off x="6330960" y="3240000"/>
            <a:ext cx="2352600" cy="3314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6320" y="2362320"/>
            <a:ext cx="75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устранении противоречия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1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2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4429080" y="4503600"/>
            <a:ext cx="457200" cy="14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49"/>
          <p:cNvPicPr/>
          <p:nvPr/>
        </p:nvPicPr>
        <p:blipFill>
          <a:blip r:embed="rId1"/>
          <a:stretch/>
        </p:blipFill>
        <p:spPr>
          <a:xfrm>
            <a:off x="7867800" y="330120"/>
            <a:ext cx="1012680" cy="157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9480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целя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средства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х достижения: чего конкретно я хочу и как этого достичь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Идея (образ)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Цель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Сред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56" name="Picture 5" descr="433"/>
          <p:cNvPicPr/>
          <p:nvPr/>
        </p:nvPicPr>
        <p:blipFill>
          <a:blip r:embed="rId2"/>
          <a:stretch/>
        </p:blipFill>
        <p:spPr>
          <a:xfrm>
            <a:off x="3591000" y="3863880"/>
            <a:ext cx="261936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809"/>
          <p:cNvPicPr/>
          <p:nvPr/>
        </p:nvPicPr>
        <p:blipFill>
          <a:blip r:embed="rId3"/>
          <a:stretch/>
        </p:blipFill>
        <p:spPr>
          <a:xfrm>
            <a:off x="5965920" y="4060800"/>
            <a:ext cx="2098440" cy="22557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58" name="Picture 7" descr="959"/>
          <p:cNvPicPr/>
          <p:nvPr/>
        </p:nvPicPr>
        <p:blipFill>
          <a:blip r:embed="rId4"/>
          <a:stretch/>
        </p:blipFill>
        <p:spPr>
          <a:xfrm>
            <a:off x="750960" y="3719520"/>
            <a:ext cx="2778120" cy="24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526"/>
          <p:cNvPicPr/>
          <p:nvPr/>
        </p:nvPicPr>
        <p:blipFill>
          <a:blip r:embed="rId5"/>
          <a:stretch/>
        </p:blipFill>
        <p:spPr>
          <a:xfrm>
            <a:off x="6053040" y="3517920"/>
            <a:ext cx="2498760" cy="255744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pic>
        <p:nvPicPr>
          <p:cNvPr id="160" name="Picture 9" descr="b15"/>
          <p:cNvPicPr/>
          <p:nvPr/>
        </p:nvPicPr>
        <p:blipFill>
          <a:blip r:embed="rId6"/>
          <a:stretch/>
        </p:blipFill>
        <p:spPr>
          <a:xfrm>
            <a:off x="5823000" y="3457440"/>
            <a:ext cx="3321000" cy="195588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51"/>
          <p:cNvPicPr/>
          <p:nvPr/>
        </p:nvPicPr>
        <p:blipFill>
          <a:blip r:embed="rId1"/>
          <a:stretch/>
        </p:blipFill>
        <p:spPr>
          <a:xfrm>
            <a:off x="7780320" y="297000"/>
            <a:ext cx="1468440" cy="206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Интерпретации 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Альтернативы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Жизненные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состояния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желаний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  цели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65" name="Picture 5" descr="055"/>
          <p:cNvPicPr/>
          <p:nvPr/>
        </p:nvPicPr>
        <p:blipFill>
          <a:blip r:embed="rId2"/>
          <a:stretch/>
        </p:blipFill>
        <p:spPr>
          <a:xfrm>
            <a:off x="785880" y="3316320"/>
            <a:ext cx="1504800" cy="157968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6" name="Picture 6" descr="227"/>
          <p:cNvPicPr/>
          <p:nvPr/>
        </p:nvPicPr>
        <p:blipFill>
          <a:blip r:embed="rId3"/>
          <a:stretch/>
        </p:blipFill>
        <p:spPr>
          <a:xfrm>
            <a:off x="1185840" y="3697200"/>
            <a:ext cx="1522440" cy="19083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7" name="Picture 7" descr="146"/>
          <p:cNvPicPr/>
          <p:nvPr/>
        </p:nvPicPr>
        <p:blipFill>
          <a:blip r:embed="rId4"/>
          <a:stretch/>
        </p:blipFill>
        <p:spPr>
          <a:xfrm>
            <a:off x="1503360" y="3875040"/>
            <a:ext cx="1311120" cy="2104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8" name="Picture 8" descr="959"/>
          <p:cNvPicPr/>
          <p:nvPr/>
        </p:nvPicPr>
        <p:blipFill>
          <a:blip r:embed="rId5"/>
          <a:stretch/>
        </p:blipFill>
        <p:spPr>
          <a:xfrm>
            <a:off x="3665520" y="3352680"/>
            <a:ext cx="1743120" cy="15336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9" name="Picture 9" descr="972"/>
          <p:cNvPicPr/>
          <p:nvPr/>
        </p:nvPicPr>
        <p:blipFill>
          <a:blip r:embed="rId6"/>
          <a:stretch/>
        </p:blipFill>
        <p:spPr>
          <a:xfrm>
            <a:off x="3537000" y="3479760"/>
            <a:ext cx="2124000" cy="20401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0" name="Picture 10" descr="610"/>
          <p:cNvPicPr/>
          <p:nvPr/>
        </p:nvPicPr>
        <p:blipFill>
          <a:blip r:embed="rId7"/>
          <a:stretch/>
        </p:blipFill>
        <p:spPr>
          <a:xfrm>
            <a:off x="3298680" y="3686040"/>
            <a:ext cx="2443320" cy="2286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1" name="Picture 11" descr="015"/>
          <p:cNvPicPr/>
          <p:nvPr/>
        </p:nvPicPr>
        <p:blipFill>
          <a:blip r:embed="rId8"/>
          <a:stretch/>
        </p:blipFill>
        <p:spPr>
          <a:xfrm>
            <a:off x="5800680" y="3305160"/>
            <a:ext cx="3308400" cy="20732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2" name="Picture 12" descr="011"/>
          <p:cNvPicPr/>
          <p:nvPr/>
        </p:nvPicPr>
        <p:blipFill>
          <a:blip r:embed="rId9"/>
          <a:stretch/>
        </p:blipFill>
        <p:spPr>
          <a:xfrm>
            <a:off x="5999040" y="3340080"/>
            <a:ext cx="2800440" cy="26049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3" name="Picture 13" descr="a27"/>
          <p:cNvPicPr/>
          <p:nvPr/>
        </p:nvPicPr>
        <p:blipFill>
          <a:blip r:embed="rId10"/>
          <a:stretch/>
        </p:blipFill>
        <p:spPr>
          <a:xfrm>
            <a:off x="5921280" y="3543480"/>
            <a:ext cx="3029040" cy="24285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7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СЛОВИ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а есть только 5 рублей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Что делать? Кто виноват?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СТРУКЦИЮ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продать машину… Что потом?.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ЛЬТЕРНАТИВУ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 Или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ли уговорить кредиторов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ождать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ЪЕКТИВНОЕ ПРОТИВОРЕЧИЕ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субъективных позиций сторон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редиторы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ы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тересы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cc99ff"/>
                </a:solidFill>
                <a:latin typeface="Century Gothic"/>
              </a:rPr>
              <a:t>Получить деньги?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азвивать свой бизнес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зиции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0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Нет денег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к формулировать проблемы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1" name="Picture 4" descr="BDOGRUN"/>
          <p:cNvPicPr/>
          <p:nvPr/>
        </p:nvPicPr>
        <p:blipFill>
          <a:blip r:embed="rId1"/>
          <a:stretch/>
        </p:blipFill>
        <p:spPr>
          <a:xfrm flipH="1">
            <a:off x="6279840" y="5783400"/>
            <a:ext cx="3406680" cy="596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0:14:55Z</dcterms:created>
  <dc:creator>Plotnikov</dc:creator>
  <dc:description/>
  <dc:language>en-US</dc:language>
  <cp:lastModifiedBy>LEGION</cp:lastModifiedBy>
  <dcterms:modified xsi:type="dcterms:W3CDTF">2016-01-11T10:03:47Z</dcterms:modified>
  <cp:revision>74</cp:revision>
  <dc:subject/>
  <dc:title></dc:title>
</cp:coreProperties>
</file>