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png" ContentType="image/png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gif" ContentType="image/gif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move the slide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D483-8DC6-497F-9989-31A3F101E40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иков Михаил Вячеслав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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отников Михаил Вячеславови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сква, 2005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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еша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наиболее действенных способов решения проблем является индуктивный синте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решать проблем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дним из наиболее действенных способов решения проблем является индуктивный синтез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ек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фор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мпир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диалек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ерменев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афор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ческий синтез основывается на практической деятельности и, прежде всего, экспери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мпирический синтез основывается на практической деятельности и, прежде всего, эксперимент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Сотрудники будут формулировать личные интересы, конгруэнтные целям организации, если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Сотрудники будут формулировать личные интересы, конгруэнтные целям организации, если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ектический синтез основывается на поиске новой точки зрения, прежде всего нового уровня агрегирования 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диалек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Единство и борьба противопол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рицание отриц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ереход количества в ка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Диалектический синтез основывается на поиске новой точки зрения, прежде всего нового уровня агрегирования зна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аконы диалектик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1. Единство и борьба противоположносте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2. Отрицание отрица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3. Переход количества в качество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 синтез направлен на предложение максимально широкой объясняющей конструкции, учитывающей все возможные интере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герменевтики – поместить противоречие в объяснимые рам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ерменевтический синтез направлен на предложение максимально широкой объясняющей конструкции, учитывающей все возможные интерес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лавная задача герменевтики – поместить противоречие в объяснимые рамк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ема 2. Теория п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ee the world in a grain of san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eaven in a wild flower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Infinity in the palm of your han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Eternity in an hour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Bl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Тема 2. Теория по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To see the world in a grain of sand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And Heaven in a wild flower –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Hold Infinity in the palm of your hand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And Eternity in an hour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William Blake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форический 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афорический синтез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 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ческий синтез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имеет смысл только при наличии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: какие следствия практики противопоставлять друг друг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Только те, которые уже противоречат друг другу – «не умножайте сущностей»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имеет смысл только при наличии проблем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опрос: какие следствия практики противопоставлять друг другу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вет: Только те, которые уже противоречат друг другу – «не умножайте сущностей»…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тивное исследование: проблема уже есть, цель – решить её как можно скор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е исследование: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активное исследование: проблема уже есть, цель – решить её как можно скоре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активное исследование: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нау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п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н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 дире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, СЕ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и п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среднего и низового зв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ние, общая стратегия, SM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ы и бюджеты, т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и 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а, новый взгл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ы (диаграм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 (в числ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неджмент – наука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по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Уровни 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учные теор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актические 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онсультант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вет директоров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бственник, СЕО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аместители по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неджеры среднего и низового звен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идение, общая стратегия, SMARTER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аны и бюджеты, такт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андарты и нор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ка, новый взгляд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зоры (диаграммы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четы (в числах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блюде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зультат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иков Михаил Вячеслав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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отников Михаил Вячеславови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сква, 2005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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немного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Философия и 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новные философские проблемы, связанные с организация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рганизаций в жизни человека 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взаим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Еще немного проблем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ма 3. Философия и 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и основные философские проблемы, связанные с организациям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начение организаций в жизни человека и обществ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з нас состоит членом какой-либо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как личность всецело является продуктом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открыт суггес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общества и програм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, идентичность и индивидуа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ормирование и дестру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наче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ждый из нас состоит членом какой-либо организации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ловек как личность всецело является продуктом обществ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ловек открыт суггестии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ультура общества и программ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личность, идентичность и индивидуальность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ормирование и деструкц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взаим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в ответе за тех, кого приручил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сть и иерарх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 и завис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диле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«Мы в ответе за тех, кого приручили…»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ласть и иерарх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ах и зависимость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ман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анипуляц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ческие дилеммы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части и цел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уровня агрег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е нау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отношение части и целого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 уровня агрегирования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онное науч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Организация в фокусе научного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фундаментальные науки, изучающие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ма 4. Организация в фокусе научного исследов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и фундаментальные науки, изучающие организац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ого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зда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аспределе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ерераспределени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щественного благ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 (мышл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а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вед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тивы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уч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лексы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лексия (мышление)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еативнос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уктура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заимодейств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ношения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лия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следств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Есть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Хочу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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–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организовы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– организованное 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– это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руппа людей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цесс организовывания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зультат – организованное состояни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поним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Уровни понимания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уктур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ультур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атег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стер Барн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вместные действия и коопер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стер Барнард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совместные действия и кооперация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Саймон и Д. Мар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рганизм и координ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сложный биологический организм со специфической структурой и централизованной системой координ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. Саймон и Д. Мар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организм и координация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сложный биологический организм со специфической структурой и централизованной системой координац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Блау и У. Ско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ормализованная структу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группа людей, обладающих специфической формализованной струк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. Блау и У. Скотт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формализованная структура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группа людей, обладающих специфической формализованной структуро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Этци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знательное членство и действ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. Этцион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сознательное членство и действие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е определение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аше определение организац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роблемы состоит в устранении противоречия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 №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шение проблемы состоит в устранении противоречия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ход №1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ход №2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!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м случае ключевыми становятся вопросы о целях и средствах их достижения: чего конкретно я хочу и как этого дости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я (образ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 первом случае ключевыми становятся вопросы о целях и средствах их достижения: чего конкретно я хочу и как этого достичь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дея (образ)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Цель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редств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тернатив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жел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нтерпретации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льтернатив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Жизненны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стояния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   желаний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     цел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СЛОВИЯ и ЦЕЛЬ: Надо $10000, а есть только 5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ОПРОС: Что делать? Кто винова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СТРУКЦИЮ: Надо продать машину… Что потом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АЛЬТЕРНАТИВУ:  Или $10000 или уговорить кредитор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ж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БЪЕКТИВНОЕ ПРОТИВОРЕЧИЕ субъективных позиций стор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деньги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й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 УДОВЛЕТВОРЕНИЕ ИНТЕРЕСОВ КРЕДИ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$1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формулирова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УСЛОВИЯ и ЦЕЛЬ: Надо $10000, а есть только 5 рубле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ВОПРОС: Что делать? Кто виноват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НСТРУКЦИЮ: Надо продать машину… Что потом?.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АЛЬТЕРНАТИВУ:  Или $10000 или уговорить кредиторов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ождать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ОБЪЕКТИВНОЕ ПРОТИВОРЕЧИЕ субъективных позиций сторон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едитор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нтерес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лучить деньги?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азвивать свой бизнес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: УДОВЛЕТВОРЕНИЕ ИНТЕРЕСОВ КРЕДИТОРОВ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зиции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$10000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ет денег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формулировать проблем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7E6-0A8F-4BE9-8E35-4302284A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C2C-C40C-444C-BCA3-9EB62FB7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CAF0-3C6D-48D3-A64A-6D725962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9DE-BEAD-4D2F-952C-A5C0C0AC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D3BF-BF88-4F7F-9401-BAAFE6CF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E1EB-7A1F-4651-954A-00702DB3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A847-312B-47C9-ADDA-32F876E2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0C34-7F2C-4337-86F1-5BCFE080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F88C-1F33-4419-ADF2-A9494379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30D0-5B6F-4B47-8DB5-369ABCB9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EE88-4542-4C02-87C2-6DA5908A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5798-5BE9-4492-A7A3-F0802FC8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3932-D98A-4744-B37E-2BF8EA49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B29E-56BD-41EB-BD73-E178CF1B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2C37-47A6-4F85-86F8-FFA59103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4AF3-C294-45CB-8FCC-F4321A4F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D7DB-0908-46CF-9AEF-874E8D8A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273-1E44-4523-BF59-6657AD93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C3E8-B462-45EA-B79F-7A2DA3D3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AB7-CC0E-4AA9-B479-FF90E1A3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2FF-FA17-460C-BDF1-2CE9B73B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8970-5EF7-471B-9735-DD280E3B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4FD-5E91-4EDF-80C2-76325F24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E05-C684-4045-B4A1-0CD1C277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91A8-8DAA-4DD6-87CD-6D000406AD6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5883840" y="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Century Gothic"/>
              </a:rPr>
              <a:t>2005 </a:t>
            </a:r>
            <a:r>
              <a:rPr b="1" lang="ru-RU" sz="1800" spc="-1" strike="noStrike">
                <a:solidFill>
                  <a:srgbClr val="666699"/>
                </a:solidFill>
                <a:latin typeface="Symbol"/>
                <a:ea typeface="Symbol"/>
              </a:rPr>
              <a:t></a:t>
            </a:r>
            <a:r>
              <a:rPr b="1" lang="ru-RU" sz="1800" spc="-1" strike="noStrike">
                <a:solidFill>
                  <a:srgbClr val="666699"/>
                </a:solidFill>
                <a:latin typeface="Century Gothic"/>
              </a:rPr>
              <a:t> Плотников Михаил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CD2C-AF4F-47F6-8084-F4E87418691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635280" y="4724280"/>
            <a:ext cx="51134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Symbol"/>
                <a:ea typeface="Symbol"/>
              </a:rPr>
              <a:t>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Плотников Михаил Вячеславович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Москва, 2005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492360" y="4221000"/>
            <a:ext cx="136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7000"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66cc"/>
                </a:solidFill>
                <a:latin typeface="Animals 1"/>
                <a:ea typeface="Animals 1"/>
              </a:rPr>
              <a:t></a:t>
            </a:r>
            <a:endParaRPr b="0" lang="en-US" sz="1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85" name="Picture 4" descr="dino_anim"/>
          <p:cNvPicPr/>
          <p:nvPr/>
        </p:nvPicPr>
        <p:blipFill>
          <a:blip r:embed="rId1"/>
          <a:stretch/>
        </p:blipFill>
        <p:spPr>
          <a:xfrm flipH="1">
            <a:off x="6862320" y="4929120"/>
            <a:ext cx="2073240" cy="19288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92" name="Picture 4" descr="bottle"/>
          <p:cNvPicPr/>
          <p:nvPr/>
        </p:nvPicPr>
        <p:blipFill>
          <a:blip r:embed="rId1"/>
          <a:stretch/>
        </p:blipFill>
        <p:spPr>
          <a:xfrm>
            <a:off x="4083120" y="5253120"/>
            <a:ext cx="1218960" cy="11142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b23"/>
          <p:cNvPicPr/>
          <p:nvPr/>
        </p:nvPicPr>
        <p:blipFill>
          <a:blip r:embed="rId1"/>
          <a:stretch/>
        </p:blipFill>
        <p:spPr>
          <a:xfrm>
            <a:off x="5786280" y="2381400"/>
            <a:ext cx="3532320" cy="3909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Как решать проблемы?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7898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дним из наиболее действенных способов решения проблем является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индуктивны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199" name="Picture 3" descr="679"/>
          <p:cNvPicPr/>
          <p:nvPr/>
        </p:nvPicPr>
        <p:blipFill>
          <a:blip r:embed="rId1"/>
          <a:stretch/>
        </p:blipFill>
        <p:spPr>
          <a:xfrm>
            <a:off x="5286240" y="2421000"/>
            <a:ext cx="4073760" cy="3641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мпир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диалек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герменев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метафор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ри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047"/>
          <p:cNvPicPr/>
          <p:nvPr/>
        </p:nvPicPr>
        <p:blipFill>
          <a:blip r:embed="rId1"/>
          <a:stretch/>
        </p:blipFill>
        <p:spPr>
          <a:xfrm>
            <a:off x="6027840" y="2357280"/>
            <a:ext cx="3116160" cy="3386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Эмпирически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основывается на практической деятельности и, прежде всего, эксперименте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082"/>
          <p:cNvPicPr/>
          <p:nvPr/>
        </p:nvPicPr>
        <p:blipFill>
          <a:blip r:embed="rId1"/>
          <a:stretch/>
        </p:blipFill>
        <p:spPr>
          <a:xfrm>
            <a:off x="5796000" y="3054240"/>
            <a:ext cx="3400560" cy="3525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Сотрудники будут формулировать личные интересы, конгруэнтные целям организации, </a:t>
            </a:r>
            <a:r>
              <a:rPr b="0" i="1" lang="ru-RU" sz="1700" spc="-1" strike="noStrike">
                <a:solidFill>
                  <a:srgbClr val="003366"/>
                </a:solidFill>
                <a:latin typeface="Century Gothic"/>
              </a:rPr>
              <a:t>если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733"/>
          <p:cNvPicPr/>
          <p:nvPr/>
        </p:nvPicPr>
        <p:blipFill>
          <a:blip r:embed="rId1"/>
          <a:stretch/>
        </p:blipFill>
        <p:spPr>
          <a:xfrm>
            <a:off x="5997600" y="2529000"/>
            <a:ext cx="3146400" cy="2765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Диалектический синтез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основывается на поиске новой точки зрения, прежде всего нового уровня агрегирования знания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Законы диалектики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1. Единство и борьба противоположносте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2. Отрицание отрицания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3. Переход количества в качество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Герменевтически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направлен на предложение максимально широкой объясняющей конструкции, учитывающей все возможные интересы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Главная задача герменевтики – поместить противоречие в объяснимые рамки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19" name="Picture 4" descr="b73"/>
          <p:cNvPicPr/>
          <p:nvPr/>
        </p:nvPicPr>
        <p:blipFill>
          <a:blip r:embed="rId1"/>
          <a:stretch/>
        </p:blipFill>
        <p:spPr>
          <a:xfrm>
            <a:off x="5505480" y="2465280"/>
            <a:ext cx="3638520" cy="28958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</a:t>
            </a:r>
            <a:r>
              <a:rPr b="1" lang="en-US" sz="2400" spc="-1" strike="noStrike">
                <a:solidFill>
                  <a:srgbClr val="003366"/>
                </a:solidFill>
                <a:latin typeface="Century Gothic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. Теория по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30240" y="2570040"/>
            <a:ext cx="76280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o see the world in a grain of sand,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And Heaven in a wild flower –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Hold Infinity in the palm of your hand,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And Eternity in an hour…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Century Gothic"/>
              </a:rPr>
              <a:t>William Blake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092"/>
          <p:cNvPicPr/>
          <p:nvPr/>
        </p:nvPicPr>
        <p:blipFill>
          <a:blip r:embed="rId1"/>
          <a:stretch/>
        </p:blipFill>
        <p:spPr>
          <a:xfrm>
            <a:off x="5862600" y="2492280"/>
            <a:ext cx="3281400" cy="3797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016"/>
          <p:cNvPicPr/>
          <p:nvPr/>
        </p:nvPicPr>
        <p:blipFill>
          <a:blip r:embed="rId1"/>
          <a:stretch/>
        </p:blipFill>
        <p:spPr>
          <a:xfrm>
            <a:off x="5437080" y="2519280"/>
            <a:ext cx="3706920" cy="3890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1148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Метафорический синтез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007"/>
          <p:cNvPicPr/>
          <p:nvPr/>
        </p:nvPicPr>
        <p:blipFill>
          <a:blip r:embed="rId1"/>
          <a:stretch/>
        </p:blipFill>
        <p:spPr>
          <a:xfrm>
            <a:off x="6046920" y="2359080"/>
            <a:ext cx="3286080" cy="2438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428"/>
          <p:cNvPicPr/>
          <p:nvPr/>
        </p:nvPicPr>
        <p:blipFill>
          <a:blip r:embed="rId1"/>
          <a:stretch/>
        </p:blipFill>
        <p:spPr>
          <a:xfrm>
            <a:off x="6146640" y="2338560"/>
            <a:ext cx="3102120" cy="3560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Критический синтез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152"/>
          <p:cNvPicPr/>
          <p:nvPr/>
        </p:nvPicPr>
        <p:blipFill>
          <a:blip r:embed="rId1"/>
          <a:stretch/>
        </p:blipFill>
        <p:spPr>
          <a:xfrm>
            <a:off x="5829480" y="2411280"/>
            <a:ext cx="3314520" cy="3314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Исследование имеет смысл только при наличии проблемы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Вопрос: какие следствия практики противопоставлять друг другу?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твет: Только те, которые уже противоречат друг другу – «не умножайте сущностей»…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Реактивное исследование: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проблема уже есть, цель – решить её как можно скорее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Проактивное исследование: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03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49" name="Picture 4" descr="750"/>
          <p:cNvPicPr/>
          <p:nvPr/>
        </p:nvPicPr>
        <p:blipFill>
          <a:blip r:embed="rId1"/>
          <a:stretch/>
        </p:blipFill>
        <p:spPr>
          <a:xfrm>
            <a:off x="5943600" y="2313000"/>
            <a:ext cx="3200400" cy="330516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03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53" name="Picture 4" descr="109"/>
          <p:cNvPicPr/>
          <p:nvPr/>
        </p:nvPicPr>
        <p:blipFill>
          <a:blip r:embed="rId1"/>
          <a:stretch/>
        </p:blipFill>
        <p:spPr>
          <a:xfrm>
            <a:off x="5586480" y="2565360"/>
            <a:ext cx="3557520" cy="285120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256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Менеджмент – наука?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441520"/>
            <a:ext cx="2406600" cy="765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Теория по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Уровни 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835200" y="3424320"/>
            <a:ext cx="2449440" cy="765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Научные теории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835200" y="4440240"/>
            <a:ext cx="2477880" cy="765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Метод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865080" y="5405400"/>
            <a:ext cx="2449800" cy="10479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Практические 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4811760" y="2428920"/>
            <a:ext cx="3892680" cy="722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Консультант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совет директоров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4808520" y="3611520"/>
            <a:ext cx="3906720" cy="4366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Собственник, СЕО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4808520" y="4613400"/>
            <a:ext cx="3921120" cy="450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Заместители по…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838760" y="5635800"/>
            <a:ext cx="3906720" cy="704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енеджеры среднего и низового звен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6429240" y="4043520"/>
            <a:ext cx="0" cy="5713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840120" y="400068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Видение, общая стратегия, </a:t>
            </a:r>
            <a:r>
              <a:rPr b="0" lang="en-US" sz="1800" spc="-1" strike="noStrike">
                <a:solidFill>
                  <a:srgbClr val="003366"/>
                </a:solidFill>
                <a:latin typeface="Century Gothic"/>
              </a:rPr>
              <a:t>SMARTER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6416640" y="5073480"/>
            <a:ext cx="0" cy="5716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3244680" y="508788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Планы и бюджеты, тактика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3262320" y="5835600"/>
            <a:ext cx="16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Стандарты и норм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6404040" y="6357960"/>
            <a:ext cx="0" cy="48564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6415200" y="3200400"/>
            <a:ext cx="0" cy="414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3745080" y="3144960"/>
            <a:ext cx="27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Критика, новый взгляд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6558120" y="4043160"/>
            <a:ext cx="0" cy="571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519960" y="41194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Обзоры (диаграммы)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6564240" y="51213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Отчеты (в числах)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3" name="Line 23"/>
          <p:cNvSpPr/>
          <p:nvPr/>
        </p:nvSpPr>
        <p:spPr>
          <a:xfrm flipV="1">
            <a:off x="6545160" y="5059080"/>
            <a:ext cx="0" cy="571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4" name="Line 24"/>
          <p:cNvSpPr/>
          <p:nvPr/>
        </p:nvSpPr>
        <p:spPr>
          <a:xfrm flipH="1" flipV="1">
            <a:off x="6573600" y="6343560"/>
            <a:ext cx="14040" cy="4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5" name="Line 25"/>
          <p:cNvSpPr/>
          <p:nvPr/>
        </p:nvSpPr>
        <p:spPr>
          <a:xfrm flipV="1">
            <a:off x="6545160" y="314496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6608880" y="64087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Наблюдения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6595920" y="31957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Проблем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8" name="Line 28"/>
          <p:cNvSpPr/>
          <p:nvPr/>
        </p:nvSpPr>
        <p:spPr>
          <a:xfrm flipV="1">
            <a:off x="4451400" y="6297120"/>
            <a:ext cx="396720" cy="18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9" name="Text Box 29"/>
          <p:cNvSpPr/>
          <p:nvPr/>
        </p:nvSpPr>
        <p:spPr>
          <a:xfrm>
            <a:off x="4861080" y="643896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Результат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635280" y="4724280"/>
            <a:ext cx="51134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Symbol"/>
                <a:ea typeface="Symbol"/>
              </a:rPr>
              <a:t>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Плотников Михаил Вячеславович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Москва, 2005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492360" y="4221000"/>
            <a:ext cx="136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7000"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66cc"/>
                </a:solidFill>
                <a:latin typeface="Animals 1"/>
                <a:ea typeface="Animals 1"/>
              </a:rPr>
              <a:t></a:t>
            </a:r>
            <a:endParaRPr b="0" lang="en-US" sz="1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Еще немного проблем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3. Философия и теория организации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941400" y="2611440"/>
            <a:ext cx="708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803160" y="2575080"/>
            <a:ext cx="81057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Три основные философские проблемы, связанные с организациям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Значение организаций в жизни человека и обществ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Значение организац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аждый из нас состоит членом какой-либо организации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человек как личность всецело является продуктом обществ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человек открыт суггестии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ультура общества и программ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личность, идентичность и индивидуальность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реформирование и деструкция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1060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Этика взаимоотношен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«Мы в ответе за тех, кого приручили…»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Власть и иерархия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ах и зависимость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бман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Манипуляция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Этические дилеммы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1060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Исследование организац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оотношение части и целого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проблема уровня агрегирования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рганизационное научение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278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395280" y="1911240"/>
            <a:ext cx="91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4. Организация в фокусе научного исследов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941400" y="2611440"/>
            <a:ext cx="708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803160" y="2575080"/>
            <a:ext cx="8105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Три фундаментальные науки, изучающие организац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Экономик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озда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аспределе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ерераспределение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бщественного благ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87" name="Picture 6" descr="138"/>
          <p:cNvPicPr/>
          <p:nvPr/>
        </p:nvPicPr>
        <p:blipFill>
          <a:blip r:embed="rId1"/>
          <a:stretch/>
        </p:blipFill>
        <p:spPr>
          <a:xfrm>
            <a:off x="5302080" y="3057480"/>
            <a:ext cx="3841920" cy="333684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Психология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оведение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мотивы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научение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флексы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флексия (мышление)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реативнос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91" name="Picture 17" descr="046"/>
          <p:cNvPicPr/>
          <p:nvPr/>
        </p:nvPicPr>
        <p:blipFill>
          <a:blip r:embed="rId1"/>
          <a:stretch/>
        </p:blipFill>
        <p:spPr>
          <a:xfrm>
            <a:off x="6257880" y="2863800"/>
            <a:ext cx="2379600" cy="399420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Социология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труктура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заимодейств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тношения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лия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оследств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grpSp>
        <p:nvGrpSpPr>
          <p:cNvPr id="295" name="Diagram 6"/>
          <p:cNvGrpSpPr/>
          <p:nvPr/>
        </p:nvGrpSpPr>
        <p:grpSpPr>
          <a:xfrm>
            <a:off x="4886640" y="2494800"/>
            <a:ext cx="3138120" cy="2703600"/>
            <a:chOff x="4886640" y="2494800"/>
            <a:chExt cx="3138120" cy="2703600"/>
          </a:xfrm>
        </p:grpSpPr>
        <p:sp>
          <p:nvSpPr>
            <p:cNvPr id="296" name="_s1028"/>
            <p:cNvSpPr/>
            <p:nvPr/>
          </p:nvSpPr>
          <p:spPr>
            <a:xfrm>
              <a:off x="4886640" y="3251520"/>
              <a:ext cx="1947600" cy="1946880"/>
            </a:xfrm>
            <a:prstGeom prst="donut">
              <a:avLst>
                <a:gd name="adj" fmla="val 16666"/>
              </a:avLst>
            </a:prstGeom>
            <a:solidFill>
              <a:srgbClr val="0066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7" name="_s1029"/>
            <p:cNvSpPr/>
            <p:nvPr/>
          </p:nvSpPr>
          <p:spPr>
            <a:xfrm>
              <a:off x="7505640" y="335916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Общество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8" name="_s1030"/>
            <p:cNvSpPr/>
            <p:nvPr/>
          </p:nvSpPr>
          <p:spPr>
            <a:xfrm>
              <a:off x="5211000" y="3575880"/>
              <a:ext cx="1298160" cy="1297800"/>
            </a:xfrm>
            <a:prstGeom prst="donut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9" name="_s1031"/>
            <p:cNvSpPr/>
            <p:nvPr/>
          </p:nvSpPr>
          <p:spPr>
            <a:xfrm>
              <a:off x="7505640" y="292716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Организация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0" name="_s1032"/>
            <p:cNvSpPr/>
            <p:nvPr/>
          </p:nvSpPr>
          <p:spPr>
            <a:xfrm>
              <a:off x="5535720" y="3900600"/>
              <a:ext cx="649080" cy="64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1" name="_s1033"/>
            <p:cNvSpPr/>
            <p:nvPr/>
          </p:nvSpPr>
          <p:spPr>
            <a:xfrm>
              <a:off x="7505640" y="249480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Человек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3763800" y="4762440"/>
            <a:ext cx="1724040" cy="1743120"/>
            <a:chOff x="3763800" y="4762440"/>
            <a:chExt cx="1724040" cy="1743120"/>
          </a:xfrm>
        </p:grpSpPr>
        <p:sp>
          <p:nvSpPr>
            <p:cNvPr id="303" name="Oval 14"/>
            <p:cNvSpPr/>
            <p:nvPr/>
          </p:nvSpPr>
          <p:spPr>
            <a:xfrm>
              <a:off x="3763800" y="4762440"/>
              <a:ext cx="1724040" cy="1743120"/>
            </a:xfrm>
            <a:prstGeom prst="ellipse">
              <a:avLst/>
            </a:prstGeom>
            <a:solidFill>
              <a:srgbClr val="0066cc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4124160" y="5141880"/>
              <a:ext cx="984240" cy="966960"/>
            </a:xfrm>
            <a:prstGeom prst="ellipse">
              <a:avLst/>
            </a:prstGeom>
            <a:solidFill>
              <a:srgbClr val="ffcc00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5" name="Oval 16"/>
            <p:cNvSpPr/>
            <p:nvPr/>
          </p:nvSpPr>
          <p:spPr>
            <a:xfrm>
              <a:off x="4400280" y="5433840"/>
              <a:ext cx="466920" cy="432000"/>
            </a:xfrm>
            <a:prstGeom prst="ellipse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sp>
        <p:nvSpPr>
          <p:cNvPr id="306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48E-006 L 0.10677 -0.18772 E">
                                      <p:cBhvr>
                                        <p:cTn id="329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959"/>
          <p:cNvPicPr/>
          <p:nvPr/>
        </p:nvPicPr>
        <p:blipFill>
          <a:blip r:embed="rId1"/>
          <a:stretch/>
        </p:blipFill>
        <p:spPr>
          <a:xfrm>
            <a:off x="5848200" y="3421080"/>
            <a:ext cx="3295800" cy="289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143" name="Picture 4" descr="055"/>
          <p:cNvPicPr/>
          <p:nvPr/>
        </p:nvPicPr>
        <p:blipFill>
          <a:blip r:embed="rId2"/>
          <a:stretch/>
        </p:blipFill>
        <p:spPr>
          <a:xfrm>
            <a:off x="747720" y="3751200"/>
            <a:ext cx="2543040" cy="26672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74800" y="2362320"/>
            <a:ext cx="765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Проблема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Есть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Хочу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3876840" y="4245120"/>
            <a:ext cx="169992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Gothic"/>
              </a:rPr>
              <a:t>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Gothic"/>
              <a:ea typeface="Century Gothic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entury Gothic"/>
              </a:rPr>
              <a:t>Организация – это:</a:t>
            </a: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Группа людей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Процесс организовывания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Результат – организованное состояние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096720" y="2361960"/>
            <a:ext cx="5434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entury Gothic"/>
              </a:rPr>
              <a:t>Уровни понимания </a:t>
            </a: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уктур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ультур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атеги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1924200"/>
                <a:gridCol w="1922400"/>
                <a:gridCol w="1924200"/>
                <a:gridCol w="192240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Организац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ратег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Группа люде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остав и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backgrou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Ценност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Цел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Процесс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Тактика управлен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иль управлен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Школа стратег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остояни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Иерарх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Нормы и традиц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Change managemen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Честер Барнард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совместные действия и кооперация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Г. Саймон и Д. Марч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организм и координация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сложный биологический организм со специфической структурой и централизованной системой координаци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П. Блау и У. Скотт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формализованная структура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группа людей, обладающих специфической формализованной структурой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А. Этциони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сознательное членство и действие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38080" y="2552760"/>
            <a:ext cx="76932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Ваше определение организац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…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332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049"/>
          <p:cNvPicPr/>
          <p:nvPr/>
        </p:nvPicPr>
        <p:blipFill>
          <a:blip r:embed="rId1"/>
          <a:stretch/>
        </p:blipFill>
        <p:spPr>
          <a:xfrm>
            <a:off x="861840" y="3660840"/>
            <a:ext cx="1946520" cy="302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051"/>
          <p:cNvPicPr/>
          <p:nvPr/>
        </p:nvPicPr>
        <p:blipFill>
          <a:blip r:embed="rId2"/>
          <a:stretch/>
        </p:blipFill>
        <p:spPr>
          <a:xfrm>
            <a:off x="6330960" y="3240000"/>
            <a:ext cx="2352600" cy="3314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6320" y="2362320"/>
            <a:ext cx="755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шение проблемы состоит в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устранении противоречия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одход №1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одход №2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4429080" y="4503600"/>
            <a:ext cx="457200" cy="146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ahoma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ahoma"/>
              <a:ea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049"/>
          <p:cNvPicPr/>
          <p:nvPr/>
        </p:nvPicPr>
        <p:blipFill>
          <a:blip r:embed="rId1"/>
          <a:stretch/>
        </p:blipFill>
        <p:spPr>
          <a:xfrm>
            <a:off x="7867800" y="330120"/>
            <a:ext cx="1012680" cy="1571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94800" cy="42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 первом случае ключевыми становятся вопросы о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целях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и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средствах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их достижения: чего конкретно я хочу и как этого достичь?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Идея (образ)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Цель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Средств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56" name="Picture 5" descr="433"/>
          <p:cNvPicPr/>
          <p:nvPr/>
        </p:nvPicPr>
        <p:blipFill>
          <a:blip r:embed="rId2"/>
          <a:stretch/>
        </p:blipFill>
        <p:spPr>
          <a:xfrm>
            <a:off x="3591000" y="3863880"/>
            <a:ext cx="2619360" cy="2409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809"/>
          <p:cNvPicPr/>
          <p:nvPr/>
        </p:nvPicPr>
        <p:blipFill>
          <a:blip r:embed="rId3"/>
          <a:stretch/>
        </p:blipFill>
        <p:spPr>
          <a:xfrm>
            <a:off x="5965920" y="4060800"/>
            <a:ext cx="2098440" cy="22557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58" name="Picture 7" descr="959"/>
          <p:cNvPicPr/>
          <p:nvPr/>
        </p:nvPicPr>
        <p:blipFill>
          <a:blip r:embed="rId4"/>
          <a:stretch/>
        </p:blipFill>
        <p:spPr>
          <a:xfrm>
            <a:off x="750960" y="3719520"/>
            <a:ext cx="2778120" cy="244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526"/>
          <p:cNvPicPr/>
          <p:nvPr/>
        </p:nvPicPr>
        <p:blipFill>
          <a:blip r:embed="rId5"/>
          <a:stretch/>
        </p:blipFill>
        <p:spPr>
          <a:xfrm>
            <a:off x="6053040" y="3517920"/>
            <a:ext cx="2498760" cy="2557440"/>
          </a:xfrm>
          <a:prstGeom prst="rect">
            <a:avLst/>
          </a:prstGeom>
          <a:ln w="3240">
            <a:solidFill>
              <a:srgbClr val="cc99ff"/>
            </a:solidFill>
            <a:miter/>
          </a:ln>
        </p:spPr>
      </p:pic>
      <p:pic>
        <p:nvPicPr>
          <p:cNvPr id="160" name="Picture 9" descr="b15"/>
          <p:cNvPicPr/>
          <p:nvPr/>
        </p:nvPicPr>
        <p:blipFill>
          <a:blip r:embed="rId6"/>
          <a:stretch/>
        </p:blipFill>
        <p:spPr>
          <a:xfrm>
            <a:off x="5823000" y="3457440"/>
            <a:ext cx="3321000" cy="1955880"/>
          </a:xfrm>
          <a:prstGeom prst="rect">
            <a:avLst/>
          </a:prstGeom>
          <a:ln w="3240">
            <a:solidFill>
              <a:srgbClr val="cc99ff"/>
            </a:solidFill>
            <a:miter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051"/>
          <p:cNvPicPr/>
          <p:nvPr/>
        </p:nvPicPr>
        <p:blipFill>
          <a:blip r:embed="rId1"/>
          <a:stretch/>
        </p:blipFill>
        <p:spPr>
          <a:xfrm>
            <a:off x="7780320" y="297000"/>
            <a:ext cx="1468440" cy="2068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Интерпретации 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Альтернативы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Жизненные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состояния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    желаний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      цели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65" name="Picture 5" descr="055"/>
          <p:cNvPicPr/>
          <p:nvPr/>
        </p:nvPicPr>
        <p:blipFill>
          <a:blip r:embed="rId2"/>
          <a:stretch/>
        </p:blipFill>
        <p:spPr>
          <a:xfrm>
            <a:off x="785880" y="3316320"/>
            <a:ext cx="1504800" cy="157968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6" name="Picture 6" descr="227"/>
          <p:cNvPicPr/>
          <p:nvPr/>
        </p:nvPicPr>
        <p:blipFill>
          <a:blip r:embed="rId3"/>
          <a:stretch/>
        </p:blipFill>
        <p:spPr>
          <a:xfrm>
            <a:off x="1185840" y="3697200"/>
            <a:ext cx="1522440" cy="19083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7" name="Picture 7" descr="146"/>
          <p:cNvPicPr/>
          <p:nvPr/>
        </p:nvPicPr>
        <p:blipFill>
          <a:blip r:embed="rId4"/>
          <a:stretch/>
        </p:blipFill>
        <p:spPr>
          <a:xfrm>
            <a:off x="1503360" y="3875040"/>
            <a:ext cx="1311120" cy="21049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8" name="Picture 8" descr="959"/>
          <p:cNvPicPr/>
          <p:nvPr/>
        </p:nvPicPr>
        <p:blipFill>
          <a:blip r:embed="rId5"/>
          <a:stretch/>
        </p:blipFill>
        <p:spPr>
          <a:xfrm>
            <a:off x="3665520" y="3352680"/>
            <a:ext cx="1743120" cy="15336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9" name="Picture 9" descr="972"/>
          <p:cNvPicPr/>
          <p:nvPr/>
        </p:nvPicPr>
        <p:blipFill>
          <a:blip r:embed="rId6"/>
          <a:stretch/>
        </p:blipFill>
        <p:spPr>
          <a:xfrm>
            <a:off x="3537000" y="3479760"/>
            <a:ext cx="2124000" cy="20401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0" name="Picture 10" descr="610"/>
          <p:cNvPicPr/>
          <p:nvPr/>
        </p:nvPicPr>
        <p:blipFill>
          <a:blip r:embed="rId7"/>
          <a:stretch/>
        </p:blipFill>
        <p:spPr>
          <a:xfrm>
            <a:off x="3298680" y="3686040"/>
            <a:ext cx="2443320" cy="22860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1" name="Picture 11" descr="015"/>
          <p:cNvPicPr/>
          <p:nvPr/>
        </p:nvPicPr>
        <p:blipFill>
          <a:blip r:embed="rId8"/>
          <a:stretch/>
        </p:blipFill>
        <p:spPr>
          <a:xfrm>
            <a:off x="5800680" y="3305160"/>
            <a:ext cx="3308400" cy="207324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2" name="Picture 12" descr="011"/>
          <p:cNvPicPr/>
          <p:nvPr/>
        </p:nvPicPr>
        <p:blipFill>
          <a:blip r:embed="rId9"/>
          <a:stretch/>
        </p:blipFill>
        <p:spPr>
          <a:xfrm>
            <a:off x="5999040" y="3340080"/>
            <a:ext cx="2800440" cy="26049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3" name="Picture 13" descr="a27"/>
          <p:cNvPicPr/>
          <p:nvPr/>
        </p:nvPicPr>
        <p:blipFill>
          <a:blip r:embed="rId10"/>
          <a:stretch/>
        </p:blipFill>
        <p:spPr>
          <a:xfrm>
            <a:off x="5921280" y="3543480"/>
            <a:ext cx="3029040" cy="24285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72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УСЛОВИЯ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Надо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а есть только 5 рублей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ОПРОС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Что делать? Кто виноват?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НСТРУКЦИЮ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Надо продать машину… Что потом?.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АЛЬТЕРНАТИВУ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 Или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или уговорить кредиторов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дождать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ОБЪЕКТИВНОЕ ПРОТИВОРЕЧИЕ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субъективных позиций сторон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Кредиторы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ы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нтересы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cc99ff"/>
                </a:solidFill>
                <a:latin typeface="Century Gothic"/>
              </a:rPr>
              <a:t>Получить деньги?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Развивать свой бизнес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ОБЛЕМА: УДОВЛЕТВОРЕНИЕ ИНТЕРЕСОВ КРЕДИТОРОВ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озиции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0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Нет денег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ак формулировать проблемы?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81" name="Picture 4" descr="BDOGRUN"/>
          <p:cNvPicPr/>
          <p:nvPr/>
        </p:nvPicPr>
        <p:blipFill>
          <a:blip r:embed="rId1"/>
          <a:stretch/>
        </p:blipFill>
        <p:spPr>
          <a:xfrm flipH="1">
            <a:off x="6279840" y="5783400"/>
            <a:ext cx="3406680" cy="5968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20:14:55Z</dcterms:created>
  <dc:creator>Plotnikov</dc:creator>
  <dc:description/>
  <dc:language>en-US</dc:language>
  <cp:lastModifiedBy>LEGION</cp:lastModifiedBy>
  <dcterms:modified xsi:type="dcterms:W3CDTF">2016-01-11T10:03:47Z</dcterms:modified>
  <cp:revision>74</cp:revision>
  <dc:subject/>
  <dc:title></dc:title>
</cp:coreProperties>
</file>