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F9AD-AD19-43E5-B9B8-6C036BBB31C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содержание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тегориальный аппарат теори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Цели теори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волюция управленческой мы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и содержание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атегориальный аппарат теории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Цели теории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Эволюция управленческой мы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управления – это логическая схема управленческой деятельности, предполагающая взаимосвязанное понимание целей, ориентиров, а также средств и способов их достижения.  Это еще и умение видеть, распознавать, понимать, оценивать и учитывать зависимости, которые и раскрывают содержание проблем, и подсказывают пути их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, характеризующие содержание методологии управления: подходы, парадигмы, проблемы, приоритеты, ориентиры, критерии, альтернативы, процедуры выбора, средства и методы управления, а также ограни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ология управления – это логическая схема управленческой деятельности, предполагающая взаимосвязанное понимание целей, ориентиров, а также средств и способов их достижения.  Это еще и умение видеть, распознавать, понимать, оценивать и учитывать зависимости, которые и раскрывают содержание проблем, и подсказывают пути их реш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оненты, характеризующие содержание методологии управления: подходы, парадигмы, проблемы, приоритеты, ориентиры, критерии, альтернативы, процедуры выбора, средства и методы управления, а также огранич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дигма (греч. Paradeigma – пример, образец) – исходная концептуальная схема, система понятий, отражающая осмысление существенных черт действительности, модель постановки проблем и их решения, выбора соответствующих методов, господствующая в научном сообществе в течение определенного исторического периода и знаменующая собой определенный этап в развитии теории. .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 рационализм Ф. Тейлора Функциональная дифференциация А. Файоля М. Вебера и др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парадигме управления превалирует роль человеческой личности с учетом процессов глобализации и с акцентом на управление знаниями, на сетевые, партнерские принципы взаимо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адигма (греч. Paradeigma – пример, образец) – исходная концептуальная схема, система понятий, отражающая осмысление существенных черт действительности, модель постановки проблем и их решения, выбора соответствующих методов, господствующая в научном сообществе в течение определенного исторического периода и знаменующая собой определенный этап в развитии теории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ий рационализм Ф. Тейлора Функциональная дифференциация А. Файоля М. Вебера и др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парадигме управления превалирует роль человеческой личности с учетом процессов глобализации и с акцентом на управление знаниями, на сетевые, партнерские принципы взаимодейств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аиболее важных аспектов управленческих отношений, возникающих в рамках управленческих взаимо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основных тенденций развития социальны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развития управленческих отношений в социальных общностях и организ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рекомендаций по совершенствованию методов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наиболее важных аспектов управленческих отношений, возникающих в рамках управленческих взаимодейств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основных тенденций развития социальных процес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нозирование развития управленческих отношений в социальных общностях и организация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рекомендаций по совершенствованию методов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о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ст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управления – это совокупность управленческих действий, предпринимаемых руководителями при выполнении управленческих функций в организаци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управл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нават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оч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лад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ност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т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управления – это совокупность управленческих действий, предпринимаемых руководителями при выполнении управленческих функций в организации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– это способы выполнения перечисленных выше функций.  Они различаются по содержанию: административные, (организационно-распорядительные), экономические и социально-психологически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о разграничить каждый метод не представляется возможным: они взаимно проникают друг в друга и имеют немало общих черт.  В то же время присущие им различия в способах воздействия на объекты управления позволяют рассматривать их в отд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 управления – это способы выполнения перечисленных выше функций.  Они различаются по содержанию: административные, (организационно-распорядительные), экономические и социально-психологические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тко разграничить каждый метод не представляется возможным: они взаимно проникают друг в друга и имеют немало общих черт.  В то же время присущие им различия в способах воздействия на объекты управления позволяют рассматривать их в отд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одели управления организ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одели управления организ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есть одновременно элемент и функция организованных систем различной природы (биологических, социальных, технических и др.).  Управление присуще любому обществу или его отдельному элементу (организации, коллективу, подразделению, городу, региону).  Необходимость управления вытекает из системной природы объ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закономерности выявлены кибернетикой, наукой об общих принципах и методах управления сложными системами в природе, технике и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критерии управления – рациональность и целесообра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щенко Е.В. и др. Теория управления.  М., 1997.  С. 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есть одновременно элемент и функция организованных систем различной природы (биологических, социальных, технических и др.).  Управление присуще любому обществу или его отдельному элементу (организации, коллективу, подразделению, городу, региону).  Необходимость управления вытекает из системной природы объ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закономерности выявлены кибернетикой, наукой об общих принципах и методах управления сложными системами в природе, технике и обществ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ые критерии управления – рациональность и целесообраз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ущенко Е.В. и др. Теория управления.  М., 1997.  С. 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 это внутреннее свойство общественной системы, основанное на разделении труда, которое является результатом удовлетворения потребности  обмена продуктами материальной и духов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 К. // Маркс К., Энгельс Ф.  Соч. 2-е изд.  Т.23.  1960. С.  9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 функция организованных систем различной природы (биологических, социальных, технических), обеспечивающая сохранение их определенной структуры, поддержание режима активности, реализацию программы, цели деятельно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щенко Е.В., Захарова Е.В., Тихонравов Ю.В.  Теория управления: Учебный курс.  М., 1997. С. 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- это внутреннее свойство общественной системы, основанное на разделении труда, которое является результатом удовлетворения потребности  обмена продуктами материальной и духов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ркс К. // Маркс К., Энгельс Ф.  Соч. 2-е изд.  Т.23.  1960. С.  9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- функция организованных систем различной природы (биологических, социальных, технических), обеспечивающая сохранение их определенной структуры, поддержание режима активности, реализацию программы, цели деятельност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ущенко Е.В., Захарова Е.В., Тихонравов Ю.В.  Теория управления: Учебный курс.  М., 1997. С. 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это наука об эффективном управлении предприятием; она включает в себя учение о принципах организации предприятия (юридическая часть), о стратегии его развития (идеологическая часть), о подборе персонала (социологическая часть) и способах оптимизации его работы (психологическая час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- процесс руководства (управления) отдельным работником, рабочей группой, рабочим коллективом для достижения целей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мент – это наука об эффективном управлении предприятием; она включает в себя учение о принципах организации предприятия (юридическая часть), о стратегии его развития (идеологическая часть), о подборе персонала (социологическая часть) и способах оптимизации его работы (психологическая част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мент - процесс руководства (управления) отдельным работником, рабочей группой, рабочим коллективом для достижения цел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управления создает, систематизирует, и распространяет знания о том,  как осуществлять управленческую деятельность.  Это пограничная наука; она сочетает в себе элементы экономики, социологии, психологии, кибернетики, информатики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науки управления являются управленческие отношения, в которых проявляются одновременно экономические, политические и социальные отношения и интересы.  Они выражаются в воздействии на общество или на его отдельные элементы с целью их упорядочения., сохранения качественной специфики, совершенствования 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управления.  Учебник / Под общ. редакцией А.Л. Гапоненко, А.П. Панкрух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управления создает, систематизирует, и распространяет знания о том,  как осуществлять управленческую деятельность.  Это пограничная наука; она сочетает в себе элементы экономики, социологии, психологии, кибернетики, информатики и п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ом науки управления являются управленческие отношения, в которых проявляются одновременно экономические, политические и социальные отношения и интересы.  Они выражаются в воздействии на общество или на его отдельные элементы с целью их упорядочения., сохранения качественной специфики, совершенствования и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управления.  Учебник / Под общ. редакцией А.Л. Гапоненко, А.П. Панкрух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управления – это наука о наиболее общих принципах и методах управления социальными общностями, содержании и форме управленческих отношений, закономерностях их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ом ТУ являются системы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ТУ являются управленческие отношения, возникающие между субъектом и объектом управления в рамках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управления – это наука о наиболее общих принципах и методах управления социальными общностями, содержании и форме управленческих отношений, закономерностях их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ом ТУ являются системы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ом ТУ являются управленческие отношения, возникающие между субъектом и объектом управления в рамках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социальное – один из основных видов управления, функция которого заключается в обеспечении реализации потребностей прогрессивного развития общества и его подсистем.  (Лагуста, с. 54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С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управления – управляющая подсистема (орган управления, руководитель), оказывающий воздействие на объек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управления - управляемая подсистема  (общественные отношения, социальные организации, люди), воспринимающая воздействие со стороны субъекта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 между субъектом и объектом управления осуществляется с помощью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ли субъект управления на другом уровне рассматриваться как объект упра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социальное – один из основных видов управления, функция которого заключается в обеспечении реализации потребностей прогрессивного развития общества и его подсистем.  (Лагуста, с. 54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вида С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упр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орган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бъект управления – управляющая подсистема (орган управления, руководитель), оказывающий воздействие на объект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 управления - управляемая подсистема  (общественные отношения, социальные организации, люди), воспринимающая воздействие со стороны субъекта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язь между субъектом и объектом управления осуществляется с помощью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ли субъект управления на другом уровне рассматриваться как объект управл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– совокупность или группа элементов, организованная для определенной цели, в которой изменение одного затрагивает другие или все осталь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– упорядочение элементов в определенную относительно постоянную модель или взаимосвязь социальных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правления – желаемое состояние системы, которое должно быть получено в результате управленческ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рганизация группа людей, деятельность которых направлена на достижение общей цели.  Организация, имеющая набор взаимосвязанных целей называется сло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– совокупность или группа элементов, организованная для определенной цели, в которой изменение одного затрагивает другие или все остальные элем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– упорядочение элементов в определенную относительно постоянную модель или взаимосвязь социальных элем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управления – желаемое состояние системы, которое должно быть получено в результате управленческого воздейств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организация группа людей, деятельность которых направлена на достижение общей цели.  Организация, имеющая набор взаимосвязанных целей называется слож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ойства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Целостность - все части системы объединены, составляя в результате единое целое благодаря наличию ряда признаков: общности цели создания и функционирования (целевой), расположения (территориальный) или управления (организационны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Важным свойством любой системы является бесконечность, под которой понимается невозможность ее полного познания и всестороннего представления конечным  множеством описаний, то есть конечным числом качественных и количественных характерист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взаимозависимость структуры и среды (система формирует и проявляет свои свойства в процессе взаимодействия со средой, являясь при этом ведущим активным компонентом взаимодейств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ерархичность (каждый компонент системы в свою очередь может рассматриваться как система, а исследуемая в конкретном случае система представляет собой один из компонентов более широкой, глобальной систем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множественность описания каждой системы (в силу принципиальной сложности каждой системы ее адекватное познание требует построения множества различных моделей, каждая из которых описывает лишь определенный аспект систем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непреры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ования и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стремление к состоянию равновесия и устойчив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стремление к дифференциации и моби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свойства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 Целостность - все части системы объединены, составляя в результате единое целое благодаря наличию ряда признаков: общности цели создания и функционирования (целевой), расположения (территориальный) или управления (организационны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 Важным свойством любой системы является бесконечность, под которой понимается невозможность ее полного познания и всестороннего представления конечным  множеством описаний, то есть конечным числом качественных и количественных характеристи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взаимозависимость структуры и среды (система формирует и проявляет свои свойства в процессе взаимодействия со средой, являясь при этом ведущим активным компонентом взаимодействия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иерархичность (каждый компонент системы в свою очередь может рассматриваться как система, а исследуемая в конкретном случае система представляет собой один из компонентов более широкой, глобальной систем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множественность описания каждой системы (в силу принципиальной сложности каждой системы ее адекватное познание требует построения множества различных моделей, каждая из которых описывает лишь определенный аспект систем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непрерыв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онирования и разви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стремление к состоянию равновесия и устойчив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стремление к дифференциации и моби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B55-8821-47F4-88D4-2572D77E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B295-EDF1-4937-B2EC-19CE0096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891-8B00-4490-930E-B952A679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147-A001-4B0D-9D0B-2BC9700E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AAEF-DE49-4E06-997B-F21738D4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D4C1-D76B-4E5C-A562-FFF4010C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BD14-4CDD-4E53-85C4-9378CFA2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62C3-F332-46FD-9EE8-98C9AC25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CD58-F404-481E-804D-CDCC1577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4931-6D38-4D94-AD4B-9D5D72D0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E490-1D9A-41F0-85D0-2995BB5B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3BEC-5A4B-42F9-9EA0-AF384E4A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8E26-D203-4D70-BCFA-B389F281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EE53-2D39-4227-BE20-6D4D44EE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BBDE-02D4-4763-A0EB-B60D616F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7F1B-2047-47DE-91E4-7FDB1150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26AB-4E0D-4506-8BC4-EF1A7DD9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6937E-4C11-423B-B17E-B8E5A058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03458-0887-4D68-9C07-7C8DB9CC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7C927-E39D-405A-AEA9-D4490FDF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D151F-DB96-4830-BAAE-71B6DA8D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2BDD6-7361-4D68-93EF-D4AE599F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F5C8-B92B-4F2D-8CCE-27EA854C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51A7E-2B2A-4F9C-AD90-6A0915BF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91A91-C210-4D89-B331-DB797F5C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2A04A-17F4-4AD4-8568-E75330D0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56036-6BE0-4CA1-824E-57A678E1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E98FB-1596-4749-AAA9-45EEC436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355B0-DAEC-4E54-A561-08700C5F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B9B5A-4FFB-4000-8DF0-8F033EA0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23934-66C2-4E26-9B27-1DC10695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47C41-BA8A-4265-AD91-72C22F34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592A0-5682-402D-8EC3-C561524D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97B-7992-4C00-AD6B-E78EBC1C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BF93A-E20A-4CAF-B0BC-07114FD1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58CB7-92F2-4AEE-9EFD-6B8F9D26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53F13-A3A0-4D7F-8D80-C58FC5F8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915CD-630B-4F05-A7FF-2313F45F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4B0D5-388C-4FF6-9E30-CE5EB009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4B857-7327-4340-B2B4-97E4579B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9B25A-F915-41A3-A367-7F20D994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F9A6A-60A7-49A7-9F30-8E93E1AA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83AA3-BBD7-424F-BC10-8C439DE6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72932-B1EC-40B4-B6EE-0EFCE61C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F6AC-1D35-44B6-AA97-199DF17A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49A67-6533-45B0-B7DA-732A82B2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31145-7414-49E9-B2F8-01915229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326A6-3F02-42AF-B0A2-BE2A364E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BC9C3-B7CD-42BF-9748-254814BF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72D8A-2A07-4BBA-9ACD-2CB59F1F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8BBF8-4718-48A1-8955-79AAE5E6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CDDD6-F7FC-4993-8B43-2BF8C4E9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BB8E3-C8D3-4F04-BC0E-49C60069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C2196-3A3C-46D4-BA52-D173A3C6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4E9CC-4CBB-4D36-AC09-A61C80E2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41AC-F85C-4C9F-A880-E1F3FDED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1BF01-C23C-43D2-85B4-08CF815C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07F-AC70-47C2-9503-F76F6267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BA1A-A5E3-4EB1-BAC5-F0C26AA9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6DE-3DB5-40AA-965F-69C7D3B5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35E3-B796-49D4-A3D2-99A943790FAC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1F2E-BED7-4680-B1FF-A65F2940A38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A0BD-E55B-4470-8E1F-2445D81EB163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7CBF-8829-4FAE-95CE-B626092BE0F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E715-FFB8-4809-B4BF-EFA91A5B172A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2818-ACFC-40E2-A5E3-0507D087709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1D7A-3451-434A-8D34-50F0AF42368E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8C1B-AC50-426C-94D6-70DA66C8999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E3E2-8047-4AB1-9473-72AA03E5BF78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2D08-481F-4B74-AD3F-E5202B47FAA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Сущность и содержание теории управления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4360" y="429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атегориальный аппарат теории управл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2. Цели теории управл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Эволюция управленческой мысл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3851280" y="3573360"/>
            <a:ext cx="2879640" cy="23176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5805360"/>
            <a:ext cx="8183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14080" y="530280"/>
            <a:ext cx="39322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етодология управлен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это логическая схема управленческой деятельности, предполагающая взаимосвязанное понимание целей, ориентиров, а также средств и способов их достижения.  Это еще и умение видеть, распознавать, понимать, оценивать и учитывать зависимости, которые и раскрывают содержание проблем, и подсказывают пути их реш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788000" y="549000"/>
            <a:ext cx="3930480" cy="381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оненты, характеризующие содержание методологии управления: подходы, парадигмы, проблемы, приоритеты, ориентиры, критерии, альтернативы, процедуры выбора, средства и методы управления, а также ограниче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5805000"/>
            <a:ext cx="818352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14080" y="530280"/>
            <a:ext cx="39322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арадигм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греч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deigm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пример, образец) – исходная концептуальная схема, система понятий, отражающая осмысление существенных черт действительности, модель постановки проблем и их решения, выбора соответствующих методов, господствующая в научном сообществе в течение определенного исторического периода и знаменующая собой определенный этап в развитии теории. . 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756320" y="530280"/>
            <a:ext cx="3930480" cy="318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вленческий рационализм Ф. Тейлора Функциональная дифференциация А. Файоля М. Вебера и др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овременной парадигме управления превалирует роль человеческой личности с учетом процессов глобализации и с акцентом на управление знаниями, на сетевые, партнерские принципы взаимодейств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tretch/>
        </p:blipFill>
        <p:spPr>
          <a:xfrm>
            <a:off x="5364000" y="3645000"/>
            <a:ext cx="2376720" cy="209376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5589360"/>
            <a:ext cx="81835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14080" y="530280"/>
            <a:ext cx="393228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и управ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учение наиболее важных аспектов управленческих отношений, возникающих в рамках управленческих взаимодейств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явление основных тенденций развития социальных процесс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56320" y="530280"/>
            <a:ext cx="393048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нозирование развития управленческих отношений в социальных общностях и организация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ка рекомендаций по совершенствованию методов управ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5805000"/>
            <a:ext cx="818352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14080" y="530280"/>
            <a:ext cx="393228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ункции управлени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знаватель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ценоч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клад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гностическ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разователь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756320" y="530280"/>
            <a:ext cx="39304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цесс управления – это совокупность управленческих действий, предпринимаемых руководителями при выполнении управленческих функций в организации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76108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1280" y="5950080"/>
            <a:ext cx="81835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14080" y="529920"/>
            <a:ext cx="3932280" cy="520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ы управления – это способы выполнения перечисленных выше функций.  Они различаются по содержанию: административные, (организационно-распорядительные), экономические и социально-психологические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756320" y="529920"/>
            <a:ext cx="3930480" cy="520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ко разграничить каждый метод не представляется возможным: они взаимно проникают друг в друга и имеют немало общих черт.  В то же время присущие им различия в способах воздействия на объекты управления позволяют рассматривать их в отд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5516640"/>
            <a:ext cx="8183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Модели управления организацией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11280" y="549360"/>
          <a:ext cx="7993080" cy="464796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втократ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Эконом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номическое прину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ворческое учас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торит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рек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териальное поощ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тивиз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ральны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сональная завис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тив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верж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йлор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номически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номические и моральны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полн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ициа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тальное 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sp>
        <p:nvSpPr>
          <p:cNvPr id="291" name="Місце для нижнього колонтитула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196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одновременно элемент и функция организованных систем различной природы (биологических, социальных, технических и др.).  Управление присуще любому обществу или его отдельному элементу (организации, коллективу, подразделению, городу, региону).  Необходимость управления вытекает из системной природы объек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716000" y="119664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щие закономерност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явлены кибернетикой, наукой об общих принципах и методах управления сложными системами в природе, технике и обществ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лавные критерии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рациональность и целесообраз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лущенко Е.В. и др. Теория управления.  М., 1997.  С. 6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196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это внутреннее свойство общественной системы, основанное на разделении труда, которое является результатом удовлетворения потребности  обмена продуктами материальной и духовно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аркс К. // Маркс К., Энгельс Ф.  Соч. 2-е изд.  Т.23.  1960. С.  907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19664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функция организованных систем различной природы (биологических, социальных, технических), обеспечивающая сохранение их определенной структуры, поддержание режима активности, реализацию программы, цели деятельност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лущенко Е.В., Захарова Е.В., Тихонравов Ю.В.  Теория управления: Учебный курс.  М., 1997. С. 13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6" descr="MC900090563[1]"/>
          <p:cNvPicPr/>
          <p:nvPr/>
        </p:nvPicPr>
        <p:blipFill>
          <a:blip r:embed="rId1"/>
          <a:stretch/>
        </p:blipFill>
        <p:spPr>
          <a:xfrm>
            <a:off x="1403280" y="4365720"/>
            <a:ext cx="2664000" cy="194940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8360" y="1557360"/>
            <a:ext cx="3930480" cy="438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неджмент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это наука об эффективном управлении предприятием; она включает в себя учение о принципах организации предприятия (юридическая часть), о стратегии его развития (идеологическая часть), о подборе персонала (социологическая часть) и способах оптимизации его работы (психологическая ча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716000" y="1557360"/>
            <a:ext cx="3932280" cy="438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неджмен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процесс руководства (управления) отдельным работником, рабочей группой, рабочим коллективом для достижения целей организ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6" descr="MC900237494[1]"/>
          <p:cNvPicPr/>
          <p:nvPr/>
        </p:nvPicPr>
        <p:blipFill>
          <a:blip r:embed="rId1"/>
          <a:stretch/>
        </p:blipFill>
        <p:spPr>
          <a:xfrm>
            <a:off x="5580000" y="3645000"/>
            <a:ext cx="2573280" cy="273528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989000"/>
            <a:ext cx="4038480" cy="295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аука управле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ет, систематизирует, и распространяет знания о том,  как осуществлять управленческую деятельность.  Это пограничная наука; она сочетает в себе элементы экономики, социологии, психологии, кибернетики, информатики и п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редметом науки управле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ются управленческие отношения, в которых проявляются одновременно экономические, политические и социальные отношения и интересы.  Они выражаются в воздействии на общество или на его отдельные элементы с целью их упорядочения., сохранения качественной специфики, совершенствования и разви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еория управления.  Учебник / Под общ. редакцией А.Л. Гапоненко, А.П. Панкрухи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Теория управления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 это наука о наиболее общих принципах и методах управления социальными общностями, содержании и форме управленческих отношений, закономерностях их развит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бъектом Т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ются системы управленческих взаимодействи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редметом Т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ются управленческие отношения, возникающие между субъектом и объектом управления в рамках управленческих взаимодействи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5932080"/>
            <a:ext cx="81835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14080" y="529920"/>
            <a:ext cx="3932280" cy="498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правление социально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один из основных видов управления, функция которого заключается в обеспечении реализации потребностей прогрессивного развития общества и его подсистем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(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Лагуста, с. 542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и вида С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государственное управл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менеджмен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амоорганиз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убъект у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управляющая подсистема (орган управления, руководитель), оказывающий воздействие на объект управ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ъект у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управляемая подсистема  (общественные отношения, социальные организации, люди), воспринимающая воздействие со стороны субъекта управ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язь между субъектом и объекто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правления осуществляется с помощью информ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жет ли субъект управления на другом уровне рассматриваться как объект управления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1"/>
          <a:stretch/>
        </p:blipFill>
        <p:spPr>
          <a:xfrm>
            <a:off x="5580000" y="4508640"/>
            <a:ext cx="2232000" cy="145404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024000" cy="33112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5516640"/>
            <a:ext cx="8183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14080" y="530280"/>
            <a:ext cx="333684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истем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совокупность или группа элементов, организованная для определенной цели, в которой изменение одного затрагивает другие или все остальные элемент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руктур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упорядочение элементов в определенную относительно постоянную модель или взаимосвязь социальных элемент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076720" y="530280"/>
            <a:ext cx="36100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ель у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желаемое состояние системы, которое должно быть получено в результате управленческого воздейст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ая организац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уппа людей, деятельность которых направлена на достижение общей цели.  Организация, имеющая набор взаимосвязанных целей называется слож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5976720"/>
            <a:ext cx="81835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сновные свойства систем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14080" y="529920"/>
            <a:ext cx="3932280" cy="527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части системы объединены, составляя в результате единое целое благодаря наличию ряда признаков: общности цели создания и функционирования (целевой), расположения (территориальный) или управления (организационный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Важным свойством любой системы явля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конеч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которой понимается невозможность ее полного познания и всестороннего представления конечным  множеством описаний, то есть конечным числом качественных и количественных характеристик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висимость структуры и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истема формирует и проявляет свои свойства в процессе взаимодействия со средой, являясь при этом ведущим активным компонентом взаимодействия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756320" y="529920"/>
            <a:ext cx="3930480" cy="527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рархич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ждый компонент системы в свою очередь может рассматриваться как система, а исследуемая в конкретном случае система представляет собой один из компонентов более широкой, глобальной системы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енность описания каждой систе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илу принципиальной сложности каждой системы ее адекватное познание требует построения множества различных моделей, каждая из которых описывает лишь определенный аспект системы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ирования и развит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состоянию равновесия и устойчиво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дифференциации и мобиль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9:02:21Z</dcterms:created>
  <dc:creator>Хозяин</dc:creator>
  <dc:description/>
  <dc:language>en-US</dc:language>
  <cp:lastModifiedBy>LEGION</cp:lastModifiedBy>
  <dcterms:modified xsi:type="dcterms:W3CDTF">2016-01-11T10:04:33Z</dcterms:modified>
  <cp:revision>19</cp:revision>
  <dc:subject/>
  <dc:title>Сущность и содержание теории управления</dc:title>
</cp:coreProperties>
</file>