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27E20-0B30-4A98-B91F-006FCF1FF8E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и содержание теории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Категориальный аппарат теории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Цели теории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Эволюция управленческой мыс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щность и содержание теории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Категориальный аппарат теории управл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Цели теории управл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Эволюция управленческой мысл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егориальный аппарат теории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ология управления – это логическая схема управленческой деятельности, предполагающая взаимосвязанное понимание целей, ориентиров, а также средств и способов их достижения.  Это еще и умение видеть, распознавать, понимать, оценивать и учитывать зависимости, которые и раскрывают содержание проблем, и подсказывают пути их ре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оненты, характеризующие содержание методологии управления: подходы, парадигмы, проблемы, приоритеты, ориентиры, критерии, альтернативы, процедуры выбора, средства и методы управления, а также огранич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тегориальный аппарат теории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тодология управления – это логическая схема управленческой деятельности, предполагающая взаимосвязанное понимание целей, ориентиров, а также средств и способов их достижения.  Это еще и умение видеть, распознавать, понимать, оценивать и учитывать зависимости, которые и раскрывают содержание проблем, и подсказывают пути их реш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поненты, характеризующие содержание методологии управления: подходы, парадигмы, проблемы, приоритеты, ориентиры, критерии, альтернативы, процедуры выбора, средства и методы управления, а также ограничен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егориальный аппарат теории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адигма (греч. Paradeigma – пример, образец) – исходная концептуальная схема, система понятий, отражающая осмысление существенных черт действительности, модель постановки проблем и их решения, выбора соответствующих методов, господствующая в научном сообществе в течение определенного исторического периода и знаменующая собой определенный этап в развитии теории. .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ческий рационализм Ф. Тейлора Функциональная дифференциация А. Файоля М. Вебера и др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временной парадигме управления превалирует роль человеческой личности с учетом процессов глобализации и с акцентом на управление знаниями, на сетевые, партнерские принципы взаимодейств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тегориальный аппарат теории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арадигма (греч. Paradeigma – пример, образец) – исходная концептуальная схема, система понятий, отражающая осмысление существенных черт действительности, модель постановки проблем и их решения, выбора соответствующих методов, господствующая в научном сообществе в течение определенного исторического периода и знаменующая собой определенный этап в развитии теории. . 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ческий рационализм Ф. Тейлора Функциональная дифференциация А. Файоля М. Вебера и др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овременной парадигме управления превалирует роль человеческой личности с учетом процессов глобализации и с акцентом на управление знаниями, на сетевые, партнерские принципы взаимодейств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егориальный аппарат теории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упра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наиболее важных аспектов управленческих отношений, возникающих в рамках управленческих взаимодейств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ление основных тенденций развития социальных процесс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нозирование развития управленческих отношений в социальных общностях и организация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рекомендаций по совершенствованию методов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тегориальный аппарат теории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и управлен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учение наиболее важных аспектов управленческих отношений, возникающих в рамках управленческих взаимодействи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явление основных тенденций развития социальных процесс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гнозирование развития управленческих отношений в социальных общностях и организация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ка рекомендаций по совершенствованию методов управл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егориальный аппарат теории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упра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ват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оч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клад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ност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т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 управления – это совокупность управленческих действий, предпринимаемых руководителями при выполнении управленческих функций в организации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тегориальный аппарат теории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ункции управлен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знаватель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ценоч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клад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гностическ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ователь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цесс управления – это совокупность управленческих действий, предпринимаемых руководителями при выполнении управленческих функций в организации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егориальный аппарат теории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управления – это способы выполнения перечисленных выше функций.  Они различаются по содержанию: административные, (организационно-распорядительные), экономические и социально-психологические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тко разграничить каждый метод не представляется возможным: они взаимно проникают друг в друга и имеют немало общих черт.  В то же время присущие им различия в способах воздействия на объекты управления позволяют рассматривать их в отд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тегориальный аппарат теории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тоды управления – это способы выполнения перечисленных выше функций.  Они различаются по содержанию: административные, (организационно-распорядительные), экономические и социально-психологические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тко разграничить каждый метод не представляется возможным: они взаимно проникают друг в друга и имеют немало общих черт.  В то же время присущие им различия в способах воздействия на объекты управления позволяют рассматривать их в отдель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одели управления организаци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Модели управления организа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теории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есть одновременно элемент и функция организованных систем различной природы (биологических, социальных, технических и др.).  Управление присуще любому обществу или его отдельному элементу (организации, коллективу, подразделению, городу, региону).  Необходимость управления вытекает из системной природы объек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закономерности выявлены кибернетикой, наукой об общих принципах и методах управления сложными системами в природе, технике и обще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е критерии управления – рациональность и целесообраз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ущенко Е.В. и др. Теория управления.  М., 1997.  С. 6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щность теории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есть одновременно элемент и функция организованных систем различной природы (биологических, социальных, технических и др.).  Управление присуще любому обществу или его отдельному элементу (организации, коллективу, подразделению, городу, региону).  Необходимость управления вытекает из системной природы объект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ие закономерности выявлены кибернетикой, наукой об общих принципах и методах управления сложными системами в природе, технике и обществ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авные критерии управления – рациональность и целесообразнос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ущенко Е.В. и др. Теория управления.  М., 1997.  С. 6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теории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- это внутреннее свойство общественной системы, основанное на разделении труда, которое является результатом удовлетворения потребности  обмена продуктами материальной и духов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кс К. // Маркс К., Энгельс Ф.  Соч. 2-е изд.  Т.23.  1960. С.  90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- функция организованных систем различной природы (биологических, социальных, технических), обеспечивающая сохранение их определенной структуры, поддержание режима активности, реализацию программы, цели деятельност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ущенко Е.В., Захарова Е.В., Тихонравов Ю.В.  Теория управления: Учебный курс.  М., 1997. С. 1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щность теории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- это внутреннее свойство общественной системы, основанное на разделении труда, которое является результатом удовлетворения потребности  обмена продуктами материальной и духовной деятель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ркс К. // Маркс К., Энгельс Ф.  Соч. 2-е изд.  Т.23.  1960. С.  90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- функция организованных систем различной природы (биологических, социальных, технических), обеспечивающая сохранение их определенной структуры, поддержание режима активности, реализацию программы, цели деятельности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ущенко Е.В., Захарова Е.В., Тихонравов Ю.В.  Теория управления: Учебный курс.  М., 1997. С. 1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теории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мент – это наука об эффективном управлении предприятием; она включает в себя учение о принципах организации предприятия (юридическая часть), о стратегии его развития (идеологическая часть), о подборе персонала (социологическая часть) и способах оптимизации его работы (психологическая часть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мент - процесс руководства (управления) отдельным работником, рабочей группой, рабочим коллективом для достижения целей 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щность теории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неджмент – это наука об эффективном управлении предприятием; она включает в себя учение о принципах организации предприятия (юридическая часть), о стратегии его развития (идеологическая часть), о подборе персонала (социологическая часть) и способах оптимизации его работы (психологическая часть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неджмент - процесс руководства (управления) отдельным работником, рабочей группой, рабочим коллективом для достижения целей организ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теории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ка управления создает, систематизирует, и распространяет знания о том,  как осуществлять управленческую деятельность.  Это пограничная наука; она сочетает в себе элементы экономики, социологии, психологии, кибернетики, информатики и п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ом науки управления являются управленческие отношения, в которых проявляются одновременно экономические, политические и социальные отношения и интересы.  Они выражаются в воздействии на общество или на его отдельные элементы с целью их упорядочения., сохранения качественной специфики, совершенствования и разви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управления.  Учебник / Под общ. редакцией А.Л. Гапоненко, А.П. Панкрух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щность теории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ука управления создает, систематизирует, и распространяет знания о том,  как осуществлять управленческую деятельность.  Это пограничная наука; она сочетает в себе элементы экономики, социологии, психологии, кибернетики, информатики и п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метом науки управления являются управленческие отношения, в которых проявляются одновременно экономические, политические и социальные отношения и интересы.  Они выражаются в воздействии на общество или на его отдельные элементы с целью их упорядочения., сохранения качественной специфики, совершенствования и разви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ория управления.  Учебник / Под общ. редакцией А.Л. Гапоненко, А.П. Панкрухи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теории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управления – это наука о наиболее общих принципах и методах управления социальными общностями, содержании и форме управленческих отношений, закономерностях их разви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ом ТУ являются системы управленческих взаимодейств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ом ТУ являются управленческие отношения, возникающие между субъектом и объектом управления в рамках управленческих взаимодейств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щность теории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ория управления – это наука о наиболее общих принципах и методах управления социальными общностями, содержании и форме управленческих отношений, закономерностях их разви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ъектом ТУ являются системы управленческих взаимодейств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метом ТУ являются управленческие отношения, возникающие между субъектом и объектом управления в рамках управленческих взаимодейств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егориальный аппарат теории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социальное – один из основных видов управления, функция которого заключается в обеспечении реализации потребностей прогрессивного развития общества и его подсистем.  (Лагуста, с. 542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вида С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ое упр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орган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 управления – управляющая подсистема (орган управления, руководитель), оказывающий воздействие на объект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 управления - управляемая подсистема  (общественные отношения, социальные организации, люди), воспринимающая воздействие со стороны субъекта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язь между субъектом и объектом управления осуществляется с помощью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ет ли субъект управления на другом уровне рассматриваться как объект управл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тегориальный аппарат теории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социальное – один из основных видов управления, функция которого заключается в обеспечении реализации потребностей прогрессивного развития общества и его подсистем.  (Лагуста, с. 542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и вида СУ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ое управл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неджмен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моорганиз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бъект управления – управляющая подсистема (орган управления, руководитель), оказывающий воздействие на объект управл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ъект управления - управляемая подсистема  (общественные отношения, социальные организации, люди), воспринимающая воздействие со стороны субъекта управл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вязь между субъектом и объектом управления осуществляется с помощью информ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жет ли субъект управления на другом уровне рассматриваться как объект управления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егориальный аппарат теории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– совокупность или группа элементов, организованная для определенной цели, в которой изменение одного затрагивает другие или все остальные элемен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– упорядочение элементов в определенную относительно постоянную модель или взаимосвязь социальных элемен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управления – желаемое состояние системы, которое должно быть получено в результате управленческого воздейств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ая организация группа людей, деятельность которых направлена на достижение общей цели.  Организация, имеющая набор взаимосвязанных целей называется слож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тегориальный аппарат теории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– совокупность или группа элементов, организованная для определенной цели, в которой изменение одного затрагивает другие или все остальные элемен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уктура – упорядочение элементов в определенную относительно постоянную модель или взаимосвязь социальных элемен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ь управления – желаемое состояние системы, которое должно быть получено в результате управленческого воздейств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альная организация группа людей, деятельность которых направлена на достижение общей цели.  Организация, имеющая набор взаимосвязанных целей называется сложно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свойства сист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 Целостность - все части системы объединены, составляя в результате единое целое благодаря наличию ряда признаков: общности цели создания и функционирования (целевой), расположения (территориальный) или управления (организационный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 Важным свойством любой системы является бесконечность, под которой понимается невозможность ее полного познания и всестороннего представления конечным  множеством описаний, то есть конечным числом качественных и количественных характеристи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взаимозависимость структуры и среды (система формирует и проявляет свои свойства в процессе взаимодействия со средой, являясь при этом ведущим активным компонентом взаимодействи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иерархичность (каждый компонент системы в свою очередь может рассматриваться как система, а исследуемая в конкретном случае система представляет собой один из компонентов более широкой, глобальной системы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множественность описания каждой системы (в силу принципиальной сложности каждой системы ее адекватное познание требует построения множества различных моделей, каждая из которых описывает лишь определенный аспект системы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непреры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онирования и развит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стремление к состоянию равновесия и устойчив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стремление к дифференциации и моби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свойства сист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 Целостность - все части системы объединены, составляя в результате единое целое благодаря наличию ряда признаков: общности цели создания и функционирования (целевой), расположения (территориальный) или управления (организационный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 Важным свойством любой системы является бесконечность, под которой понимается невозможность ее полного познания и всестороннего представления конечным  множеством описаний, то есть конечным числом качественных и количественных характеристик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взаимозависимость структуры и среды (система формирует и проявляет свои свойства в процессе взаимодействия со средой, являясь при этом ведущим активным компонентом взаимодействия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иерархичность (каждый компонент системы в свою очередь может рассматриваться как система, а исследуемая в конкретном случае система представляет собой один из компонентов более широкой, глобальной системы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множественность описания каждой системы (в силу принципиальной сложности каждой системы ее адекватное познание требует построения множества различных моделей, каждая из которых описывает лишь определенный аспект системы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. непрерыв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ункционирования и развит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. стремление к состоянию равновесия и устойчивост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. стремление к дифференциации и мобиль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7E2E-43EE-4978-9A8C-07E36B4DB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25EA-6660-489D-8446-C139EC2B2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91B0-86BE-42A4-BA61-FD73A3A99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7FDE-CFD9-4E63-843B-CB0383D53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E066A-B013-42A5-95B0-7C619A22C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949EE-4E5C-40D7-B6B8-F3FB83EBC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1D793-7C94-4D20-8DF4-4B89E5F54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6899D-EDC3-485C-A616-35CDCFB14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33B95-B409-4327-BDCA-4C76F2FD5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2551E-9990-4CE1-9E8D-4D05829A9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96FB4-406E-479D-A3BB-31F854D4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554D-308D-45BB-A9AB-D472EBA85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42E10-C821-4664-8074-CC8769A08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A9DC1-55BB-4ED1-BED5-3EB83029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3F5C7-DD65-451F-93C2-84D8F0DC5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7EC59-47A2-4ED1-AC9D-EE3DDCEDF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5AF08-A9C1-4EC5-B36D-03211230D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B1394-830D-4D95-98C8-5F22C8C0D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E388A-2976-44F1-B547-C07BA4E6F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9236A-40D8-4AAE-9C07-9233DF19B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CCA29-03FE-48A2-997B-785BEE79C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734ED-7B36-4C2A-8227-5E2C5878A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E99F-AB06-48AA-9CC3-5E203AB69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95CEF-E279-40DB-B1C5-4F205D0D5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DFEF7-595D-4D28-8F36-005BBF21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96F07-BDD5-4EE8-99E6-24982F89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F18D5-3009-450C-8453-9EEC74A12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CC9E4-6EDB-4888-97C4-C99249A2E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C7249-4A50-43C5-A750-875410700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DEE85-3E9B-4BAE-A863-1FFDCBE76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702B8-4EA9-404A-8156-67B9F530C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AFB7D-478F-43E7-89C6-8CEC63721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1E2E0-9280-4067-A2B9-5F53AA4CC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B61C-71B7-4234-B008-022795151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E4CAAC-E79A-4DB8-83A4-DFB14BDCD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9ECB3-79BC-4813-8420-2E0E7AEBE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33DAE-E648-46FC-8F03-14C597B1D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6BD6F-86E1-49EE-9E39-2B9368803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A6B89-02DD-44C7-A488-43501EFA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340DE-D692-43D3-A62E-E2AA6C033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99241-C108-464A-BB2C-054DD8886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4939D-37F2-468E-9F8A-4B7383358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F1F28-E932-41CE-95F7-CAAA33CBC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FC6494-5A2D-49AA-A413-49B906830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44E7-8505-4A66-A435-B84A88171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D2C655-E69C-47A4-A528-0E7944A46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560C5A-7A13-4C49-846E-51DB99E33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441C8A-3D13-4F26-B6B4-11ABBEC73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ADEA71-601F-4A8F-B289-C430C1A92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603D10-A0AF-498F-96E2-5D3DF1F3A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A56BF-7E14-4E98-A505-3178CBF7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8A200-A688-435C-BDAD-56601ECD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8628D-ED3D-4A8F-8A6B-6F528967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0D808-E57D-404B-8D93-48F383B4E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A77D0-58A8-4E16-B55E-C661C1D13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3D59-0C7B-4C1F-A1CC-F5057DD2F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200289-3394-4788-A190-57AF7D2D2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ADB8-198B-4FD5-BB1A-3DD24F115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CAB8-6754-43E5-AC7D-AFB4CF0F7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450E-41CD-458F-AE0D-341118D9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66479-CF7F-4603-AA91-2A58067ECA3F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E770B-11A8-438F-8D4E-2FF01D776931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73F42-0464-490D-9D54-93AD727EBA23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019FF-30AE-4EA5-9188-9F6C505F819D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781D7-D292-485D-B32C-09580B5D7299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C81D3-A328-4109-BA0D-1FBC80DA60AD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4D19A-1556-4DD9-9F6F-854176928EC7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984CF-F005-4F1A-A04B-B5494E3EA8AA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ADBBA-EFB6-4105-9BFD-D1B023B6226A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F942A-3A16-4694-B59C-755EB9BF1C0A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8d3e"/>
                </a:solidFill>
                <a:latin typeface="Verdana"/>
              </a:rPr>
              <a:t>Сущность и содержание теории управления</a:t>
            </a:r>
            <a:endParaRPr b="1" lang="en-US" sz="41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84360" y="429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Категориальный аппарат теории управлени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2. Цели теории управлени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Эволюция управленческой мысл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Місце для нижнього колонтитула 2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6" descr=""/>
          <p:cNvPicPr/>
          <p:nvPr/>
        </p:nvPicPr>
        <p:blipFill>
          <a:blip r:embed="rId1"/>
          <a:stretch/>
        </p:blipFill>
        <p:spPr>
          <a:xfrm>
            <a:off x="3851280" y="3573360"/>
            <a:ext cx="2879640" cy="231768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68360" y="5805360"/>
            <a:ext cx="81835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d3e"/>
                </a:solidFill>
                <a:latin typeface="Verdana"/>
              </a:rPr>
              <a:t>Категориальный аппарат теории управления</a:t>
            </a: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14080" y="530280"/>
            <a:ext cx="3932280" cy="5130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Методология управления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– это логическая схема управленческой деятельности, предполагающая взаимосвязанное понимание целей, ориентиров, а также средств и способов их достижения.  Это еще и умение видеть, распознавать, понимать, оценивать и учитывать зависимости, которые и раскрывают содержание проблем, и подсказывают пути их решени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788000" y="549000"/>
            <a:ext cx="3930480" cy="3816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мпоненты, характеризующие содержание методологии управления: подходы, парадигмы, проблемы, приоритеты, ориентиры, критерии, альтернативы, процедуры выбора, средства и методы управления, а также ограничени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Місце для нижнього колонтитула 4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11280" y="5805000"/>
            <a:ext cx="8183520" cy="6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Категориальный аппарат теории управления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514080" y="530280"/>
            <a:ext cx="3932280" cy="5130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Парадигма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(греч.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radeigma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– пример, образец) – исходная концептуальная схема, система понятий, отражающая осмысление существенных черт действительности, модель постановки проблем и их решения, выбора соответствующих методов, господствующая в научном сообществе в течение определенного исторического периода и знаменующая собой определенный этап в развитии теории. . 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756320" y="530280"/>
            <a:ext cx="3930480" cy="3186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правленческий рационализм Ф. Тейлора Функциональная дифференциация А. Файоля М. Вебера и др.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современной парадигме управления превалирует роль человеческой личности с учетом процессов глобализации и с акцентом на управление знаниями, на сетевые, партнерские принципы взаимодейств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3" name="Picture 6" descr=""/>
          <p:cNvPicPr/>
          <p:nvPr/>
        </p:nvPicPr>
        <p:blipFill>
          <a:blip r:embed="rId1"/>
          <a:stretch/>
        </p:blipFill>
        <p:spPr>
          <a:xfrm>
            <a:off x="5364000" y="3645000"/>
            <a:ext cx="2376720" cy="2093760"/>
          </a:xfrm>
          <a:prstGeom prst="rect">
            <a:avLst/>
          </a:prstGeom>
          <a:ln w="0">
            <a:noFill/>
          </a:ln>
        </p:spPr>
      </p:pic>
      <p:sp>
        <p:nvSpPr>
          <p:cNvPr id="274" name="Місце для нижнього колонтитула 2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3280" y="5589360"/>
            <a:ext cx="818352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Категориальный аппарат теории управления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514080" y="530280"/>
            <a:ext cx="3932280" cy="5059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Цели управлени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зучение наиболее важных аспектов управленческих отношений, возникающих в рамках управленческих взаимодействий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явление основных тенденций развития социальных процессов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756320" y="530280"/>
            <a:ext cx="3930480" cy="5059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гнозирование развития управленческих отношений в социальных общностях и организациях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ка рекомендаций по совершенствованию методов управл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Місце для нижнього колонтитула 4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11280" y="5805000"/>
            <a:ext cx="8183520" cy="6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Категориальный аппарат теории управления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514080" y="530280"/>
            <a:ext cx="3932280" cy="5059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Функции управления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знавательна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ценочна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икладна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огностическа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бразовательна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756320" y="530280"/>
            <a:ext cx="3930480" cy="5130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оцесс управления – это совокупность управленческих действий, предпринимаемых руководителями при выполнении управленческих функций в организации.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Місце для нижнього колонтитула 2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209080" cy="5761080"/>
          </a:xfrm>
          <a:prstGeom prst="rect">
            <a:avLst/>
          </a:prstGeom>
          <a:ln w="0">
            <a:noFill/>
          </a:ln>
        </p:spPr>
      </p:pic>
      <p:sp>
        <p:nvSpPr>
          <p:cNvPr id="284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11280" y="5950080"/>
            <a:ext cx="81835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Категориальный аппарат теории управления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14080" y="529920"/>
            <a:ext cx="3932280" cy="5202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етоды управления – это способы выполнения перечисленных выше функций.  Они различаются по содержанию: административные, (организационно-распорядительные), экономические и социально-психологические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756320" y="529920"/>
            <a:ext cx="3930480" cy="5202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етко разграничить каждый метод не представляется возможным: они взаимно проникают друг в друга и имеют немало общих черт.  В то же время присущие им различия в способах воздействия на объекты управления позволяют рассматривать их в отдельност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Місце для нижнього колонтитула 4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3280" y="5516640"/>
            <a:ext cx="8183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Модели управления организацией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611280" y="549360"/>
          <a:ext cx="7993080" cy="4647960"/>
        </p:xfrm>
        <a:graphic>
          <a:graphicData uri="http://schemas.openxmlformats.org/drawingml/2006/table">
            <a:tbl>
              <a:tblPr/>
              <a:tblGrid>
                <a:gridCol w="2663640"/>
                <a:gridCol w="2665440"/>
                <a:gridCol w="266400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Автократичес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Экономичес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ов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л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Экономическое принужд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ворческое участ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вторит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иректи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атериальное поощр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ллективизм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оральные стиму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ерсональная зависим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отив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ивержен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ейлориз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Экономические стиму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Экономические и моральные стиму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82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сполни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нициати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отальное творче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  <p:sp>
        <p:nvSpPr>
          <p:cNvPr id="291" name="Місце для нижнього колонтитула 3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ущность теории управлен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196640"/>
            <a:ext cx="4038480" cy="5327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правление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сть одновременно элемент и функция организованных систем различной природы (биологических, социальных, технических и др.).  Управление присуще любому обществу или его отдельному элементу (организации, коллективу, подразделению, городу, региону).  Необходимость управления вытекает из системной природы объект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716000" y="1196640"/>
            <a:ext cx="3932280" cy="43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бщие закономерности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ыявлены кибернетикой, наукой об общих принципах и методах управления сложными системами в природе, технике и обществ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Главные критерии управле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рациональность и целесообразнос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лущенко Е.В. и др. Теория управления.  М., 1997.  С. 60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Місце для нижнього колонтитула 4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ущность теории управлен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196640"/>
            <a:ext cx="4038480" cy="5327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правление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- это внутреннее свойство общественной системы, основанное на разделении труда, которое является результатом удовлетворения потребности  обмена продуктами материальной и духовной деятельност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Маркс К. // Маркс К., Энгельс Ф.  Соч. 2-е изд.  Т.23.  1960. С.  907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648320" y="1196640"/>
            <a:ext cx="4038480" cy="5256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правление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 функция организованных систем различной природы (биологических, социальных, технических), обеспечивающая сохранение их определенной структуры, поддержание режима активности, реализацию программы, цели деятельности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лущенко Е.В., Захарова Е.В., Тихонравов Ю.В.  Теория управления: Учебный курс.  М., 1997. С. 13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7" name="Picture 6" descr="MC900090563[1]"/>
          <p:cNvPicPr/>
          <p:nvPr/>
        </p:nvPicPr>
        <p:blipFill>
          <a:blip r:embed="rId1"/>
          <a:stretch/>
        </p:blipFill>
        <p:spPr>
          <a:xfrm>
            <a:off x="1403280" y="4365720"/>
            <a:ext cx="2664000" cy="1949400"/>
          </a:xfrm>
          <a:prstGeom prst="rect">
            <a:avLst/>
          </a:prstGeom>
          <a:ln w="0">
            <a:noFill/>
          </a:ln>
        </p:spPr>
      </p:pic>
      <p:sp>
        <p:nvSpPr>
          <p:cNvPr id="238" name="Місце для нижнього колонтитула 4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ущность теории управлен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68360" y="1557360"/>
            <a:ext cx="3930480" cy="43876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енеджмент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– это наука об эффективном управлении предприятием; она включает в себя учение о принципах организации предприятия (юридическая часть), о стратегии его развития (идеологическая часть), о подборе персонала (социологическая часть) и способах оптимизации его работы (психологическая часть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716000" y="1557360"/>
            <a:ext cx="3932280" cy="43876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енеджмент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- процесс руководства (управления) отдельным работником, рабочей группой, рабочим коллективом для достижения целей организац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Picture 6" descr="MC900237494[1]"/>
          <p:cNvPicPr/>
          <p:nvPr/>
        </p:nvPicPr>
        <p:blipFill>
          <a:blip r:embed="rId1"/>
          <a:stretch/>
        </p:blipFill>
        <p:spPr>
          <a:xfrm>
            <a:off x="5580000" y="3645000"/>
            <a:ext cx="2573280" cy="2735280"/>
          </a:xfrm>
          <a:prstGeom prst="rect">
            <a:avLst/>
          </a:prstGeom>
          <a:ln w="0">
            <a:noFill/>
          </a:ln>
        </p:spPr>
      </p:pic>
      <p:sp>
        <p:nvSpPr>
          <p:cNvPr id="243" name="Місце для нижнього колонтитула 4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ущность теории управлен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989000"/>
            <a:ext cx="4038480" cy="2952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Наука управления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здает, систематизирует, и распространяет знания о том,  как осуществлять управленческую деятельность.  Это пограничная наука; она сочетает в себе элементы экономики, социологии, психологии, кибернетики, информатики и пр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648320" y="981000"/>
            <a:ext cx="4038480" cy="5400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Предметом науки управления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являются управленческие отношения, в которых проявляются одновременно экономические, политические и социальные отношения и интересы.  Они выражаются в воздействии на общество или на его отдельные элементы с целью их упорядочения., сохранения качественной специфики, совершенствования и развит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Теория управления.  Учебник / Под общ. редакцией А.Л. Гапоненко, А.П. Панкрухин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Місце для нижнього колонтитула 4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ущность теории управлен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Теория управления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– это наука о наиболее общих принципах и методах управления социальными общностями, содержании и форме управленческих отношений, закономерностях их развити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Объектом ТУ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являются системы управленческих взаимодействий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Предметом ТУ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являются управленческие отношения, возникающие между субъектом и объектом управления в рамках управленческих взаимодействий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Місце для нижнього колонтитула 3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5932080"/>
            <a:ext cx="81835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d3e"/>
                </a:solidFill>
                <a:latin typeface="Verdana"/>
              </a:rPr>
              <a:t>Категориальный аппарат теории управления</a:t>
            </a:r>
            <a:endParaRPr b="1" lang="en-US" sz="1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514080" y="529920"/>
            <a:ext cx="3932280" cy="4986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правление социальное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– один из основных видов управления, функция которого заключается в обеспечении реализации потребностей прогрессивного развития общества и его подсистем.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(</a:t>
            </a: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Лагуста, с. 542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и вида СУ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государственное управле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менеджмен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самоорганизац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убъект управления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– управляющая подсистема (орган управления, руководитель), оказывающий воздействие на объект управлен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756320" y="529920"/>
            <a:ext cx="3930480" cy="43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бъект управления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- управляемая подсистема  (общественные отношения, социальные организации, люди), воспринимающая воздействие со стороны субъекта управлен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вязь между субъектом и объектом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правления осуществляется с помощью информаци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ожет ли субъект управления на другом уровне рассматриваться как объект управления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4" name="Picture 6" descr=""/>
          <p:cNvPicPr/>
          <p:nvPr/>
        </p:nvPicPr>
        <p:blipFill>
          <a:blip r:embed="rId1"/>
          <a:stretch/>
        </p:blipFill>
        <p:spPr>
          <a:xfrm>
            <a:off x="5580000" y="4508640"/>
            <a:ext cx="2232000" cy="1454040"/>
          </a:xfrm>
          <a:prstGeom prst="rect">
            <a:avLst/>
          </a:prstGeom>
          <a:ln w="0">
            <a:noFill/>
          </a:ln>
        </p:spPr>
      </p:pic>
      <p:sp>
        <p:nvSpPr>
          <p:cNvPr id="255" name="Місце для нижнього колонтитула 2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6" descr=""/>
          <p:cNvPicPr/>
          <p:nvPr/>
        </p:nvPicPr>
        <p:blipFill>
          <a:blip r:embed="rId1"/>
          <a:stretch/>
        </p:blipFill>
        <p:spPr>
          <a:xfrm>
            <a:off x="2700360" y="1916280"/>
            <a:ext cx="3024000" cy="331128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3280" y="5516640"/>
            <a:ext cx="8183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d3e"/>
                </a:solidFill>
                <a:latin typeface="Verdana"/>
              </a:rPr>
              <a:t>Категориальный аппарат теории управления</a:t>
            </a: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514080" y="530280"/>
            <a:ext cx="3336840" cy="5059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истема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– совокупность или группа элементов, организованная для определенной цели, в которой изменение одного затрагивает другие или все остальные элемент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руктура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– упорядочение элементов в определенную относительно постоянную модель или взаимосвязь социальных элементо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076720" y="530280"/>
            <a:ext cx="3610080" cy="5130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Цель управления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– желаемое состояние системы, которое должно быть получено в результате управленческого воздейств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оциальная организация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руппа людей, деятельность которых направлена на достижение общей цели.  Организация, имеющая набор взаимосвязанных целей называется сложно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Місце для нижнього колонтитула 4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360" y="5976720"/>
            <a:ext cx="818352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Основные свойства систем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514080" y="529920"/>
            <a:ext cx="3932280" cy="5275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7000"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остность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части системы объединены, составляя в результате единое целое благодаря наличию ряда признаков: общности цели создания и функционирования (целевой), расположения (территориальный) или управления (организационный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Важным свойством любой системы является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конечнос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которой понимается невозможность ее полного познания и всестороннего представления конечным  множеством описаний, то есть конечным числом качественных и количественных характеристик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зависимость структуры и сред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система формирует и проявляет свои свойства в процессе взаимодействия со средой, являясь при этом ведущим активным компонентом взаимодействия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756320" y="529920"/>
            <a:ext cx="3930480" cy="5275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ерархичнос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каждый компонент системы в свою очередь может рассматриваться как система, а исследуемая в конкретном случае система представляет собой один из компонентов более широкой, глобальной системы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жественность описания каждой систем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силу принципиальной сложности каждой системы ее адекватное познание требует построения множества различных моделей, каждая из которых описывает лишь определенный аспект системы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ерывност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онирования и развити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мление к состоянию равновесия и устойчивост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мление к дифференциации и мобильнос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Місце для нижнього колонтитула 4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7T19:02:21Z</dcterms:created>
  <dc:creator>Хозяин</dc:creator>
  <dc:description/>
  <dc:language>en-US</dc:language>
  <cp:lastModifiedBy>LEGION</cp:lastModifiedBy>
  <dcterms:modified xsi:type="dcterms:W3CDTF">2016-01-11T10:04:33Z</dcterms:modified>
  <cp:revision>19</cp:revision>
  <dc:subject/>
  <dc:title>Сущность и содержание теории управления</dc:title>
</cp:coreProperties>
</file>