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9.jpeg" ContentType="image/jpeg"/>
  <Override PartName="/ppt/media/image13.gif" ContentType="image/gif"/>
  <Override PartName="/ppt/media/image16.jpeg" ContentType="image/jpeg"/>
  <Override PartName="/ppt/media/image8.gif" ContentType="image/gif"/>
  <Override PartName="/ppt/media/image18.jpeg" ContentType="image/jpeg"/>
  <Override PartName="/ppt/media/image12.gif" ContentType="image/gif"/>
  <Override PartName="/ppt/media/image3.jpeg" ContentType="image/jpeg"/>
  <Override PartName="/ppt/media/image7.gif" ContentType="image/gif"/>
  <Override PartName="/ppt/media/image11.gif" ContentType="image/gif"/>
  <Override PartName="/ppt/media/image21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5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4.png" ContentType="image/png"/>
  <Override PartName="/ppt/media/image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32CC-440C-423F-AADC-5E31002FC3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СИХОТЕХНОЛОГИИ В БИЗНЕ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кладная психолог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СИХОТЕХНОЛОГИИ В БИЗНЕ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кладная психолог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сихологические основы эффективности проведения совещ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лементы эффективного планирования совещ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Типичные ошибки, допускаемые при проведении совещания и негативно влияющие на психологическое состояние и внимание участ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Разработать программу совещания с учетом специфики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сихологические основы эффективности проведения совещ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лементы эффективного планирования совещ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Типичные ошибки, допускаемые при проведении совещания и негативно влияющие на психологическое состояние и внимание участ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Разработать программу совещания с учетом специфики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эмоций в жизн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дходы к управлению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способа управлять собственными эмоциями (реакциями): сознательное распределение эмоций как фактор чрезмерной концентрации переживаний человека; увеличение объема получаемой информации и расширение круга контактов; концентрация и сосредоточение эмо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переноса переживаний с эмоциогенных ситуаций на нейтраль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лексия эмо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облемы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эмоций в жизн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дходы к управлению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способа управлять собственными эмоциями (реакциями): сознательное распределение эмоций как фактор чрезмерной концентрации переживаний человека; увеличение объема получаемой информации и расширение круга контактов; концентрация и сосредоточение эмо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переноса переживаний с эмоциогенных ситуаций на нейтраль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лексия эмо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облемы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Отработка навыков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ибкости в управлении психоэмоциональными состояниями и их использовании в коммун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сихофизиологических техник релаксации и саморегуля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тренин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кор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е методик: Самооценка тревожности, фрустрированности, агрессивности и ригидности, Дифференциальные шкалы эмоций (по К.Изард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сочинение на тему: «Понимание себя - рефлексия эмоций. Управление собой - менеджмент эмоц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йти методики: Опросник структуры темперамента В.М. Русалова (ОСТ), Шкала реактивной (ситуативной) и личностной тревожности Ч.Д.Спилбергера – Ю.Л.Хани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Отработка навыков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ибкости в управлении психоэмоциональными состояниями и их использовании в коммун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сихофизиологических техник релаксации и саморегуля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тренин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кор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е методик: Самооценка тревожности, фрустрированности, агрессивности и ригидности, Дифференциальные шкалы эмоций (по К.Изард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сочинение на тему: «Понимание себя - рефлексия эмоций. Управление собой - менеджмент эмоц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йти методики: Опросник структуры темперамента В.М. Русалова (ОСТ), Шкала реактивной (ситуативной) и личностной тревожности Ч.Д.Спилбергера – Ю.Л.Хани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техники словесного убежден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беждение как ведущий  метод организаторского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е приемы и способы аргумен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эффективного воздейств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техники словесного убежден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беждение как ведущий  метод организаторского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е приемы и способы аргумен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эффективного воздейств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проведение диску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таблицу способов аргументации и их краткую характерист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проведение диску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таблицу способов аргументации и их краткую характерист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и причины аферы и мошенничество в современном российск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ьная оценка делового партнера при осуществлении рыночной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недобросовестного сотрудничества в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анипуляции и вве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блуждени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и причины аферы и мошенничество в современном российск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ьная оценка делового партнера при осуществлении рыночной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недобросовестного сотрудничества в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анипуляции и вве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блуждени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приемы контроля за манипулятивными играми в бизнесе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и приемы работы с проблем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увеличение или преуменьшение возможностей, то есть создание "ложного имиджа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заманчивых условий сотруднич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Игра на конъюнктуре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тасовка информации для убеждения в эффективности коммерческого предлож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влечение в сделку путем завоевания доверия на первом этапе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приемы контроля за манипулятивными играми в бизнесе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и приемы работы с проблем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увеличение или преуменьшение возможностей, то есть создание "ложного имиджа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заманчивых условий сотруднич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Игра на конъюнктуре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тасовка информации для убеждения в эффективности коммерческого предлож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влечение в сделку путем завоевания доверия на первом этапе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АЧИ В ИСПОЛЬЗОВАНИИ СОВРЕМЕННЫХ ПСИХОТЕХНОЛОГИЙ В БИЗНЕС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АЧИ В ИСПОЛЬЗОВАНИИ СОВРЕМЕННЫХ ПСИХОТЕХНОЛОГИЙ В БИЗНЕС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сихологического цикл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сихологического цикл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технологии управления времен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«Идеальная» система тайм-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 планах и органайзе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Навыки тайм-менеджмента: полезные и бесполез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оррекция план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Тотальный контро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роцессы управления времен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равила тайм-менеджмента, позволяющие повысить личную эффектив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Инструменты для реализации техник управления време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технологии управления времен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«Идеальная» система тайм-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 планах и органайзе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Навыки тайм-менеджмента: полезные и бесполез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оррекция план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Тотальный контро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роцессы управления времен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равила тайм-менеджмента, позволяющие повысить личную эффектив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Инструменты для реализации техник управления време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рактическое руководство по планированию работ (Техники Т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план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 разработки планинга и работы с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егории проектов: планы на день, учет финансовых расходов, расписание дня, телефонный справочник, расписание занятий, составление меню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Составить планинг значим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ебя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рактическое руководство по планированию работ (Техники Т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план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 разработки планинга и работы с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егории проектов: планы на день, учет финансовых расходов, расписание дня, телефонный справочник, расписание занятий, составление меню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Составить планинг значим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ебя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области самомотивации: стремление к достижениям, инициатива и оптимизм, реш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области самомотивации: стремление к достижениям, инициатива и оптимизм, реш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Техник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преумень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выполнения сложной и неинтересн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личной 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выполнить методики по мотивации к учебной деятельности и учению, мотивации достижения успеха и избегания неу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Техник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преумень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выполнения сложной и неинтересн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личной 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выполнить методики по мотивации к учебной деятельности и учению, мотивации достижения успеха и избегания неу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: общение,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и характеристики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и структур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онно-целев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ая сторона общения: коммуникативные барьеры, информация, коммуникации.Вербальная, невербальная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цеп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ие особенности управленческ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ведения сп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: общение,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и характеристики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и структур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онно-целев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ая сторона общения: коммуникативные барьеры, информация, коммуникации.Вербальная, невербальная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цеп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ие особенности управленческ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ведения сп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инструменты повышения эффективности коммуник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ммуникативные свойства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овременные средства коммуникации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правленческая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лияние информационных технологий на организацию рабочих мест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игр и упражнений на понимание вербальной и невербальн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ьте логическую схему на тему: «Ролевые игры и упражнения, направленные на развитие навыков калибровки партнёра по взаимодействию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кроссворд по теме: «Сенсорная острота и обратная связь. Информационные фильтры. Каналы восприят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инструменты повышения эффективности коммуник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ммуникативные свойства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овременные средства коммуникации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правленческая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лияние информационных технологий на организацию рабочих мест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игр и упражнений на понимание вербальной и невербальн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ьте логическую схему на тему: «Ролевые игры и упражнения, направленные на развитие навыков калибровки партнёра по взаимодействию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кроссворд по теме: «Сенсорная острота и обратная связь. Информационные фильтры. Каналы восприят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логического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тимулы, побуждающие к эффектив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ферические стимулы, отвлекающие вним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 вним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референтные пережива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логического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тимулы, побуждающие к эффектив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ферические стимулы, отвлекающие вним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 вним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референтные пережива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E62C2-BAB8-457C-8C92-C8FDB9145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097F-2D80-4F39-908B-0C7833D9C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288B9-3ADA-49AA-9F46-D0C328E63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4BB0D-3DE5-4952-9695-D9DB6BEB7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509B9-C221-4C9D-9A5A-4BA9119138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AEFFD-0385-4784-B030-658803453B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7B5BE-9F58-4B52-96DC-9A7467CF94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4F9BF-3503-4DAF-B0D0-935BCDE3EE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07032-829A-4365-9F7D-58A1CB6EA0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2DF33-4AEA-4BE4-81AC-567586B03B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48353-B71F-4B9D-9B82-837B9FD466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A3C5-FC8A-4E18-8B77-394CFA3CD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1639F-90E5-4B6B-B73D-FBB5887775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FE91E-E566-4DF2-A6A4-8B3BEB5D6F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E014A-F064-4D37-865B-ACFBDB168F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4A97E-9BCA-4968-80CA-553E5ECF2F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171B6-A8AF-4063-81F7-56BC6911678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9450-2EF7-4F58-8886-3146DCB9AD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BAD6-D76C-4820-ABD1-48AF05DD30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F9B9-2049-40BE-8DF8-58EA009851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EA0C-DBD7-481B-A2AB-230D689066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3851-3ED0-43DB-A227-9107E1F655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CA79B-614A-4C79-BA8D-A7B2073A18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5656-471B-4941-9D3B-5F2A7D3976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DCA-7168-4071-BB5C-8B99A78D97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5D70-E624-4774-B51B-178A695F56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0E12-A05D-4108-80B1-8055C3ED89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1B41-6FD1-4D14-BEDF-287EA1303C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C22D-D912-4643-AF03-07FE96B088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B6BF-70AF-40A6-806C-D43A87BA55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4F9E7-32D5-45E4-83FD-B9FB974FD7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E55E-FAA9-46A3-9496-3938211F8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725C8-940D-49EC-B76C-DEF8F96BC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3F0C-C246-496B-8FB7-CFED8F617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20E6-14D1-445B-9E82-D05A98CF0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0F5F6-AB4C-4210-88C6-61CF4706E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07640" y="6380280"/>
            <a:ext cx="1368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&gt;</a:t>
            </a: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 </a:t>
            </a:r>
            <a:fld id="{CF43EBD5-CA43-49FF-AEF0-325C50605C2E}" type="slidenum"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79240" y="160812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07640" y="6380280"/>
            <a:ext cx="1368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&gt;</a:t>
            </a: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 </a:t>
            </a:r>
            <a:fld id="{3141199D-31A1-4DEC-8960-CBFC2C2E05A3}" type="slidenum"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</a:t>
            </a:r>
            <a:fld id="{190270C7-AC6A-48E5-8574-2CF51EA1917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79240" y="160812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4720" y="1412640"/>
            <a:ext cx="4464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ОВРЕМЕННЫЕ ПСИХОТЕХНОЛОГИИ В БИЗНЕСЕ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63" name="Picture 9" descr="logo"/>
          <p:cNvPicPr/>
          <p:nvPr/>
        </p:nvPicPr>
        <p:blipFill>
          <a:blip r:embed="rId1"/>
          <a:stretch/>
        </p:blipFill>
        <p:spPr>
          <a:xfrm>
            <a:off x="8153280" y="250920"/>
            <a:ext cx="739800" cy="547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11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01"/>
          <p:cNvPicPr/>
          <p:nvPr/>
        </p:nvPicPr>
        <p:blipFill>
          <a:blip r:embed="rId3"/>
          <a:stretch/>
        </p:blipFill>
        <p:spPr>
          <a:xfrm>
            <a:off x="6516720" y="4508640"/>
            <a:ext cx="934920" cy="1512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7"/>
          <p:cNvSpPr/>
          <p:nvPr/>
        </p:nvSpPr>
        <p:spPr>
          <a:xfrm>
            <a:off x="584280" y="5310360"/>
            <a:ext cx="41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афед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«Прикладная психолог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4. Психотехнологии воздействия на группу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Психологические основы эффективности проведения совещаний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1. Элементы эффективного планирования совещания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2. Типичные ошибки, допускаемые при проведении совещания и негативно влияющие на психологическое состояние и внимание участников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rebuchet MS"/>
              </a:rPr>
              <a:t>Домашнее задание: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 Разработать программу совещания с учетом специфики коллективного восприят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5. Психотехнологии управления эмоциям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Роль эмоций в жизни человек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Основные подходы к управлению эмоциям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Три способа управлять собственными эмоциями (реакциями): сознательное распределение эмоций как фактор чрезмерной концентрации переживаний человека; увеличение объема получаемой информации и расширение круга контактов; концентрация и сосредоточение эмоций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Механизмы переноса переживаний с эмоциогенных ситуаций на нейтральные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Рефлексия эмоций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Основные проблемы управления эмоциями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97" name="Picture 6" descr="basic_emotions_600"/>
          <p:cNvPicPr/>
          <p:nvPr/>
        </p:nvPicPr>
        <p:blipFill>
          <a:blip r:embed="rId1"/>
          <a:stretch/>
        </p:blipFill>
        <p:spPr>
          <a:xfrm>
            <a:off x="6516720" y="1557360"/>
            <a:ext cx="2279520" cy="1224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98" name="Picture 4" descr="masks"/>
          <p:cNvPicPr/>
          <p:nvPr/>
        </p:nvPicPr>
        <p:blipFill>
          <a:blip r:embed="rId2"/>
          <a:stretch/>
        </p:blipFill>
        <p:spPr>
          <a:xfrm>
            <a:off x="7164360" y="5084640"/>
            <a:ext cx="1260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5. Психотехнологии управления эмоциям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0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Monotype Corsiva"/>
              </a:rPr>
              <a:t>СЕМИНАР . </a:t>
            </a: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Отработка навыков управления эмоциями.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Развитие гибкости в управлении психоэмоциональными состояниями и их использовании в коммуникации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Отработка психофизиологических техник релаксации и саморегуляции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Аутотренинг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Якорение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rebuchet MS"/>
              </a:rPr>
              <a:t>- Проведение методик: </a:t>
            </a: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Самооценка тревожности, фрустрированности, агрессивности и ригидности, Дифференциальные шкалы эмоций (по К.Изарду).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rebuchet MS"/>
              </a:rPr>
              <a:t>Домашнее задание</a:t>
            </a: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Мини-сочинение на тему: «Понимание себя - рефлексия эмоций. Управление собой - менеджмент эмоций».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Пройти методики: </a:t>
            </a:r>
            <a:r>
              <a:rPr b="1" lang="ru-RU" sz="1800" spc="-1" strike="noStrike">
                <a:solidFill>
                  <a:srgbClr val="000066"/>
                </a:solidFill>
                <a:latin typeface="Trebuchet MS"/>
              </a:rPr>
              <a:t>Опросник структуры темперамента В.М. Русалова (ОСТ), Шкала реактивной (ситуативной) и личностной тревожности Ч.Д.Спилбергера – Ю.Л.Ханина,</a:t>
            </a: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7596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6. Психотехнологии убеждения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онятие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«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техники словесного убеждения».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Убеждение как ведущий  метод организаторского воздействия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Эффективные приемы и способы аргумент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равила эффективного воздействия.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03" name="Рисунок 3" descr="b_46459c0b65c82df6ecd026c47d3f2cee.jpg"/>
          <p:cNvPicPr/>
          <p:nvPr/>
        </p:nvPicPr>
        <p:blipFill>
          <a:blip r:embed="rId1"/>
          <a:stretch/>
        </p:blipFill>
        <p:spPr>
          <a:xfrm>
            <a:off x="1258920" y="4941720"/>
            <a:ext cx="1908000" cy="1224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11228f676349b8a_b"/>
          <p:cNvPicPr/>
          <p:nvPr/>
        </p:nvPicPr>
        <p:blipFill>
          <a:blip r:embed="rId2"/>
          <a:stretch/>
        </p:blipFill>
        <p:spPr>
          <a:xfrm>
            <a:off x="6732720" y="5157720"/>
            <a:ext cx="1800000" cy="935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Users\Администратор\Desktop\marketing9_01.jpg"/>
          <p:cNvPicPr/>
          <p:nvPr/>
        </p:nvPicPr>
        <p:blipFill>
          <a:blip r:embed="rId3"/>
          <a:stretch/>
        </p:blipFill>
        <p:spPr>
          <a:xfrm>
            <a:off x="3995640" y="5229360"/>
            <a:ext cx="1943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308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6. Психотехнологии убеждения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СЕМИНАР 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одготовка и проведение дискусс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омашнее задание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Составить таблицу способов аргументации и их краткую характеристику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08" name="Рисунок 5" descr="iStock_boxing.jpg"/>
          <p:cNvPicPr/>
          <p:nvPr/>
        </p:nvPicPr>
        <p:blipFill>
          <a:blip r:embed="rId1"/>
          <a:stretch/>
        </p:blipFill>
        <p:spPr>
          <a:xfrm>
            <a:off x="6588000" y="2492280"/>
            <a:ext cx="187956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236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Тема 7. Современные психотехнологии: манипулятивные игры в бизнесе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онятия и причины аферы и мошенничество в современном российском бизнесе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авильная оценка делового партнера при осуществлении рыночной хозяйственной деятельност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Формы недобросовестного сотрудничества в предпринимательской деятельност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Методы манипуляции и введения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в заблуждение.  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11" name="Picture 2" descr="C:\Users\Администратор\Desktop\125.jpg"/>
          <p:cNvPicPr/>
          <p:nvPr/>
        </p:nvPicPr>
        <p:blipFill>
          <a:blip r:embed="rId1"/>
          <a:stretch/>
        </p:blipFill>
        <p:spPr>
          <a:xfrm>
            <a:off x="6659640" y="5013360"/>
            <a:ext cx="219240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236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Тема 7. Современные психотехнологии: манипулятивные игры в бизнесе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02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</a:t>
            </a: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Методы и приемы контроля за манипулятивными играми в бизнесе</a:t>
            </a:r>
            <a:r>
              <a:rPr b="0" lang="ru-RU" sz="2800" spc="-1" strike="noStrike">
                <a:solidFill>
                  <a:srgbClr val="000066"/>
                </a:solidFill>
                <a:latin typeface="Monotype Corsiva"/>
              </a:rPr>
              <a:t> 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етоды и приемы работы с проблемами: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еувеличение или преуменьшение возможностей, то есть создание "ложного имиджа«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едложение заманчивых условий сотрудничества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"Игра на конъюнктуре«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одтасовка информации для убеждения в эффективности коммерческого предложения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Вовлечение в сделку путем завоевания доверия на первом этапе.    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14" name="Picture 5" descr="image009"/>
          <p:cNvPicPr/>
          <p:nvPr/>
        </p:nvPicPr>
        <p:blipFill>
          <a:blip r:embed="rId1"/>
          <a:stretch/>
        </p:blipFill>
        <p:spPr>
          <a:xfrm>
            <a:off x="6948360" y="3213000"/>
            <a:ext cx="19796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60847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УДАЧИ В ИСПОЛЬЗОВАНИИ СОВРЕМЕННЫХ</a:t>
            </a:r>
            <a:r>
              <a:rPr b="0" lang="ru-RU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ПСИХОТЕХНОЛОГИЙ</a:t>
            </a:r>
            <a:r>
              <a:rPr b="0" lang="ru-RU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В БИЗНЕСЕ!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3059280" y="2276640"/>
            <a:ext cx="2808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4360" y="1834920"/>
            <a:ext cx="460836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3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исциплина психологического цикла: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исциплина по выбору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28320" y="3652920"/>
            <a:ext cx="5842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rebuchet MS"/>
              </a:rPr>
              <a:t>#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69" name="Picture 6" descr="logo"/>
          <p:cNvPicPr/>
          <p:nvPr/>
        </p:nvPicPr>
        <p:blipFill>
          <a:blip r:embed="rId1"/>
          <a:stretch/>
        </p:blipFill>
        <p:spPr>
          <a:xfrm>
            <a:off x="8075520" y="351000"/>
            <a:ext cx="739800" cy="547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11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02"/>
          <p:cNvPicPr/>
          <p:nvPr/>
        </p:nvPicPr>
        <p:blipFill>
          <a:blip r:embed="rId3"/>
          <a:stretch/>
        </p:blipFill>
        <p:spPr>
          <a:xfrm>
            <a:off x="6012000" y="4724280"/>
            <a:ext cx="12380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659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Тема 1. Психотехнологии управления времене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002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я психотехнологии управления временем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2. «Идеальная» система тайм-менеджмент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3. О планах и органайзерах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4. Навыки тайм-менеджмента: полезные и бесполезные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5. Коррекция планов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6. Тотальный контроль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7. Процессы управления временем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8. Правила тайм-менеджмента, позволяющие повысить личную эффективность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9. Инструменты для реализации техник управления временем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74" name="Picture 8" descr="b86"/>
          <p:cNvPicPr/>
          <p:nvPr/>
        </p:nvPicPr>
        <p:blipFill>
          <a:blip r:embed="rId1"/>
          <a:stretch/>
        </p:blipFill>
        <p:spPr>
          <a:xfrm>
            <a:off x="7524720" y="3357720"/>
            <a:ext cx="1295280" cy="16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Тема 1. Психотехнологии управления времене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</a:t>
            </a:r>
            <a:r>
              <a:rPr b="1" i="1" lang="ru-RU" sz="2800" spc="-1" strike="noStrike">
                <a:solidFill>
                  <a:srgbClr val="000066"/>
                </a:solidFill>
                <a:latin typeface="Monotype Corsiva"/>
              </a:rPr>
              <a:t>Практическое руководство по планированию работ</a:t>
            </a: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 (</a:t>
            </a:r>
            <a:r>
              <a:rPr b="1" i="1" lang="ru-RU" sz="2800" spc="-1" strike="noStrike">
                <a:solidFill>
                  <a:srgbClr val="000066"/>
                </a:solidFill>
                <a:latin typeface="Monotype Corsiva"/>
              </a:rPr>
              <a:t>Техники ТМ)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рименение планинг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Шаги разработки планинга и работы с ним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Категории проектов: планы на день, учет финансовых расходов, расписание дня, телефонный справочник, расписание занятий, составление меню и т.д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rebuchet MS"/>
              </a:rPr>
              <a:t>Домашнее задание: 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Составить планинг значимого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для себя проект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77" name="Picture 6" descr="42051"/>
          <p:cNvPicPr/>
          <p:nvPr/>
        </p:nvPicPr>
        <p:blipFill>
          <a:blip r:embed="rId1"/>
          <a:stretch/>
        </p:blipFill>
        <p:spPr>
          <a:xfrm>
            <a:off x="7451640" y="4437000"/>
            <a:ext cx="1405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6156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2. Психотехнологии самомотиваци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онятие само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Три области самомотивации: стремление к достижениям, инициатива и оптимизм, решимость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инципы само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Развитие само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80" name="Picture 4" descr="21"/>
          <p:cNvPicPr/>
          <p:nvPr/>
        </p:nvPicPr>
        <p:blipFill>
          <a:blip r:embed="rId1"/>
          <a:stretch/>
        </p:blipFill>
        <p:spPr>
          <a:xfrm>
            <a:off x="7308720" y="5013360"/>
            <a:ext cx="9432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56516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2. Психотехнологии самомотиваци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СЕМИНАР . Техники самомотивации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Техники преуменьшения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Техники выполнения сложной и неинтересной работы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иемы личной 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rebuchet MS"/>
              </a:rPr>
              <a:t>Домашнее задание</a:t>
            </a: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: выполнить методики по мотивации к учебной деятельности и учению, мотивации достижения успеха и избегания неудачи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812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3. Психотехнологии эффективных коммуникаций в бизнесе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ctr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я: общение, коммуникац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Содержание и характеристики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Функции и структур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Мотивационно-целевая сторон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Коммуникационная сторона общения: коммуникативные барьеры, информация, коммуникации.Вербальная, невербальная коммуникац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Интерактивная сторон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ерцептивная сторон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сихологические особенности управленческого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сихология ведения спор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85" name="Picture 5" descr="20"/>
          <p:cNvPicPr/>
          <p:nvPr/>
        </p:nvPicPr>
        <p:blipFill>
          <a:blip r:embed="rId1"/>
          <a:stretch/>
        </p:blipFill>
        <p:spPr>
          <a:xfrm>
            <a:off x="7380360" y="5589720"/>
            <a:ext cx="961920" cy="838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18"/>
          <p:cNvPicPr/>
          <p:nvPr/>
        </p:nvPicPr>
        <p:blipFill>
          <a:blip r:embed="rId2"/>
          <a:stretch/>
        </p:blipFill>
        <p:spPr>
          <a:xfrm>
            <a:off x="7524720" y="2060640"/>
            <a:ext cx="7333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308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Тема 3. Психотехнологии эффективных коммуникаций в бизнесе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002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Методы и инструменты повышения эффективности коммуникаций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1. Коммуникативные свойства информаци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2. Современные средства коммуникации в менеджменте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3. Управленческая информац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4. Влияние информационных технологий на организацию рабочих мест. 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роведение игр и упражнений на понимание вербальной и невербальной информаци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rebuchet MS"/>
              </a:rPr>
              <a:t>Домашнее задание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- Составьте логическую схему на тему: «Ролевые игры и упражнения, направленные на развитие навыков калибровки партнёра по взаимодействию»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- Составить кроссворд по теме: «Сенсорная острота и обратная связь. Информационные фильтры. Каналы восприятия»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4. Психотехнологии воздействия на группу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я психологического воздействия на группу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Специфика коллективного восприят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Основные стимулы, побуждающие к эффективной деятельност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ериферические стимулы, отвлекающие внимание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Ресурсы внима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е «референтные переживания»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91" name="Picture 4" descr="22"/>
          <p:cNvPicPr/>
          <p:nvPr/>
        </p:nvPicPr>
        <p:blipFill>
          <a:blip r:embed="rId1"/>
          <a:stretch/>
        </p:blipFill>
        <p:spPr>
          <a:xfrm>
            <a:off x="7524720" y="5157720"/>
            <a:ext cx="774720" cy="1447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19"/>
          <p:cNvPicPr/>
          <p:nvPr/>
        </p:nvPicPr>
        <p:blipFill>
          <a:blip r:embed="rId2"/>
          <a:stretch/>
        </p:blipFill>
        <p:spPr>
          <a:xfrm>
            <a:off x="7164360" y="2637000"/>
            <a:ext cx="157176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6:05:40Z</dcterms:created>
  <dc:creator>natalie</dc:creator>
  <dc:description/>
  <dc:language>en-US</dc:language>
  <cp:lastModifiedBy>LEGION</cp:lastModifiedBy>
  <dcterms:modified xsi:type="dcterms:W3CDTF">2016-01-11T10:04:13Z</dcterms:modified>
  <cp:revision>33</cp:revision>
  <dc:subject/>
  <dc:title>Современные психотехнологии в бизнес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