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0EDD-CB55-4977-A25F-94C4F98A3F5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FB193-A532-41E4-9259-C8BB95B1C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A4762-21A0-4014-B62C-180A71765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0614F54-C959-4CCD-AD6B-9D0E9F75FCF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1127065-0A94-438F-93AE-A54E4483DF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DC438FA-A1A9-49B0-A0FA-1C097178508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C0339D4-9F81-4FBA-849F-D15EFB2C0E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108A712-1001-48D6-B977-30550B5AF4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15E47CA-378D-460D-97D0-4829800146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0BFBB86-0CF0-4563-B478-A0F9518EAFF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7D709C3-DF90-4396-9BBF-515C5EF1F6B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14EA8F1-1909-42D3-A86C-D301C7AD924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99FE80C-FEBB-4D40-B650-BBF5B48AB3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175AA-8BB9-4919-855D-4D2AFC588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7DA4A65-0D87-4063-AE6C-B714CF39A8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FF0FFC2-05C4-43BA-8564-BDA3BA7755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3CA8663-159F-48BB-B43D-EEBFA5866F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74F1725-A6D2-4D05-9746-6F5BEBA656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011A7AF-FCB4-4D22-93D2-A7A2CC0E48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917036A-E360-4FF8-8562-A489D73B1C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90E0A50-FE12-4EA6-B119-E45EEFC43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F91ED64-CE36-411F-8102-934951338D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0DED8AD-B341-4FD2-8BBA-511736F11B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AD103D5-A123-4044-83B5-13C74309E1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D010F-06A6-41DB-A439-C326B489D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835C2C8-2C03-4B45-AD8D-4CAC90519A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603F03-9DF9-48A4-835C-B123A5BE70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D5BE53-AAC8-4386-9299-9CE0DB6A61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CF7FB4-6DA3-46A0-81AB-1A2A6ABFB6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DB9E40-6763-4080-81B8-6E477EA549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D42037-4B48-4897-95CA-62D88993A1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597B50-1D65-4F14-B2AF-F72F4AE531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50D86F-C13E-4B40-9108-FE89ED99D5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46CA09-2A2E-4B1C-82A3-40B1E9A2BB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2448CD-D051-481B-9BDB-82C27BCBA3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7015D-76C3-4754-A31B-66856AE2B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15CC61-F94F-4A0C-804A-06B7B5943C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1CD930-462A-42A7-AF74-771159DA5F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CAE5A0-D34C-4D07-A4EC-62E569A4E8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81A9355-56BC-4C39-AACA-F2829656EF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4BF9043-2940-4AC1-B276-B815D16696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F01324F-3328-433F-BC7B-EFB22DED76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90FDFA0-2B2F-468E-9819-933FAA578C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C66EB48-F44C-4D3B-BEEC-B4986B781C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49924EC-E32E-4E21-8ED1-070906DFC1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D00F060-90E4-44B6-B8FF-F5F72C4B61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FB846-AF2C-40AA-8AD2-1BA7AA827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0588DC3-0BF4-4A42-9AFD-7E54D2065B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E583708-85CC-4515-B510-CE908502BD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255D0B7-C7CA-43D3-B325-C3918AC984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C19A38C-1E02-48C2-B7A0-0F2D3AE53C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77DFE6A-B61E-422C-A7C3-CC47B0359D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D5CCBE08-FF64-428D-8A90-1259F635688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49C8D53-500B-492A-9EEB-E23CC279C83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2996857-4698-41BE-B227-03EEA58CFDA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484F94F-F950-4200-BC05-0A9A93124A0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271BB3A-F412-4C09-A17D-7994E10ECA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32253-80B9-493D-A345-EA5DD628B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B7F4F54-09AA-4157-8BAB-316BF7DAF7B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EAAAD6F-E80F-4374-AB27-AC4012E3E46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4365EE3-BE16-433F-8304-1D7B6ED1B2D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E837232-133E-4B88-9ACD-616A5594844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E689FDF-AC6C-442D-BCB4-AB8A1120D5B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F3B7529-D94B-4C1D-AAA5-485F1F47456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B26D8B1-5B9E-4956-8FA4-165A7CAD6C5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7D4DE6D-194B-43F6-9421-A2BCBA4651B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31A4541-5182-4BD6-9D6B-C9C811388E2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0E3551A-2708-4689-9F0F-7681A71A9A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38A82-4648-4DBF-A159-55B374411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D8ADE45-BAA7-4500-BF21-61257F2CDD7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4EA7786-0269-48A6-8A64-9D57083615D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7FEB12F-061D-4049-BCE3-5B63D20BBEB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296633C-5C55-40D3-A3FD-BC88BE21288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09C841E-32A3-4EDC-91C3-9ED6E319C09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0B687BA-6147-47C3-B068-B3FF4C726CE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D021357-ED9F-4B92-831C-061A8ED4BB6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CFC1BF60-823D-4307-8DBB-19E2A3F90EF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8C3956E-3F27-494C-8443-07D84CAECC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2C951-1577-49C9-A77E-FE71F9B0F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F9E9B-BA98-4D3C-AD61-993918697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1246F-0BBB-4261-B28A-26776E792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2970-4A0A-47AF-9B4A-DB49C106D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43503-897D-408A-B4C0-075AA9142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4B90D-0926-42F9-B4D6-8AA3DF6CB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69E25-C3F1-44E7-A9D2-97124983D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C5C3E-C976-4D7B-9FB6-249E618E8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39B4E-D7BE-4038-B503-5C0D8FF5B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35597A-F419-454D-B152-DBDBBACB0C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3D125-8FC7-4245-9DAA-EF4A67409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99ECFC-5A30-46DC-BAB3-B77D48DAD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AA0115-50C6-417B-A04A-3AF3825B9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23FF4-2622-4463-8A48-25BCC070C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164CC-4ED7-47E6-ABC7-E8983DC79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714E2-4281-4D47-A84E-9EDF991CB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65499-9700-4499-8366-5CCDC21AD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82CFD-A766-47CD-BB2D-4D48B9C81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313954-3243-409E-909F-0B80E863C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A3F624-5378-41E2-A549-C8FE56E9E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1E9B3E-7275-4BE6-91F7-F7AFB0B133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E06BE8-A138-42E9-9B45-E71A47777E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F39843F-E026-4D71-8DD2-BA016B687B1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2A97247-6CEC-48FA-A8CC-C197E0FAA3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7E46D38-F44A-4560-8F42-3EEC86621C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0CFEA-177B-41D6-9E87-D132149E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A58DA2E-3640-4DFE-B3F4-5CE01B44887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D4B7D13-1553-456A-AD9B-8AA467B7A0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211CCF1-7D14-4129-8D4D-9240834F685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9FE4BF3-18BA-4D17-9922-C190FBF3B97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EE3E5D4-6091-4FB9-9E84-28B38E747B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6FB6E8F-EF6E-4547-B57E-95BA046CBB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42289E0-DA19-41C6-A4FC-DADA2749C43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AA78625-360E-47DE-8437-9D9A9B18EAC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39FB40C-B879-4E8A-8578-DE7F6F23946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5C0621-708A-444C-A11D-765C6DDDCC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E3499-0EF6-44E3-B3EB-FC284AD7F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9CC970-445F-4E23-8C94-5A22B229C8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A3E2EF-3BC0-4BE0-827D-0C14423319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6917FF-B218-4E49-9E76-0678B2F7A1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B4105B-5DAE-48E5-B38A-95485D709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9FADCF-3D89-4375-A69F-7B9F6D0BC4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5DDDE5-F98C-43A8-847D-BB21124763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C3213-10B1-41B3-A6CD-E904C5407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FB23D-7B7A-4D62-B262-A9CE56B82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47D31E-13E2-4894-933A-1AA71CB87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4F0E43-02AD-4F87-894D-F75087EC40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6BFA3-A577-449C-8404-B00F43B2B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849FC2-85CA-495F-8D54-F29B80240F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71037F-9240-4F1D-954B-18F18C6A55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085014-D83D-4B1C-829B-C6622E801F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19ECB7-F45C-4980-95D4-2A433D6B9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B0FD5C-499C-4559-B839-EE18F7EEAA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1A22BD-B07B-4A32-92F8-C25F0CA7FD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4DBAD-6005-4FA2-9EE2-9AA9DAFD6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944370-A529-451C-9680-FF7EAC1BF9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472F08-4793-4EF5-96D8-531C496E7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8B5959-3906-4142-8EE9-B31DEFCE5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03F4E-DFEF-41E8-9F03-07F42FB3D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2E206-01B6-4931-9457-0A12B55AFE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509AF2-333D-4D10-9525-5393F47373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288AEE-1B7E-499B-80BF-947980B875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322D64-DB6E-4A8B-AAD2-BF2CFEEC9C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315FF8-B5D2-4C18-840C-9E87475AEC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3DA929-E213-4BDC-A893-B0F3AF9EF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0ACB36-F27C-4FEC-B51C-EFFCCF466F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1B5479-658C-4890-86C3-82E042A041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0A4881-FA26-4703-9841-20BEF5176E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E9B812-15C3-4552-A435-470BFBA0C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C01AF-91DA-4024-AA02-F60822AFC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C6C19-FC45-419F-A3EB-50CE6E09C0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FE703-C244-4999-B17E-8E6E9D941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CF921B-1B07-4384-A39E-601F2708F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970F33-81F0-47F1-8F6E-8443F3022D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9B9113-5F90-4D27-9D6D-FE505FCB27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B039B1-C291-45B1-A0A5-CDB5F37EA1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D28209-0DDD-45F1-B587-D29E58FAE4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30A6E5-878F-4964-AE11-3F25B2AA8F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DE6A89-BC19-4F10-8641-421AA49E6F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494720-EE8C-483B-AC7F-A4A8EC567A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5C2F-9BB3-42A1-86D3-D382CAF27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6FD223-BC49-417F-A8DD-DFD6FDA4F8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1C698-12F8-4D8D-88DA-D0E95CB94F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CE122-108E-40E6-BE9D-5193A5EE86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FFAC68-B13C-48AC-A988-215C97875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CC50E0-7FAC-426E-BFE9-93BD7B160C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E68C2F-8201-4FDA-BE84-FCF5B600B8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7090AF-CB11-42A0-BBCB-FBFD905CB3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63871BB-0A59-4810-A798-38D42950CF0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5795A56-01C6-4908-BE25-BAA8D177BE7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3E86F8F-B3C1-49F9-A36C-99E31598B2E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7BF7-6CC5-4BA7-85B3-7F404E8C1BBA}"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FE20-3832-4DB9-AF79-88905CD6F46A}"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0668-4628-44A8-BF3E-9769730EB80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6DB7-0FB3-46CC-A1DA-89F6765C5ADC}"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874B-275C-4F83-B4E4-C28AAE89C5B6}"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6197-AB6B-405A-9455-C044A666FCAA}"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8AD2-93E5-4E0F-90F8-BD768C8BCCEA}"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B079-B781-44F3-BBF2-86761EB25C88}"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72D4FE31-7BF2-41DD-BCB9-19B831D4422C}"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01F50D55-534E-4A3D-AD80-2827331D7C31}"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A149-FF72-44EE-BFA9-63917581AAA3}"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2CDE-3692-477F-B80B-F674FDD00DDB}"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911D-A752-4696-A366-12DA2ACEBEC4}"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575A-61C7-4F8A-A8A3-87E270AD4BF0}"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14EF-55FE-44DA-8AA5-D3E2614FC035}"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3A0E-9C14-4643-9244-4C27AEC6F19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1B46-69A9-4865-9BFA-EA0B3C453E8E}"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B4F8-A923-4B92-9196-DEB2505A236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A3C0-91FE-4B74-BB59-7DAA90BD4170}"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AE30-82DB-48EA-B18C-E65ED4F5B6B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161F-E6DA-4D2D-A985-84D7E985CF22}"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3DC0-6FA5-4F4B-9A2E-B9EA35A5795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FC74-C41F-4D1F-96AF-55E0546376EA}"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242D-EFC4-40B2-B0C7-563C83CE3F24}"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01D0-24CF-482C-8AE4-C7030A292DBA}"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9759-F964-4277-97EE-992B87340674}" type="datetime">
              <a:rPr b="0" lang="ru-RU" sz="1400" spc="-1" strike="noStrike">
                <a:solidFill>
                  <a:srgbClr val="ffffff"/>
                </a:solidFill>
                <a:latin typeface="Georgia"/>
              </a:rPr>
              <a:t>31.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