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5515-C959-4F52-B2EE-939A1BD55F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E94-F99B-40FB-B06C-2EC2C091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F8D-057A-4556-AAE7-835AD5C4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7E7-1A6D-4DFB-9D35-9004E38C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935-077F-4A28-A947-4253A4C4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CE41-D607-41B2-81D0-9874A451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EBDE-6F67-4240-86C0-225BFFF9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5476-E3B6-455A-BA15-7CA586D3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3C9B-64FA-45D9-AFAF-E893F12B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E31E-3E4F-4C4E-A523-B0D865F7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3F40-BCA0-478E-A330-8079C9ED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C6E4-1FDA-4DD3-8AC2-6030F2B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765-AF36-412C-A4AE-747623E7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6E61-A2CA-4976-9365-E8103EE9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E840-7B28-4C3D-ABB4-885F1027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F911-85EF-41C8-827A-0EE10221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604B-2493-495A-A097-C7825C9C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861B-DBB2-45DE-85DA-4D397EE9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30B04-D8A6-472A-ABDE-8041BD4E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14973-899F-4EC2-8B03-E709E12F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CE36C-C3C7-4ED8-B1FB-DDFD4E59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58DCA-0DF8-412B-8B9A-A847513B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82037-0EE8-4F95-94AA-4AC5B1D0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4B5-F6CE-44A6-8A6F-4EDD8724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1EA64-E27C-451B-8539-6DF17ED6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3C4BB-27AA-4D9F-BF20-E7D60AB6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B42BD-2CC2-4CC0-8617-E786BBA2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FB5DA-BC1A-4A37-AA37-E99B6853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0644F-7384-4C9B-A6E3-6C43B418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ED78E-9CFA-4C99-AB19-F0EA999A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B13F4-C35F-4892-A325-27FEA82F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ACE6D-2335-4746-9F70-E20FD3D4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521F-414F-4D0F-AD8C-A56292FD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7D507-6E25-45D0-ABBB-22574DF7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B01-37BB-4C42-AA38-B2FC26FD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A081-0104-4704-B4F4-4B4DDE5F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9B81-7D52-4FD1-9E93-6B3E71C5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BE941-B68C-447A-9621-D7056ED0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B4241-604F-42E7-B7F7-0BFA5AE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C9BD-77F6-4600-B259-3466E0A9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DC42-2698-40A5-85C0-FC371B8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74539-6562-4CE9-AFFA-7B37B0B6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7005-E791-4931-9751-827F64F3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C3E09-B91C-44D7-9B20-2B19A7CB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7AD-61E8-422E-9557-D40B9B0C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144-6126-4F88-A87E-5AC1B2B9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4B9-1FBF-4E4E-9EA8-97311CB2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BF6-2859-4CB5-B75F-4E555FA9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426-A53B-448F-9E2B-D2E55B13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4931-CC51-425E-BE0A-B104027EC5CB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BF40-32FE-44FE-BC34-C4F17CC74BE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A4E7-892C-40B2-B255-552D2A121735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8414-F7F8-4B50-9327-6674642C8B8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AF99-02D5-452F-A332-62D1BD55FD13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28A5-CA55-455C-991E-C38F8FB67FC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0883-9466-4DF8-8166-75B03941A95F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41A1-2804-4523-BD39-CE79F8C82F5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инципы и методы управлен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инципы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нятие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лассификация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3132000" y="1724040"/>
            <a:ext cx="2448000" cy="184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Эконом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108360" y="1052640"/>
            <a:ext cx="381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минимальных социально-экономических гаранти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3520" y="98100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льгот и компенсаций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 государственных пособий отдельным категориям населения, определяемым законодательн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3995640" y="507348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3166920" y="1557360"/>
            <a:ext cx="2268720" cy="2736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10800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профессиональной подготовки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кладывается система непрерывного профессионального образова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9752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актического определения эффективности упра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3348000" y="4846680"/>
            <a:ext cx="1944720" cy="18619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197000"/>
            <a:ext cx="40384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должностного продвижения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-психологической защиты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нятие психологической нагрузки, напряжен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24360" y="1125000"/>
            <a:ext cx="5046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развития средств труда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го партнерства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611280" y="3508200"/>
            <a:ext cx="2376360" cy="1792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tretch/>
        </p:blipFill>
        <p:spPr>
          <a:xfrm>
            <a:off x="5362560" y="3317760"/>
            <a:ext cx="2089080" cy="19828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5580000" y="4300560"/>
            <a:ext cx="2521080" cy="25131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34100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34136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й стереотипизаци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663640" cy="17841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кинесического общения.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кспрессивно-выразительные движ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им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движение мышц лица, которую называют зеркалом душ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згляд (визуальный контакт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видетельствует о расположенности к общению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оложение человеческого тела, типичное для данной культу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Жест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разнообразные движения руками, головой, ногами, смысл которых понятен для общающихся сторо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садического и экстра-лингвистического общ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осод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кстралингвистическ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1267920"/>
            <a:ext cx="316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такес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03280" y="980640"/>
            <a:ext cx="576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ксем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тимное расстояние (от 0 до 45 см) - общение самых близких люд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сональное (от 45 до 120 см) – общение со знакомыми людь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убличное (от 400 до 750 см) – при выступлении перед различными аудитория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духовной ориентации управления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сочетания централизации и децентрализац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108000" y="1341000"/>
            <a:ext cx="4464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единоначал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00720" y="1341000"/>
            <a:ext cx="4535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коллегиаль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497560" y="4535640"/>
            <a:ext cx="3035160" cy="227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C900078734[1]"/>
          <p:cNvPicPr/>
          <p:nvPr/>
        </p:nvPicPr>
        <p:blipFill>
          <a:blip r:embed="rId2"/>
          <a:stretch/>
        </p:blipFill>
        <p:spPr>
          <a:xfrm>
            <a:off x="971640" y="4797360"/>
            <a:ext cx="2520720" cy="19224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j0300840"/>
          <p:cNvPicPr/>
          <p:nvPr/>
        </p:nvPicPr>
        <p:blipFill>
          <a:blip r:embed="rId1"/>
          <a:stretch/>
        </p:blipFill>
        <p:spPr>
          <a:xfrm>
            <a:off x="6948360" y="5116680"/>
            <a:ext cx="187164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2232000" cy="220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720" y="1062000"/>
            <a:ext cx="33130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плано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научной обоснован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соответствии с ним все решения и действия руководителя должны аргументироваться с научных позиц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76360" y="1092240"/>
            <a:ext cx="4038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социальной справедли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3030480" y="2178000"/>
            <a:ext cx="2262240" cy="1755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341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общественной целесообраз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356000" y="1351080"/>
            <a:ext cx="454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экономической эффектив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тод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28280"/>
            <a:ext cx="4038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нятие «метод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557000"/>
            <a:ext cx="4392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24000" y="1341360"/>
          <a:ext cx="8640720" cy="470376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258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масштаб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щие. Относимые ко всей системе, и особенные, обращенные к отдельным составным частям этой системы или, наоборот к внешней среде и ее субъектам, включая потребителей, посредников, конкурент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отраслям и сфер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государственном и муниципальном управлении, в бизнесе, в промышленности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5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роли на различных этапах жизнедеятельности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исследования организаций, формирующие, упорядочивающие, стабилизирующие, развивающие, вплоть до методов реорганизации, ликвидации, банкро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397160"/>
          <a:ext cx="8712360" cy="496548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степени опосредованности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ямые и 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ровню обобщения управленчески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теории и практик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правленческим функц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анализа, планирования, мотивации, контроля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конкретным объектам управления и характеру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ейс ст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89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характеру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о-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онно-распорядительные (административ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коном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ммерческ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состав организационных методов Керженцев П.М. включал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й план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структирование и его формы (директива, лозунг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становление (декрет, инструкция, приказ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спределение сил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ю заново и реорганизацию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иентацию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реговоры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етоды дезорганизации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е приемы в деятельности руководител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7:10:11Z</dcterms:created>
  <dc:creator>Хозяин</dc:creator>
  <dc:description/>
  <dc:language>en-US</dc:language>
  <cp:lastModifiedBy>LEGION</cp:lastModifiedBy>
  <dcterms:modified xsi:type="dcterms:W3CDTF">2016-01-11T10:02:33Z</dcterms:modified>
  <cp:revision>13</cp:revision>
  <dc:subject/>
  <dc:title>Принципы и методы управления</dc:title>
</cp:coreProperties>
</file>