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D0C9-9F2A-434A-BB7D-4F0AB5F5B6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FD3-45F0-4B99-BC0C-C25E91D3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787-202E-42C0-9397-3D41B87B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511-051C-4ED6-99C4-2F9FB373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98C-0B81-49CC-91CD-4731B5C1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EBA0-DEE2-4BB7-B82D-D901D903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D005-F427-4D3C-BE72-ECBF1A18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F3BB-AD3F-41B6-B46C-9F296D17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4711-F11C-490F-9F5D-A6B9EC1A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0585-C667-4740-B7FE-B1748B25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F113-016C-4608-8152-0E3F1D3C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6674-AB4E-4C33-80E1-EE45B5D5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206-B574-42C1-BA91-3C92CE66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1093-E7D8-4E19-A086-52ACB575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9159-1052-4852-A285-C9F6E33F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60B8-537F-41C4-904A-D54E3400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7959-2BC5-4BB7-8442-99EDBFEC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8C1A-ABE6-4938-B9C6-B0DA8E60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6A61A-1C90-480E-919D-F1513920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2A24F-881E-43F2-ACB7-FD874BAF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279BB-5620-4CB4-88C9-2662DEAE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99ED9-1DBE-49A9-9025-3049D5A2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58DF2-F74F-403C-A442-7346A54E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6ED-7EC9-4918-9DB8-BBB743DD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0B4D8-0E97-4038-A807-F48AF787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4528C-3A9D-4C5E-8B7F-892892DF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2F7A3-62A7-473B-ACE4-1126ABB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56E02-3FF0-434A-96B7-2308F2F0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FFDB0-4BF0-4318-8F92-4B956865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8150E-B3E5-4C32-BCD4-B419DBA3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120D4-4FD4-49B7-93CE-C6C71250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ECDB-96AE-425E-8DFE-9F2AE054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C059-D72D-4988-BEDF-A3FE87B2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B34E-067B-4966-8A8E-063810E4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90D-4D45-46CB-B9C6-598C9306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18583-F04C-4A01-98F8-3E72F20F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40971-BE61-429A-BE83-8B9E3670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DE11-77A4-44D4-8EA4-0D59E6D8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F725-0B99-4B15-8428-03A45709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B3341-1AA0-4740-94B0-043248EE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837F-C06C-4A6B-A216-299F2F10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BC4EB-3F18-4398-AF80-7A85983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FFC00-D022-4098-B85E-48CC0C8D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581E-ED1E-44C0-852D-3AD6B1A1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EBC-5658-49DF-A385-373E71BE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475-699D-40F9-BAC9-E55FA81F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12A-038D-476C-9107-903ADFB0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C48-8F84-47CD-A42F-30967D17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ADB-F59F-46E2-891A-50261FB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CCE3-FF1B-4900-919C-889B07F56355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458A-5514-4B4E-8BAD-A8A51C010EF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9372-4501-4960-9598-3F7D0DDF05A7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B543-D0B9-4FF3-B1F5-59C2A060859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3DF5-781B-4071-B47A-037B3CA7D617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6690-8C84-430C-8CD1-9C42D109E04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1F59-1903-4BAA-AE34-0BAF68081544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4879-9D86-4CF9-9B5A-B4A0805AA85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инципы и методы управлен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инципы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онятие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лассификация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3132000" y="1724040"/>
            <a:ext cx="2448000" cy="184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Эконом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108360" y="1052640"/>
            <a:ext cx="381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минимальных социально-экономических гаранти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3520" y="98100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льгот и компенсаций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 государственных пособий отдельным категориям населения, определяемым законодательн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3995640" y="507348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3166920" y="1557360"/>
            <a:ext cx="2268720" cy="2736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10800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профессиональной подготовки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кладывается система непрерывного профессионального образова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9752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актического определения эффективности управления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3348000" y="4846680"/>
            <a:ext cx="1944720" cy="18619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197000"/>
            <a:ext cx="40384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должностного продвижения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-психологической защиты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нятие психологической нагрузки, напряжен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24360" y="1125000"/>
            <a:ext cx="5046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развития средств труда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го партнерства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611280" y="3508200"/>
            <a:ext cx="2376360" cy="1792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tretch/>
        </p:blipFill>
        <p:spPr>
          <a:xfrm>
            <a:off x="5362560" y="3317760"/>
            <a:ext cx="2089080" cy="19828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5580000" y="4300560"/>
            <a:ext cx="2521080" cy="25131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341000"/>
            <a:ext cx="4495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341360"/>
            <a:ext cx="40384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й стереотипизаци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663640" cy="17841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кинесического общения.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кспрессивно-выразительные движ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им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движение мышц лица, которую называют зеркалом душ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згляд (визуальный контакт)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видетельствует о расположенности к общению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оложение человеческого тела, типичное для данной культур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Жест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разнообразные движения руками, головой, ногами, смысл которых понятен для общающихся сторо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садического и экстра-лингвистического общ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осод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кстралингвистическ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9280" y="1267920"/>
            <a:ext cx="316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такес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03280" y="980640"/>
            <a:ext cx="5761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ксем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тимное расстояние (от 0 до 45 см) - общение самых близких люд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сональное (от 45 до 120 см) – общение со знакомыми людьм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убличное (от 400 до 750 см) – при выступлении перед различными аудитория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духовной ориентации управления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сочетания централизации и децентрализац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108000" y="1341000"/>
            <a:ext cx="4464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единоначал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00720" y="1341000"/>
            <a:ext cx="4535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коллегиаль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497560" y="4535640"/>
            <a:ext cx="3035160" cy="227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MC900078734[1]"/>
          <p:cNvPicPr/>
          <p:nvPr/>
        </p:nvPicPr>
        <p:blipFill>
          <a:blip r:embed="rId2"/>
          <a:stretch/>
        </p:blipFill>
        <p:spPr>
          <a:xfrm>
            <a:off x="971640" y="4797360"/>
            <a:ext cx="2520720" cy="19224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8" descr="j0300840"/>
          <p:cNvPicPr/>
          <p:nvPr/>
        </p:nvPicPr>
        <p:blipFill>
          <a:blip r:embed="rId1"/>
          <a:stretch/>
        </p:blipFill>
        <p:spPr>
          <a:xfrm>
            <a:off x="6948360" y="5116680"/>
            <a:ext cx="187164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979640" y="4653000"/>
            <a:ext cx="2232000" cy="220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720" y="1062000"/>
            <a:ext cx="33130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плано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научной обоснован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соответствии с ним все решения и действия руководителя должны аргументироваться с научных позиц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76360" y="1092240"/>
            <a:ext cx="40388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социальной справедли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3030480" y="2178000"/>
            <a:ext cx="2262240" cy="1755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341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общественной целесообраз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356000" y="1351080"/>
            <a:ext cx="454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экономической эффектив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тод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28280"/>
            <a:ext cx="4038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нятие «метод»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557000"/>
            <a:ext cx="4392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24000" y="1341360"/>
          <a:ext cx="8640720" cy="470376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258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масштаб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щие. Относимые ко всей системе, и особенные, обращенные к отдельным составным частям этой системы или, наоборот к внешней среде и ее субъектам, включая потребителей, посредников, конкурентов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отраслям и сфер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государственном и муниципальном управлении, в бизнесе, в промышленности и 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5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роли на различных этапах жизнедеятельности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исследования организаций, формирующие, упорядочивающие, стабилизирующие, развивающие, вплоть до методов реорганизации, ликвидации, банкрот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397160"/>
          <a:ext cx="8712360" cy="496548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степени опосредованности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ямые и 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ровню обобщения управленчески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теории и практик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правленческим функц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анализа, планирования, мотивации, контроля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конкретным объектам управления и характеру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ейс ст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89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характеру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о-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онно-распорядительные (административны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коном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ммерческ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состав организационных методов Керженцев П.М. включал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й план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нструктирование и его формы (директива, лозунг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становление (декрет, инструкция, приказ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спределение сил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ю заново и реорганизацию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иентацию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реговоры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етоды дезорганизации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е приемы в деятельности руководител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7:10:11Z</dcterms:created>
  <dc:creator>Хозяин</dc:creator>
  <dc:description/>
  <dc:language>en-US</dc:language>
  <cp:lastModifiedBy>LEGION</cp:lastModifiedBy>
  <dcterms:modified xsi:type="dcterms:W3CDTF">2016-01-11T10:02:33Z</dcterms:modified>
  <cp:revision>13</cp:revision>
  <dc:subject/>
  <dc:title>Принципы и методы управления</dc:title>
</cp:coreProperties>
</file>